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82A9-5CE9-4186-810D-3DD11040AD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10DA-E3A1-49E4-8DC5-0EE141BC992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севол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3A54-AF72-42D9-BB46-6152F0CCB0D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22D2-9AD5-4D7E-B6A5-80C01A00073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2D7E-F8E6-4732-990D-B8FEB6F5A75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39DC-000C-449F-866D-25A28FD3A7A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F6E4-4C99-4792-B3FC-FA1F3248422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31EF-C2D2-42A8-8420-BE895CD90F4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с докуме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95 и познакомьтесь с документ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680C-3C6C-47A1-BAA9-FCDB20164E4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95 и запишите слова в словар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0120-91A9-4A99-94B7-B06091EEE61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ём 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на стр. 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6BF3-05DA-41B9-A566-7641C675ECD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князьями и их поли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главными политическими центрами Рус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особенности в их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е анализировать. сравнивать, обобщать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228E-E5DC-48DF-927F-C8979F6CE2C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1, вопросы, записи, задания в рабочей тетра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4EDB-8A1A-4042-AF75-D4A406E7A66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 Любечском съезде князей и о принятых на нём  ре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Владимира Моном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последствия феодальной раздробленност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4B2E-B312-44AC-ABA0-A3CE133E297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Долгорук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19BB-7B82-472A-A5C5-7883854EE7C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Юрия Долгору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CD2-3B71-41C5-9DC4-837A2F29643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ник Юрию Долгорукому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530E-A3AA-475F-9453-E676EA2854C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Боголюб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983E-E5BE-411B-99DF-EE80EBD0A43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Андрея Боголюб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C81-AF59-4DDF-AF1F-3DB61A2B164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волод « Большое Гнезд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B8EB-3F99-4903-B90B-7938D3DC791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3A3-8B55-4707-A35F-2AFA1B37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B45-EB83-4FD3-9ED8-C144B84B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FBD-8FD4-495F-8946-ACD6CBE1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170-EFB7-4E01-B468-6180912E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EED2-C7D6-454C-A223-E65A2528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59F9-61A1-4586-A548-D8283281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DEC3-BEDF-4F1A-BFBD-94171456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655D-3AB7-4A9B-B0D3-B59DA94D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5BBF-3E50-4726-8D55-DAC3C951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FFB1-E752-4669-9045-D36BC38E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56F3-7BC3-459B-A0BE-B8EB1D2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544-D2A0-4D68-8BA3-833F4BB4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9EE3-771B-481B-9709-6C40B3FE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532D-A14A-4001-A2E9-FEF26965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39CB-3650-4AEB-8754-C201793B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76E6-E530-4A98-8CD3-5878C082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6C09-0EBE-49F5-8E85-0205E928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0B2-B7AA-465D-8BB0-F7596718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B60-7A94-486E-8B36-789B86CD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F23-0BFB-4E78-8B91-26DA24DA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DE9-FBD0-43CD-B351-FE4BC48A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8B1-3195-4A54-892C-B7F40423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1FC-E643-4FE3-907A-1AA96781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B3C-6A9D-421F-AFB1-41C2372B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B129-9C29-4051-8854-31047A9B7A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0287-1E1B-4333-A5D8-3958994CDEE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chka.gerodot.ru/rus-orda/img/02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357720" y="5357880"/>
            <a:ext cx="528624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Всеволод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700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6" descr="http://im8-tub-ru.yandex.net/i?id=263405097-00-72"/>
          <p:cNvPicPr/>
          <p:nvPr/>
        </p:nvPicPr>
        <p:blipFill>
          <a:blip r:embed="rId1"/>
          <a:stretch/>
        </p:blipFill>
        <p:spPr>
          <a:xfrm>
            <a:off x="1000080" y="19288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5-tub-ru.yandex.net/i?id=256084085-20-72"/>
          <p:cNvPicPr/>
          <p:nvPr/>
        </p:nvPicPr>
        <p:blipFill>
          <a:blip r:embed="rId2"/>
          <a:stretch/>
        </p:blipFill>
        <p:spPr>
          <a:xfrm>
            <a:off x="5357880" y="357192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1857240" y="1285920"/>
            <a:ext cx="5500800" cy="5713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 – Народное собр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53964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Посадни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е должнос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. Ведал су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334800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Влад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епископ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ал церковны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ми, казно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нешн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6156360" y="2781360"/>
            <a:ext cx="230328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Княз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догов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ойск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енное время. 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л права вмеши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ься в управ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68360" y="5084640"/>
            <a:ext cx="2449440" cy="1440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Тысяц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ник посад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ил за сбор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, руководи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лче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55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1619280" y="2349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161928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0"/>
          <p:cNvSpPr/>
          <p:nvPr/>
        </p:nvSpPr>
        <p:spPr>
          <a:xfrm>
            <a:off x="745164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61"/>
          <p:cNvSpPr/>
          <p:nvPr/>
        </p:nvSpPr>
        <p:spPr>
          <a:xfrm>
            <a:off x="457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Picture 3" descr="http://tsn.tikhomirov.org/Fotki/NY2005/IMG_3350L.jpg"/>
          <p:cNvPicPr/>
          <p:nvPr/>
        </p:nvPicPr>
        <p:blipFill>
          <a:blip r:embed="rId1"/>
          <a:stretch/>
        </p:blipFill>
        <p:spPr>
          <a:xfrm>
            <a:off x="428760" y="1857240"/>
            <a:ext cx="37652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://im2-tub-ru.yandex.net/i?id=75083993-10-72"/>
          <p:cNvPicPr/>
          <p:nvPr/>
        </p:nvPicPr>
        <p:blipFill>
          <a:blip r:embed="rId2"/>
          <a:stretch/>
        </p:blipFill>
        <p:spPr>
          <a:xfrm>
            <a:off x="5214960" y="4000680"/>
            <a:ext cx="3357720" cy="25286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2" descr="Картинка 1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работаем с документам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 95 и познакомьтесь с документ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рмин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95 и запишите слова в словар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ведём итог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ьте на вопросы на стр. 9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князьями и их политик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главными политическими центрами Рус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вить особенности в их развит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ть умение анализировать. сравнивать, обобщать и делать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иш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раграф 11, вопросы, записи, задания в рабочей тетрад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я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кажите о Любечском съезде князей и о принятых на нём  решени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ление Владимира Монома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ы и последствия феодальной раздробленности на Рус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Юрий Долгорукий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148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7" descr="http://im5-tub-ru.yandex.net/i?id=191187147-01-72"/>
          <p:cNvPicPr/>
          <p:nvPr/>
        </p:nvPicPr>
        <p:blipFill>
          <a:blip r:embed="rId1"/>
          <a:stretch/>
        </p:blipFill>
        <p:spPr>
          <a:xfrm>
            <a:off x="2928960" y="2000160"/>
            <a:ext cx="3143160" cy="4365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Юрия Долгору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амятник Юрию Долгорукому в Москв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1957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http://fotomoskva.net.ru/imgk/693gork.jpg"/>
          <p:cNvPicPr/>
          <p:nvPr/>
        </p:nvPicPr>
        <p:blipFill>
          <a:blip r:embed="rId1"/>
          <a:stretch/>
        </p:blipFill>
        <p:spPr>
          <a:xfrm>
            <a:off x="2514600" y="21337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дрей Боголюб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577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http://chegepe.narod.ru/content2/grehopad/andr_bogo_sm.jpg"/>
          <p:cNvPicPr/>
          <p:nvPr/>
        </p:nvPicPr>
        <p:blipFill>
          <a:blip r:embed="rId1"/>
          <a:stretch/>
        </p:blipFill>
        <p:spPr>
          <a:xfrm>
            <a:off x="3122640" y="1981080"/>
            <a:ext cx="289728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Андрея Боголюбс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волод « Большое Гнезд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3814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3" descr="http://www.grigorius.narod.ru/img/history/knyaz/12_biggnezdo_m.jpg"/>
          <p:cNvPicPr/>
          <p:nvPr/>
        </p:nvPicPr>
        <p:blipFill>
          <a:blip r:embed="rId1"/>
          <a:stretch/>
        </p:blipFill>
        <p:spPr>
          <a:xfrm>
            <a:off x="2666880" y="1905120"/>
            <a:ext cx="33530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51:09Z</dcterms:modified>
  <cp:revision>9</cp:revision>
  <dc:subject/>
  <dc:title>PowerPoint Presentation</dc:title>
</cp:coreProperties>
</file>