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B20-244E-4A83-BFDE-C905489A07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0739-C7E0-4C4D-9078-9FA3E933802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севол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C6A4-D459-4B9E-BD26-15B5D7D2AF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219-D652-4779-A477-D25ABBE46A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ская зем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58C0-3F3D-4E56-ACD5-28DDCB3722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2A7D-D1A5-4713-9042-42BD84A096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523D-0634-4718-8404-B69D6E2BC4D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ицко – Волынское княж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23CD-0A36-4BAE-B444-0CFC85BDBE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с докуме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95 и познакомьтесь с документ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A84-5AA7-4132-B747-B3B7345CA0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95 и запишите слова в словар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6F5F-C7BF-42ED-9518-5F17AED6E0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ём итог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на стр. 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EEC-1BF2-473B-83CB-D6BA91A07B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нязьями и их поли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главными политическими центрами Рус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особенности в их разви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е анализировать. сравнивать, обобщать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F329-CF87-4916-8AAD-FF25FE131B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11, вопросы, записи, задания в рабочей тетра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B19F-C4BA-44B6-B046-92469F41316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 Любечском съезде князей и о принятых на нём  ре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Владимира Моном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последствия феодальной раздробленност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586-785D-486C-A68A-8FDDE47B184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Долгорук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B1D-186A-414E-89D1-FFB0B18C27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ление Юрия Долгору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4194-FAA9-4C5D-8B26-4FA45EA9BA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мятник Юрию Долгорукому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440-03D9-4D11-89FE-83BC229162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Боголюб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89C-2DDB-4EE1-BA0F-C08AF7DAA66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Андрея Боголюбског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C1A5-77AE-4144-872B-1E4A6BD975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волод « Большое Гнезд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949-E92A-437B-965F-D6B7341EF1C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A871-0B36-4EA6-9B44-BE5B8901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5A9-8F4B-4126-AE35-449C043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75F-8CDC-49B9-864E-E68F7BF2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1D0-C02B-425D-AB9F-2D18B94D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FD30-2084-4695-8A47-B9B12A1F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9C24-AAF5-41DB-B359-CC10980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269-E1A1-40D9-8257-FAF1CEA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A9E-C2AF-41C6-A1CA-BC4E4DA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CEBD-B6A1-4AA9-8AD0-F3FE9C1D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A48C-AB19-47AC-B5CA-E84CB45B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918-957E-413F-BD03-231F9905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EC6-2A82-4590-B08C-D3540E68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92F7-7C63-4622-BCE0-9B0DA0A7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5EBE-7FFF-4D35-93F2-FF6C995A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B79-5B8D-4E8C-AAC9-7D6BF67F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B011-1ACE-4E71-8F84-240248D8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3EE7-5F99-4F27-BD1F-BDFF549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921-267B-4819-AE62-3E5A46F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B74-7167-4214-BF4A-7030A45C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655-39F7-444B-9E36-329E164E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5D4-CC63-4CC8-A0D7-5A252071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0A1-743B-487B-8167-CF2C15A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04C-147E-4EC6-BC3D-B44DBDBE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C25-56C6-4B8D-8D9D-731383EB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8134-7DEE-4898-B4BC-182D869E7B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204-1ED2-4EFF-A805-E7D7375451F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chka.gerodot.ru/rus-orda/img/02.gif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178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 Главные политические центры Рус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357720" y="5357880"/>
            <a:ext cx="5286240" cy="1143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Всеволод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ладший брат Андрея Боголюб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нём выросло могущество Владимиро – Суздальской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ым присвоил титул Великого князя Владимир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ить делить земли и раздавать их сыновь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ширил границы  на вос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221 году совершил успешный поход на Волжскую Булгарию и основал Нижний Нов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70044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http://im8-tub-ru.yandex.net/i?id=263405097-00-72"/>
          <p:cNvPicPr/>
          <p:nvPr/>
        </p:nvPicPr>
        <p:blipFill>
          <a:blip r:embed="rId1"/>
          <a:stretch/>
        </p:blipFill>
        <p:spPr>
          <a:xfrm>
            <a:off x="1000080" y="1928880"/>
            <a:ext cx="300060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ttp://im5-tub-ru.yandex.net/i?id=256084085-20-72"/>
          <p:cNvPicPr/>
          <p:nvPr/>
        </p:nvPicPr>
        <p:blipFill>
          <a:blip r:embed="rId2"/>
          <a:stretch/>
        </p:blipFill>
        <p:spPr>
          <a:xfrm>
            <a:off x="5357880" y="357192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вгородская земл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никла в IX веке как объединение 3-х племенных посёлк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агалась на реке Волх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итория простиралась от Финского залива до Урала, от северного Ледовитого океана до верховья Волг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цы развивали навыки ремесла и торгов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али с немецкими купцами. Датскими и Византией, странами Восток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город был одним из крупнейших  и красивейших городов с высоким уровнем грамотност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Система управления Новгородской республик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1857240" y="1285920"/>
            <a:ext cx="5500800" cy="5713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 – Народное собр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53964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Посадник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е должнос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о. Ведал су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4"/>
          <p:cNvSpPr/>
          <p:nvPr/>
        </p:nvSpPr>
        <p:spPr>
          <a:xfrm>
            <a:off x="3348000" y="2781360"/>
            <a:ext cx="230364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Влад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епископ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ал церковны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ми, казно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нешн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к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45"/>
          <p:cNvSpPr/>
          <p:nvPr/>
        </p:nvSpPr>
        <p:spPr>
          <a:xfrm>
            <a:off x="6156360" y="2781360"/>
            <a:ext cx="2303280" cy="180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Княз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догов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л войск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енное время. 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л права вмеши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ься в управ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46"/>
          <p:cNvSpPr/>
          <p:nvPr/>
        </p:nvSpPr>
        <p:spPr>
          <a:xfrm>
            <a:off x="468360" y="5084640"/>
            <a:ext cx="24494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Тысяц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ощник посад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ил за сбор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, руководи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олче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55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457200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1619280" y="234936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161928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0"/>
          <p:cNvSpPr/>
          <p:nvPr/>
        </p:nvSpPr>
        <p:spPr>
          <a:xfrm>
            <a:off x="745164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61"/>
          <p:cNvSpPr/>
          <p:nvPr/>
        </p:nvSpPr>
        <p:spPr>
          <a:xfrm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Picture 3" descr="http://tsn.tikhomirov.org/Fotki/NY2005/IMG_3350L.jpg"/>
          <p:cNvPicPr/>
          <p:nvPr/>
        </p:nvPicPr>
        <p:blipFill>
          <a:blip r:embed="rId1"/>
          <a:stretch/>
        </p:blipFill>
        <p:spPr>
          <a:xfrm>
            <a:off x="428760" y="1857240"/>
            <a:ext cx="3765240" cy="2928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://im2-tub-ru.yandex.net/i?id=75083993-10-72"/>
          <p:cNvPicPr/>
          <p:nvPr/>
        </p:nvPicPr>
        <p:blipFill>
          <a:blip r:embed="rId2"/>
          <a:stretch/>
        </p:blipFill>
        <p:spPr>
          <a:xfrm>
            <a:off x="5214960" y="4000680"/>
            <a:ext cx="3357720" cy="25286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2" descr="Картинка 1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524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алицко – Волынское княжеств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положилось у предгорий Карпа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валось пашенное земледел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пешно развивалось многочисленные лесные и рыбные промыслы, реме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алённость от кочевников привлекала сюда населени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перничество между Галичем и Владимиром Волынски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99 году объединили Волынь и Галич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чало усобиц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няжеская власть была ограничена боярской знать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работаем с документам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 95 и познакомьтесь с документ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рмин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ойте учебник на стр.95 и запишите слова в словар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дведём итог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ьте на вопросы на стр. 9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князьями и их политико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ся с главными политическими центрами Рус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вить особенности в их развит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вивать умение анализировать. сравнивать, обобщать и делать вы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иш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граф 11, вопросы, записи, задания в рабочей тетрад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яем 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кажите о Любечском съезде князей и о принятых на нём  решения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ление Владимира Монома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ы и последствия феодальной раздробленности на Рус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Юрий Долгорукий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8148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7" descr="http://im5-tub-ru.yandex.net/i?id=191187147-01-72"/>
          <p:cNvPicPr/>
          <p:nvPr/>
        </p:nvPicPr>
        <p:blipFill>
          <a:blip r:embed="rId1"/>
          <a:stretch/>
        </p:blipFill>
        <p:spPr>
          <a:xfrm>
            <a:off x="2928960" y="2000160"/>
            <a:ext cx="3143160" cy="4365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авление Юрия Долгору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основателем княжеской династ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л в Ростово  - Суздальской земл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вище получил за стремление « протягивать руки», т.е. захватывать зем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о участвовал в княжеских усобиц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л многие города – Москву, Дмитров, Звенигород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ершал походы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Памятник Юрию Долгорукому в Москв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1957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3" descr="http://fotomoskva.net.ru/imgk/693gork.jpg"/>
          <p:cNvPicPr/>
          <p:nvPr/>
        </p:nvPicPr>
        <p:blipFill>
          <a:blip r:embed="rId1"/>
          <a:stretch/>
        </p:blipFill>
        <p:spPr>
          <a:xfrm>
            <a:off x="2514600" y="21337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дрей Боголюбск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8577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7" descr="http://chegepe.narod.ru/content2/grehopad/andr_bogo_sm.jpg"/>
          <p:cNvPicPr/>
          <p:nvPr/>
        </p:nvPicPr>
        <p:blipFill>
          <a:blip r:embed="rId1"/>
          <a:stretch/>
        </p:blipFill>
        <p:spPr>
          <a:xfrm>
            <a:off x="3122640" y="1981080"/>
            <a:ext cx="289728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литика Андрея Боголюб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57 году вступил на пре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резиденцию Боголюбов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оду организовал поход на Ки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чинил гордых Новгородце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во Владимире новую креп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л Золотые ворота по образцу киевски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л убит боярами во главе с кичкович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севолод « Большое Гнезд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3814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3" descr="http://www.grigorius.narod.ru/img/history/knyaz/12_biggnezdo_m.jpg"/>
          <p:cNvPicPr/>
          <p:nvPr/>
        </p:nvPicPr>
        <p:blipFill>
          <a:blip r:embed="rId1"/>
          <a:stretch/>
        </p:blipFill>
        <p:spPr>
          <a:xfrm>
            <a:off x="2666880" y="1905120"/>
            <a:ext cx="33530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51:09Z</dcterms:modified>
  <cp:revision>9</cp:revision>
  <dc:subject/>
  <dc:title>PowerPoint Presentation</dc:title>
</cp:coreProperties>
</file>