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52239-6217-4095-9364-70599AFB9CF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« Главные политические центры Рус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9CEA7-D3E8-4E9B-8698-1E22B44E74FF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итика Всеволод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ладший брат Андрея Боголюбског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и нём выросло могущество Владимиро – Суздальской земл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ервым присвоил титул Великого князя Владимирског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одолжить делить земли и раздавать их сыновья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сширил границы  на восток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 1221 году совершил успешный поход на Волжскую Булгарию и основал Нижний Новгород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5B431-D381-4E19-BBAB-1DB32F94AB97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вгородская земл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5E111-2019-4568-A727-0DE18B71E8A7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вгородская земл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озникла в IX веке как объединение 3-х племенных посёлк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сполагалась на реке Волх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Территория простиралась от Финского залива до Урала, от северного Ледовитого океана до верховья Волг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овгородцы развивали навыки ремесла и торговл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Торговали с немецкими купцами. Датскими и Византией, странами Восто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овгород был одним из крупнейших  и красивейших городов с высоким уровнем грамот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7C34B-2031-4A75-95BD-6E138526068B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Система управления Новгородской республ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CBED0-95D1-4A7C-9C4D-4448CFFBA727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алицко – Волынское княжеств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178C3-E262-47D3-8339-C6E630E55ACB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алицко – Волынское княжеств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сположилось у предгорий Карпа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звивалось пашенное земледел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Успешно развивалось многочисленные лесные и рыбные промыслы, ремесл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тдалённость от кочевников привлекала сюда населе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оперничество между Галичем и Владимиром Волынски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199 году объединили Волынь и Галич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ачало усобиц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няжеская власть была ограничена боярской знатью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509C9-AC76-40C0-8443-336F5FA1B231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работаем с документам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кройте учебник на стр. 95 и познакомьтесь с документам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55954-F47D-4F49-A692-C792D21543CB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рмин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кройте учебник на стр.95 и запишите слова в словари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E3146-6CEA-46C2-9E59-F2E424679824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ведём итог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ьте на вопросы на стр. 94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23785-D997-4CFC-883A-E9AA25BFB4E0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накомиться с князьями и их политико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накомиться с главными политическими центрами Рус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явить особенности в их развит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вать умение анализировать. сравнивать, обобщать и делать выво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41CD3-32CA-4967-A8B4-5CEF1B8F5FBF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пишем домашнее зада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раграф 11, вопросы, записи, задания в рабочей тетрад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D5AE0-3FFA-480D-8623-64E49C0CC2CB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ряем домашнее зада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кажите о Любечском съезде князей и о принятых на нём  решен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ление Владимира Мономах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чины и последствия феодальной раздробленности на Рус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1E83D-BBB4-47E3-BEE9-1BFAE905B80A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рий Долгоруки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A896C-A528-4016-A135-6061DE3BA13F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ление Юрия Долгоруког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ыл основателем княжеской династ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Жил в Ростово  - Суздальской земл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звище получил за стремление « протягивать руки», т.е. захватывать земл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ктивно участвовал в княжеских усобица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ал многие города – Москву, Дмитров, Звенигород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ершал походы на Кие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93AA2-F3EA-45B8-ADA2-E6ABB54AB328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амятник Юрию Долгорукому в Москв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8D134-8CC9-4FFE-99D4-ED5825FCE230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дрей Боголюб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AD38E-0C5E-4172-B113-BB2A16E20C84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итика Андрея Боголюбског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1157 году вступил на престо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троил резиденцию Боголюбов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11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году организовал поход на Кие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чинил гордых Новгородце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троил во Владимире новую креп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троил Золотые ворота по образцу киевски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ыл убит боярами во главе с кичковича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FFE72-C8BE-4050-9984-ABEA2B2FD4F4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волод « Большое Гнездо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5A93C-2688-46CD-B465-37BE0357F10C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89AB-E0D6-4092-B5F7-D7303B8A9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5B0C-4D70-4BF9-83B7-B4401B473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71FF-6373-4814-878D-259CED517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FC94-261B-4166-91E1-32109FA99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536B4-1BCF-4CEC-BF2C-0450E72B6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E0D3B-46E5-4258-B5E8-3F99778C2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31A49-DF9F-4811-9DA8-B68A368CF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2D2D9-7362-4A98-8E4A-8B8DD2A95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FBDBF-EFF3-4CCD-82C7-08E760C51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A6F64-6F1A-45AC-A235-CA7B41787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48971-A1CC-4229-998B-4BFDECBE0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C12E-CCD6-4B08-9031-9E95D07B9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621DF-9609-4F82-9BA5-67BD84564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5743B-932C-4CCC-AB42-4DE060F5E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BB087-3B21-472B-B147-3D06E9FA2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DD6A7-7F84-4B64-A8CA-10D92713A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13CCB-04CC-4543-8F1B-5CA55B86F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59A7-0D45-4BFC-8ABD-4D59C7B9B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D8B1-886E-4B97-B11A-E6BAE775A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028D-BBFA-4F04-847C-4D3D77962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2052-2ED2-44E9-A94B-B841921C7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C16E-0D4D-4F2C-AF98-E0A843843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88D2-2C5B-410D-B25B-AF89FC8FF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9B43-029B-48CA-AED9-0104F9634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AA4F0-06D5-47E8-A924-426935A722C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D7E47-3B4F-4704-9CC1-DBDBD414B70C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tochka.gerodot.ru/rus-orda/img/02.gif" TargetMode="Externa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00080" y="1785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Тема урока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« Главные политические центры Руси»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Прямоугольник 3"/>
          <p:cNvSpPr/>
          <p:nvPr/>
        </p:nvSpPr>
        <p:spPr>
          <a:xfrm>
            <a:off x="3357720" y="5357880"/>
            <a:ext cx="5286240" cy="1143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Материал подготовлен учителем истори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Будинской ООШ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Антоненковой А.В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Политика Всеволода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ладший брат Андрея Боголюбского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и нём выросло могущество Владимиро – Суздальской земли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ервым присвоил титул Великого князя Владимирского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одолжить делить земли и раздавать их сыновьям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сширил границы  на восток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1221 году совершил успешный поход на Волжскую Булгарию и основал Нижний Новгород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Новгородская земля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3700440" y="277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Picture 6" descr="http://im8-tub-ru.yandex.net/i?id=263405097-00-72"/>
          <p:cNvPicPr/>
          <p:nvPr/>
        </p:nvPicPr>
        <p:blipFill>
          <a:blip r:embed="rId1"/>
          <a:stretch/>
        </p:blipFill>
        <p:spPr>
          <a:xfrm>
            <a:off x="1000080" y="1928880"/>
            <a:ext cx="3000600" cy="30002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8" descr="http://im5-tub-ru.yandex.net/i?id=256084085-20-72"/>
          <p:cNvPicPr/>
          <p:nvPr/>
        </p:nvPicPr>
        <p:blipFill>
          <a:blip r:embed="rId2"/>
          <a:stretch/>
        </p:blipFill>
        <p:spPr>
          <a:xfrm>
            <a:off x="5357880" y="3571920"/>
            <a:ext cx="3071880" cy="3071880"/>
          </a:xfrm>
          <a:prstGeom prst="rect">
            <a:avLst/>
          </a:prstGeom>
          <a:ln w="0">
            <a:noFill/>
          </a:ln>
        </p:spPr>
      </p:pic>
      <p:sp>
        <p:nvSpPr>
          <p:cNvPr id="145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Новгородская земля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озникла в IX веке как объединение 3-х племенных посёлков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асполагалась на реке Волхов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ерритория простиралась от Финского залива до Урала, от северного Ледовитого океана до верховья Волги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овгородцы развивали навыки ремесла и торговли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орговали с немецкими купцами. Датскими и Византией, странами Востока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овгород был одним из крупнейших  и красивейших городов с высоким уровнем грамотности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Monotype Corsiva"/>
              </a:rPr>
              <a:t>Система управления Новгородской республики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Rectangle 38"/>
          <p:cNvSpPr/>
          <p:nvPr/>
        </p:nvSpPr>
        <p:spPr>
          <a:xfrm>
            <a:off x="1857240" y="1285920"/>
            <a:ext cx="5500800" cy="57132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че – Народное собрани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Rectangle 40"/>
          <p:cNvSpPr/>
          <p:nvPr/>
        </p:nvSpPr>
        <p:spPr>
          <a:xfrm>
            <a:off x="539640" y="2781360"/>
            <a:ext cx="2303640" cy="1800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63300"/>
                </a:solidFill>
                <a:uFillTx/>
                <a:latin typeface="Arial"/>
              </a:rPr>
              <a:t>Посадник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сшее должностное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ицо. Ведал судом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значал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лжностных лиц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Rectangle 44"/>
          <p:cNvSpPr/>
          <p:nvPr/>
        </p:nvSpPr>
        <p:spPr>
          <a:xfrm>
            <a:off x="3348000" y="2781360"/>
            <a:ext cx="2303640" cy="1800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63300"/>
                </a:solidFill>
                <a:uFillTx/>
                <a:latin typeface="Arial"/>
              </a:rPr>
              <a:t>Влады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архиепископ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дал церковным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лами, казной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уководил внешней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итикой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Rectangle 45"/>
          <p:cNvSpPr/>
          <p:nvPr/>
        </p:nvSpPr>
        <p:spPr>
          <a:xfrm>
            <a:off x="6156360" y="2781360"/>
            <a:ext cx="2303280" cy="1800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63300"/>
                </a:solidFill>
                <a:uFillTx/>
                <a:latin typeface="Arial"/>
              </a:rPr>
              <a:t>Князь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основе договор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уководил войском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военное время. Н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мел права вмеши-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аться в управление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Rectangle 46"/>
          <p:cNvSpPr/>
          <p:nvPr/>
        </p:nvSpPr>
        <p:spPr>
          <a:xfrm>
            <a:off x="468360" y="5084640"/>
            <a:ext cx="2449440" cy="1440000"/>
          </a:xfrm>
          <a:prstGeom prst="rect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63300"/>
                </a:solidFill>
                <a:uFillTx/>
                <a:latin typeface="Arial"/>
              </a:rPr>
              <a:t>Тысяцкий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мощник посадника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едил за сбором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логов, руководил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олчением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Line 55"/>
          <p:cNvSpPr/>
          <p:nvPr/>
        </p:nvSpPr>
        <p:spPr>
          <a:xfrm>
            <a:off x="1692360" y="458136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Line 57"/>
          <p:cNvSpPr/>
          <p:nvPr/>
        </p:nvSpPr>
        <p:spPr>
          <a:xfrm>
            <a:off x="4572000" y="1989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Line 58"/>
          <p:cNvSpPr/>
          <p:nvPr/>
        </p:nvSpPr>
        <p:spPr>
          <a:xfrm>
            <a:off x="1619280" y="2349360"/>
            <a:ext cx="583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Line 59"/>
          <p:cNvSpPr/>
          <p:nvPr/>
        </p:nvSpPr>
        <p:spPr>
          <a:xfrm>
            <a:off x="161928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Line 60"/>
          <p:cNvSpPr/>
          <p:nvPr/>
        </p:nvSpPr>
        <p:spPr>
          <a:xfrm>
            <a:off x="745164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Line 61"/>
          <p:cNvSpPr/>
          <p:nvPr/>
        </p:nvSpPr>
        <p:spPr>
          <a:xfrm>
            <a:off x="4572000" y="2421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Галицко – Волынское княжество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3" name="Picture 3" descr="http://tsn.tikhomirov.org/Fotki/NY2005/IMG_3350L.jpg"/>
          <p:cNvPicPr/>
          <p:nvPr/>
        </p:nvPicPr>
        <p:blipFill>
          <a:blip r:embed="rId1"/>
          <a:stretch/>
        </p:blipFill>
        <p:spPr>
          <a:xfrm>
            <a:off x="428760" y="1857240"/>
            <a:ext cx="3765240" cy="29289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5" descr="http://im2-tub-ru.yandex.net/i?id=75083993-10-72"/>
          <p:cNvPicPr/>
          <p:nvPr/>
        </p:nvPicPr>
        <p:blipFill>
          <a:blip r:embed="rId2"/>
          <a:stretch/>
        </p:blipFill>
        <p:spPr>
          <a:xfrm>
            <a:off x="5214960" y="4000680"/>
            <a:ext cx="3357720" cy="2528640"/>
          </a:xfrm>
          <a:prstGeom prst="rect">
            <a:avLst/>
          </a:prstGeom>
          <a:ln w="0">
            <a:noFill/>
          </a:ln>
        </p:spPr>
      </p:pic>
      <p:sp>
        <p:nvSpPr>
          <p:cNvPr id="165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8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7" name="Picture 2" descr="Картинка 1 из 85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-165240"/>
            <a:ext cx="9144000" cy="7023240"/>
          </a:xfrm>
          <a:prstGeom prst="rect">
            <a:avLst/>
          </a:prstGeom>
          <a:ln w="0">
            <a:noFill/>
          </a:ln>
        </p:spPr>
      </p:pic>
      <p:sp>
        <p:nvSpPr>
          <p:cNvPr id="168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Галицко – Волынское княжество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асположилось у предгорий Карпат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азвивалось пашенное земледелие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спешно развивалось многочисленные лесные и рыбные промыслы, ремесло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тдалённость от кочевников привлекала сюда население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оперничество между Галичем и Владимиром Волынским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199 году объединили Волынь и Галич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чало усобиц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няжеская власть была ограничена боярской знатью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Поработаем с документами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ткройте учебник на стр. 95 и познакомьтесь с документами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Термины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ткройте учебник на стр.95 и запишите слова в словарик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7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Подведём итог урока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тветьте на вопросы на стр. 94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00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Цели урока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знакомиться с князьями и их политикой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знакомиться с главными политическими центрами Руси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ыявить особенности в их развитии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азвивать умение анализировать. сравнивать, обобщать и делать выводы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Запишем домашнее задание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араграф 11, вопросы, записи, задания в рабочей тетради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Проверяем домашнее задание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асскажите о Любечском съезде князей и о принятых на нём  решениях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авление Владимира Мономах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ичины и последствия феодальной раздробленности на Рус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Юрий Долгорукий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Rectangle 6"/>
          <p:cNvSpPr/>
          <p:nvPr/>
        </p:nvSpPr>
        <p:spPr>
          <a:xfrm>
            <a:off x="3381480" y="18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8" name="Picture 7" descr="http://im5-tub-ru.yandex.net/i?id=191187147-01-72"/>
          <p:cNvPicPr/>
          <p:nvPr/>
        </p:nvPicPr>
        <p:blipFill>
          <a:blip r:embed="rId1"/>
          <a:stretch/>
        </p:blipFill>
        <p:spPr>
          <a:xfrm>
            <a:off x="2928960" y="2000160"/>
            <a:ext cx="3143160" cy="436572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Правление Юрия Долгорукого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ыл основателем княжеской династии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Жил в Ростово  - Суздальской земле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звище получил за стремление « протягивать руки», т.е. захватывать земли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ктивно участвовал в княжеских усобицах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сновал многие города – Москву, Дмитров, Звенигород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вершал походы на Киев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Times New Roman"/>
              </a:rPr>
              <a:t>Памятник Юрию Долгорукому в Москве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3195720" y="15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5" name="Picture 3" descr="http://fotomoskva.net.ru/imgk/693gork.jpg"/>
          <p:cNvPicPr/>
          <p:nvPr/>
        </p:nvPicPr>
        <p:blipFill>
          <a:blip r:embed="rId1"/>
          <a:stretch/>
        </p:blipFill>
        <p:spPr>
          <a:xfrm>
            <a:off x="2514600" y="2133720"/>
            <a:ext cx="3962520" cy="4419360"/>
          </a:xfrm>
          <a:prstGeom prst="rect">
            <a:avLst/>
          </a:prstGeom>
          <a:ln w="0">
            <a:noFill/>
          </a:ln>
        </p:spPr>
      </p:pic>
      <p:sp>
        <p:nvSpPr>
          <p:cNvPr id="126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Андрей Боголюбский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3857760" y="2414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9" name="Picture 7" descr="http://chegepe.narod.ru/content2/grehopad/andr_bogo_sm.jpg"/>
          <p:cNvPicPr/>
          <p:nvPr/>
        </p:nvPicPr>
        <p:blipFill>
          <a:blip r:embed="rId1"/>
          <a:stretch/>
        </p:blipFill>
        <p:spPr>
          <a:xfrm>
            <a:off x="3122640" y="1981080"/>
            <a:ext cx="2897280" cy="411480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Политика Андрея Боголюбского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1157 году вступил на престол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строил резиденцию Боголюбово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11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году организовал поход на Киев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дчинил гордых Новгородцев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строил во Владимире новую крепост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строил Золотые ворота по образцу киевских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ыл убит боярами во главе с кичковичами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севолод « Большое Гнездо»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3381480" y="18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6" name="Picture 3" descr="http://www.grigorius.narod.ru/img/history/knyaz/12_biggnezdo_m.jpg"/>
          <p:cNvPicPr/>
          <p:nvPr/>
        </p:nvPicPr>
        <p:blipFill>
          <a:blip r:embed="rId1"/>
          <a:stretch/>
        </p:blipFill>
        <p:spPr>
          <a:xfrm>
            <a:off x="2666880" y="1905120"/>
            <a:ext cx="3353040" cy="4572000"/>
          </a:xfrm>
          <a:prstGeom prst="rect">
            <a:avLst/>
          </a:prstGeom>
          <a:ln w="0">
            <a:noFill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5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1-14T09:51:09Z</dcterms:modified>
  <cp:revision>9</cp:revision>
  <dc:subject/>
  <dc:title>PowerPoint Presentation</dc:title>
</cp:coreProperties>
</file>