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8E0E-F31F-45AD-B3B2-724655EA8B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9A4D-FFBA-45CA-8AA2-9823826F83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7989-3CB1-41D7-907D-75FEF42610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6949-7DB8-4657-92F1-C94F7BB4A9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3033-E834-4B0E-86F8-4CE7B4E9A3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5D36-135B-44F3-BD16-04594BA44D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802A-E852-46B6-96ED-6CDF9FE08E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4FC2-5252-4C8F-B077-A40EBD1EFA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8FC3-5B6E-49F7-904C-5EBC765772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цены товара (услуги). Эту зависимость можно представить в виде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D2B2-3987-4EC0-B384-34B7246E1F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ривая спроса даёт ответ на два вопро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личных уровнях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спроса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3620-00C2-41E6-BC6C-F6CE16A4EC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99CB-F12A-405B-8CC3-C3DA5566C8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предлож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F87B-C934-455C-B894-A03E5B9B5E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ечение кривых спроса и предложения даёт знач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ой ц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цена, при которой весь поставляемый на рынок товар покуп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F637-6A90-4299-91ED-D518A1D04C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ьности на рынке формируется две 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аксимальная цена, по которой покупатель согласен купить това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предлож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инимальная цена, по которой производитель готов продать товар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ночная це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EEE2-B96D-414F-B972-0C2CD6D7D7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DF9-1C0C-40AB-BC1B-116C87E6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BA0-62CD-4AE8-9E5F-2FC0F666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22E-B669-4FBB-AEAB-01F1DED5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24E-1901-40AA-8AFE-7CC04A90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7737-DDF0-4BE4-8DDA-935BB8E9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92A9-CC2F-4E57-B1F5-B71E61F8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3CB3-A52E-4959-907A-05778E42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7684-8D7C-4EFC-AE64-D1700EF3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551C-6B94-4567-8704-D58BFEDB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C97B-B21D-4ADD-88A9-EC67F22C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8B2A-5201-4287-B50A-CFD61E6F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539-809F-48AC-B823-FE7BF5D9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BAB1-80E7-40A5-BE39-007688F2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FD33-F846-4DDA-AD77-A4CDBB81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118F-9118-4BF3-950B-A23B9701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D819-F1B9-4CCE-A637-B5E81CCF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7556-B33F-4A82-997E-8A6A40AD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1DD69-FC94-43B7-8BC4-1B6A8C6B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470B4-446B-4AF2-B2FB-876723EB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96F21-60D6-43F4-B92F-09AFE122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856A9-F3F0-43FA-ABAE-08DCA14D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7B802-5420-4227-9A4B-10BCDA5A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F42-37EA-4343-A7D2-50A3D344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AFAD8-B834-4FF3-A1E5-083DE423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249D9-56AB-4399-8A8B-5FC3DAA4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68BFB-04FF-408D-B146-5AADF446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E08BC-9BFA-458B-B2B0-1183CFE6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E655C-2A5A-4EA2-80FA-3F5CC9E1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0D110-D31E-4766-B63A-D1B63F2E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B7AFF-F6FD-4980-A01F-05002D23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9F0D3-A957-4B20-B0F5-A420C9DD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B81CC-C095-4F9B-8A47-8E121FEE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6A06B-9EF1-42DE-9273-6B0AD624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DA0-7F75-4441-81D5-A31A7180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E8F69-5123-42C8-9849-9D3D9653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A9CB8-A69D-4325-9CE0-962789F3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DCDF7-989F-4883-A01E-1D464C5B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8E80B-AF70-4306-B11C-F1911DF3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72B18-382B-46F2-AC45-9DE11621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A6635-23AA-40AE-A6E4-B13F3E93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2216B-296F-4768-B8AD-8C4F898A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38529-1176-45DA-9B19-566EC7C0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273BC-188D-4524-BB4B-899DFDD8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BE2F5-8209-4655-8460-35F26B29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6D0-D932-41F1-AA34-EE97BE5E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0961B-FEE4-4AC2-A669-6916B61F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D21E8-B7B8-4948-B249-49AF2739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A3083-C7FF-4881-9784-239EE8CC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13F01-7AE5-4817-A783-CAB63347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E0B1E-15BF-4AAD-AACF-BB56CF66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2FBBB-F1E3-4FF0-9970-B8E54A3F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11212-9CF0-4171-8FB3-7693E4C7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50B90-C716-4686-B3DD-36A7F7C8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A7729-D724-4D5B-BF7C-938406AA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96A07-3D9A-4167-9FCD-3E344591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905-BE6E-4C3B-A7F7-CCCA897C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D90A9-D867-476F-8B65-D4A17A9E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1DD-484D-44D1-BE26-085E5899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4E2-1879-40D8-9330-CDA6F58F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DB4-5BF8-4334-B79B-C62CDE30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AF82-AF20-4D65-86D3-4EDF4E62D35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EA2E-A849-4377-AC78-D5466D94F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1EB7-716F-4145-983F-BBCD75146C81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98A8-4DB5-4D87-9310-20252B3A9A7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00C7-5F60-4D1B-A15B-16FC8C55FD09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90C5-372E-412E-A1E1-B62B3A3E418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CBE2-4B91-4E0C-B87D-DED80F2155E0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04AB-3490-420A-A091-0DF4A243BDB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A9EF-836F-4AD0-B421-E6AD2B06310D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907F-1EBC-4E2A-9DAA-CE498FC9C58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852640"/>
            <a:ext cx="7772400" cy="1470240"/>
          </a:xfrm>
          <a:prstGeom prst="rect">
            <a:avLst/>
          </a:prstGeom>
          <a:solidFill>
            <a:srgbClr val="fcd5b5">
              <a:alpha val="5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1197000"/>
            <a:ext cx="4316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388800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47960" y="1599840"/>
            <a:ext cx="4244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392720" cy="39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130640" cy="432108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464000" cy="439272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453708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99640" y="2276280"/>
            <a:ext cx="7488360" cy="24476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4537080" cy="1143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628640"/>
          <a:ext cx="9144000" cy="3498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0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ое предло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ый с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ая ц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9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 сам решает, что, как, сколько и для кого производ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 сам определяет, что, где, как и сколько покуп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ы определяются на рынке, зависят от спроса и пред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16282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еличина спрос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висит от цены товара (услуги). Эту зависимость можно представить в виде граф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16280" y="1557360"/>
            <a:ext cx="4527720" cy="43927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385200" y="6237360"/>
            <a:ext cx="84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м выше цена товара (услуги), тем ниже величина спроса и наоб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Кривая спроса даёт ответ на два вопроса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ва будет величина спроса при различных уровнях цен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изменится величина спроса при изменении це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спроса: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484280"/>
            <a:ext cx="435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едлож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еличина предложе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716360" cy="42814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250920" y="59500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ычно, чем выше цена товара (услуги), тем большее количество его производители и продавцы готовы предложить на рын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предложения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4797360" cy="4248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716000" y="1341360"/>
            <a:ext cx="4427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Пересечение кривых спроса и предложения даёт значение </a:t>
            </a:r>
            <a:r>
              <a:rPr b="1" lang="ru-RU" sz="2300" spc="-1" strike="noStrike">
                <a:solidFill>
                  <a:srgbClr val="000000"/>
                </a:solidFill>
                <a:latin typeface="Constantia"/>
              </a:rPr>
              <a:t>равновесной цены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 - это цена, при которой весь поставляемый на рынок товар покупаетс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альности на рынке формируется две цен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спрос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аксимальная цена, по которой покупатель согласен купить товар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предложени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инимальная цена, по которой производитель готов продать товар).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ыночная цен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5:48:02Z</dcterms:created>
  <dc:creator>private</dc:creator>
  <dc:description/>
  <dc:language>en-US</dc:language>
  <cp:lastModifiedBy>LEGION</cp:lastModifiedBy>
  <dcterms:modified xsi:type="dcterms:W3CDTF">2014-11-07T13:17:30Z</dcterms:modified>
  <cp:revision>5</cp:revision>
  <dc:subject/>
  <dc:title>Слайд 1</dc:title>
</cp:coreProperties>
</file>