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5F6F-A3DF-4A4E-AC43-06B34C9540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рынка. 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1E5E-24CE-4FE1-B264-8F26513CD7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зерна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еремещение может быть связано, прежде всего, с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м производителям зерна налоговых льг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цен на топливо и удоб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числа хлебопекарных и кондитерск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ями низкого урожая зер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98AF-8D78-4913-A0D9-14ACB37502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экзотических фру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). Это перемещение может быть связано, преждевсего, с (со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м урожаем экзотических фрук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доходов потребител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таможенных пошлин на импорт фрук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м тарифов на грузовые перево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9580-E370-436C-A4EC-479754E29E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стационарных компьютеров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ъем спроса товара). Это перемещение может быть связано, преждевсего, с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числа продавцов компьютер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ом многих пользователей на ноутбуки и нетбук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пошл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вод комплектующих для стационарныхкомпьютер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м удешевлением системных блоков и мони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402B-68E6-4893-A426-A6BAFB6BAF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телевиз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–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ъём спроса товара). Это перемещение может быть вызвано в первую очер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нижением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налогов на производителей телевиз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дешевлением технологии производства телевиз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количества магазинов, торгующих телевиз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EACD-0F9D-49C8-B7FE-36148769AB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производителей косметик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(P —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това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Q —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ём предложения товара). Это перемещение может быть связано в первую очередь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окращением количества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нижением налогов на производителей косме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закрытием ряда косметически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E156-9741-4546-A362-56BC7A6DF6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озникнове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ое раздел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обособленность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сть произво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1D9C-6721-4B66-BECE-6F2E1DB757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4365-A0DC-4569-991D-2C1BE5FD30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то количество товаров определённого вида, которое покупатель готов купить при определённом уровне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чи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цены товара (услуги). Эту зависимость можно представить в виде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E7B8-BFE4-4416-8F61-D4E328FACE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ривая спроса даёт ответ на два вопро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будет величина спроса при различных уровнях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тся величина спроса при изменении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спроса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ышение цены обычно ведёт к уменьшению величины спроса и, наоборот, снижение цены ведёт к увеличению величины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36E6-FAAD-42C4-8DE9-EB8E41DD0C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ыброс на рынок всё большего числа товаров или услуг, определяется, прежде всего, производственными факторами (количеством сырья, производительностью и т. 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объём (количество) товаров (услуг), который продавцы готовы (хотят и могут) предложить на рынок в течение определённого периода времени при определённом уровне рыночной цены на этот товар (услуг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ADD8-EAD3-4851-A623-44316E2B50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предложени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E950-279B-493F-A342-F5F708B5FA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ечение кривых спроса и предложения даёт знач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вновесной ц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цена, при которой весь поставляемый на рынок товар покуп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цена товара на рынке выше равновесной, то спрос снижается, в результате на рынке возникает избыток товара, что в свою очередь приводит к снижению цены до уровня равновес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цена ниже равновесной, то предложение падает, а спрос растет. Такая ситуация на рынке приводит к дефициту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9270-1B4E-4D29-A2E2-974DEF8162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льности на рынке формируется две ц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а максимальная цена, по которой покупатель согласен купить това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а предлож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а минимальная цена, по которой производитель готов продать товар)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ночная це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еблется в промежутке между этими двумя величинами. Таким образом, цена, спрос и предложение являются активными регуляторами рыночного механизма производства и обмена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0832-3745-424B-86A7-7DEA620D35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4B4-4747-4D5B-B10C-C05BFC62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ABD0-58E6-4B08-9D87-6BC2E3A0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8E6-2C39-4601-93A2-BB30E8F1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7A9-C7B8-459C-80BB-B27E4EDC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9AC1-4989-4C94-8A54-E4CCE973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3B36-D359-4FC2-846A-514480CC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73A2-4436-40CF-9724-3AD9CD94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5162-B402-4D77-B26A-E85D6508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719B-62DB-43A3-8F5E-615B04B2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E790-9B00-47D2-866E-979CC1CD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2A7F-4C66-4D73-8395-698E4963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9E5E-CC6B-41AF-9BEB-E6F75F6D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5B6B-4A5A-4952-915A-09D2C661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CC88-30C9-4F42-B0AD-7F2F7C7B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FA26-4F92-4E54-AFE6-81046ADE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1FE6-8D57-4A84-9EB8-CBB362E4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1EBA-3615-4F45-AA30-735089BB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AC3BC-84D4-43B0-A9E5-4526DA80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DE6BE-6909-4AA7-A53F-314BD4BF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FF258-3D14-4756-BC73-A090393F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594EC-7476-42FB-AED1-B578F8E4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0755E-15D2-48E4-9670-85C3F15C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28C-A484-4B4B-BE25-CC595170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0D728-3478-4322-A6AC-C685344E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CA146-58C0-498E-A1EC-DDC4C2F9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C6A90-06BE-4DB7-934F-B3F7BBE6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DA06B-FA44-487A-9D70-9F45E0C9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19CED-E532-4301-B5FC-5E25E667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1569F-133C-44B2-B939-884700F6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9113B-717A-4AEB-B63F-DF57DB94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6C958-75C4-44EB-AE84-57F91519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FAB9B-5F7D-4385-A508-5F6BFD5D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046C4-505A-45C2-9699-D2C9EDE1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35D-8E28-4BC4-9EAE-9603651D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4AC15-B3AA-4D5E-BD87-06202C96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BE39B-BD7D-49D0-AB6A-DD130B1B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C359A-7243-499B-8B09-C686B056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9260A-23D0-4614-B0B9-D944BD52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506DF-840A-4B97-8DB1-02920FB4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847D1-B500-46C8-86D4-6D04B16E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B95A9-93FE-40F0-8931-1DE57E81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DFADA-D7B2-4D39-AD67-FE3EFE01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8127C-4FF2-4D0C-B1A2-56DC71C2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EA8C3-CF69-4C04-856E-31A6CA7C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101A-0DDB-4142-9EAB-403C0EE2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662AB-BF5D-41D0-8320-33A06EE3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B96B5-26CE-4A1C-85A6-632A74BD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AAB0B-F50D-48C3-91B0-76D2AF58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91AB2-F51D-4FE8-8001-FC02B637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F5118-18EC-46AD-82E5-D0536131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7C78A-FA75-4950-85C2-A16389E4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7E02B-BF9A-46A2-B3C9-C754C019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4055D-20AC-4F96-96EA-8AA7EB32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892A7-5687-4D7D-A08B-40A8BF36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9799B-C2D4-42D6-9D0D-580B53C5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38C-4C4B-42CD-98DE-FF2F0D28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FE8A4-2F66-42B4-9F5D-C3BBD4D9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7CD-1906-4829-8114-7594DF5F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DAC-85A9-476A-BF85-AB724ABE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7A9-4026-49A0-B046-9A23C6DE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B807-591B-4484-BFDA-2435403C32C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C1AC-8823-46BA-8FC1-FFD5836E9B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13D9-EB30-4D19-AFB2-346A43D17EE6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9ACE-CE56-4D6C-82D5-F31920CAE28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5294-D645-488D-8B53-359B07382FF2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73E9-E0AD-46F6-A2BC-E7CA043B702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346A-EADB-41C6-AA21-DC6E7B1CE13E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0E99-A922-4C37-90D5-893BC5D64CA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76A0-970B-4658-8988-75884EBD9900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2FB6-E689-4066-8BCA-E50D2695BD9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852640"/>
            <a:ext cx="7772400" cy="1470240"/>
          </a:xfrm>
          <a:prstGeom prst="rect">
            <a:avLst/>
          </a:prstGeom>
          <a:solidFill>
            <a:srgbClr val="fcd5b5">
              <a:alpha val="5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ханизмы рынка. Спрос и Пред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зерн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1197000"/>
            <a:ext cx="4316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количество товар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еремещение может быть связано, прежде всего, с (с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ением производителям зерна налоговых льг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ижением цен на топливо и удоб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ом числа хлебопекарных и кондитерских предприят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ниями низкого урожая зер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388800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экзотических фрук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47960" y="1599840"/>
            <a:ext cx="42447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количество товара). Это перемещение может быть связано, преждевсего, с (со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ким урожаем экзотических фрукт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ижением доходов потребителе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ом таможенных пошлин на импорт фрукт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м тарифов на грузовые перевоз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392720" cy="39607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стационарных компьютеров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бъем спроса товара). Это перемещение может быть связано, преждевсего, с (с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том числа продавцов компьютеров на рын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ходом многих пользователей на ноутбуки и нетбук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м пошли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ввод комплектующих для стационарныхкомпьютер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ственным удешевлением системных блоков и монит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130640" cy="432108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телевизор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–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а товар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Q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бъём спроса товара). Это перемещение может быть вызвано в первую очеред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ниж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налогов на производителей телевиз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дешевлением технологии производства телевиз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количества магазинов, торгующих телевизор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464000" cy="439272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производителей косметик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предлож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S1 (P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а товар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Q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ём предложения товара). Это перемещение может быть связано в первую очередь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окращением количества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нижением налогов на производителей косме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закрытием ряда косметических фир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453708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ловия возникновения ры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99640" y="2276280"/>
            <a:ext cx="7488360" cy="24476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ственное разделение т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ческая обособленность произв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стоятельность производ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4537080" cy="1143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знаки ры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628640"/>
          <a:ext cx="9144000" cy="3498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0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ое предло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ый с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ая ц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9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 сам решает, что, как, сколько и для кого производ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 сам определяет, что, где, как и сколько покуп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ы определяются на рынке, зависят от спроса и предло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360" y="16282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- это то количество товаров определённого вида, которое покупатель готов купить при определённом уровне цен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еличина спрос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висит от цены товара (услуги). Эту зависимость можно представить в виде граф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616280" y="1557360"/>
            <a:ext cx="4527720" cy="43927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6"/>
          <p:cNvSpPr/>
          <p:nvPr/>
        </p:nvSpPr>
        <p:spPr>
          <a:xfrm>
            <a:off x="385200" y="6237360"/>
            <a:ext cx="84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м выше цена товара (услуги), тем ниже величина спроса и наоб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Кривая спроса даёт ответ на два вопроса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ва будет величина спроса при различных уровнях цен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изменится величина спроса при изменении це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он спроса: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овышение цены обычно ведёт к уменьшению величины спроса и, наоборот, снижение цены ведёт к увеличению величины спрос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484280"/>
            <a:ext cx="435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едлож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выброс на рынок всё большего числа товаров или услуг, определяется, прежде всего, производственными факторами (количеством сырья, производительностью и т. д.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еличина предложен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это объём (количество) товаров (услуг), который продавцы готовы (хотят и могут) предложить на рынок в течение определённого периода времени при определённом уровне рыночной цены на этот товар (услугу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716360" cy="42814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250920" y="59500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ычно, чем выше цена товара (услуги), тем большее количество его производители и продавцы готовы предложить на рын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он предложения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4797360" cy="4248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716000" y="1341360"/>
            <a:ext cx="4427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Пересечение кривых спроса и предложения даёт значение </a:t>
            </a:r>
            <a:r>
              <a:rPr b="1" lang="ru-RU" sz="2300" spc="-1" strike="noStrike">
                <a:solidFill>
                  <a:srgbClr val="000000"/>
                </a:solidFill>
                <a:latin typeface="Constantia"/>
              </a:rPr>
              <a:t>равновесной цены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 - это цена, при которой весь поставляемый на рынок товар покупается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Если цена товара на рынке выше равновесной, то спрос снижается, в результате на рынке возникает избыток товара, что в свою очередь приводит к снижению цены до уровня равновесия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Если цена ниже равновесной, то предложение падает, а спрос растет. Такая ситуация на рынке приводит к дефициту товара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альности на рынке формируется две цен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на спрос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та максимальная цена, по которой покупатель согласен купить товар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на предложени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та минимальная цена, по которой производитель готов продать товар).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ыночная цен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еблется в промежутке между этими двумя величинами. Таким образом, цена, спрос и предложение являются активными регуляторами рыночного механизма производства и обмена товар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5:48:02Z</dcterms:created>
  <dc:creator>private</dc:creator>
  <dc:description/>
  <dc:language>en-US</dc:language>
  <cp:lastModifiedBy>LEGION</cp:lastModifiedBy>
  <dcterms:modified xsi:type="dcterms:W3CDTF">2014-11-07T13:17:30Z</dcterms:modified>
  <cp:revision>5</cp:revision>
  <dc:subject/>
  <dc:title>Слайд 1</dc:title>
</cp:coreProperties>
</file>