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A3A3-C497-4532-A211-67C04E753B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рынка. 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AF03-54DA-4233-8051-0A1D4E2911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зерна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еремещение может быть связано, прежде всего, с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м производителям зерна налоговых льг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цен на топливо и удоб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числа хлебопекарных и кондитерск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ями низкого урожая зер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6F01-748E-4816-B170-482C01B598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экзотических фру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). Это перемещение может быть связано, преждевсего, с (со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м урожаем экзотических фрук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доходов потребител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таможенных пошлин на импорт фрук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м тарифов на грузовые перево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0734-D24E-478A-A53D-DA44984C51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стационарных компьютеров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ъем спроса товара). Это перемещение может быть связано, преждевсего, с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числа продавцов компьютеров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ом многих пользователей на ноутбуки и нетбук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пошл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вод комплектующих для стационарныхкомпьютер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м удешевлением системных блоков и мони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8EC6-4976-46C5-9CA4-C97F8A553E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телевиз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–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ъём спроса товара). Это перемещение может быть вызвано в первую очер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нижением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налогов на производителей телевиз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дешевлением технологии производства телевиз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количества магазинов, торгующих телевиз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890C-7092-4AA8-A804-00D79CD2E3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производителей косметик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(P —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това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Q —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ём предложения товара). Это перемещение может быть связано в первую очередь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окращением количества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нижением налогов на производителей косме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закрытием ряда косметически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0DE0-FC9A-49C6-8D86-55212588C9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озникнове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ое раздел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обособленность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сть произво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3BEF-6A27-4CE2-AE39-56D04AFF8B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5FA4-7CEC-46A9-B7BE-CCD9CC21E2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то количество товаров определённого вида, которое покупатель готов купить при определённом уровне ц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чи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от цены товара (услуги). Эту зависимость можно представить в виде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3A2D-AF16-42CA-ACC2-24FC4F2BE9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ривая спроса даёт ответ на два вопро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будет величина спроса при различных уровнях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тся величина спроса при изменении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спроса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ышение цены обычно ведёт к уменьшению величины спроса и, наоборот, снижение цены ведёт к увеличению величины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0D49-8972-4276-86AA-8425CF5119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лож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ыброс на рынок всё большего числа товаров или услуг, определяется, прежде всего, производственными факторами (количеством сырья, производительностью и т. 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объём (количество) товаров (услуг), который продавцы готовы (хотят и могут) предложить на рынок в течение определённого периода времени при определённом уровне рыночной цены на этот товар (услуг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E33F-2368-4EFD-9B45-2A5A87C88A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предложени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цены товара (услуги) обычно ведёт к росту величины предложения и, наоборот, снижение цены ведёт к уменьшению величины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A918-E383-48C1-A7AA-820830C56B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ечение кривых спроса и предложения даёт знач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вновесной ц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цена, при которой весь поставляемый на рынок товар покуп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цена товара на рынке выше равновесной, то спрос снижается, в результате на рынке возникает избыток товара, что в свою очередь приводит к снижению цены до уровня равновес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цена ниже равновесной, то предложение падает, а спрос растет. Такая ситуация на рынке приводит к дефициту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BB3F-5F98-4526-BB5D-95D0EF207D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льности на рынке формируется две ц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а максимальная цена, по которой покупатель согласен купить това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а предлож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а минимальная цена, по которой производитель готов продать товар)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ночная цен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еблется в промежутке между этими двумя величинами. Таким образом, цена, спрос и предложение являются активными регуляторами рыночного механизма производства и обмена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A430-491A-46EA-A045-8D2026364A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D223-E3D6-4F50-B4FC-DD4E4262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766-A241-439A-8D34-66CC4F74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AFFA-5964-4F09-B05E-913BE844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AC26-D044-4FE7-9BCB-F2A59F03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9682-B1C6-49D2-98F0-E702684C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32D4-96BF-45CA-BE27-406C9794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1EBB-B16B-481F-87C9-9679FAA5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58A2-D5FB-43EF-9455-77F83E1C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EA26-0DCD-4DA0-94F4-80BEECEB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FDC0-A8F1-4660-8515-75F1C91D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6763-F6E4-4122-9776-942F7438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A3A-0A04-4169-A513-E33687C9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BE22-4BE6-4783-83BD-2F979761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1F37-7D1F-47F7-A909-FA208BC1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71C4-0EEA-4215-9333-640D3104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ABCD-5988-4558-A74F-8283E58D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E888-5FBA-4BFC-B2A3-F0DC3258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B70DB-BA77-4DA7-9423-647752B1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B7F39-594A-4649-8F1E-FBFBFB06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BE046-12DB-4B42-AB26-7A193A8F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9D379-62F6-4D69-9C03-068C57E7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62E7D-1A42-444C-9323-961BC142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EFE-1346-47C6-A3CF-022BF290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275BA-E51B-4CEB-8024-DEB85067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C83C1-5919-4D1F-B217-8E2D204E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F64FE-71DD-4746-A1C8-E89A5C57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C17A3-CADD-4E5D-AA04-684D5413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28497-2B3E-4A67-9C66-302E552D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AECCE-CB7C-4079-9689-27E7383C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D4DD5-1F14-4E3D-8B88-987AE449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F1F42-4184-4637-BA45-B9238C2C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28B24-CD11-4386-9DAC-B2F53175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8AD2C-7A4C-4CBF-A526-BC3A7CE8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DFBC-E23B-4138-943D-111CAF1B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189D9-DC1D-4B9D-90B1-2FACAF06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15276-4AEC-4F07-B59E-7D8D7A76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389A5-0A44-4AAE-BB01-46D6EF25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AF995-3416-411B-97FF-CB425DDF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5B8DD-EDE8-4307-A4C9-FF4FC6D7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EE33F-DA92-4ABC-B36C-F8A8D4D0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A2CDD-328A-4C8E-B074-A5D5DFBE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7330B-81A9-483C-8779-63C31ECE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D66F4-1D4B-4701-A0B3-225E571A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79115-76DD-49AA-BB2A-D4314B3D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F47B-1DA7-4AA1-9DAE-9BED5D96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50399-CC59-412A-A355-8E16FA7F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F0A31-5AA5-41AC-946C-4DC174A0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E4923-88C0-4067-A61B-DB63A245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314DC-C3FF-4EA7-97B4-7E07C5CF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8E4AF-3657-4DC0-8BC4-5B305218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4E2BB-A8E7-44EE-9F6E-4F4C80CE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ED977-2BA9-42D2-9747-E68E729B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FCAB7-7916-46B1-9FCC-7298971E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3360A-B2A4-4056-80D5-D40FA671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3E901-5662-41CB-B310-6806236B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A638-6BF7-416A-A492-16D4DC9F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1C66E-89C9-49DE-A330-97599389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8D88-20ED-47EE-B307-F3D5873B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7C1-B7B7-47B9-A2C7-26E015BA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512C-265D-4E0C-B0A9-D805FC52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98BB-BAD0-40E1-9DEC-F4C7B181BBC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187A-0B9D-43FB-9031-D296A40449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7302-32A8-4714-BFA2-EB1BA2A76813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3D56-7A22-4DAE-B419-0F4B3ACC7CA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0A52-FDF9-41A0-8445-6AC5938211A8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6E56-89AA-4B35-BDE4-6C7A1D8CCAE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151D-BF7B-4E57-B488-B43677C2167B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214E-CB09-466B-A154-786B4D5D3F6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DF7B-CB73-4590-BCB5-1047BCD77F4E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9F79-96A1-4C1A-A956-F1D6E905761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852640"/>
            <a:ext cx="7772400" cy="1470240"/>
          </a:xfrm>
          <a:prstGeom prst="rect">
            <a:avLst/>
          </a:prstGeom>
          <a:solidFill>
            <a:srgbClr val="fcd5b5">
              <a:alpha val="5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ханизмы рынка. Спрос и Предл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зерн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1197000"/>
            <a:ext cx="4316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количество товар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еремещение может быть связано, прежде всего, с (с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оставлением производителям зерна налоговых льг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ижением цен на топливо и удобр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том числа хлебопекарных и кондитерских предприят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жиданиями низкого урожая зер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388800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экзотических фрукт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47960" y="1599840"/>
            <a:ext cx="42447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количество товара). Это перемещение может быть связано, преждевсего, с (со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оким урожаем экзотических фрукт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ижением доходов потребителе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том таможенных пошлин на импорт фрукт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м тарифов на грузовые перевоз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392720" cy="39607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стационарных компьютеров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объем спроса товара). Это перемещение может быть связано, преждевсего, с (с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том числа продавцов компьютеров на рын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ходом многих пользователей на ноутбуки и нетбук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жением пошлин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ввод комплектующих для стационарныхкомпьютер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щественным удешевлением системных блоков и монит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130640" cy="432108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телевизор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–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а товара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Q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объём спроса товара). Это перемещение может быть вызвано в первую очеред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нижением доходов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налогов на производителей телевиз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дешевлением технологии производства телевиз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количества магазинов, торгующих телевизор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464000" cy="439272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производителей косметик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предлож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S1 (P —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а товар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Q —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ём предложения товара). Это перемещение может быть связано в первую очередь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доходов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окращением количества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нижением налогов на производителей косме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закрытием ряда косметических фир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453708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ловия возникновения ры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99640" y="2276280"/>
            <a:ext cx="7488360" cy="24476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ственное разделение т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номическая обособленность произв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стоятельность производ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4537080" cy="1143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знаки ры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628640"/>
          <a:ext cx="9144000" cy="3498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08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ое предло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ый с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ая ц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9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 сам решает, что, как, сколько и для кого производ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 сам определяет, что, где, как и сколько покуп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ы определяются на рынке, зависят от спроса и предло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8360" y="162828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ПРОС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- это то количество товаров определённого вида, которое покупатель готов купить при определённом уровне цен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еличина спрос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висит от цены товара (услуги). Эту зависимость можно представить в виде граф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616280" y="1557360"/>
            <a:ext cx="4527720" cy="43927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6"/>
          <p:cNvSpPr/>
          <p:nvPr/>
        </p:nvSpPr>
        <p:spPr>
          <a:xfrm>
            <a:off x="385200" y="6237360"/>
            <a:ext cx="84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м выше цена товара (услуги), тем ниже величина спроса и наоб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Кривая спроса даёт ответ на два вопроса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ва будет величина спроса при различных уровнях цен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изменится величина спроса при изменении це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он спроса: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овышение цены обычно ведёт к уменьшению величины спроса и, наоборот, снижение цены ведёт к увеличению величины спрос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484280"/>
            <a:ext cx="4356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едлож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выброс на рынок всё большего числа товаров или услуг, определяется, прежде всего, производственными факторами (количеством сырья, производительностью и т. д.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еличина предложени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это объём (количество) товаров (услуг), который продавцы готовы (хотят и могут) предложить на рынок в течение определённого периода времени при определённом уровне рыночной цены на этот товар (услугу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716360" cy="42814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6"/>
          <p:cNvSpPr/>
          <p:nvPr/>
        </p:nvSpPr>
        <p:spPr>
          <a:xfrm>
            <a:off x="250920" y="59500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ычно, чем выше цена товара (услуги), тем большее количество его производители и продавцы готовы предложить на рын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он предложения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ие цены товара (услуги) обычно ведёт к росту величины предложения и, наоборот, снижение цены ведёт к уменьшению величины предложен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4797360" cy="4248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716000" y="1341360"/>
            <a:ext cx="4427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Пересечение кривых спроса и предложения даёт значение </a:t>
            </a:r>
            <a:r>
              <a:rPr b="1" lang="ru-RU" sz="2300" spc="-1" strike="noStrike">
                <a:solidFill>
                  <a:srgbClr val="000000"/>
                </a:solidFill>
                <a:latin typeface="Constantia"/>
              </a:rPr>
              <a:t>равновесной цены</a:t>
            </a: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 - это цена, при которой весь поставляемый на рынок товар покупается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Если цена товара на рынке выше равновесной, то спрос снижается, в результате на рынке возникает избыток товара, что в свою очередь приводит к снижению цены до уровня равновесия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Если цена ниже равновесной, то предложение падает, а спрос растет. Такая ситуация на рынке приводит к дефициту товара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альности на рынке формируется две цен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на спрос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та максимальная цена, по которой покупатель согласен купить товар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на предложени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та минимальная цена, по которой производитель готов продать товар).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ыночная цен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леблется в промежутке между этими двумя величинами. Таким образом, цена, спрос и предложение являются активными регуляторами рыночного механизма производства и обмена товар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5:48:02Z</dcterms:created>
  <dc:creator>private</dc:creator>
  <dc:description/>
  <dc:language>en-US</dc:language>
  <cp:lastModifiedBy>LEGION</cp:lastModifiedBy>
  <dcterms:modified xsi:type="dcterms:W3CDTF">2014-11-07T13:17:30Z</dcterms:modified>
  <cp:revision>5</cp:revision>
  <dc:subject/>
  <dc:title>Слайд 1</dc:title>
</cp:coreProperties>
</file>