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6E79-29C4-4281-8466-6444A1DCD7E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инные русски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DDD7-3938-4AC0-ABF7-54D0EC7A77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ты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3 копей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лты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ин. русск. монетная едини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атар. алты-ше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. считалось от 3-6 ден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етра особой монеты 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еканилось, лишь с 17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и чеканить серебр. А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были скоро изъя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же удержался в наро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ятиалтынны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0F5F-D1BD-46F6-8B32-F57790C2F7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 копейкамЪ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разменная серебря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пробная монета в 10 ко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стала чекани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26, 72-ой пробы с 181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-ой пробы с 1867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-ой пробы с 1885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C6E5-CA62-4E7D-BAE1-D2D2EC2DC61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50 копей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тина, полти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единица стоимости, выпускавшая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IV-XV вв. только в виде слитков и рав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ине рублевого слитка – рубля. Со в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ины XV в. и до 1656 г.- счетно-денеж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а в 50 копеек или 5 гривен. Полти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ная царем Алексеем Михайлович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645-1676) в 1654 г., весила 16-20 гр. мед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ла диаметр 45 мм. и следующее изображе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на коне и двуглавый ор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BD76-ADB8-4DEE-B277-806C6BA5C19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ш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4 копей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шка, полуде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бряная русская монета равная полови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овки или четверти новгород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тречавшаяся в Древней Руси в XV 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VI-XVII вв. (после реформ 1534 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денга = 1/4 копейки и весила около 0,17 г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00 по 1800 чеканились медные полуш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39 г. им соответствовали монеты с надпис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1/4 копейк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8415-BE3F-4C96-8BB5-54AE5A9B8F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серебряная монета, чеканенная с 1534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вес равнялся весу новгородской денг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новгородки, которая после завое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а Иваном III (1462-1505) в 1478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а использоваться в Моск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EBAE-BC07-4A0A-AC3D-A34B110A84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е единиц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б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2 полтин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50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ятиалтын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= 15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ты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3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день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2 копейк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ш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4 копей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9D66-6B85-48E9-BD9D-1E19A34EBF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уемые источни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b2386828.msk.ru/9/55-06.html - старинные русские деньги с изображе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tyagusheva.edurm.ru/doc/publikazia.htm- старинные русские день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ro.yar.ru/resource/distant/math/metrol_10.htm старинные русски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645D-0294-4EDE-9B26-C50B6CD59BA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367-F0CC-489E-8645-AC293F25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65CA-100B-473C-BE10-F0F5E978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AB2-BF78-4F4E-8415-8E7F6459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16D-CA33-44CE-B327-2237BB06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4E56-3593-4793-9654-6025F2E6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B986-EDE5-4842-9703-830755E8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A093-1F6D-4A7E-8FA1-B5134E90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C6D5-0FA2-4C26-8840-7734D794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90CA-0C29-4091-B122-A9268639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9092-EF24-45CC-8C18-A2012BC3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DD69-B441-4FBD-A17D-60A38536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0C7-EB7D-47F4-8620-77DB5910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18F9-FAF3-4581-AEE5-559E8C89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4988-7BC7-4139-BBBF-51A2EAB8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C0D3-C20B-4EE0-9805-1B9D0A9E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7931-E542-48CC-BF54-EA87EEF2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C28A-9B68-4D81-8D8A-05F684D5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A85-673A-4AC0-B29E-281C2359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796-CD40-4DCE-AF28-264BC1D5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CB43-627A-4C2B-8889-E6BAF3C8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9947-6825-4528-95A0-C55FCA4F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73F-D26E-4D58-8ED6-2083D16D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BC0-1FAC-4740-B655-4FAFCE95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3A7-A2EB-40FC-82B9-E4517B51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orange_circle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F534-5D7A-4895-8C86-86C139D79294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468D-27E5-4EB1-84B3-9142D665D0CC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b2386828.msk.ru/9/55-06.html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920" y="386064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Старинные русские деньги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515736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2" name="Picture 4" descr="orange_circle"/>
          <p:cNvPicPr/>
          <p:nvPr/>
        </p:nvPicPr>
        <p:blipFill>
          <a:blip r:embed="rId1"/>
          <a:stretch/>
        </p:blipFill>
        <p:spPr>
          <a:xfrm>
            <a:off x="755640" y="184464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penny_guy_walking_hg_clr"/>
          <p:cNvPicPr/>
          <p:nvPr/>
        </p:nvPicPr>
        <p:blipFill>
          <a:blip r:embed="rId2"/>
          <a:stretch/>
        </p:blipFill>
        <p:spPr>
          <a:xfrm>
            <a:off x="755640" y="206064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алтын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3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91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7" name="Picture 27" descr=""/>
          <p:cNvPicPr/>
          <p:nvPr/>
        </p:nvPicPr>
        <p:blipFill>
          <a:blip r:embed="rId2"/>
          <a:stretch/>
        </p:blipFill>
        <p:spPr>
          <a:xfrm>
            <a:off x="1835280" y="378936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8"/>
          <p:cNvSpPr/>
          <p:nvPr/>
        </p:nvSpPr>
        <p:spPr>
          <a:xfrm>
            <a:off x="3925440" y="1553760"/>
            <a:ext cx="461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ин. русск. монетная единиц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атар. алты-шесть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. считалось от 3-6 дене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Петра особой монеты 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чеканилось, лишь с 17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и чеканить серебр. А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были скоро изъя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ет же удержался в наро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ятиалтынный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гривенник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0 копейкамЪ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92360" y="3141720"/>
            <a:ext cx="2950920" cy="2911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358880" y="2133720"/>
            <a:ext cx="427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разменная серебря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опробная монета в 10 коп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вые стала чеканить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26, 72-ой пробы с 181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8-ой пробы с 1867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0-ой пробы с 1885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тин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50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тина, полтинник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059280" y="4729320"/>
            <a:ext cx="3708360" cy="1877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692360" y="1413000"/>
            <a:ext cx="680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единица стоимости, выпускавшаяся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XIV-XV вв. только в виде слитков и рав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е рублевого слитка – рубля. Со вто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ы XV в. и до 1656 г.- счетно-денеж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ица в 50 копеек или 5 гривен. Полтин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денная царем Алексеем Михайлович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645-1676) в 1654 г., весила 16-20 гр. мед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ла диаметр 45 мм. и следующее изображени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арь на коне и двуглавый ор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ушк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/4 копейки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ушка, полуденг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411280" y="4299120"/>
            <a:ext cx="4064040" cy="2097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1912320" y="1341360"/>
            <a:ext cx="663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ебряная русская монета равная полови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ки или четверти новгород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стречавшаяся в Древней Руси в XV 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XVI-XVII вв. (после реформ 1534 г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денга = 1/4 копейки и весила около 0,17 г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00 по 1800 чеканились медные полуш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839 г. им соответствовали монеты с надпис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"1/4 копейки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Копейка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Копейк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545480" y="1484280"/>
            <a:ext cx="656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серебряная монета, чеканенная с 1534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е вес равнялся весу новгородской денг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новгородки, которая после завоев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города Иваном III (1462-1505) в 1478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а использоваться в Моск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Денежные единицы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рубль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2 полтин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тин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5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ятиалтынный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= 15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3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2 деньги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2 копейки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ушк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4 копейки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22" name="Picture 4" descr="penny_guy_walking_hg_clr"/>
          <p:cNvPicPr/>
          <p:nvPr/>
        </p:nvPicPr>
        <p:blipFill>
          <a:blip r:embed="rId2"/>
          <a:stretch/>
        </p:blipFill>
        <p:spPr>
          <a:xfrm>
            <a:off x="716292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Heavy"/>
              </a:rPr>
              <a:t>Используемые источники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26560" y="1699920"/>
            <a:ext cx="7921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Franklin Gothic Demi"/>
                <a:hlinkClick r:id="rId2"/>
              </a:rPr>
              <a:t>http://www.b2386828.msk.ru/9/55-06.html</a:t>
            </a: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 - старинные русские деньги с изображениями 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http://tyagusheva.edurm.ru/doc/publikazia.htm- старинные русские деньги  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http://www.iro.yar.ru/resource/distant/math/metrol_10.htm старинные русские деньги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6:34:10Z</dcterms:created>
  <dc:creator>All Users</dc:creator>
  <dc:description/>
  <dc:language>en-US</dc:language>
  <cp:lastModifiedBy>LEGION</cp:lastModifiedBy>
  <dcterms:modified xsi:type="dcterms:W3CDTF">2015-01-14T09:53:56Z</dcterms:modified>
  <cp:revision>4</cp:revision>
  <dc:subject/>
  <dc:title>Старинные русские деньги</dc:title>
</cp:coreProperties>
</file>