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0B5E-3B56-4062-9939-96FFD7AC2B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FB81-E787-4745-B549-C7D5838167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лты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. русск. монетная едини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атар. алты-ше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. считалось от 3-6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етра особой монеты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еканилось, лишь с 17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и чеканить серебр. А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были скоро изъя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же удержался в наро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ятиалтынны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3C1B-6A3A-4DDE-B3DC-01AD111F95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разменная серебря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пробная монета в 10 ко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стала чекани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26, 72-ой пробы с 181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-ой пробы с 1867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-ой пробы с 18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CBBB-3B9F-477F-AC2A-4829D3AA51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тина, полти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единица стоимости, выпускавшая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V-XV вв. только в виде слитков и ра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е рублевого слитка – рубля. Со в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ы XV в. и до 1656 г.- счетно-денеж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а в 50 копеек или 5 гривен. Полт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ная царем Алексеем Михайлович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645-1676) в 1654 г., весила 16-20 гр. ме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ла диаметр 45 мм. и следующее изображ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а коне и двуглавый ор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886B-EA58-4F66-84A5-9A061CF188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шка, полуде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ая русская монета равная полов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овки или четверти новгород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тречавшаяся в Древней Руси в XV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-XVII вв. (после реформ 1534 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денга = 1/4 копейки и весила около 0,17 г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00 по 1800 чеканились медные полу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39 г. им соответствовали монеты с надпис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1/4 копейк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FC73-31E4-4DDA-B430-3313DB1F34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серебряная монета, чеканенная с 153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ес равнялся весу новгородской де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новгородки, которая после заво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а Иваном III (1462-1505) в 147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а использоваться в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3348-72A0-48A9-99FA-11063AB0B3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е единиц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б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 полтин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иалты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= 15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день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2 копейк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34C9-752F-41E8-A612-9336B9D318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емые источни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b2386828.msk.ru/9/55-06.html - старинные русские деньги с изображ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tyagusheva.edurm.ru/doc/publikazia.htm- старинные русски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ro.yar.ru/resource/distant/math/metrol_10.htm 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6B14-610F-437F-89E9-79DE811333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360-90DE-4535-9B13-E012AD6D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447-9A3C-4308-9506-4C797E46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1D3-A351-488E-B737-CD8B4976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3F6-DEDB-4EEB-A03A-36750730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B308-9460-4D11-867B-4FFC6FF8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5E4B-7303-4EB4-97CB-EF15F159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D402-3E1D-41A5-B510-7B53B8BD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2282-59DA-4C50-B337-C0A59BA3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7AC7-4A2E-4901-8DD7-BA3A1602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E453-F0DC-4FF3-9FA5-6E2E11B3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FAFB-19B6-4746-AB89-037B07F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1E1-343E-4C23-97D0-F0BE02A4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3C34-18A9-4213-9B10-9E8D66ED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AFF6-2E56-422F-BA46-BAA82CCE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325E-3DCD-4C4E-9F26-AFDE95CE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91F5-58A5-45F4-93AD-25550182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139C-9C29-47F7-A5A1-AC7C5AFA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49C-81F9-4724-9451-F7881D4B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33A-CBAB-4B7D-AA77-20B80402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C05-645B-4914-B2BF-17EBA1DD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70D-1474-4F38-BF62-B9108BF3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C4B-D544-4BBC-B545-9FB139AC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C7C-3E61-4FDE-8929-4771D5D3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5DC-814B-42A3-9B26-6D7FACEB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orange_circle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240E-6892-4CEF-8A5A-A5352FBD59EA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9460-4CE8-47F2-AFD9-E97DAC232658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b2386828.msk.ru/9/55-06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386064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Старинные русские деньги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515736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2" name="Picture 4" descr="orange_circle"/>
          <p:cNvPicPr/>
          <p:nvPr/>
        </p:nvPicPr>
        <p:blipFill>
          <a:blip r:embed="rId1"/>
          <a:stretch/>
        </p:blipFill>
        <p:spPr>
          <a:xfrm>
            <a:off x="755640" y="184464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enny_guy_walking_hg_clr"/>
          <p:cNvPicPr/>
          <p:nvPr/>
        </p:nvPicPr>
        <p:blipFill>
          <a:blip r:embed="rId2"/>
          <a:stretch/>
        </p:blipFill>
        <p:spPr>
          <a:xfrm>
            <a:off x="755640" y="206064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алтын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3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91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7" name="Picture 27" descr=""/>
          <p:cNvPicPr/>
          <p:nvPr/>
        </p:nvPicPr>
        <p:blipFill>
          <a:blip r:embed="rId2"/>
          <a:stretch/>
        </p:blipFill>
        <p:spPr>
          <a:xfrm>
            <a:off x="1835280" y="37893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8"/>
          <p:cNvSpPr/>
          <p:nvPr/>
        </p:nvSpPr>
        <p:spPr>
          <a:xfrm>
            <a:off x="3925440" y="1553760"/>
            <a:ext cx="461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ин. русск. монетная единиц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атар. алты-шесть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. считалось от 3-6 дене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Петра особой монеты 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чеканилось, лишь с 17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чеканить серебр. А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были скоро изъя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же удержался в нар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ятиалтынный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гривенник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0 копейкамЪ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92360" y="3141720"/>
            <a:ext cx="2950920" cy="2911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358880" y="2133720"/>
            <a:ext cx="427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разменная серебря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опробная монета в 10 ко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стала чекани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26, 72-ой пробы с 18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8-ой пробы с 1867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-ой пробы с 188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тин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50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тина, полтинник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059280" y="4729320"/>
            <a:ext cx="3708360" cy="1877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92360" y="1413000"/>
            <a:ext cx="680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единица стоимости, выпускавшаяся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IV-XV вв. только в виде слитков и рав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е рублевого слитка – рубля. Со в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ы XV в. и до 1656 г.- счетно-денеж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ица в 50 копеек или 5 гривен. Полт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ная царем Алексеем Михайлов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45-1676) в 1654 г., весила 16-20 гр. мед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ла диаметр 45 мм. и следующее изображ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арь на коне и двуглавый ор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ушк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/4 копейки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ушка, полуденг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411280" y="4299120"/>
            <a:ext cx="4064040" cy="2097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912320" y="1341360"/>
            <a:ext cx="663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ебряная русская монета равная полови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ки или четверти новгород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стречавшаяся в Древней Руси в XV 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XVI-XVII вв. (после реформ 1534 г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денга = 1/4 копейки и весила около 0,17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00 по 1800 чеканились медные полуш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39 г. им соответствовали монеты с надпис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1/4 копейки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Копейка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Копейк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545480" y="1484280"/>
            <a:ext cx="65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серебряная монета, чеканенная с 1534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е вес равнялся весу новгородской ден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новгородки, которая после завое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города Иваном III (1462-1505) в 1478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а использоваться в Моск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Денежные единицы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рубль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2 полтин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тин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5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ятиалтынный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= 15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3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2 деньг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2 копейк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ушк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4 копейки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22" name="Picture 4" descr="penny_guy_walking_hg_clr"/>
          <p:cNvPicPr/>
          <p:nvPr/>
        </p:nvPicPr>
        <p:blipFill>
          <a:blip r:embed="rId2"/>
          <a:stretch/>
        </p:blipFill>
        <p:spPr>
          <a:xfrm>
            <a:off x="716292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Heavy"/>
              </a:rPr>
              <a:t>Используемые источники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7921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Franklin Gothic Demi"/>
                <a:hlinkClick r:id="rId2"/>
              </a:rPr>
              <a:t>http://www.b2386828.msk.ru/9/55-06.html</a:t>
            </a: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 - старинные русские деньги с изображениями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tyagusheva.edurm.ru/doc/publikazia.htm- старинные русские деньги 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www.iro.yar.ru/resource/distant/math/metrol_10.htm старинные русские деньги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34:10Z</dcterms:created>
  <dc:creator>All Users</dc:creator>
  <dc:description/>
  <dc:language>en-US</dc:language>
  <cp:lastModifiedBy>LEGION</cp:lastModifiedBy>
  <dcterms:modified xsi:type="dcterms:W3CDTF">2015-01-14T09:53:56Z</dcterms:modified>
  <cp:revision>4</cp:revision>
  <dc:subject/>
  <dc:title>Старинные русские деньги</dc:title>
</cp:coreProperties>
</file>