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E2AE-2726-4065-86D2-844D6414A3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4DC4-EF00-4507-8CB7-2ED599F87E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лты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. русск. монетная едини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атар. алты-ше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. считалось от 3-6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етра особой монеты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еканилось, лишь с 17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и чеканить серебр. А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были скоро изъя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же удержался в наро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ятиалтынны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CEBC-3F7D-4E0D-8232-2CB3A3B9B2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разменная серебря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пробная монета в 10 ко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стала чекани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26, 72-ой пробы с 181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-ой пробы с 1867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-ой пробы с 18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938B-1487-46E9-915D-1B3467B64F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тина, полти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единица стоимости, выпускавшая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V-XV вв. только в виде слитков и ра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е рублевого слитка – рубля. Со в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ы XV в. и до 1656 г.- счетно-денеж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а в 50 копеек или 5 гривен. Полт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ная царем Алексеем Михайлович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645-1676) в 1654 г., весила 16-20 гр. ме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ла диаметр 45 мм. и следующее изображ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а коне и двуглавый ор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EC3C-A985-440B-ADA5-B0BBEF692B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шка, полуде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ая русская монета равная полов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овки или четверти новгород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тречавшаяся в Древней Руси в XV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-XVII вв. (после реформ 1534 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денга = 1/4 копейки и весила около 0,17 г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00 по 1800 чеканились медные полу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39 г. им соответствовали монеты с надпис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1/4 копейк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2BF2-0DD1-44A7-B0E4-AD497F910D3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серебряная монета, чеканенная с 153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ес равнялся весу новгородской де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новгородки, которая после заво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а Иваном III (1462-1505) в 147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а использоваться в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87A8-58B2-40AD-9D36-C043B0E5B1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е единиц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б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 полтин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иалты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= 15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день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2 копейк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D95A-D943-4870-B1DF-E133F092AF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емые источни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b2386828.msk.ru/9/55-06.html - старинные русские деньги с изображ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tyagusheva.edurm.ru/doc/publikazia.htm- старинные русски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ro.yar.ru/resource/distant/math/metrol_10.htm 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A286-E5A3-4178-BA0A-4E0B8E3692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8C9-B5DC-4302-B91C-C5170931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4B6-DBEA-4D56-A58D-D12506A6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993-ED71-4A6C-88EB-AE3C30D8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EA2-556E-467E-80C8-34544297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5780-203B-4D09-8E25-0CD7BF1C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1ECF-C70A-4621-9054-9E152ADC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B245-F039-4998-964B-251EDC1D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7E69-8413-4697-94AC-BED20092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3BF5-DD71-45ED-95F9-85CD6480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5E51-E360-4866-AB37-4BE16EE0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9993-43BB-4D8B-BF51-38BA089D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76C-625A-4508-A5F1-FC8A2252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7321-C5E8-4582-9105-89CBE0A6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D570-1264-49FA-B060-5CF5FF7D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098E-D98C-4367-BD7D-2430F364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7C3C-B09C-49CC-B9FB-09973C12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BC11-A2E2-4D2A-A410-F352A488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FA0-DEF1-47DF-AF2E-EDE8D4C1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2D2-8D6E-4506-AD8D-C138F62A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324-51F1-4105-9886-FA348AFB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4B8-9763-492D-B4FA-DE94D999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299-74C5-482A-9FCE-6CE19826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EF5-859A-4DD8-B02A-CEF9F211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D6C-2DF8-487D-9C73-F0028C9F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orange_circle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5B46-D9F9-4650-8455-67E03F91066F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5983-3C54-4680-834C-4DA597A9ACDE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b2386828.msk.ru/9/55-06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386064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Старинные русские деньги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515736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2" name="Picture 4" descr="orange_circle"/>
          <p:cNvPicPr/>
          <p:nvPr/>
        </p:nvPicPr>
        <p:blipFill>
          <a:blip r:embed="rId1"/>
          <a:stretch/>
        </p:blipFill>
        <p:spPr>
          <a:xfrm>
            <a:off x="755640" y="184464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penny_guy_walking_hg_clr"/>
          <p:cNvPicPr/>
          <p:nvPr/>
        </p:nvPicPr>
        <p:blipFill>
          <a:blip r:embed="rId2"/>
          <a:stretch/>
        </p:blipFill>
        <p:spPr>
          <a:xfrm>
            <a:off x="755640" y="206064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алтын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3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91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7" name="Picture 27" descr=""/>
          <p:cNvPicPr/>
          <p:nvPr/>
        </p:nvPicPr>
        <p:blipFill>
          <a:blip r:embed="rId2"/>
          <a:stretch/>
        </p:blipFill>
        <p:spPr>
          <a:xfrm>
            <a:off x="1835280" y="37893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8"/>
          <p:cNvSpPr/>
          <p:nvPr/>
        </p:nvSpPr>
        <p:spPr>
          <a:xfrm>
            <a:off x="3925440" y="1553760"/>
            <a:ext cx="461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ин. русск. монетная единиц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атар. алты-шесть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. считалось от 3-6 дене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Петра особой монеты 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чеканилось, лишь с 17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чеканить серебр. А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были скоро изъя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же удержался в наро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ятиалтынный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гривенник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0 копейкамЪ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92360" y="3141720"/>
            <a:ext cx="2950920" cy="2911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358880" y="2133720"/>
            <a:ext cx="427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разменная серебря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опробная монета в 10 ко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стала чекани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26, 72-ой пробы с 18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8-ой пробы с 1867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0-ой пробы с 188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тин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50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тина, полтинник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059280" y="4729320"/>
            <a:ext cx="3708360" cy="1877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692360" y="1413000"/>
            <a:ext cx="680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единица стоимости, выпускавшаяся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IV-XV вв. только в виде слитков и рав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е рублевого слитка – рубля. Со в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ы XV в. и до 1656 г.- счетно-денеж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ица в 50 копеек или 5 гривен. Полти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ная царем Алексеем Михайлови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45-1676) в 1654 г., весила 16-20 гр. мед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ла диаметр 45 мм. и следующее изображ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арь на коне и двуглавый ор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ушк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/4 копейки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ушка, полуденг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411280" y="4299120"/>
            <a:ext cx="4064040" cy="2097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912320" y="1341360"/>
            <a:ext cx="663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ебряная русская монета равная полови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ки или четверти новгород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стречавшаяся в Древней Руси в XV 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XVI-XVII вв. (после реформ 1534 г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денга = 1/4 копейки и весила около 0,17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00 по 1800 чеканились медные полуш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39 г. им соответствовали монеты с надпис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1/4 копейки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Копейка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Копейк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545480" y="1484280"/>
            <a:ext cx="656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серебряная монета, чеканенная с 1534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е вес равнялся весу новгородской денг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новгородки, которая после завое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города Иваном III (1462-1505) в 1478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а использоваться в Моск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Денежные единицы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рубль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2 полтин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тин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5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ятиалтынный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= 15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3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2 деньги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2 копейки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ушк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4 копейки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22" name="Picture 4" descr="penny_guy_walking_hg_clr"/>
          <p:cNvPicPr/>
          <p:nvPr/>
        </p:nvPicPr>
        <p:blipFill>
          <a:blip r:embed="rId2"/>
          <a:stretch/>
        </p:blipFill>
        <p:spPr>
          <a:xfrm>
            <a:off x="716292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Heavy"/>
              </a:rPr>
              <a:t>Используемые источники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7921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Franklin Gothic Demi"/>
                <a:hlinkClick r:id="rId2"/>
              </a:rPr>
              <a:t>http://www.b2386828.msk.ru/9/55-06.html</a:t>
            </a: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 - старинные русские деньги с изображениями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tyagusheva.edurm.ru/doc/publikazia.htm- старинные русские деньги 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www.iro.yar.ru/resource/distant/math/metrol_10.htm старинные русские деньги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34:10Z</dcterms:created>
  <dc:creator>All Users</dc:creator>
  <dc:description/>
  <dc:language>en-US</dc:language>
  <cp:lastModifiedBy>LEGION</cp:lastModifiedBy>
  <dcterms:modified xsi:type="dcterms:W3CDTF">2015-01-14T09:53:56Z</dcterms:modified>
  <cp:revision>4</cp:revision>
  <dc:subject/>
  <dc:title>Старинные русские деньги</dc:title>
</cp:coreProperties>
</file>