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gif" ContentType="image/gif"/>
  <Override PartName="/ppt/media/image8.png" ContentType="image/png"/>
  <Override PartName="/ppt/media/image11.jpeg" ContentType="image/jpeg"/>
  <Override PartName="/ppt/media/image6.png" ContentType="image/png"/>
  <Override PartName="/ppt/media/image7.png" ContentType="image/png"/>
  <Override PartName="/ppt/media/image9.png" ContentType="image/pn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move the slide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98F7CC-A635-4C66-A670-ADDFA86C79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83D4C-6D09-47CE-9540-99EFF51227D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Алтын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рин. русск. монетная единиц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татар. алты-шесть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А. считалось от 3-6 дене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 Петра особой монеты 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чеканилось, лишь с 1704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и чеканить серебр. А.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 были скоро изъяты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чет же удержался в народ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пятиалтынный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3C941-273F-43BF-8117-21A813AE1589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Ъ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разменная серебря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зкопробная монета в 10 коп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первые стала чеканитьс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26, 72-ой пробы с 1810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8-ой пробы с 1867 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00-ой пробы с 1885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EC3E1-5DE0-44C3-AD52-332DAE34AC2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тина, полтинни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единица стоимости, выпускавшаяся в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IV-XV вв. только в виде слитков и рав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е рублевого слитка – рубля. Со втор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овины XV в. и до 1656 г.- счетно-денежна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диница в 50 копеек или 5 гривен. Полти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веденная царем Алексеем Михайловичем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1645-1676) в 1654 г., весила 16-20 гр. мед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ла диаметр 45 мм. и следующее изображение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арь на коне и двуглавый оре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A8D6D-5B0F-4DC8-BDF5-0A2439C9E2CA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шка, полуде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ребряная русская монета равная половин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сковки или четверти новгородк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встречавшаяся в Древней Руси в XV 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XVI-XVII вв. (после реформ 1534 г.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денга = 1/4 копейки и весила около 0,17 гр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700 по 1800 чеканились медные полушк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839 г. им соответствовали монеты с надписью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"1/4 копейки"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56181-D14A-40A1-A02A-CF866F3F824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пей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усская серебряная монета, чеканенная с 1534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е вес равнялся весу новгородской денги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ли новгородки, которая после завоева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вгорода Иваном III (1462-1505) в 1478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ала использоваться в Москв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6DBA6-DB25-43D4-ABB7-93662B3A4E42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нежные единицы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рубль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2 полтин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тин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5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ятиалтынный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= 15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алтын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3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гривенник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0 копейкам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2 деньг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2 копейки</a:t>
            </a:r>
            <a:br>
              <a:rPr sz="1200"/>
            </a:b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полуш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= 1/4 копей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84807-EC88-41DA-BF98-330744F9239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Используемые источники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b2386828.msk.ru/9/55-06.html - старинные русские деньги с изображениям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tyagusheva.edurm.ru/doc/publikazia.htm- старинные русские деньги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http://www.iro.yar.ru/resource/distant/math/metrol_10.htm старинные русские деньг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AEFF7-7FFB-4F33-AF8D-052AC6CDBC13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E1401-B1C6-4407-BF08-EF4E43034C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029D-AE82-4578-8DD4-60BD4B03B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20096-5DD6-47CB-AB34-909B175511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DD767-1A6C-4121-9B47-4CAB7729F8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5E6B8-299F-4F96-82CF-7E278B6AF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6857-12C2-4659-BB92-8EC7D0A6C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F2CC9-8EF7-4415-A9F2-CF5B6100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19DE8-8D1A-4F30-B970-F334C6EA5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EA136-5840-42FB-8A8C-D0E8B975AF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D48E5-A473-4173-90A9-9D8342A0A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1294-BCF4-46D9-9E50-68815A9BB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A9491-4CC1-4A59-A2AF-A39BF968D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0FE4B-FC5F-497E-85F5-268FA6E69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9E2B4-9ED4-47A6-AEFC-53D4F5076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3F297-A719-4260-BD47-9186CCFE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808DD-D860-4923-BFC8-E1D8C8539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86856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213240" y="990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152388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86856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213240" y="3816720"/>
            <a:ext cx="22327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B9C31-C150-4D10-8DCF-0475DBDA6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40B41-C27F-494E-A87D-7506CF6BB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3095-D8C0-4FA5-B843-56B546FF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57D8-B14A-440C-967C-44D39DA23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91440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9A2ED-7944-4970-9B9F-BA8D0807F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F2CF9-E481-414F-9BB7-DE418EA939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77080" y="3816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AB43-A032-4D35-8DD2-2AE8EEF0E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77080" y="990720"/>
            <a:ext cx="338364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880" y="3816720"/>
            <a:ext cx="6934320" cy="258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60DD-A369-4A9B-9630-40EFC497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0" descr="orange_circle"/>
          <p:cNvPicPr/>
          <p:nvPr/>
        </p:nvPicPr>
        <p:blipFill>
          <a:blip r:embed="rId3"/>
          <a:stretch/>
        </p:blipFill>
        <p:spPr>
          <a:xfrm>
            <a:off x="7010280" y="472428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2FC9-8018-4FF5-9AB2-560AE58C507A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body"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Franklin Gothic Demi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ranklin Gothic Dem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62904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7238880" y="662904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Franklin Gothic Dem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B45D8-AE8B-41FB-9A45-15B9D5DE4C84}" type="slidenum"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b2386828.msk.ru/9/55-06.html" TargetMode="External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58920" y="386064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Heavy"/>
              </a:rPr>
              <a:t>Старинные русские деньги</a:t>
            </a:r>
            <a:endParaRPr b="0" lang="en-US" sz="28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752480" y="5157360"/>
            <a:ext cx="7391520" cy="30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2" name="Picture 4" descr="orange_circle"/>
          <p:cNvPicPr/>
          <p:nvPr/>
        </p:nvPicPr>
        <p:blipFill>
          <a:blip r:embed="rId1"/>
          <a:stretch/>
        </p:blipFill>
        <p:spPr>
          <a:xfrm>
            <a:off x="755640" y="184464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penny_guy_walking_hg_clr"/>
          <p:cNvPicPr/>
          <p:nvPr/>
        </p:nvPicPr>
        <p:blipFill>
          <a:blip r:embed="rId2"/>
          <a:stretch/>
        </p:blipFill>
        <p:spPr>
          <a:xfrm>
            <a:off x="755640" y="2060640"/>
            <a:ext cx="2819520" cy="281916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алтын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3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33912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97" name="Picture 27" descr=""/>
          <p:cNvPicPr/>
          <p:nvPr/>
        </p:nvPicPr>
        <p:blipFill>
          <a:blip r:embed="rId2"/>
          <a:stretch/>
        </p:blipFill>
        <p:spPr>
          <a:xfrm>
            <a:off x="1835280" y="378936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28"/>
          <p:cNvSpPr/>
          <p:nvPr/>
        </p:nvSpPr>
        <p:spPr>
          <a:xfrm>
            <a:off x="3925440" y="1553760"/>
            <a:ext cx="46155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рин. русск. монетная единиц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 татар. алты-шесть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А. считалось от 3-6 дене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До Петра особой монеты 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е чеканилось, лишь с 1704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и чеканить серебр. А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 были скоро изъяты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чет же удержался в народ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пятиалтынный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80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гривенник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0 копейкамЪ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1692360" y="3141720"/>
            <a:ext cx="2950920" cy="29113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5"/>
          <p:cNvSpPr/>
          <p:nvPr/>
        </p:nvSpPr>
        <p:spPr>
          <a:xfrm>
            <a:off x="4358880" y="2133720"/>
            <a:ext cx="4271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разменная серебря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изкопробная монета в 10 коп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первые стала чеканить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26, 72-ой пробы с 1810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8-ой пробы с 1867 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500-ой пробы с 1885г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1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тин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50 копейкам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тина, полтинник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59280" y="4729320"/>
            <a:ext cx="3708360" cy="187776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1692360" y="1413000"/>
            <a:ext cx="68072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единица стоимости, выпускавшаяся 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XIV-XV вв. только в виде слитков и рав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е рублевого слитка – рубля. Со втор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овины XV в. и до 1656 г.- счетно-денежна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диница в 50 копеек или 5 гривен. Полтина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веденная царем Алексеем Михайловичем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(1645-1676) в 1654 г., весила 16-20 гр. меди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мела диаметр 45 мм. и следующее изображение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царь на коне и двуглавый орел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4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Impact"/>
              </a:rPr>
              <a:t>полушка</a:t>
            </a: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 = 1/4 копейки</a:t>
            </a: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Полушка, полуденг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2" name="Picture 4" descr=""/>
          <p:cNvPicPr/>
          <p:nvPr/>
        </p:nvPicPr>
        <p:blipFill>
          <a:blip r:embed="rId1"/>
          <a:stretch/>
        </p:blipFill>
        <p:spPr>
          <a:xfrm>
            <a:off x="2411280" y="4299120"/>
            <a:ext cx="4064040" cy="20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5"/>
          <p:cNvSpPr/>
          <p:nvPr/>
        </p:nvSpPr>
        <p:spPr>
          <a:xfrm>
            <a:off x="1912320" y="1341360"/>
            <a:ext cx="66348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еребряная русская монета равная половин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сковки или четверти новгородк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 встречавшаяся в Древней Руси в XV в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 XVI-XVII вв. (после реформ 1534 г.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олуденга = 1/4 копейки и весила около 0,17 гр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700 по 1800 чеканились медные полушк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1839 г. им соответствовали монеты с надпись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"1/4 копейки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8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Impact"/>
              </a:rPr>
              <a:t>Копейка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Franklin Gothic Dem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Franklin Gothic Demi"/>
              </a:rPr>
              <a:t>Копейка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17" name="Picture 4" descr=""/>
          <p:cNvPicPr/>
          <p:nvPr/>
        </p:nvPicPr>
        <p:blipFill>
          <a:blip r:embed="rId1"/>
          <a:stretch/>
        </p:blipFill>
        <p:spPr>
          <a:xfrm>
            <a:off x="1835280" y="3357720"/>
            <a:ext cx="2952720" cy="29527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5"/>
          <p:cNvSpPr/>
          <p:nvPr/>
        </p:nvSpPr>
        <p:spPr>
          <a:xfrm>
            <a:off x="1545480" y="1484280"/>
            <a:ext cx="6569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усская серебряная монета, чеканенная с 1534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Ее вес равнялся весу новгородской денги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или новгородки, которая после завоевани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овгорода Иваном III (1462-1505) в 1478 г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тала использоваться в Москве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3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Impact"/>
              </a:rPr>
              <a:t>Денежные единицы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523880" y="990720"/>
            <a:ext cx="693432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ranklin Gothic Dem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Franklin Gothic Demi"/>
              </a:rPr>
              <a:t>     </a:t>
            </a: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рубль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2 полтин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тин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5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ятиалтынный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= 15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алтын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3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гривенник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0 копейкам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2 деньги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2 копейки</a:t>
            </a:r>
            <a:br>
              <a:rPr sz="3200"/>
            </a:br>
            <a:r>
              <a:rPr b="0" i="1" lang="ru-RU" sz="3200" spc="-1" strike="noStrike">
                <a:solidFill>
                  <a:srgbClr val="000000"/>
                </a:solidFill>
                <a:latin typeface="Franklin Gothic Demi"/>
              </a:rPr>
              <a:t>полушка</a:t>
            </a:r>
            <a:r>
              <a:rPr b="0" lang="ru-RU" sz="3200" spc="-1" strike="noStrike">
                <a:solidFill>
                  <a:srgbClr val="000000"/>
                </a:solidFill>
                <a:latin typeface="Franklin Gothic Demi"/>
              </a:rPr>
              <a:t> = 1/4 копейки</a:t>
            </a:r>
            <a:endParaRPr b="0" lang="en-US" sz="3200" spc="-1" strike="noStrike">
              <a:solidFill>
                <a:srgbClr val="000000"/>
              </a:solidFill>
              <a:latin typeface="Franklin Gothic Demi"/>
            </a:endParaRPr>
          </a:p>
        </p:txBody>
      </p:sp>
      <p:pic>
        <p:nvPicPr>
          <p:cNvPr id="122" name="Picture 4" descr="penny_guy_walking_hg_clr"/>
          <p:cNvPicPr/>
          <p:nvPr/>
        </p:nvPicPr>
        <p:blipFill>
          <a:blip r:embed="rId2"/>
          <a:stretch/>
        </p:blipFill>
        <p:spPr>
          <a:xfrm>
            <a:off x="7162920" y="50292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00000" y="907920"/>
            <a:ext cx="739152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Franklin Gothic Heavy"/>
              </a:rPr>
              <a:t>Используемые источники:</a:t>
            </a:r>
            <a:endParaRPr b="0" lang="en-US" sz="3600" spc="-1" strike="noStrike">
              <a:solidFill>
                <a:srgbClr val="ffffff"/>
              </a:solidFill>
              <a:latin typeface="Impac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826560" y="1699920"/>
            <a:ext cx="792180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ccccff"/>
                </a:solidFill>
                <a:uFillTx/>
                <a:latin typeface="Franklin Gothic Demi"/>
                <a:hlinkClick r:id="rId2"/>
              </a:rPr>
              <a:t>http://www.b2386828.msk.ru/9/55-06.html</a:t>
            </a: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 - старинные русские деньги с изображениями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tyagusheva.edurm.ru/doc/publikazia.htm- старинные русские деньги  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Franklin Gothic Demi"/>
              </a:rPr>
              <a:t>http://www.iro.yar.ru/resource/distant/math/metrol_10.htm старинные русские деньги</a:t>
            </a: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Franklin Gothic Demi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629400"/>
            <a:ext cx="2895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Franklin Gothic Demi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5T16:34:10Z</dcterms:created>
  <dc:creator>All Users</dc:creator>
  <dc:description/>
  <dc:language>en-US</dc:language>
  <cp:lastModifiedBy>LEGION</cp:lastModifiedBy>
  <dcterms:modified xsi:type="dcterms:W3CDTF">2015-01-14T09:53:56Z</dcterms:modified>
  <cp:revision>4</cp:revision>
  <dc:subject/>
  <dc:title>Старинные русские деньги</dc:title>
</cp:coreProperties>
</file>