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12.png" ContentType="image/png"/>
  <Override PartName="/ppt/media/image21.jpeg" ContentType="image/jpeg"/>
  <Override PartName="/ppt/media/image19.jpeg" ContentType="image/jpeg"/>
  <Override PartName="/ppt/media/image2.gif" ContentType="image/gif"/>
  <Override PartName="/ppt/media/image25.jpeg" ContentType="image/jpeg"/>
  <Override PartName="/ppt/media/image4.jpeg" ContentType="image/jpeg"/>
  <Override PartName="/ppt/media/image29.jpeg" ContentType="image/jpeg"/>
  <Override PartName="/ppt/media/image26.jpeg" ContentType="image/jpeg"/>
  <Override PartName="/ppt/media/image5.jpeg" ContentType="image/jpeg"/>
  <Override PartName="/ppt/media/image8.png" ContentType="image/png"/>
  <Override PartName="/ppt/media/image33.png" ContentType="image/png"/>
  <Override PartName="/ppt/media/image11.jpeg" ContentType="image/jpeg"/>
  <Override PartName="/ppt/media/image9.jpeg" ContentType="image/jpeg"/>
  <Override PartName="/ppt/media/image20.jpeg" ContentType="image/jpeg"/>
  <Override PartName="/ppt/media/image31.png" ContentType="image/png"/>
  <Override PartName="/ppt/media/image6.png" ContentType="image/png"/>
  <Override PartName="/ppt/media/image13.jpeg" ContentType="image/jpeg"/>
  <Override PartName="/ppt/media/image34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7.jpeg" ContentType="image/jpeg"/>
  <Override PartName="/ppt/media/image18.png" ContentType="image/png"/>
  <Override PartName="/ppt/media/image28.jpeg" ContentType="image/jpeg"/>
  <Override PartName="/ppt/media/image27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67D0-7DCA-4B89-922F-F79FB57001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slide" Target="../slides/slide13.xml"/><Relationship Id="rId5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slide" Target="../slides/slide16.xml"/><Relationship Id="rId6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3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32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рок истории в 6 клас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Автор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Каримова Галина Михайловн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учитель высшей категории МОУ СОШ № 11 г. Гремячинска Пермского кр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98A3-73AD-4A09-9162-A3009754B8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37C7-03DE-4943-BAEF-84944D40397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12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ый крупный из них – Киев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C120-5637-4384-9B66-FF81B2BAB1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26F91-4058-4596-9A2A-C030B5F1A7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фийский собор был построен по образцу византийског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лане храма основу составлял крест, образованный основным и  боковыми нефа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9821-1FE1-4823-913A-DC571E82DF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12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35F08-3312-41A5-8045-4F90BC116E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8E6A-07D0-43B6-ACD6-0514ED204BA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коны, как правило писались на липовой дос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Специфика иконописного письм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изображались плоским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евременное изображ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фигуры не отбрасывают тене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вечение вокруг головы в виде круга (нимб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26F5-7468-49ED-AD4B-D4E8694300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C65E-2499-4FC1-B77C-36FD8FAEE1D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Новгороде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государства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в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1052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построен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собор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Св.Соф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4390A-912B-413D-BE83-86C95514ED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975-DAC1-49F4-AC0A-2608E1228B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5DC1B-D5F7-4376-8547-EFABAE9DF99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понятие мы изучаем уже не первый раз. Давайте вспомним определение понятия «Культура». На какие виды условно его разделяют историки? Далее суммируются ответы учащихся и вывод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тся определени термина «культур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03B3-A4B0-4497-A5BA-57DD2A2FC59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8ADC4-B3C0-4A70-AD12-97BB5CC65A0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кан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(от др.-рус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а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44B7C-D727-4E2D-B82F-F0B16D777DE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A7D2-EE5C-4CFE-88D4-B39E435B34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B5C8D-2065-41AB-AD1A-C35BD18AA8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www.expressiysv.kiev.u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Georgia"/>
              </a:rPr>
              <a:t>http://ru.wikipedia.org/wik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Georgia"/>
              </a:rPr>
              <a:t>http://www.jewellerymuseum.ru/russia/russ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B1F43-BC18-4B5D-959E-223D174BAD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9BD0-1345-466C-8D96-85CE882283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у древнерусской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ультур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ставляло наследие восточных славя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B34A8-1130-4C90-BE29-04AD8D378A3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E976-6260-4349-ACB2-87E67AA7971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итывается отрывок из былины. Учащиеся называют название былины и ее главного героя. После этого демонстрируется картина «Три богатыря». Вопрос к учащимся: «Кто автор данной картины?»</a:t>
            </a: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 Устное народное творче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аждый крупный город вел свою летопис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2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Нестором,</a:t>
            </a:r>
            <a:r>
              <a:rPr b="1" lang="ru-RU" sz="12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труд </a:t>
            </a: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«Повесть Временных лет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896C5-CCFB-4C50-AC4B-DA165932F5C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210A0-1638-4E2A-804F-1DB968C9DC7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i="1" lang="ru-RU" sz="20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8059E-0A02-4BFA-8301-46AB206662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 u="sng">
                <a:solidFill>
                  <a:srgbClr val="800000"/>
                </a:solidFill>
                <a:uFillTx/>
                <a:latin typeface="Arial"/>
              </a:rPr>
              <a:t>От Гостяты к Василю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«Что мне дал отец и родичи дали впридачу, то за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0141-8067-407A-8C29-5DC4CAACF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41F6-A98D-4241-BFAC-D6D20FE6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8456-00A2-48E8-AC1A-10E2729E6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BA53-CBD0-456B-A0A4-C89CF8B06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15E0-5F8B-45AD-AB3E-9015889D9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C5371-4B75-48A2-B79D-03EB653A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2F96-ADD4-4B80-85A1-59F00D29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883B4-5174-44DF-948A-6395D8A7B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013D-8423-4CA9-A587-F61AAA56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F9FD-9E65-4225-9311-A311A0F49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D7E1-06E1-4CD6-8D14-3CF54763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E0035-4CD4-4767-860C-94BD5CAB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6798-A7D6-4392-AFFC-92D8BFB0D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1DC58-8FB5-4C89-9E78-68D4DFF89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993FD-E6A8-4931-8F71-C0412DD3A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D44D8-540A-48B5-BDF4-1F7698DCD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5B8F6-72C7-42EF-91AB-7B9E968FA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F847D-5AA3-44B8-A899-12E90148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BFE5-5655-42CA-AEDB-13B81E3DB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94A2-0BC1-41B1-94B5-F6B674732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C492F-CEA9-4CB9-BAD5-1609BCC3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9FC8-CD6A-4022-8610-99B1A201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793-A4BB-4452-A222-06278CE2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4811-A87E-4291-AF92-30B828A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30D1-2220-4C36-B9CD-6397565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4DC7-8EFA-47A1-897E-84A632173F85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4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B3B1-582A-4220-A0D2-3C4CE9460247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hyperlink" Target="http://gramoty.ru/gramoty/bb366.jpg" TargetMode="External"/><Relationship Id="rId4" Type="http://schemas.openxmlformats.org/officeDocument/2006/relationships/image" Target="../media/image13.jpeg"/><Relationship Id="rId5" Type="http://schemas.openxmlformats.org/officeDocument/2006/relationships/hyperlink" Target="http://gramoty.ru/prorisi/bb366.gif" TargetMode="External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3/39/Cathedral_of_St._Sophia%2C_the_Holy_Wisdom_of_God_in_Novgorod%2C_Russia.jpg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budetinteresno.narod.ru/images/zoloto_kubani_3_67.jpg" TargetMode="External"/><Relationship Id="rId2" Type="http://schemas.openxmlformats.org/officeDocument/2006/relationships/image" Target="../media/image28.jpeg"/><Relationship Id="rId3" Type="http://schemas.openxmlformats.org/officeDocument/2006/relationships/hyperlink" Target="http://www.jewellerynews.ru/issue_7/hystory_7_3/pic13.jpg" TargetMode="External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art.1september.ru/2003/11/no11_4.gif" TargetMode="External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b/bd/Klad_desyatinnaya.jpg" TargetMode="External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82;&#1088;&#1086;&#1089;&#1089;&#1074;&#1086;&#1088;&#1076;%20&#1082;%20&#1091;&#1088;&#1086;&#1082;&#1091;.ppt" TargetMode="External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gramoty.ru/index.php?act=full&amp;id=207" TargetMode="External"/><Relationship Id="rId2" Type="http://schemas.openxmlformats.org/officeDocument/2006/relationships/hyperlink" Target="http://gramoty.ru/index.php?no=9&amp;act=full&amp;key=bb" TargetMode="External"/><Relationship Id="rId3" Type="http://schemas.openxmlformats.org/officeDocument/2006/relationships/hyperlink" Target="http://gramoty.ru/index.php?no=366&amp;act=full&amp;key=bb" TargetMode="External"/><Relationship Id="rId4" Type="http://schemas.openxmlformats.org/officeDocument/2006/relationships/hyperlink" Target="http://www.expressiysv.kiev.ua/" TargetMode="External"/><Relationship Id="rId5" Type="http://schemas.openxmlformats.org/officeDocument/2006/relationships/hyperlink" Target="http://ru.wikipedia.org/wiki" TargetMode="External"/><Relationship Id="rId6" Type="http://schemas.openxmlformats.org/officeDocument/2006/relationships/hyperlink" Target="http://www.jewellerymuseum.ru/russia/russia.htm?id=russia_hist_1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Культура Древней</a:t>
            </a:r>
            <a:r>
              <a:rPr b="0" lang="ru-RU" sz="60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6000" spc="-1" strike="noStrike">
                <a:solidFill>
                  <a:srgbClr val="800000"/>
                </a:solidFill>
                <a:latin typeface="Georgia"/>
              </a:rPr>
              <a:t>Руси</a:t>
            </a:r>
            <a:endParaRPr b="0" lang="en-US" sz="6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09480" y="3504960"/>
            <a:ext cx="5029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Урок истории в 6 класс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Автор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Verdana"/>
              </a:rPr>
              <a:t>Каримова Галина Михайловна,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800000"/>
                </a:solidFill>
                <a:latin typeface="Verdana"/>
              </a:rPr>
              <a:t>учитель высшей категории МОУ СОШ № 11 г. Гремячинска Пермского кра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Picture 4" descr="Фото0014"/>
          <p:cNvPicPr/>
          <p:nvPr/>
        </p:nvPicPr>
        <p:blipFill>
          <a:blip r:embed="rId1"/>
          <a:stretch/>
        </p:blipFill>
        <p:spPr>
          <a:xfrm>
            <a:off x="6095880" y="4038480"/>
            <a:ext cx="2743200" cy="1941480"/>
          </a:xfrm>
          <a:prstGeom prst="rect">
            <a:avLst/>
          </a:prstGeom>
          <a:ln w="12600">
            <a:solidFill>
              <a:srgbClr val="ffcc99"/>
            </a:solidFill>
            <a:miter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9" name="Picture 9" descr="bb203"/>
          <p:cNvPicPr/>
          <p:nvPr/>
        </p:nvPicPr>
        <p:blipFill>
          <a:blip r:embed="rId1"/>
          <a:stretch/>
        </p:blipFill>
        <p:spPr>
          <a:xfrm>
            <a:off x="4724280" y="1523880"/>
            <a:ext cx="4038840" cy="22687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4" descr="онфим1"/>
          <p:cNvPicPr/>
          <p:nvPr/>
        </p:nvPicPr>
        <p:blipFill>
          <a:blip r:embed="rId2"/>
          <a:stretch/>
        </p:blipFill>
        <p:spPr>
          <a:xfrm>
            <a:off x="4648320" y="4114800"/>
            <a:ext cx="4114800" cy="22557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6" descr="Берестяная грамота №366">
            <a:hlinkClick r:id="rId3"/>
          </p:cNvPr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228600" y="1523880"/>
            <a:ext cx="4191120" cy="22860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8" descr="bb366">
            <a:hlinkClick r:id="rId5"/>
          </p:cNvPr>
          <p:cNvPicPr/>
          <p:nvPr/>
        </p:nvPicPr>
        <p:blipFill>
          <a:blip r:embed="rId6">
            <a:lum bright="-12000"/>
          </a:blip>
          <a:stretch/>
        </p:blipFill>
        <p:spPr>
          <a:xfrm>
            <a:off x="228600" y="4114800"/>
            <a:ext cx="4041720" cy="220968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Зодчество</a:t>
            </a:r>
            <a:r>
              <a:rPr b="1" i="1" lang="en-US" sz="4400" spc="-1" strike="noStrike">
                <a:solidFill>
                  <a:srgbClr val="800000"/>
                </a:solidFill>
                <a:latin typeface="Georgia"/>
              </a:rPr>
              <a:t> </a:t>
            </a: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и живопис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790960" y="1599840"/>
            <a:ext cx="3352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динавские историки называют Русь страной городов. Летописи сообщают о 24 городах в Киевской Рус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амый крупный из них – Киев.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ород киевского князя Ярослава Мудрого  окружали высокие земляные валы общей протяженностью 3,5 километра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Picture 10" descr="Рисунок8"/>
          <p:cNvPicPr/>
          <p:nvPr/>
        </p:nvPicPr>
        <p:blipFill>
          <a:blip r:embed="rId1"/>
          <a:stretch/>
        </p:blipFill>
        <p:spPr>
          <a:xfrm>
            <a:off x="533520" y="1219320"/>
            <a:ext cx="5410080" cy="510516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11"/>
          <p:cNvSpPr/>
          <p:nvPr/>
        </p:nvSpPr>
        <p:spPr>
          <a:xfrm>
            <a:off x="228600" y="6461280"/>
            <a:ext cx="556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лан Киева в середине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II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1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8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5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2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426708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Золотые ворота в Киев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800" spc="-1" strike="noStrike">
              <a:solidFill>
                <a:srgbClr val="660066"/>
              </a:solidFill>
              <a:latin typeface="Verdana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457200" y="1523880"/>
            <a:ext cx="335268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Золотые ворота были главным въездом в Киев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533520" y="1676520"/>
            <a:ext cx="39621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— мощная боевая башня с возвышавшейся над нею церковью Благовещения — вызывала восторг современников и навевала ужас на врагов своей неприступностью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Picture 15" descr="Золотые ворота"/>
          <p:cNvPicPr/>
          <p:nvPr/>
        </p:nvPicPr>
        <p:blipFill>
          <a:blip r:embed="rId1"/>
          <a:stretch/>
        </p:blipFill>
        <p:spPr>
          <a:xfrm>
            <a:off x="4495680" y="380880"/>
            <a:ext cx="4456080" cy="5486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16"/>
          <p:cNvSpPr/>
          <p:nvPr/>
        </p:nvSpPr>
        <p:spPr>
          <a:xfrm>
            <a:off x="4648320" y="5943600"/>
            <a:ext cx="4267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Arial"/>
              </a:rPr>
              <a:t>Здесь находился парадный въезд "в город Ярослава"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1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6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1" dur="1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nodeType="clickEffect" fill="hold">
                      <p:stCondLst>
                        <p:cond delay="indefinite"/>
                      </p:stCondLst>
                      <p:childTnLst>
                        <p:par>
                          <p:cTn id="5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474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Киеве.          XI век.</a:t>
            </a:r>
            <a:br>
              <a:rPr sz="3600"/>
            </a:b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фийский собор был построен по образцу византийского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лане храма основу составлял крест, образованный основным и  боковыми нефам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ый купол окружали размещенные чуть ниже четыре средних купола, за которыми еще ниже стояли восемь малых. Так однокупольный византийский храм преобразовывался в многокупольную пирамид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9" name="Picture 9" descr="2"/>
          <p:cNvPicPr/>
          <p:nvPr/>
        </p:nvPicPr>
        <p:blipFill>
          <a:blip r:embed="rId4"/>
          <a:stretch/>
        </p:blipFill>
        <p:spPr>
          <a:xfrm>
            <a:off x="4572000" y="2133720"/>
            <a:ext cx="4419720" cy="4495680"/>
          </a:xfrm>
          <a:prstGeom prst="rect">
            <a:avLst/>
          </a:prstGeom>
          <a:ln w="12600">
            <a:solidFill>
              <a:srgbClr val="999900"/>
            </a:solidFill>
            <a:miter/>
          </a:ln>
        </p:spPr>
      </p:pic>
      <p:sp>
        <p:nvSpPr>
          <p:cNvPr id="190" name="Text Box 11"/>
          <p:cNvSpPr/>
          <p:nvPr/>
        </p:nvSpPr>
        <p:spPr>
          <a:xfrm>
            <a:off x="5867280" y="1600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конструкци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3" dur="indefinite" restart="never" nodeType="tmRoot">
          <p:childTnLst>
            <p:seq>
              <p:cTn id="564" dur="indefinite" nodeType="mainSeq">
                <p:childTnLst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1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8" dur="1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83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nodeType="clickEffect" fill="hold">
                      <p:stCondLst>
                        <p:cond delay="indefinite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8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5" dur="1000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2" dur="1000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4" name="Picture 4" descr="София К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380880" y="152280"/>
            <a:ext cx="8382240" cy="60040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5"/>
          <p:cNvSpPr/>
          <p:nvPr/>
        </p:nvSpPr>
        <p:spPr>
          <a:xfrm>
            <a:off x="1447920" y="617220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офийский собор в Киеве. 1017—1037. Общий вид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Зодчество и живопись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обор Святой Софии расположен в самом центре города. Сохранились и через века дошли до нас 260 кв.м. мозаик и 3 тысячи кв.м. фресок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AutoShape 18"/>
          <p:cNvSpPr/>
          <p:nvPr/>
        </p:nvSpPr>
        <p:spPr>
          <a:xfrm>
            <a:off x="457200" y="3352680"/>
            <a:ext cx="4038480" cy="16002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AutoShape 19"/>
          <p:cNvSpPr/>
          <p:nvPr/>
        </p:nvSpPr>
        <p:spPr>
          <a:xfrm>
            <a:off x="1981080" y="4724280"/>
            <a:ext cx="3733920" cy="18288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Text Box 20"/>
          <p:cNvSpPr/>
          <p:nvPr/>
        </p:nvSpPr>
        <p:spPr>
          <a:xfrm>
            <a:off x="685800" y="35812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озаика – картина из вдавленных в сырую штукатурку стекловидных камешков (смальты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Text Box 21"/>
          <p:cNvSpPr/>
          <p:nvPr/>
        </p:nvSpPr>
        <p:spPr>
          <a:xfrm>
            <a:off x="2209680" y="510552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Фреска – картина, написанная водяными красками по сырой штукатур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Text Box 22"/>
          <p:cNvSpPr/>
          <p:nvPr/>
        </p:nvSpPr>
        <p:spPr>
          <a:xfrm>
            <a:off x="5943600" y="83808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заики Софийского собора в Киеве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4" name="Picture 25" descr="Оранта"/>
          <p:cNvPicPr/>
          <p:nvPr/>
        </p:nvPicPr>
        <p:blipFill>
          <a:blip r:embed="rId1"/>
          <a:stretch/>
        </p:blipFill>
        <p:spPr>
          <a:xfrm>
            <a:off x="6019920" y="1676520"/>
            <a:ext cx="2790720" cy="480060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1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25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nodeType="clickEffect" fill="hold">
                      <p:stCondLst>
                        <p:cond delay="indefinite"/>
                      </p:stCondLst>
                      <p:childTnLst>
                        <p:par>
                          <p:cTn id="6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nodeType="clickEffect" fill="hold">
                      <p:stCondLst>
                        <p:cond delay="indefinite"/>
                      </p:stCondLst>
                      <p:childTnLst>
                        <p:par>
                          <p:cTn id="6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4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190760" y="1447560"/>
            <a:ext cx="46479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Иконы, как правило писались на липовой доске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Специфика иконописного письма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изображались плоскими 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и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неподвижными,    использовались особая   система изображения пространства (обратная перспектива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невременное изображение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фигуры не отбрасывают теней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вечение вокруг головы в виде круга (нимб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228600" y="5715000"/>
            <a:ext cx="38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Адриан святой. Фреска Софийского собора в Киеве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4419720" y="6094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9" name="Picture 7" descr="Адриан"/>
          <p:cNvPicPr/>
          <p:nvPr/>
        </p:nvPicPr>
        <p:blipFill>
          <a:blip r:embed="rId5"/>
          <a:stretch/>
        </p:blipFill>
        <p:spPr>
          <a:xfrm>
            <a:off x="457200" y="533520"/>
            <a:ext cx="2990880" cy="488628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nodeType="clickEffect" fill="hold">
                      <p:stCondLst>
                        <p:cond delay="indefinite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nodeType="clickEffect" fill="hold">
                      <p:stCondLst>
                        <p:cond delay="indefinite"/>
                      </p:stCondLst>
                      <p:childTnLst>
                        <p:par>
                          <p:cTn id="6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1000" fill="hold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10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6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1000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2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495320" y="1447560"/>
            <a:ext cx="403884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Чтобы неукоснительно следовать канону, иконописцы пользовались в виде образцов либо древними иконами, либо иконописными подлинник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4343400" y="4038480"/>
            <a:ext cx="4648320" cy="259092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Text Box 11"/>
          <p:cNvSpPr/>
          <p:nvPr/>
        </p:nvSpPr>
        <p:spPr>
          <a:xfrm>
            <a:off x="5105520" y="4419720"/>
            <a:ext cx="32004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Канон – свод положений, норм, прави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Мог быть “лицевым” и “словесным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5" name="Picture 16" descr="мозаика"/>
          <p:cNvPicPr/>
          <p:nvPr/>
        </p:nvPicPr>
        <p:blipFill>
          <a:blip r:embed="rId1"/>
          <a:stretch/>
        </p:blipFill>
        <p:spPr>
          <a:xfrm>
            <a:off x="380880" y="685800"/>
            <a:ext cx="3733920" cy="45720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17"/>
          <p:cNvSpPr/>
          <p:nvPr/>
        </p:nvSpPr>
        <p:spPr>
          <a:xfrm>
            <a:off x="228600" y="5791320"/>
            <a:ext cx="3886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Иоанн Златоуст. Мозаика Софийского собора в Киеве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4952880" y="38088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Иконопис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7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2" dur="1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1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8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Софийский собор в Новгороде</a:t>
            </a:r>
            <a:r>
              <a:rPr b="0" lang="ru-RU" sz="40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723920" y="1905120"/>
            <a:ext cx="3962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Новгороде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расположенном на севере страны, втором по значению и величине городе Киевского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государства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, в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1052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построен </a:t>
            </a: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собор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 Св.Софи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5105520" y="1752480"/>
            <a:ext cx="403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троена София новгородская в основном из камня, и только арки порталов, и оконных проёмов выложены из кирпича, а своды в интерьере - частично из камня, частично из кирпич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2" name="Picture 12" descr="Изображение:Cathedral of St. Sophia, the Holy Wisdom of God in Novgorod, Russi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1295280"/>
            <a:ext cx="4419360" cy="434340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13"/>
          <p:cNvSpPr/>
          <p:nvPr/>
        </p:nvSpPr>
        <p:spPr>
          <a:xfrm>
            <a:off x="228600" y="5715000"/>
            <a:ext cx="4343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Г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лавный православный храм Великого Новгорода, созданный в 1045—1050</a:t>
            </a: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одах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7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62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7" dur="1000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80" dur="2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nodeType="clickEffect" fill="hold">
                      <p:stCondLst>
                        <p:cond delay="indefinite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6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495320" y="1752120"/>
            <a:ext cx="44960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поха Киевской Руси ознаменовалось расцветом художественных ремесел, среди которых видное место заняла обработка металлов, в частности ювелирное дело, центром которого стал Киев. Основы металлических изделий выполнялись техникой литья, которую использовали для создания как уникальных, так и изделий массового употребления. Для первых применяли восковую модель, для вторых – каменные формочк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Picture 7" descr="y_mon"/>
          <p:cNvPicPr/>
          <p:nvPr/>
        </p:nvPicPr>
        <p:blipFill>
          <a:blip r:embed="rId1"/>
          <a:stretch/>
        </p:blipFill>
        <p:spPr>
          <a:xfrm>
            <a:off x="380880" y="1600200"/>
            <a:ext cx="3954600" cy="4157640"/>
          </a:xfrm>
          <a:prstGeom prst="rect">
            <a:avLst/>
          </a:prstGeom>
          <a:ln w="0">
            <a:noFill/>
          </a:ln>
        </p:spPr>
      </p:pic>
      <p:sp>
        <p:nvSpPr>
          <p:cNvPr id="228" name="Text Box 8"/>
          <p:cNvSpPr/>
          <p:nvPr/>
        </p:nvSpPr>
        <p:spPr>
          <a:xfrm>
            <a:off x="152280" y="5943600"/>
            <a:ext cx="42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Гривна Владимира Мономах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0" dur="1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nodeType="clickEffect" fill="hold">
                      <p:stCondLst>
                        <p:cond delay="indefinite"/>
                      </p:stCondLst>
                      <p:childTnLst>
                        <p:par>
                          <p:cTn id="8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7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nodeType="clickEffect" fill="hold">
                      <p:stCondLst>
                        <p:cond delay="indefinite"/>
                      </p:stCondLst>
                      <p:childTnLst>
                        <p:par>
                          <p:cTn id="8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10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277560"/>
            <a:ext cx="86104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Определение культур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1447920"/>
            <a:ext cx="6019920" cy="91440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752480" y="16758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Rectangle 6"/>
          <p:cNvSpPr/>
          <p:nvPr/>
        </p:nvSpPr>
        <p:spPr>
          <a:xfrm>
            <a:off x="609480" y="2895480"/>
            <a:ext cx="2895840" cy="83844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5181480" y="2895480"/>
            <a:ext cx="2895840" cy="762120"/>
          </a:xfrm>
          <a:prstGeom prst="rect">
            <a:avLst/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838080" y="3124080"/>
            <a:ext cx="2362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838080" y="31240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материаль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5486400" y="312408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духовна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2590920" y="2362320"/>
            <a:ext cx="16761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Line 12"/>
          <p:cNvSpPr/>
          <p:nvPr/>
        </p:nvSpPr>
        <p:spPr>
          <a:xfrm>
            <a:off x="4267080" y="2362320"/>
            <a:ext cx="198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13"/>
          <p:cNvSpPr/>
          <p:nvPr/>
        </p:nvSpPr>
        <p:spPr>
          <a:xfrm>
            <a:off x="838080" y="4800600"/>
            <a:ext cx="6934320" cy="1752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15"/>
          <p:cNvSpPr/>
          <p:nvPr/>
        </p:nvSpPr>
        <p:spPr>
          <a:xfrm>
            <a:off x="1447920" y="5181480"/>
            <a:ext cx="5943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Arial"/>
              </a:rPr>
              <a:t>Система созданных человеком материальных и культурных ценностей на определенном историческом этап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3" name="Picture 16" descr="ag00029_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7848720" y="304920"/>
            <a:ext cx="1295280" cy="106668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7"/>
          <p:cNvSpPr/>
          <p:nvPr/>
        </p:nvSpPr>
        <p:spPr>
          <a:xfrm>
            <a:off x="1066680" y="3962520"/>
            <a:ext cx="60199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материаль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20000"/>
                </a:solidFill>
                <a:latin typeface="Arial"/>
              </a:rPr>
              <a:t>Что относится к духовной культуре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2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Художественное ремесло</a:t>
            </a:r>
            <a:br>
              <a:rPr sz="4000"/>
            </a:b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31" name="Picture 11" descr="2454m"/>
          <p:cNvPicPr/>
          <p:nvPr/>
        </p:nvPicPr>
        <p:blipFill>
          <a:blip r:embed="rId1"/>
          <a:stretch/>
        </p:blipFill>
        <p:spPr>
          <a:xfrm>
            <a:off x="6172200" y="1676520"/>
            <a:ext cx="2438280" cy="281916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12"/>
          <p:cNvSpPr/>
          <p:nvPr/>
        </p:nvSpPr>
        <p:spPr>
          <a:xfrm>
            <a:off x="5486400" y="4648320"/>
            <a:ext cx="3429000" cy="22096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Text Box 14"/>
          <p:cNvSpPr/>
          <p:nvPr/>
        </p:nvSpPr>
        <p:spPr>
          <a:xfrm>
            <a:off x="5791320" y="5029200"/>
            <a:ext cx="28954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Кольчуга - оборонительный доспех из продетых друг в друга железных колец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Text Box 17"/>
          <p:cNvSpPr/>
          <p:nvPr/>
        </p:nvSpPr>
        <p:spPr>
          <a:xfrm>
            <a:off x="6095880" y="99072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Воин в доспеха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Picture 19" descr="skan"/>
          <p:cNvPicPr/>
          <p:nvPr/>
        </p:nvPicPr>
        <p:blipFill>
          <a:blip r:embed="rId2"/>
          <a:stretch/>
        </p:blipFill>
        <p:spPr>
          <a:xfrm>
            <a:off x="228600" y="1752480"/>
            <a:ext cx="2381400" cy="212436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20"/>
          <p:cNvSpPr/>
          <p:nvPr/>
        </p:nvSpPr>
        <p:spPr>
          <a:xfrm>
            <a:off x="2971800" y="1523880"/>
            <a:ext cx="1981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Сережка-подвеска </a:t>
            </a:r>
            <a:br>
              <a:rPr sz="2000"/>
            </a:b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ХІ-ХІІІ ст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7" name="Picture 25" descr="Шлем Ярослава Всеволодовча"/>
          <p:cNvPicPr/>
          <p:nvPr/>
        </p:nvPicPr>
        <p:blipFill>
          <a:blip r:embed="rId3"/>
          <a:stretch/>
        </p:blipFill>
        <p:spPr>
          <a:xfrm>
            <a:off x="2819520" y="2743200"/>
            <a:ext cx="2492280" cy="3781440"/>
          </a:xfrm>
          <a:prstGeom prst="rect">
            <a:avLst/>
          </a:prstGeom>
          <a:ln w="0">
            <a:noFill/>
          </a:ln>
        </p:spPr>
      </p:pic>
      <p:sp>
        <p:nvSpPr>
          <p:cNvPr id="238" name="Text Box 26"/>
          <p:cNvSpPr/>
          <p:nvPr/>
        </p:nvSpPr>
        <p:spPr>
          <a:xfrm>
            <a:off x="228600" y="4876920"/>
            <a:ext cx="236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Шлем Ярослава Всеволодовича</a:t>
            </a:r>
            <a:r>
              <a:rPr b="0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nodeType="clickEffect" fill="hold">
                      <p:stCondLst>
                        <p:cond delay="indefinite"/>
                      </p:stCondLst>
                      <p:childTnLst>
                        <p:par>
                          <p:cTn id="8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3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nodeType="clickEffect" fill="hold">
                      <p:stCondLst>
                        <p:cond delay="indefinite"/>
                      </p:stCondLst>
                      <p:childTnLst>
                        <p:par>
                          <p:cTn id="8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0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nodeType="clickEffect" fill="hold">
                      <p:stCondLst>
                        <p:cond delay="indefinite"/>
                      </p:stCondLst>
                      <p:childTnLst>
                        <p:par>
                          <p:cTn id="8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5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6" nodeType="clickEffect" fill="hold">
                      <p:stCondLst>
                        <p:cond delay="indefinite"/>
                      </p:stCondLst>
                      <p:childTnLst>
                        <p:par>
                          <p:cTn id="8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0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9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nodeType="clickEffect" fill="hold">
                      <p:stCondLst>
                        <p:cond delay="indefinite"/>
                      </p:stCondLst>
                      <p:childTnLst>
                        <p:par>
                          <p:cTn id="8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nodeType="clickEffect" fill="hold">
                      <p:stCondLst>
                        <p:cond delay="indefinite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nodeType="clickEffect" fill="hold">
                      <p:stCondLst>
                        <p:cond delay="indefinite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Зер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053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Мелкие золотые или серебряные шарики (диам. от 0,4 мм), которые напаиваются в ювелирных изделиях на орнамент. Зернь создаёт эффектную фактуру, игру свето-тен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3" name="Picture 7" descr="Картинка 6 из 160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5334120" y="304920"/>
            <a:ext cx="3276360" cy="3581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Картинка 25 из 16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657600" y="4038480"/>
            <a:ext cx="2857680" cy="2552760"/>
          </a:xfrm>
          <a:prstGeom prst="rect">
            <a:avLst/>
          </a:prstGeom>
          <a:ln w="0">
            <a:noFill/>
          </a:ln>
        </p:spPr>
      </p:pic>
      <p:sp>
        <p:nvSpPr>
          <p:cNvPr id="245" name="Text Box 10"/>
          <p:cNvSpPr/>
          <p:nvPr/>
        </p:nvSpPr>
        <p:spPr>
          <a:xfrm>
            <a:off x="1676520" y="60199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Сережка-подвеска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Text Box 11"/>
          <p:cNvSpPr/>
          <p:nvPr/>
        </p:nvSpPr>
        <p:spPr>
          <a:xfrm>
            <a:off x="6705720" y="4495680"/>
            <a:ext cx="2438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сина, украшенная зернью</a:t>
            </a: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d58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20000"/>
                </a:solidFill>
                <a:latin typeface="Georgia"/>
              </a:rPr>
              <a:t>Скан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120" y="4572000"/>
            <a:ext cx="807732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Скан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(от др.-рус. </a:t>
            </a:r>
            <a:r>
              <a:rPr b="0" i="1" lang="ru-RU" sz="2000" spc="-1" strike="noStrike">
                <a:solidFill>
                  <a:srgbClr val="000000"/>
                </a:solidFill>
                <a:latin typeface="Verdana"/>
              </a:rPr>
              <a:t>скать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 — свивать), филигрань — вид ювелирной техники: ажурный или напаянный на металлический фон узор из тонкой золотой, серебряной или медной проволоки, гладкой или свитой в верёвочки. Изделия из скани часто дополняются зернью (маленькие серебряные или золотые шарики) и эмалью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Picture 7" descr="Картинка 12 из 622">
            <a:hlinkClick r:id="rId1"/>
          </p:cNvPr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048120" y="380880"/>
            <a:ext cx="5790960" cy="414036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9" descr="Колт. Серебро. Скань. XII в."/>
          <p:cNvPicPr/>
          <p:nvPr/>
        </p:nvPicPr>
        <p:blipFill>
          <a:blip r:embed="rId3"/>
          <a:stretch/>
        </p:blipFill>
        <p:spPr>
          <a:xfrm>
            <a:off x="380880" y="1828800"/>
            <a:ext cx="2562480" cy="2371680"/>
          </a:xfrm>
          <a:prstGeom prst="rect">
            <a:avLst/>
          </a:prstGeom>
          <a:ln w="0">
            <a:noFill/>
          </a:ln>
        </p:spPr>
      </p:pic>
      <p:sp>
        <p:nvSpPr>
          <p:cNvPr id="2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920000"/>
                </a:solidFill>
                <a:latin typeface="Georgia"/>
              </a:rPr>
              <a:t>Перегородчатая эмаль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19920" y="1599840"/>
            <a:ext cx="3124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лты с изображениями птиц по сторонам «древа жизни» и цепь-рясна из бляшек для крепления колтов. Золото. Перегородчатая эмаль. XII в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5" name="Picture 5" descr="Файл:Klad desyatinnay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80880" y="1600200"/>
            <a:ext cx="5562720" cy="4659480"/>
          </a:xfrm>
          <a:prstGeom prst="rect">
            <a:avLst/>
          </a:prstGeom>
          <a:ln w="0">
            <a:noFill/>
          </a:ln>
        </p:spPr>
      </p:pic>
      <p:sp>
        <p:nvSpPr>
          <p:cNvPr id="2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7086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Проверим себя…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58" name="Picture 3" descr="D:\Мои документы\Коллекция картинок (Microsoft)\j043316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212920" y="1981080"/>
            <a:ext cx="4797360" cy="3602160"/>
          </a:xfrm>
          <a:prstGeom prst="rect">
            <a:avLst/>
          </a:prstGeom>
          <a:ln w="0">
            <a:noFill/>
          </a:ln>
        </p:spPr>
      </p:pic>
      <p:sp>
        <p:nvSpPr>
          <p:cNvPr id="2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d852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4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Georgia"/>
              </a:rPr>
              <a:t>Ресурс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1"/>
              </a:rPr>
              <a:t>http://gramoty.ru/index.php?act=full&amp;id=20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2"/>
              </a:rPr>
              <a:t>http://gramoty.ru/index.php?no=9&amp;act=full&amp;key=b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cc00"/>
                </a:solidFill>
                <a:uFillTx/>
                <a:latin typeface="Georgia"/>
                <a:hlinkClick r:id="rId3"/>
              </a:rPr>
              <a:t>http://gramoty.ru/index.php?no=366&amp;act=full&amp;ke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http://www.bibliotekar.ru/rusNovgorod/66.ht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museum.edu.ru/catalog.asp?cat_ob_no=1217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3616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ob_no=14995&amp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Georgia"/>
              </a:rPr>
              <a:t>http://artclassic.edu.ru/catalog.asp?cat_ob_n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4"/>
              </a:rPr>
              <a:t>http://www.expressiysv.kiev.u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5"/>
              </a:rPr>
              <a:t>http://ru.wikipedia.org/wik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-305280">
              <a:lnSpc>
                <a:spcPct val="11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cc00"/>
                </a:solidFill>
                <a:uFillTx/>
                <a:latin typeface="Georgia"/>
                <a:hlinkClick r:id="rId6"/>
              </a:rPr>
              <a:t>http://www.jewellerymuseum.ru/russia/russi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52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План урока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17" name="Picture 4" descr="ag00029_"/>
          <p:cNvPicPr/>
          <p:nvPr/>
        </p:nvPicPr>
        <p:blipFill>
          <a:blip r:embed="rId1"/>
          <a:stretch/>
        </p:blipFill>
        <p:spPr>
          <a:xfrm>
            <a:off x="7620120" y="1219320"/>
            <a:ext cx="1371600" cy="1218960"/>
          </a:xfrm>
          <a:prstGeom prst="rect">
            <a:avLst/>
          </a:prstGeom>
          <a:ln w="0">
            <a:noFill/>
          </a:ln>
        </p:spPr>
      </p:pic>
      <p:sp>
        <p:nvSpPr>
          <p:cNvPr id="118" name="Documents"/>
          <p:cNvSpPr/>
          <p:nvPr/>
        </p:nvSpPr>
        <p:spPr>
          <a:xfrm>
            <a:off x="838080" y="1523880"/>
            <a:ext cx="6858000" cy="5334120"/>
          </a:xfrm>
          <a:custGeom>
            <a:avLst/>
            <a:gdLst>
              <a:gd name="textAreaLeft" fmla="*/ 522000 w 6858000"/>
              <a:gd name="textAreaRight" fmla="*/ 5245920 w 6858000"/>
              <a:gd name="textAreaTop" fmla="*/ 1029960 h 5334120"/>
              <a:gd name="textAreaBottom" fmla="*/ 4275720 h 533412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1219320" y="2133720"/>
            <a:ext cx="487656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Особенности культуры Древней Руси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Устное народное творчеств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 Письменность и грамотност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 Литература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 Зодчество и живопись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. Художественное ремесло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6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Особенности культуры Древней Руси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Основу древнерусской </a:t>
            </a:r>
            <a:r>
              <a:rPr b="1" i="1" lang="ru-RU" sz="1800" spc="-1" strike="noStrike">
                <a:solidFill>
                  <a:srgbClr val="000000"/>
                </a:solidFill>
                <a:latin typeface="Verdana"/>
              </a:rPr>
              <a:t>культуры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ставляло наследие восточных славян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Древнерусская культура впитывала в себя культурные достижения проживавших в составе Руси и окружающих ее народов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ольшое влияние на русскую культуру оказала Византия, особенно после принятия христианства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Создавая свои творения, древнерусские мастера не стали слепо подражать своим византийским учителям. они стремились отразить в них думы и чаяния русского народа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1523880" y="4721400"/>
            <a:ext cx="6553440" cy="1700280"/>
          </a:xfrm>
          <a:prstGeom prst="rect">
            <a:avLst/>
          </a:prstGeom>
          <a:solidFill>
            <a:srgbClr val="e7d091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лавным мотивом древнерусского искусства был </a:t>
            </a:r>
            <a:r>
              <a:rPr b="1" i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патриотизм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призыв к объединению народных сил против внешних враго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1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5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2" dur="1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Устное народное творчество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Picture 9" descr="bogatyri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33520" y="4040280"/>
            <a:ext cx="3314520" cy="2060640"/>
          </a:xfrm>
          <a:prstGeom prst="rect">
            <a:avLst/>
          </a:prstGeom>
          <a:ln w="0">
            <a:noFill/>
          </a:ln>
        </p:spPr>
      </p:pic>
      <p:sp>
        <p:nvSpPr>
          <p:cNvPr id="128" name="AutoShape 10"/>
          <p:cNvSpPr/>
          <p:nvPr/>
        </p:nvSpPr>
        <p:spPr>
          <a:xfrm>
            <a:off x="609480" y="2133720"/>
            <a:ext cx="1905120" cy="53316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1066680" y="2209680"/>
            <a:ext cx="1219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Песн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AutoShape 13"/>
          <p:cNvSpPr/>
          <p:nvPr/>
        </p:nvSpPr>
        <p:spPr>
          <a:xfrm>
            <a:off x="1371600" y="2666880"/>
            <a:ext cx="2209680" cy="60984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Text Box 14"/>
          <p:cNvSpPr/>
          <p:nvPr/>
        </p:nvSpPr>
        <p:spPr>
          <a:xfrm>
            <a:off x="1905120" y="2816640"/>
            <a:ext cx="13716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Былины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AutoShape 15"/>
          <p:cNvSpPr/>
          <p:nvPr/>
        </p:nvSpPr>
        <p:spPr>
          <a:xfrm>
            <a:off x="1981080" y="3276720"/>
            <a:ext cx="2210040" cy="60948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2514600" y="3429000"/>
            <a:ext cx="1523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Сказания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Rectangle 18"/>
          <p:cNvSpPr/>
          <p:nvPr/>
        </p:nvSpPr>
        <p:spPr>
          <a:xfrm>
            <a:off x="4419720" y="1368720"/>
            <a:ext cx="449568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ли то из города из Мурома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того села да Карачарова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ыезжал удаленький дородный добрый молодец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н стоял заутреню во Муроме,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к обеденке поспеть хотел он в стольный Киев-град.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й подъехал он ко славному ко городу к Чернигову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 того ли города Чернигова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гнано-то силушки черным-черно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й черным-черно, как черна ворона.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ак пехотою никто тут не проха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добром коне никто тут не проезжи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тица черный ворон не пролётыват, 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ерый зверь да не прорыскиват.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1"/>
          <p:cNvSpPr/>
          <p:nvPr/>
        </p:nvSpPr>
        <p:spPr>
          <a:xfrm>
            <a:off x="304920" y="632448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. Васнецов. Три богатыря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Text Box 22"/>
          <p:cNvSpPr/>
          <p:nvPr/>
        </p:nvSpPr>
        <p:spPr>
          <a:xfrm>
            <a:off x="228600" y="1371600"/>
            <a:ext cx="350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20000"/>
                </a:solidFill>
                <a:latin typeface="Arial"/>
              </a:rPr>
              <a:t>Что мы подразумеваем под термином УНТ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23"/>
          <p:cNvSpPr/>
          <p:nvPr/>
        </p:nvSpPr>
        <p:spPr>
          <a:xfrm>
            <a:off x="4876920" y="640080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20000"/>
                </a:solidFill>
                <a:latin typeface="Arial"/>
              </a:rPr>
              <a:t>Вы узнали отрывок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3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1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800000"/>
                </a:solidFill>
                <a:latin typeface="Georgia"/>
              </a:rPr>
              <a:t>Летописание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666520" y="1523520"/>
            <a:ext cx="350532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Каждый крупный город вел свою летопись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Вражда между князьями приводила к тому, что в летописях искажались отдельные события. Огромную роль для нашей истории сыграл, написанный в н.12 в. монахом</a:t>
            </a:r>
            <a:r>
              <a:rPr b="1" lang="ru-RU" sz="1800" spc="-1" strike="noStrike">
                <a:solidFill>
                  <a:srgbClr val="000066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800000"/>
                </a:solidFill>
                <a:latin typeface="Verdana"/>
              </a:rPr>
              <a:t>Нестором,</a:t>
            </a:r>
            <a:r>
              <a:rPr b="1" lang="ru-RU" sz="1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труд </a:t>
            </a:r>
            <a:r>
              <a:rPr b="1" i="1" lang="ru-RU" sz="1800" spc="-1" strike="noStrike" u="sng">
                <a:solidFill>
                  <a:srgbClr val="800000"/>
                </a:solidFill>
                <a:uFillTx/>
                <a:latin typeface="Verdana"/>
              </a:rPr>
              <a:t>«Повесть Временных лет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1" name="Picture 8" descr="Рисунок2"/>
          <p:cNvPicPr/>
          <p:nvPr/>
        </p:nvPicPr>
        <p:blipFill>
          <a:blip r:embed="rId1"/>
          <a:stretch/>
        </p:blipFill>
        <p:spPr>
          <a:xfrm>
            <a:off x="380880" y="1371600"/>
            <a:ext cx="2210040" cy="43434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9"/>
          <p:cNvSpPr/>
          <p:nvPr/>
        </p:nvSpPr>
        <p:spPr>
          <a:xfrm>
            <a:off x="152280" y="579132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ица из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етопис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3" name="Picture 10" descr="Рисунок2"/>
          <p:cNvPicPr/>
          <p:nvPr/>
        </p:nvPicPr>
        <p:blipFill>
          <a:blip r:embed="rId2"/>
          <a:stretch/>
        </p:blipFill>
        <p:spPr>
          <a:xfrm>
            <a:off x="6324480" y="609480"/>
            <a:ext cx="2613240" cy="4572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11"/>
          <p:cNvSpPr/>
          <p:nvPr/>
        </p:nvSpPr>
        <p:spPr>
          <a:xfrm>
            <a:off x="6553080" y="525780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стор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AutoShape 12"/>
          <p:cNvSpPr/>
          <p:nvPr/>
        </p:nvSpPr>
        <p:spPr>
          <a:xfrm>
            <a:off x="3048120" y="5486400"/>
            <a:ext cx="3581280" cy="13716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3276720" y="58672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Летопись – погодная запись событий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8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5" dur="10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9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6" dur="1000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4" descr="untitled"/>
          <p:cNvPicPr/>
          <p:nvPr/>
        </p:nvPicPr>
        <p:blipFill>
          <a:blip r:embed="rId1"/>
          <a:stretch/>
        </p:blipFill>
        <p:spPr>
          <a:xfrm>
            <a:off x="380880" y="1752480"/>
            <a:ext cx="5029200" cy="43434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4952880" cy="141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5486400" y="228600"/>
            <a:ext cx="32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исьменность у восточных славян зародилась до принятия христианства. Славянскую азбуку создали византийские монахи Кирилл и Мефодий. При церквях и монастырях были открыты школы. Появляются первые рукописные книг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28600" y="6324480"/>
            <a:ext cx="441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фавиты кириллица и глаголиц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2" name="Picture 12" descr="Рисунок1"/>
          <p:cNvPicPr/>
          <p:nvPr/>
        </p:nvPicPr>
        <p:blipFill>
          <a:blip r:embed="rId2"/>
          <a:stretch/>
        </p:blipFill>
        <p:spPr>
          <a:xfrm>
            <a:off x="5715000" y="3962520"/>
            <a:ext cx="2971800" cy="20574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13"/>
          <p:cNvSpPr/>
          <p:nvPr/>
        </p:nvSpPr>
        <p:spPr>
          <a:xfrm>
            <a:off x="5334120" y="62164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иниатюра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з рукописной книги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2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6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i="1" lang="ru-RU" sz="3600" spc="-1" strike="noStrike">
                <a:solidFill>
                  <a:srgbClr val="800000"/>
                </a:solidFill>
                <a:latin typeface="Georgia"/>
              </a:rPr>
              <a:t>Письменность и грамотность</a:t>
            </a:r>
            <a:endParaRPr b="0" lang="en-US" sz="36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1920" y="1371240"/>
            <a:ext cx="43434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Грамотность была распространена не только среди феодалов, но и среди горожан. Об этом говорят многочисленные берестяные грамоты, а также надписи-граффити на стенах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Picture 7" descr="граффити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5181480" y="1600200"/>
            <a:ext cx="3624480" cy="45259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8"/>
          <p:cNvSpPr/>
          <p:nvPr/>
        </p:nvSpPr>
        <p:spPr>
          <a:xfrm>
            <a:off x="5486400" y="6248520"/>
            <a:ext cx="312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раффити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AutoShape 9"/>
          <p:cNvSpPr/>
          <p:nvPr/>
        </p:nvSpPr>
        <p:spPr>
          <a:xfrm>
            <a:off x="533520" y="4343400"/>
            <a:ext cx="4267080" cy="2286000"/>
          </a:xfrm>
          <a:prstGeom prst="horizontalScroll">
            <a:avLst>
              <a:gd name="adj" fmla="val 12500"/>
            </a:avLst>
          </a:prstGeom>
          <a:solidFill>
            <a:srgbClr val="e7d0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838080" y="49528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Arial"/>
              </a:rPr>
              <a:t>Граффити – древние надписи бытового характера, рисунки, нацарапанные на стенах зданий и пр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10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3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2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800000"/>
                </a:solidFill>
                <a:latin typeface="Georgia"/>
              </a:rPr>
              <a:t>Берестяные грамоты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 u="sng">
                <a:solidFill>
                  <a:srgbClr val="800000"/>
                </a:solidFill>
                <a:uFillTx/>
                <a:latin typeface="Verdana"/>
              </a:rPr>
              <a:t>От Гостяты к Василю.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«Что мне дал отец и родичи дали впридачу, то за ни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А теперь, женясь на новой жене, мне он не дает ничего. Ударив по рукам (в знак новой помолвки), он меня прогнал, а другую взял в жены. Приезжай, сделай милость»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4" name="Picture 11" descr="untitled-2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4648320" y="1523880"/>
            <a:ext cx="4038480" cy="2286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2" descr="untitled-3"/>
          <p:cNvPicPr/>
          <p:nvPr/>
        </p:nvPicPr>
        <p:blipFill>
          <a:blip r:embed="rId2">
            <a:lum bright="-18000"/>
          </a:blip>
          <a:stretch/>
        </p:blipFill>
        <p:spPr>
          <a:xfrm>
            <a:off x="4648320" y="4351320"/>
            <a:ext cx="4038480" cy="1973160"/>
          </a:xfrm>
          <a:prstGeom prst="rect">
            <a:avLst/>
          </a:prstGeom>
          <a:ln w="0">
            <a:noFill/>
          </a:ln>
        </p:spPr>
      </p:pic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5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6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1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8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5" dur="1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2" dur="1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Каримова Галина Михайловна</dc:creator>
  <dc:description/>
  <dc:language>en-US</dc:language>
  <cp:lastModifiedBy>LEGION</cp:lastModifiedBy>
  <dcterms:modified xsi:type="dcterms:W3CDTF">2015-01-14T10:01:52Z</dcterms:modified>
  <cp:revision>35</cp:revision>
  <dc:subject>Культура Киевской Руси</dc:subject>
  <dc:title>Культура Киевской Рус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