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.gif" ContentType="image/gif"/>
  <Override PartName="/ppt/media/image25.jpeg" ContentType="image/jpeg"/>
  <Override PartName="/ppt/media/image4.jpeg" ContentType="image/jpeg"/>
  <Override PartName="/ppt/media/image29.jpeg" ContentType="image/jpeg"/>
  <Override PartName="/ppt/media/image26.jpeg" ContentType="image/jpeg"/>
  <Override PartName="/ppt/media/image5.jpeg" ContentType="image/jpeg"/>
  <Override PartName="/ppt/media/image8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8B10-F7BB-486F-99B7-7580C76BEB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" Target="../slides/slide16.xml"/><Relationship Id="rId6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hyperlink" Target="http://gramoty.ru/index.php?act=full&amp;id=207" TargetMode="External"/><Relationship Id="rId2" Type="http://schemas.openxmlformats.org/officeDocument/2006/relationships/hyperlink" Target="http://gramoty.ru/index.php?no=9&amp;act=full&amp;key=bb" TargetMode="External"/><Relationship Id="rId3" Type="http://schemas.openxmlformats.org/officeDocument/2006/relationships/hyperlink" Target="http://gramoty.ru/index.php?no=366&amp;act=full&amp;key=bb" TargetMode="External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к истории в 6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Каримова Галина Михайл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учитель высшей категории МОУ СОШ № 11 г. Гремячинска Перм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5C1A-046E-4ADD-BCA9-DDFCA1CA3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AD90-96DC-4DF7-94AE-7D6D9E7047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1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ый крупный из них – Кие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1F5F-E3C1-4167-B060-E400B03472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186A-80A2-445C-89AA-E0E7E24DDB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йский собор был построен по образцу византий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лане храма основу составлял крест, образованный основным и  боковыми неф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2461-6FCF-43F5-99BE-E95C0CA609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57E7-C15A-4A47-8715-26DD4213E5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B19A-F70B-4A1E-9737-82F75E090E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оны, как правило писались на липовой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Специфика иконописного пись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гуры изображались плоски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временное изображ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гуры не отбрасывают тен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чение вокруг головы в виде круга (нимб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B95D-6F1F-4346-A8A4-21586EA151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28BF-D13E-4F9C-AB54-DD53C03AC3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овгород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осударств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5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роен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б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в.Со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4145-DE35-4F33-88DB-8AE0E37CFF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6C85-D800-43D8-B33C-CD21DB2E21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4188-010C-4268-AB30-159818B377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понятие мы изучаем уже не первый раз. Давайте вспомним определение понятия «Культура». На какие виды условно его разделяют историки? Далее суммируются ответы учащихся и вывод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ся определени термина «культур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C492-A123-4A4B-84CF-CBCBCBDCAB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BCA7-D91E-4D86-8820-F739DEFB1E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 др.-рус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4AFB-8723-4DAB-941A-FDF7411B43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8351-D617-4746-8C39-BA81D6D608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4E2B-F698-427B-A386-974507190B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Georgia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://gramoty.ru/index.php?act=full&amp;id=2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gramoty.ru/index.php?no=9&amp;act=full&amp;key=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  <a:hlinkClick r:id="rId3"/>
              </a:rPr>
              <a:t>http://gramoty.ru/index.php?no=366&amp;act=full&amp;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http://www.bibliotekar.ru/rusNovgorod/66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museum.edu.ru/catalog.asp?cat_ob_no=12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3616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www.expressiysv.kiev.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eorgia"/>
              </a:rPr>
              <a:t>http://www.jewellerymuseum.ru/russia/russ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E541-34D2-4299-A568-CDE8BB7F8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A276-8C35-4A4E-B48B-AD32C9922E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у древнерусской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ультур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ляло наследие восточных славя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A590-63AF-4265-BAAF-F99EEEE7A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C8BB-28CA-4540-9BBF-0492D4C4D3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итывается отрывок из былины. Учащиеся называют название былины и ее главного героя. После этого демонстрируется картина «Три богатыря». Вопрос к учащимся: «Кто автор данной картины?»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 Устное народное твор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крупный город вел свою лето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Нестором,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 </a:t>
            </a:r>
            <a:r>
              <a:rPr b="1" i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«Повесть Временных ле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EF4A-3106-46C7-A55A-AA29DB2B73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055C-DBA6-43D2-8462-EA09F6C31A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B3DA-E259-4151-9791-B4A3186E6C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От Гостяты к Василю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Что мне дал отец и родичи дали впридачу, то за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2010-BDD6-4209-9474-376A2297C7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C50-269A-4613-86A9-0EC4C304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E34-2676-437A-AB64-FF81FDCF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D51B-5781-4797-8608-79F67C73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7A8-1CFF-41CA-98C6-FB69750A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590C-6210-4D76-BC77-BC26B395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1803-6C38-4A66-8981-96C95196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7348-6365-45ED-8DD0-DCEEE06B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23DC-F868-43D7-A6D3-60FD78BC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C5BF-6268-413E-89BD-0756F01A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F78B-C3C2-4AC5-BD3D-E9C7D72C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043E-5FAA-48A8-A522-E2C48D53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CA7-EF57-4ECF-A9A0-9989E394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09BE-2820-4AE0-B57B-3FFFF1F3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A0CE-1CCF-477C-BC44-F731D929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B778-115E-4888-A44D-FA1C183F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6F6E-708A-4AD0-9021-E0D7A3A9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CF23-4C0A-403C-A858-B834240C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FB5-5FB1-4546-85FA-7D9E921E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E4C-B3F2-475D-8927-88072F53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3DF-E92D-48D2-B906-891E16EC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330-5A9D-4DF9-9314-1D1108BC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F03C-CF3C-4BD2-A985-A09B02C7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14A-D2DA-4FB5-BF03-BC7C9230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0AE-145F-43B9-AB50-3517B8A6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7C0E-A389-4FC8-97F7-6B83BA395F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F3E1-1061-4E08-A3A0-6DAAF3A54A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gramoty.ru/gramoty/bb366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gramoty.ru/prorisi/bb366.gif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Cathedral_of_St._Sophia%2C_the_Holy_Wisdom_of_God_in_Novgorod%2C_Russia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udetinteresno.narod.ru/images/zoloto_kubani_3_67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jewellerynews.ru/issue_7/hystory_7_3/pic13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rt.1september.ru/2003/11/no11_4.gif" TargetMode="External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d/Klad_desyatinnaya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82;&#1088;&#1086;&#1089;&#1089;&#1074;&#1086;&#1088;&#1076;%20&#1082;%20&#1091;&#1088;&#1086;&#1082;&#1091;.ppt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gramoty.ru/index.php?act=full&amp;id=207" TargetMode="External"/><Relationship Id="rId2" Type="http://schemas.openxmlformats.org/officeDocument/2006/relationships/hyperlink" Target="http://gramoty.ru/index.php?no=9&amp;act=full&amp;key=bb" TargetMode="External"/><Relationship Id="rId3" Type="http://schemas.openxmlformats.org/officeDocument/2006/relationships/hyperlink" Target="http://gramoty.ru/index.php?no=366&amp;act=full&amp;key=bb" TargetMode="External"/><Relationship Id="rId4" Type="http://schemas.openxmlformats.org/officeDocument/2006/relationships/hyperlink" Target="http://www.expressiysv.kiev.ua/" TargetMode="External"/><Relationship Id="rId5" Type="http://schemas.openxmlformats.org/officeDocument/2006/relationships/hyperlink" Target="http://ru.wikipedia.org/wiki" TargetMode="External"/><Relationship Id="rId6" Type="http://schemas.openxmlformats.org/officeDocument/2006/relationships/hyperlink" Target="http://www.jewellerymuseum.ru/russia/russia.htm?id=russia_hist_1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60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35049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Урок истории в 6 класс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800000"/>
                </a:solidFill>
                <a:latin typeface="Verdana"/>
              </a:rPr>
              <a:t>Каримова Галина Михайловна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учитель высшей категории МОУ СОШ № 11 г. Гремячинска Пермского кр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Фото0014"/>
          <p:cNvPicPr/>
          <p:nvPr/>
        </p:nvPicPr>
        <p:blipFill>
          <a:blip r:embed="rId1"/>
          <a:stretch/>
        </p:blipFill>
        <p:spPr>
          <a:xfrm>
            <a:off x="6095880" y="4038480"/>
            <a:ext cx="2743200" cy="1941480"/>
          </a:xfrm>
          <a:prstGeom prst="rect">
            <a:avLst/>
          </a:prstGeom>
          <a:ln w="12600">
            <a:solidFill>
              <a:srgbClr val="ffcc99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9" descr="bb203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26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онфим1"/>
          <p:cNvPicPr/>
          <p:nvPr/>
        </p:nvPicPr>
        <p:blipFill>
          <a:blip r:embed="rId2"/>
          <a:stretch/>
        </p:blipFill>
        <p:spPr>
          <a:xfrm>
            <a:off x="4648320" y="4114800"/>
            <a:ext cx="4114800" cy="2255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Берестяная грамота №366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28600" y="15238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bb366">
            <a:hlinkClick r:id="rId5"/>
          </p:cNvPr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28600" y="4114800"/>
            <a:ext cx="4041720" cy="220968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44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амый крупный из них – Киев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10" descr="Рисунок8"/>
          <p:cNvPicPr/>
          <p:nvPr/>
        </p:nvPicPr>
        <p:blipFill>
          <a:blip r:embed="rId1"/>
          <a:stretch/>
        </p:blipFill>
        <p:spPr>
          <a:xfrm>
            <a:off x="533520" y="1219320"/>
            <a:ext cx="541008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228600" y="6461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Киева в серед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42670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57200" y="15238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ые ворота были главным въездом в Кие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33520" y="1676520"/>
            <a:ext cx="396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15" descr="Золотые ворота"/>
          <p:cNvPicPr/>
          <p:nvPr/>
        </p:nvPicPr>
        <p:blipFill>
          <a:blip r:embed="rId1"/>
          <a:stretch/>
        </p:blipFill>
        <p:spPr>
          <a:xfrm>
            <a:off x="4495680" y="380880"/>
            <a:ext cx="4456080" cy="5486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6"/>
          <p:cNvSpPr/>
          <p:nvPr/>
        </p:nvSpPr>
        <p:spPr>
          <a:xfrm>
            <a:off x="46483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Здесь находился парадный въезд "в город Ярослава"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фийский собор был построен по образцу византийск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лане храма основу составлял крест, образованный основным и  боковыми неф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9" descr="2"/>
          <p:cNvPicPr/>
          <p:nvPr/>
        </p:nvPicPr>
        <p:blipFill>
          <a:blip r:embed="rId4"/>
          <a:stretch/>
        </p:blipFill>
        <p:spPr>
          <a:xfrm>
            <a:off x="4572000" y="2133720"/>
            <a:ext cx="4419720" cy="4495680"/>
          </a:xfrm>
          <a:prstGeom prst="rect">
            <a:avLst/>
          </a:prstGeom>
          <a:ln w="12600">
            <a:solidFill>
              <a:srgbClr val="999900"/>
            </a:solidFill>
            <a:miter/>
          </a:ln>
        </p:spPr>
      </p:pic>
      <p:sp>
        <p:nvSpPr>
          <p:cNvPr id="190" name="Text Box 11"/>
          <p:cNvSpPr/>
          <p:nvPr/>
        </p:nvSpPr>
        <p:spPr>
          <a:xfrm>
            <a:off x="5867280" y="16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София К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380880" y="152280"/>
            <a:ext cx="8382240" cy="6004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447920" y="6172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457200" y="3352680"/>
            <a:ext cx="4038480" cy="16002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AutoShape 19"/>
          <p:cNvSpPr/>
          <p:nvPr/>
        </p:nvSpPr>
        <p:spPr>
          <a:xfrm>
            <a:off x="1981080" y="4724280"/>
            <a:ext cx="3733920" cy="18288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685800" y="35812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озаика – картина из вдавленных в сырую штукатурку стекловидных камешков (смаль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209680" y="51055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Фреска – картина, написанная водяными красками по сырой штукатур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5943600" y="8380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Мозаики Софийского собора в Киев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25" descr="Оранта"/>
          <p:cNvPicPr/>
          <p:nvPr/>
        </p:nvPicPr>
        <p:blipFill>
          <a:blip r:embed="rId1"/>
          <a:stretch/>
        </p:blipFill>
        <p:spPr>
          <a:xfrm>
            <a:off x="6019920" y="1676520"/>
            <a:ext cx="2790720" cy="48006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190760" y="144756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коны, как правило писались на липовой дос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Специфика иконописного письм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изображались плоским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евременное изображени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не отбрасывают тен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ечение вокруг головы в виде круга (нимб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28600" y="571500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Адриан святой. Фреска Софийского собора в Киеве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441972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Адриан"/>
          <p:cNvPicPr/>
          <p:nvPr/>
        </p:nvPicPr>
        <p:blipFill>
          <a:blip r:embed="rId5"/>
          <a:stretch/>
        </p:blipFill>
        <p:spPr>
          <a:xfrm>
            <a:off x="457200" y="533520"/>
            <a:ext cx="2990880" cy="48862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4343400" y="4038480"/>
            <a:ext cx="4648320" cy="259092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5105520" y="4419720"/>
            <a:ext cx="3200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анон – свод положений, норм, прав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Мог быть “лицевым” и “словесным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16" descr="мозаика"/>
          <p:cNvPicPr/>
          <p:nvPr/>
        </p:nvPicPr>
        <p:blipFill>
          <a:blip r:embed="rId1"/>
          <a:stretch/>
        </p:blipFill>
        <p:spPr>
          <a:xfrm>
            <a:off x="380880" y="685800"/>
            <a:ext cx="373392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7"/>
          <p:cNvSpPr/>
          <p:nvPr/>
        </p:nvSpPr>
        <p:spPr>
          <a:xfrm>
            <a:off x="228600" y="57913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оанн Златоуст. Мозаика Софийского собора в Кие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4952880" y="380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вгород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государств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1052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построен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обор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Св.Соф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105520" y="1752480"/>
            <a:ext cx="403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троена София новгородская в основном из камня, и только арки порталов, и оконных проёмов выложены из кирпича, а своды в интерьере - частично из камня, частично из кирпи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12" descr="Изображение:Cathedral of St. Sophia, the Holy Wisdom of God in Novgorod, Russ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4419360" cy="43434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3"/>
          <p:cNvSpPr/>
          <p:nvPr/>
        </p:nvSpPr>
        <p:spPr>
          <a:xfrm>
            <a:off x="228600" y="57150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авный православный храм Великого Новгорода, созданный в 1045—105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ода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95320" y="175212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7" descr="y_mon"/>
          <p:cNvPicPr/>
          <p:nvPr/>
        </p:nvPicPr>
        <p:blipFill>
          <a:blip r:embed="rId1"/>
          <a:stretch/>
        </p:blipFill>
        <p:spPr>
          <a:xfrm>
            <a:off x="380880" y="1600200"/>
            <a:ext cx="3954600" cy="4157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152280" y="59436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ривна Владимира Мономах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104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1447920"/>
            <a:ext cx="6019920" cy="91440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752480" y="16758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уль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09480" y="2895480"/>
            <a:ext cx="2895840" cy="83844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181480" y="2895480"/>
            <a:ext cx="2895840" cy="76212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838080" y="312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8380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48640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ухов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2590920" y="236232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267080" y="236232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838080" y="4800600"/>
            <a:ext cx="6934320" cy="1752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47920" y="5181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истема созданных человеком материальных и культурных ценностей на определенном историческом этап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6" descr="ag00029_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848720" y="30492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7"/>
          <p:cNvSpPr/>
          <p:nvPr/>
        </p:nvSpPr>
        <p:spPr>
          <a:xfrm>
            <a:off x="1066680" y="3962520"/>
            <a:ext cx="6019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материаль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духов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31" name="Picture 11" descr="2454m"/>
          <p:cNvPicPr/>
          <p:nvPr/>
        </p:nvPicPr>
        <p:blipFill>
          <a:blip r:embed="rId1"/>
          <a:stretch/>
        </p:blipFill>
        <p:spPr>
          <a:xfrm>
            <a:off x="6172200" y="16765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2"/>
          <p:cNvSpPr/>
          <p:nvPr/>
        </p:nvSpPr>
        <p:spPr>
          <a:xfrm>
            <a:off x="5486400" y="4648320"/>
            <a:ext cx="3429000" cy="22096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5791320" y="5029200"/>
            <a:ext cx="2895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льчуга - оборонительный доспех из продетых друг в друга железных колец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6095880" y="990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оин в доспех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9" descr="skan"/>
          <p:cNvPicPr/>
          <p:nvPr/>
        </p:nvPicPr>
        <p:blipFill>
          <a:blip r:embed="rId2"/>
          <a:stretch/>
        </p:blipFill>
        <p:spPr>
          <a:xfrm>
            <a:off x="228600" y="1752480"/>
            <a:ext cx="2381400" cy="21243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0"/>
          <p:cNvSpPr/>
          <p:nvPr/>
        </p:nvSpPr>
        <p:spPr>
          <a:xfrm>
            <a:off x="2971800" y="152388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ережка-подвеска 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І-ХІІІ с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5" descr="Шлем Ярослава Всеволодовча"/>
          <p:cNvPicPr/>
          <p:nvPr/>
        </p:nvPicPr>
        <p:blipFill>
          <a:blip r:embed="rId3"/>
          <a:stretch/>
        </p:blipFill>
        <p:spPr>
          <a:xfrm>
            <a:off x="2819520" y="2743200"/>
            <a:ext cx="2492280" cy="37814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6"/>
          <p:cNvSpPr/>
          <p:nvPr/>
        </p:nvSpPr>
        <p:spPr>
          <a:xfrm>
            <a:off x="228600" y="4876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Шлем Ярослава Всеволодович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7" descr="Картинка 6 из 160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334120" y="304920"/>
            <a:ext cx="3276360" cy="358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Картинка 25 из 1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4038480"/>
            <a:ext cx="2857680" cy="25527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"/>
          <p:cNvSpPr/>
          <p:nvPr/>
        </p:nvSpPr>
        <p:spPr>
          <a:xfrm>
            <a:off x="1676520" y="6019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ережка-подвес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6705720" y="44956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усина, украшенная зернью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4572000"/>
            <a:ext cx="80773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др.-рус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к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7" descr="Картинка 12 из 622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048120" y="380880"/>
            <a:ext cx="5790960" cy="414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Колт. Серебро. Скань. XII в."/>
          <p:cNvPicPr/>
          <p:nvPr/>
        </p:nvPicPr>
        <p:blipFill>
          <a:blip r:embed="rId3"/>
          <a:stretch/>
        </p:blipFill>
        <p:spPr>
          <a:xfrm>
            <a:off x="380880" y="1828800"/>
            <a:ext cx="2562480" cy="23716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Файл:Klad desyatinna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5562720" cy="4659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086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8" name="Picture 3" descr="D:\Мои документы\Коллекция картинок (Microsoft)\j043316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12920" y="1981080"/>
            <a:ext cx="4797360" cy="36021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Ресурс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eorgia"/>
                <a:hlinkClick r:id="rId1"/>
              </a:rPr>
              <a:t>http://gramoty.ru/index.php?act=full&amp;id=2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2"/>
              </a:rPr>
              <a:t>http://gramoty.ru/index.php?no=9&amp;act=full&amp;key=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eorgia"/>
                <a:hlinkClick r:id="rId3"/>
              </a:rPr>
              <a:t>http://gramoty.ru/index.php?no=366&amp;act=full&amp;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http://www.bibliotekar.ru/rusNovgorod/66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museum.edu.ru/catalog.asp?cat_ob_no=12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3616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4"/>
              </a:rPr>
              <a:t>http://www.expressiysv.kiev.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5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6"/>
              </a:rPr>
              <a:t>http://www.jewellerymuseum.ru/russia/russ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Picture 4" descr="ag00029_"/>
          <p:cNvPicPr/>
          <p:nvPr/>
        </p:nvPicPr>
        <p:blipFill>
          <a:blip r:embed="rId1"/>
          <a:stretch/>
        </p:blipFill>
        <p:spPr>
          <a:xfrm>
            <a:off x="7620120" y="12193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118" name="Documents"/>
          <p:cNvSpPr/>
          <p:nvPr/>
        </p:nvSpPr>
        <p:spPr>
          <a:xfrm>
            <a:off x="838080" y="1523880"/>
            <a:ext cx="6858000" cy="5334120"/>
          </a:xfrm>
          <a:custGeom>
            <a:avLst/>
            <a:gdLst>
              <a:gd name="textAreaLeft" fmla="*/ 522000 w 6858000"/>
              <a:gd name="textAreaRight" fmla="*/ 5245920 w 6858000"/>
              <a:gd name="textAreaTop" fmla="*/ 1029960 h 5334120"/>
              <a:gd name="textAreaBottom" fmla="*/ 427572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19320" y="2133720"/>
            <a:ext cx="48765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у древнерусско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ультуры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ставляло наследие восточных славя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523880" y="4721400"/>
            <a:ext cx="6553440" cy="1700280"/>
          </a:xfrm>
          <a:prstGeom prst="rect">
            <a:avLst/>
          </a:prstGeom>
          <a:solidFill>
            <a:srgbClr val="e7d091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Устное народное творчеств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9" descr="bogatyri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33520" y="4040280"/>
            <a:ext cx="3314520" cy="20606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0"/>
          <p:cNvSpPr/>
          <p:nvPr/>
        </p:nvSpPr>
        <p:spPr>
          <a:xfrm>
            <a:off x="609480" y="2133720"/>
            <a:ext cx="1905120" cy="53316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066680" y="22096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ес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1371600" y="2666880"/>
            <a:ext cx="2209680" cy="60984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1905120" y="281664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Были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1981080" y="3276720"/>
            <a:ext cx="2210040" cy="609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514600" y="34290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ка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4419720" y="1368720"/>
            <a:ext cx="4495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304920" y="6324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Васнецов. Три богатыр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228600" y="13716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0000"/>
                </a:solidFill>
                <a:latin typeface="Arial"/>
              </a:rPr>
              <a:t>Что мы подразумеваем под термином УН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4876920" y="6400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0000"/>
                </a:solidFill>
                <a:latin typeface="Arial"/>
              </a:rPr>
              <a:t>Вы узнали отрыв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3505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ждый крупный город вел свою летопи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Нестором,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уд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«Повесть Временных лет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8" descr="Рисунок2"/>
          <p:cNvPicPr/>
          <p:nvPr/>
        </p:nvPicPr>
        <p:blipFill>
          <a:blip r:embed="rId1"/>
          <a:stretch/>
        </p:blipFill>
        <p:spPr>
          <a:xfrm>
            <a:off x="380880" y="1371600"/>
            <a:ext cx="2210040" cy="4343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152280" y="579132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ица из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10" descr="Рисунок2"/>
          <p:cNvPicPr/>
          <p:nvPr/>
        </p:nvPicPr>
        <p:blipFill>
          <a:blip r:embed="rId2"/>
          <a:stretch/>
        </p:blipFill>
        <p:spPr>
          <a:xfrm>
            <a:off x="6324480" y="609480"/>
            <a:ext cx="261324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6553080" y="5257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3048120" y="5486400"/>
            <a:ext cx="3581280" cy="13716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76720" y="5867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етопись – погодная запись событ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untitled"/>
          <p:cNvPicPr/>
          <p:nvPr/>
        </p:nvPicPr>
        <p:blipFill>
          <a:blip r:embed="rId1"/>
          <a:stretch/>
        </p:blipFill>
        <p:spPr>
          <a:xfrm>
            <a:off x="380880" y="1752480"/>
            <a:ext cx="5029200" cy="43434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9528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486400" y="228600"/>
            <a:ext cx="32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енность у восточных славян зародилась до принятия христианства. Славянскую азбуку создали византийские монахи Кирилл и Мефодий. При церквях и монастырях были открыты школы. Появляются первые рукописные кни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фавиты кириллица и глагол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12" descr="Рисунок1"/>
          <p:cNvPicPr/>
          <p:nvPr/>
        </p:nvPicPr>
        <p:blipFill>
          <a:blip r:embed="rId2"/>
          <a:stretch/>
        </p:blipFill>
        <p:spPr>
          <a:xfrm>
            <a:off x="5715000" y="396252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3"/>
          <p:cNvSpPr/>
          <p:nvPr/>
        </p:nvSpPr>
        <p:spPr>
          <a:xfrm>
            <a:off x="5334120" y="62164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рукописной книг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граффит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181480" y="1600200"/>
            <a:ext cx="3624480" cy="4525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486400" y="6248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фи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533520" y="4343400"/>
            <a:ext cx="4267080" cy="22860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38080" y="4952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От Гостяты к Василю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Что мне дал отец и родичи дали впридачу, то за ни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1" descr="untitled-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8320" y="152388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untitled-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648320" y="4351320"/>
            <a:ext cx="4038480" cy="1973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имова Галина Михайловна</dc:creator>
  <dc:description/>
  <dc:language>en-US</dc:language>
  <cp:lastModifiedBy>LEGION</cp:lastModifiedBy>
  <dcterms:modified xsi:type="dcterms:W3CDTF">2015-01-14T10:01:52Z</dcterms:modified>
  <cp:revision>35</cp:revision>
  <dc:subject>Культура Киевской Руси</dc:subject>
  <dc:title>Культура Киевской 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