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E7BF-976E-4D9A-9DB9-E9FAA6B93A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ый облик Древней Рус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-X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1C5B-8797-44B7-A94B-60A1ADF18C0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ргиевский собор, церковь Успения на Торгу(1135г.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40F0-1EF7-4918-BD48-B32277B49F9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Покрова на Нерли(1165г.), Дмитриевский собор во Владимир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8E3E-40D7-437A-97E5-1273F64E60B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сами обретаем вечность пред этой дивной красот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EBBF-D928-4BDC-AFB8-5F3A7A28A0D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Музыка, застывшая в камн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8C65-75B5-4B22-BA4E-60A5A5A795F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C5E0-0401-4EA9-85EB-D1F493EB5EE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бази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в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Не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место для х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вход на х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алт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алтарь под балдахи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501B-26F6-44A0-AEB7-9FF8FD92501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ройство крестово-купольного храм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хр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ол храма (количество гла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ой бара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м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C480-73D2-42CB-A61B-2962D376C9C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православные храмы.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сятинная церковь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C7F2-9379-465B-AF1C-35C8410602C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асо-Преображенский собор в Черниг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166C-0252-4754-B656-37E3672B07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 Святой Софии в Кие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, словно шлем, надвинул гл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ены выставил, как щ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сь – тугая соразмер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выс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метрия, тяжесть, 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водов медленный полё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А. Рождественский («Новгородская София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A3E0-E695-467F-8799-D45306C5F39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я Новгородская и София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D5F5-D580-40EE-8FC9-157AC4D3CC6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A0F-7803-4246-B3FB-160E3B2E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752-A145-4AEF-870E-80C9E6EE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941-863E-4A91-A54D-A4F59743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BED-21B5-436E-9ACD-17362970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9C81-55E9-4001-9F31-2B620A51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DF7D-DC19-4F83-B03F-0E5A0952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FECC-0495-4514-B925-56459E96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3D3A-AEC0-44B7-8EAB-5C8B274A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C781-2DF2-4C4D-AE01-2D36A454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4BB9-E531-40C5-8F45-7330199F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1B7A-A71F-4937-81DC-3E153A7D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258-9055-483C-B9E1-ABE24787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A1D0-2F78-4BEB-A153-BB6C6025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0662-5B9B-48EF-9838-7D2C8AA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F77C-D2DE-4E70-83A9-7D5CB675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6AA4-57F7-40A6-A7AF-CE50DCD4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0785-6EF2-4B66-9499-307A759F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D4D-3E4B-4824-8667-0523A621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8C1-9CA2-4FD7-913D-87118D7A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CBE-92D9-4426-A287-F5087493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09D-EDAF-441B-86CB-0006AB59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FE6-10E3-45CF-9066-C22FD6F5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3D6-4918-4A9F-9708-895CF02E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BE2-D1E7-40BF-AA70-04F67E42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0D0D-1C32-4CD5-88E5-EC77F6BDE9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DC4-6BCA-4D2B-B383-DC5BE33B01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6312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рхитектурный облик Древней Руси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X-XII 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4292280"/>
            <a:ext cx="6224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Георгиевский собор, церковь Успения на Торгу(1135г.),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314360" y="1700280"/>
            <a:ext cx="3257640" cy="439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Церковь Покрова на Нерли(1165г.), Дмитриевский собор во Владимире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X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85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853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Мы сами обретаем вечность пред этой дивной красотой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1371600" y="2565360"/>
            <a:ext cx="640080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«Музыка, застывшая в камн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07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зил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4962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ан базил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в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-Не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место для х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вход на х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алта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алтарь под балдахин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-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490680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ройство крестово-купольного храма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6360" y="1628280"/>
            <a:ext cx="352764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ание хр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пол храма (количество гла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овой бараб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м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169920" y="1600200"/>
            <a:ext cx="4325760" cy="5068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е православные храмы.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есятинная церковь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75520" cy="44463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со-Преображенский собор в Чернигов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6912000" cy="49244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Собор Святой Софии в Киев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329080" cy="5183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80000" y="1699920"/>
            <a:ext cx="3106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, словно шлем, надвинул глав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тены выставил, как щ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весь – тугая соразмернос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тношение высо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ссиметрия, тяжесть, ве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водов медленный полё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Рождественский («Новгородская София»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фия Новгородская и София Полоцка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36:17Z</dcterms:created>
  <dc:creator>Олег</dc:creator>
  <dc:description/>
  <dc:language>en-US</dc:language>
  <cp:lastModifiedBy>LEGION</cp:lastModifiedBy>
  <dcterms:modified xsi:type="dcterms:W3CDTF">2015-01-14T10:02:15Z</dcterms:modified>
  <cp:revision>4</cp:revision>
  <dc:subject/>
  <dc:title>Архитектурный облик Древней Руси IX-XII века</dc:title>
</cp:coreProperties>
</file>