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6E0E-4A75-4542-B5B7-F6B3EF8828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ый облик Древней Рус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-X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98E3-2248-44CC-9E6F-7F4C0065FEA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ргиевский собор, церковь Успения на Торгу(1135г.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BDD5-5322-4274-89D9-0F55FD5C77E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Покрова на Нерли(1165г.), Дмитриевский собор во Владимир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2D35-3226-4287-854D-CD0C3634072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сами обретаем вечность пред этой дивной крас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A6D2-168F-4275-BBB3-1AF14D8A6A6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Музыка, застывшая в камн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695C-9FCC-4661-BFE2-53F46355A5C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A2FB-1703-4A10-99F1-042D61DDC7C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бази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в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Не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место для х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вход на х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алт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алтарь под балдахи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5CCC-CE6A-4458-9BF5-B242B80319A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ройство крестово-купольного хра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хр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ол храма (количество гла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ой бара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м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D64E-99F4-429D-8266-261BCEF96B0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православные храмы.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сятинная церковь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DA67-910F-4FC0-8A46-BE8240522FE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асо-Преображенский собор в Черниг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5BFA-F73D-423A-AE75-46D576F6DF3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 Святой Софии в Кие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, словно шлем, надвинул гл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ены выставил, как щ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сь – тугая соразмер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выс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метрия, тяжесть, 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водов медленный полё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А. Рождественский («Новгородская София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EC4-5497-4571-8554-5797A14469C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я Новгородская и София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06B7-DB23-45C8-9B56-3900BC4BC3E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884-B2FC-459D-A893-1EB7E17E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6BA-8D8D-4203-A436-1BC0EAF2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9F6-43B5-411E-BB56-3AD90AD4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D33-F896-4605-8148-8DFA3968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DE6D-0957-4FF0-81A7-A28BD8E8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4A17-7A6C-4B5F-88C8-63F6FE17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23D0-FEB3-4436-A2FD-7E1C6EE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5362-8983-4AA1-BB4C-819CE99E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AB55-970E-4B64-9F95-B0543BC4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7A1E-6AE0-4924-87BE-A5A14EEA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077D-DEA6-485E-B471-AA29606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89E-D49B-4052-A67A-E3F8A9B8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0982-BAF8-46A6-90DD-88DBCE0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F2A6-8AC3-4213-B5C2-69E8B059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F4FE-DB97-4BBC-A7DE-6095C976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5E23-6FCB-44CD-93AA-B74C1A7E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6C71-33DC-41D8-82DA-1116A419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E1F-2FAE-4F59-99D5-8FC65B3E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F2F-CDC8-42AF-B6C6-110501AC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F80-AEA9-4B85-921F-E4F19A97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2E2-69C1-485E-AEB8-C40AACFC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049-B89B-44F7-A338-F080813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42F-337E-413E-A00F-FC22CFC6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65F-0F9C-4180-B41C-F4DE83B4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C6A8-9B6D-4E26-AEA4-B372347C4E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5AA-9520-4623-89B8-5FD56CC71C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312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хитектурный облик Древней Руси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X-XII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292280"/>
            <a:ext cx="6224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еоргиевский собор, церковь Успения на Торгу(1135г.),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14360" y="1700280"/>
            <a:ext cx="3257640" cy="43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рковь Покрова на Нерли(1165г.), Дмитриевский собор во Владимир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X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85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853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Мы сами обретаем вечность пред этой дивной красотой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371600" y="256536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«Музыка, застывшая в камн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зил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4962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базил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в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Не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место для х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вход на х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алта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алтарь под балдахи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49068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ройство крестово-купольного храма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276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ание хр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пол храма (количество гла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овой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м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4325760" cy="5068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православные храмы.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есятинная церков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75520" cy="44463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со-Преображенский собор в Черниго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9244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Собор Святой Софии в Киев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329080" cy="5183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80000" y="1699920"/>
            <a:ext cx="310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, словно шлем, надвинул гла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тены выставил, как щ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весь – тугая соразмернос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тношение высо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симетрия, тяжесть, ве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одов медленный полё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Рождественский («Новгородская София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фия Новгородская и София Полоцка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36:17Z</dcterms:created>
  <dc:creator>Олег</dc:creator>
  <dc:description/>
  <dc:language>en-US</dc:language>
  <cp:lastModifiedBy>LEGION</cp:lastModifiedBy>
  <dcterms:modified xsi:type="dcterms:W3CDTF">2015-01-14T10:02:15Z</dcterms:modified>
  <cp:revision>4</cp:revision>
  <dc:subject/>
  <dc:title>Архитектурный облик Древней Руси IX-XII века</dc:title>
</cp:coreProperties>
</file>