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326C-C2DB-4330-AB8E-8A8B498463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ый облик Древней Рус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-X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C2BC-AB59-49B3-80DD-C1C78FAC160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ргиевский собор, церковь Успения на Торгу(1135г.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F3DE-10CA-43AE-9923-137B4A81FFC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Покрова на Нерли(1165г.), Дмитриевский собор во Владимир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505E-400B-424E-8745-DFED00F3589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ы сами обретаем вечность пред этой дивной красот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26C0-E079-45F2-AD66-70FE544783A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Музыка, застывшая в камн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A4CE-BCB7-41C4-AE65-5B154285085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3BF3-B27F-4B1E-ABED-EADC2E7420D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бази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в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Не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место для х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вход на х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алт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алтарь под балдахи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10E3-8B09-42FD-BE35-F51C81A0535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ройство крестово-купольного храм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хр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ол храма (количество гла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ой бара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м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61E6-5E8B-4251-A727-712FA06CC35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православные храмы.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сятинная церковь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F4E6-5973-40E3-8E9C-B45B3541E33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асо-Преображенский собор в Черниг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3A9A-5AE2-4A8B-8711-2BEF375707E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 Святой Софии в Кие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, словно шлем, надвинул гл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ены выставил, как щ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есь – тугая соразмер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выс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метрия, тяжесть, 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водов медленный полё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А. Рождественский («Новгородская София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2D60-9010-4F0A-8C99-EA9A99AAF09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я Новгородская и София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9142-5E74-4D85-A72B-07C9EDFFDD1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62C-0BD9-408E-A6F2-033C6F3D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372-7DE3-4B06-B689-F1051621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D48-69AD-4CB0-8F52-A045099B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DEB-381D-4D55-A889-1F972609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65DD-874C-4B84-9F31-30E414E2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E67D-6AB5-468B-B6BD-7970A1D9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8B50-A64B-4CE9-8DDB-43B5F720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286E-F51C-4759-A7A6-A9D2B92A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878C-EC86-444E-A6CF-9476A873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6442-4603-4B14-8228-B1A260C5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61D6-12B6-4608-9CE6-E43979C5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9CE-8ABE-41AC-A43D-EB68D91F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A98D-7195-450A-B6AE-F5AECFD4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675A-18EF-4A63-9CAD-BCF2AA74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A812-4DF1-4050-B4A0-B81DA34E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9D9E-2A94-4179-BF83-010A3349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5A06-A4F1-4F70-B44B-ABA6FD9C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800-E471-4626-AE42-1BCA91E8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BB3-C71C-4A49-8797-594B03AF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251-695D-45AB-B4AE-FAA8E8E0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755-5459-41F7-8F6C-1E6FF46A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B5A-4761-4AC4-A280-16785DA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DE6-F1B1-4FAD-AB9F-ED7767FA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47A-777A-421B-815A-8C0D5647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6581-6312-4C08-B86A-2F2D01E5F2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8513-9296-42A3-9766-0ADE1A279D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63128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рхитектурный облик Древней Руси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X-XII 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240" y="4292280"/>
            <a:ext cx="6224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Георгиевский собор, церковь Успения на Торгу(1135г.),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314360" y="1700280"/>
            <a:ext cx="3257640" cy="439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311640" cy="43927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Церковь Покрова на Нерли(1165г.), Дмитриевский собор во Владимире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X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В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85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853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Мы сами обретаем вечность пред этой дивной красотой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1371600" y="2565360"/>
            <a:ext cx="640080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«Музыка, застывшая в камн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075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зил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29600" cy="4962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ан базили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-вх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-Не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место для х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вход на х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-алта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-алтарь под балдахин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-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490680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ройство крестово-купольного храма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6360" y="1628280"/>
            <a:ext cx="352764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ание хра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пол храма (количество гла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овой бараб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м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169920" y="1600200"/>
            <a:ext cx="4325760" cy="5068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е православные храмы.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Десятинная церковь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075520" cy="44463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пасо-Преображенский собор в Чернигов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6912000" cy="49244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Собор Святой Софии в Киеве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329080" cy="5183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80000" y="1699920"/>
            <a:ext cx="3106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, словно шлем, надвинул глав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тены выставил, как щ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 весь – тугая соразмернос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тношение высо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ссиметрия, тяжесть, ве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водов медленный полё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Рождественский («Новгородская София»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фия Новгородская и София Полоцка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36:17Z</dcterms:created>
  <dc:creator>Олег</dc:creator>
  <dc:description/>
  <dc:language>en-US</dc:language>
  <cp:lastModifiedBy>LEGION</cp:lastModifiedBy>
  <dcterms:modified xsi:type="dcterms:W3CDTF">2015-01-14T10:02:15Z</dcterms:modified>
  <cp:revision>4</cp:revision>
  <dc:subject/>
  <dc:title>Архитектурный облик Древней Руси IX-XII века</dc:title>
</cp:coreProperties>
</file>