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ED47-9FA7-44E0-827E-3B89F6D3077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хитектурный облик Древней Рус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X-XI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9B21-FC9D-46E2-87FE-DE99CD54C23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ргиевский собор, церковь Успения на Торгу(1135г.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66A7-5921-4FFB-81F8-A405F75C9E1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рковь Покрова на Нерли(1165г.), Дмитриевский собор во Владимир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X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7F4E-ECCD-410F-BBAA-CB79CFF8B83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ы сами обретаем вечность пред этой дивной красото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AE01-CBB8-49FD-989D-B7BEEBF9E20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Музыка, застывшая в камн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ИЛИКА (от греч. basilike — царский дом), вытянутое, прямоугольное в плане здание, разделенное внутри продольными рядами колонн или столбов на 3 или 5 продольных прохода – «нефа» ( от греч. «несус» - «корабль»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0340-1A94-46BF-ACE2-673F033C439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ил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23D6-320B-46EC-9A4D-3E6708487D8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базил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в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-Не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-место для х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-вход на х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-алта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-алтарь под балдахи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-апси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7F4E-638F-4EFD-A7AF-4A853503EFC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ройство крестово-купольного храм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ие хра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ол храма (количество гла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вой бара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си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м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4962-DCFA-44AE-8550-21576AD48F8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православные храмы.</a:t>
            </a:r>
            <a:br>
              <a:rPr sz="1200"/>
            </a:b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Десятинная церковь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AE2D-9531-4AD8-A24F-19E3BDA52E2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пасо-Преображенский собор в Черниг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EA52-46AF-43F0-993F-D6596DFAC52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бор Святой Софии в Киев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, словно шлем, надвинул гла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тены выставил, как щ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весь – тугая соразмерн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высо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симетрия, тяжесть, в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водов медленный полё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А. Рождественский («Новгородская София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2995-73AC-4CD8-AAE5-1E1E6060A4D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фия Новгородская и София Полоц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C968-2DC9-4E31-AC61-9BB4FDD2367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200C-F08F-4E20-9938-3EF961AFE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7872-B5AB-423B-885F-6DC5E82B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D6A9-B80D-4B0C-92F0-163640442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16E4-E418-4892-9BB9-269D43EB3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56B6-A5ED-463E-B0B6-C0D2F09F7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57B4-5C14-431C-81A6-52CC076C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12A2-9B59-471C-8961-CD169B80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CF51-E1AA-4C1A-B4ED-4D948D66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D2E8-5980-4E1B-AC29-1187BEE0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D9FE-6D12-4C0C-B19F-24696F61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3172-E4A6-463F-8DA2-495D6610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16FD-1C1B-466C-82B4-BEAB5582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0010-36E1-4E48-B4E3-7870C35F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5C2A-2EFE-4076-BC5E-99AC7DEC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2C5C-63EE-4CDB-AD1E-4E380F5B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9250-62B6-42CD-976F-09DFAB19E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9AEF-A5FB-4C79-8F1A-9C952284E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C250-F591-4CAC-9DF8-3C143F64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D5B9-1378-4AF9-8086-3C2C1913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3B37-CB7F-4CC4-B592-507F6B98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8D14-0741-407A-80CD-F1519A1F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A0D2-FA80-4D9C-9CBB-5F860442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17EA-AFDC-4986-8924-3DAC8F42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A53B-664C-4CC5-976E-F16A81D8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E1BF-AED9-419B-A9CA-42F9C97D4E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07B5-75EE-43DA-A974-03CAB9D56F2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63128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Архитектурный облик Древней Руси 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IX-XII </a:t>
            </a: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века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240" y="4292280"/>
            <a:ext cx="6224760" cy="13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Георгиевский собор, церковь Успения на Торгу(1135г.), 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1314360" y="1700280"/>
            <a:ext cx="3257640" cy="4392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2"/>
          <a:stretch/>
        </p:blipFill>
        <p:spPr>
          <a:xfrm>
            <a:off x="4932360" y="1700280"/>
            <a:ext cx="3311640" cy="439272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Церковь Покрова на Нерли(1165г.), Дмитриевский собор во Владимире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XII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В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853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85316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eec94"/>
                </a:solidFill>
                <a:latin typeface="Times New Roman"/>
              </a:rPr>
              <a:t>Мы сами обретаем вечность пред этой дивной красотой!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tretch/>
        </p:blipFill>
        <p:spPr>
          <a:xfrm>
            <a:off x="1371600" y="2565360"/>
            <a:ext cx="6400800" cy="41036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«Музыка, застывшая в камне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07552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ЗИЛИКА (от греч. basilike — царский дом), вытянутое, прямоугольное в плане здание, разделенное внутри продольными рядами колонн или столбов на 3 или 5 продольных прохода – «нефа» ( от греч. «несус» - «корабль»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азили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229600" cy="49626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лан базилик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-вх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-Не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-место для хо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-вход на хор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-алтар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-алтарь под балдахин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7-апси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3780000" y="1268280"/>
            <a:ext cx="4906800" cy="51134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стройство крестово-купольного храма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76360" y="1628280"/>
            <a:ext cx="352764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ание хра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упол храма (количество глав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етовой бараба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пси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кома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8" descr=""/>
          <p:cNvPicPr/>
          <p:nvPr/>
        </p:nvPicPr>
        <p:blipFill>
          <a:blip r:embed="rId1"/>
          <a:stretch/>
        </p:blipFill>
        <p:spPr>
          <a:xfrm>
            <a:off x="169920" y="1600200"/>
            <a:ext cx="4325760" cy="50688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ервые православные храмы.</a:t>
            </a:r>
            <a:br>
              <a:rPr sz="4000"/>
            </a:b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Десятинная церковь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075520" cy="444636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Спасо-Преображенский собор в Чернигов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116000" y="1600200"/>
            <a:ext cx="6912000" cy="492444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Собор Святой Софии в Киеве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5329080" cy="51832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580000" y="1699920"/>
            <a:ext cx="31068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н, словно шлем, надвинул глав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стены выставил, как щи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н весь – тугая соразмерность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отношение высот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ссиметрия, тяжесть, вер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сводов медленный полё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. А. Рождественский («Новгородская София»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фия Новгородская и София Полоцка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2:36:17Z</dcterms:created>
  <dc:creator>Олег</dc:creator>
  <dc:description/>
  <dc:language>en-US</dc:language>
  <cp:lastModifiedBy>LEGION</cp:lastModifiedBy>
  <dcterms:modified xsi:type="dcterms:W3CDTF">2015-01-14T10:02:15Z</dcterms:modified>
  <cp:revision>4</cp:revision>
  <dc:subject/>
  <dc:title>Архитектурный облик Древней Руси IX-XII века</dc:title>
</cp:coreProperties>
</file>