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F8DA-DF02-48A8-A7D8-D1EE1E351BE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хитектурный облик Древней Рус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X-X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AEE2-4498-442E-BAC8-00DBF9B6585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ргиевский собор, церковь Успения на Торгу(1135г.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E75-39FD-4448-AAFC-92A4CD3841D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Покрова на Нерли(1165г.), Дмитриевский собор во Владимир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X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07E-5DD7-4B20-9ED8-E39C8AD58FE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ы сами обретаем вечность пред этой дивной красот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24F-487A-4B32-9A81-06769A85203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Музыка, застывшая в камн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6CAB-EEE0-4B82-8A87-1E2F6BFDE9B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л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6A03-2F6C-4653-A25E-E68D43D535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базил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в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Не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место для х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-вход на х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алт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-алтарь под балдахи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-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6D67-AB6E-406D-9091-D2E7977D962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ройство крестово-купольного храм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ие хр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ол храма (количество гла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вой бара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с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м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9942-E1CF-4D12-80F8-32F6CDA33A3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православные храмы.</a:t>
            </a:r>
            <a:br>
              <a:rPr sz="12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есятинная церковь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210-0B7E-4A98-954E-15A68E13521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асо-Преображенский собор в Черниг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1B53-E05A-4FB9-AD19-38DC5F931AD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 Святой Софии в Киев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, словно шлем, надвинул гла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тены выставил, как щ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есь – тугая соразмер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высо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иметрия, тяжесть, 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водов медленный полё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А. Рождественский («Новгородская София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DBC5-E624-41B1-8B99-ABBF36035D8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ия Новгородская и София Полоц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3F1-3303-43E3-A00B-971738B9996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5094-70A7-488F-BF50-3954399C0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DB38-11F8-454E-BB86-B991959D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05E9-650F-40CE-9E27-47F59E98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D01-4E6C-4C03-90D0-6D260D77A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86507-F525-42A8-9D81-14F76B0D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A7A7-40E5-4A19-802C-C1FD0195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7FA-EE40-41EB-901B-7206AB77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E982-91B0-4A84-8A24-6D5DEC40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82FE-EDB4-4F44-8A65-C41F4A42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117D-E9B0-46CB-8DB9-BBCADFB1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5E7F-0B6B-4579-9262-DE9164E1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982-ED53-43E6-BB75-5AF2506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E1BC-6976-4E49-9BC0-6F742CD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A2C0-4411-4C61-98D4-BB580D53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087F-DEA1-4428-A5D1-3C351625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4B06-1A31-4FCC-BFE1-9F8ABA57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0A2A-157F-450F-992A-7DD93E5B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CD88-CC04-493F-935F-175D502E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E39-EBFB-4FEE-80DB-7BA14787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3E41-1EC9-4252-B66F-28AEDBD16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718-4FB9-46C1-9FE4-29D6F24A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4248-A8C8-4DAA-A25F-468A59D0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F4C-17EE-4397-9A6E-58B05079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C67-DA4B-4ADE-9582-4F524B30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3DD8-BFED-4E8A-8B8D-F2AF8D62F5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B27-8EAD-419F-87A5-7D98FB5278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3128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хитектурный облик Древней Руси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IX-XII </a:t>
            </a: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ве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240" y="4292280"/>
            <a:ext cx="6224760" cy="134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Георгиевский собор, церковь Успения на Торгу(1135г.), 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314360" y="1700280"/>
            <a:ext cx="3257640" cy="439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311640" cy="43927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Церковь Покрова на Нерли(1165г.), Дмитриевский собор во Владимире</a:t>
            </a: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 XII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В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85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853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eec94"/>
                </a:solidFill>
                <a:latin typeface="Times New Roman"/>
              </a:rPr>
              <a:t>Мы сами обретаем вечность пред этой дивной красотой!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1371600" y="2565360"/>
            <a:ext cx="6400800" cy="4103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«Музыка, застывшая в камн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075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ЗИЛИКА (от греч. basilike — царский дом), вытянутое, прямоугольное в плане здание, разделенное внутри продольными рядами колонн или столбов на 3 или 5 продольных прохода – «нефа» ( от греч. «несус» - «корабль»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зилик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29600" cy="49626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лан базили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-вх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-Не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-место для хо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-вход на хор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-алта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6-алтарь под балдахин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-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490680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тройство крестово-купольного храма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6360" y="1628280"/>
            <a:ext cx="352764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ание храм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пол храма (количество глав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етовой бараб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пси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о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8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4325760" cy="50688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православные храмы.</a:t>
            </a:r>
            <a:br>
              <a:rPr sz="4000"/>
            </a:b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Десятинная церковь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75520" cy="44463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eec94"/>
                </a:solidFill>
                <a:latin typeface="Times New Roman"/>
              </a:rPr>
              <a:t>Спасо-Преображенский собор в Чернигов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16000" y="1600200"/>
            <a:ext cx="6912000" cy="49244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Собор Святой Софии в Киеве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329080" cy="5183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580000" y="1699920"/>
            <a:ext cx="3106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, словно шлем, надвинул глав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тены выставил, как щи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н весь – тугая соразмерность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отношение высо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ссиметрия, тяжесть, ве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водов медленный полё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Рождественский («Новгородская София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фия Новгородская и София Полоцка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2:36:17Z</dcterms:created>
  <dc:creator>Олег</dc:creator>
  <dc:description/>
  <dc:language>en-US</dc:language>
  <cp:lastModifiedBy>LEGION</cp:lastModifiedBy>
  <dcterms:modified xsi:type="dcterms:W3CDTF">2015-01-14T10:02:15Z</dcterms:modified>
  <cp:revision>4</cp:revision>
  <dc:subject/>
  <dc:title>Архитектурный облик Древней Руси IX-XII века</dc:title>
</cp:coreProperties>
</file>