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7.jpeg" ContentType="image/jpeg"/>
  <Override PartName="/ppt/media/image13.jpeg" ContentType="image/jpeg"/>
  <Override PartName="/ppt/media/image8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20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jpeg" ContentType="image/jpeg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337A-5137-402A-9999-1C726820A7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Австро-Венгрия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1870-19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0F7F-3F0E-4CE9-86A0-F923C4E76B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Дуализм и национальный вопрос</a:t>
            </a:r>
            <a:br>
              <a:rPr sz="20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Этнические и религиозные противореч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езко возрастает численность еврейского населения Австро-Венг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6 год – выходит в печать главное произведение сионизма – «Еврейское государство» Т. Герц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0 – Т. Герцль организовывает первый Всемирный еврейский конгр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80-90 гг. –Йозеф Самуэль Блох  проповедовал  австрийскую идею и австрийский патриотизм, утверждая,  что естественное  состояние австрийских евреев – быть австрийскими патриотами,  а задача – добиваться компромисса между народами многонациональной Авст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08B7-CC69-4B9D-9820-C551286940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оциалистическое дви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67-1868 – введение конституционного строя в стр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88-1889 – первый съезд  австрийской социал-демократии провозглашает создание социал–демократической партии, которая позже становится одной из учредительниц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I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нтернацион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6 г –под давлением пролетариата было завоева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своеобразных социально-экономических  и этнополитических условиях  монархии на рубеже веков выросло и окрепло особое течение международной социалистической мысли и практики -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встромаркс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8053-BA69-4059-B779-51D20C783B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ризис дуал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нгерский правящий класс поделился на 2 лагеря: сторонников дуализма(«Партия 67го года») и сторонников самостоятельности Венгрии(«Партия 48го года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97г – истек срок действия очередного экономического согла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ая цель социал-демократической партии  Венгрии: завоевать всеобщее избирательное право , в связи с чем с 1890-1913 было проведено множество собраний и митин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минационный момент кризиса дуализма – 1905 год, год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«венгерского кризис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феврале 1906 – насильно разогнан парла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7 г. Заключено новое экономическое соглашение на следующее десятилетие1907 г –новый этап обострения межнациональн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5 – 1914  - основная ассимиляция населения Венг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74C1-55A5-499B-BEF9-8BEE0D3487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нешня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6D19-85BC-4F49-A319-977D197E7E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дипломатию Австро-Венгрии сильно влияло ее внутреннее устрой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5E0E-1078-4AC9-8186-11622F31EF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енгрия вступает в дуалистическое согла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лето1867 и весна 1869 – ожидается столкновение между Францией и Пруссией, во вовремя этого периода Наполеон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II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2 раза посещает Франца-Иосифа для решения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0 г. – франко-прусская вой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1 г. – министр иностранных дел – Андраша,  что привело к коренному повороту во внешней поли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3 г. – взаимное соглашение Франца-Иосифа и Александра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итуация с Германской империей и Россией была более спокойно, в отличие ситуации на Балк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8 г . – Австро-Венгрия оккупирует Боснию и Герцеговин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9 г . –заключена социальная конвенция  между Османской империей и Австро-Венгр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аключается союз Австро-Венгрии и Германии, направленный проти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итуация стабилизируется, когда в 1896 году Николай 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I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сещает Вену, а позже Франц-Иосиф – Петербур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A017-442C-46BA-BE91-2D2E79E5BD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поли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3 – повторный визит Николая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II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Австрию, в результате подписано Мюрцштегское соглашение по вопросу о Македо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6 г . – иностранными делами Австро-Венгрии руководит теперь А. Эрента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7 г. – А. Эренталь предлагает проект триализма, ядром которого должна была стать Хорватия – Славо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тношения с Сербией обстояли хуже, ещё в 1906 году Сербия, опираясь на Россию,  заняла откровенно враждебную позицию относительно Австро-Венг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AC07-A0DC-40E4-AF24-0407F23133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прос Боснии и Герцеговин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встро-Венгрия и Балка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8- 1909 гг. – Боснийский кризис, в котором столкнулось несколько великих держав, возникла реальная угроза вооруженного конфликта между Габсбургами и сербско-прусской коали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а время австро-венгерской оккупация Босния и Герцеговина значительно модернизировал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3 – приход в Сербии к власти династии Карагеоргиевичей, которая начала резко враждебную политику по отношению к Авст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лючевой вопрос для Вены : о закреплении Бос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08 г. – младотурецкая револю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5 октября 1908 г. – Франц-Иосиф подписывает указ об аннексии Боснии и Герцегов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оссия объявила протест в связи с изданным указ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12 г. – Россия берет реванш, когда создается Балканский союз – антитурецкая коалиция в составе Сербии, Черногории, Болгарии и Греции, начинается первая Балканская война, в результате которой Австро-Венгрия и Турция терпят пора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913 г. –угроза новой войны, в результате котоой было подтверждено решение Лондонской конференции  от 27 декабря 1912 г. О создании независимого албанского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3D98A-879A-44C2-94C8-EBB143BD70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лад кончился – просьба выйти из сумрак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194A-8F36-4B03-A119-43741A755B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Georgia"/>
              </a:rPr>
              <a:t>Франц - Иосиф </a:t>
            </a: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1A15-18A9-4CD2-B5FF-0EB7E88444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ц – Иосиф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имя: Франц – Иоси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: Эрцгерцог Австрии Франц Карл (брат Фердинанд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и королева Каро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ы жизни: 18 августа 1930 г – 21 ноября 191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ды правления: 2 декабря 1848 – 21 ноября 1916 г, с 21 июня 1867 года – император Австро-Венгр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а коронации: 2 декабря 1848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к: 24 апреля 1854 года на графине Элизабет(Сис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89B7-EFD5-4812-A223-2C98F63E3F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у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67 – заключено соглашение между Венгрией и Австрией (и династией Габсбург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ава и обязанности обоих государств абсолютно идентичны. Исполнительные органы в лице кабинетов министров были ответственны перед парламентами своих стран (рейхсрат в Австрии и Государственное собрание в Венгрии), избирательная система основывалась на имущественном ценз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бщие дела: внешняя политика и оборона, в связи с этим 2 министерства: иностранных дел и военное, а затем финансовое, которое обслуживает только два предыдущ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01B5-D65F-4FD3-98F4-C6DE305AC1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кономическое развит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867 год – период экономического подъема и модернизации устаревших общественных структу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48 – 1873  -первый удачный этап развития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873 – период прогресса прерван повсеместным биржевым крахом, начинается период «депрессии», который длится почти до конца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896 – 1913 – страна продолжает свой экономический рост с новой силой за исключением небольшого спада 1903-1904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щие позиции: у австро-чешского индустриального комплек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технический уровень промышленных издел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щное развитие экономической мысли , развитие школы политэконо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EAF6-6F7C-425A-A374-F6892F5D0A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ое разви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й мощный рывок – в строительстве железных дорог, так что к 1870 году Австро-Венгрия занимала второе место после России по количеству современного вида трансп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1910 большое количество самодеятельного населения было занято  в аграрных и 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делах, и лишь небольшое количество в промышленности, особенно на окраинах страны , из-за этого избыточное сельское население покидало стра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7 городов населением выше, чем 100 тыс.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2F58-DE85-4CF9-8F54-9D39DAAB42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азвитие науки, культуры, искус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еятели философии:  Б. Больцано, Э. Мах (эмириокритицизм),  Э. Гуссерль (феноменология), Л. Витгенштейн (аналитическая и лингвистическая философия), Георг Лукач (неомарксизм, эстети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оциологи: К. Мангейм, К. Поппер, Ф. Хайек (теория либерального обществ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сновоположник психоанализа, З. Фрей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узыканты: Г. Малер, А. Брукнер, Х. Вольф, А. Шёнберг, А. Бе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удожники: Х. Макарт, Э. Шиле, г. Климт, О. Кокошка, В. Гропи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исатели: Х. фон Гофмансталь, Ст. Цвейг, Ф. Верфель, Р. Музи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явление классической и новой оперетты в Вене и Пеш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За «золотым веком» оперетты появляются Франц фон Зуппе, Йохан  Штраус – сын («король вальса»), К. Миллекк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Серебряный век» - Ф. Легар, И. Кальман, К. Штоль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озникновение движения за мир. В 1889 опубликована книга Берты фон Зуттер «Оружие долой!»,  за что в 1905 году она была удостоена нобелевской премии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0- «Австрийское общество ми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F1DA-7231-4376-9A52-CF6BC9D117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Дуализм и национальный вопрос</a:t>
            </a:r>
            <a:br>
              <a:rPr sz="1800"/>
            </a:b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И его решение Венгерским правительство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есоответствие бурному индустриально-техническому прогрессу уровня политической консолидации разнородных составных элементов империи  и внутренней интеграции входивших в неё стран и зем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Чехи стали добиваться превращения дуализма в три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1 г. – ландтаг Чехии принимает резолюцию, требующую предоставления статуса, равного с Австрией и Венгр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чало 70х – «закон о равноправии национальностей», который был отвергнут лидерами невенгерских нар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чало 70-х: заключено венгеро-хорватское согла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амый бесправный народ в империи: словаки и украин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75 год – запрещается деятельность единственной культурно-просветительской организации словаков – Матица Словацкая, закрыты все словацкие гимна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81 г. –Национальная партия румы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4г.  – лидер Национальной партии румын приговорен к заключ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5г. – созывается конгресс национальностей в Будапеш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5459-C29F-4B00-9051-3D807B7DC0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Дуализм и национальный вопрос</a:t>
            </a:r>
            <a:br>
              <a:rPr sz="2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 его решение Австрийским правительств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авящие круги Австрии не ставили перед собой цели превращение страны в мононациональное немецкое госуда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растание национальных дви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 1879-1893 – главой кабинета министров был Эдуард Тааффе, создавший так называемое «железное кольц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сле 1867 – важную роль в политической жизни Цислейтании стала играть  лояльная Габсбургам и Австрии польская аристократия Гали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80 г. – правительство Тааффе обязало администрацию и суды Чехии вести дела на языке лица, чье дело разбирало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82 – разделение по языковому признаку Пражского университ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82 г. –после съезда в Линце «Всегерманского союза» в Австрии возникает пангерманское дви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897 г. – в целях равенства чешского и немецкого  в гос-нных учреждениях Чехии, Моравии и Силезии правительство Бадени сделало  обязательным знание чиновниками обоих язы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2048A-AD2A-468A-9E96-3DE39E1DE4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B696-4522-4153-B58C-92493155C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79DC-F8F2-4659-8025-5A573735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4212-A1AA-46F0-820A-4F104FBB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65B0-E3B1-4484-B16B-EFA6FC468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296F-2032-46A9-8685-FA4C576C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9E87-63DD-4C0A-9D04-DB8C5F2D2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1454-F30A-4879-8FAC-635FAFBA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294A-AAF5-46E0-9AD7-ECD6697B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290E-B6CF-4FCE-94DB-3E681486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2D3C-AF4E-45C1-A94D-53F6111D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D8B7-4C1C-442B-BB44-CB1CD5B1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A5DB-61CE-4088-A9D8-09152E7E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C6B6-F837-4C05-9090-FD50302072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00000" y="189000"/>
            <a:ext cx="7632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Австро-Венгрия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3708360" y="2060640"/>
            <a:ext cx="180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870-1914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" name="Picture 7" descr="Kuk-doppeladler"/>
          <p:cNvPicPr/>
          <p:nvPr/>
        </p:nvPicPr>
        <p:blipFill>
          <a:blip r:embed="rId4"/>
          <a:stretch/>
        </p:blipFill>
        <p:spPr>
          <a:xfrm>
            <a:off x="3564000" y="3284640"/>
            <a:ext cx="2546280" cy="32400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уализм и национальный вопрос</a:t>
            </a:r>
            <a:br>
              <a:rPr sz="40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Этнические и религиозные противореч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484360" y="1700280"/>
            <a:ext cx="6275520" cy="4852800"/>
          </a:xfrm>
          <a:prstGeom prst="rect">
            <a:avLst/>
          </a:prstGeom>
          <a:solidFill>
            <a:srgbClr val="006699">
              <a:alpha val="4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зко возрастает численность еврейского населения Австро-Венг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896 год – выходит в печать главное произведение сионизма – «Еврейское государство» Т. Герц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0 – Т. Герцль организовывает первый Всемирный еврейский конгр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0-90 гг. –Йозеф Самуэль Блох  проповедовал  австрийскую идею и австрийский патриотизм, утверждая,  что естественное  состояние австрийских евреев – быть австрийскими патриотами,  а задача – добиваться компромисса между народами многонациональной Авст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p1101a"/>
          <p:cNvPicPr/>
          <p:nvPr/>
        </p:nvPicPr>
        <p:blipFill>
          <a:blip r:embed="rId2"/>
          <a:stretch/>
        </p:blipFill>
        <p:spPr>
          <a:xfrm>
            <a:off x="250920" y="1989000"/>
            <a:ext cx="2098440" cy="259092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оциалистическое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6699">
              <a:alpha val="4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867-1868 – введение конституционного строя в ст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888-1889 – первый съезд  австрийской социал-демократии провозглашает создание социал–демократической партии, которая позже становится одной из учредительниц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рнацион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6 г –под давлением пролетариата было завоева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своеобразных социально-экономических  и этнополитических условиях  монархии на рубеже веков выросло и окрепло особое течение международной социалистической мысли и практики -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встромаркс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ризис дуализ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808080">
              <a:alpha val="4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нгерский правящий класс поделился на 2 лагеря: сторонников дуализма(«Партия 67го года») и сторонников самостоятельности Венгрии(«Партия 48го года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97г – истек срок действия очередного экономического согла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авная цель социал-демократической партии  Венгрии: завоевать всеобщее избирательное право , в связи с чем с 1890-1913 было проведено множество собраний и митинг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ульминационный момент кризиса дуализма – 1905 год, го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«венгерского кризис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феврале 1906 – насильно разогнан парла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07 г. Заключено новое экономическое соглашение на следующее десятилетие1907 г –новый этап обострения межнациональных отнош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95 – 1914  - основная ассимиляция населения Венг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4"/>
          <p:cNvSpPr txBox="1"/>
          <p:nvPr/>
        </p:nvSpPr>
        <p:spPr>
          <a:xfrm>
            <a:off x="324000" y="4076640"/>
            <a:ext cx="8496000" cy="254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ешняя политика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а дипломатию Австро-Венгрии сильно влияло ее внутреннее устройство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ешняя поли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6699">
              <a:alpha val="28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нгрия вступает в дуалистическое согла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ето1867 и весна 1869 – ожидается столкновение между Францией и Пруссией, во вовремя этого периода Наполеон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раза посещает Франца-Иосифа для решения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70 г. – франко-прусская вой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71 г. – министр иностранных дел – Андраша,  что привело к коренному повороту во внешней поли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73 г. – взаимное соглашение Франца-Иосифа и Александра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туация с Германской империей и Россией была более спокойно, в отличие ситуации на Балкан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78 г . – Австро-Венгрия оккупирует Боснию и Герцегови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79 г . –заключена социальная конвенция  между Османской империей и Австро-Венгр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лючается союз Австро-Венгрии и Германии, направленный против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туация стабилизируется, когда в 1896 году Николай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I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ещает Вену, а позже Франц-Иосиф – Петербур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ешняя поли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6699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3 – повторный визит Никола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I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Австрию, в результате подписано Мюрцштегское соглашение по вопросу о Македо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6 г . – иностранными делами Австро-Венгрии руководит теперь А. Эрент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907 г. – А. Эренталь предлагает проект триализма, ядром которого должна была стать Хорватия – Славо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ношения с Сербией обстояли хуже, ещё в 1906 году Сербия, опираясь на Россию,  заняла откровенно враждебную позицию относительно Австро-Венг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 Боснии и Герцеговин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встро-Венгрия и Балка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7640" y="1341360"/>
            <a:ext cx="9217080" cy="5516640"/>
          </a:xfrm>
          <a:prstGeom prst="rect">
            <a:avLst/>
          </a:prstGeom>
          <a:solidFill>
            <a:srgbClr val="006699">
              <a:alpha val="45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08- 1909 гг. – Боснийский кризис, в котором столкнулось несколько великих держав, возникла реальная угроза вооруженного конфликта между Габсбургами и сербско-прусской коали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время австро-венгерской оккупация Босния и Герцеговина значительно модернизировал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03 – приход в Сербии к власти династии Карагеоргиевичей, которая начала резко враждебную политику по отношению к Авст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лючевой вопрос для Вены : о закреплении Бос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08 г. – младотурецкая револю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 октября 1908 г. – Франц-Иосиф подписывает указ об аннексии Боснии и Герцегов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оссия объявила протест в связи с изданным указ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12 г. – Россия берет реванш, когда создается Балканский союз – антитурецкая коалиция в составе Сербии, Черногории, Болгарии и Греции, начинается первая Балканская война, в результате которой Австро-Венгрия и Турция терпят по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13 г. –угроза новой войны, в результате котоой было подтверждено решение Лондонской конференции  от 27 декабря 1912 г. О создании независимого албанского государ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клад кончился – просьба выйти из сумрак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5"/>
          <p:cNvSpPr txBox="1"/>
          <p:nvPr/>
        </p:nvSpPr>
        <p:spPr>
          <a:xfrm>
            <a:off x="468360" y="620640"/>
            <a:ext cx="831528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gradFill rotWithShape="0">
                  <a:gsLst>
                    <a:gs pos="0">
                      <a:srgbClr val="ffcc99"/>
                    </a:gs>
                    <a:gs pos="50000">
                      <a:srgbClr val="993300"/>
                    </a:gs>
                    <a:gs pos="100000">
                      <a:srgbClr val="ffcc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Франц - Иосиф I</a:t>
            </a:r>
            <a:endParaRPr b="1" lang="en-US" sz="8000" spc="1" strike="noStrike">
              <a:ln w="0">
                <a:noFill/>
              </a:ln>
              <a:gradFill rotWithShape="0">
                <a:gsLst>
                  <a:gs pos="0">
                    <a:srgbClr val="ffcc99"/>
                  </a:gs>
                  <a:gs pos="50000">
                    <a:srgbClr val="993300"/>
                  </a:gs>
                  <a:gs pos="100000">
                    <a:srgbClr val="ffcc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53" name="Picture 6" descr="200px-Francis_Joseph_I"/>
          <p:cNvPicPr/>
          <p:nvPr/>
        </p:nvPicPr>
        <p:blipFill>
          <a:blip r:embed="rId2"/>
          <a:stretch/>
        </p:blipFill>
        <p:spPr>
          <a:xfrm>
            <a:off x="3564000" y="2133720"/>
            <a:ext cx="2084400" cy="32400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ранц – Иосиф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ное имя: Франц – Иоси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тели: Эрцгерцог Австрии Франц Карл (брат Фердинан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и королева Каро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ы жизни: 18 августа 1930 г – 21 ноября 1916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ды правления: 2 декабря 1848 – 21 ноября 1916 г, с 21 июня 1867 года – император Австро-Венг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 коронации: 2 декабря 1848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рак: 24 апреля 1854 года на графине Элизабет(Сис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franz_joseph_I_kaiser_oesterreich"/>
          <p:cNvPicPr/>
          <p:nvPr/>
        </p:nvPicPr>
        <p:blipFill>
          <a:blip r:embed="rId2"/>
          <a:stretch/>
        </p:blipFill>
        <p:spPr>
          <a:xfrm>
            <a:off x="7543800" y="333360"/>
            <a:ext cx="1600200" cy="230508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уал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3300">
              <a:alpha val="5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867 – заключено соглашение между Венгрией и Австрией (и династией Габсбург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а и обязанности обоих государств абсолютно идентичны. Исполнительные органы в лице кабинетов министров были ответственны перед парламентами своих стран (рейхсрат в Австрии и Государственное собрание в Венгрии), избирательная система основывалась на имущественном цен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ие дела: внешняя политика и оборона, в связи с этим 2 министерства: иностранных дел и военное, а затем финансовое, которое обслуживает только два предыдущ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кономическое развит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1867 год – период экономического подъема и модернизации устаревших общественных структ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48 – 1873  -первый удачный этап развития ст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1873 – период прогресса прерван повсеместным биржевым крахом, начинается период «депрессии», который длится почти до конца 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1896 – 1913 – страна продолжает свой экономический рост с новой силой за исключением небольшого спада 1903-1904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дущие позиции: у австро-чешского индустриального комплек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сокий технический уровень промышленных издел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щное развитие экономической мысли , развитие школы политэконо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7920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номическое разви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ый мощный рывок – в строительстве железных дорог, так что к 1870 году Австро-Венгрия занимала второе место после России по количеству современного вида трансп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1910 большое количество самодеятельного населения было занято  в аграрных и 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 делах, и лишь небольшое количество в промышленности, особенно на окраинах страны , из-за этого избыточное сельское население покидало стр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7 городов населением выше, чем 100 тыс.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7"/>
          <p:cNvGraphicFramePr/>
          <p:nvPr/>
        </p:nvGraphicFramePr>
        <p:xfrm>
          <a:off x="4716360" y="692280"/>
          <a:ext cx="3313080" cy="221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16360" y="692280"/>
                    <a:ext cx="3313080" cy="22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9"/>
          <p:cNvGraphicFramePr/>
          <p:nvPr/>
        </p:nvGraphicFramePr>
        <p:xfrm>
          <a:off x="4788000" y="2421000"/>
          <a:ext cx="3381120" cy="19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788000" y="2421000"/>
                    <a:ext cx="338112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11"/>
          <p:cNvGraphicFramePr/>
          <p:nvPr/>
        </p:nvGraphicFramePr>
        <p:xfrm>
          <a:off x="4716360" y="3933720"/>
          <a:ext cx="3686400" cy="2621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2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16360" y="3933720"/>
                    <a:ext cx="3686400" cy="262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уль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997520"/>
          </a:xfrm>
          <a:prstGeom prst="rect">
            <a:avLst/>
          </a:prstGeom>
          <a:solidFill>
            <a:srgbClr val="333333">
              <a:alpha val="63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витие науки, культуры, искус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ятели философии:  Б. Больцано, Э. Мах (эмириокритицизм),  Э. Гуссерль (феноменология), Л. Витгенштейн (аналитическая и лингвистическая философия), Георг Лукач (неомарксизм, эстети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циологи: К. Мангейм, К. Поппер, Ф. Хайек (теория либерального общест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оположник психоанализа, З. Фрей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узыканты: Г. Малер, А. Брукнер, Х. Вольф, А. Шёнберг, А. Б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удожники: Х. Макарт, Э. Шиле, г. Климт, О. Кокошка, В. Гропи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исатели: Х. фон Гофмансталь, Ст. Цвейг, Ф. Верфель, Р. Муз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явление классической и новой оперетты в Вене и Пеш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 «золотым веком» оперетты появляются Франц фон Зуппе, Йохан  Штраус – сын («король вальса»), К. Миллекк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еребряный век» - Ф. Легар, И. Кальман, К. Штоль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зникновение движения за мир. В 1889 опубликована книга Берты фон Зуттер «Оружие долой!»,  за что в 1905 году она была удостоена нобелевской премии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90- «Австрийское общество ми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180px-Johann_Strauss_II"/>
          <p:cNvPicPr/>
          <p:nvPr/>
        </p:nvPicPr>
        <p:blipFill>
          <a:blip r:embed="rId2"/>
          <a:srcRect l="0" t="0" r="0" b="23657"/>
          <a:stretch/>
        </p:blipFill>
        <p:spPr>
          <a:xfrm>
            <a:off x="6227640" y="189000"/>
            <a:ext cx="1298520" cy="1081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Безымянный"/>
          <p:cNvPicPr/>
          <p:nvPr/>
        </p:nvPicPr>
        <p:blipFill>
          <a:blip r:embed="rId3"/>
          <a:stretch/>
        </p:blipFill>
        <p:spPr>
          <a:xfrm>
            <a:off x="2050920" y="189000"/>
            <a:ext cx="1121040" cy="114624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ализм и национальный вопрос</a:t>
            </a:r>
            <a:br>
              <a:rPr sz="32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его решение Венгерским правитель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785440" cy="5661000"/>
          </a:xfrm>
          <a:prstGeom prst="rect">
            <a:avLst/>
          </a:prstGeom>
          <a:solidFill>
            <a:srgbClr val="006699">
              <a:alpha val="4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соответствие бурному индустриально-техническому прогрессу уровня политической консолидации разнородных составных элементов империи  и внутренней интеграции входивших в неё стран и зем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хи стали добиваться превращения дуализма в триализ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71 г. – ландтаг Чехии принимает резолюцию, требующую предоставления статуса, равного с Австрией и Венгр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чало 70х – «закон о равноправии национальностей», который был отвергнут лидерами невенгерских нар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чало 70-х: заключено венгеро-хорватское согла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амый бесправный народ в империи: словаки и украин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75 год – запрещается деятельность единственной культурно-просветительской организации словаков – Матица Словацкая, закрыты все словацкие гимназ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81 г. –Национальная партия румы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94г.  – лидер Национальной партии румын приговорен к заключ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895г. – созывается конгресс национальностей в Будапеш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уализм и национальный вопрос</a:t>
            </a:r>
            <a:br>
              <a:rPr sz="40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 его решение Австрийским правительств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6699">
              <a:alpha val="44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ящие круги Австрии не ставили перед собой цели превращение страны в мононациональное немецкое госу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растание национальных дви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 1879-1893 – главой кабинета министров был Эдуард Тааффе, создавший так называемое «железное кольц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ле 1867 – важную роль в политической жизни Цислейтании стала играть  лояльная Габсбургам и Австрии польская аристократия Гал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80 г. – правительство Тааффе обязало администрацию и суды Чехии вести дела на языке лица, чье дело разбирало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82 – разделение по языковому признаку Пражского универс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82 г. –после съезда в Линце «Всегерманского союза» в Австрии возникает пангерманское дви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897 г. – в целях равенства чешского и немецкого  в гос-нных учреждениях Чехии, Моравии и Силезии правительство Бадени сделало  обязательным знание чиновниками обоих язы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18:48:25Z</dcterms:created>
  <dc:creator>Ann</dc:creator>
  <dc:description/>
  <dc:language>en-US</dc:language>
  <cp:lastModifiedBy>LEGION</cp:lastModifiedBy>
  <dcterms:modified xsi:type="dcterms:W3CDTF">2015-01-14T10:03:09Z</dcterms:modified>
  <cp:revision>10</cp:revision>
  <dc:subject/>
  <dc:title>Слайд 1</dc:title>
</cp:coreProperties>
</file>