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13.jpeg" ContentType="image/jpeg"/>
  <Override PartName="/ppt/media/image8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20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62B5-8EE6-46DB-9BC5-F14432CD55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Австро-Венгрия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1870-19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2581-E3B4-4240-89BA-99FE1A39A0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Дуализм и национальный вопрос</a:t>
            </a:r>
            <a:br>
              <a:rPr sz="20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Этнические и религиозные противореч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езко возрастает численность еврейского населения Австро-Венг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6 год – выходит в печать главное произведение сионизма – «Еврейское государство» Т. Герц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0 – Т. Герцль организовывает первый Всемирный еврейский конгр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80-90 гг. –Йозеф Самуэль Блох  проповедовал  австрийскую идею и австрийский патриотизм, утверждая,  что естественное  состояние австрийских евреев – быть австрийскими патриотами,  а задача – добиваться компромисса между народами многонациональной Авст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3D02-84DF-4C9F-B1A4-8FC548EBC5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оциалистическое дви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67-1868 – введение конституционного строя в стр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8-1889 – первый съезд  австрийской социал-демократии провозглашает создание социал–демократической партии, которая позже становится одной из учредительниц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нтернацион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6 г –под давлением пролетариата было завоева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своеобразных социально-экономических  и этнополитических условиях  монархии на рубеже веков выросло и окрепло особое течение международной социалистической мысли и практики -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встромаркс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C8FD-EDD3-48C3-908C-C2A2C8E5AF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изис дуал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герский правящий класс поделился на 2 лагеря: сторонников дуализма(«Партия 67го года») и сторонников самостоятельности Венгрии(«Партия 48го года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97г – истек срок действия очередного экономического согла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ая цель социал-демократической партии  Венгрии: завоевать всеобщее избирательное право , в связи с чем с 1890-1913 было проведено множество собраний и митин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минационный момент кризиса дуализма – 1905 год, год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«венгерского кризи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феврале 1906 – насильно разогнан парл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7 г. Заключено новое экономическое соглашение на следующее десятилетие1907 г –новый этап обострения межнациональ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5 – 1914  - основная ассимиляция населения Венг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26A6-8514-48B2-B642-7E5E8C66A3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нешня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CA29-6B4D-455C-879E-4847E0E5D5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дипломатию Австро-Венгрии сильно влияло ее внутреннее устрой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ED7F-13E6-4062-BF07-2D9DD9B3E9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енгрия вступает в дуалистическое согла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лето1867 и весна 1869 – ожидается столкновение между Францией и Пруссией, во вовремя этого периода Наполеон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I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2 раза посещает Франца-Иосифа для решения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0 г. – франко-прусская вой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1 г. – министр иностранных дел – Андраша,  что привело к коренному повороту во внешней поли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3 г. – взаимное соглашение Франца-Иосифа и Александра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итуация с Германской империей и Россией была более спокойно, в отличие ситуации на Балк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8 г . – Австро-Венгрия оккупирует Боснию и Герцеговин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9 г . –заключена социальная конвенция  между Османской империей и Австро-Венгр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аключается союз Австро-Венгрии и Германии, направленный проти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итуация стабилизируется, когда в 1896 году Николай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сещает Вену, а позже Франц-Иосиф – Петербур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6A25-A297-4111-8FB5-72AB82D63E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3 – повторный визит Николая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I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Австрию, в результате подписано Мюрцштегское соглашение по вопросу о Македо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6 г . – иностранными делами Австро-Венгрии руководит теперь А. Эрента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7 г. – А. Эренталь предлагает проект триализма, ядром которого должна была стать Хорватия – Славо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тношения с Сербией обстояли хуже, ещё в 1906 году Сербия, опираясь на Россию,  заняла откровенно враждебную позицию относительно Австро-Венг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3E62-BABB-40F7-B1C5-92A3691DC0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прос Боснии и Герцеговин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стро-Венгрия и Балка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8- 1909 гг. – Боснийский кризис, в котором столкнулось несколько великих держав, возникла реальная угроза вооруженного конфликта между Габсбургами и сербско-прусской коали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а время австро-венгерской оккупация Босния и Герцеговина значительно модернизировал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3 – приход в Сербии к власти династии Карагеоргиевичей, которая начала резко враждебную политику по отношению к Авст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лючевой вопрос для Вены : о закреплении Бос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8 г. – младотурецкая револю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5 октября 1908 г. – Франц-Иосиф подписывает указ об аннексии Боснии и Герцегов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оссия объявила протест в связи с изданным указ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12 г. – Россия берет реванш, когда создается Балканский союз – антитурецкая коалиция в составе Сербии, Черногории, Болгарии и Греции, начинается первая Балканская война, в результате которой Австро-Венгрия и Турция терпят пора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13 г. –угроза новой войны, в результате котоой было подтверждено решение Лондонской конференции  от 27 декабря 1912 г. О создании независимого албанского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16A3-1774-419B-92F3-3B84F8A72F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лад кончился – просьба выйти из сумрак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7760-B075-4A3C-A300-6C0A332845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Georgia"/>
              </a:rPr>
              <a:t>Франц - Иосиф </a:t>
            </a: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3F2D-C038-41C4-96AD-A0CBA4C7CC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ц – Иосиф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имя: Франц – Иоси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: Эрцгерцог Австрии Франц Карл (брат Фердинанд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 королева Каро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ы жизни: 18 августа 1930 г – 21 ноября 191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ы правления: 2 декабря 1848 – 21 ноября 1916 г, с 21 июня 1867 года – император Австро-Венг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 коронации: 2 декабря 1848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к: 24 апреля 1854 года на графине Элизабет(Сис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6AD0-5F8E-4E2F-A5D2-A4B9EC2CAF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у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67 – заключено соглашение между Венгрией и Австрией (и династией Габсбург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ава и обязанности обоих государств абсолютно идентичны. Исполнительные органы в лице кабинетов министров были ответственны перед парламентами своих стран (рейхсрат в Австрии и Государственное собрание в Венгрии), избирательная система основывалась на имущественном ценз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бщие дела: внешняя политика и оборона, в связи с этим 2 министерства: иностранных дел и военное, а затем финансовое, которое обслуживает только два предыдущ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9998-3DA0-46FF-BC90-2B87546E33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номическое развит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867 год – период экономического подъема и модернизации устаревших общественных структ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48 – 1873  -первый удачный этап развития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873 – период прогресса прерван повсеместным биржевым крахом, начинается период «депрессии», который длится почти до конца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896 – 1913 – страна продолжает свой экономический рост с новой силой за исключением небольшого спада 1903-1904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ие позиции: у австро-чешского индустриального комплек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технический уровень промышленных издел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ное развитие экономической мысли , развитие школы политэконо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4423-6C3D-4C20-AA0F-A363FE11B9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ое 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мощный рывок – в строительстве железных дорог, так что к 1870 году Австро-Венгрия занимала второе место после России по количеству современного вида трансп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1910 большое количество самодеятельного населения было занято  в аграрных 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делах, и лишь небольшое количество в промышленности, особенно на окраинах страны , из-за этого избыточное сельское население покидало стра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7 городов населением выше, чем 100 тыс.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8617-D9F9-4B6E-B14F-A276701034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азвитие науки, культуры, искус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еятели философии:  Б. Больцано, Э. Мах (эмириокритицизм),  Э. Гуссерль (феноменология), Л. Витгенштейн (аналитическая и лингвистическая философия), Георг Лукач (неомарксизм, эстети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оциологи: К. Мангейм, К. Поппер, Ф. Хайек (теория либерального обще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сновоположник психоанализа, З. Фрей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узыканты: Г. Малер, А. Брукнер, Х. Вольф, А. Шёнберг, А. Бе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удожники: Х. Макарт, Э. Шиле, г. Климт, О. Кокошка, В. Гропи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исатели: Х. фон Гофмансталь, Ст. Цвейг, Ф. Верфель, Р. Муз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явление классической и новой оперетты в Вене и Пеш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а «золотым веком» оперетты появляются Франц фон Зуппе, Йохан  Штраус – сын («король вальса»), К. Миллекк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Серебряный век» - Ф. Легар, И. Кальман, К. Штоль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озникновение движения за мир. В 1889 опубликована книга Берты фон Зуттер «Оружие долой!»,  за что в 1905 году она была удостоена нобелевской премии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0- «Австрийское общество ми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A906-5AD2-40B3-8155-4812514E0F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уализм и национальный вопрос</a:t>
            </a:r>
            <a:br>
              <a:rPr sz="1800"/>
            </a:b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И его решение Венгерским правительство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есоответствие бурному индустриально-техническому прогрессу уровня политической консолидации разнородных составных элементов империи  и внутренней интеграции входивших в неё стран и зем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Чехи стали добиваться превращения дуализма в три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1 г. – ландтаг Чехии принимает резолюцию, требующую предоставления статуса, равного с Австрией и Венгр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чало 70х – «закон о равноправии национальностей», который был отвергнут лидерами невенгерских нар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чало 70-х: заключено венгеро-хорватское согла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амый бесправный народ в империи: словаки и украин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5 год – запрещается деятельность единственной культурно-просветительской организации словаков – Матица Словацкая, закрыты все словацкие гимна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1 г. –Национальная партия румы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4г.  – лидер Национальной партии румын приговорен к заключ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5г. – созывается конгресс национальностей в Будапеш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2CBD-AD9A-4AC3-B351-78E14172F1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уализм и национальный вопрос</a:t>
            </a:r>
            <a:br>
              <a:rPr sz="2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 его решение Австрийским правительств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авящие круги Австрии не ставили перед собой цели превращение страны в мононациональное немецкое 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растание национальных дви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1879-1893 – главой кабинета министров был Эдуард Тааффе, создавший так называемое «железное кольц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сле 1867 – важную роль в политической жизни Цислейтании стала играть  лояльная Габсбургам и Австрии польская аристократия Гали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0 г. – правительство Тааффе обязало администрацию и суды Чехии вести дела на языке лица, чье дело разбирало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2 – разделение по языковому признаку Пражского университ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2 г. –после съезда в Линце «Всегерманского союза» в Австрии возникает пангерманское дви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7 г. – в целях равенства чешского и немецкого  в гос-нных учреждениях Чехии, Моравии и Силезии правительство Бадени сделало  обязательным знание чиновниками обоих язы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4475-2A67-460B-A521-80863243CC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DA05-949A-4A32-B1EC-5B65DC54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4030-5DBE-4660-8B55-D93700B2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9554-3589-4302-B1EA-467D6DE87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64C1-AAE0-4916-BBCF-1C547E16E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8062-34CD-4930-BD72-3D714D35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0BE8-6DF5-4637-AF55-0A73A2D1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D970-1E65-4000-8305-CC89B013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1FE0-B4B8-4626-8EFB-4A391530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D2DD-31EA-4A6B-8C5A-A8BB4EE7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D2DA-A9E1-4429-9035-A0F9E4E8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0B92-1A96-440C-A30E-EF918BCC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41EF-6B04-44CE-BE8B-F188C1CA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5512-3BDE-4AC2-BE66-809E8A4AA7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00000" y="189000"/>
            <a:ext cx="7632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встро-Венгр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3708360" y="2060640"/>
            <a:ext cx="180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870-1914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Picture 7" descr="Kuk-doppeladler"/>
          <p:cNvPicPr/>
          <p:nvPr/>
        </p:nvPicPr>
        <p:blipFill>
          <a:blip r:embed="rId4"/>
          <a:stretch/>
        </p:blipFill>
        <p:spPr>
          <a:xfrm>
            <a:off x="3564000" y="3284640"/>
            <a:ext cx="2546280" cy="32400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уализм и национальный вопрос</a:t>
            </a:r>
            <a:br>
              <a:rPr sz="40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нические и религиозные противореч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84360" y="1700280"/>
            <a:ext cx="6275520" cy="4852800"/>
          </a:xfrm>
          <a:prstGeom prst="rect">
            <a:avLst/>
          </a:prstGeom>
          <a:solidFill>
            <a:srgbClr val="006699">
              <a:alpha val="4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зко возрастает численность еврейского населения Австро-Венг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896 год – выходит в печать главное произведение сионизма – «Еврейское государство» Т. Герц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0 – Т. Герцль организовывает первый Всемирный еврейский конгр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0-90 гг. –Йозеф Самуэль Блох  проповедовал  австрийскую идею и австрийский патриотизм, утверждая,  что естественное  состояние австрийских евреев – быть австрийскими патриотами,  а задача – добиваться компромисса между народами многонациональной Авс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p1101a"/>
          <p:cNvPicPr/>
          <p:nvPr/>
        </p:nvPicPr>
        <p:blipFill>
          <a:blip r:embed="rId2"/>
          <a:stretch/>
        </p:blipFill>
        <p:spPr>
          <a:xfrm>
            <a:off x="250920" y="1989000"/>
            <a:ext cx="2098440" cy="259092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оциалистическое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6699">
              <a:alpha val="4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867-1868 – введение конституционного строя в ст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888-1889 – первый съезд  австрийской социал-демократии провозглашает создание социал–демократической партии, которая позже становится одной из учредительниц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рнацион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6 г –под давлением пролетариата было завоева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воеобразных социально-экономических  и этнополитических условиях  монархии на рубеже веков выросло и окрепло особое течение международной социалистической мысли и практики -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встромаркс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ризис дуализ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8080">
              <a:alpha val="4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нгерский правящий класс поделился на 2 лагеря: сторонников дуализма(«Партия 67го года») и сторонников самостоятельности Венгрии(«Партия 48го года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97г – истек срок действия очередного экономического согла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ая цель социал-демократической партии  Венгрии: завоевать всеобщее избирательное право , в связи с чем с 1890-1913 было проведено множество собраний и митин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льминационный момент кризиса дуализма – 1905 год, го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«венгерского кризис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феврале 1906 – насильно разогнан парла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07 г. Заключено новое экономическое соглашение на следующее десятилетие1907 г –новый этап обострения межнациональных отнош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95 – 1914  - основная ассимиляция населения Венг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324000" y="4076640"/>
            <a:ext cx="8496000" cy="254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ешняя полити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а дипломатию Австро-Венгрии сильно влияло ее внутреннее устройство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ешняя поли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6699">
              <a:alpha val="28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нгрия вступает в дуалистическое согла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то1867 и весна 1869 – ожидается столкновение между Францией и Пруссией, во вовремя этого периода Наполеон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раза посещает Франца-Иосифа для решения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70 г. – франко-прусская вой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71 г. – министр иностранных дел – Андраша,  что привело к коренному повороту во внешней поли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73 г. – взаимное соглашение Франца-Иосифа и Александр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туация с Германской империей и Россией была более спокойно, в отличие ситуации на Балка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78 г . – Австро-Венгрия оккупирует Боснию и Герцегови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79 г . –заключена социальная конвенция  между Османской империей и Австро-Венгр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лючается союз Австро-Венгрии и Германии, направленный проти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туация стабилизируется, когда в 1896 году Николай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ещает Вену, а позже Франц-Иосиф – Петербу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ешняя поли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6699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3 – повторный визит Никола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I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Австрию, в результате подписано Мюрцштегское соглашение по вопросу о Македо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6 г . – иностранными делами Австро-Венгрии руководит теперь А. Эрент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7 г. – А. Эренталь предлагает проект триализма, ядром которого должна была стать Хорватия – Славо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ношения с Сербией обстояли хуже, ещё в 1906 году Сербия, опираясь на Россию,  заняла откровенно враждебную позицию относительно Австро-Венг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 Боснии и Герцеговин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встро-Венгрия и Балка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7640" y="1341360"/>
            <a:ext cx="9217080" cy="5516640"/>
          </a:xfrm>
          <a:prstGeom prst="rect">
            <a:avLst/>
          </a:prstGeom>
          <a:solidFill>
            <a:srgbClr val="006699">
              <a:alpha val="4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08- 1909 гг. – Боснийский кризис, в котором столкнулось несколько великих держав, возникла реальная угроза вооруженного конфликта между Габсбургами и сербско-прусской коали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время австро-венгерской оккупация Босния и Герцеговина значительно модернизировал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03 – приход в Сербии к власти династии Карагеоргиевичей, которая начала резко враждебную политику по отношению к Авст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ючевой вопрос для Вены : о закреплении Бос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08 г. – младотурецкая револю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 октября 1908 г. – Франц-Иосиф подписывает указ об аннексии Боснии и Герцегов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ссия объявила протест в связи с изданным указ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12 г. – Россия берет реванш, когда создается Балканский союз – антитурецкая коалиция в составе Сербии, Черногории, Болгарии и Греции, начинается первая Балканская война, в результате которой Австро-Венгрия и Турция терпят по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13 г. –угроза новой войны, в результате котоой было подтверждено решение Лондонской конференции  от 27 декабря 1912 г. О создании независимого албанского госуда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клад кончился – просьба выйти из сумрак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5"/>
          <p:cNvSpPr txBox="1"/>
          <p:nvPr/>
        </p:nvSpPr>
        <p:spPr>
          <a:xfrm>
            <a:off x="468360" y="620640"/>
            <a:ext cx="831528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ffcc99"/>
                    </a:gs>
                    <a:gs pos="50000">
                      <a:srgbClr val="993300"/>
                    </a:gs>
                    <a:gs pos="100000">
                      <a:srgbClr val="ffcc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Франц - Иосиф I</a:t>
            </a:r>
            <a:endParaRPr b="1" lang="en-US" sz="8000" spc="1" strike="noStrike">
              <a:ln w="0">
                <a:noFill/>
              </a:ln>
              <a:gradFill rotWithShape="0">
                <a:gsLst>
                  <a:gs pos="0">
                    <a:srgbClr val="ffcc99"/>
                  </a:gs>
                  <a:gs pos="50000">
                    <a:srgbClr val="993300"/>
                  </a:gs>
                  <a:gs pos="100000">
                    <a:srgbClr val="ffcc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53" name="Picture 6" descr="200px-Francis_Joseph_I"/>
          <p:cNvPicPr/>
          <p:nvPr/>
        </p:nvPicPr>
        <p:blipFill>
          <a:blip r:embed="rId2"/>
          <a:stretch/>
        </p:blipFill>
        <p:spPr>
          <a:xfrm>
            <a:off x="3564000" y="2133720"/>
            <a:ext cx="2084400" cy="32400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ранц – Иоси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ное имя: Франц – Иоси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тели: Эрцгерцог Австрии Франц Карл (брат Фердинан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и королева Каро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ы жизни: 18 августа 1930 г – 21 ноября 1916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ы правления: 2 декабря 1848 – 21 ноября 1916 г, с 21 июня 1867 года – император Австро-Венг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 коронации: 2 декабря 1848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ак: 24 апреля 1854 года на графине Элизабет(Сис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franz_joseph_I_kaiser_oesterreich"/>
          <p:cNvPicPr/>
          <p:nvPr/>
        </p:nvPicPr>
        <p:blipFill>
          <a:blip r:embed="rId2"/>
          <a:stretch/>
        </p:blipFill>
        <p:spPr>
          <a:xfrm>
            <a:off x="7543800" y="333360"/>
            <a:ext cx="1600200" cy="230508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уал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3300">
              <a:alpha val="5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867 – заключено соглашение между Венгрией и Австрией (и династией Габсбург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а и обязанности обоих государств абсолютно идентичны. Исполнительные органы в лице кабинетов министров были ответственны перед парламентами своих стран (рейхсрат в Австрии и Государственное собрание в Венгрии), избирательная система основывалась на имущественном цен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ие дела: внешняя политика и оборона, в связи с этим 2 министерства: иностранных дел и военное, а затем финансовое, которое обслуживает только два предыдущ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кономическое развит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1867 год – период экономического подъема и модернизации устаревших общественных струк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48 – 1873  -первый удачный этап развития ст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1873 – период прогресса прерван повсеместным биржевым крахом, начинается период «депрессии», который длится почти до конца 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1896 – 1913 – страна продолжает свой экономический рост с новой силой за исключением небольшого спада 1903-1904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дущие позиции: у австро-чешского индустриального комплек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кий технический уровень промышленных издел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щное развитие экономической мысли , развитие школы политэконо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20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номическое разви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ый мощный рывок – в строительстве железных дорог, так что к 1870 году Австро-Венгрия занимала второе место после России по количеству современного вида тран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1910 большое количество самодеятельного населения было занято  в аграрных и 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делах, и лишь небольшое количество в промышленности, особенно на окраинах страны , из-за этого избыточное сельское население покидало стр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7 городов населением выше, чем 100 тыс.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7"/>
          <p:cNvGraphicFramePr/>
          <p:nvPr/>
        </p:nvGraphicFramePr>
        <p:xfrm>
          <a:off x="4716360" y="692280"/>
          <a:ext cx="3313080" cy="221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16360" y="692280"/>
                    <a:ext cx="3313080" cy="22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9"/>
          <p:cNvGraphicFramePr/>
          <p:nvPr/>
        </p:nvGraphicFramePr>
        <p:xfrm>
          <a:off x="4788000" y="2421000"/>
          <a:ext cx="3381120" cy="19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2421000"/>
                    <a:ext cx="338112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11"/>
          <p:cNvGraphicFramePr/>
          <p:nvPr/>
        </p:nvGraphicFramePr>
        <p:xfrm>
          <a:off x="4716360" y="3933720"/>
          <a:ext cx="3686400" cy="2621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2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16360" y="3933720"/>
                    <a:ext cx="3686400" cy="26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997520"/>
          </a:xfrm>
          <a:prstGeom prst="rect">
            <a:avLst/>
          </a:prstGeom>
          <a:solidFill>
            <a:srgbClr val="333333">
              <a:alpha val="63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витие науки, культуры, искус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ятели философии:  Б. Больцано, Э. Мах (эмириокритицизм),  Э. Гуссерль (феноменология), Л. Витгенштейн (аналитическая и лингвистическая философия), Георг Лукач (неомарксизм, эстети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циологи: К. Мангейм, К. Поппер, Ф. Хайек (теория либерального общест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оположник психоанализа, З. Фрей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зыканты: Г. Малер, А. Брукнер, Х. Вольф, А. Шёнберг, А. Б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удожники: Х. Макарт, Э. Шиле, г. Климт, О. Кокошка, В. Гропи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исатели: Х. фон Гофмансталь, Ст. Цвейг, Ф. Верфель, Р. Муз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явление классической и новой оперетты в Вене и Пеш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 «золотым веком» оперетты появляются Франц фон Зуппе, Йохан  Штраус – сын («король вальса»), К. Миллекк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еребряный век» - Ф. Легар, И. Кальман, К. Штоль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никновение движения за мир. В 1889 опубликована книга Берты фон Зуттер «Оружие долой!»,  за что в 1905 году она была удостоена нобелевской премии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90- «Австрийское общество ми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180px-Johann_Strauss_II"/>
          <p:cNvPicPr/>
          <p:nvPr/>
        </p:nvPicPr>
        <p:blipFill>
          <a:blip r:embed="rId2"/>
          <a:srcRect l="0" t="0" r="0" b="23657"/>
          <a:stretch/>
        </p:blipFill>
        <p:spPr>
          <a:xfrm>
            <a:off x="6227640" y="189000"/>
            <a:ext cx="1298520" cy="1081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Безымянный"/>
          <p:cNvPicPr/>
          <p:nvPr/>
        </p:nvPicPr>
        <p:blipFill>
          <a:blip r:embed="rId3"/>
          <a:stretch/>
        </p:blipFill>
        <p:spPr>
          <a:xfrm>
            <a:off x="2050920" y="189000"/>
            <a:ext cx="1121040" cy="114624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ализм и национальный вопрос</a:t>
            </a:r>
            <a:br>
              <a:rPr sz="32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его решение Венгерским правитель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661000"/>
          </a:xfrm>
          <a:prstGeom prst="rect">
            <a:avLst/>
          </a:prstGeom>
          <a:solidFill>
            <a:srgbClr val="006699">
              <a:alpha val="4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соответствие бурному индустриально-техническому прогрессу уровня политической консолидации разнородных составных элементов империи  и внутренней интеграции входивших в неё стран и зем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хи стали добиваться превращения дуализма в т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71 г. – ландтаг Чехии принимает резолюцию, требующую предоставления статуса, равного с Австрией и Венгр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чало 70х – «закон о равноправии национальностей», который был отвергнут лидерами невенгерских нар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чало 70-х: заключено венгеро-хорватское согла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мый бесправный народ в империи: словаки и украин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75 год – запрещается деятельность единственной культурно-просветительской организации словаков – Матица Словацкая, закрыты все словацкие гимназ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81 г. –Национальная партия румы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94г.  – лидер Национальной партии румын приговорен к заклю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95г. – созывается конгресс национальностей в Будапеш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уализм и национальный вопрос</a:t>
            </a:r>
            <a:br>
              <a:rPr sz="40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его решение Австрийским правительст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6699">
              <a:alpha val="44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ящие круги Австрии не ставили перед собой цели превращение страны в мононациональное немецкое госу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растание национальных дви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1879-1893 – главой кабинета министров был Эдуард Тааффе, создавший так называемое «железное кольц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ле 1867 – важную роль в политической жизни Цислейтании стала играть  лояльная Габсбургам и Австрии польская аристократия Гал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80 г. – правительство Тааффе обязало администрацию и суды Чехии вести дела на языке лица, чье дело разбирал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82 – разделение по языковому признаку Пражского универс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82 г. –после съезда в Линце «Всегерманского союза» в Австрии возникает пангерманское дви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97 г. – в целях равенства чешского и немецкого  в гос-нных учреждениях Чехии, Моравии и Силезии правительство Бадени сделало  обязательным знание чиновниками обоих яз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18:48:25Z</dcterms:created>
  <dc:creator>Ann</dc:creator>
  <dc:description/>
  <dc:language>en-US</dc:language>
  <cp:lastModifiedBy>LEGION</cp:lastModifiedBy>
  <dcterms:modified xsi:type="dcterms:W3CDTF">2015-01-14T10:03:09Z</dcterms:modified>
  <cp:revision>10</cp:revision>
  <dc:subject/>
  <dc:title>Слайд 1</dc:title>
</cp:coreProperties>
</file>