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C8E2-9968-4ED7-A6B9-4AC40853C34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ские военачаль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 гражданской во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8B9A-0684-4819-9B2B-4F0A79BC1EF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Федорович Федьк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берт Янович Лап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D5E0-0A52-4C24-A1E5-97B5B20863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Николаевич Тухачевск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ан Сергеевич Вострец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CA7E-D67F-411F-8573-7356EA25C1D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 Михайлович Буде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Иванович Чап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6DA6-E20E-43A7-B90F-888969A300F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Васильевич Фрунз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ент Ефремович Вороши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04C9-E733-48CC-8EB8-E512B6C2A23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Константинович Блюхер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ероним Петрович Убор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4660-466D-497F-87FE-031E5D70620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горий Иванович Котовск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а Эммануилович Як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5A7F-EC82-4D72-9E15-F8577F8505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Ильич Егор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 Фрицевич Фабриц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9106-1813-4001-9E59-6D302F35AA3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Александрович Щор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сиф Родионович Апанас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BC3B-554B-4E4C-93A1-F675537E56A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 Иванович Городов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Яковлевич Пархом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DB22-A34C-46FB-82C5-300EDCD52D1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 Константинович  Тимошенк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й Дмитриевич Гай (Бжишкя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3218-9CC5-4D8D-B39A-5FCF03F4CC0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Сергеевич Камене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лий Маркович Прим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1A3E-7361-4A6E-AC9A-013ED737AA5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имир Мартинович (Михайлович) Ази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пифан Иович Ковтю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882E-0978-4090-826C-9B1D61C3FD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01C-7D89-40A6-9DF3-8675D70E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F6E1-EF78-4D55-A672-1F3A304D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EC2F-D99F-40D0-BD3A-0B5072A3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71D-6F68-41E5-A8FD-9D03C20A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D632-8F8F-43C3-B247-34E8D2C1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B556-9281-494F-82A3-BC1F642E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CEC7-F7CD-4410-8903-110E05F5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C60A-D51A-4318-AAF9-3AD35887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EFBD-5043-4921-8BE4-8E476116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B3DF-458B-420C-8654-D56A58C8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AB92-6A99-4F58-8D99-C5E139FE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30BE-AAB4-4212-84E9-00DAEA51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6612-C988-4E83-B759-C2D681DE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52F1-DBDF-4EFF-A37C-4F15AA1D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0614-3C93-49D8-81A0-B148B62C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8B24-1F86-4324-BF03-B5ED3B47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F7C1-4663-4581-8596-669B4615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B62-73AA-47BC-BFFD-AE6DB04A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66E-2AE3-40E3-86F1-B8FB2787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C8A-7685-4E44-8775-257C4451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DA3-01CC-4BDB-B293-7F634E10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A3E-940F-433A-8218-44358BFD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9214-C740-4485-AB79-2DA6F207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281-AE52-4748-962D-B2EA669E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EB8C-7B3E-4504-9BF1-EB068362A2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2F6C-1152-4A3D-969D-95444AC934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оветские военачальни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рои гражданской вой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ван Федорович Федько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Альберт Янович Лапин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705640" y="-10879200"/>
            <a:ext cx="360" cy="70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629400" cy="41479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-695160" y="-3841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Михаил Николаевич Тухачевский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тепан Сергеевич Вострецо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5734080" y="-10625040"/>
            <a:ext cx="3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662940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-666720" y="-3713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емен Михайлович Буденный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асилий Иванович Чапае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5705640" y="-10769760"/>
            <a:ext cx="360" cy="69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934320" cy="424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-695160" y="-3786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Михаил Васильевич Фрунзе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Климент Ефремович Ворошило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695920" y="-10806120"/>
            <a:ext cx="360" cy="70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7162920" cy="44960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-704880" y="-3805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асилий Константинович Блюхер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ероним Петрович Уборевич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753160" y="-10696680"/>
            <a:ext cx="360" cy="69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705720" cy="43434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-647640" y="-3749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Григорий Иванович Котовский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она Эммануилович Якир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5657760" y="-10841040"/>
            <a:ext cx="360" cy="70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705360" cy="4343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-743040" y="-382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Александр Ильич Егоров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Ян Фрицевич Фабрициус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676840" y="-10915560"/>
            <a:ext cx="360" cy="70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705720" cy="4705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-723960" y="-386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Николай Александрович Щорс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осиф Родионович Апанасенко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5734080" y="-10987200"/>
            <a:ext cx="360" cy="70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705360" cy="4659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-666720" y="-389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Ока Иванович Городовиков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Александр Яковлевич Пархоменко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695920" y="-10987200"/>
            <a:ext cx="360" cy="70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-704880" y="-389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емен Константинович  Тимошенко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Гай Дмитриевич Гай (Бжишкян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734080" y="-10659960"/>
            <a:ext cx="360" cy="69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248520" cy="40384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-666720" y="-3730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ергей Сергеевич Каменев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италий Маркович Примако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686560" y="-10879200"/>
            <a:ext cx="360" cy="70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096240" cy="38480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-714240" y="-3841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ладимир Мартинович (Михайлович) Азин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Епифан Иович Ковтюх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724360" y="-10806120"/>
            <a:ext cx="360" cy="70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705720" cy="46483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-676440" y="-3805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8:48:31Z</dcterms:created>
  <dc:creator>Наташа</dc:creator>
  <dc:description/>
  <dc:language>en-US</dc:language>
  <cp:lastModifiedBy>LEGION</cp:lastModifiedBy>
  <dcterms:modified xsi:type="dcterms:W3CDTF">2015-01-14T10:03:45Z</dcterms:modified>
  <cp:revision>3</cp:revision>
  <dc:subject/>
  <dc:title>Советские военачальники</dc:title>
</cp:coreProperties>
</file>