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8F1F-C7BA-4B16-A62B-657657D1CF7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ские военача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 гражданской 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BE66-D68C-4C37-8BCC-7BD8666FB90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Федорович Федь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Янович Лап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3BC5-9278-4154-A981-98FD8C614E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Николаевич Тухаче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ан Сергеевич Вострец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49FB-7855-452A-83DC-0700394E75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Михайлович Буд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Иванович Чап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A60A-F278-4B48-8F77-C44E6CB6583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Фрунз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ент Ефремович Вороши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191-A058-4A75-9181-572A179BC97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Константинович Блюхе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оним Петрович Убор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2EC1-5CAA-49F1-B8B3-5F7A724526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горий Иванович Котовск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на Эммануилович Як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D44C-A53A-4D20-B663-251398C679C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льич Ег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 Фрицевич Фабриц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2E9-4C9E-4BD7-A132-808A34E38D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лександрович Щор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сиф Родионович Апанас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A54B-E538-423E-8FA8-8E57946CAE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 Иванович Городов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Яковлевич Пархом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EB82-DE76-401C-BB9B-A899F0D0FD7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 Константинович  Тимошенк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й Дмитриевич Гай (Бжишкя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D8E-24E0-4368-9BD0-619DE32BD3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Сергеевич Камене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лий Маркович Прим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5F16-652F-493A-A01E-5EFB90B813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имир Мартинович (Михайлович) Ази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пифан Иович Ковтю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06E2-8516-41D1-B988-8793AF307B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1CE-7D6D-4C59-9F12-1DBD7644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0C4-84B4-4F41-9770-7F98F6E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C79-489D-41C0-82AF-65D99243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932-80D9-40CE-B5DF-32D074B0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A033-5B98-4399-8291-1DD5BA80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CC09-3122-451C-B924-890C85B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36C2-527A-490A-892D-7976B743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3C72-3FCF-4E38-983E-88DA2C78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D239-E834-409F-9E47-8B5BD3A6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619C-AFCA-45CF-990B-8125500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4570-B2AF-44FB-9A54-0591D076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DB1-B3BC-4CBE-94F2-93EAC4D4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80AB-B4F8-446B-BD09-D2A6638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16C0-AA87-4554-BA35-07958C81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83D-DC3C-44FC-8A8E-BE3250C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6516-B3C6-401B-BB31-16D6B008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92BB-F830-4458-8A9D-81DC9005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F2F-FF2E-4210-8095-83868B5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F1A-5BDA-458F-8564-3AAA6C2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374-2D4B-40AF-977A-5AB084EA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DBD-C38D-4EEC-8C06-7F37C9F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BDE-49E7-4707-AE7C-50035AB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564-CDBA-4673-980B-45F64E31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DB9C-8A03-4E15-9479-9F7254D4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F62F-180A-4968-9ADB-6C121722A9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6728-4932-4528-8313-FDF65FC72F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оветские военачальн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рои гражданск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ван Федорович Федь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ьберт Янович Лапин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70564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629400" cy="41479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-69516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Николаевич Тухаче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тепан Сергеевич Вострец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5734080" y="-10625040"/>
            <a:ext cx="360" cy="69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62940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-666720" y="-3713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Михайлович Буденны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Иванович Чапае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705640" y="-10769760"/>
            <a:ext cx="360" cy="69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34320" cy="424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-695160" y="-3786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Михаил Васильевич Фрунзе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Климент Ефремович Ворошил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69592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162920" cy="44960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-70488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асилий Константинович Блюхер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ероним Петрович Уборевич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5753160" y="-10696680"/>
            <a:ext cx="360" cy="69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705720" cy="4343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-647640" y="-3749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ригорий Иванович Котовский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на Эммануилович Якир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657760" y="-10841040"/>
            <a:ext cx="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-743040" y="-382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Ильич Егор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Ян Фрицевич Фабрициус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76840" y="-10915560"/>
            <a:ext cx="360" cy="70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705720" cy="47052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-723960" y="-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Николай Александрович Щорс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Иосиф Родионович Апанас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73408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705360" cy="4659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-66672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Ока Иванович Городовико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Александр Яковлевич Пархоменко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695920" y="-10987200"/>
            <a:ext cx="360" cy="70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-704880" y="-38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мен Константинович  Тимошенко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Гай Дмитриевич Гай (Бжишкян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734080" y="-10659960"/>
            <a:ext cx="360" cy="69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24852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-666720" y="-3730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Сергей Сергеевич Каменев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италий Маркович Примаков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686560" y="-10879200"/>
            <a:ext cx="36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096240" cy="38480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-714240" y="-3841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Владимир Мартинович (Михайлович) Азин</a:t>
            </a:r>
            <a:br>
              <a:rPr sz="2800"/>
            </a:br>
            <a:r>
              <a:rPr b="0" lang="ru-RU" sz="2800" spc="-1" strike="noStrike">
                <a:solidFill>
                  <a:srgbClr val="221304"/>
                </a:solidFill>
                <a:latin typeface="Times New Roman"/>
              </a:rPr>
              <a:t>Епифан Иович Ковтюх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724360" y="-10806120"/>
            <a:ext cx="36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7057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-676440" y="-3805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8:48:31Z</dcterms:created>
  <dc:creator>Наташа</dc:creator>
  <dc:description/>
  <dc:language>en-US</dc:language>
  <cp:lastModifiedBy>LEGION</cp:lastModifiedBy>
  <dcterms:modified xsi:type="dcterms:W3CDTF">2015-01-14T10:03:45Z</dcterms:modified>
  <cp:revision>3</cp:revision>
  <dc:subject/>
  <dc:title>Советские военачальники</dc:title>
</cp:coreProperties>
</file>