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5.png" ContentType="image/png"/>
  <Override PartName="/ppt/media/image9.gif" ContentType="image/gif"/>
  <Override PartName="/ppt/media/image8.gif" ContentType="image/gif"/>
  <Override PartName="/ppt/media/image18.jpeg" ContentType="image/jpeg"/>
  <Override PartName="/ppt/media/image1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67E9-7344-4FFE-99F4-ACD0A6CE086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рес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8829-ED8F-4693-BA81-BB31B785B7F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Значение реформ Рузвель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Новый курс» обеспечил Рузвельту поддержку всего населения. Про-тив выступили монопо листы. В 1936г.Верхов-ный суд США даже от-менил ряд законов. Но на выборах 1936 г. Руз-вельт вновь одержал победу. Он смог под-нять уровень жизни, ра сширил рынки, норма-лизовал отношения с СССР.В ходе реформ капиталистическое об-щество изменило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5CE5-4D5A-41CF-B0F5-B438894378F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Значение реформ Рузвель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питализм был ограничен и подчинился го-сударству.Запад вступил в стадию индуст-риального общества.Были расширены пра-ва профсоюзов.Но монополизм экономики только усилился.В итоге сложился государ-ственно-монополистический капитализм.Го-сударство ограничивало монополии и про-водило сильную социальную поли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58A4-A6B8-4B85-8439-D071A0EF0E8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Усиление роли государства в экономик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сударственное регули рование ранее прово-дилось в СССР в го-ды НЭПа и оно стало образцом для стран Запада.В 1933 г. по пу-ти регулирования по-шли Италия и Герма-ния, но они свернули на путь тоталитариз-ма.Демократический вариант был осущес-твлен в Швеции и Да-нии.Во Франции пра-вительство «Народно го фронта» провело реформы в духе «Но-вого курс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7960-7982-4418-B6A9-944961EBC20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Усиление роли государства в экономик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Великобритании 2-ы к власти приходили лейбористы,но прео-долеть трудности они не смогли и в сер. 30-х гг.к власти возврати лись консерват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мократические вари-анты реформ прошли и в Латинской Амери-ке.В 1934-40 гг в Мек-сике Л.Карденас наци-онализировал нефтя-ную промышленность железные дороги и передал часть земли  крестья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BF1E-3CE8-4CBC-8FDF-FAD56524746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План уро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Начало Великой депр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Социальные последствия депр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«Новый курс» Ф.Рузвель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Значение реформ Рузвель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Усиление роли государства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6175-C86A-4F1A-B90C-9A87F087882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0504d"/>
                </a:solidFill>
                <a:latin typeface="Calibri"/>
              </a:rPr>
              <a:t>Задание на урок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привело к «Великому кризису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акие меры способствовали выходу из не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E998-182D-45CC-9A97-9E955812693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Начало Великой депресс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ктябре 1929 г. рухнул финансовый рынок США.Закрылось 5 тыс. банков, вкладчики по теряли 10-и тыс.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$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Вслед за США кризис пора зил Европу.Промышленное производство упало в 2-5 раз.Начался Великий кризис. Его причины крылись в нерегулируемости эко-номики Запада.Банки активно занимались биржевыми спекуляциями и не вкладывали капиталы в реальное произво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B1DA-752E-40C2-B0A4-37FF40B3584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Начало Великой депресс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ровой рынок сбыта оказался перенасы-щен товарами, а по-купательная спосо-бность населения была низкой.Биржи этих тенденций не учитывали и занима лись спекуляцией ценных бум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рыв между произ-водством и потреб-лением и привел к кризису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1933 г. в США банки не рабо-тали,люди не могли покупать товары, свободных капита-лов не бы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4768-D079-4ADD-9512-F2DDEACD913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Социальные последствия депресс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вень жизни миллионов людей упал.Фер-меры продав товар не могли рассчитаться с долгами.Горожане не могли покупать про-довольствие.В США расцвела мафия,полу-чавшая прибыли от нелегального производ ства и продажи алког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чие,безработные,разорившиеся предпри  нимателиначали борьбу за свои права.Бо-льшое влияние получили коммунисты и фашис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CC91-D336-4EB5-BDD4-7CE5BAD54DD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Социальные последствия депресс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ни требовали изменения экономической сис темы.Фермеры блокировали дороги.В 1932-33 г. страну охватили «Марши голодных». Во время одного из них во главе колонн шли ветераны 1 мировой воны.Они блоки-ровали Белый дом и президент Гувер от-дал приказ разгромить безработных. Это только обострило ситуацию в стр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EB9D-FA9E-4FC8-A6F5-F718C24DA8F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«Новый курс» Ф.Рузвель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ход из ситуации был или в установлении диктатуры,или в огра-ничении свободного предпринимательства В 1932 г. президентом США стал Ф.Рузвельт предложивший вто-рой вариа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го «Новый курс» преду сматривал банкротст-во несостоятельных банков,страхование вкладов,государственное регул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17 отраслях вводи-лись Администрации и правила «честной конкуренц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85F8-A2AA-410F-9058-2219E15D6A6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«Новый курс» Ф.Рузвель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водились единые це-ны,распределялся ры нок сбыта,ограничива лся рабочий день,вво дилась минимальная зарпл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ельском хозяйстве излишние посевные площади сокраща-л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ыл отменен «сухой за- кон».В 1935 г. были подписаны коллектив ные договоры между предпринимателями и профсоюзами. Паде-ние производства пос тепенно прекратилось но подъем не насту-п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F0DA-A7CA-443F-BF4B-F3EFBDFABF0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5C7A8-3F99-4BC1-B0A7-F6DEACC24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9D102-F494-4F9B-A566-AF9A8E66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16146-F220-466F-956B-8C75E0A38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8565B-644B-4579-B715-E5817C323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0500-E629-4BCC-9065-CF17BEE2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F4EE-B794-4642-A111-EAF8E5E8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4B68-280D-4FF6-BBFE-88E96117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A223-5CC9-418B-ACB3-C38BC2AD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F22C-287A-43FC-BEFB-A80BA19B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792A-8843-4425-A6F4-B33CE61C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EE07-4138-4DA5-B4C6-C15C0E3A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7BB4B-959A-44FF-A0E7-D43E296C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ADB9-AB88-450D-89DD-189DB5C2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DD47-7A8E-49E6-AA15-B40678B1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922C-3F5B-4212-9ED0-EB717692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AFB9-A516-4A37-9B6F-86ADF9911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7EAC-C15B-4D04-BA06-F27A5F354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AE32B-4806-4F24-A536-911F4A3D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610BB-A67B-4CD1-9B90-9B636CC6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BB717-4483-48FA-BE25-B5B873B3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7F045-3F3B-45C7-8415-7FE27D7C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28FDD-9351-45B4-969C-4B7D769F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DC6B9-2DCE-471D-9F97-773175D0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82E69-986E-42CC-9DF3-98F2AAF2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100000">
              <a:srgbClr val="1818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81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f0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20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02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02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91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d1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a1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646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646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646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646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39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39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646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C75B-6EF1-41B3-AF71-4FD6F67CA4F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100000">
              <a:srgbClr val="191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81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f0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20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02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02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91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d1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a1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41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41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41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41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d1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d1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41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21BB-F8BA-46C1-A023-46E6C4EA9C0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7"/>
          <p:cNvSpPr/>
          <p:nvPr/>
        </p:nvSpPr>
        <p:spPr>
          <a:xfrm>
            <a:off x="2061360" y="2844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Урок №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28"/>
          <p:cNvSpPr/>
          <p:nvPr/>
        </p:nvSpPr>
        <p:spPr>
          <a:xfrm>
            <a:off x="7166880" y="3024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9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WordArt 29"/>
          <p:cNvSpPr txBox="1"/>
          <p:nvPr/>
        </p:nvSpPr>
        <p:spPr>
          <a:xfrm>
            <a:off x="644364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Новейш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24" name="WordArt 30"/>
          <p:cNvSpPr txBox="1"/>
          <p:nvPr/>
        </p:nvSpPr>
        <p:spPr>
          <a:xfrm>
            <a:off x="175104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pSp>
        <p:nvGrpSpPr>
          <p:cNvPr id="525" name="Group 39"/>
          <p:cNvGrpSpPr/>
          <p:nvPr/>
        </p:nvGrpSpPr>
        <p:grpSpPr>
          <a:xfrm>
            <a:off x="0" y="0"/>
            <a:ext cx="8588520" cy="6858000"/>
            <a:chOff x="0" y="0"/>
            <a:chExt cx="8588520" cy="6858000"/>
          </a:xfrm>
        </p:grpSpPr>
        <p:grpSp>
          <p:nvGrpSpPr>
            <p:cNvPr id="526" name="Group 35"/>
            <p:cNvGrpSpPr/>
            <p:nvPr/>
          </p:nvGrpSpPr>
          <p:grpSpPr>
            <a:xfrm>
              <a:off x="0" y="0"/>
              <a:ext cx="8588520" cy="6858000"/>
              <a:chOff x="0" y="0"/>
              <a:chExt cx="8588520" cy="6858000"/>
            </a:xfrm>
          </p:grpSpPr>
          <p:pic>
            <p:nvPicPr>
              <p:cNvPr id="527" name="Picture 25" descr="MFSTRP06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352520" cy="685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8" name="Picture 34" descr="1"/>
              <p:cNvPicPr/>
              <p:nvPr/>
            </p:nvPicPr>
            <p:blipFill>
              <a:blip r:embed="rId2"/>
              <a:stretch/>
            </p:blipFill>
            <p:spPr>
              <a:xfrm>
                <a:off x="7162920" y="3276720"/>
                <a:ext cx="1425600" cy="2233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29" name="Picture 36" descr="2"/>
            <p:cNvPicPr/>
            <p:nvPr/>
          </p:nvPicPr>
          <p:blipFill>
            <a:blip r:embed="rId3"/>
            <a:stretch/>
          </p:blipFill>
          <p:spPr>
            <a:xfrm>
              <a:off x="1716120" y="1736640"/>
              <a:ext cx="2049480" cy="232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0" name="WordArt 38"/>
          <p:cNvSpPr txBox="1"/>
          <p:nvPr/>
        </p:nvSpPr>
        <p:spPr>
          <a:xfrm>
            <a:off x="3506760" y="2187720"/>
            <a:ext cx="3589200" cy="21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3240">
                  <a:solidFill>
                    <a:srgbClr val="ffcc66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d6b19c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7a3d"/>
                  </a:outerShdw>
                </a:effectLst>
                <a:latin typeface="Times New Roman"/>
              </a:rPr>
              <a:t>Великая </a:t>
            </a:r>
            <a:endParaRPr b="0" lang="en-US" sz="1800" spc="1" strike="noStrike">
              <a:ln cap="sq" w="3240">
                <a:solidFill>
                  <a:srgbClr val="ffcc66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d6b19c"/>
                  </a:gs>
                </a:gsLst>
                <a:lin ang="0"/>
              </a:gradFill>
              <a:effectLst>
                <a:outerShdw dist="17819" dir="2700000" blurRad="0" rotWithShape="0">
                  <a:srgbClr val="997a3d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3240">
                  <a:solidFill>
                    <a:srgbClr val="ffcc66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d6b19c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7a3d"/>
                  </a:outerShdw>
                </a:effectLst>
                <a:latin typeface="Times New Roman"/>
              </a:rPr>
              <a:t>депрессия.</a:t>
            </a:r>
            <a:endParaRPr b="0" lang="en-US" sz="1800" spc="1" strike="noStrike">
              <a:ln cap="sq" w="3240">
                <a:solidFill>
                  <a:srgbClr val="ffcc66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d6b19c"/>
                  </a:gs>
                </a:gsLst>
                <a:lin ang="0"/>
              </a:gradFill>
              <a:effectLst>
                <a:outerShdw dist="17819" dir="2700000" blurRad="0" rotWithShape="0">
                  <a:srgbClr val="997a3d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Значение реформ Рузвельта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787640" y="692280"/>
            <a:ext cx="4203720" cy="6013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Новый курс» обеспечил Рузвельту поддержку всего населения. Про-тив выступили монопо листы. В 1936г.Верхов-ный суд США даже от-менил ряд законов. Но на выборах 1936 г. Руз-вельт вновь одержал победу. Он смог под-нять уровень жизни, ра сширил рынки, норма-лизовал отношения с СССР.В ходе реформ капиталистическое об-щество изменило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1586160" y="5626080"/>
            <a:ext cx="2942280" cy="82548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лотина в дол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ннесс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Picture 9" descr="Рисунок4"/>
          <p:cNvPicPr/>
          <p:nvPr/>
        </p:nvPicPr>
        <p:blipFill>
          <a:blip r:embed="rId3"/>
          <a:stretch/>
        </p:blipFill>
        <p:spPr>
          <a:xfrm>
            <a:off x="1476360" y="907920"/>
            <a:ext cx="3121200" cy="4524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8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7" descr="Рисунок3"/>
          <p:cNvPicPr/>
          <p:nvPr/>
        </p:nvPicPr>
        <p:blipFill>
          <a:blip r:embed="rId1"/>
          <a:stretch/>
        </p:blipFill>
        <p:spPr>
          <a:xfrm>
            <a:off x="4859280" y="655560"/>
            <a:ext cx="3816360" cy="2949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85" name="Picture 3" descr="MFSTRP06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Значение реформ Рузвельта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547640" y="3645000"/>
            <a:ext cx="7444080" cy="30607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питализм был ограничен и подчинился го-сударству.Запад вступил в стадию индуст-риального общества.Были расширены пра-ва профсоюзов.Но монополизм экономики только усилился.В итоге сложился государ-ственно-монополистический капитализм.Го-сударство ограничивало монополии и про-водило сильную социальную полити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1733040" y="1444680"/>
            <a:ext cx="2619000" cy="119124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.Рузвельт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.Уоллес 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борах 1940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925040" cy="53316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Усиление роли государства в экономике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952520" y="609480"/>
            <a:ext cx="4038840" cy="60962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сударственное регули рование ранее прово-дилось в СССР в го-ды НЭПа и оно стало образцом для стран Запада.В 1933 г. по пу-ти регулирования по-шли Италия и Герма-ния, но они свернули на путь тоталитариз-ма.Демократический вариант был осущес-твлен в Швеции и Да-нии.Во Франции пра-вительство «Народно го фронта» провело реформы в духе «Но-вого курса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6"/>
          <p:cNvSpPr/>
          <p:nvPr/>
        </p:nvSpPr>
        <p:spPr>
          <a:xfrm>
            <a:off x="1921680" y="4508640"/>
            <a:ext cx="2466720" cy="192276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ля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Герма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нкнот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50 млрд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00 млн мар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4" name="Picture 8" descr="Рисунок2"/>
          <p:cNvPicPr/>
          <p:nvPr/>
        </p:nvPicPr>
        <p:blipFill>
          <a:blip r:embed="rId3"/>
          <a:stretch/>
        </p:blipFill>
        <p:spPr>
          <a:xfrm>
            <a:off x="1476360" y="836640"/>
            <a:ext cx="3311640" cy="3224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9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925040" cy="53316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Усиление роли государства в экономике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952520" y="609480"/>
            <a:ext cx="4038840" cy="60962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Великобритании 2-ы к власти приходили лейбористы,но прео-долеть трудности они не смогли и в сер. 30-х гг.к власти возврати лись консерва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мократические вари-анты реформ прошли и в Латинской Амери-ке.В 1934-40 гг в Мек-сике Л.Карденас наци-онализировал нефтя-ную промышленность железные дороги и передал часть земли  крестьян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1600200" y="5589720"/>
            <a:ext cx="3147840" cy="82548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асаро Кардена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зидент Мекс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Picture 8" descr="Рисунок1"/>
          <p:cNvPicPr/>
          <p:nvPr/>
        </p:nvPicPr>
        <p:blipFill>
          <a:blip r:embed="rId3"/>
          <a:stretch/>
        </p:blipFill>
        <p:spPr>
          <a:xfrm>
            <a:off x="1476360" y="765000"/>
            <a:ext cx="3319560" cy="4627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0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8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467840" cy="76212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лан урока.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467840" cy="4114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Начало Великой депресс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Социальные последствия депресс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 «Новый курс» Ф.Рузвель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.Значение реформ Рузвель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.Усиление роли государства в экономи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14" descr="ag00029_"/>
          <p:cNvPicPr/>
          <p:nvPr/>
        </p:nvPicPr>
        <p:blipFill>
          <a:blip r:embed="rId3"/>
          <a:stretch/>
        </p:blipFill>
        <p:spPr>
          <a:xfrm>
            <a:off x="76320" y="5562720"/>
            <a:ext cx="1295280" cy="1028520"/>
          </a:xfrm>
          <a:prstGeom prst="rect">
            <a:avLst/>
          </a:prstGeom>
          <a:ln w="0">
            <a:noFill/>
          </a:ln>
        </p:spPr>
      </p:pic>
      <p:sp>
        <p:nvSpPr>
          <p:cNvPr id="53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467840" cy="76212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Задание на урок.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467840" cy="53341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Что привело к «Великому кризису»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Какие меры способствовали выходу из него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5" descr="ag00317_"/>
          <p:cNvPicPr/>
          <p:nvPr/>
        </p:nvPicPr>
        <p:blipFill>
          <a:blip r:embed="rId3"/>
          <a:stretch/>
        </p:blipFill>
        <p:spPr>
          <a:xfrm>
            <a:off x="0" y="5105520"/>
            <a:ext cx="1246320" cy="1600200"/>
          </a:xfrm>
          <a:prstGeom prst="rect">
            <a:avLst/>
          </a:prstGeom>
          <a:ln w="0">
            <a:noFill/>
          </a:ln>
        </p:spPr>
      </p:pic>
      <p:sp>
        <p:nvSpPr>
          <p:cNvPr id="54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8" descr="Рисунок10"/>
          <p:cNvPicPr/>
          <p:nvPr/>
        </p:nvPicPr>
        <p:blipFill>
          <a:blip r:embed="rId1"/>
          <a:stretch/>
        </p:blipFill>
        <p:spPr>
          <a:xfrm>
            <a:off x="4140360" y="399960"/>
            <a:ext cx="4535280" cy="3102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43" name="Picture 2" descr="MFSTRP06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Начало Великой депрессии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476360" y="3500280"/>
            <a:ext cx="7515360" cy="320544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октябре 1929 г. рухнул финансовый рынок США.Закрылось 5 тыс. банков, вкладчики по теряли 10-и тыс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Вслед за США кризис пора зил Европу.Промышленное производство упало в 2-5 раз.Начался Великий кризис. Его причины крылись в нерегулируемости эко-номики Запада.Банки активно занимались биржевыми спекуляциями и не вкладывали капиталы в реальное производ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1658520" y="1593720"/>
            <a:ext cx="1948680" cy="82548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зис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ью-Йор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3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Начало Великой депрессии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219640" y="620280"/>
            <a:ext cx="3772080" cy="6085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ровой рынок сбыта оказался перенасы-щен товарами, а по-купательная спосо-бность населения была низкой.Биржи этих тенденций не учитывали и занима лись спекуляцией ценных бума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азрыв между произ-водством и потреб-лением и привел к кризису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1933 г. в США банки не рабо-тали,люди не могли покупать товары, свободных капита-лов не бы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6"/>
          <p:cNvSpPr/>
          <p:nvPr/>
        </p:nvSpPr>
        <p:spPr>
          <a:xfrm>
            <a:off x="1761480" y="5300640"/>
            <a:ext cx="2968200" cy="119124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.Белл- «Кор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ампанского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ргует яблок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Picture 8" descr="Рисунок9"/>
          <p:cNvPicPr/>
          <p:nvPr/>
        </p:nvPicPr>
        <p:blipFill>
          <a:blip r:embed="rId3"/>
          <a:stretch/>
        </p:blipFill>
        <p:spPr>
          <a:xfrm>
            <a:off x="1835280" y="765000"/>
            <a:ext cx="2860560" cy="434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5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8" descr="Рисунок8"/>
          <p:cNvPicPr/>
          <p:nvPr/>
        </p:nvPicPr>
        <p:blipFill>
          <a:blip r:embed="rId1"/>
          <a:stretch/>
        </p:blipFill>
        <p:spPr>
          <a:xfrm>
            <a:off x="4211640" y="512640"/>
            <a:ext cx="4537080" cy="2916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55" name="Picture 2" descr="MFSTRP06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Социальные последствия депрессии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618920" y="3500280"/>
            <a:ext cx="7372440" cy="320544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ровень жизни миллионов людей упал.Фер-меры продав товар не могли рассчитаться с долгами.Горожане не могли покупать про-довольствие.В США расцвела мафия,полу-чавшая прибыли от нелегального производ ства и продажи алкого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бочие,безработные,разорившиеся предпри  нимателиначали борьбу за свои права.Бо-льшое влияние получили коммунисты и фашис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1560240" y="1444680"/>
            <a:ext cx="2324880" cy="119124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гент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мощ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работ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8" descr="Рисунок7"/>
          <p:cNvPicPr/>
          <p:nvPr/>
        </p:nvPicPr>
        <p:blipFill>
          <a:blip r:embed="rId1"/>
          <a:stretch/>
        </p:blipFill>
        <p:spPr>
          <a:xfrm>
            <a:off x="4140360" y="620640"/>
            <a:ext cx="4676760" cy="3089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61" name="Picture 3" descr="MFSTRP06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Социальные последствия депрессии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618920" y="3645000"/>
            <a:ext cx="7372440" cy="30607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и требовали изменения экономической сис темы.Фермеры блокировали дороги.В 1932-33 г. страну охватили «Марши голодных». Во время одного из них во главе колонн шли ветераны 1 мировой воны.Они блоки-ровали Белый дом и президент Гувер от-дал приказ разгромить безработных. Это только обострило ситуацию в стра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1515600" y="1444680"/>
            <a:ext cx="2324880" cy="119124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сплатн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дача су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работ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«Новый курс» Ф.Рузвельта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952520" y="609480"/>
            <a:ext cx="4038840" cy="60962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ход из ситуации был или в установлении диктатуры,или в огра-ничении свободного предпринимательства В 1932 г. президентом США стал Ф.Рузвельт предложивший вто-рой вариан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го «Новый курс» преду сматривал банкротст-во несостоятельных банков,страхование вкладов,государственное регулиров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17 отраслях вводи-лись Администрации и правила «честной конкуренци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1993320" y="5877000"/>
            <a:ext cx="2323440" cy="45972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.Д.Рузвель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0" name="Picture 9" descr="Рисунок6"/>
          <p:cNvPicPr/>
          <p:nvPr/>
        </p:nvPicPr>
        <p:blipFill>
          <a:blip r:embed="rId3"/>
          <a:stretch/>
        </p:blipFill>
        <p:spPr>
          <a:xfrm>
            <a:off x="1547640" y="1125360"/>
            <a:ext cx="3133800" cy="4237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7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4952520" y="549360"/>
            <a:ext cx="4038840" cy="6248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водились единые це-ны,распределялся ры нок сбыта,ограничива лся рабочий день,вво дилась минимальная зарпла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сельском хозяйстве излишние посевные площади сокраща-ли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ыл отменен «сухой за- кон».В 1935 г. были подписаны коллектив ные договоры между предпринимателями и профсоюзами. Паде-ние производства пос тепенно прекратилось но подъем не насту-пи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Picture 2" descr="MFSTRP06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«Новый курс» Ф.Рузвельта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1617120" y="5626080"/>
            <a:ext cx="2986560" cy="82548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Дейли миррор» 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Новом курсе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6" name="Picture 7" descr="Рисунок5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1835280" y="765000"/>
            <a:ext cx="2525760" cy="4667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7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0T09:36:38Z</dcterms:created>
  <dc:creator>Чернов Алексей</dc:creator>
  <dc:description/>
  <dc:language>en-US</dc:language>
  <cp:lastModifiedBy>LEGION</cp:lastModifiedBy>
  <dcterms:modified xsi:type="dcterms:W3CDTF">2015-01-14T10:04:59Z</dcterms:modified>
  <cp:revision>47</cp:revision>
  <dc:subject/>
  <dc:title>Слайд 1</dc:title>
</cp:coreProperties>
</file>