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CF39-33B4-447B-B4BB-B69D1D643D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0B94-80E3-456A-9A32-CB512D45C7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0F3B-AE22-4B47-A51E-3E698F8532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ACDC-E19B-401A-8BB9-8BE80C0D30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1FF6-5CA2-4B4F-8A83-875A25265F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1F70-DBBB-4D7F-8958-9E7F1EA054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План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22FC-F8A3-4C1C-AD1B-4ADA75CD90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Задание на уро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ивело к «Великому кризису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акие меры способствовали выходу из н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7985-0266-4F8E-91A2-1F42A89786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47B1-EA64-42D3-9B25-EB7303B9FC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ыв между произ-водством и потреб-лением и привел к кризису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46B8-E158-4720-8BB3-C66FFEFB38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12EC-D4D9-43BE-B2E6-5819A6FB9F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9DEF-E496-485A-9ECA-FAF87CEB6F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 отраслях вводи-лись Администрации и правила «честной конкуренц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8155-AFDF-4306-A3EB-891A8EFFCB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ельском хозяйстве излишние посевные площади сокраща-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95F9-CD02-4E17-ADA8-7CD381F4C1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DC16-ED48-4A1F-86B5-0AC945B3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CE1F-5084-4A5F-8E17-A6FA562C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3E83-BDF0-40F0-BC4C-44D877BE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5E3E-172A-4E08-944A-AF8DE4BC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1144-0955-41C8-8EBF-F61523E7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E86-4BB2-4C62-A864-348AC4B5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0EBC-3BE8-4822-B7EB-B538D30C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5A40-DAF6-46B4-AB9D-FCD4DC77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F7C4-F5D9-4A95-BA02-F2F584A0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0C45-CD5F-4CB1-B368-5C863D83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62DE-0C1C-4E11-AF18-6084A806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E9B3-C8DC-482B-A864-9115EBA3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60DF-E53C-4877-AA45-7106F3E7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AED2-9327-44C0-99B7-04C03164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5C5C-321F-41DE-B90F-6A0CFB96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D5F8-5C07-4510-A151-644AB8E3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3B56-C236-4B54-B209-10E92B4E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6F38-6269-49A4-8931-674AECCD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0B76-E1E5-4052-A1E9-2F976335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6D6D-E5E0-4998-91EE-A2F74E71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7CBF-2F27-4CF0-95AE-A1E4A4F7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1192-0DB7-4EF1-8318-FD3C1D3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3F13-5932-401A-890C-F73AFDDC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9898-2061-47D0-87B8-0EF2285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8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276B-4C9B-473E-B652-E0C743BE023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91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9EA-D49C-4A58-A39F-88AF62F5E1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7"/>
          <p:cNvSpPr/>
          <p:nvPr/>
        </p:nvSpPr>
        <p:spPr>
          <a:xfrm>
            <a:off x="2061360" y="284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рок №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7166880" y="3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644364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Новей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WordArt 30"/>
          <p:cNvSpPr txBox="1"/>
          <p:nvPr/>
        </p:nvSpPr>
        <p:spPr>
          <a:xfrm>
            <a:off x="175104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0" y="0"/>
            <a:ext cx="8588520" cy="6858000"/>
            <a:chOff x="0" y="0"/>
            <a:chExt cx="8588520" cy="6858000"/>
          </a:xfrm>
        </p:grpSpPr>
        <p:grpSp>
          <p:nvGrpSpPr>
            <p:cNvPr id="526" name="Group 35"/>
            <p:cNvGrpSpPr/>
            <p:nvPr/>
          </p:nvGrpSpPr>
          <p:grpSpPr>
            <a:xfrm>
              <a:off x="0" y="0"/>
              <a:ext cx="8588520" cy="6858000"/>
              <a:chOff x="0" y="0"/>
              <a:chExt cx="8588520" cy="6858000"/>
            </a:xfrm>
          </p:grpSpPr>
          <p:pic>
            <p:nvPicPr>
              <p:cNvPr id="527" name="Picture 25" descr="MFSTRP0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35252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34" descr="1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3276720"/>
                <a:ext cx="142560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9" name="Picture 36" descr="2"/>
            <p:cNvPicPr/>
            <p:nvPr/>
          </p:nvPicPr>
          <p:blipFill>
            <a:blip r:embed="rId3"/>
            <a:stretch/>
          </p:blipFill>
          <p:spPr>
            <a:xfrm>
              <a:off x="1716120" y="1736640"/>
              <a:ext cx="2049480" cy="23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WordArt 38"/>
          <p:cNvSpPr txBox="1"/>
          <p:nvPr/>
        </p:nvSpPr>
        <p:spPr>
          <a:xfrm>
            <a:off x="3506760" y="2187720"/>
            <a:ext cx="35892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Великая 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депрессия.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787640" y="692280"/>
            <a:ext cx="4203720" cy="60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86160" y="5626080"/>
            <a:ext cx="29422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тина в дол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нес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9" descr="Рисунок4"/>
          <p:cNvPicPr/>
          <p:nvPr/>
        </p:nvPicPr>
        <p:blipFill>
          <a:blip r:embed="rId3"/>
          <a:stretch/>
        </p:blipFill>
        <p:spPr>
          <a:xfrm>
            <a:off x="1476360" y="907920"/>
            <a:ext cx="3121200" cy="45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Рисунок3"/>
          <p:cNvPicPr/>
          <p:nvPr/>
        </p:nvPicPr>
        <p:blipFill>
          <a:blip r:embed="rId1"/>
          <a:stretch/>
        </p:blipFill>
        <p:spPr>
          <a:xfrm>
            <a:off x="4859280" y="655560"/>
            <a:ext cx="3816360" cy="29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85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47640" y="3645000"/>
            <a:ext cx="744408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33040" y="1444680"/>
            <a:ext cx="26190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Рузвель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Уоллес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ах 194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921680" y="4508640"/>
            <a:ext cx="2466720" cy="192276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н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50 млрд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0 млн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8" descr="Рисунок2"/>
          <p:cNvPicPr/>
          <p:nvPr/>
        </p:nvPicPr>
        <p:blipFill>
          <a:blip r:embed="rId3"/>
          <a:stretch/>
        </p:blipFill>
        <p:spPr>
          <a:xfrm>
            <a:off x="1476360" y="836640"/>
            <a:ext cx="3311640" cy="322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600200" y="5589720"/>
            <a:ext cx="314784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аро Карде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 Мек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8" descr="Рисунок1"/>
          <p:cNvPicPr/>
          <p:nvPr/>
        </p:nvPicPr>
        <p:blipFill>
          <a:blip r:embed="rId3"/>
          <a:stretch/>
        </p:blipFill>
        <p:spPr>
          <a:xfrm>
            <a:off x="1476360" y="765000"/>
            <a:ext cx="3319560" cy="462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8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уро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14" descr="ag00029_"/>
          <p:cNvPicPr/>
          <p:nvPr/>
        </p:nvPicPr>
        <p:blipFill>
          <a:blip r:embed="rId3"/>
          <a:stretch/>
        </p:blipFill>
        <p:spPr>
          <a:xfrm>
            <a:off x="76320" y="5562720"/>
            <a:ext cx="1295280" cy="102852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ние на урок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46784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привело к «Великому кризису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акие меры способствовали выходу из нег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g00317_"/>
          <p:cNvPicPr/>
          <p:nvPr/>
        </p:nvPicPr>
        <p:blipFill>
          <a:blip r:embed="rId3"/>
          <a:stretch/>
        </p:blipFill>
        <p:spPr>
          <a:xfrm>
            <a:off x="0" y="5105520"/>
            <a:ext cx="1246320" cy="160020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Рисунок10"/>
          <p:cNvPicPr/>
          <p:nvPr/>
        </p:nvPicPr>
        <p:blipFill>
          <a:blip r:embed="rId1"/>
          <a:stretch/>
        </p:blipFill>
        <p:spPr>
          <a:xfrm>
            <a:off x="4140360" y="399960"/>
            <a:ext cx="4535280" cy="3102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76360" y="3500280"/>
            <a:ext cx="751536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658520" y="1593720"/>
            <a:ext cx="19486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зис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ью-Йо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рыв между произ-водством и потреб-лением и привел к кризису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761480" y="5300640"/>
            <a:ext cx="29682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Белл- «Ко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панског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ует ябло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8" descr="Рисунок9"/>
          <p:cNvPicPr/>
          <p:nvPr/>
        </p:nvPicPr>
        <p:blipFill>
          <a:blip r:embed="rId3"/>
          <a:stretch/>
        </p:blipFill>
        <p:spPr>
          <a:xfrm>
            <a:off x="1835280" y="765000"/>
            <a:ext cx="2860560" cy="434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8" descr="Рисунок8"/>
          <p:cNvPicPr/>
          <p:nvPr/>
        </p:nvPicPr>
        <p:blipFill>
          <a:blip r:embed="rId1"/>
          <a:stretch/>
        </p:blipFill>
        <p:spPr>
          <a:xfrm>
            <a:off x="4211640" y="512640"/>
            <a:ext cx="4537080" cy="29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55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18920" y="3500280"/>
            <a:ext cx="737244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56024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гент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Рисунок7"/>
          <p:cNvPicPr/>
          <p:nvPr/>
        </p:nvPicPr>
        <p:blipFill>
          <a:blip r:embed="rId1"/>
          <a:stretch/>
        </p:blipFill>
        <p:spPr>
          <a:xfrm>
            <a:off x="4140360" y="620640"/>
            <a:ext cx="4676760" cy="308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61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18920" y="3645000"/>
            <a:ext cx="737244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51560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ла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ача с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7 отраслях вводи-лись Администрации и правила «честной конкуренц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993320" y="5877000"/>
            <a:ext cx="2323440" cy="45972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Д.Рузвель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9" descr="Рисунок6"/>
          <p:cNvPicPr/>
          <p:nvPr/>
        </p:nvPicPr>
        <p:blipFill>
          <a:blip r:embed="rId3"/>
          <a:stretch/>
        </p:blipFill>
        <p:spPr>
          <a:xfrm>
            <a:off x="1547640" y="1125360"/>
            <a:ext cx="3133800" cy="423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ьском хозяйстве излишние посевные площади сокраща-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17120" y="5626080"/>
            <a:ext cx="298656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ейли миррор»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ом курс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Рисунок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835280" y="765000"/>
            <a:ext cx="2525760" cy="466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9:36:38Z</dcterms:created>
  <dc:creator>Чернов Алексей</dc:creator>
  <dc:description/>
  <dc:language>en-US</dc:language>
  <cp:lastModifiedBy>LEGION</cp:lastModifiedBy>
  <dcterms:modified xsi:type="dcterms:W3CDTF">2015-01-14T10:04:59Z</dcterms:modified>
  <cp:revision>47</cp:revision>
  <dc:subject/>
  <dc:title>Слайд 1</dc:title>
</cp:coreProperties>
</file>