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9.gif" ContentType="image/gif"/>
  <Override PartName="/ppt/media/image8.gif" ContentType="image/gif"/>
  <Override PartName="/ppt/media/image18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4B71-4CBB-47F5-9E88-1C027A018A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0667-634B-451D-930E-2CF003B8E4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овый курс» обеспечил Рузвельту поддержку всего населения. Про-тив выступили монопо листы. В 1936г.Верхов-ный суд США даже от-менил ряд законов. Но на выборах 1936 г. Руз-вельт вновь одержал победу. Он смог под-нять уровень жизни, ра сширил рынки, норма-лизовал отношения с СССР.В ходе реформ капиталистическое об-щество измен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9117-8E82-4C72-B0A0-5939C38705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питализм был ограничен и подчинился го-сударству.Запад вступил в стадию индуст-риального общества.Были расширены пра-ва профсоюзов.Но монополизм экономики только усилился.В итоге сложился государ-ственно-монополистический капитализм.Го-сударство ограничивало монополии и про-водило сильную социальн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6D25-7EB4-4F6D-8C3C-62B9496403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ое регули рование ранее прово-дилось в СССР в го-ды НЭПа и оно стало образцом для стран Запада.В 1933 г. по пу-ти регулирования по-шли Италия и Герма-ния, но они свернули на путь тоталитариз-ма.Демократический вариант был осущес-твлен в Швеции и Да-нии.Во Франции пра-вительство «Народно го фронта» провело реформы в духе «Но-вого курс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AC71-5575-4920-BB9C-B83AC1B254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Великобритании 2-ы к власти приходили лейбористы,но прео-долеть трудности они не смогли и в сер. 30-х гг.к власти возврати лись консерва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мократические вари-анты реформ прошли и в Латинской Амери-ке.В 1934-40 гг в Мек-сике Л.Карденас наци-онализировал нефтя-ную промышленность железные дороги и передал часть земли  крестья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594D-3F13-4AF5-9FF9-396A3D14AB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План ур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1725-4317-4D70-AE3C-FFC78BCC1C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0504d"/>
                </a:solidFill>
                <a:latin typeface="Calibri"/>
              </a:rPr>
              <a:t>Задание на урок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ривело к «Великому кризису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акие меры способствовали выходу из н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671C-0113-48E0-A08E-36605D5550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ктябре 1929 г. рухнул финансовый рынок США.Закрылось 5 тыс. банков, вкладчики по теряли 10-и тыс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$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Вслед за США кризис пора зил Европу.Промышленное производство упало в 2-5 раз.Начался Великий кризис. Его причины крылись в нерегулируемости эко-номики Запада.Банки активно занимались биржевыми спекуляциями и не вкладывали капиталы в реальное произ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7292-088E-4931-A452-AE4EDF81D2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овой рынок сбыта оказался перенасы-щен товарами, а по-купательная спосо-бность населения была низкой.Биржи этих тенденций не учитывали и занима лись спекуляцией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ыв между произ-водством и потреб-лением и привел к кризису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933 г. в США банки не рабо-тали,люди не могли покупать товары, свободных капита-лов не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E1CA-4228-439B-B134-4E199808DF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жизни миллионов людей упал.Фер-меры продав товар не могли рассчитаться с долгами.Горожане не могли покупать про-довольствие.В США расцвела мафия,полу-чавшая прибыли от нелегального производ ства и продажи 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чие,безработные,разорившиеся предпри  нимателиначали борьбу за свои права.Бо-льшое влияние получили коммунисты и фашис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33D2-47F4-43C3-B282-09F11666C5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и требовали изменения экономической сис темы.Фермеры блокировали дороги.В 1932-33 г. страну охватили «Марши голодных». Во время одного из них во главе колонн шли ветераны 1 мировой воны.Они блоки-ровали Белый дом и президент Гувер от-дал приказ разгромить безработных. Это только обострило ситуацию в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77DD-005A-4EBE-A092-AAC5A32925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ход из ситуации был или в установлении диктатуры,или в огра-ничении свободного предпринимательства В 1932 г. президентом США стал Ф.Рузвельт предложивший вто-ро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«Новый курс» преду сматривал банкротст-во несостоятельных банков,страхование вкладов,государственное регул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7 отраслях вводи-лись Администрации и правила «честной конкуренц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9BEC-7DD4-4A43-BB06-108C38CF24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одились единые це-ны,распределялся ры нок сбыта,ограничива лся рабочий день,вво дилась минимальная зарпл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ельском хозяйстве излишние посевные площади сокраща-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 отменен «сухой за- кон».В 1935 г. были подписаны коллектив ные договоры между предпринимателями и профсоюзами. Паде-ние производства пос тепенно прекратилось но подъем не насту-п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1D26-83B1-481D-82C8-7DF069CB88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FABD-4C27-4AB9-95F5-7D6A7F91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04E6-6FBD-4EE8-AB87-A8BCB09B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D452-5DFD-4704-93CB-C7907774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1184-C637-4F24-AD26-BDA97B64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FC1D-D386-4DB2-B761-0FAAC669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50E1-E37C-4809-9BB1-EA899273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00AC-B2A5-4B1B-8D02-D54AFC64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F871-B7AE-4975-84BF-A4C15822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F0DD-244C-4257-8F60-704FFE39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6A3E-48DF-4376-A18B-459146ED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C7CB-958A-40A5-9F9F-90409E72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8A51-EA85-41DE-8187-7E9190EB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FB22-BA55-463E-944C-4A4A0F05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80A3-B9A8-48AA-B078-C0E28E4C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78D0-6B5F-4950-9DE5-78DB5E02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1C79-35E5-4961-883F-4E48ED3D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CC3B-3D7E-422F-AD8A-3008F8CF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D34C-B03C-4922-8D37-4841A60E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1FD7-83E9-4BEA-833A-B491362A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A08D-DC41-499F-A572-CF1DCCBA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33AD8-589B-451E-AECF-12C26763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B9FE-3DE2-4120-B6F5-F72606AE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BF0A-A32E-4A11-A6A0-D5407589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A4FA-B27D-4B32-9900-6DEECE43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181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8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f0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20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9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a1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39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39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E4F0-AC71-4A1C-99ED-DEE3FB5440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191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8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f0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20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9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a1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0F8C-AB31-44C3-B87D-A803577586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7"/>
          <p:cNvSpPr/>
          <p:nvPr/>
        </p:nvSpPr>
        <p:spPr>
          <a:xfrm>
            <a:off x="2061360" y="2844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рок №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7166880" y="302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WordArt 29"/>
          <p:cNvSpPr txBox="1"/>
          <p:nvPr/>
        </p:nvSpPr>
        <p:spPr>
          <a:xfrm>
            <a:off x="644364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Новейш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4" name="WordArt 30"/>
          <p:cNvSpPr txBox="1"/>
          <p:nvPr/>
        </p:nvSpPr>
        <p:spPr>
          <a:xfrm>
            <a:off x="175104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525" name="Group 39"/>
          <p:cNvGrpSpPr/>
          <p:nvPr/>
        </p:nvGrpSpPr>
        <p:grpSpPr>
          <a:xfrm>
            <a:off x="0" y="0"/>
            <a:ext cx="8588520" cy="6858000"/>
            <a:chOff x="0" y="0"/>
            <a:chExt cx="8588520" cy="6858000"/>
          </a:xfrm>
        </p:grpSpPr>
        <p:grpSp>
          <p:nvGrpSpPr>
            <p:cNvPr id="526" name="Group 35"/>
            <p:cNvGrpSpPr/>
            <p:nvPr/>
          </p:nvGrpSpPr>
          <p:grpSpPr>
            <a:xfrm>
              <a:off x="0" y="0"/>
              <a:ext cx="8588520" cy="6858000"/>
              <a:chOff x="0" y="0"/>
              <a:chExt cx="8588520" cy="6858000"/>
            </a:xfrm>
          </p:grpSpPr>
          <p:pic>
            <p:nvPicPr>
              <p:cNvPr id="527" name="Picture 25" descr="MFSTRP06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35252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Picture 34" descr="1"/>
              <p:cNvPicPr/>
              <p:nvPr/>
            </p:nvPicPr>
            <p:blipFill>
              <a:blip r:embed="rId2"/>
              <a:stretch/>
            </p:blipFill>
            <p:spPr>
              <a:xfrm>
                <a:off x="7162920" y="3276720"/>
                <a:ext cx="142560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9" name="Picture 36" descr="2"/>
            <p:cNvPicPr/>
            <p:nvPr/>
          </p:nvPicPr>
          <p:blipFill>
            <a:blip r:embed="rId3"/>
            <a:stretch/>
          </p:blipFill>
          <p:spPr>
            <a:xfrm>
              <a:off x="1716120" y="1736640"/>
              <a:ext cx="2049480" cy="232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WordArt 38"/>
          <p:cNvSpPr txBox="1"/>
          <p:nvPr/>
        </p:nvSpPr>
        <p:spPr>
          <a:xfrm>
            <a:off x="3506760" y="2187720"/>
            <a:ext cx="3589200" cy="21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d6b19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7a3d"/>
                  </a:outerShdw>
                </a:effectLst>
                <a:latin typeface="Times New Roman"/>
              </a:rPr>
              <a:t>Великая </a:t>
            </a:r>
            <a:endParaRPr b="0" lang="en-US" sz="18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d6b19c"/>
                  </a:gs>
                </a:gsLst>
                <a:lin ang="0"/>
              </a:gradFill>
              <a:effectLst>
                <a:outerShdw dist="17819" dir="2700000" blurRad="0" rotWithShape="0">
                  <a:srgbClr val="997a3d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d6b19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7a3d"/>
                  </a:outerShdw>
                </a:effectLst>
                <a:latin typeface="Times New Roman"/>
              </a:rPr>
              <a:t>депрессия.</a:t>
            </a:r>
            <a:endParaRPr b="0" lang="en-US" sz="18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d6b19c"/>
                  </a:gs>
                </a:gsLst>
                <a:lin ang="0"/>
              </a:gradFill>
              <a:effectLst>
                <a:outerShdw dist="17819" dir="2700000" blurRad="0" rotWithShape="0">
                  <a:srgbClr val="997a3d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787640" y="692280"/>
            <a:ext cx="4203720" cy="601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овый курс» обеспечил Рузвельту поддержку всего населения. Про-тив выступили монопо листы. В 1936г.Верхов-ный суд США даже от-менил ряд законов. Но на выборах 1936 г. Руз-вельт вновь одержал победу. Он смог под-нять уровень жизни, ра сширил рынки, норма-лизовал отношения с СССР.В ходе реформ капиталистическое об-щество изменило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586160" y="5626080"/>
            <a:ext cx="294228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тина в дол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ннесс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9" descr="Рисунок4"/>
          <p:cNvPicPr/>
          <p:nvPr/>
        </p:nvPicPr>
        <p:blipFill>
          <a:blip r:embed="rId3"/>
          <a:stretch/>
        </p:blipFill>
        <p:spPr>
          <a:xfrm>
            <a:off x="1476360" y="907920"/>
            <a:ext cx="3121200" cy="4524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7" descr="Рисунок3"/>
          <p:cNvPicPr/>
          <p:nvPr/>
        </p:nvPicPr>
        <p:blipFill>
          <a:blip r:embed="rId1"/>
          <a:stretch/>
        </p:blipFill>
        <p:spPr>
          <a:xfrm>
            <a:off x="4859280" y="655560"/>
            <a:ext cx="3816360" cy="29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85" name="Picture 3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547640" y="3645000"/>
            <a:ext cx="7444080" cy="3060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был ограничен и подчинился го-сударству.Запад вступил в стадию индуст-риального общества.Были расширены пра-ва профсоюзов.Но монополизм экономики только усилился.В итоге сложился государ-ственно-монополистический капитализм.Го-сударство ограничивало монополии и про-водило сильную социальную полит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1733040" y="1444680"/>
            <a:ext cx="26190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Рузвельт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Уоллес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борах 1940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925040" cy="5331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ударственное регули рование ранее прово-дилось в СССР в го-ды НЭПа и оно стало образцом для стран Запада.В 1933 г. по пу-ти регулирования по-шли Италия и Герма-ния, но они свернули на путь тоталитариз-ма.Демократический вариант был осущес-твлен в Швеции и Да-нии.Во Франции пра-вительство «Народно го фронта» провело реформы в духе «Но-вого курса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1921680" y="4508640"/>
            <a:ext cx="2466720" cy="192276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ля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Герм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нкно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50 млрд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00 млн мар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Picture 8" descr="Рисунок2"/>
          <p:cNvPicPr/>
          <p:nvPr/>
        </p:nvPicPr>
        <p:blipFill>
          <a:blip r:embed="rId3"/>
          <a:stretch/>
        </p:blipFill>
        <p:spPr>
          <a:xfrm>
            <a:off x="1476360" y="836640"/>
            <a:ext cx="3311640" cy="3224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925040" cy="5331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Великобритании 2-ы к власти приходили лейбористы,но прео-долеть трудности они не смогли и в сер. 30-х гг.к власти возврати лись консерва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мократические вари-анты реформ прошли и в Латинской Амери-ке.В 1934-40 гг в Мек-сике Л.Карденас наци-онализировал нефтя-ную промышленность железные дороги и передал часть земли  крестья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1600200" y="5589720"/>
            <a:ext cx="314784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саро Карден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зидент Мекс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8" descr="Рисунок1"/>
          <p:cNvPicPr/>
          <p:nvPr/>
        </p:nvPicPr>
        <p:blipFill>
          <a:blip r:embed="rId3"/>
          <a:stretch/>
        </p:blipFill>
        <p:spPr>
          <a:xfrm>
            <a:off x="1476360" y="765000"/>
            <a:ext cx="3319560" cy="462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0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8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467840" cy="76212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лан урока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14" descr="ag00029_"/>
          <p:cNvPicPr/>
          <p:nvPr/>
        </p:nvPicPr>
        <p:blipFill>
          <a:blip r:embed="rId3"/>
          <a:stretch/>
        </p:blipFill>
        <p:spPr>
          <a:xfrm>
            <a:off x="76320" y="5562720"/>
            <a:ext cx="1295280" cy="102852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467840" cy="76212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дание на урок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467840" cy="5334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то привело к «Великому кризису»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Какие меры способствовали выходу из нег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5" descr="ag00317_"/>
          <p:cNvPicPr/>
          <p:nvPr/>
        </p:nvPicPr>
        <p:blipFill>
          <a:blip r:embed="rId3"/>
          <a:stretch/>
        </p:blipFill>
        <p:spPr>
          <a:xfrm>
            <a:off x="0" y="5105520"/>
            <a:ext cx="1246320" cy="160020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8" descr="Рисунок10"/>
          <p:cNvPicPr/>
          <p:nvPr/>
        </p:nvPicPr>
        <p:blipFill>
          <a:blip r:embed="rId1"/>
          <a:stretch/>
        </p:blipFill>
        <p:spPr>
          <a:xfrm>
            <a:off x="4140360" y="399960"/>
            <a:ext cx="4535280" cy="3102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43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476360" y="3500280"/>
            <a:ext cx="7515360" cy="3205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ктябре 1929 г. рухнул финансовый рынок США.Закрылось 5 тыс. банков, вкладчики по теряли 10-и ты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Вслед за США кризис пора зил Европу.Промышленное производство упало в 2-5 раз.Начался Великий кризис. Его причины крылись в нерегулируемости эко-номики Запада.Банки активно занимались биржевыми спекуляциями и не вкладывали капиталы в реальное производ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658520" y="1593720"/>
            <a:ext cx="194868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зис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ью-Йор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219640" y="620280"/>
            <a:ext cx="3772080" cy="608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овой рынок сбыта оказался перенасы-щен товарами, а по-купательная спосо-бность населения была низкой.Биржи этих тенденций не учитывали и занима лись спекуляцией ценных бума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рыв между произ-водством и потреб-лением и привел к кризису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933 г. в США банки не рабо-тали,люди не могли покупать товары, свободных капита-лов не бы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761480" y="5300640"/>
            <a:ext cx="29682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Белл- «Ко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ампанског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ргует ябло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8" descr="Рисунок9"/>
          <p:cNvPicPr/>
          <p:nvPr/>
        </p:nvPicPr>
        <p:blipFill>
          <a:blip r:embed="rId3"/>
          <a:stretch/>
        </p:blipFill>
        <p:spPr>
          <a:xfrm>
            <a:off x="1835280" y="765000"/>
            <a:ext cx="2860560" cy="434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8" descr="Рисунок8"/>
          <p:cNvPicPr/>
          <p:nvPr/>
        </p:nvPicPr>
        <p:blipFill>
          <a:blip r:embed="rId1"/>
          <a:stretch/>
        </p:blipFill>
        <p:spPr>
          <a:xfrm>
            <a:off x="4211640" y="512640"/>
            <a:ext cx="4537080" cy="29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55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18920" y="3500280"/>
            <a:ext cx="7372440" cy="3205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овень жизни миллионов людей упал.Фер-меры продав товар не могли рассчитаться с долгами.Горожане не могли покупать про-довольствие.В США расцвела мафия,полу-чавшая прибыли от нелегального производ ства и продажи алкого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чие,безработные,разорившиеся предпри  нимателиначали борьбу за свои права.Бо-льшое влияние получили коммунисты и фашис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1560240" y="1444680"/>
            <a:ext cx="232488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гент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работ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8" descr="Рисунок7"/>
          <p:cNvPicPr/>
          <p:nvPr/>
        </p:nvPicPr>
        <p:blipFill>
          <a:blip r:embed="rId1"/>
          <a:stretch/>
        </p:blipFill>
        <p:spPr>
          <a:xfrm>
            <a:off x="4140360" y="620640"/>
            <a:ext cx="4676760" cy="3089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61" name="Picture 3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618920" y="3645000"/>
            <a:ext cx="7372440" cy="3060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и требовали изменения экономической сис темы.Фермеры блокировали дороги.В 1932-33 г. страну охватили «Марши голодных». Во время одного из них во главе колонн шли ветераны 1 мировой воны.Они блоки-ровали Белый дом и президент Гувер от-дал приказ разгромить безработных. Это только обострило ситуацию в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1515600" y="1444680"/>
            <a:ext cx="232488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сплат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ача с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работ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ход из ситуации был или в установлении диктатуры,или в огра-ничении свободного предпринимательства В 1932 г. президентом США стал Ф.Рузвельт предложивший вто-рой вариа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го «Новый курс» преду сматривал банкротст-во несостоятельных банков,страхование вкладов,государственное регулир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7 отраслях вводи-лись Администрации и правила «честной конкуренц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1993320" y="5877000"/>
            <a:ext cx="2323440" cy="45972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Д.Рузвель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9" descr="Рисунок6"/>
          <p:cNvPicPr/>
          <p:nvPr/>
        </p:nvPicPr>
        <p:blipFill>
          <a:blip r:embed="rId3"/>
          <a:stretch/>
        </p:blipFill>
        <p:spPr>
          <a:xfrm>
            <a:off x="1547640" y="1125360"/>
            <a:ext cx="3133800" cy="4237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4952520" y="549360"/>
            <a:ext cx="4038840" cy="6248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одились единые це-ны,распределялся ры нок сбыта,ограничива лся рабочий день,вво дилась минимальная зарпл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льском хозяйстве излишние посевные площади сокраща-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отменен «сухой за- кон».В 1935 г. были подписаны коллектив ные договоры между предпринимателями и профсоюзами. Паде-ние производства пос тепенно прекратилось но подъем не насту-п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617120" y="5626080"/>
            <a:ext cx="298656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ейли миррор» 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овом курс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Picture 7" descr="Рисунок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835280" y="765000"/>
            <a:ext cx="2525760" cy="4667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09:36:38Z</dcterms:created>
  <dc:creator>Чернов Алексей</dc:creator>
  <dc:description/>
  <dc:language>en-US</dc:language>
  <cp:lastModifiedBy>LEGION</cp:lastModifiedBy>
  <dcterms:modified xsi:type="dcterms:W3CDTF">2015-01-14T10:04:59Z</dcterms:modified>
  <cp:revision>47</cp:revision>
  <dc:subject/>
  <dc:title>Слайд 1</dc:title>
</cp:coreProperties>
</file>