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1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34ED-62F1-4100-B1CE-308AA4A316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Дворцовые перевор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Black"/>
              </a:rPr>
              <a:t>7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65CF-4E56-463F-B878-44EDEE1C12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ондиции, подписанные Анной Иоановно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з усмотрения и согласия высокого совета никакого в делах государственных не подавать решения, следовательно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 объявлять войны и не заключать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икаких не налагать поборов и налог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икого за преступления не осуждать и ни у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ого  дворянина не конфисковать им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беспрекословно  довольствова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мым на  содержание ее особ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ворного штата годовым дохо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зенных вотчин никому не дари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 вступать в брак и не назначать наслед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8092-66F5-496B-83A6-55F42CE03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оановна надрывает конд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согласилась, но заняв престол – разорвала документ. Гвардия и дворянство поддержали самодержавную царскую в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4CDC-6252-411B-9D0B-32AAA97C45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оановна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мянница Петр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30-174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сте с Анной прибыли многие прибалтийские немцы, занявшие важные посты в органах государственного управления. В вопросы государственной власти она не вникала. Фактическим правителем государства стал прибалтийский немец Би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4342-9F08-48BF-B6E9-9CF95AE6E0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рнст Иоганн Биро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ьзовался  неограниченным  доверием императрицы. Современник писал о Бироне: «Характер Бирона был высокомерный, честолюбивый до крайности, грубый и даже нахальный, корыстный». Правление Бирона назвали бироновщиной. Проводимая им политика привела к засилью иностранцев, разграблению богатств страны, жестокому преследованию недовольных. Всюду свирепствовала тайная полиция, выносились смертные приговоры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6E96-1899-42C7-9DD0-2D99608573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 Антонович и Анна Леопольд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а Ивановна объявила наследником престол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Ивана Антоно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ына своей племянницы Анны Леопольдовны, а Регентом (правителем) – Бирона. Но гвардия свергла ненавистного прав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F6D3-6B11-4646-B994-919F26D8D1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41-176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1 г. Елизавета Петровна, дочь Петра, при поддержке гвардии, совершила новый дворцовый переворот. Иностранцы были удалены от двора, государством управляли способные государственные деятели из русского дворя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5C52-AF9F-45DE-B177-0F1FD14360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им наследником Елизавета Петровна объявила племянника -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ына Анны Петровны, внука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Который стал императором в 1761г. Но царствовать ему довелось  всего 186 дней. Противоречивость действий, непредсказуемость и преклонение перед прусским королем Фридрихом привело к новому загово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DC56-8189-48AA-B9AF-431F85C89F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ья Ангальт-Цербст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744 году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женился на принцессе Ангальт - Цербстской, будущей Екатерин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C115-3401-4D36-9064-D75153030E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62-17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 июня 1762 года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ыл смещен своей женой Екатериной Алексеевной, умной и честолюбивой женщиной. Новой императрицей стала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лучившая титул Вели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5791-DC2C-4BAD-8909-0F6607531D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7F81-6024-4110-B09D-19831B9920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январе 1725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ирает 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не успел назначить наследника престо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7FEA-9E03-41AD-9219-17B7E081BD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екст с ошибкам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смерти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стал вопрос о власти. Выбор верховников пал на герцогиню курляндскую Елизавету. Было решено  усилить самодержавную власть и вместе с приглашением на престол ей направили кондиции (условия). Дворяне поддержали эти требования. Приехав в Москву,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писала кондиции, после этого она стала императр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A51D-4ABE-4583-8EC2-C9A06CC28F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рцовые перевороты – смена  власти, совершавшаяся дворянскими  группировками и  гвардейскими  полкам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лились  37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954D-4669-4539-8A7A-50422ED5CB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тенденты на  трон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8752-E50D-4D1A-AA89-E0D53B592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1725-1727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Меншиков и другие приближенные Петра при поддержке гвардии возвели на трон его жену Екатерину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C806-A3FD-421B-A383-56CE3506A3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Менш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шиков стал фактическим правителем России. Он должен был помогать Екатерине, совсем не способной к государственной деятельности, управлять государством. В1726г. был учрежден Верховный тайный совет с широкими полномочиями, куда вошли соратники Петр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4DD9-7428-45C8-912C-AD568AA24B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727-17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е 1727 г. Екатери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кончалась. Новым императором стал внук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 Алексеевич. Меньшиков задумал женить его на своей дочери, но его обошли князья Долгору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D5CFE-0CDC-408A-B7C0-BFBD2338D1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ьшиков в ссыл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шиков был смещен со всех постов, лишен всего состояния и сослан в Сибирь. Огромное влияние на Петра оказывали Долгорукие и Голицыны, но и их   постигла неудача. В январе 1730 г. Петр заболел и умер. С ним пресеклась по мужской линии династия Романов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8ECA-F5F6-4E0B-978E-38796B6A4E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 о престолонаследии должны были решить члены Верховного тайного совета. Выбор был сделан в пользу Анны Ивановны, дочери старшего брата Петр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живущей в Курляндии. Анне были предложены «кондиции» (условия), составленные в духе конституционной монархии, подписав которые онам могла стать императриц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4CA8-C5BC-4230-A107-6D3911DB49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B00-9908-408D-9702-CB782B9D3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D00-2535-405C-9279-E65289C5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09B-B3CE-467B-86E1-5DB9A72F8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C92F-E669-4A2C-87EA-1FB71252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6E8-EC71-4A41-A646-208340B5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09AD-567C-4970-B4FE-35E880A7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7D6-957C-4A33-A035-2082F2F7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7DA-97B2-492D-A9F6-0CF7516E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C906-E5C5-4FA8-BEEC-5883DDEC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F6D1-DBEB-4A76-BFEE-98DA5FB8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4AD-8DC3-4187-AF4F-7F416D89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846C-76D0-4024-808C-91CDD3EF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D631-C809-4D05-92E8-B939895C02E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5B1C-8265-41A5-969B-0A95E74F02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Дворцовые переворо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7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85840" y="357120"/>
            <a:ext cx="85723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диции, подписанные Анной Иоано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усмотрения и согласия высокого совета никакого в делах государственных не подавать решения, следователь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объявлять войны и не заключать ми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никаких не налагать поборов и нало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икого за преступления не осуждать и ни у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ого  дворянина не конфисковать им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беспрекословно  довольство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мым на  содержание ее особ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дворного штата годовым доход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зенных вотчин никому не дари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не вступать в брак и не назначать наследни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ст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00720" y="285480"/>
            <a:ext cx="36432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нна Иоановна надрывает кондиц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71320"/>
            <a:ext cx="354348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на согласилась, но заняв престол – разорвала документ. Гвардия и дворянство поддержали самодержавную царскую вла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6" descr="Рисунок9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4071960" y="2174760"/>
            <a:ext cx="4614840" cy="33973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29120" y="285480"/>
            <a:ext cx="350064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Анна Иоановна,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племянница Петра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(1730-1740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85840" y="357120"/>
            <a:ext cx="46432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е с Анной прибыли многие прибалтийские немцы, занявшие важные посты в органах государственного управления. В вопросы государственной власти она не вникала. Фактическим правителем государства стал прибалтийский немец Бир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7" descr="Рисунок8"/>
          <p:cNvPicPr/>
          <p:nvPr/>
        </p:nvPicPr>
        <p:blipFill>
          <a:blip r:embed="rId1"/>
          <a:stretch/>
        </p:blipFill>
        <p:spPr>
          <a:xfrm>
            <a:off x="5143680" y="1857240"/>
            <a:ext cx="3584520" cy="47484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2040" y="3571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рнст Иоганн Бир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285840"/>
            <a:ext cx="4714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ьзовался  неограниченным  доверием императрицы. Современник писал о Бироне: «Характер Бирона был высокомерный, честолюбивый до крайности, грубый и даже нахальный, корыстный». Правление Бирона назвали бироновщиной. Проводимая им политика привела к засилью иностранцев, разграблению богатств страны, жестокому преследованию недовольных. Всюду свирепствовала тайная полиция, выносились смертные приговоры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6" descr="Рисунок7"/>
          <p:cNvPicPr/>
          <p:nvPr/>
        </p:nvPicPr>
        <p:blipFill>
          <a:blip r:embed="rId1"/>
          <a:stretch/>
        </p:blipFill>
        <p:spPr>
          <a:xfrm>
            <a:off x="5143680" y="2714760"/>
            <a:ext cx="3649320" cy="37144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9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85840" y="285840"/>
            <a:ext cx="36435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Иван Антонович и Анна Леопольдовн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642600"/>
            <a:ext cx="36147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нна Ивановна объявила наследником престола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Ивана Антонович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ына своей племянницы Анны Леопольдовны, а Регентом (правителем) – Бирона. Но гвардия свергла ненавистного прав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031" descr="Рисунок5"/>
          <p:cNvPicPr/>
          <p:nvPr/>
        </p:nvPicPr>
        <p:blipFill>
          <a:blip r:embed="rId1"/>
          <a:stretch/>
        </p:blipFill>
        <p:spPr>
          <a:xfrm>
            <a:off x="4405320" y="1571760"/>
            <a:ext cx="4122720" cy="4964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00360" y="285840"/>
            <a:ext cx="41432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лизавета Петровн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41-176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642600"/>
            <a:ext cx="4286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1741 г. Елизавета Петровна, дочь Петра, при поддержке гвардии, совершила новый дворцовый переворот. Иностранцы были удалены от двора, государством управляли способные государственные деятели из русского дворянств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5" descr="Рисунок3"/>
          <p:cNvPicPr/>
          <p:nvPr/>
        </p:nvPicPr>
        <p:blipFill>
          <a:blip r:embed="rId1"/>
          <a:stretch/>
        </p:blipFill>
        <p:spPr>
          <a:xfrm>
            <a:off x="4857840" y="1714680"/>
            <a:ext cx="3665520" cy="48085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0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28800" y="42876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480" y="285840"/>
            <a:ext cx="47149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воим наследником Елизавета Петровна объявила племянника - Петр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сына Анны Петровны, внука Петр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 Который стал императором в 1761г. Но царствовать ему довелось  всего 186 дней. Противоречивость действий, непредсказуемость и преклонение перед прусским королем Фридрихом привело к новому заговор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7" descr="Рисунок1"/>
          <p:cNvPicPr/>
          <p:nvPr/>
        </p:nvPicPr>
        <p:blipFill>
          <a:blip r:embed="rId1"/>
          <a:stretch/>
        </p:blipFill>
        <p:spPr>
          <a:xfrm>
            <a:off x="5143680" y="2143080"/>
            <a:ext cx="3555720" cy="44100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760" y="2858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фья Ангальт-Цербстск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04352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1744 году Пет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женился на принцессе Ангальт - Цербстской, будущей Екатерин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7" descr="Рисунок2"/>
          <p:cNvPicPr/>
          <p:nvPr/>
        </p:nvPicPr>
        <p:blipFill>
          <a:blip r:embed="rId1"/>
          <a:stretch/>
        </p:blipFill>
        <p:spPr>
          <a:xfrm>
            <a:off x="4857840" y="1714680"/>
            <a:ext cx="3568680" cy="4719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143680" y="50004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62-179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Содержимое 4" descr="аргунов и. портрет ек2.jpg"/>
          <p:cNvPicPr/>
          <p:nvPr/>
        </p:nvPicPr>
        <p:blipFill>
          <a:blip r:embed="rId1"/>
          <a:stretch/>
        </p:blipFill>
        <p:spPr>
          <a:xfrm>
            <a:off x="4929120" y="2000160"/>
            <a:ext cx="3540240" cy="441504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99720"/>
            <a:ext cx="4186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8 июня 1762 года Пет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был смещен своей женой Екатериной Алексеевной, умной и честолюбивой женщиной. Новой императрицей стала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получившая титул Велик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85840" y="428760"/>
          <a:ext cx="8572320" cy="4279680"/>
        </p:xfrm>
        <a:graphic>
          <a:graphicData uri="http://schemas.openxmlformats.org/drawingml/2006/table">
            <a:tbl>
              <a:tblPr/>
              <a:tblGrid>
                <a:gridCol w="2773440"/>
                <a:gridCol w="2233440"/>
                <a:gridCol w="3565440"/>
              </a:tblGrid>
              <a:tr h="1261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017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атерин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ена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5 - 17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шиков и другие приближенные Петра, гвардия, Верховный тайный сов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1" name="Picture 10" descr="EK1"/>
          <p:cNvPicPr/>
          <p:nvPr/>
        </p:nvPicPr>
        <p:blipFill>
          <a:blip r:embed="rId1"/>
          <a:stretch/>
        </p:blipFill>
        <p:spPr>
          <a:xfrm>
            <a:off x="324000" y="3500280"/>
            <a:ext cx="2357280" cy="32688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PETR1"/>
          <p:cNvPicPr/>
          <p:nvPr/>
        </p:nvPicPr>
        <p:blipFill>
          <a:blip r:embed="rId1"/>
          <a:stretch/>
        </p:blipFill>
        <p:spPr>
          <a:xfrm>
            <a:off x="4857840" y="714240"/>
            <a:ext cx="3619440" cy="5040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52" name="TextBox 2"/>
          <p:cNvSpPr/>
          <p:nvPr/>
        </p:nvSpPr>
        <p:spPr>
          <a:xfrm>
            <a:off x="714240" y="2000160"/>
            <a:ext cx="392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январе 1725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мирает Пет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арь не успел назначить наследника прест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85840" y="428760"/>
          <a:ext cx="8572320" cy="3605040"/>
        </p:xfrm>
        <a:graphic>
          <a:graphicData uri="http://schemas.openxmlformats.org/drawingml/2006/table">
            <a:tbl>
              <a:tblPr/>
              <a:tblGrid>
                <a:gridCol w="2485800"/>
                <a:gridCol w="2119320"/>
                <a:gridCol w="3967200"/>
              </a:tblGrid>
              <a:tr h="1074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53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нук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7 - 17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ировка князей Долгоруких и Голицыных, гвардия, Верховный тайный совет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9" descr="PETR2"/>
          <p:cNvPicPr/>
          <p:nvPr/>
        </p:nvPicPr>
        <p:blipFill>
          <a:blip r:embed="rId1"/>
          <a:stretch/>
        </p:blipFill>
        <p:spPr>
          <a:xfrm>
            <a:off x="428760" y="3071880"/>
            <a:ext cx="2504880" cy="345600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285840" y="357120"/>
          <a:ext cx="8572320" cy="6143760"/>
        </p:xfrm>
        <a:graphic>
          <a:graphicData uri="http://schemas.openxmlformats.org/drawingml/2006/table">
            <a:tbl>
              <a:tblPr/>
              <a:tblGrid>
                <a:gridCol w="3062160"/>
                <a:gridCol w="2795760"/>
                <a:gridCol w="2714400"/>
              </a:tblGrid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07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 Иоанновна, племянн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0 – 17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роновщин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и поддержке гвардии, немецкое дворянство во главе с Бироном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6" descr="ANNA"/>
          <p:cNvPicPr/>
          <p:nvPr/>
        </p:nvPicPr>
        <p:blipFill>
          <a:blip r:embed="rId1"/>
          <a:stretch/>
        </p:blipFill>
        <p:spPr>
          <a:xfrm>
            <a:off x="684360" y="3429000"/>
            <a:ext cx="2322360" cy="32464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357120" y="428760"/>
          <a:ext cx="8501040" cy="4214520"/>
        </p:xfrm>
        <a:graphic>
          <a:graphicData uri="http://schemas.openxmlformats.org/drawingml/2006/table">
            <a:tbl>
              <a:tblPr/>
              <a:tblGrid>
                <a:gridCol w="2389320"/>
                <a:gridCol w="2176560"/>
                <a:gridCol w="3935160"/>
              </a:tblGrid>
              <a:tr h="12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ван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онови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нее меся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гент (правитель) со всей полнотой власти - Биро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57120" y="357120"/>
          <a:ext cx="8501040" cy="4643640"/>
        </p:xfrm>
        <a:graphic>
          <a:graphicData uri="http://schemas.openxmlformats.org/drawingml/2006/table">
            <a:tbl>
              <a:tblPr/>
              <a:tblGrid>
                <a:gridCol w="2621160"/>
                <a:gridCol w="2125440"/>
                <a:gridCol w="3754440"/>
              </a:tblGrid>
              <a:tr h="13971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2464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изавета Петровна, дочь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1- 176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ардия, русское дворян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132" name="Picture 4" descr="ELSA"/>
          <p:cNvPicPr/>
          <p:nvPr/>
        </p:nvPicPr>
        <p:blipFill>
          <a:blip r:embed="rId1"/>
          <a:stretch/>
        </p:blipFill>
        <p:spPr>
          <a:xfrm>
            <a:off x="785880" y="3357720"/>
            <a:ext cx="2357280" cy="3209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57120" y="1357200"/>
          <a:ext cx="8501040" cy="4214880"/>
        </p:xfrm>
        <a:graphic>
          <a:graphicData uri="http://schemas.openxmlformats.org/drawingml/2006/table">
            <a:tbl>
              <a:tblPr/>
              <a:tblGrid>
                <a:gridCol w="2486160"/>
                <a:gridCol w="2305080"/>
                <a:gridCol w="3709800"/>
              </a:tblGrid>
              <a:tr h="12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внук 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год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 поддерж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285840" y="1428840"/>
          <a:ext cx="8501040" cy="4214880"/>
        </p:xfrm>
        <a:graphic>
          <a:graphicData uri="http://schemas.openxmlformats.org/drawingml/2006/table">
            <a:tbl>
              <a:tblPr/>
              <a:tblGrid>
                <a:gridCol w="2773440"/>
                <a:gridCol w="2304720"/>
                <a:gridCol w="3422880"/>
              </a:tblGrid>
              <a:tr h="12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кого опирал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94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атерин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жен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тра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l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2 -179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вардия и русское дворянст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1"/>
          <p:cNvGrpSpPr/>
          <p:nvPr/>
        </p:nvGrpSpPr>
        <p:grpSpPr>
          <a:xfrm>
            <a:off x="571680" y="1143000"/>
            <a:ext cx="7786080" cy="5428800"/>
            <a:chOff x="571680" y="1143000"/>
            <a:chExt cx="7786080" cy="5428800"/>
          </a:xfrm>
        </p:grpSpPr>
        <p:pic>
          <p:nvPicPr>
            <p:cNvPr id="139" name="Picture 5" descr="trrom#02"/>
            <p:cNvPicPr/>
            <p:nvPr/>
          </p:nvPicPr>
          <p:blipFill>
            <a:blip r:embed="rId1"/>
            <a:stretch/>
          </p:blipFill>
          <p:spPr>
            <a:xfrm>
              <a:off x="571680" y="1143000"/>
              <a:ext cx="7779960" cy="172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6" descr="trrom#03"/>
            <p:cNvPicPr/>
            <p:nvPr/>
          </p:nvPicPr>
          <p:blipFill>
            <a:blip r:embed="rId2"/>
            <a:stretch/>
          </p:blipFill>
          <p:spPr>
            <a:xfrm>
              <a:off x="571680" y="2842920"/>
              <a:ext cx="7779960" cy="17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7" descr="trrom#04"/>
            <p:cNvPicPr/>
            <p:nvPr/>
          </p:nvPicPr>
          <p:blipFill>
            <a:blip r:embed="rId3"/>
            <a:stretch/>
          </p:blipFill>
          <p:spPr>
            <a:xfrm>
              <a:off x="577800" y="4564440"/>
              <a:ext cx="7779960" cy="200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Прямоугольник 5" descr=""/>
          <p:cNvPicPr/>
          <p:nvPr/>
        </p:nvPicPr>
        <p:blipFill>
          <a:blip r:embed="rId4"/>
          <a:stretch/>
        </p:blipFill>
        <p:spPr>
          <a:xfrm>
            <a:off x="1566720" y="274680"/>
            <a:ext cx="5510520" cy="676080"/>
          </a:xfrm>
          <a:prstGeom prst="rect">
            <a:avLst/>
          </a:prstGeom>
          <a:ln w="0">
            <a:noFill/>
          </a:ln>
        </p:spPr>
      </p:pic>
      <p:sp>
        <p:nvSpPr>
          <p:cNvPr id="143" name="TextBox 6"/>
          <p:cNvSpPr/>
          <p:nvPr/>
        </p:nvSpPr>
        <p:spPr>
          <a:xfrm>
            <a:off x="1857240" y="5786280"/>
            <a:ext cx="492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ь последовательность правления монар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285840" y="500040"/>
            <a:ext cx="857232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кст с ошиб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ле смерти Петр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стал вопрос о власти. Выбор верховников пал на герцогиню курляндскую Елизавету. Было решено  усилить самодержавную власть и вместе с приглашением на престол ей направили кондиции (условия). Дворяне поддержали эти требования. Приехав в Москву, Екатерин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дписала кондиции, после этого она стала императриц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nodeType="clickEffect" fill="hold">
                      <p:stCondLst>
                        <p:cond delay="0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ворцовые перевороты – смена  власти, совершавшаяся дворянскими  группировками и  гвардейскими  полкам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длились  37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500200"/>
          <a:ext cx="9144000" cy="4356360"/>
        </p:xfrm>
        <a:graphic>
          <a:graphicData uri="http://schemas.openxmlformats.org/drawingml/2006/table">
            <a:tbl>
              <a:tblPr/>
              <a:tblGrid>
                <a:gridCol w="2428920"/>
                <a:gridCol w="2381040"/>
                <a:gridCol w="4334040"/>
              </a:tblGrid>
              <a:tr h="204156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блиц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Монархи России эпохи дворцовых переворотов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0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ител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лен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 кого  опирал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14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  <p:sp>
        <p:nvSpPr>
          <p:cNvPr id="5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1" descr="PETR2"/>
          <p:cNvPicPr/>
          <p:nvPr/>
        </p:nvPicPr>
        <p:blipFill>
          <a:blip r:embed="rId1"/>
          <a:stretch/>
        </p:blipFill>
        <p:spPr>
          <a:xfrm>
            <a:off x="357120" y="928800"/>
            <a:ext cx="2143080" cy="29559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58" name="TextBox 2"/>
          <p:cNvSpPr/>
          <p:nvPr/>
        </p:nvSpPr>
        <p:spPr>
          <a:xfrm>
            <a:off x="2357280" y="357120"/>
            <a:ext cx="478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тенденты на  трон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EK1"/>
          <p:cNvPicPr/>
          <p:nvPr/>
        </p:nvPicPr>
        <p:blipFill>
          <a:blip r:embed="rId2"/>
          <a:stretch/>
        </p:blipFill>
        <p:spPr>
          <a:xfrm>
            <a:off x="6572160" y="1071720"/>
            <a:ext cx="2259000" cy="31305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60" name="Picture 13" descr="SV52_7"/>
          <p:cNvPicPr/>
          <p:nvPr/>
        </p:nvPicPr>
        <p:blipFill>
          <a:blip r:embed="rId3"/>
          <a:stretch/>
        </p:blipFill>
        <p:spPr>
          <a:xfrm>
            <a:off x="2714760" y="3357720"/>
            <a:ext cx="1606320" cy="205092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pic>
        <p:nvPicPr>
          <p:cNvPr id="61" name="Picture 14" descr="ELSA"/>
          <p:cNvPicPr/>
          <p:nvPr/>
        </p:nvPicPr>
        <p:blipFill>
          <a:blip r:embed="rId4"/>
          <a:stretch/>
        </p:blipFill>
        <p:spPr>
          <a:xfrm>
            <a:off x="4357800" y="3357720"/>
            <a:ext cx="1535040" cy="20890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62" name="TextBox 10"/>
          <p:cNvSpPr/>
          <p:nvPr/>
        </p:nvSpPr>
        <p:spPr>
          <a:xfrm>
            <a:off x="2500200" y="928800"/>
            <a:ext cx="307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ын цареви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ексе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286680" y="4214880"/>
            <a:ext cx="285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ка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жена Петр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2143080" y="5500800"/>
            <a:ext cx="428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на и Елиза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чери Пет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00760" y="356760"/>
            <a:ext cx="36432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катерина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(1725-1727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480" y="428760"/>
            <a:ext cx="4143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.Меншиков и другие приближенные Петра при поддержке гвардии возвели на трон его жену Екатерин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Рисунок14"/>
          <p:cNvPicPr/>
          <p:nvPr/>
        </p:nvPicPr>
        <p:blipFill>
          <a:blip r:embed="rId1"/>
          <a:stretch/>
        </p:blipFill>
        <p:spPr>
          <a:xfrm>
            <a:off x="4786200" y="1521000"/>
            <a:ext cx="3989520" cy="4979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143320" y="356760"/>
            <a:ext cx="3214440" cy="66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. Менши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428400"/>
            <a:ext cx="43574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ншиков стал фактическим правителем России. Он должен был помогать Екатерине, совсем не способной к государственной деятельности, управлять государством. В1726г. был учрежден Верховный тайный совет с широкими полномочиями, куда вошли соратники Петр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l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8" descr="Рисунок13"/>
          <p:cNvPicPr/>
          <p:nvPr/>
        </p:nvPicPr>
        <p:blipFill>
          <a:blip r:embed="rId1"/>
          <a:stretch/>
        </p:blipFill>
        <p:spPr>
          <a:xfrm>
            <a:off x="4786200" y="1428840"/>
            <a:ext cx="4000680" cy="51562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7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28760" y="428760"/>
            <a:ext cx="30718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тр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l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(1727-173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7120" y="428760"/>
            <a:ext cx="4143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мае 1727 г. Екатери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кончалась. Новым императором стал внук Пет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тр Алексеевич. Меньшиков задумал женить его на своей дочери, но его обошли князья Долгорук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4101" descr="Рисунок12"/>
          <p:cNvPicPr/>
          <p:nvPr/>
        </p:nvPicPr>
        <p:blipFill>
          <a:blip r:embed="rId1"/>
          <a:stretch/>
        </p:blipFill>
        <p:spPr>
          <a:xfrm>
            <a:off x="4857840" y="1550880"/>
            <a:ext cx="3768480" cy="487836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7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42920" y="28584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ньшиков в ссыл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480" y="785520"/>
            <a:ext cx="3857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ншиков был смещен со всех постов, лишен всего состояния и сослан в Сибирь. Огромное влияние на Петра оказывали Долгорукие и Голицыны, но и их   постигла неудача. В январе 1730 г. Петр заболел и умер. С ним пресеклась по мужской линии династия Романовы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7" descr="Рисунок11"/>
          <p:cNvPicPr/>
          <p:nvPr/>
        </p:nvPicPr>
        <p:blipFill>
          <a:blip r:embed="rId1"/>
          <a:stretch/>
        </p:blipFill>
        <p:spPr>
          <a:xfrm>
            <a:off x="4143240" y="2000160"/>
            <a:ext cx="4581720" cy="397188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8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5072040" cy="542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прос о престолонаследии должны были решить члены Верховного тайного совета. Выбор был сделан в пользу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нны Ивановн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дочери старшего брата Петр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живущей в Курляндии. Анне были предложены «кондиции» (условия), составленные в духе конституционной монархии, подписав которые онам могла стать императриц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690372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5" descr="ANNA"/>
          <p:cNvPicPr/>
          <p:nvPr/>
        </p:nvPicPr>
        <p:blipFill>
          <a:blip r:embed="rId1"/>
          <a:stretch/>
        </p:blipFill>
        <p:spPr>
          <a:xfrm>
            <a:off x="5929200" y="1214280"/>
            <a:ext cx="2791080" cy="3900600"/>
          </a:xfrm>
          <a:prstGeom prst="rect">
            <a:avLst/>
          </a:prstGeom>
          <a:ln w="76320">
            <a:solidFill>
              <a:srgbClr val="660033"/>
            </a:solidFill>
            <a:miter/>
          </a:ln>
        </p:spPr>
      </p:pic>
      <p:sp>
        <p:nvSpPr>
          <p:cNvPr id="8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8:44:10Z</dcterms:created>
  <dc:creator>ВСШ №2</dc:creator>
  <dc:description/>
  <dc:language>en-US</dc:language>
  <cp:lastModifiedBy>LEGION</cp:lastModifiedBy>
  <dcterms:modified xsi:type="dcterms:W3CDTF">2015-01-14T10:06:10Z</dcterms:modified>
  <cp:revision>57</cp:revision>
  <dc:subject/>
  <dc:title>Дворцовые переворо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c000000000001023620</vt:lpwstr>
  </property>
</Properties>
</file>