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0A91-C16C-45E1-8FF5-F1AB7BBDCA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ворцовые перевор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7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C371-5B18-4D24-B317-9FFB55E84F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ндиции, подписанные Анной Иоановн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з усмотрения и согласия высокого совета никакого в делах государственных не подавать решения, следовательн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 объявлять войны и не заключать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икаких не налагать поборов и нало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о за преступления не осуждать и ни у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го  дворянина не конфисковать им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спрекословно  довольство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мым на  содержание ее особ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ворного штата годовым дох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зенных вотчин никому не дар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 вступать в брак и не назначать наслед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9C73-E919-4635-9110-7446BABBF2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оановна надрывает конд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согласилась, но заняв престол – разорвала документ. Гвардия и дворянство поддержали самодержавную царскую в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5036-3DAA-4567-84A1-4D7FEAD7D2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оановн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мянница Пет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30-174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Анной прибыли многие прибалтийские немцы, занявшие важные посты в органах государственного управления. В вопросы государственной власти она не вникала. Фактическим правителем государства стал прибалтийский немец Би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897E-291F-49D2-992C-0CF20E2D4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рнст Иоганн Бир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лся  неограниченным  доверием императрицы. Современник писал о Бироне: «Характер Бирона был высокомерный, честолюбивый до крайности, грубый и даже нахальный, корыстный». Правление Бирона назвали бироновщиной. Проводимая им политика привела к засилью иностранцев, разграблению богатств страны, жестокому преследованию недовольных. Всюду свирепствовала тайная полиция, выносились смертные пригово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55C3-8998-4AA1-A9D3-16D1FB37D6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Антонович и Анна Леопольд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объявила наследником прест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вана Антоно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ына своей племянницы Анны Леопольдовны, а Регентом (правителем) – Бирона. Но гвардия свергла ненавистного прав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F27B-65E3-4F71-A824-5FFD463938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41-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Елизавета Петровна, дочь Петра, при поддержке гвардии, совершила новый дворцовый переворот. Иностранцы были удалены от двора, государством управляли способные государственные деятели из русского дворя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B874-F0BD-404D-8917-CBB99843B9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м наследником Елизавета Петровна объявила племянника -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ына Анны Петровны, внука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оторый стал императором в 1761г. Но царствовать ему довелось  всего 186 дней. Противоречивость действий, непредсказуемость и преклонение перед прусским королем Фридрихом привело к новому загов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38A7-3023-4076-8C08-37330552D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ья Ангальт-Цербст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4 году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енился на принцессе Ангальт - Цербстской, будущей Екатери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3417-5804-4ED1-92B5-6DB69F2252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62-17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 июня 1762 года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смещен своей женой Екатериной Алексеевной, умной и честолюбивой женщиной. Новой императрицей стала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лучившая титул Вел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8CF6-525A-4C74-AF48-7FB6DC176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6C71-BC3C-4715-9923-DBAEC14318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нваре 1725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ирает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не успел назначить наследника прест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CA59-8369-4131-89C2-92788A3DF8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кст с ошибк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мерти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стал вопрос о власти. Выбор верховников пал на герцогиню курляндскую Елизавету. Было решено  усилить самодержавную власть и вместе с приглашением на престол ей направили кондиции (условия). Дворяне поддержали эти требования. Приехав в Москву,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писала кондиции, после этого она стала императр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2B83-C772-42AD-A33E-9BD6AB5069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рцовые перевороты – смена  власти, совершавшаяся дворянскими  группировками и  гвардейскими  полк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ились  37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F628-E0B3-4594-AD24-569F047957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тенденты на  тро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1AE1-12B7-4216-A6B1-421990DAA6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1725-172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Меншиков и другие приближенные Петра при поддержке гвардии возвели на трон его жену Екатерин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B784-D421-422E-921C-B256E4F15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енш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шиков стал фактическим правителем России. Он должен был помогать Екатерине, совсем не способной к государственной деятельности, управлять государством. В1726г. был учрежден Верховный тайный совет с широкими полномочиями, куда вошли соратники Пет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28FC-A0B5-42E3-A4BC-5F04A37DDD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27-17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727 г.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кончалась. Новым императором стал внук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Алексеевич. Меньшиков задумал женить его на своей дочери, но его обошли князья Долгору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ED0E-28B3-44C8-8575-56828FC8A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ьшиков в ссыл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шиков был смещен со всех постов, лишен всего состояния и сослан в Сибирь. Огромное влияние на Петра оказывали Долгорукие и Голицыны, но и их   постигла неудача. В январе 1730 г. Петр заболел и умер. С ним пресеклась по мужской линии династия Роман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31AB-512F-481B-A7DE-3F903D56D8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о престолонаследии должны были решить члены Верховного тайного совета. Выбор был сделан в пользу Анны Ивановны, дочери старшего брата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живущей в Курляндии. Анне были предложены «кондиции» (условия), составленные в духе конституционной монархии, подписав которые онам могла стать императр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E421-E8E3-4160-9972-5A3F01F7DF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0BD-B025-421B-AA14-82189E55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CD9-4588-47C1-A3B6-8DD623A1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489-B957-480D-B741-D8556A48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063-6E4B-4E2F-B911-104DF756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CAA-C6D9-40F4-B183-D819C238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6E21-5D5E-402F-852A-59987BEE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921-DC0E-4311-B5AC-9B7611E2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CA0-E271-41BA-BE72-6EB5C082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F64-1AFB-4824-BB5F-4FD68FE2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9C4-2F23-4036-84F0-3FEED5EB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E1D-1833-42D5-A162-4CC01122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78C-ACFF-4BA2-ADD0-9EB107B2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0F88-FEB0-4FA3-A92D-B46CD8B63E8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1992-1E84-4FE7-8CA3-B57E91FC8A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ворцовые перевор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7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85840" y="357120"/>
            <a:ext cx="8572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диции, подписанные Анной Иоано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усмотрения и согласия высокого совета никакого в делах государственных не подавать решения, следовате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объявлять войны и не заключать ми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никаких не налагать поборов и нало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икого за преступления не осуждать и ни у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ого  дворянина не конфисковать им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еспрекословно  довольств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мым на  содержание ее особ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ворного штата годовым доход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зенных вотчин никому не да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вступать в брак и не назначать наслед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ст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720" y="285480"/>
            <a:ext cx="36432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нна Иоановна надрывает конди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71320"/>
            <a:ext cx="35434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на согласилась, но заняв престол – разорвала документ. Гвардия и дворянство поддержали самодержавную царскую вл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Рисунок9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071960" y="2174760"/>
            <a:ext cx="4614840" cy="3397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29120" y="285480"/>
            <a:ext cx="35006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нна Иоановна,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лемянница Петра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(1730-1740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584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е с Анной прибыли многие прибалтийские немцы, занявшие важные посты в органах государственного управления. В вопросы государственной власти она не вникала. Фактическим правителем государства стал прибалтийский немец Бир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Рисунок8"/>
          <p:cNvPicPr/>
          <p:nvPr/>
        </p:nvPicPr>
        <p:blipFill>
          <a:blip r:embed="rId1"/>
          <a:stretch/>
        </p:blipFill>
        <p:spPr>
          <a:xfrm>
            <a:off x="5143680" y="1857240"/>
            <a:ext cx="3584520" cy="4748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2040" y="3571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рнст Иоганн Бир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285840"/>
            <a:ext cx="4714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овался  неограниченным  доверием императрицы. Современник писал о Бироне: «Характер Бирона был высокомерный, честолюбивый до крайности, грубый и даже нахальный, корыстный». Правление Бирона назвали бироновщиной. Проводимая им политика привела к засилью иностранцев, разграблению богатств страны, жестокому преследованию недовольных. Всюду свирепствовала тайная полиция, выносились смертные пригово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Рисунок7"/>
          <p:cNvPicPr/>
          <p:nvPr/>
        </p:nvPicPr>
        <p:blipFill>
          <a:blip r:embed="rId1"/>
          <a:stretch/>
        </p:blipFill>
        <p:spPr>
          <a:xfrm>
            <a:off x="5143680" y="2714760"/>
            <a:ext cx="3649320" cy="37144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85840" y="285840"/>
            <a:ext cx="36435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ван Антонович и Анна Леопольдов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642600"/>
            <a:ext cx="36147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на Ивановна объявила наследником престол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Ивана Антонович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ына своей племянницы Анны Леопольдовны, а Регентом (правителем) – Бирона. Но гвардия свергла ненавистного прав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31" descr="Рисунок5"/>
          <p:cNvPicPr/>
          <p:nvPr/>
        </p:nvPicPr>
        <p:blipFill>
          <a:blip r:embed="rId1"/>
          <a:stretch/>
        </p:blipFill>
        <p:spPr>
          <a:xfrm>
            <a:off x="4405320" y="1571760"/>
            <a:ext cx="4122720" cy="4964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0360" y="285840"/>
            <a:ext cx="41432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41-176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642600"/>
            <a:ext cx="4286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1741 г. Елизавета Петровна, дочь Петра, при поддержке гвардии, совершила новый дворцовый переворот. Иностранцы были удалены от двора, государством управляли способные государственные деятели из русского дворянст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Рисунок3"/>
          <p:cNvPicPr/>
          <p:nvPr/>
        </p:nvPicPr>
        <p:blipFill>
          <a:blip r:embed="rId1"/>
          <a:stretch/>
        </p:blipFill>
        <p:spPr>
          <a:xfrm>
            <a:off x="4857840" y="1714680"/>
            <a:ext cx="3665520" cy="48085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28800" y="42876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480" y="285840"/>
            <a:ext cx="4714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воим наследником Елизавета Петровна объявила племянника - Петр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ына Анны Петровны, внука Петр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Который стал императором в 1761г. Но царствовать ему довелось  всего 186 дней. Противоречивость действий, непредсказуемость и преклонение перед прусским королем Фридрихом привело к новому загово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Рисунок1"/>
          <p:cNvPicPr/>
          <p:nvPr/>
        </p:nvPicPr>
        <p:blipFill>
          <a:blip r:embed="rId1"/>
          <a:stretch/>
        </p:blipFill>
        <p:spPr>
          <a:xfrm>
            <a:off x="5143680" y="2143080"/>
            <a:ext cx="3555720" cy="4410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760" y="2858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фья Ангальт-Цербст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043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744 году Пет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женился на принцессе Ангальт - Цербстской, будущей Екатерин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Рисунок2"/>
          <p:cNvPicPr/>
          <p:nvPr/>
        </p:nvPicPr>
        <p:blipFill>
          <a:blip r:embed="rId1"/>
          <a:stretch/>
        </p:blipFill>
        <p:spPr>
          <a:xfrm>
            <a:off x="4857840" y="1714680"/>
            <a:ext cx="3568680" cy="4719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3680" y="5000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62-179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4" descr="аргунов и. портрет ек2.jpg"/>
          <p:cNvPicPr/>
          <p:nvPr/>
        </p:nvPicPr>
        <p:blipFill>
          <a:blip r:embed="rId1"/>
          <a:stretch/>
        </p:blipFill>
        <p:spPr>
          <a:xfrm>
            <a:off x="4929120" y="2000160"/>
            <a:ext cx="3540240" cy="4415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186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8 июня 1762 года Пет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был смещен своей женой Екатериной Алексеевной, умной и честолюбивой женщиной. Новой императрицей стала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лучившая титул Вели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5840" y="428760"/>
          <a:ext cx="8572320" cy="4279680"/>
        </p:xfrm>
        <a:graphic>
          <a:graphicData uri="http://schemas.openxmlformats.org/drawingml/2006/table">
            <a:tbl>
              <a:tblPr/>
              <a:tblGrid>
                <a:gridCol w="2773440"/>
                <a:gridCol w="2233440"/>
                <a:gridCol w="3565440"/>
              </a:tblGrid>
              <a:tr h="12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атерин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а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5 - 17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шиков и другие приближенные Петра, гвардия, Верховный тайный сов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1" name="Picture 10" descr="EK1"/>
          <p:cNvPicPr/>
          <p:nvPr/>
        </p:nvPicPr>
        <p:blipFill>
          <a:blip r:embed="rId1"/>
          <a:stretch/>
        </p:blipFill>
        <p:spPr>
          <a:xfrm>
            <a:off x="324000" y="3500280"/>
            <a:ext cx="2357280" cy="3268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ETR1"/>
          <p:cNvPicPr/>
          <p:nvPr/>
        </p:nvPicPr>
        <p:blipFill>
          <a:blip r:embed="rId1"/>
          <a:stretch/>
        </p:blipFill>
        <p:spPr>
          <a:xfrm>
            <a:off x="4857840" y="714240"/>
            <a:ext cx="3619440" cy="5040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52" name="TextBox 2"/>
          <p:cNvSpPr/>
          <p:nvPr/>
        </p:nvSpPr>
        <p:spPr>
          <a:xfrm>
            <a:off x="714240" y="2000160"/>
            <a:ext cx="392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январе 172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ирает Пет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ь не успел назначить наследника прест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85840" y="428760"/>
          <a:ext cx="8572320" cy="3605040"/>
        </p:xfrm>
        <a:graphic>
          <a:graphicData uri="http://schemas.openxmlformats.org/drawingml/2006/table">
            <a:tbl>
              <a:tblPr/>
              <a:tblGrid>
                <a:gridCol w="2485800"/>
                <a:gridCol w="2119320"/>
                <a:gridCol w="3967200"/>
              </a:tblGrid>
              <a:tr h="107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53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нук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7 - 17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ировка князей Долгоруких и Голицыных, гвардия, Верховный тайный сов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9" descr="PETR2"/>
          <p:cNvPicPr/>
          <p:nvPr/>
        </p:nvPicPr>
        <p:blipFill>
          <a:blip r:embed="rId1"/>
          <a:stretch/>
        </p:blipFill>
        <p:spPr>
          <a:xfrm>
            <a:off x="428760" y="3071880"/>
            <a:ext cx="2504880" cy="3456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85840" y="357120"/>
          <a:ext cx="8572320" cy="6143760"/>
        </p:xfrm>
        <a:graphic>
          <a:graphicData uri="http://schemas.openxmlformats.org/drawingml/2006/table">
            <a:tbl>
              <a:tblPr/>
              <a:tblGrid>
                <a:gridCol w="3062160"/>
                <a:gridCol w="2795760"/>
                <a:gridCol w="2714400"/>
              </a:tblGrid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0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 Иоанновна, племянн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0 – 17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роновщ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поддержке гвардии, немецкое дворянство во главе с Бироном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6" descr="ANNA"/>
          <p:cNvPicPr/>
          <p:nvPr/>
        </p:nvPicPr>
        <p:blipFill>
          <a:blip r:embed="rId1"/>
          <a:stretch/>
        </p:blipFill>
        <p:spPr>
          <a:xfrm>
            <a:off x="684360" y="3429000"/>
            <a:ext cx="2322360" cy="32464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57120" y="428760"/>
          <a:ext cx="8501040" cy="4214520"/>
        </p:xfrm>
        <a:graphic>
          <a:graphicData uri="http://schemas.openxmlformats.org/drawingml/2006/table">
            <a:tbl>
              <a:tblPr/>
              <a:tblGrid>
                <a:gridCol w="2389320"/>
                <a:gridCol w="2176560"/>
                <a:gridCol w="3935160"/>
              </a:tblGrid>
              <a:tr h="12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онови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е меся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ент (правитель) со всей полнотой власти - Бир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57120" y="357120"/>
          <a:ext cx="8501040" cy="4643640"/>
        </p:xfrm>
        <a:graphic>
          <a:graphicData uri="http://schemas.openxmlformats.org/drawingml/2006/table">
            <a:tbl>
              <a:tblPr/>
              <a:tblGrid>
                <a:gridCol w="2621160"/>
                <a:gridCol w="2125440"/>
                <a:gridCol w="3754440"/>
              </a:tblGrid>
              <a:tr h="1397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4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изавета Петровна, дочь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1- 17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ардия, русское дворян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4" descr="ELSA"/>
          <p:cNvPicPr/>
          <p:nvPr/>
        </p:nvPicPr>
        <p:blipFill>
          <a:blip r:embed="rId1"/>
          <a:stretch/>
        </p:blipFill>
        <p:spPr>
          <a:xfrm>
            <a:off x="785880" y="3357720"/>
            <a:ext cx="2357280" cy="3209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57120" y="1357200"/>
          <a:ext cx="8501040" cy="4214880"/>
        </p:xfrm>
        <a:graphic>
          <a:graphicData uri="http://schemas.openxmlformats.org/drawingml/2006/table">
            <a:tbl>
              <a:tblPr/>
              <a:tblGrid>
                <a:gridCol w="2486160"/>
                <a:gridCol w="2305080"/>
                <a:gridCol w="3709800"/>
              </a:tblGrid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нук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г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поддерж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85840" y="1428840"/>
          <a:ext cx="8501040" cy="4214880"/>
        </p:xfrm>
        <a:graphic>
          <a:graphicData uri="http://schemas.openxmlformats.org/drawingml/2006/table">
            <a:tbl>
              <a:tblPr/>
              <a:tblGrid>
                <a:gridCol w="2773440"/>
                <a:gridCol w="2304720"/>
                <a:gridCol w="3422880"/>
              </a:tblGrid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атерин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ж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2 -17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ардия и русское дворян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1"/>
          <p:cNvGrpSpPr/>
          <p:nvPr/>
        </p:nvGrpSpPr>
        <p:grpSpPr>
          <a:xfrm>
            <a:off x="571680" y="1143000"/>
            <a:ext cx="7786080" cy="5428800"/>
            <a:chOff x="571680" y="1143000"/>
            <a:chExt cx="7786080" cy="5428800"/>
          </a:xfrm>
        </p:grpSpPr>
        <p:pic>
          <p:nvPicPr>
            <p:cNvPr id="139" name="Picture 5" descr="trrom#02"/>
            <p:cNvPicPr/>
            <p:nvPr/>
          </p:nvPicPr>
          <p:blipFill>
            <a:blip r:embed="rId1"/>
            <a:stretch/>
          </p:blipFill>
          <p:spPr>
            <a:xfrm>
              <a:off x="571680" y="1143000"/>
              <a:ext cx="7779960" cy="17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trrom#03"/>
            <p:cNvPicPr/>
            <p:nvPr/>
          </p:nvPicPr>
          <p:blipFill>
            <a:blip r:embed="rId2"/>
            <a:stretch/>
          </p:blipFill>
          <p:spPr>
            <a:xfrm>
              <a:off x="571680" y="2842920"/>
              <a:ext cx="7779960" cy="17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" descr="trrom#04"/>
            <p:cNvPicPr/>
            <p:nvPr/>
          </p:nvPicPr>
          <p:blipFill>
            <a:blip r:embed="rId3"/>
            <a:stretch/>
          </p:blipFill>
          <p:spPr>
            <a:xfrm>
              <a:off x="577800" y="4564440"/>
              <a:ext cx="7779960" cy="200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Прямоугольник 5" descr=""/>
          <p:cNvPicPr/>
          <p:nvPr/>
        </p:nvPicPr>
        <p:blipFill>
          <a:blip r:embed="rId4"/>
          <a:stretch/>
        </p:blipFill>
        <p:spPr>
          <a:xfrm>
            <a:off x="1566720" y="274680"/>
            <a:ext cx="5510520" cy="676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1857240" y="5786280"/>
            <a:ext cx="49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ь последовательность правления монар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85840" y="500040"/>
            <a:ext cx="85723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с ошиб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мерти Пет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тал вопрос о власти. Выбор верховников пал на герцогиню курляндскую Елизавету. Было решено  усилить самодержавную власть и вместе с приглашением на престол ей направили кондиции (условия). Дворяне поддержали эти требования. Приехав в Москву, Екатер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дписала кондиции, после этого она стала императриц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рцовые перевороты – смена  власти, совершавшаяся дворянскими  группировками и  гвардейскими  полкам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лились  37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500200"/>
          <a:ext cx="9144000" cy="4356360"/>
        </p:xfrm>
        <a:graphic>
          <a:graphicData uri="http://schemas.openxmlformats.org/drawingml/2006/table">
            <a:tbl>
              <a:tblPr/>
              <a:tblGrid>
                <a:gridCol w="2428920"/>
                <a:gridCol w="2381040"/>
                <a:gridCol w="4334040"/>
              </a:tblGrid>
              <a:tr h="204156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Монархи России эпохи дворцовых переворотов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 кого  опирал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1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PETR2"/>
          <p:cNvPicPr/>
          <p:nvPr/>
        </p:nvPicPr>
        <p:blipFill>
          <a:blip r:embed="rId1"/>
          <a:stretch/>
        </p:blipFill>
        <p:spPr>
          <a:xfrm>
            <a:off x="357120" y="928800"/>
            <a:ext cx="2143080" cy="29559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58" name="TextBox 2"/>
          <p:cNvSpPr/>
          <p:nvPr/>
        </p:nvSpPr>
        <p:spPr>
          <a:xfrm>
            <a:off x="2357280" y="357120"/>
            <a:ext cx="47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тенденты на  тр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EK1"/>
          <p:cNvPicPr/>
          <p:nvPr/>
        </p:nvPicPr>
        <p:blipFill>
          <a:blip r:embed="rId2"/>
          <a:stretch/>
        </p:blipFill>
        <p:spPr>
          <a:xfrm>
            <a:off x="6572160" y="1071720"/>
            <a:ext cx="2259000" cy="313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60" name="Picture 13" descr="SV52_7"/>
          <p:cNvPicPr/>
          <p:nvPr/>
        </p:nvPicPr>
        <p:blipFill>
          <a:blip r:embed="rId3"/>
          <a:stretch/>
        </p:blipFill>
        <p:spPr>
          <a:xfrm>
            <a:off x="2714760" y="3357720"/>
            <a:ext cx="1606320" cy="20509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61" name="Picture 14" descr="ELSA"/>
          <p:cNvPicPr/>
          <p:nvPr/>
        </p:nvPicPr>
        <p:blipFill>
          <a:blip r:embed="rId4"/>
          <a:stretch/>
        </p:blipFill>
        <p:spPr>
          <a:xfrm>
            <a:off x="4357800" y="3357720"/>
            <a:ext cx="1535040" cy="2089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62" name="TextBox 10"/>
          <p:cNvSpPr/>
          <p:nvPr/>
        </p:nvSpPr>
        <p:spPr>
          <a:xfrm>
            <a:off x="2500200" y="92880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ын цареви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е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286680" y="4214880"/>
            <a:ext cx="28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ена Пет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2143080" y="5500800"/>
            <a:ext cx="42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на и Елиза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чери Пет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760" y="356760"/>
            <a:ext cx="36432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725-1727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480" y="428760"/>
            <a:ext cx="4143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Меншиков и другие приближенные Петра при поддержке гвардии возвели на трон его жену Екатерин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Рисунок14"/>
          <p:cNvPicPr/>
          <p:nvPr/>
        </p:nvPicPr>
        <p:blipFill>
          <a:blip r:embed="rId1"/>
          <a:stretch/>
        </p:blipFill>
        <p:spPr>
          <a:xfrm>
            <a:off x="4786200" y="1521000"/>
            <a:ext cx="3989520" cy="4979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3320" y="356760"/>
            <a:ext cx="321444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. Менш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428400"/>
            <a:ext cx="43574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ншиков стал фактическим правителем России. Он должен был помогать Екатерине, совсем не способной к государственной деятельности, управлять государством. В1726г. был учрежден Верховный тайный совет с широкими полномочиями, куда вошли соратники Пет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Рисунок13"/>
          <p:cNvPicPr/>
          <p:nvPr/>
        </p:nvPicPr>
        <p:blipFill>
          <a:blip r:embed="rId1"/>
          <a:stretch/>
        </p:blipFill>
        <p:spPr>
          <a:xfrm>
            <a:off x="4786200" y="1428840"/>
            <a:ext cx="4000680" cy="5156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7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28760" y="428760"/>
            <a:ext cx="30718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27-173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7120" y="428760"/>
            <a:ext cx="4143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е 1727 г.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кончалась. Новым императором стал внук Пет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р Алексеевич. Меньшиков задумал женить его на своей дочери, но его обошли князья Долгору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101" descr="Рисунок12"/>
          <p:cNvPicPr/>
          <p:nvPr/>
        </p:nvPicPr>
        <p:blipFill>
          <a:blip r:embed="rId1"/>
          <a:stretch/>
        </p:blipFill>
        <p:spPr>
          <a:xfrm>
            <a:off x="4857840" y="1550880"/>
            <a:ext cx="3768480" cy="4878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7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42920" y="2858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ньшиков в ссыл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480" y="785520"/>
            <a:ext cx="3857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ншиков был смещен со всех постов, лишен всего состояния и сослан в Сибирь. Огромное влияние на Петра оказывали Долгорукие и Голицыны, но и их   постигла неудача. В январе 1730 г. Петр заболел и умер. С ним пресеклась по мужской линии династия Романовы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Рисунок11"/>
          <p:cNvPicPr/>
          <p:nvPr/>
        </p:nvPicPr>
        <p:blipFill>
          <a:blip r:embed="rId1"/>
          <a:stretch/>
        </p:blipFill>
        <p:spPr>
          <a:xfrm>
            <a:off x="4143240" y="2000160"/>
            <a:ext cx="4581720" cy="3971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5072040" cy="542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 о престолонаследии должны были решить члены Верховного тайного совета. Выбор был сделан в польз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ны Иванов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дочери старшего брата Пет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живущей в Курляндии. Анне были предложены «кондиции» (условия), составленные в духе конституционной монархии, подписав которые онам могла стать императриц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690372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5" descr="ANNA"/>
          <p:cNvPicPr/>
          <p:nvPr/>
        </p:nvPicPr>
        <p:blipFill>
          <a:blip r:embed="rId1"/>
          <a:stretch/>
        </p:blipFill>
        <p:spPr>
          <a:xfrm>
            <a:off x="5929200" y="1214280"/>
            <a:ext cx="2791080" cy="3900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8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8:44:10Z</dcterms:created>
  <dc:creator>ВСШ №2</dc:creator>
  <dc:description/>
  <dc:language>en-US</dc:language>
  <cp:lastModifiedBy>LEGION</cp:lastModifiedBy>
  <dcterms:modified xsi:type="dcterms:W3CDTF">2015-01-14T10:06:10Z</dcterms:modified>
  <cp:revision>57</cp:revision>
  <dc:subject/>
  <dc:title>Дворцовые перевор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c000000000001023620</vt:lpwstr>
  </property>
</Properties>
</file>