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6C4C-F643-407A-8211-7CFE69B5F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 1991 – 1998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к рыночн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ризиса в нашем реги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 в кризис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рыбопромышленного 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ран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326-64B7-4540-83C5-F254272AC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FF1E-A11A-4759-8A5C-FA9866001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финансирование оборонных заказов практически прекрати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воения гражданской продукции необходимо оборудование и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F887-C8A6-4C66-9387-0BF676639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промышленный комплек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ов рыбы сократился в 4,5 раза по сравнению с 1980-ми г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не закупались рыболовные 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лась научно-исследовательская база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ся набор абитуриентов в учебные заведения рыбохозяйственного профи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2F02-0F10-4A59-8ECA-ACF3E23C7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сельско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учебником: с. 215-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коренные изменения происходили с сельском хозяйстве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фермерски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коллективны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была государственная политика по отношению к сельскому хозяй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BB82-4AE7-483E-A63B-5D9EBD5D8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роль играет развитие транспорта для нашего региона? 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транспортное сообщение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ешний» 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утренний»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виды транспор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исчез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A67-3A85-4402-93C6-95F6334CA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значение имеет туристическая отрасль для нашего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туристические объекты есть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зменения произошли в отечественном туризме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менился иностранный туризм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1334-30EF-4269-BEA4-99D0CBC88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7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ворческие работы на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Промышленные предприятия Багратион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Развитие сельского хозяйства в Багратионов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уристические объекты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История какого-нибудь крупного завода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88C5-9775-409E-B516-8E9ABB1F9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3167-9CC2-4C94-BBE6-7D0F2BDED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656E-A0CB-4798-8782-D2499D316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6AC3-829D-42ED-B371-20032C561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тип  экономики был в  СССР? Чем он характеризу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эти события отразились на геополитическом положении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A5F-73F5-4BD4-8F3C-34E2367F9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8FCC-991C-44D6-9542-A91E910C7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1A82-F96F-4DBE-A86E-706989272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в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9AC-1AF1-4662-A2BA-ECA7C53E9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экономического кризиса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3C5B-4FA0-4918-9EE6-88A1A7F8B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экономического кризиса в наше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клавное положение усиливало 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региона зависит от внешних связей с Россией и зарубежны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A68F-BE24-4A64-AA58-B8F24AF30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к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диаграмму в учебнике на с.213 Какие выводы можно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78DA-CCA9-4354-AACB-354ED1D3A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стоительный завод «Янтарь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Завод «Квар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Систе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Фак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люлозо - бумаж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Янтарный комби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368E-FFE2-493D-8997-3BAAB5F65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4F4-7BE9-423B-9F1F-619249BA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CC5-8B3A-449D-9D86-AA92A309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46C-7E8C-446A-BD97-7C5BEC38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71A-E698-4147-9698-41A6C2BB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F0A0-782C-4DEA-860B-1C1995F0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6549-34F0-4BE6-9FA4-5D015C06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FA93-2002-47DA-96CD-F4F54CEA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E25A-CDBF-4019-82EC-F851F593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F909-E5D1-45AE-A50E-9CE45F88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2607-57D7-4877-8682-3EA0FC1F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475D-0A4E-4774-806B-D3A11C8E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096-AAB7-4285-9C60-F4483E7A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7F9B-B9C8-4B60-A196-3048850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1333-4BD3-4697-A91D-E260440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C405-76DE-401B-94AC-C33D3BC4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8289-D8E4-422C-BAE0-9DCE6265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476F-0D6B-499C-98D8-0ACADB36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9D6-87E9-43EA-A9B3-10349348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44E-D45A-4943-AD88-645BC37F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0C0-1D59-4EB7-BFCF-2FAFED09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644-9F2C-4070-B673-F4232804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BD2-F71E-4B57-8903-7FE09D03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EE9-2BF3-46D5-85EB-45FB35B4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70B-D07F-437E-8ED1-4D304D6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F492-D7D0-440D-8504-8C9FB28333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F507-17D5-476B-9AD9-B274FB8387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72,15,&#1057;&#1083;&#1072;&#1081;&#1076; 1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5,13,&#1055;&#1088;&#1077;&#1076;&#1087;&#1088;&#1080;&#1103;&#1090;&#1080;&#1103; &#1088;&#1077;&#1075;&#1080;&#1086;&#1085;&#1072;" TargetMode="External"/><Relationship Id="rId2" Type="http://schemas.openxmlformats.org/officeDocument/2006/relationships/hyperlink" Target="264,12,&#1055;&#1088;&#1077;&#1076;&#1087;&#1088;&#1080;&#1103;&#1090;&#1080;&#1103; &#1088;&#1077;&#1075;&#1080;&#1086;&#1085;&#1072;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Экономический кризис 1991 – 1998 г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292428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ли перехода к рыночной экономи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Шоковая терап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кризиса в нашем регио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промышленности в кризисный пери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ельского хозяйства и рыбопромышленного  комплек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ранспор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781280" y="476280"/>
            <a:ext cx="55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западной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4140360" y="2492280"/>
            <a:ext cx="260496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Кварц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539640" y="177336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-15 тыс. 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708360" y="1413000"/>
            <a:ext cx="34718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остроительны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Янтар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3" name="AutoShape 8"/>
          <p:cNvCxnSpPr>
            <a:stCxn id="151" idx="3"/>
            <a:endCxn id="152" idx="0"/>
          </p:cNvCxnSpPr>
          <p:nvPr/>
        </p:nvCxnSpPr>
        <p:spPr>
          <a:xfrm flipV="1">
            <a:off x="1644120" y="1402560"/>
            <a:ext cx="3801240" cy="731160"/>
          </a:xfrm>
          <a:prstGeom prst="bentConnector4">
            <a:avLst>
              <a:gd name="adj1" fmla="val 41390"/>
              <a:gd name="adj2" fmla="val 13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9"/>
          <p:cNvCxnSpPr>
            <a:stCxn id="151" idx="1"/>
            <a:endCxn id="150" idx="2"/>
          </p:cNvCxnSpPr>
          <p:nvPr/>
        </p:nvCxnSpPr>
        <p:spPr>
          <a:xfrm>
            <a:off x="1624680" y="2132640"/>
            <a:ext cx="3818520" cy="641880"/>
          </a:xfrm>
          <a:prstGeom prst="bentConnector4">
            <a:avLst>
              <a:gd name="adj1" fmla="val 41363"/>
              <a:gd name="adj2" fmla="val 134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WordArt 10"/>
          <p:cNvSpPr txBox="1"/>
          <p:nvPr/>
        </p:nvSpPr>
        <p:spPr>
          <a:xfrm>
            <a:off x="539640" y="415908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- 5 тыс.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708360" y="4014720"/>
            <a:ext cx="4476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Систем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780000" y="479736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Факел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8" name="AutoShape 13"/>
          <p:cNvCxnSpPr>
            <a:stCxn id="155" idx="1"/>
            <a:endCxn id="156" idx="0"/>
          </p:cNvCxnSpPr>
          <p:nvPr/>
        </p:nvCxnSpPr>
        <p:spPr>
          <a:xfrm flipV="1">
            <a:off x="1624680" y="4005360"/>
            <a:ext cx="4321800" cy="514440"/>
          </a:xfrm>
          <a:prstGeom prst="bentConnector4">
            <a:avLst>
              <a:gd name="adj1" fmla="val 37020"/>
              <a:gd name="adj2" fmla="val 1426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15"/>
          <p:cNvCxnSpPr>
            <a:stCxn id="155" idx="3"/>
            <a:endCxn id="157" idx="2"/>
          </p:cNvCxnSpPr>
          <p:nvPr/>
        </p:nvCxnSpPr>
        <p:spPr>
          <a:xfrm>
            <a:off x="1644120" y="4519440"/>
            <a:ext cx="4188600" cy="648360"/>
          </a:xfrm>
          <a:prstGeom prst="bentConnector4">
            <a:avLst>
              <a:gd name="adj1" fmla="val 38396"/>
              <a:gd name="adj2" fmla="val 133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WordArt 16"/>
          <p:cNvSpPr txBox="1"/>
          <p:nvPr/>
        </p:nvSpPr>
        <p:spPr>
          <a:xfrm>
            <a:off x="1116000" y="5516640"/>
            <a:ext cx="6505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пуском какой продукц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имались эти предприят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промышленных предприят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8598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ое финансирование оборонных заказов практически прекратило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освоения гражданской продукции необходимо оборудование и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042920" y="4869000"/>
            <a:ext cx="741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читайте  учебник на с.214-215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611280" y="5661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предприятия регио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рались выйти из кризис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ыбопромышленный комплек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лов рыбы сократился в 4,5 раза по сравнению с 1980-ми год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ти не закупались рыболовные 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алась научно-исследовательская база от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тился набор абитуриентов в учебные заведения рыбохозяйственного профи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3200" y="5810400"/>
            <a:ext cx="9010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меры, на ваш взгляд, могли спаст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бопромышленный комплекс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сельского хозяй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с учебником: с. 215-2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коренные изменения происходили с сельском хозяйстве реги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фермерски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коллективны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ва была государственная политика по отношению к сельскому хозяйств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транспор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ую роль играет развитие транспорта для нашего региона? Почему вы так думает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кие группы можно разделить транспортное сообщение нашей обла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ешний» 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утренний»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виды транспор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ктически исчезл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е значение имеет туристическая отрасль для нашего регио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туристические объекты есть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изменения произошли в отечественном туризме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зменился иностранный туризм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7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ворческие работы на те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мышленные предприятия Багратионов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льского хозяйства в Багратионовском рай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уристические объекты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какого-нибудь крупного завода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95640" y="233280"/>
            <a:ext cx="5148360" cy="6624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администрация Калининграда проводит политику ликвидации трамвайных маршрутов в связи с тем, что лоббируются интересы маршрутных такси и депутатов-владельцев автобусных фирм, а ликвидированные линии в перспективе планируется заменить троллейбусами. Но на практике была замена лишь на улице Горького. Во всех остальных случаях (улица Суворова, Невского, Киевская, Гагарина, Маршала Борзова и др.) планы замены так и остались только пла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38140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611280" y="471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previousslide"/>
          </p:cNvPr>
          <p:cNvSpPr/>
          <p:nvPr/>
        </p:nvSpPr>
        <p:spPr>
          <a:xfrm>
            <a:off x="0" y="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493"/>
                </a:moveTo>
                <a:lnTo>
                  <a:pt x="7745" y="7493"/>
                </a:lnTo>
                <a:lnTo>
                  <a:pt x="7745" y="12828"/>
                </a:lnTo>
                <a:cubicBezTo>
                  <a:pt x="7745" y="13751"/>
                  <a:pt x="8545" y="14482"/>
                  <a:pt x="9581" y="14482"/>
                </a:cubicBezTo>
                <a:lnTo>
                  <a:pt x="11243" y="14482"/>
                </a:lnTo>
                <a:cubicBezTo>
                  <a:pt x="12279" y="14482"/>
                  <a:pt x="13080" y="13751"/>
                  <a:pt x="13080" y="12828"/>
                </a:cubicBezTo>
                <a:lnTo>
                  <a:pt x="13080" y="7493"/>
                </a:lnTo>
                <a:lnTo>
                  <a:pt x="11243" y="7493"/>
                </a:lnTo>
                <a:lnTo>
                  <a:pt x="14751" y="3985"/>
                </a:lnTo>
                <a:lnTo>
                  <a:pt x="18424" y="7493"/>
                </a:lnTo>
                <a:lnTo>
                  <a:pt x="16588" y="7493"/>
                </a:lnTo>
                <a:lnTo>
                  <a:pt x="16588" y="12828"/>
                </a:lnTo>
                <a:cubicBezTo>
                  <a:pt x="16588" y="15596"/>
                  <a:pt x="14011" y="18155"/>
                  <a:pt x="11243" y="18155"/>
                </a:cubicBezTo>
                <a:lnTo>
                  <a:pt x="9581" y="18155"/>
                </a:lnTo>
                <a:cubicBezTo>
                  <a:pt x="6813" y="18155"/>
                  <a:pt x="4237" y="15596"/>
                  <a:pt x="423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51640" y="1600200"/>
            <a:ext cx="324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771640" cy="18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53836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655720" cy="1765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previousslide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327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313080" cy="21524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вторим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тип  экономики был в  СССР? Чем он характери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эти события отразились на геополитическом положении нашей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684360" y="3068640"/>
            <a:ext cx="2087280" cy="1800360"/>
            <a:chOff x="684360" y="3068640"/>
            <a:chExt cx="2087280" cy="1800360"/>
          </a:xfrm>
        </p:grpSpPr>
        <p:grpSp>
          <p:nvGrpSpPr>
            <p:cNvPr id="105" name="Group 4"/>
            <p:cNvGrpSpPr/>
            <p:nvPr/>
          </p:nvGrpSpPr>
          <p:grpSpPr>
            <a:xfrm>
              <a:off x="1044360" y="3429000"/>
              <a:ext cx="1191960" cy="1166400"/>
              <a:chOff x="1044360" y="3429000"/>
              <a:chExt cx="1191960" cy="1166400"/>
            </a:xfrm>
          </p:grpSpPr>
          <p:sp>
            <p:nvSpPr>
              <p:cNvPr id="106" name="Gear"/>
              <p:cNvSpPr/>
              <p:nvPr/>
            </p:nvSpPr>
            <p:spPr>
              <a:xfrm>
                <a:off x="1705320" y="3429000"/>
                <a:ext cx="531000" cy="534960"/>
              </a:xfrm>
              <a:custGeom>
                <a:avLst/>
                <a:gdLst>
                  <a:gd name="textAreaLeft" fmla="*/ 107280 w 531000"/>
                  <a:gd name="textAreaRight" fmla="*/ 438840 w 531000"/>
                  <a:gd name="textAreaTop" fmla="*/ 97920 h 534960"/>
                  <a:gd name="textAreaBottom" fmla="*/ 437040 h 53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044360" y="364932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AutoShape 7"/>
              <p:cNvSpPr/>
              <p:nvPr/>
            </p:nvSpPr>
            <p:spPr>
              <a:xfrm>
                <a:off x="1456200" y="3885120"/>
                <a:ext cx="705600" cy="710280"/>
              </a:xfrm>
              <a:custGeom>
                <a:avLst/>
                <a:gdLst>
                  <a:gd name="textAreaLeft" fmla="*/ 142920 w 705600"/>
                  <a:gd name="textAreaRight" fmla="*/ 583200 w 70560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9" name="WordArt 8"/>
            <p:cNvSpPr txBox="1"/>
            <p:nvPr/>
          </p:nvSpPr>
          <p:spPr>
            <a:xfrm>
              <a:off x="684360" y="3068640"/>
              <a:ext cx="2087280" cy="180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6300720" y="2924280"/>
            <a:ext cx="2087640" cy="1800000"/>
            <a:chOff x="6300720" y="2924280"/>
            <a:chExt cx="2087640" cy="1800000"/>
          </a:xfrm>
        </p:grpSpPr>
        <p:grpSp>
          <p:nvGrpSpPr>
            <p:cNvPr id="111" name="Group 11"/>
            <p:cNvGrpSpPr/>
            <p:nvPr/>
          </p:nvGrpSpPr>
          <p:grpSpPr>
            <a:xfrm>
              <a:off x="6661080" y="3284280"/>
              <a:ext cx="1192320" cy="1166400"/>
              <a:chOff x="6661080" y="3284280"/>
              <a:chExt cx="1192320" cy="116640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7322040" y="3284280"/>
                <a:ext cx="531360" cy="534600"/>
              </a:xfrm>
              <a:custGeom>
                <a:avLst/>
                <a:gdLst>
                  <a:gd name="textAreaLeft" fmla="*/ 107640 w 531360"/>
                  <a:gd name="textAreaRight" fmla="*/ 438840 w 531360"/>
                  <a:gd name="textAreaTop" fmla="*/ 97920 h 534600"/>
                  <a:gd name="textAreaBottom" fmla="*/ 436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AutoShape 13"/>
              <p:cNvSpPr/>
              <p:nvPr/>
            </p:nvSpPr>
            <p:spPr>
              <a:xfrm>
                <a:off x="6661080" y="350460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7072920" y="3740400"/>
                <a:ext cx="705960" cy="710280"/>
              </a:xfrm>
              <a:custGeom>
                <a:avLst/>
                <a:gdLst>
                  <a:gd name="textAreaLeft" fmla="*/ 142920 w 705960"/>
                  <a:gd name="textAreaRight" fmla="*/ 583560 w 70596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5" name="WordArt 15"/>
            <p:cNvSpPr txBox="1"/>
            <p:nvPr/>
          </p:nvSpPr>
          <p:spPr>
            <a:xfrm>
              <a:off x="6300720" y="2924280"/>
              <a:ext cx="2087640" cy="18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03640" y="3645000"/>
            <a:ext cx="2879640" cy="1079280"/>
          </a:xfrm>
          <a:custGeom>
            <a:avLst/>
            <a:gdLst>
              <a:gd name="textAreaLeft" fmla="*/ 450000 w 2879640"/>
              <a:gd name="textAreaRight" fmla="*/ 2684880 w 2879640"/>
              <a:gd name="textAreaTop" fmla="*/ 399960 h 1079280"/>
              <a:gd name="textAreaBottom" fmla="*/ 679320 h 1079280"/>
            </a:gdLst>
            <a:ahLst/>
            <a:rect l="textAreaLeft" t="textAreaTop" r="textAreaRight" b="textAreaBottom"/>
            <a:pathLst>
              <a:path w="21600" h="21600">
                <a:moveTo>
                  <a:pt x="15949" y="0"/>
                </a:moveTo>
                <a:lnTo>
                  <a:pt x="15949" y="8008"/>
                </a:lnTo>
                <a:lnTo>
                  <a:pt x="3375" y="8008"/>
                </a:lnTo>
                <a:lnTo>
                  <a:pt x="3375" y="13592"/>
                </a:lnTo>
                <a:lnTo>
                  <a:pt x="15949" y="13592"/>
                </a:lnTo>
                <a:lnTo>
                  <a:pt x="15949" y="21600"/>
                </a:lnTo>
                <a:lnTo>
                  <a:pt x="21600" y="10800"/>
                </a:lnTo>
                <a:lnTo>
                  <a:pt x="15949" y="0"/>
                </a:lnTo>
                <a:close/>
              </a:path>
              <a:path w="21600" h="21600">
                <a:moveTo>
                  <a:pt x="1350" y="8008"/>
                </a:moveTo>
                <a:lnTo>
                  <a:pt x="1350" y="13592"/>
                </a:lnTo>
                <a:lnTo>
                  <a:pt x="2700" y="13592"/>
                </a:lnTo>
                <a:lnTo>
                  <a:pt x="2700" y="8008"/>
                </a:lnTo>
                <a:lnTo>
                  <a:pt x="1350" y="8008"/>
                </a:lnTo>
                <a:close/>
              </a:path>
              <a:path w="21600" h="21600">
                <a:moveTo>
                  <a:pt x="0" y="8008"/>
                </a:moveTo>
                <a:lnTo>
                  <a:pt x="0" y="13592"/>
                </a:lnTo>
                <a:lnTo>
                  <a:pt x="675" y="13592"/>
                </a:lnTo>
                <a:lnTo>
                  <a:pt x="675" y="8008"/>
                </a:lnTo>
                <a:lnTo>
                  <a:pt x="0" y="8008"/>
                </a:lnTo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116000" y="1773360"/>
            <a:ext cx="7777080" cy="936360"/>
          </a:xfrm>
          <a:custGeom>
            <a:avLst/>
            <a:gdLst>
              <a:gd name="textAreaLeft" fmla="*/ 1470240 w 7777080"/>
              <a:gd name="textAreaRight" fmla="*/ 5529240 w 777708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8" hR="21600" stAng="10800000" swAng="5400000"/>
                <a:lnTo>
                  <a:pt x="11273" y="0"/>
                </a:lnTo>
                <a:arcTo wR="8168" hR="21600" stAng="-5400000" swAng="2815405"/>
                <a:lnTo>
                  <a:pt x="21133" y="14400"/>
                </a:lnTo>
                <a:lnTo>
                  <a:pt x="17888" y="21600"/>
                </a:lnTo>
                <a:lnTo>
                  <a:pt x="13708" y="14400"/>
                </a:lnTo>
                <a:lnTo>
                  <a:pt x="15868" y="14400"/>
                </a:lnTo>
                <a:arcTo wR="8168" hR="21600" stAng="-2584595" swAng="-2564176"/>
                <a:lnTo>
                  <a:pt x="9720" y="394"/>
                </a:lnTo>
                <a:arcTo wR="8168" hR="21600" stAng="-5651228" swAng="-5148772"/>
                <a:close/>
              </a:path>
              <a:path fill="darkenLess" w="21600" h="21600">
                <a:moveTo>
                  <a:pt x="0" y="21600"/>
                </a:moveTo>
                <a:arcTo wR="8168" hR="21600" stAng="10800000" swAng="5400000"/>
                <a:lnTo>
                  <a:pt x="8168" y="0"/>
                </a:lnTo>
                <a:arcTo wR="8168" hR="21600" stAng="-5400000" swAng="251228"/>
                <a:lnTo>
                  <a:pt x="9720" y="394"/>
                </a:lnTo>
                <a:arcTo wR="8168" hR="21600" stAng="-5651228" swAng="-5148772"/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21"/>
          <p:cNvSpPr txBox="1"/>
          <p:nvPr/>
        </p:nvSpPr>
        <p:spPr>
          <a:xfrm>
            <a:off x="0" y="48690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андно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дминистратив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6443640" y="4869000"/>
            <a:ext cx="21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ч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149360"/>
            <a:ext cx="7991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4221000"/>
            <a:ext cx="8569080" cy="2376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36007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52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0920" y="1197000"/>
            <a:ext cx="417816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оковая терап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74508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1682640" cy="24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124000" y="1484280"/>
            <a:ext cx="223992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4572000" y="1047600"/>
            <a:ext cx="4572000" cy="650376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радикальной модели реформ обусловлен, как правило, крайне тяжелым состоянием эконом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начительный удельный вес тяжелой «промышленности и военного производст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стрый товарный дефицит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критическое финансовое положение.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арактер экономического кризиса в Р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54"/>
          <p:cNvPicPr/>
          <p:nvPr/>
        </p:nvPicPr>
        <p:blipFill>
          <a:blip r:embed="rId1"/>
          <a:srcRect l="35658" t="10906" r="35546" b="47050"/>
          <a:stretch/>
        </p:blipFill>
        <p:spPr>
          <a:xfrm>
            <a:off x="6227640" y="1052640"/>
            <a:ext cx="2578320" cy="54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собенности экономического кризиса в нашей обла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лавное положение усиливало экономический криз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региона зависит от внешних связей с Россией и зарубежными стран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варь к урок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мотрите диаграмму в учебнике на с.213 Какие выводы можно сдел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стоительный завод «Янтарь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нинградский вагоностроитель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Завод «Кварц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Систем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Факе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люлозо - бумаж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Янтарный комбин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40:49Z</dcterms:created>
  <dc:creator>Света</dc:creator>
  <dc:description/>
  <dc:language>en-US</dc:language>
  <cp:lastModifiedBy>LEGION</cp:lastModifiedBy>
  <dcterms:modified xsi:type="dcterms:W3CDTF">2014-11-07T13:33:32Z</dcterms:modified>
  <cp:revision>5</cp:revision>
  <dc:subject/>
  <dc:title>Экономический кризис 1991 – 1998 гг.</dc:title>
</cp:coreProperties>
</file>