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A582-9055-4DC4-BF5C-27D101CB5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 1991 – 1998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к рыночн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ризиса в нашем реги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 в кризис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рыбопромышленного 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ран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DBE0-F2A7-4869-A5F9-82D9CCD6D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8DB6-10B6-4D01-B674-F0DF7F188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промышлен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е финансирование оборонных заказов практически прекратил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воения гражданской продукции необходимо оборудование и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40C3-BDB7-4A8F-9222-91ED9CC8A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опромышленный комплек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ов рыбы сократился в 4,5 раза по сравнению с 1980-ми г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ти не закупались рыболовные 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лась научно-исследовательская база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ся набор абитуриентов в учебные заведения рыбохозяйственного профи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F1A2-C431-44D7-A7F3-2C7F4900C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сельского 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учебником: с. 215-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коренные изменения происходили с сельском хозяйстве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фермерски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коллективны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была государственная политика по отношению к сельскому хозяй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7C25-5C96-4A6D-9C56-C6FC0EBFF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роль играет развитие транспорта для нашего региона? 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транспортное сообщение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ешний» 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утренний»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виды транспор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исчез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F8B6-0150-4A26-98F1-BE74EB02E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значение имеет туристическая отрасль для нашего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туристические объекты есть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зменения произошли в отечественном туризме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менился иностранный туризм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246E-337F-4B10-875E-BA9EF0BF3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79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ворческие работы на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Промышленные предприятия Багратион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Развитие сельского хозяйства в Багратионовском рай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уристические объекты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История какого-нибудь крупного завода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402D-744B-4F4E-88EB-344B592D84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3688-45CD-47A4-807D-A3D08B9D7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BEFD-E83A-43E9-9ACC-B7200C662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1B75-CDA7-41E3-A991-49AD0A29C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тип  экономики был в  СССР? Чем он характеризу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эти события отразились на геополитическом положении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3769-E922-4B9F-AF6E-A82282137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DFE6-4079-4201-887B-7332325B1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7B5E-FB81-4161-A48A-A95259A58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в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7F21-83D4-4669-B5AE-31399BF05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экономического кризиса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A440-E116-4499-A09A-F4659FA17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экономического кризиса в наше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клавное положение усиливало 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региона зависит от внешних связей с Россией и зарубежны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4193-9786-4F2A-8EE8-98964920B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к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диаграмму в учебнике на с.213 Какие выводы можно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F765-066B-4B80-959C-FB5256672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стоительный завод «Янтарь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дский вагоностроитель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Завод «Квар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Систе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Фак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люлозо - бумаж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Янтарный комбин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2B24-02E6-4154-8619-B64D3C723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942-D081-453E-8568-36E27237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F37-5A16-468A-A464-00A83A8C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2A0-1D8F-4C3E-B37F-000C3B24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F5E-38A8-48A4-8E5E-74A5ABBA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CF46-07E8-468A-B3CB-AAC4C73D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C5AE-AF33-49F6-84AE-4879F812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5838-7547-435C-B4D8-5F7B319C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F820-E36F-48E7-81B5-7643F32E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22D0-897D-48BE-9630-BB2C339A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8EDA-3AB8-4385-A00E-0100304F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51AF-E1DD-47DC-B7C4-53032B10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735-E86F-439B-A99B-A2E4D5E3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7458-D3B9-4890-9997-F28175A7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7F29-A0D5-4448-8782-1AE2EDB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11DB-775E-49FD-92DD-5B520219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1F6F-F976-4B3F-BAA9-A5E5FC2F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AC77-EAFD-452A-9DEF-D4DFF5B5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B69-D798-45FA-9476-0F27F9FA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8EF-FFEE-4805-830C-C487009C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E6F-9757-4996-9E66-BC206E11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A52-9650-440A-B58F-027050A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2CC-051F-4F43-83FD-83F78DBE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26A-4993-4ED0-A584-C51D8903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50F-444A-4E06-9C75-79ED7A9E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7094-6170-4376-B9F9-BECDF9E39E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78DE-DC0C-41E1-A339-C243CE055F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72,15,&#1057;&#1083;&#1072;&#1081;&#1076; 1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5,13,&#1055;&#1088;&#1077;&#1076;&#1087;&#1088;&#1080;&#1103;&#1090;&#1080;&#1103; &#1088;&#1077;&#1075;&#1080;&#1086;&#1085;&#1072;" TargetMode="External"/><Relationship Id="rId2" Type="http://schemas.openxmlformats.org/officeDocument/2006/relationships/hyperlink" Target="264,12,&#1055;&#1088;&#1077;&#1076;&#1087;&#1088;&#1080;&#1103;&#1090;&#1080;&#1103; &#1088;&#1077;&#1075;&#1080;&#1086;&#1085;&#1072;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Экономический кризис 1991 – 1998 гг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292428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ели перехода к рыночной экономи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Шоковая терап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 кризиса в нашем регио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промышленности в кризисный пери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ельского хозяйства и рыбопромышленного  комплек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ранспор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781280" y="476280"/>
            <a:ext cx="55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я западной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4140360" y="2492280"/>
            <a:ext cx="2604960" cy="2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Кварц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539640" y="177336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-15 тыс. 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3708360" y="1413000"/>
            <a:ext cx="347184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остроительны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Янтар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3" name="AutoShape 8"/>
          <p:cNvCxnSpPr>
            <a:stCxn id="151" idx="3"/>
            <a:endCxn id="152" idx="0"/>
          </p:cNvCxnSpPr>
          <p:nvPr/>
        </p:nvCxnSpPr>
        <p:spPr>
          <a:xfrm flipV="1">
            <a:off x="1644120" y="1402560"/>
            <a:ext cx="3801240" cy="731160"/>
          </a:xfrm>
          <a:prstGeom prst="bentConnector4">
            <a:avLst>
              <a:gd name="adj1" fmla="val 41390"/>
              <a:gd name="adj2" fmla="val 13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9"/>
          <p:cNvCxnSpPr>
            <a:stCxn id="151" idx="1"/>
            <a:endCxn id="150" idx="2"/>
          </p:cNvCxnSpPr>
          <p:nvPr/>
        </p:nvCxnSpPr>
        <p:spPr>
          <a:xfrm>
            <a:off x="1624680" y="2132640"/>
            <a:ext cx="3818520" cy="641880"/>
          </a:xfrm>
          <a:prstGeom prst="bentConnector4">
            <a:avLst>
              <a:gd name="adj1" fmla="val 41363"/>
              <a:gd name="adj2" fmla="val 1341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WordArt 10"/>
          <p:cNvSpPr txBox="1"/>
          <p:nvPr/>
        </p:nvSpPr>
        <p:spPr>
          <a:xfrm>
            <a:off x="539640" y="415908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- 5 тыс.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3708360" y="4014720"/>
            <a:ext cx="44769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Систем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3780000" y="479736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Факел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8" name="AutoShape 13"/>
          <p:cNvCxnSpPr>
            <a:stCxn id="155" idx="1"/>
            <a:endCxn id="156" idx="0"/>
          </p:cNvCxnSpPr>
          <p:nvPr/>
        </p:nvCxnSpPr>
        <p:spPr>
          <a:xfrm flipV="1">
            <a:off x="1624680" y="4005360"/>
            <a:ext cx="4321800" cy="514440"/>
          </a:xfrm>
          <a:prstGeom prst="bentConnector4">
            <a:avLst>
              <a:gd name="adj1" fmla="val 37020"/>
              <a:gd name="adj2" fmla="val 1426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15"/>
          <p:cNvCxnSpPr>
            <a:stCxn id="155" idx="3"/>
            <a:endCxn id="157" idx="2"/>
          </p:cNvCxnSpPr>
          <p:nvPr/>
        </p:nvCxnSpPr>
        <p:spPr>
          <a:xfrm>
            <a:off x="1644120" y="4519440"/>
            <a:ext cx="4188600" cy="648360"/>
          </a:xfrm>
          <a:prstGeom prst="bentConnector4">
            <a:avLst>
              <a:gd name="adj1" fmla="val 38396"/>
              <a:gd name="adj2" fmla="val 133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WordArt 16"/>
          <p:cNvSpPr txBox="1"/>
          <p:nvPr/>
        </p:nvSpPr>
        <p:spPr>
          <a:xfrm>
            <a:off x="1116000" y="5516640"/>
            <a:ext cx="6505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пуском какой продукц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имались эти предприяти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промышленных предприят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8598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ое финансирование оборонных заказов практически прекратило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освоения гражданской продукции необходимо оборудование и инвест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042920" y="4869000"/>
            <a:ext cx="741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читайте  учебник на с.214-215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611280" y="566100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предприятия регион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рались выйти из кризис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ыбопромышленный комплек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лов рыбы сократился в 4,5 раза по сравнению с 1980-ми год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ти не закупались рыболовные с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ушалась научно-исследовательская база от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кратился набор абитуриентов в учебные заведения рыбохозяйственного профи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33200" y="5810400"/>
            <a:ext cx="9010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меры, на ваш взгляд, могли спаст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бопромышленный комплекс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сельского хозяй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с учебником: с. 215-2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коренные изменения происходили с сельском хозяйстве реги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фермерски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коллективны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ва была государственная политика по отношению к сельскому хозяйств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транспор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ую роль играет развитие транспорта для нашего региона? Почему вы так думает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акие группы можно разделить транспортное сообщение нашей област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ешний» 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утренний»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виды транспор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ктически исчезл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е значение имеет туристическая отрасль для нашего регион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туристические объекты есть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изменения произошли в отечественном туризме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изменился иностранный туризм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79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ворческие работы на те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мышленные предприятия Багратионов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сельского хозяйства в Багратионовском райо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уристические объекты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какого-нибудь крупного завода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95640" y="233280"/>
            <a:ext cx="5148360" cy="6624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ние годы администрация Калининграда проводит политику ликвидации трамвайных маршрутов в связи с тем, что лоббируются интересы маршрутных такси и депутатов-владельцев автобусных фирм, а ликвидированные линии в перспективе планируется заменить троллейбусами. Но на практике была замена лишь на улице Горького. Во всех остальных случаях (улица Суворова, Невского, Киевская, Гагарина, Маршала Борзова и др.) планы замены так и остались только пла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381400" cy="323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611280" y="47149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>
            <a:hlinkClick r:id="" action="ppaction://hlinkshowjump?jump=previousslide"/>
          </p:cNvPr>
          <p:cNvSpPr/>
          <p:nvPr/>
        </p:nvSpPr>
        <p:spPr>
          <a:xfrm>
            <a:off x="0" y="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7493"/>
                </a:moveTo>
                <a:lnTo>
                  <a:pt x="7745" y="7493"/>
                </a:lnTo>
                <a:lnTo>
                  <a:pt x="7745" y="12828"/>
                </a:lnTo>
                <a:cubicBezTo>
                  <a:pt x="7745" y="13751"/>
                  <a:pt x="8545" y="14482"/>
                  <a:pt x="9581" y="14482"/>
                </a:cubicBezTo>
                <a:lnTo>
                  <a:pt x="11243" y="14482"/>
                </a:lnTo>
                <a:cubicBezTo>
                  <a:pt x="12279" y="14482"/>
                  <a:pt x="13080" y="13751"/>
                  <a:pt x="13080" y="12828"/>
                </a:cubicBezTo>
                <a:lnTo>
                  <a:pt x="13080" y="7493"/>
                </a:lnTo>
                <a:lnTo>
                  <a:pt x="11243" y="7493"/>
                </a:lnTo>
                <a:lnTo>
                  <a:pt x="14751" y="3985"/>
                </a:lnTo>
                <a:lnTo>
                  <a:pt x="18424" y="7493"/>
                </a:lnTo>
                <a:lnTo>
                  <a:pt x="16588" y="7493"/>
                </a:lnTo>
                <a:lnTo>
                  <a:pt x="16588" y="12828"/>
                </a:lnTo>
                <a:cubicBezTo>
                  <a:pt x="16588" y="15596"/>
                  <a:pt x="14011" y="18155"/>
                  <a:pt x="11243" y="18155"/>
                </a:cubicBezTo>
                <a:lnTo>
                  <a:pt x="9581" y="18155"/>
                </a:lnTo>
                <a:cubicBezTo>
                  <a:pt x="6813" y="18155"/>
                  <a:pt x="4237" y="15596"/>
                  <a:pt x="423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51640" y="1600200"/>
            <a:ext cx="3241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771640" cy="184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538360" cy="381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2655720" cy="17654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" action="ppaction://hlinkshowjump?jump=previousslide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7493"/>
                </a:moveTo>
                <a:lnTo>
                  <a:pt x="13405" y="7493"/>
                </a:lnTo>
                <a:lnTo>
                  <a:pt x="13405" y="12828"/>
                </a:lnTo>
                <a:cubicBezTo>
                  <a:pt x="13405" y="13751"/>
                  <a:pt x="14206" y="14482"/>
                  <a:pt x="15242" y="14482"/>
                </a:cubicBezTo>
                <a:lnTo>
                  <a:pt x="16904" y="14482"/>
                </a:lnTo>
                <a:cubicBezTo>
                  <a:pt x="17940" y="14482"/>
                  <a:pt x="18741" y="13751"/>
                  <a:pt x="18741" y="12828"/>
                </a:cubicBezTo>
                <a:lnTo>
                  <a:pt x="18741" y="7493"/>
                </a:lnTo>
                <a:lnTo>
                  <a:pt x="16904" y="7493"/>
                </a:lnTo>
                <a:lnTo>
                  <a:pt x="20412" y="3985"/>
                </a:lnTo>
                <a:lnTo>
                  <a:pt x="24085" y="7493"/>
                </a:lnTo>
                <a:lnTo>
                  <a:pt x="22248" y="7493"/>
                </a:lnTo>
                <a:lnTo>
                  <a:pt x="22248" y="12828"/>
                </a:lnTo>
                <a:cubicBezTo>
                  <a:pt x="22248" y="15596"/>
                  <a:pt x="19672" y="18155"/>
                  <a:pt x="16904" y="18155"/>
                </a:cubicBezTo>
                <a:lnTo>
                  <a:pt x="15242" y="18155"/>
                </a:lnTo>
                <a:cubicBezTo>
                  <a:pt x="12474" y="18155"/>
                  <a:pt x="9898" y="15596"/>
                  <a:pt x="989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327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313080" cy="21524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вторим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й тип  экономики был в  СССР? Чем он характеризу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эти события отразились на геополитическом положении нашей обла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684360" y="3068640"/>
            <a:ext cx="2087280" cy="1800360"/>
            <a:chOff x="684360" y="3068640"/>
            <a:chExt cx="2087280" cy="1800360"/>
          </a:xfrm>
        </p:grpSpPr>
        <p:grpSp>
          <p:nvGrpSpPr>
            <p:cNvPr id="105" name="Group 4"/>
            <p:cNvGrpSpPr/>
            <p:nvPr/>
          </p:nvGrpSpPr>
          <p:grpSpPr>
            <a:xfrm>
              <a:off x="1044360" y="3429000"/>
              <a:ext cx="1191960" cy="1166400"/>
              <a:chOff x="1044360" y="3429000"/>
              <a:chExt cx="1191960" cy="1166400"/>
            </a:xfrm>
          </p:grpSpPr>
          <p:sp>
            <p:nvSpPr>
              <p:cNvPr id="106" name="Gear"/>
              <p:cNvSpPr/>
              <p:nvPr/>
            </p:nvSpPr>
            <p:spPr>
              <a:xfrm>
                <a:off x="1705320" y="3429000"/>
                <a:ext cx="531000" cy="534960"/>
              </a:xfrm>
              <a:custGeom>
                <a:avLst/>
                <a:gdLst>
                  <a:gd name="textAreaLeft" fmla="*/ 107280 w 531000"/>
                  <a:gd name="textAreaRight" fmla="*/ 438840 w 531000"/>
                  <a:gd name="textAreaTop" fmla="*/ 97920 h 534960"/>
                  <a:gd name="textAreaBottom" fmla="*/ 437040 h 53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AutoShape 6"/>
              <p:cNvSpPr/>
              <p:nvPr/>
            </p:nvSpPr>
            <p:spPr>
              <a:xfrm>
                <a:off x="1044360" y="364932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AutoShape 7"/>
              <p:cNvSpPr/>
              <p:nvPr/>
            </p:nvSpPr>
            <p:spPr>
              <a:xfrm>
                <a:off x="1456200" y="3885120"/>
                <a:ext cx="705600" cy="710280"/>
              </a:xfrm>
              <a:custGeom>
                <a:avLst/>
                <a:gdLst>
                  <a:gd name="textAreaLeft" fmla="*/ 142920 w 705600"/>
                  <a:gd name="textAreaRight" fmla="*/ 583200 w 70560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9" name="WordArt 8"/>
            <p:cNvSpPr txBox="1"/>
            <p:nvPr/>
          </p:nvSpPr>
          <p:spPr>
            <a:xfrm>
              <a:off x="684360" y="3068640"/>
              <a:ext cx="2087280" cy="180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6300720" y="2924280"/>
            <a:ext cx="2087640" cy="1800000"/>
            <a:chOff x="6300720" y="2924280"/>
            <a:chExt cx="2087640" cy="1800000"/>
          </a:xfrm>
        </p:grpSpPr>
        <p:grpSp>
          <p:nvGrpSpPr>
            <p:cNvPr id="111" name="Group 11"/>
            <p:cNvGrpSpPr/>
            <p:nvPr/>
          </p:nvGrpSpPr>
          <p:grpSpPr>
            <a:xfrm>
              <a:off x="6661080" y="3284280"/>
              <a:ext cx="1192320" cy="1166400"/>
              <a:chOff x="6661080" y="3284280"/>
              <a:chExt cx="1192320" cy="1166400"/>
            </a:xfrm>
          </p:grpSpPr>
          <p:sp>
            <p:nvSpPr>
              <p:cNvPr id="112" name="Gear"/>
              <p:cNvSpPr/>
              <p:nvPr/>
            </p:nvSpPr>
            <p:spPr>
              <a:xfrm>
                <a:off x="7322040" y="3284280"/>
                <a:ext cx="531360" cy="534600"/>
              </a:xfrm>
              <a:custGeom>
                <a:avLst/>
                <a:gdLst>
                  <a:gd name="textAreaLeft" fmla="*/ 107640 w 531360"/>
                  <a:gd name="textAreaRight" fmla="*/ 438840 w 531360"/>
                  <a:gd name="textAreaTop" fmla="*/ 97920 h 534600"/>
                  <a:gd name="textAreaBottom" fmla="*/ 436680 h 53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AutoShape 13"/>
              <p:cNvSpPr/>
              <p:nvPr/>
            </p:nvSpPr>
            <p:spPr>
              <a:xfrm>
                <a:off x="6661080" y="350460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AutoShape 14"/>
              <p:cNvSpPr/>
              <p:nvPr/>
            </p:nvSpPr>
            <p:spPr>
              <a:xfrm>
                <a:off x="7072920" y="3740400"/>
                <a:ext cx="705960" cy="710280"/>
              </a:xfrm>
              <a:custGeom>
                <a:avLst/>
                <a:gdLst>
                  <a:gd name="textAreaLeft" fmla="*/ 142920 w 705960"/>
                  <a:gd name="textAreaRight" fmla="*/ 583560 w 70596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5" name="WordArt 15"/>
            <p:cNvSpPr txBox="1"/>
            <p:nvPr/>
          </p:nvSpPr>
          <p:spPr>
            <a:xfrm>
              <a:off x="6300720" y="2924280"/>
              <a:ext cx="2087640" cy="18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6" name="AutoShape 16"/>
          <p:cNvSpPr/>
          <p:nvPr/>
        </p:nvSpPr>
        <p:spPr>
          <a:xfrm>
            <a:off x="3203640" y="3645000"/>
            <a:ext cx="2879640" cy="1079280"/>
          </a:xfrm>
          <a:custGeom>
            <a:avLst/>
            <a:gdLst>
              <a:gd name="textAreaLeft" fmla="*/ 450000 w 2879640"/>
              <a:gd name="textAreaRight" fmla="*/ 2684880 w 2879640"/>
              <a:gd name="textAreaTop" fmla="*/ 399960 h 1079280"/>
              <a:gd name="textAreaBottom" fmla="*/ 679320 h 1079280"/>
            </a:gdLst>
            <a:ahLst/>
            <a:rect l="textAreaLeft" t="textAreaTop" r="textAreaRight" b="textAreaBottom"/>
            <a:pathLst>
              <a:path w="21600" h="21600">
                <a:moveTo>
                  <a:pt x="15949" y="0"/>
                </a:moveTo>
                <a:lnTo>
                  <a:pt x="15949" y="8008"/>
                </a:lnTo>
                <a:lnTo>
                  <a:pt x="3375" y="8008"/>
                </a:lnTo>
                <a:lnTo>
                  <a:pt x="3375" y="13592"/>
                </a:lnTo>
                <a:lnTo>
                  <a:pt x="15949" y="13592"/>
                </a:lnTo>
                <a:lnTo>
                  <a:pt x="15949" y="21600"/>
                </a:lnTo>
                <a:lnTo>
                  <a:pt x="21600" y="10800"/>
                </a:lnTo>
                <a:lnTo>
                  <a:pt x="15949" y="0"/>
                </a:lnTo>
                <a:close/>
              </a:path>
              <a:path w="21600" h="21600">
                <a:moveTo>
                  <a:pt x="1350" y="8008"/>
                </a:moveTo>
                <a:lnTo>
                  <a:pt x="1350" y="13592"/>
                </a:lnTo>
                <a:lnTo>
                  <a:pt x="2700" y="13592"/>
                </a:lnTo>
                <a:lnTo>
                  <a:pt x="2700" y="8008"/>
                </a:lnTo>
                <a:lnTo>
                  <a:pt x="1350" y="8008"/>
                </a:lnTo>
                <a:close/>
              </a:path>
              <a:path w="21600" h="21600">
                <a:moveTo>
                  <a:pt x="0" y="8008"/>
                </a:moveTo>
                <a:lnTo>
                  <a:pt x="0" y="13592"/>
                </a:lnTo>
                <a:lnTo>
                  <a:pt x="675" y="13592"/>
                </a:lnTo>
                <a:lnTo>
                  <a:pt x="675" y="8008"/>
                </a:lnTo>
                <a:lnTo>
                  <a:pt x="0" y="8008"/>
                </a:lnTo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1116000" y="1773360"/>
            <a:ext cx="7777080" cy="936360"/>
          </a:xfrm>
          <a:custGeom>
            <a:avLst/>
            <a:gdLst>
              <a:gd name="textAreaLeft" fmla="*/ 1470240 w 7777080"/>
              <a:gd name="textAreaRight" fmla="*/ 5529240 w 7777080"/>
              <a:gd name="textAreaTop" fmla="*/ 125280 h 936360"/>
              <a:gd name="textAreaBottom" fmla="*/ 811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8" hR="21600" stAng="10800000" swAng="5400000"/>
                <a:lnTo>
                  <a:pt x="11273" y="0"/>
                </a:lnTo>
                <a:arcTo wR="8168" hR="21600" stAng="-5400000" swAng="2815405"/>
                <a:lnTo>
                  <a:pt x="21133" y="14400"/>
                </a:lnTo>
                <a:lnTo>
                  <a:pt x="17888" y="21600"/>
                </a:lnTo>
                <a:lnTo>
                  <a:pt x="13708" y="14400"/>
                </a:lnTo>
                <a:lnTo>
                  <a:pt x="15868" y="14400"/>
                </a:lnTo>
                <a:arcTo wR="8168" hR="21600" stAng="-2584595" swAng="-2564176"/>
                <a:lnTo>
                  <a:pt x="9720" y="394"/>
                </a:lnTo>
                <a:arcTo wR="8168" hR="21600" stAng="-5651228" swAng="-5148772"/>
                <a:close/>
              </a:path>
              <a:path fill="darkenLess" w="21600" h="21600">
                <a:moveTo>
                  <a:pt x="0" y="21600"/>
                </a:moveTo>
                <a:arcTo wR="8168" hR="21600" stAng="10800000" swAng="5400000"/>
                <a:lnTo>
                  <a:pt x="8168" y="0"/>
                </a:lnTo>
                <a:arcTo wR="8168" hR="21600" stAng="-5400000" swAng="251228"/>
                <a:lnTo>
                  <a:pt x="9720" y="394"/>
                </a:lnTo>
                <a:arcTo wR="8168" hR="21600" stAng="-5651228" swAng="-5148772"/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WordArt 21"/>
          <p:cNvSpPr txBox="1"/>
          <p:nvPr/>
        </p:nvSpPr>
        <p:spPr>
          <a:xfrm>
            <a:off x="0" y="4869000"/>
            <a:ext cx="4038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андно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дминистратив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2"/>
          <p:cNvSpPr txBox="1"/>
          <p:nvPr/>
        </p:nvSpPr>
        <p:spPr>
          <a:xfrm>
            <a:off x="6443640" y="4869000"/>
            <a:ext cx="21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ч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4149360"/>
            <a:ext cx="79912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4221000"/>
            <a:ext cx="8569080" cy="2376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360072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529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50920" y="1197000"/>
            <a:ext cx="4178160" cy="54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оковая терап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643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66560" y="4005360"/>
            <a:ext cx="3745080" cy="249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1682640" cy="242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2124000" y="1484280"/>
            <a:ext cx="223992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7"/>
          <p:cNvSpPr/>
          <p:nvPr/>
        </p:nvSpPr>
        <p:spPr>
          <a:xfrm>
            <a:off x="4572000" y="1047600"/>
            <a:ext cx="4572000" cy="650376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радикальной модели реформ обусловлен, как правило, крайне тяжелым состоянием эконом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значительный удельный вес тяжелой «промышленности и военного производств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острый товарный дефицит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критическое финансовое положение. государ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Характер экономического кризиса в Р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54"/>
          <p:cNvPicPr/>
          <p:nvPr/>
        </p:nvPicPr>
        <p:blipFill>
          <a:blip r:embed="rId1"/>
          <a:srcRect l="35658" t="10906" r="35546" b="47050"/>
          <a:stretch/>
        </p:blipFill>
        <p:spPr>
          <a:xfrm>
            <a:off x="6227640" y="1052640"/>
            <a:ext cx="2578320" cy="544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собенности экономического кризиса в нашей обла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клавное положение усиливало экономический криз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региона зависит от внешних связей с Россией и зарубежными стран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ловарь к урок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мотрите диаграмму в учебнике на с.213 Какие выводы можно сдел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достоительный завод «Янтарь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нинградский вагоностроитель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Завод «Кварц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Систем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Факе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люлозо - бумаж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Янтарный комбин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1:40:49Z</dcterms:created>
  <dc:creator>Света</dc:creator>
  <dc:description/>
  <dc:language>en-US</dc:language>
  <cp:lastModifiedBy>LEGION</cp:lastModifiedBy>
  <dcterms:modified xsi:type="dcterms:W3CDTF">2014-11-07T13:33:32Z</dcterms:modified>
  <cp:revision>5</cp:revision>
  <dc:subject/>
  <dc:title>Экономический кризис 1991 – 1998 гг.</dc:title>
</cp:coreProperties>
</file>