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9.png" ContentType="image/png"/>
  <Override PartName="/ppt/media/image7.jpeg" ContentType="image/jpeg"/>
  <Override PartName="/ppt/media/image28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707B-2223-484A-A3EA-DB09ABE50B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Экономическое развитие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72AD-C733-40CC-A927-C9F13FF3ED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На волне мирового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экономического кризиса 1900-1903 гг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в России пострадали предприятия тяжелой промышленности, погибли слабые, малые предприятия, отстающие в финансовом и техническом оснащении. Закрылось свыше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3 тыс. предприят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на которых работало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112 тыс. рабочих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Ответом капитализма стало создание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монопол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Крупнейшими были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«ПРОДАМЕТА»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1901), «Продуголь», «Продвагон», «Гвоздь», объединивших под своим началом десятки крупных пред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6A24-D14D-4D7A-ADD6-84A0FFD57F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лекс построек товарищества Невской бумагопрядильной мануфак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3FFF-EDD7-4E18-AA6C-76C6006FDC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В начале ХХ в. Россия-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первая в мире по объему сельхозпродукции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долю России приходилось 50% мирового сбора ржи, 20% пшеницы, 25% экспорта зерна. Несмотря на это С/Х развивалось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амотек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Поля обрабатывались вручную сохой и бороной, не было удобрений, урожайность низкая. В деревне часто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голод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Тормозило развитие С/Х сохранение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общин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помещичьих хозяйств. На 20 млн. крестьянских хозяйств приходилось 130 тыс. помещичьих. У общины было 4/5 всей крестьянской земли. Также проблемой были «лишние рты» в деревне. Земли всем не хватало, а продуманной переселенческой политикой государство не занимало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A9A3-D85B-48CE-85FC-0172F650C4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ПРОС УРОК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какими сложностями сталкивалось развитие капитализма в России? Что тормозило развитие экономики в стра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та в тетрад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йти в параграфе определения и зафиксировать в тетради  следующие понятия: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вестиции, картель, концерн, монополии, синдикат, тре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DB0C-D819-427C-AEB4-6AEE4F0C8C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нвестиц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долгосрочные вложения капитала с целью получения до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артел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ростейшая форма монополистического объединения. Каждое предприятие, вошедшее в картель, сохраняет финансовую и производственную самосто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онцер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форма объединений предприятий, сохраняющих финансовую самостоятельность, но подчиненных финансовому контролю руко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Монопол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крупнейшие предприятия поглотившие более мелкие, с целью избавления от конкуренции в выпуске какого-либо определенного тов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индикат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компания в которой сбыт продукции, распределение заказов осуществляется централизован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Трест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— одна из форм монополистических объединений, в рамках которой участники теряют производственную, коммерческую, а порой даже юридическую самосто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E03B-8026-41A6-96D0-CC3A72426C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акую роль играло государство в экономике России начала XX в.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Чем объяснялся интерес России к привлечению иностранных капитал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акие отрасли экономики страны были монополизированы государством? Почему именно э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Аграрный вопро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—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первоочередной в проведении экономической модернизации России. Так ли это? Докажи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A583-925D-41CC-8A8C-47473B6890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оссийская экономика на рубеже ве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оль государства в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остранный капит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оссийский монополистический капитал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ельское хозяй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6472-E57B-4852-A23A-CE5E72AAA6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ПРОС УРОК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какими сложностями сталкивалось развитие капитализма в России? Что тормозило развитие экономики в стра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та в тетрад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йти в параграфе определения и записать в тетради  следующие понятия: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вестиции, картель, концерн, монополии, синдикат, тре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4414-52E7-4693-B1CC-567F634EF8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начале ХХ века, Россия оставалась отсталой страной, переживавшей бурный промышленный подъем. Толчком ее развития оставалось Ж/Д строитель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D3A3-5FA9-49B8-938C-C687FCB7C3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ЛИКАЯ СИБИРСКАЯ ЖЕЛЕЗНОДОРОЖНАЯ МАГИСТРА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B94D-81B0-4A09-A86A-39E2551A0E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смотря на высокие темпы развития промышленного производства, Россия значительно отставала от мировых держав по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качественны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оказателям эконом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0962-1FCD-4897-92F1-10B8830848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чительным было присутствие государства в экономике. Государство контролировало в основном предприятия, удовлетворявшие военные нужды страны. В начале ХХ в. Таких заводов было 3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4ECC-6413-469C-A16C-DA3F06BF28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Значителен был и иностранный капитал в экономике империи. Толчок к иностранным инвестициям положила денежная реформа С.Витте в 1897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199E-3ACE-4B03-B6EF-E7D0513CFB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3BA1-6145-4BF8-ABE9-48169F1E3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8DA2-02FC-4585-A645-93705D32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BB52-C5A5-4A8C-8B2A-42EA9045A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B908-ECA5-4A01-905C-1C5846170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13B3-1951-4D83-B231-20E3752A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CC77-FEA3-4DF3-8D76-656E7910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379B-9952-4EE9-A634-7E4CFF5C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7899-EE95-49A0-B12F-EC681832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49A0-12DC-4F88-B7E0-812A0BB1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A3DB-4BFF-4CF3-A9BE-2D01EB6A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0A70-2DFA-4B06-9885-188D74D7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C418-8247-4E98-BD0A-B917E25B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41A5-1715-4326-BEE1-3F59641C1D4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C769-8EA8-44B9-A859-96306DDC50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991bee8417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49" name="Рисунок 2" descr="1225098567_180px-nicholas_ii_of_russia_photograph.jpg"/>
          <p:cNvPicPr/>
          <p:nvPr/>
        </p:nvPicPr>
        <p:blipFill>
          <a:blip r:embed="rId2"/>
          <a:stretch/>
        </p:blipFill>
        <p:spPr>
          <a:xfrm>
            <a:off x="285840" y="1139760"/>
            <a:ext cx="1469880" cy="20415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3" descr="счмсчмчс.jpg"/>
          <p:cNvPicPr/>
          <p:nvPr/>
        </p:nvPicPr>
        <p:blipFill>
          <a:blip r:embed="rId3"/>
          <a:stretch/>
        </p:blipFill>
        <p:spPr>
          <a:xfrm>
            <a:off x="6997680" y="1359000"/>
            <a:ext cx="1828800" cy="18651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0_a853_228ad20f_L.jpeg"/>
          <p:cNvPicPr/>
          <p:nvPr/>
        </p:nvPicPr>
        <p:blipFill>
          <a:blip r:embed="rId4"/>
          <a:stretch/>
        </p:blipFill>
        <p:spPr>
          <a:xfrm>
            <a:off x="6218280" y="3713040"/>
            <a:ext cx="2681280" cy="19558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5" descr="Витте.jpeg"/>
          <p:cNvPicPr/>
          <p:nvPr/>
        </p:nvPicPr>
        <p:blipFill>
          <a:blip r:embed="rId5"/>
          <a:stretch/>
        </p:blipFill>
        <p:spPr>
          <a:xfrm>
            <a:off x="927000" y="3645000"/>
            <a:ext cx="1279800" cy="189684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6" descr=""/>
          <p:cNvPicPr/>
          <p:nvPr/>
        </p:nvPicPr>
        <p:blipFill>
          <a:blip r:embed="rId6"/>
          <a:stretch/>
        </p:blipFill>
        <p:spPr>
          <a:xfrm>
            <a:off x="438120" y="1596960"/>
            <a:ext cx="8199360" cy="31147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1" descr="kontora1645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1" descr="img4173_15390.jpg"/>
          <p:cNvPicPr/>
          <p:nvPr/>
        </p:nvPicPr>
        <p:blipFill>
          <a:blip r:embed="rId1"/>
          <a:stretch/>
        </p:blipFill>
        <p:spPr>
          <a:xfrm>
            <a:off x="0" y="0"/>
            <a:ext cx="507528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6" name="TextBox 2"/>
          <p:cNvSpPr/>
          <p:nvPr/>
        </p:nvSpPr>
        <p:spPr>
          <a:xfrm>
            <a:off x="6143760" y="5643720"/>
            <a:ext cx="20001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лигация компании братьев Нобе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3" descr="10r1899.jpg"/>
          <p:cNvPicPr/>
          <p:nvPr/>
        </p:nvPicPr>
        <p:blipFill>
          <a:blip r:embed="rId2"/>
          <a:stretch/>
        </p:blipFill>
        <p:spPr>
          <a:xfrm>
            <a:off x="5357880" y="357120"/>
            <a:ext cx="3429000" cy="17208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5500800" y="2357280"/>
            <a:ext cx="3143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Николаевский» золотой рубль- импери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"/>
          <p:cNvSpPr/>
          <p:nvPr/>
        </p:nvSpPr>
        <p:spPr>
          <a:xfrm>
            <a:off x="214200" y="214200"/>
            <a:ext cx="8643960" cy="20142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. На волне мирового </a:t>
            </a: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экономического кризиса 1900-1903 гг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в России пострадали предприятия тяжелой промышленности, погибли слабые, малые предприятия, отстающие в финансовом и техническом оснащении. Закрылось свыше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3 тыс. предприятий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, на которых работало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112 тыс. рабочих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Ответом капитализма стало создание </a:t>
            </a: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монополий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Крупнейшими были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«ПРОДАМЕТА»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1901), «Продуголь», «Продвагон», «Гвоздь», объединивших под своим началом десятки крупных предприят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2" descr="Нобель.jpg"/>
          <p:cNvPicPr/>
          <p:nvPr/>
        </p:nvPicPr>
        <p:blipFill>
          <a:blip r:embed="rId1"/>
          <a:stretch/>
        </p:blipFill>
        <p:spPr>
          <a:xfrm>
            <a:off x="285840" y="2357280"/>
            <a:ext cx="6283080" cy="4000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2" name="TextBox 3"/>
          <p:cNvSpPr/>
          <p:nvPr/>
        </p:nvSpPr>
        <p:spPr>
          <a:xfrm>
            <a:off x="6858000" y="5286240"/>
            <a:ext cx="20001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рпуса монополии «Нобель-Мазут» в Ба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1" descr="Комплекс построек товарищества Невской бумагопрядильной мануфактуры.jpeg"/>
          <p:cNvPicPr/>
          <p:nvPr/>
        </p:nvPicPr>
        <p:blipFill>
          <a:blip r:embed="rId1"/>
          <a:stretch/>
        </p:blipFill>
        <p:spPr>
          <a:xfrm>
            <a:off x="1071720" y="285840"/>
            <a:ext cx="6972120" cy="250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5" name="TextBox 2"/>
          <p:cNvSpPr/>
          <p:nvPr/>
        </p:nvSpPr>
        <p:spPr>
          <a:xfrm>
            <a:off x="1071720" y="2928960"/>
            <a:ext cx="6929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омплекс построек товарищества Невской бумагопрядильной мануфакту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3" descr="Работы по постройке шлюза. Кузминского, 1912.jpg"/>
          <p:cNvPicPr/>
          <p:nvPr/>
        </p:nvPicPr>
        <p:blipFill>
          <a:blip r:embed="rId2"/>
          <a:stretch/>
        </p:blipFill>
        <p:spPr>
          <a:xfrm>
            <a:off x="428760" y="3429000"/>
            <a:ext cx="3500280" cy="311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7" name="TextBox 4"/>
          <p:cNvSpPr/>
          <p:nvPr/>
        </p:nvSpPr>
        <p:spPr>
          <a:xfrm>
            <a:off x="4286160" y="5786280"/>
            <a:ext cx="20005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абота по постройке Кузьминского шлюза. 1912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Рисунок 1" descr="Работа на Бакальском руднике, 19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" name="TextBox 2"/>
          <p:cNvSpPr/>
          <p:nvPr/>
        </p:nvSpPr>
        <p:spPr>
          <a:xfrm>
            <a:off x="500040" y="6215040"/>
            <a:ext cx="828684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абота на Бакальском руднике. 191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Рисунок 1" descr="russian_adv_056.jpg"/>
          <p:cNvPicPr/>
          <p:nvPr/>
        </p:nvPicPr>
        <p:blipFill>
          <a:blip r:embed="rId1"/>
          <a:stretch/>
        </p:blipFill>
        <p:spPr>
          <a:xfrm>
            <a:off x="4929120" y="3357720"/>
            <a:ext cx="4214880" cy="28382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43" name="Рисунок 2" descr="Русская реклама начала века.jpg"/>
          <p:cNvPicPr/>
          <p:nvPr/>
        </p:nvPicPr>
        <p:blipFill>
          <a:blip r:embed="rId2"/>
          <a:stretch/>
        </p:blipFill>
        <p:spPr>
          <a:xfrm>
            <a:off x="4929120" y="0"/>
            <a:ext cx="4214880" cy="31399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44" name="Рисунок 3" descr="russian_adv_045.jpg"/>
          <p:cNvPicPr/>
          <p:nvPr/>
        </p:nvPicPr>
        <p:blipFill>
          <a:blip r:embed="rId3"/>
          <a:stretch/>
        </p:blipFill>
        <p:spPr>
          <a:xfrm>
            <a:off x="0" y="0"/>
            <a:ext cx="4070520" cy="68580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45" name="TextBox 4"/>
          <p:cNvSpPr/>
          <p:nvPr/>
        </p:nvSpPr>
        <p:spPr>
          <a:xfrm>
            <a:off x="4572000" y="6357960"/>
            <a:ext cx="40719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еклама начала ХХ 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1"/>
          <p:cNvSpPr/>
          <p:nvPr/>
        </p:nvSpPr>
        <p:spPr>
          <a:xfrm>
            <a:off x="4572000" y="214200"/>
            <a:ext cx="4286160" cy="588276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5. В начале ХХ в. Россия- </a:t>
            </a:r>
            <a:r>
              <a:rPr b="1" i="1" lang="ru-RU" sz="1900" spc="-1" strike="noStrike">
                <a:solidFill>
                  <a:srgbClr val="ff0000"/>
                </a:solidFill>
                <a:latin typeface="Calibri"/>
              </a:rPr>
              <a:t>первая в мире по объему сельхозпродукции. 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На долю России приходилось 50% мирового сбора ржи, 20% пшеницы, 25% экспорта зерна. Несмотря на это С/Х развивалось </a:t>
            </a:r>
            <a:r>
              <a:rPr b="1" lang="ru-RU" sz="1900" spc="-1" strike="noStrike">
                <a:solidFill>
                  <a:srgbClr val="ff0000"/>
                </a:solidFill>
                <a:latin typeface="Calibri"/>
              </a:rPr>
              <a:t>самотеком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. Поля обрабатывались вручную сохой и бороной, не было удобрений, урожайность низкая. В деревне часто </a:t>
            </a:r>
            <a:r>
              <a:rPr b="1" lang="ru-RU" sz="1900" spc="-1" strike="noStrike">
                <a:solidFill>
                  <a:srgbClr val="ff0000"/>
                </a:solidFill>
                <a:latin typeface="Calibri"/>
              </a:rPr>
              <a:t>голод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. Тормозило развитие С/Х сохранение </a:t>
            </a:r>
            <a:r>
              <a:rPr b="1" i="1" lang="ru-RU" sz="1900" spc="-1" strike="noStrike">
                <a:solidFill>
                  <a:srgbClr val="ff0000"/>
                </a:solidFill>
                <a:latin typeface="Calibri"/>
              </a:rPr>
              <a:t>общины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 и помещичьих хозяйств. На 20 млн. крестьянских хозяйств приходилось 130 тыс. помещичьих. У общины было 4/5 всей крестьянской земли. Также проблемой были «лишние рты» в деревне. Земли всем не хватало, а продуманной переселенческой политикой государство не занималос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2" descr="793_5.jpg"/>
          <p:cNvPicPr/>
          <p:nvPr/>
        </p:nvPicPr>
        <p:blipFill>
          <a:blip r:embed="rId1"/>
          <a:stretch/>
        </p:blipFill>
        <p:spPr>
          <a:xfrm>
            <a:off x="285840" y="214200"/>
            <a:ext cx="4071960" cy="29401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49" name="TextBox 3"/>
          <p:cNvSpPr/>
          <p:nvPr/>
        </p:nvSpPr>
        <p:spPr>
          <a:xfrm>
            <a:off x="285840" y="3286080"/>
            <a:ext cx="40719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бработка земли. Начало ХХ 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4" descr="skala3_0.jpg"/>
          <p:cNvPicPr/>
          <p:nvPr/>
        </p:nvPicPr>
        <p:blipFill>
          <a:blip r:embed="rId2"/>
          <a:stretch/>
        </p:blipFill>
        <p:spPr>
          <a:xfrm>
            <a:off x="285840" y="3714840"/>
            <a:ext cx="4071960" cy="25002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51" name="TextBox 5"/>
          <p:cNvSpPr/>
          <p:nvPr/>
        </p:nvSpPr>
        <p:spPr>
          <a:xfrm>
            <a:off x="285840" y="6357960"/>
            <a:ext cx="40719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рестьянская семья на отдыхе. Начало ХХ 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"/>
          <p:cNvSpPr/>
          <p:nvPr/>
        </p:nvSpPr>
        <p:spPr>
          <a:xfrm>
            <a:off x="285840" y="214200"/>
            <a:ext cx="864396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На урок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357120" y="928800"/>
            <a:ext cx="8572680" cy="3202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ОПРОС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какими сложностями сталкивалось развитие капитализма в России? Что тормозило развитие экономики в стран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бота в тетрад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йти в параграфе определения и зафиксировать в тетради  следующие понятия: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нвестиции, картель, концерн, монополии, синдикат, тре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3" descr="Korona_1.gif"/>
          <p:cNvPicPr/>
          <p:nvPr/>
        </p:nvPicPr>
        <p:blipFill>
          <a:blip r:embed="rId3"/>
          <a:stretch/>
        </p:blipFill>
        <p:spPr>
          <a:xfrm>
            <a:off x="3357720" y="4214880"/>
            <a:ext cx="2201760" cy="250020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1"/>
          <p:cNvSpPr/>
          <p:nvPr/>
        </p:nvSpPr>
        <p:spPr>
          <a:xfrm>
            <a:off x="285840" y="214200"/>
            <a:ext cx="8572320" cy="3988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сширяем словарный запа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"/>
          <p:cNvSpPr/>
          <p:nvPr/>
        </p:nvSpPr>
        <p:spPr>
          <a:xfrm>
            <a:off x="285840" y="785880"/>
            <a:ext cx="8572320" cy="50317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Инвестиции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долгосрочные вложения капитала с целью получения дох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Картель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простейшая форма монополистического объединения. Каждое предприятие, вошедшее в картель, сохраняет финансовую и производственную самосто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Концерн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форма объединений предприятий, сохраняющих финансовую самостоятельность, но подчиненных финансовому контролю руково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онополии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крупнейшие предприятия поглотившие более мелкие, с целью избавления от конкуренции в выпуске какого-либо определенного това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Синдикат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компания в которой сбыт продукции, распределение заказов осуществляется централизова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Трест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— одна из форм монополистических объединений, в рамках которой участники теряют производственную, коммерческую, а порой даже юридическую самосто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"/>
          <p:cNvSpPr/>
          <p:nvPr/>
        </p:nvSpPr>
        <p:spPr>
          <a:xfrm>
            <a:off x="285840" y="1381320"/>
            <a:ext cx="8358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акую роль играло государство в экономике России начала XX в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Чем объяснялся интерес России к привлечению иностранных капитал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акие отрасли экономики страны были монополизированы государством? Почему именно э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Аграрный вопрос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—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первоочередной в проведении экономической модернизации России. Так ли это? Докаж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5"/>
          <p:cNvSpPr/>
          <p:nvPr/>
        </p:nvSpPr>
        <p:spPr>
          <a:xfrm>
            <a:off x="3500280" y="0"/>
            <a:ext cx="1571760" cy="13572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250" autoRev="1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0" dur="250" autoRev="1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" dur="250" autoRev="1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285840" y="214200"/>
            <a:ext cx="8572320" cy="70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План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285840" y="1214280"/>
            <a:ext cx="8572320" cy="301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оссийская экономика на рубеже ве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оль государства в экономи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остранный капи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оссийский монополистический капитал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ельское хозяйств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3" descr="Korona_1.gif"/>
          <p:cNvPicPr/>
          <p:nvPr/>
        </p:nvPicPr>
        <p:blipFill>
          <a:blip r:embed="rId3"/>
          <a:stretch/>
        </p:blipFill>
        <p:spPr>
          <a:xfrm>
            <a:off x="3786120" y="4857840"/>
            <a:ext cx="1635120" cy="185724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285840" y="214200"/>
            <a:ext cx="864396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На урок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357120" y="928800"/>
            <a:ext cx="8572680" cy="3202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ОПРОС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какими сложностями сталкивалось развитие капитализма в России? Что тормозило развитие экономики в стран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бота в тетрад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йти в параграфе определения и записать в тетради  следующие понятия: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нвестиции, картель, концерн, монополии, синдикат, тре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3" descr="Korona_1.gif"/>
          <p:cNvPicPr/>
          <p:nvPr/>
        </p:nvPicPr>
        <p:blipFill>
          <a:blip r:embed="rId3"/>
          <a:stretch/>
        </p:blipFill>
        <p:spPr>
          <a:xfrm>
            <a:off x="3357720" y="4214880"/>
            <a:ext cx="2201760" cy="25002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image001.jpg"/>
          <p:cNvPicPr/>
          <p:nvPr/>
        </p:nvPicPr>
        <p:blipFill>
          <a:blip r:embed="rId1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" name="Рисунок 2" descr="Витте.jpeg"/>
          <p:cNvPicPr/>
          <p:nvPr/>
        </p:nvPicPr>
        <p:blipFill>
          <a:blip r:embed="rId2"/>
          <a:stretch/>
        </p:blipFill>
        <p:spPr>
          <a:xfrm>
            <a:off x="714240" y="3214800"/>
            <a:ext cx="1785960" cy="264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" name="TextBox 3"/>
          <p:cNvSpPr/>
          <p:nvPr/>
        </p:nvSpPr>
        <p:spPr>
          <a:xfrm>
            <a:off x="714240" y="6000840"/>
            <a:ext cx="3500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.Витте. Министр финансов империи в 1892—1903 г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214200" y="214200"/>
            <a:ext cx="8643960" cy="6732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начале ХХ века, Россия оставалась отсталой страной, переживавшей бурный промышленный подъем. Толчком ее развития оставалось Ж/Д строитель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Багетная рамка 2"/>
          <p:cNvSpPr/>
          <p:nvPr/>
        </p:nvSpPr>
        <p:spPr>
          <a:xfrm>
            <a:off x="285840" y="1071720"/>
            <a:ext cx="2357280" cy="121428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роительство железных дор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трелка вправо 3"/>
          <p:cNvSpPr/>
          <p:nvPr/>
        </p:nvSpPr>
        <p:spPr>
          <a:xfrm>
            <a:off x="2786040" y="1214280"/>
            <a:ext cx="1428840" cy="10004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Служило толч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блако 7"/>
          <p:cNvSpPr/>
          <p:nvPr/>
        </p:nvSpPr>
        <p:spPr>
          <a:xfrm>
            <a:off x="5786280" y="2714760"/>
            <a:ext cx="3071880" cy="1857240"/>
          </a:xfrm>
          <a:prstGeom prst="pi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витию машиностро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блако 11"/>
          <p:cNvSpPr/>
          <p:nvPr/>
        </p:nvSpPr>
        <p:spPr>
          <a:xfrm>
            <a:off x="4572000" y="1000080"/>
            <a:ext cx="3071880" cy="1857600"/>
          </a:xfrm>
          <a:prstGeom prst="pi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витию металлур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блако 12"/>
          <p:cNvSpPr/>
          <p:nvPr/>
        </p:nvSpPr>
        <p:spPr>
          <a:xfrm>
            <a:off x="2714760" y="3286080"/>
            <a:ext cx="2643120" cy="1500120"/>
          </a:xfrm>
          <a:prstGeom prst="pi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ГЛЕДОБЫ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блако 13"/>
          <p:cNvSpPr/>
          <p:nvPr/>
        </p:nvSpPr>
        <p:spPr>
          <a:xfrm>
            <a:off x="0" y="2428920"/>
            <a:ext cx="2500200" cy="1500120"/>
          </a:xfrm>
          <a:prstGeom prst="pi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ЕСОДОБЫ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блако 14"/>
          <p:cNvSpPr/>
          <p:nvPr/>
        </p:nvSpPr>
        <p:spPr>
          <a:xfrm>
            <a:off x="428760" y="4786200"/>
            <a:ext cx="2571480" cy="1500480"/>
          </a:xfrm>
          <a:prstGeom prst="pi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фтедобы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Прямая со стрелкой 16"/>
          <p:cNvCxnSpPr/>
          <p:nvPr/>
        </p:nvCxnSpPr>
        <p:spPr>
          <a:xfrm>
            <a:off x="7642800" y="2214720"/>
            <a:ext cx="143640" cy="3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Прямая со стрелкой 17"/>
          <p:cNvCxnSpPr/>
          <p:nvPr/>
        </p:nvCxnSpPr>
        <p:spPr>
          <a:xfrm flipH="1">
            <a:off x="5285520" y="3785040"/>
            <a:ext cx="500760" cy="723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" name="Прямая со стрелкой 19"/>
          <p:cNvCxnSpPr/>
          <p:nvPr/>
        </p:nvCxnSpPr>
        <p:spPr>
          <a:xfrm flipH="1">
            <a:off x="2642400" y="2499120"/>
            <a:ext cx="1786680" cy="4294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" name="Прямая со стрелкой 22"/>
          <p:cNvCxnSpPr/>
          <p:nvPr/>
        </p:nvCxnSpPr>
        <p:spPr>
          <a:xfrm flipH="1">
            <a:off x="3142800" y="4500720"/>
            <a:ext cx="3144240" cy="7149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Прямая со стрелкой 24"/>
          <p:cNvCxnSpPr/>
          <p:nvPr/>
        </p:nvCxnSpPr>
        <p:spPr>
          <a:xfrm flipV="1">
            <a:off x="1499760" y="4071960"/>
            <a:ext cx="1072440" cy="643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Равно 26"/>
          <p:cNvSpPr/>
          <p:nvPr/>
        </p:nvSpPr>
        <p:spPr>
          <a:xfrm>
            <a:off x="3857760" y="5429160"/>
            <a:ext cx="1571400" cy="642960"/>
          </a:xfrm>
          <a:custGeom>
            <a:avLst/>
            <a:gdLst/>
            <a:ahLst/>
            <a:rect l="l" t="t" r="r" b="b"/>
            <a:pathLst>
              <a:path w="1571625" h="642938">
                <a:moveTo>
                  <a:pt x="208319" y="132445"/>
                </a:moveTo>
                <a:lnTo>
                  <a:pt x="1363306" y="132445"/>
                </a:lnTo>
                <a:lnTo>
                  <a:pt x="1363306" y="283664"/>
                </a:lnTo>
                <a:lnTo>
                  <a:pt x="208319" y="283664"/>
                </a:lnTo>
                <a:lnTo>
                  <a:pt x="208319" y="132445"/>
                </a:lnTo>
                <a:close/>
                <a:moveTo>
                  <a:pt x="208319" y="359274"/>
                </a:moveTo>
                <a:lnTo>
                  <a:pt x="1363306" y="359274"/>
                </a:lnTo>
                <a:lnTo>
                  <a:pt x="1363306" y="510493"/>
                </a:lnTo>
                <a:lnTo>
                  <a:pt x="208319" y="510493"/>
                </a:lnTo>
                <a:lnTo>
                  <a:pt x="208319" y="359274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7"/>
          <p:cNvSpPr/>
          <p:nvPr/>
        </p:nvSpPr>
        <p:spPr>
          <a:xfrm>
            <a:off x="5786280" y="4929120"/>
            <a:ext cx="2643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8,1%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8"/>
          <p:cNvSpPr/>
          <p:nvPr/>
        </p:nvSpPr>
        <p:spPr>
          <a:xfrm>
            <a:off x="3714840" y="6215040"/>
            <a:ext cx="5072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амый высокий промышленный рост в ми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31" descr="3243169_1_23566.jpg"/>
          <p:cNvPicPr/>
          <p:nvPr/>
        </p:nvPicPr>
        <p:blipFill>
          <a:blip r:embed="rId1"/>
          <a:stretch/>
        </p:blipFill>
        <p:spPr>
          <a:xfrm>
            <a:off x="7785000" y="1000080"/>
            <a:ext cx="1073160" cy="103680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1" descr="old-05.jpg"/>
          <p:cNvPicPr/>
          <p:nvPr/>
        </p:nvPicPr>
        <p:blipFill>
          <a:blip r:embed="rId1"/>
          <a:stretch/>
        </p:blipFill>
        <p:spPr>
          <a:xfrm>
            <a:off x="285840" y="642960"/>
            <a:ext cx="4043160" cy="250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6" name="Рисунок 2" descr="Великий Сибирский путь (транссибирская железнодорожная магистраль..jpg"/>
          <p:cNvPicPr/>
          <p:nvPr/>
        </p:nvPicPr>
        <p:blipFill>
          <a:blip r:embed="rId2"/>
          <a:stretch/>
        </p:blipFill>
        <p:spPr>
          <a:xfrm>
            <a:off x="285840" y="3251160"/>
            <a:ext cx="5286240" cy="327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7" name="Рисунок 3" descr="Транссиб. Мост через Обь..jpg"/>
          <p:cNvPicPr/>
          <p:nvPr/>
        </p:nvPicPr>
        <p:blipFill>
          <a:blip r:embed="rId3"/>
          <a:stretch/>
        </p:blipFill>
        <p:spPr>
          <a:xfrm>
            <a:off x="4786200" y="642960"/>
            <a:ext cx="3857760" cy="249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8" name="TextBox 4"/>
          <p:cNvSpPr/>
          <p:nvPr/>
        </p:nvSpPr>
        <p:spPr>
          <a:xfrm>
            <a:off x="6072120" y="4786200"/>
            <a:ext cx="264312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Транссиб, укладка пу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ост через Об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ркутск, прибытие первого поезда по Транссиб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285840" y="142920"/>
            <a:ext cx="8572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ЕЛИКАЯ СИБИРСКАЯ ЖЕЛЕЗНОДОРОЖНАЯ МАГИСТР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214200" y="214200"/>
            <a:ext cx="8643960" cy="9475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смотря на высокие темпы развития промышленного производства, Россия значительно отставала от мировых держав по </a:t>
            </a: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качественным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показателям эконом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трелка вниз 2"/>
          <p:cNvSpPr/>
          <p:nvPr/>
        </p:nvSpPr>
        <p:spPr>
          <a:xfrm>
            <a:off x="4357800" y="1214280"/>
            <a:ext cx="428400" cy="57168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2857680" y="1857240"/>
            <a:ext cx="35002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изводству промышленности на душу на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2857680" y="3143160"/>
            <a:ext cx="3500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изводительности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2857680" y="4214880"/>
            <a:ext cx="35002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хнической оснащенности предпри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трелка вниз 7"/>
          <p:cNvSpPr/>
          <p:nvPr/>
        </p:nvSpPr>
        <p:spPr>
          <a:xfrm>
            <a:off x="4357800" y="2571840"/>
            <a:ext cx="428400" cy="5713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трелка вниз 8"/>
          <p:cNvSpPr/>
          <p:nvPr/>
        </p:nvSpPr>
        <p:spPr>
          <a:xfrm>
            <a:off x="4357800" y="3571920"/>
            <a:ext cx="428400" cy="5713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Равно 9"/>
          <p:cNvSpPr/>
          <p:nvPr/>
        </p:nvSpPr>
        <p:spPr>
          <a:xfrm>
            <a:off x="3929040" y="4929120"/>
            <a:ext cx="1428840" cy="857160"/>
          </a:xfrm>
          <a:custGeom>
            <a:avLst/>
            <a:gdLst/>
            <a:ahLst/>
            <a:rect l="l" t="t" r="r" b="b"/>
            <a:pathLst>
              <a:path w="1428750" h="857250">
                <a:moveTo>
                  <a:pt x="189381" y="176594"/>
                </a:moveTo>
                <a:lnTo>
                  <a:pt x="1239369" y="176594"/>
                </a:lnTo>
                <a:lnTo>
                  <a:pt x="1239369" y="378219"/>
                </a:lnTo>
                <a:lnTo>
                  <a:pt x="189381" y="378219"/>
                </a:lnTo>
                <a:lnTo>
                  <a:pt x="189381" y="176594"/>
                </a:lnTo>
                <a:close/>
                <a:moveTo>
                  <a:pt x="189381" y="479031"/>
                </a:moveTo>
                <a:lnTo>
                  <a:pt x="1239369" y="479031"/>
                </a:lnTo>
                <a:lnTo>
                  <a:pt x="1239369" y="680657"/>
                </a:lnTo>
                <a:lnTo>
                  <a:pt x="189381" y="680657"/>
                </a:lnTo>
                <a:lnTo>
                  <a:pt x="189381" y="479031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1"/>
          <p:cNvSpPr/>
          <p:nvPr/>
        </p:nvSpPr>
        <p:spPr>
          <a:xfrm>
            <a:off x="785880" y="5857920"/>
            <a:ext cx="771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итывая это, Россия являлась среднеразвитой аграрно-индустриальной страной, со значительным потенциа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12" descr="3243169_1_23566.jpg"/>
          <p:cNvPicPr/>
          <p:nvPr/>
        </p:nvPicPr>
        <p:blipFill>
          <a:blip r:embed="rId1"/>
          <a:stretch/>
        </p:blipFill>
        <p:spPr>
          <a:xfrm>
            <a:off x="6718320" y="2286000"/>
            <a:ext cx="1949400" cy="18842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3" descr="3243169_1_23566.jpg"/>
          <p:cNvPicPr/>
          <p:nvPr/>
        </p:nvPicPr>
        <p:blipFill>
          <a:blip r:embed="rId2"/>
          <a:stretch/>
        </p:blipFill>
        <p:spPr>
          <a:xfrm>
            <a:off x="500040" y="2286000"/>
            <a:ext cx="1951200" cy="188424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214200" y="214200"/>
            <a:ext cx="8643960" cy="9475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начительным было присутствие государства в экономике. Государство контролировало в основном предприятия, удовлетворявшие военные нужды страны. В начале ХХ в. Таких заводов было 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Горизонтальный свиток 2"/>
          <p:cNvSpPr/>
          <p:nvPr/>
        </p:nvSpPr>
        <p:spPr>
          <a:xfrm>
            <a:off x="357120" y="1285920"/>
            <a:ext cx="2928960" cy="78588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ОСУДАРСТВО ТАКЖ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3357720" y="2214720"/>
            <a:ext cx="3500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гулировало ц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4857840" y="2786040"/>
            <a:ext cx="3500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водило таможенные пошл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5429160" y="3357720"/>
            <a:ext cx="35006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давало казенные заказы частным компаниям и фирм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5000760" y="4286160"/>
            <a:ext cx="35002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едоставляло кредиты через Госба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7" descr="Красный выбуржец.jpg"/>
          <p:cNvPicPr/>
          <p:nvPr/>
        </p:nvPicPr>
        <p:blipFill>
          <a:blip r:embed="rId1"/>
          <a:stretch/>
        </p:blipFill>
        <p:spPr>
          <a:xfrm>
            <a:off x="285840" y="2857680"/>
            <a:ext cx="4286160" cy="27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0" name="TextBox 8"/>
          <p:cNvSpPr/>
          <p:nvPr/>
        </p:nvSpPr>
        <p:spPr>
          <a:xfrm>
            <a:off x="714240" y="5786280"/>
            <a:ext cx="35006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ервый русский меднопрокатный завод. /Красный выборжец/.  Санкт-Петербур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214200" y="214200"/>
            <a:ext cx="8643960" cy="7038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. Значителен был и иностранный капитал в экономике империи. Толчок к иностранным инвестициям положила денежная реформа С.Витте в 1897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Горизонтальный свиток 2"/>
          <p:cNvSpPr/>
          <p:nvPr/>
        </p:nvSpPr>
        <p:spPr>
          <a:xfrm>
            <a:off x="3143160" y="1071720"/>
            <a:ext cx="2928960" cy="78552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ФОРМА ВИТ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2786040" y="2071800"/>
            <a:ext cx="3714840" cy="36828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Приток иностранных инвести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357120" y="2714760"/>
            <a:ext cx="2286000" cy="368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мец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3500280" y="2714760"/>
            <a:ext cx="2286000" cy="368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ранцуз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6500880" y="2714760"/>
            <a:ext cx="2286000" cy="368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нглий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214200" y="3500280"/>
            <a:ext cx="25718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Электротехника, химическое производство, металлургия, металлообработка, торгов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3000240" y="3500280"/>
            <a:ext cx="32148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гольная, металлургия, металлообработка, машиностроение, нефтедобыч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6357960" y="3500280"/>
            <a:ext cx="25718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ефтяная, цветные металл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0"/>
          <p:cNvSpPr/>
          <p:nvPr/>
        </p:nvSpPr>
        <p:spPr>
          <a:xfrm>
            <a:off x="214200" y="5072040"/>
            <a:ext cx="8643960" cy="10087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остранцы не имели самостоятельной экономической политики и зависели от государства сливаясь с русской экономикой, но львиная доля доходов от их компаний утекала за грани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9T13:02:36Z</dcterms:created>
  <dc:creator>1</dc:creator>
  <dc:description/>
  <dc:language>en-US</dc:language>
  <cp:lastModifiedBy>LEGION</cp:lastModifiedBy>
  <dcterms:modified xsi:type="dcterms:W3CDTF">2015-01-14T10:07:58Z</dcterms:modified>
  <cp:revision>19</cp:revision>
  <dc:subject/>
  <dc:title>Слайд 1</dc:title>
</cp:coreProperties>
</file>