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Рождение новой Росс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cb50e"/>
                </a:solidFill>
                <a:latin typeface="Times New Roman"/>
              </a:rPr>
              <a:t>Подготовила учитель истории и обществознания МОУ СОШ №1 ст. Ленинградской Краснодарского кра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cb50e"/>
                </a:solidFill>
                <a:latin typeface="Times New Roman"/>
              </a:rPr>
              <a:t>Кузьминова Елена Викторо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cb50e"/>
                </a:solidFill>
                <a:latin typeface="Times New Roman"/>
              </a:rPr>
              <a:t>2010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План уро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70000"/>
              </a:lnSpc>
              <a:spcBef>
                <a:spcPts val="451"/>
              </a:spcBef>
              <a:buClr>
                <a:srgbClr val="990033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33"/>
                </a:solidFill>
                <a:latin typeface="Times New Roman"/>
              </a:rPr>
              <a:t>Демократические выборы народных депутатов РСФС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70000"/>
              </a:lnSpc>
              <a:spcBef>
                <a:spcPts val="451"/>
              </a:spcBef>
              <a:buClr>
                <a:srgbClr val="990033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33"/>
                </a:solidFill>
                <a:latin typeface="Times New Roman"/>
              </a:rPr>
              <a:t>Декларация о государственном суверенитете Росс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70000"/>
              </a:lnSpc>
              <a:spcBef>
                <a:spcPts val="451"/>
              </a:spcBef>
              <a:buClr>
                <a:srgbClr val="990033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33"/>
                </a:solidFill>
                <a:latin typeface="Times New Roman"/>
              </a:rPr>
              <a:t>Первый Президент Росс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70000"/>
              </a:lnSpc>
              <a:spcBef>
                <a:spcPts val="451"/>
              </a:spcBef>
              <a:buClr>
                <a:srgbClr val="990033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33"/>
                </a:solidFill>
                <a:latin typeface="Times New Roman"/>
              </a:rPr>
              <a:t>Подготовка нового Союзного догово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70000"/>
              </a:lnSpc>
              <a:spcBef>
                <a:spcPts val="451"/>
              </a:spcBef>
              <a:buClr>
                <a:srgbClr val="990033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33"/>
                </a:solidFill>
                <a:latin typeface="Times New Roman"/>
              </a:rPr>
              <a:t>Августовский путч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70000"/>
              </a:lnSpc>
              <a:spcBef>
                <a:spcPts val="451"/>
              </a:spcBef>
              <a:buClr>
                <a:srgbClr val="990033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33"/>
                </a:solidFill>
                <a:latin typeface="Times New Roman"/>
              </a:rPr>
              <a:t>Распад ССС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33"/>
                </a:solidFill>
                <a:latin typeface="Times New Roman"/>
              </a:rPr>
              <a:t>Демократические выборы народных депутатов РСФС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ом съезде народных депутатов РСФСР (16 мая – 22 июня 1990г.) предстояло избрать Председателя Верховного Совета – высшее должностное лицо России. С перевесом всего в 4-ре голоса победу одержал Б.Н. Ельцин. Председателем Совета министров был назначен И.С. Силае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33"/>
                </a:solidFill>
                <a:latin typeface="Times New Roman"/>
              </a:rPr>
              <a:t>Декларация о государственном суверенитете Росс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 июня 1990 год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й съезд народных депутатов РСФСР принял Декларацию о государственном суверенитете. Суверенитет (независимость) РСФСР был признан естественным и необходимым условием существования российской государственности. Декларация провозгласила курс на создание в России правового государства, а так же утвердила принцип разделения власт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33"/>
                </a:solidFill>
                <a:latin typeface="Times New Roman"/>
              </a:rPr>
              <a:t>Первый Президент Росс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.Н. Ельцин родился 1-го февраля 1931 года в трудовой семье. Получил высшее строительное образование, работал на руководящих постах. В 1976 году занял должность первого секретаря Свердловского обкома, а затем стал членом ЦК КПСС. В октябре 1987 года был снят со всех постов из-за своих демократических убеждений. Спустя два года Ельцин был избран народным депутатом СССР и членом Верховного Совета. 12-го июня 1991 года состоялись выборы Президента РСФСР. Главой государства стал Б.Н. Ельци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33"/>
                </a:solidFill>
                <a:latin typeface="Times New Roman"/>
              </a:rPr>
              <a:t>Подготовка нового Союзного догово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1-го июля 1991 года помощник Президента СССР Г.Х. Шахназаров после согласования с Б.Н. Ельциным представил М.С. Горбачеву график многоэтапного подписания нового Союзного договора: 20-го августа 1991 года – РСФСР и Казахстан, 3-го сентября – Белоруссия и Узбекистан, 17-го сентября – Азербайджан и Таджикистан, 1-го октября – Туркмения и Киргизия, 22-го октября – Украина и, возможно, Армения с Молдовой, а так же союзная делегация. В конце процесса свою подпись должен был поставить Президент СССР. После этого договор вступал в сил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33"/>
                </a:solidFill>
                <a:latin typeface="Times New Roman"/>
              </a:rPr>
              <a:t>Августовский путч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КЧП (вице-президент Г. Янаев, премьер В. Павлов, министр обороны Д. Язов, Председатель КГБ В. Крючков, министр внутренних дел Б. Пуго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33"/>
                </a:solidFill>
                <a:latin typeface="Times New Roman"/>
              </a:rPr>
              <a:t>Распад ССС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зидент России Б.Н. Ельцин, Президент Украины Л.М. Кравчук и Председатель Верховного Совета Белоруссии С.С. Шушкевич заявили о выходе их стран из Союзного договора 1922 года и о намерении создать Содружество Независимых Государств (СНГ). Это заявление поддержали руководители азиатских республик  - Казахстана, Киргизии, Таджикистана, Туркмении и Узбекистана. 10-го декабря 1991 года Верховные Советы Белоруссии и Украины ратифицировали (одобрили) соглашения о создании СНГ и выходе из СССР. 12-го декабря аналогичное решение было принято Верховным Советом РСФСР. 21-го декабря в Алма-Ате руководители 11-ти республик подписали соглашение о создании СНГ. СССР прекратил свое существова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Спасиб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з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вним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0202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5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gradFill rotWithShape="0">
            <a:gsLst>
              <a:gs pos="0">
                <a:srgbClr val="665406"/>
              </a:gs>
              <a:gs pos="100000">
                <a:srgbClr val="dcb50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Group 11"/>
          <p:cNvGrpSpPr/>
          <p:nvPr/>
        </p:nvGrpSpPr>
        <p:grpSpPr>
          <a:xfrm>
            <a:off x="0" y="1125360"/>
            <a:ext cx="9144000" cy="5732280"/>
            <a:chOff x="0" y="1125360"/>
            <a:chExt cx="9144000" cy="5732280"/>
          </a:xfrm>
        </p:grpSpPr>
        <p:pic>
          <p:nvPicPr>
            <p:cNvPr id="43" name="Picture 5" descr="soviet-flag-200"/>
            <p:cNvPicPr/>
            <p:nvPr/>
          </p:nvPicPr>
          <p:blipFill>
            <a:blip r:embed="rId1"/>
            <a:stretch/>
          </p:blipFill>
          <p:spPr>
            <a:xfrm>
              <a:off x="0" y="1125360"/>
              <a:ext cx="4716360" cy="573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Picture 7" descr="0000000077"/>
            <p:cNvPicPr/>
            <p:nvPr/>
          </p:nvPicPr>
          <p:blipFill>
            <a:blip r:embed="rId2"/>
            <a:stretch/>
          </p:blipFill>
          <p:spPr>
            <a:xfrm>
              <a:off x="4716360" y="1125360"/>
              <a:ext cx="4427640" cy="573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WordArt 14"/>
          <p:cNvSpPr txBox="1"/>
          <p:nvPr/>
        </p:nvSpPr>
        <p:spPr>
          <a:xfrm>
            <a:off x="755640" y="115920"/>
            <a:ext cx="7777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ождение новой России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Text Box 16"/>
          <p:cNvSpPr/>
          <p:nvPr/>
        </p:nvSpPr>
        <p:spPr>
          <a:xfrm>
            <a:off x="179280" y="5157720"/>
            <a:ext cx="4248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cb50e"/>
                </a:solidFill>
                <a:latin typeface="Times New Roman"/>
              </a:rPr>
              <a:t>Подготовила учитель истории и обществознания МОУ СОШ №1 ст. Ленинградской Краснодарского кра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cb50e"/>
                </a:solidFill>
                <a:latin typeface="Times New Roman"/>
              </a:rPr>
              <a:t>Кузьминова Елена Викторов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cb50e"/>
                </a:solidFill>
                <a:latin typeface="Times New Roman"/>
              </a:rPr>
              <a:t>2010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6"/>
          <p:cNvGrpSpPr/>
          <p:nvPr/>
        </p:nvGrpSpPr>
        <p:grpSpPr>
          <a:xfrm>
            <a:off x="0" y="0"/>
            <a:ext cx="2075040" cy="6858000"/>
            <a:chOff x="0" y="0"/>
            <a:chExt cx="2075040" cy="6858000"/>
          </a:xfrm>
        </p:grpSpPr>
        <p:pic>
          <p:nvPicPr>
            <p:cNvPr id="48" name="Picture 4" descr="russia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075040" cy="350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5" descr="FlagSU1600x800"/>
            <p:cNvPicPr/>
            <p:nvPr/>
          </p:nvPicPr>
          <p:blipFill>
            <a:blip r:embed="rId2">
              <a:lum bright="-10000"/>
            </a:blip>
            <a:srcRect l="0" t="19089" r="0" b="0"/>
            <a:stretch/>
          </p:blipFill>
          <p:spPr>
            <a:xfrm>
              <a:off x="0" y="3500280"/>
              <a:ext cx="2075040" cy="3357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" name="Group 7"/>
          <p:cNvGrpSpPr/>
          <p:nvPr/>
        </p:nvGrpSpPr>
        <p:grpSpPr>
          <a:xfrm>
            <a:off x="7631280" y="0"/>
            <a:ext cx="1512720" cy="765000"/>
            <a:chOff x="7631280" y="0"/>
            <a:chExt cx="1512720" cy="765000"/>
          </a:xfrm>
        </p:grpSpPr>
        <p:pic>
          <p:nvPicPr>
            <p:cNvPr id="51" name="Picture 8" descr="Безимени-1 копия"/>
            <p:cNvPicPr/>
            <p:nvPr/>
          </p:nvPicPr>
          <p:blipFill>
            <a:blip r:embed="rId3"/>
            <a:stretch/>
          </p:blipFill>
          <p:spPr>
            <a:xfrm>
              <a:off x="8397720" y="0"/>
              <a:ext cx="746280" cy="76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9" descr="Безимени-2"/>
            <p:cNvPicPr/>
            <p:nvPr/>
          </p:nvPicPr>
          <p:blipFill>
            <a:blip r:embed="rId4"/>
            <a:stretch/>
          </p:blipFill>
          <p:spPr>
            <a:xfrm>
              <a:off x="7631280" y="0"/>
              <a:ext cx="757080" cy="765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Text Box 10"/>
          <p:cNvSpPr/>
          <p:nvPr/>
        </p:nvSpPr>
        <p:spPr>
          <a:xfrm>
            <a:off x="2160720" y="-27000"/>
            <a:ext cx="6983280" cy="68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План уро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70000"/>
              </a:lnSpc>
              <a:buClr>
                <a:srgbClr val="990033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Times New Roman"/>
              </a:rPr>
              <a:t>Демократические выборы народных депутатов РСФС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70000"/>
              </a:lnSpc>
              <a:buClr>
                <a:srgbClr val="990033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Times New Roman"/>
              </a:rPr>
              <a:t>Декларация о государственном суверенитете Росс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70000"/>
              </a:lnSpc>
              <a:buClr>
                <a:srgbClr val="990033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Times New Roman"/>
              </a:rPr>
              <a:t>Первый Президент Росс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70000"/>
              </a:lnSpc>
              <a:buClr>
                <a:srgbClr val="990033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Times New Roman"/>
              </a:rPr>
              <a:t>Подготовка нового Союзного догово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70000"/>
              </a:lnSpc>
              <a:buClr>
                <a:srgbClr val="990033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Times New Roman"/>
              </a:rPr>
              <a:t>Августовский путч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70000"/>
              </a:lnSpc>
              <a:buClr>
                <a:srgbClr val="990033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Times New Roman"/>
              </a:rPr>
              <a:t>Распад ССС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7"/>
          <p:cNvGrpSpPr/>
          <p:nvPr/>
        </p:nvGrpSpPr>
        <p:grpSpPr>
          <a:xfrm>
            <a:off x="0" y="0"/>
            <a:ext cx="2075040" cy="6858000"/>
            <a:chOff x="0" y="0"/>
            <a:chExt cx="2075040" cy="6858000"/>
          </a:xfrm>
        </p:grpSpPr>
        <p:pic>
          <p:nvPicPr>
            <p:cNvPr id="55" name="Picture 8" descr="russia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075040" cy="350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9" descr="FlagSU1600x800"/>
            <p:cNvPicPr/>
            <p:nvPr/>
          </p:nvPicPr>
          <p:blipFill>
            <a:blip r:embed="rId2">
              <a:lum bright="-10000"/>
            </a:blip>
            <a:srcRect l="0" t="19089" r="0" b="0"/>
            <a:stretch/>
          </p:blipFill>
          <p:spPr>
            <a:xfrm>
              <a:off x="0" y="3500280"/>
              <a:ext cx="2075040" cy="3357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" name="Group 13"/>
          <p:cNvGrpSpPr/>
          <p:nvPr/>
        </p:nvGrpSpPr>
        <p:grpSpPr>
          <a:xfrm>
            <a:off x="7631280" y="0"/>
            <a:ext cx="1512720" cy="765000"/>
            <a:chOff x="7631280" y="0"/>
            <a:chExt cx="1512720" cy="765000"/>
          </a:xfrm>
        </p:grpSpPr>
        <p:pic>
          <p:nvPicPr>
            <p:cNvPr id="58" name="Picture 11" descr="Безимени-1 копия"/>
            <p:cNvPicPr/>
            <p:nvPr/>
          </p:nvPicPr>
          <p:blipFill>
            <a:blip r:embed="rId3"/>
            <a:stretch/>
          </p:blipFill>
          <p:spPr>
            <a:xfrm>
              <a:off x="8397720" y="0"/>
              <a:ext cx="746280" cy="76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12" descr="Безимени-2"/>
            <p:cNvPicPr/>
            <p:nvPr/>
          </p:nvPicPr>
          <p:blipFill>
            <a:blip r:embed="rId4"/>
            <a:stretch/>
          </p:blipFill>
          <p:spPr>
            <a:xfrm>
              <a:off x="7631280" y="0"/>
              <a:ext cx="757080" cy="765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Text Box 14"/>
          <p:cNvSpPr/>
          <p:nvPr/>
        </p:nvSpPr>
        <p:spPr>
          <a:xfrm>
            <a:off x="2050920" y="12384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Times New Roman"/>
              </a:rPr>
              <a:t>Демократические выборы народных депутатов РСФСР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2124000" y="4460760"/>
            <a:ext cx="6624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ом съезде народных депутатов РСФСР (16 мая – 22 июня 1990г.) предстояло избрать Председателя Верховного Совета – высшее должностное лицо России. С перевесом всего в 4-ре голоса победу одержал Б.Н. Ельцин. Председателем Совета министров был назначен И.С. Силае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6" descr="9N2092"/>
          <p:cNvPicPr/>
          <p:nvPr/>
        </p:nvPicPr>
        <p:blipFill>
          <a:blip r:embed="rId5"/>
          <a:srcRect l="4524" t="6394" r="5021" b="6202"/>
          <a:stretch/>
        </p:blipFill>
        <p:spPr>
          <a:xfrm>
            <a:off x="2268360" y="1197000"/>
            <a:ext cx="43196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4"/>
          <p:cNvGrpSpPr/>
          <p:nvPr/>
        </p:nvGrpSpPr>
        <p:grpSpPr>
          <a:xfrm>
            <a:off x="0" y="0"/>
            <a:ext cx="2075040" cy="6858000"/>
            <a:chOff x="0" y="0"/>
            <a:chExt cx="2075040" cy="6858000"/>
          </a:xfrm>
        </p:grpSpPr>
        <p:pic>
          <p:nvPicPr>
            <p:cNvPr id="64" name="Picture 5" descr="russia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075040" cy="350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6" descr="FlagSU1600x800"/>
            <p:cNvPicPr/>
            <p:nvPr/>
          </p:nvPicPr>
          <p:blipFill>
            <a:blip r:embed="rId2">
              <a:lum bright="-10000"/>
            </a:blip>
            <a:srcRect l="0" t="19089" r="0" b="0"/>
            <a:stretch/>
          </p:blipFill>
          <p:spPr>
            <a:xfrm>
              <a:off x="0" y="3500280"/>
              <a:ext cx="2075040" cy="3357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" name="Group 7"/>
          <p:cNvGrpSpPr/>
          <p:nvPr/>
        </p:nvGrpSpPr>
        <p:grpSpPr>
          <a:xfrm>
            <a:off x="7631280" y="0"/>
            <a:ext cx="1512720" cy="765000"/>
            <a:chOff x="7631280" y="0"/>
            <a:chExt cx="1512720" cy="765000"/>
          </a:xfrm>
        </p:grpSpPr>
        <p:pic>
          <p:nvPicPr>
            <p:cNvPr id="67" name="Picture 8" descr="Безимени-1 копия"/>
            <p:cNvPicPr/>
            <p:nvPr/>
          </p:nvPicPr>
          <p:blipFill>
            <a:blip r:embed="rId3"/>
            <a:stretch/>
          </p:blipFill>
          <p:spPr>
            <a:xfrm>
              <a:off x="8397720" y="0"/>
              <a:ext cx="746280" cy="76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9" descr="Безимени-2"/>
            <p:cNvPicPr/>
            <p:nvPr/>
          </p:nvPicPr>
          <p:blipFill>
            <a:blip r:embed="rId4"/>
            <a:stretch/>
          </p:blipFill>
          <p:spPr>
            <a:xfrm>
              <a:off x="7631280" y="0"/>
              <a:ext cx="757080" cy="765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Rectangle 10"/>
          <p:cNvSpPr/>
          <p:nvPr/>
        </p:nvSpPr>
        <p:spPr>
          <a:xfrm>
            <a:off x="2101680" y="189000"/>
            <a:ext cx="563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Times New Roman"/>
              </a:rPr>
              <a:t>Декларация о государственном суверенитете Росс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4788000" y="1103400"/>
            <a:ext cx="38876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2 июня 1990 год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й съезд народных депутатов РСФСР принял Декларацию о государственном суверенитете. Суверенитет (независимость) РСФСР был признан естественным и необходимым условием существования российской государственности. Декларация провозгласила курс на создание в России правового государства, а так же утвердила принцип разделения власте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Group 14"/>
          <p:cNvGrpSpPr/>
          <p:nvPr/>
        </p:nvGrpSpPr>
        <p:grpSpPr>
          <a:xfrm>
            <a:off x="2268360" y="1171440"/>
            <a:ext cx="2246400" cy="4204440"/>
            <a:chOff x="2268360" y="1171440"/>
            <a:chExt cx="2246400" cy="4204440"/>
          </a:xfrm>
        </p:grpSpPr>
        <p:pic>
          <p:nvPicPr>
            <p:cNvPr id="72" name="Picture 12" descr="9N2099"/>
            <p:cNvPicPr/>
            <p:nvPr/>
          </p:nvPicPr>
          <p:blipFill>
            <a:blip r:embed="rId5"/>
            <a:srcRect l="6185" t="4176" r="7226" b="4570"/>
            <a:stretch/>
          </p:blipFill>
          <p:spPr>
            <a:xfrm>
              <a:off x="2268360" y="1171440"/>
              <a:ext cx="2246400" cy="35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13"/>
            <p:cNvSpPr/>
            <p:nvPr/>
          </p:nvSpPr>
          <p:spPr>
            <a:xfrm>
              <a:off x="2268360" y="4916160"/>
              <a:ext cx="223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М.С. Горбаче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4"/>
          <p:cNvGrpSpPr/>
          <p:nvPr/>
        </p:nvGrpSpPr>
        <p:grpSpPr>
          <a:xfrm>
            <a:off x="0" y="0"/>
            <a:ext cx="2075040" cy="6858000"/>
            <a:chOff x="0" y="0"/>
            <a:chExt cx="2075040" cy="6858000"/>
          </a:xfrm>
        </p:grpSpPr>
        <p:pic>
          <p:nvPicPr>
            <p:cNvPr id="75" name="Picture 5" descr="russia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075040" cy="350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6" descr="FlagSU1600x800"/>
            <p:cNvPicPr/>
            <p:nvPr/>
          </p:nvPicPr>
          <p:blipFill>
            <a:blip r:embed="rId2">
              <a:lum bright="-10000"/>
            </a:blip>
            <a:srcRect l="0" t="19089" r="0" b="0"/>
            <a:stretch/>
          </p:blipFill>
          <p:spPr>
            <a:xfrm>
              <a:off x="0" y="3500280"/>
              <a:ext cx="2075040" cy="3357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7" name="Group 7"/>
          <p:cNvGrpSpPr/>
          <p:nvPr/>
        </p:nvGrpSpPr>
        <p:grpSpPr>
          <a:xfrm>
            <a:off x="7631280" y="0"/>
            <a:ext cx="1512720" cy="765000"/>
            <a:chOff x="7631280" y="0"/>
            <a:chExt cx="1512720" cy="765000"/>
          </a:xfrm>
        </p:grpSpPr>
        <p:pic>
          <p:nvPicPr>
            <p:cNvPr id="78" name="Picture 8" descr="Безимени-1 копия"/>
            <p:cNvPicPr/>
            <p:nvPr/>
          </p:nvPicPr>
          <p:blipFill>
            <a:blip r:embed="rId3"/>
            <a:stretch/>
          </p:blipFill>
          <p:spPr>
            <a:xfrm>
              <a:off x="8397720" y="0"/>
              <a:ext cx="746280" cy="76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9" descr="Безимени-2"/>
            <p:cNvPicPr/>
            <p:nvPr/>
          </p:nvPicPr>
          <p:blipFill>
            <a:blip r:embed="rId4"/>
            <a:stretch/>
          </p:blipFill>
          <p:spPr>
            <a:xfrm>
              <a:off x="7631280" y="0"/>
              <a:ext cx="757080" cy="765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" name="Rectangle 10"/>
          <p:cNvSpPr/>
          <p:nvPr/>
        </p:nvSpPr>
        <p:spPr>
          <a:xfrm>
            <a:off x="2124000" y="18900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Times New Roman"/>
              </a:rPr>
              <a:t>Первый Президент Росс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Group 14"/>
          <p:cNvGrpSpPr/>
          <p:nvPr/>
        </p:nvGrpSpPr>
        <p:grpSpPr>
          <a:xfrm>
            <a:off x="2195640" y="1162080"/>
            <a:ext cx="2232000" cy="4431240"/>
            <a:chOff x="2195640" y="1162080"/>
            <a:chExt cx="2232000" cy="4431240"/>
          </a:xfrm>
        </p:grpSpPr>
        <p:pic>
          <p:nvPicPr>
            <p:cNvPr id="82" name="Picture 11" descr="9N2180"/>
            <p:cNvPicPr/>
            <p:nvPr/>
          </p:nvPicPr>
          <p:blipFill>
            <a:blip r:embed="rId5"/>
            <a:srcRect l="5659" t="4363" r="5659" b="4363"/>
            <a:stretch/>
          </p:blipFill>
          <p:spPr>
            <a:xfrm>
              <a:off x="2195640" y="1162080"/>
              <a:ext cx="2208240" cy="31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12"/>
            <p:cNvSpPr/>
            <p:nvPr/>
          </p:nvSpPr>
          <p:spPr>
            <a:xfrm>
              <a:off x="2195640" y="4402080"/>
              <a:ext cx="2232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Б.Н. Ельцин (фотография 1970-х годов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Text Box 13"/>
          <p:cNvSpPr/>
          <p:nvPr/>
        </p:nvSpPr>
        <p:spPr>
          <a:xfrm>
            <a:off x="4500720" y="1052640"/>
            <a:ext cx="4392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.Н. Ельцин родился 1-го февраля 1931 года в трудовой семье. Получил высшее строительное образование, работал на руководящих постах. В 1976 году занял должность первого секретаря Свердловского обкома, а затем стал членом ЦК КПСС. В октябре 1987 года был снят со всех постов из-за своих демократических убеждений. Спустя два года Ельцин был избран народным депутатом СССР и членом Верховного Совета. 12-го июня 1991 года состоялись выборы Президента РСФСР. Главой государства стал Б.Н. Ельцин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4"/>
          <p:cNvGrpSpPr/>
          <p:nvPr/>
        </p:nvGrpSpPr>
        <p:grpSpPr>
          <a:xfrm>
            <a:off x="0" y="0"/>
            <a:ext cx="2075040" cy="6858000"/>
            <a:chOff x="0" y="0"/>
            <a:chExt cx="2075040" cy="6858000"/>
          </a:xfrm>
        </p:grpSpPr>
        <p:pic>
          <p:nvPicPr>
            <p:cNvPr id="86" name="Picture 5" descr="russia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075040" cy="350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6" descr="FlagSU1600x800"/>
            <p:cNvPicPr/>
            <p:nvPr/>
          </p:nvPicPr>
          <p:blipFill>
            <a:blip r:embed="rId2">
              <a:lum bright="-10000"/>
            </a:blip>
            <a:srcRect l="0" t="19089" r="0" b="0"/>
            <a:stretch/>
          </p:blipFill>
          <p:spPr>
            <a:xfrm>
              <a:off x="0" y="3500280"/>
              <a:ext cx="2075040" cy="3357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" name="Group 7"/>
          <p:cNvGrpSpPr/>
          <p:nvPr/>
        </p:nvGrpSpPr>
        <p:grpSpPr>
          <a:xfrm>
            <a:off x="7631280" y="0"/>
            <a:ext cx="1512720" cy="765000"/>
            <a:chOff x="7631280" y="0"/>
            <a:chExt cx="1512720" cy="765000"/>
          </a:xfrm>
        </p:grpSpPr>
        <p:pic>
          <p:nvPicPr>
            <p:cNvPr id="89" name="Picture 8" descr="Безимени-1 копия"/>
            <p:cNvPicPr/>
            <p:nvPr/>
          </p:nvPicPr>
          <p:blipFill>
            <a:blip r:embed="rId3"/>
            <a:stretch/>
          </p:blipFill>
          <p:spPr>
            <a:xfrm>
              <a:off x="8397720" y="0"/>
              <a:ext cx="746280" cy="76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9" descr="Безимени-2"/>
            <p:cNvPicPr/>
            <p:nvPr/>
          </p:nvPicPr>
          <p:blipFill>
            <a:blip r:embed="rId4"/>
            <a:stretch/>
          </p:blipFill>
          <p:spPr>
            <a:xfrm>
              <a:off x="7631280" y="0"/>
              <a:ext cx="757080" cy="765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Rectangle 10"/>
          <p:cNvSpPr/>
          <p:nvPr/>
        </p:nvSpPr>
        <p:spPr>
          <a:xfrm>
            <a:off x="2124000" y="18900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Times New Roman"/>
              </a:rPr>
              <a:t>Подготовка нового Союзного догово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2195640" y="3079800"/>
            <a:ext cx="65516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1-го июля 1991 года помощник Президента СССР Г.Х. Шахназаров после согласования с Б.Н. Ельциным представил М.С. Горбачеву график многоэтапного подписания нового Союзного договора: 20-го августа 1991 года – РСФСР и Казахстан, 3-го сентября – Белоруссия и Узбекистан, 17-го сентября – Азербайджан и Таджикистан, 1-го октября – Туркмения и Киргизия, 22-го октября – Украина и, возможно, Армения с Молдовой, а так же союзная делегация. В конце процесса свою подпись должен был поставить Президент СССР. После этого договор вступал в сил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2" descr="9N2108"/>
          <p:cNvPicPr/>
          <p:nvPr/>
        </p:nvPicPr>
        <p:blipFill>
          <a:blip r:embed="rId5"/>
          <a:srcRect l="4358" t="9055" r="24992" b="9213"/>
          <a:stretch/>
        </p:blipFill>
        <p:spPr>
          <a:xfrm>
            <a:off x="2268360" y="836640"/>
            <a:ext cx="388800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4"/>
          <p:cNvGrpSpPr/>
          <p:nvPr/>
        </p:nvGrpSpPr>
        <p:grpSpPr>
          <a:xfrm>
            <a:off x="0" y="0"/>
            <a:ext cx="2075040" cy="6858000"/>
            <a:chOff x="0" y="0"/>
            <a:chExt cx="2075040" cy="6858000"/>
          </a:xfrm>
        </p:grpSpPr>
        <p:pic>
          <p:nvPicPr>
            <p:cNvPr id="95" name="Picture 5" descr="russia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075040" cy="350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6" descr="FlagSU1600x800"/>
            <p:cNvPicPr/>
            <p:nvPr/>
          </p:nvPicPr>
          <p:blipFill>
            <a:blip r:embed="rId2">
              <a:lum bright="-10000"/>
            </a:blip>
            <a:srcRect l="0" t="19089" r="0" b="0"/>
            <a:stretch/>
          </p:blipFill>
          <p:spPr>
            <a:xfrm>
              <a:off x="0" y="3500280"/>
              <a:ext cx="2075040" cy="3357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" name="Group 7"/>
          <p:cNvGrpSpPr/>
          <p:nvPr/>
        </p:nvGrpSpPr>
        <p:grpSpPr>
          <a:xfrm>
            <a:off x="7631280" y="0"/>
            <a:ext cx="1512720" cy="765000"/>
            <a:chOff x="7631280" y="0"/>
            <a:chExt cx="1512720" cy="765000"/>
          </a:xfrm>
        </p:grpSpPr>
        <p:pic>
          <p:nvPicPr>
            <p:cNvPr id="98" name="Picture 8" descr="Безимени-1 копия"/>
            <p:cNvPicPr/>
            <p:nvPr/>
          </p:nvPicPr>
          <p:blipFill>
            <a:blip r:embed="rId3"/>
            <a:stretch/>
          </p:blipFill>
          <p:spPr>
            <a:xfrm>
              <a:off x="8397720" y="0"/>
              <a:ext cx="746280" cy="76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9" descr="Безимени-2"/>
            <p:cNvPicPr/>
            <p:nvPr/>
          </p:nvPicPr>
          <p:blipFill>
            <a:blip r:embed="rId4"/>
            <a:stretch/>
          </p:blipFill>
          <p:spPr>
            <a:xfrm>
              <a:off x="7631280" y="0"/>
              <a:ext cx="757080" cy="765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Rectangle 10"/>
          <p:cNvSpPr/>
          <p:nvPr/>
        </p:nvSpPr>
        <p:spPr>
          <a:xfrm>
            <a:off x="2124000" y="18900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Times New Roman"/>
              </a:rPr>
              <a:t>Августовский путч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11" descr="598_putch"/>
          <p:cNvPicPr/>
          <p:nvPr/>
        </p:nvPicPr>
        <p:blipFill>
          <a:blip r:embed="rId5"/>
          <a:srcRect l="0" t="0" r="0" b="12281"/>
          <a:stretch/>
        </p:blipFill>
        <p:spPr>
          <a:xfrm>
            <a:off x="2279520" y="981000"/>
            <a:ext cx="4092840" cy="2879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2809_500_2e51c17d59cef409c2fc6447b5939698"/>
          <p:cNvPicPr/>
          <p:nvPr/>
        </p:nvPicPr>
        <p:blipFill>
          <a:blip r:embed="rId6"/>
          <a:srcRect l="5382" t="0" r="0" b="0"/>
          <a:stretch/>
        </p:blipFill>
        <p:spPr>
          <a:xfrm>
            <a:off x="5076720" y="3860640"/>
            <a:ext cx="3824280" cy="27003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6"/>
          <p:cNvSpPr/>
          <p:nvPr/>
        </p:nvSpPr>
        <p:spPr>
          <a:xfrm>
            <a:off x="6659640" y="167004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9-21 августа 1991 г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7"/>
          <p:cNvSpPr/>
          <p:nvPr/>
        </p:nvSpPr>
        <p:spPr>
          <a:xfrm>
            <a:off x="2124000" y="4149720"/>
            <a:ext cx="2952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КЧП (вице-президент Г. Янаев, премьер В. Павлов, министр обороны Д. Язов, Председатель КГБ В. Крючков, министр внутренних дел Б. Пуго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2"/>
          <p:cNvSpPr/>
          <p:nvPr/>
        </p:nvSpPr>
        <p:spPr>
          <a:xfrm>
            <a:off x="2195640" y="1157400"/>
            <a:ext cx="6769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зидент России Б.Н. Ельцин, Президент Украины Л.М. Кравчук и Председатель Верховного Совета Белоруссии С.С. Шушкевич заявили о выходе их стран из Союзного договора 1922 года и о намерении создать Содружество Независимых Государств (СНГ). Это заявление поддержали руководители азиатских республик  - Казахстана, Киргизии, Таджикистана, Туркмении и Узбекистана. 10-го декабря 1991 года Верховные Советы Белоруссии и Украины ратифицировали (одобрили) соглашения о создании СНГ и выходе из СССР. 12-го декабря аналогичное решение было принято Верховным Советом РСФСР. 21-го декабря в Алма-Ате руководители 11-ти республик подписали соглашение о создании СНГ. СССР прекратил свое существован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Group 4"/>
          <p:cNvGrpSpPr/>
          <p:nvPr/>
        </p:nvGrpSpPr>
        <p:grpSpPr>
          <a:xfrm>
            <a:off x="0" y="0"/>
            <a:ext cx="2075040" cy="6858000"/>
            <a:chOff x="0" y="0"/>
            <a:chExt cx="2075040" cy="6858000"/>
          </a:xfrm>
        </p:grpSpPr>
        <p:pic>
          <p:nvPicPr>
            <p:cNvPr id="107" name="Picture 5" descr="russia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075040" cy="350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6" descr="FlagSU1600x800"/>
            <p:cNvPicPr/>
            <p:nvPr/>
          </p:nvPicPr>
          <p:blipFill>
            <a:blip r:embed="rId2">
              <a:lum bright="-10000"/>
            </a:blip>
            <a:srcRect l="0" t="19089" r="0" b="0"/>
            <a:stretch/>
          </p:blipFill>
          <p:spPr>
            <a:xfrm>
              <a:off x="0" y="3500280"/>
              <a:ext cx="2075040" cy="3357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" name="Group 7"/>
          <p:cNvGrpSpPr/>
          <p:nvPr/>
        </p:nvGrpSpPr>
        <p:grpSpPr>
          <a:xfrm>
            <a:off x="7631280" y="0"/>
            <a:ext cx="1512720" cy="765000"/>
            <a:chOff x="7631280" y="0"/>
            <a:chExt cx="1512720" cy="765000"/>
          </a:xfrm>
        </p:grpSpPr>
        <p:pic>
          <p:nvPicPr>
            <p:cNvPr id="110" name="Picture 8" descr="Безимени-1 копия"/>
            <p:cNvPicPr/>
            <p:nvPr/>
          </p:nvPicPr>
          <p:blipFill>
            <a:blip r:embed="rId3"/>
            <a:stretch/>
          </p:blipFill>
          <p:spPr>
            <a:xfrm>
              <a:off x="8397720" y="0"/>
              <a:ext cx="746280" cy="76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9" descr="Безимени-2"/>
            <p:cNvPicPr/>
            <p:nvPr/>
          </p:nvPicPr>
          <p:blipFill>
            <a:blip r:embed="rId4"/>
            <a:stretch/>
          </p:blipFill>
          <p:spPr>
            <a:xfrm>
              <a:off x="7631280" y="0"/>
              <a:ext cx="757080" cy="765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" name="Rectangle 11"/>
          <p:cNvSpPr/>
          <p:nvPr/>
        </p:nvSpPr>
        <p:spPr>
          <a:xfrm>
            <a:off x="2050920" y="23508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Times New Roman"/>
              </a:rPr>
              <a:t>Распад ССС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4"/>
          <p:cNvGrpSpPr/>
          <p:nvPr/>
        </p:nvGrpSpPr>
        <p:grpSpPr>
          <a:xfrm>
            <a:off x="0" y="0"/>
            <a:ext cx="9144000" cy="6857640"/>
            <a:chOff x="0" y="0"/>
            <a:chExt cx="9144000" cy="6857640"/>
          </a:xfrm>
        </p:grpSpPr>
        <p:pic>
          <p:nvPicPr>
            <p:cNvPr id="114" name="Picture 5" descr="soviet-flag-200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716360" cy="685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6" descr="0000000077"/>
            <p:cNvPicPr/>
            <p:nvPr/>
          </p:nvPicPr>
          <p:blipFill>
            <a:blip r:embed="rId2"/>
            <a:stretch/>
          </p:blipFill>
          <p:spPr>
            <a:xfrm>
              <a:off x="4716360" y="0"/>
              <a:ext cx="4427640" cy="685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" name="Text Box 7"/>
          <p:cNvSpPr/>
          <p:nvPr/>
        </p:nvSpPr>
        <p:spPr>
          <a:xfrm>
            <a:off x="2340000" y="2263680"/>
            <a:ext cx="4248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Спасибо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з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вниман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14T10:08:51Z</dcterms:modified>
  <cp:revision>13</cp:revision>
  <dc:subject/>
  <dc:title>Слайд 1</dc:title>
</cp:coreProperties>
</file>