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E5CA-7DF6-4387-A874-15065C075B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ович Н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ропаевой Н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EEE8-3DD0-44E7-8511-ACEEC4E95E4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AF07-7AAE-409A-9FD5-B21DF3060DC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ка по отношению к Золотой Ор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A60C-7D69-4AB9-A5D4-6656F3D0134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7186-81AD-417F-961E-F923CC0996F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пря велия о великом княжен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6C41-C4BB-4D12-95D4-A36167BFC70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69C3-A236-48F8-80A8-AFA3DBB2E1A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Суздальскую землю, советчиков его схватил и наказа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овому носа урезаша, а иному очи выимаш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посадил князем к ним второго своего сына, Дмит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B671-3C5D-453A-9233-029E9AD387E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0FDD-9CAA-413C-82AF-3A594981B39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ада моя милая, разумейте, яко заиде солнце Русской земл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се с плачем воскликнул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же погиб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облюдение Русской земл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оворит знаменитый историк Сергей Соловьёв, 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огом рожен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 в царях царя, ни в князьях князя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430B-8989-4F26-946C-2586EF7D83F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 — Александра, дочь Брячислава Полоц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(до 1245—1271) — новгородский княз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ил (1261—1303) — первый князь московский (1263—1303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е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докия, ставшая женой Константина Ростиславича Смол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AE83-6DF0-45FF-885B-7D8A303A9D1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личности и результат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ED6A-F4E9-467E-8B73-892F9DCBCC8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зь Новгородский и Владими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36 -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шественник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емник: Дмитрий Александрович Переяславский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исповедание: Правосла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:30 мая 122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лавль-Залес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:14 ноября 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стия: Рюриков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: Ростислава Мстиславна Смоле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: Александра Брячиславовна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: сыновья: Василий, Дмитрий, Андрей и Дани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1D01-AF34-4D2F-AE29-7E3BFC823C8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о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6AAB-9D31-4F0C-95C9-68B83DB0C0F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F1B5-DA9C-48B1-8ADF-000AEE388DC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в Санкт-Петербурге (Усть-Иж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1623-1CE9-42EA-919E-9F380FB6699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стиславой-Феодос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тиславовной. Родился в Переяславле-Залесском в мае 122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5 году Яросла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чинил сыновьям княжеский постриг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0FD0-1D2D-417B-9AAE-EFB923F93EC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ие агрессии с зап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4BDC-5DF4-4BB8-9D6D-3DDA09148DD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894B-86EA-4D91-A8B3-D63C29766F9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Если можешь, сопротивляйся, знай, что я уже здесь и пленю землю твою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еверному кралю их возложил остриём меча печать на чел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да в этой битве продемонстрировала талант и силу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D3E9-56FE-4C8B-9537-38FB9613B64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2E46-ECCB-45EC-8AF0-0D5A47DA915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апреля 1242 года произошла битва на Чудском озере. Сражение это известно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и паде Чюди бещисла, а Немець 400, а 50 руками яша и приведоша в Новгородъ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59B0-5870-4664-866B-EA0748FD488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юстися имени е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и вся съведаем добре, а от вас учения не приим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A30D-4806-4BF5-8164-2684042A1D7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689-76F3-4D02-B749-FA0FDDE3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8E9-4BF2-4FD4-A442-3DFDB64D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15C-807D-4714-BAF9-1FB1C3E6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664-0A51-4C84-8144-746C4210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562B-D4F4-4177-BED9-E5CEF254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A627-6FA9-420B-B50E-B3DB4AB5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C88B-1CF0-4822-BA82-4D4D7D2E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6985-E937-4668-AD85-7696D8B0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5422-6261-4FF9-92D4-A4E688C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9776-90F5-49FC-AB55-6C2E3BFC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2E56-E829-4095-A57C-32C2CE9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0E1-E514-44CB-AE21-58D8047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167B-A4E5-4531-9B29-4B30B90A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191E-A3A5-459C-B0D4-C2679046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A947-3CD9-4B3A-9C34-218A7762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6A26-ED13-4313-B61B-F91E5637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6BEA-C018-480B-9BDB-35AF4AE2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BD1-AB34-4379-B14A-661CCD57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A5C-738F-4A37-A344-2F8806D3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EEF-3A46-47F8-95BB-5807E9C8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C56-AA61-4787-B953-5F98CA02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47C-8391-4AE0-A191-F7027A56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F20-6002-4C90-823F-1ED23E5F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C21-5E1E-4AD5-8D18-E943ABFB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697E-3092-4224-8EB9-5D1CCFF057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8D5D-C480-4B89-A80A-C3275C472C3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Ярославович Невск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ропаевой Наст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180px-NevskyPapalLegates"/>
          <p:cNvPicPr/>
          <p:nvPr/>
        </p:nvPicPr>
        <p:blipFill>
          <a:blip r:embed="rId1"/>
          <a:stretch/>
        </p:blipFill>
        <p:spPr>
          <a:xfrm>
            <a:off x="0" y="620640"/>
            <a:ext cx="407052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ка по отношению к Золотой Орд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Picture 4" descr="300px-Alexander_Nevsky_1942"/>
          <p:cNvPicPr/>
          <p:nvPr/>
        </p:nvPicPr>
        <p:blipFill>
          <a:blip r:embed="rId1"/>
          <a:stretch/>
        </p:blipFill>
        <p:spPr>
          <a:xfrm>
            <a:off x="1908000" y="1844640"/>
            <a:ext cx="6124680" cy="3571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пря велия о великом княжении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4824360" cy="69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4" descr="aleksandr_nevskiy6"/>
          <p:cNvPicPr/>
          <p:nvPr/>
        </p:nvPicPr>
        <p:blipFill>
          <a:blip r:embed="rId1"/>
          <a:stretch/>
        </p:blipFill>
        <p:spPr>
          <a:xfrm>
            <a:off x="5705640" y="1484280"/>
            <a:ext cx="3438360" cy="42213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Низ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, то есть Суздальскую землю, советчиков его схватил и наказал (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овому носа урезаша, а иному очи выимаша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) и посадил князем к ним второго своего сына, Дмитрия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nevsky"/>
          <p:cNvPicPr/>
          <p:nvPr/>
        </p:nvPicPr>
        <p:blipFill>
          <a:blip r:embed="rId1"/>
          <a:stretch/>
        </p:blipFill>
        <p:spPr>
          <a:xfrm>
            <a:off x="0" y="765000"/>
            <a:ext cx="3718080" cy="54453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Чада моя милая, разумейте, яко заиде солнце Русской земли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, и все с плачем воскликнул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уже погибаем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Соблюдение Русской земли,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 — говорит знаменитый историк Сергей Соловьёв, —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Богом рожен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ни в царях царя, ни в князьях князя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ценка личности и результат правлен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475920"/>
            <a:ext cx="38480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Новгородский и Владимир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36 -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дшественник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емник: Дмитрий Александрович Переяславский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оисповедание: Православ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ождение:30 мая 122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еславль-Залес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мерть:14 ноября 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настия: Рюрикович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ец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ть: Ростислава Мстиславна Смоленс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упруга: Александра Брячиславовна Полоц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ти: сыновья: Василий, Дмитрий, Андрей и Дании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4" descr="Александр Ярославич"/>
          <p:cNvPicPr/>
          <p:nvPr/>
        </p:nvPicPr>
        <p:blipFill>
          <a:blip r:embed="rId1"/>
          <a:stretch/>
        </p:blipFill>
        <p:spPr>
          <a:xfrm>
            <a:off x="5281560" y="1052640"/>
            <a:ext cx="3624480" cy="4752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Picture 4" descr="Alexander_Newski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180px-AlNevskiYaltaVxod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" descr="220px-AlexanderNevskiCathedral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4" descr="200px-Alexander_Nevsky_2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лодые год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</a:rPr>
              <a:t>Ростиславой-Феодосие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стиславовной. Родился в Переяславле-Залесском в мае 1221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5 году Ярослав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учинил сыновьям княжеский постриг»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тражение агрессии с запа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300px-Rus-1240-nevski"/>
          <p:cNvPicPr/>
          <p:nvPr/>
        </p:nvPicPr>
        <p:blipFill>
          <a:blip r:embed="rId1"/>
          <a:stretch/>
        </p:blipFill>
        <p:spPr>
          <a:xfrm>
            <a:off x="2556000" y="1052640"/>
            <a:ext cx="5473440" cy="4611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140360" y="580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арта 1239—124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-360"/>
            <a:ext cx="8244000" cy="710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Если можешь, сопротивляйся, знай, что я уже здесь и пленю землю твою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неверному кралю их возложил остриём меча печать на челе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Победа в этой битве продемонстрировала талант и силу Александр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5 апреля 1242 года произошла битва на Чудском озере. Сражение это известно как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Ледовое побоищ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и паде Чюди бещисла, а Немець 400, а 50 руками яша и приведоша в Новгородъ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блюстися имени его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и вся съведаем добре, а от вас учения не приимаем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011"/>
          <p:cNvPicPr/>
          <p:nvPr/>
        </p:nvPicPr>
        <p:blipFill>
          <a:blip r:embed="rId1"/>
          <a:stretch/>
        </p:blipFill>
        <p:spPr>
          <a:xfrm>
            <a:off x="0" y="1989000"/>
            <a:ext cx="3187800" cy="2452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LEGION</cp:lastModifiedBy>
  <dcterms:modified xsi:type="dcterms:W3CDTF">2015-01-14T10:09:48Z</dcterms:modified>
  <cp:revision>6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