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35A4-068C-469B-B60A-88F812E99D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ович Н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ропаевой Н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3254-5929-4AFF-B99B-432B21E3C16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05A0-A0C2-4F1E-AE4C-0267AD3659A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ка по отношению к Золотой Ор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718C-CC17-42CA-94C3-6B465A44F33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8EB6-FD5B-491F-BE7E-D539BE93415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пря велия о великом княжен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F052-9CC1-4E80-BE50-E6804A005A1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3CE4-E833-4D53-A45D-4E8DB2B9841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Суздальскую землю, советчиков его схватил и наказа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овому носа урезаша, а иному очи выимаш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посадил князем к ним второго своего сына, Дмит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5769-C6D4-44A7-8757-9E796E5484E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0CF2-A4EE-4BDF-9F5A-84800A02C8E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ада моя милая, разумейте, яко заиде солнце Русской земл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се с плачем воскликнул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же погиб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облюдение Русской земл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оворит знаменитый историк Сергей Соловьёв, 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огом рожен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 в царях царя, ни в князьях князя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B3C1-ACE2-4811-86BD-89C88B77827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 — Александра, дочь Брячислава Полоц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(до 1245—1271) — новгородский княз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ил (1261—1303) — первый князь московский (1263—1303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е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докия, ставшая женой Константина Ростиславича Смол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77D-21C6-4BC6-AADA-C5A780AAE9F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личности и результат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E6B0-050E-4969-AA82-9446DA8140F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зь Новгородский и Владими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36 -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шественник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емник: Дмитрий Александрович Переяславский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исповедание: Правосла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:30 мая 122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лавль-Залес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:14 ноября 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стия: Рюриков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: Ростислава Мстиславна Смоле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: Александра Брячиславовна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: сыновья: Василий, Дмитрий, Андрей и Дани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1519-7307-4CF0-AE08-F863D4B826C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о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4D9E-16E9-4BF2-AE3A-4B44CA80F8D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A5D2-7598-4A3A-BC58-49B4A38787F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в Санкт-Петербурге (Усть-Иж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7EE4-12C9-4A05-8749-EFFADA00ED9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стиславой-Феодос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тиславовной. Родился в Переяславле-Залесском в мае 122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5 году Яросла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чинил сыновьям княжеский постриг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E8CA-4CDB-4774-AB1C-980840EDFD1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ие агрессии с зап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12C7-FCC0-4E2A-A6EA-C07D6CC8A78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064A-7F13-45EC-B9D3-F5519D90E97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Если можешь, сопротивляйся, знай, что я уже здесь и пленю землю твою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еверному кралю их возложил остриём меча печать на чел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да в этой битве продемонстрировала талант и силу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A2A8-FB34-4CDB-8B02-478DFE9D2AB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5859-C20F-4135-9C25-0F2BA1F8525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апреля 1242 года произошла битва на Чудском озере. Сражение это известно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и паде Чюди бещисла, а Немець 400, а 50 руками яша и приведоша в Новгородъ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58CE-37AA-42A2-8B42-D1A027333A1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юстися имени е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и вся съведаем добре, а от вас учения не приим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8507-F76E-41F3-8F50-7EC14E79432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56F-9A0D-4D8D-AF2D-2F688BFD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8FA-C12D-464B-A710-FE4064A6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638-DBC6-4E9E-9669-351F448C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23D-05EE-4FC7-B476-F009A951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57DC-61E7-4BEE-9117-A58164F5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A8D0-718A-48C4-B0E8-DBD4F94C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A5FA-3F11-4AEF-93F3-0CA40B9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3EF7-F3F7-431F-95E4-FF9BAE89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677C-733C-4989-A0FF-BCC4E3D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7F9E-DF16-45B6-B324-E449D6E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DC1D-1AA4-4073-83CA-25BFC2FB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DC5-AD09-4151-9DC2-E9FB7132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92B6-E597-4BC6-9025-2482E4E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04E3-7EF2-4EF5-B911-76BCA1E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889E-1F51-48C0-AA3F-07D873C6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3EBA-26FE-4A1A-AF05-46EE78A5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9C41-AF12-417A-B7BC-ECA5876E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E09-C0F1-4F63-9C70-249AABAE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18A-CB64-4781-91D2-71EF1505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16D-4B65-49C9-B8D8-08F587F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43E-35E8-4857-B90E-5CBA6308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A35-E2DF-41DB-BAD7-FB5A645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D27-E3FF-4985-B347-E5C17DDA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241-3A88-48B6-9F18-9DE270AD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0706-9403-4F00-9433-4F77B3A23B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A6F2-8330-4902-AF60-D8BD92C9C99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Ярославович Невск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ропаевой Наст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180px-NevskyPapalLegates"/>
          <p:cNvPicPr/>
          <p:nvPr/>
        </p:nvPicPr>
        <p:blipFill>
          <a:blip r:embed="rId1"/>
          <a:stretch/>
        </p:blipFill>
        <p:spPr>
          <a:xfrm>
            <a:off x="0" y="620640"/>
            <a:ext cx="407052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ка по отношению к Золотой Орд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Picture 4" descr="300px-Alexander_Nevsky_1942"/>
          <p:cNvPicPr/>
          <p:nvPr/>
        </p:nvPicPr>
        <p:blipFill>
          <a:blip r:embed="rId1"/>
          <a:stretch/>
        </p:blipFill>
        <p:spPr>
          <a:xfrm>
            <a:off x="1908000" y="1844640"/>
            <a:ext cx="6124680" cy="3571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пря велия о великом княжении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4824360" cy="69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4" descr="aleksandr_nevskiy6"/>
          <p:cNvPicPr/>
          <p:nvPr/>
        </p:nvPicPr>
        <p:blipFill>
          <a:blip r:embed="rId1"/>
          <a:stretch/>
        </p:blipFill>
        <p:spPr>
          <a:xfrm>
            <a:off x="5705640" y="1484280"/>
            <a:ext cx="3438360" cy="42213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Низ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, то есть Суздальскую землю, советчиков его схватил и наказал (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овому носа урезаша, а иному очи выимаша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) и посадил князем к ним второго своего сына, Дмитрия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nevsky"/>
          <p:cNvPicPr/>
          <p:nvPr/>
        </p:nvPicPr>
        <p:blipFill>
          <a:blip r:embed="rId1"/>
          <a:stretch/>
        </p:blipFill>
        <p:spPr>
          <a:xfrm>
            <a:off x="0" y="765000"/>
            <a:ext cx="3718080" cy="54453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Чада моя милая, разумейте, яко заиде солнце Русской земли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, и все с плачем воскликнул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уже погибаем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Соблюдение Русской земли,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 — говорит знаменитый историк Сергей Соловьёв, —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Богом рожен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ни в царях царя, ни в князьях князя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ценка личности и результат правлен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475920"/>
            <a:ext cx="38480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Новгородский и Владимир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36 -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дшественник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емник: Дмитрий Александрович Переяславский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оисповедание: Православ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ождение:30 мая 122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еславль-Залес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мерть:14 ноября 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настия: Рюрикович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ец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ть: Ростислава Мстиславна Смоленс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упруга: Александра Брячиславовна Полоц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ти: сыновья: Василий, Дмитрий, Андрей и Дании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4" descr="Александр Ярославич"/>
          <p:cNvPicPr/>
          <p:nvPr/>
        </p:nvPicPr>
        <p:blipFill>
          <a:blip r:embed="rId1"/>
          <a:stretch/>
        </p:blipFill>
        <p:spPr>
          <a:xfrm>
            <a:off x="5281560" y="1052640"/>
            <a:ext cx="3624480" cy="4752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Picture 4" descr="Alexander_Newski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180px-AlNevskiYaltaVxod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" descr="220px-AlexanderNevskiCathedral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4" descr="200px-Alexander_Nevsky_2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лодые год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</a:rPr>
              <a:t>Ростиславой-Феодосие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стиславовной. Родился в Переяславле-Залесском в мае 1221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5 году Ярослав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учинил сыновьям княжеский постриг»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тражение агрессии с запа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300px-Rus-1240-nevski"/>
          <p:cNvPicPr/>
          <p:nvPr/>
        </p:nvPicPr>
        <p:blipFill>
          <a:blip r:embed="rId1"/>
          <a:stretch/>
        </p:blipFill>
        <p:spPr>
          <a:xfrm>
            <a:off x="2556000" y="1052640"/>
            <a:ext cx="5473440" cy="4611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140360" y="580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арта 1239—124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-360"/>
            <a:ext cx="8244000" cy="710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Если можешь, сопротивляйся, знай, что я уже здесь и пленю землю твою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неверному кралю их возложил остриём меча печать на челе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Победа в этой битве продемонстрировала талант и силу Александр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5 апреля 1242 года произошла битва на Чудском озере. Сражение это известно как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Ледовое побоищ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и паде Чюди бещисла, а Немець 400, а 50 руками яша и приведоша в Новгородъ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блюстися имени его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и вся съведаем добре, а от вас учения не приимаем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011"/>
          <p:cNvPicPr/>
          <p:nvPr/>
        </p:nvPicPr>
        <p:blipFill>
          <a:blip r:embed="rId1"/>
          <a:stretch/>
        </p:blipFill>
        <p:spPr>
          <a:xfrm>
            <a:off x="0" y="1989000"/>
            <a:ext cx="3187800" cy="2452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LEGION</cp:lastModifiedBy>
  <dcterms:modified xsi:type="dcterms:W3CDTF">2015-01-14T10:09:48Z</dcterms:modified>
  <cp:revision>6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