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112F-3EA4-4A2E-B503-DAE23A99677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ександр Ярославович Не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ропаевой На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61B0-64F2-4A4C-A8DB-F0CBB4DD748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6 году на Нарову пришли шведы, Емь, Сумь и начали ставить город. Новгородцы просили помощи у Александра, который и ходил, с суздальскими и новгородскими полками, на Емь, воевал поморье и много вреда учинил неприятельской стране. Возвратившись из похода, он оставил князем за себя в Новгороде сына Василия, а сам уехал во Владим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1F1D-BEC8-409C-BCDB-0C54608C498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ка по отношению к Золотой Орд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073F-EE07-4A17-8A01-A8EF7F14FAF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смерти отца, в 1247 году Александр поехал в Орду к хану Батыю. Оттуда вместе с ранее прибывшим братом Андрем он был отправлен к великому хану в Монголию. Два года потребовалось им на это путешествие. В их отсутствие брат их, Михаил Хороборит Московский, отнял у дяди Святослава Всеволодовича владимирское великое княжение в 1248 году, но в том же году погиб в походе на Литву в битве на реке Про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BA49-5F83-47BA-842A-D300B4D5151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мерти Святослава Александр и Андрей явились старейшими в роде, кроме Владимира Углицкого, умершего в 1249 году. Будучи сильнее Владимира, Ярославичи могли соперничать только друг с другом. И летописец отмечает, что у них был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пря велия о великом княжени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итоге власть над русскими землями была разделена. Андрей получил Владимир, а Александр — Киев. Современные историки расходятся в оценке того, кому из братьев принадлежало формальное старшинство. Киев после татарского разорения потерял всякое значение; поэтому Александр в него не поехал, а поселился в Новгороде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32AB-69EF-4844-AB26-D1C7EF5D337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2 году против Андрея были двинуты татарские полчища под предводительством царевича Неврюя. Андрей, в союзе с братом, Ярославом Тверским, выступил против татар, но был разбит и через Новгород бежал в Швецию. Это была первая попытка открытого противодействия монголо-татарам в Северо-Восточной Руси, и она закончилась неудачей. После бегства Андрея великое княжение владимирское, по воле хана, перешло к Александ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8624-18CA-4068-A8C1-4427E2CC2EA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5 году новгородцы изгнали от себя старшего сына Александра Василия и призвали Ярослава Ярославича Тверского. Невский же силою заставил их снова принять Василия и неугодного ему посадника Анания, поборника новгородской вольности, заменил услужливым Михалкой Степановичем. В 1257 году в Новгороде произошли волнения вследствие требования ханом поголовной переписи и дани с непокорённой им Новгородской земли, как с земель покорённых — Суздальской, Муромской и Рязанской. Большие люди, с посадником Михалкой, уговаривали новгородцев покориться воле хана, но меньшие и слышать о том не хотели. Михалко был убит. Князь Василий, разделяя чувства меньших, но не желая ссориться с отцом, ушёл в Псков. В Новгород явился сам Александр Невский с татарскими послами, выгнал сына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Низ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есть Суздальскую землю, советчиков его схватил и наказал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овому носа урезаша, а иному очи выимаш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посадил князем к ним второго своего сына, Дмит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A67C-5250-40F8-989A-51F3F292FC2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8 году Невский ездил в Орду «чтить» ханского наместника Улавчия, а в 1259 году, угрожая татарским погромом, добился от новгородцев согласия на перепись населения и на поголовную дань. Своей покорностью Александр спас русскую землю от разгрома даже и тогда, когда в 1262 году во Владимире, Суздале, Ростове, Переяславле, Ярославле и других городах были перебиты татарские откупщики д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айский хан Берке в 1262 г. потребовал произвести военный набор среди жителей Руси, поскольку возникла угроза его владениям со стороны иранского правителя Хулагу. Александр Невский отправился в Орду, чтобы попытаться отговорить хана от этого требования. Там Александр заболел. Уже будучи больным, он выехал на Ру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0115-DBB4-43C7-9DD2-DAC68244697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в схиму под именем Алексия, он 14 ноября 1263 года скончался в Городце волжском. Митрополит Кирилл возвестил народу во Владимире о его смерти словами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Чада моя милая, разумейте, яко заиде солнце Русской земл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все с плачем воскликнули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уже погибаем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облюдение Русской земл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говорит знаменитый историк Сергей Соловьёв, —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 беды на востоке, знаменитые подвиги за веру и землю на западе доставили Александру славную память на Руси и сделали его самым видным историческим лицом в древней истории от Мономаха до Донского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Александр сделался любимым князем духовенства. В дошедшем до нас летописном сказании о подвигах его говорится, что он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Богом рожен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беждая везде, он никем не был побеждён. Рыцарь, пришедший с запада посмотреть Невского, рассказывал, что он прошёл много стран и народов, но нигде не видал таког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ни в царях царя, ни в князьях князя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Такой же отзыв будто бы дал о нём и сам хан татарский, а женщины татарские его именем пугали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начально похоронен Алекcандр Невский в Рождественском монастыре во Владимире. В 1724 году по приказу Петра I мощи Александра Невского торжественно перенесены в Александро-Невскую лавру в Санкт-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1F6E-9057-4A2A-A9E8-AC0BE306A246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пруга — Александра, дочь Брячислава Полоц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ыновь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(до 1245—1271) — новгородский княз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митрий (1250—1294) — Князь Новгородский (1260—1263), князь переяславский, великий князь владимирский в 1276—1281 и 1283—1293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дрей (ок. 1255—1304) — князь костромской в (1276—1293), (1296—1304), великий князь владимирский (1281—1284, 1292—1304), князь новгородский в (1281—1285, 1292—1304), князь городецкий в (1264—1304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иил (1261—1303) — первый князь московский (1263—1303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чер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докия, ставшая женой Константина Ростиславича Смоле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2B3B-27AF-41AC-864A-89688C15750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личности и результат пра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ки высказывают как положительные, так и отрицательные оценки деятельности Александра Невского. Согласно традиционной трактовке Александр Невский сыграл исключительную роль в русской истории, в драматический период, когда Русь подверглась удару с трёх сторон: католического Запада, монголо-татар и Литвы. Александр Невский, за всю жизнь не проигравший ни одной битвы, проявил талант полководца и дипломата, отразив нападение немцев и, подчинившись неизбежному владычеству Орды, предотвратил разорительные походы татар на Русь. Скептически настроенные историки (Игорь Данилевский, Сергей Смирнов) считают, что традиционный образ Александра Невского — как гениального полководца и «патриота» слишком преувеличен. Они акцентируют внимание на свидетельствах, в которых Александр Ярославович выступает властолюбивым и жестоким человеком. Также ими высказываются сомнения насчёт масштаба ливонской угрозы Руси и реального военного значения столкновений на Неве и Чудском озере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AB3C-6134-47F2-AB8E-2F86BA6F26C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нязь Новгородский и Владимир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36 -12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шественник: Ярослав Всеволо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емник: Дмитрий Александрович Переяславский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оисповедание: Правосла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:30 мая 1221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лавль-Залес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ь:14 ноября 12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ронен: Рождественский монастырь, в 1724 году перезахоронен Александро-Невской лав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стия: Рюрикови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: Ярослав Всеволо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: Ростислава Мстиславна Смолен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пруга: Александра Брячиславовна Полоц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: сыновья: Василий, Дмитрий, Андрей и Дани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DCF3-0B5E-4ED4-968E-AF8DCF04AFEB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о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нонизирован Русской православной церковью в лике благоверных при митрополите Макарии на Московском Соборе 1547 года. Память: 23 ноября и 30 августа. Дни празднования святого Александра Невског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3 мая— Собор Ростово-Ярославских свят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0 августа— день перенесения мощей в Санкт-Петербург (1724) — главны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 ноября— день кончины в Городце (1263) — отменё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3 ноября— день погребения во Владимире, в схиме Алексия (126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50DC-354D-4C5C-AAC1-9C3B008F36B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 время именем Александра Невского названы церкви, улицы, площади и памятники, посвященные ему. 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F9B7-CD3A-4AA7-9130-FC6A4AFBBE2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в Санкт-Петербурге (Усть-Ижо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462B-0172-4F98-BF82-DA414B3CC78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ы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сын великого князя киевского и владимирского Ярослава Всеволодовича от второго брака с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стиславой-Феодоси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стиславовной. Родился в Переяславле-Залесском в мае 1221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25 году Яросла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учинил сыновьям княжеский постриг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обряд посвящения в воины, который совершил в Спасо-Преображенском соборе Переяславля-Залесского епископ Суздальский святитель Сим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28 году Александр вместе со старшим братом Фёдором были оставлены отцом в Новгороде под присмотром Фёдора Даниловича и тиуна Якима, вместе с Переяславльским войском собиравшимся летом в поход на Ригу, но во время голода, наступившего зимой этого года, Фёдор Данилович и тиун Якима, не дождавшись ответа Ярослава о просьбе новгородцев об отмене забожничья, в феврале 1229 года сбежали с малолетними княжичами из города, опасаясь расправы восставшими новгородцами. В 1230 году, когда новгородцы призвали великого князя Ярослава, он побыв две недели в Новгороде, посадил на княжение в Новгородской земле Фёдора и Александра, однако три года спустя, в тринадцатилетнем возрасте, Фёдор умер. В 1234 году состоялся первый поход Александра на ливонских нем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184C-B162-4C99-9FEA-7987BA83481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ение агрессии с запа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7390-04C0-43E2-BFD8-DE2A844CCA74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36 Ярослав уехал из Переяславля княжить в Киев. С этого времени начинается самостоятельность Александра. Юный князь должен был оборонять Новгородскую землю от шведов, ливонцев и Литвы — традиционных врагов Новгородской земли. Борьба с ливонцами и со шведами являлась, вместе с тем, борьбой православного Востока с католическим Запа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37 году разрозненные силы ливонцев — тевтонского ордена и меченосцев — объединились против русских, а с востока пришли монголо-татары, которые, разорив Северо-Восточную Русь, вторглись и в пределы Новгородской земли, взяв Торжок. Однако до Новгорода они не дошли, повернув на ю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DE94-DD4D-4A78-8B99-7F2D8A75CFC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39 году Александр женился на Александре, приступил к укреплению западной границы Новгородской земли по реке Шелони. В следующем году немцы подступили к Пскову, а шведы, двинулись на Новгород, под предводительством самого правителя страны, королевского зятя ярла Биргера. Согласно русским источникам, Биргер прислал Александру объявление войны, гордое и надменное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Если можешь, сопротивляйся, знай, что я уже здесь и пленю землю твою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 сравнительно небольшой дружиною новгородцев и ладожан Александр ночью 15 июля 1240 года врасплох напал на шведов Биргера, когда они при устье Ижоры, остановились лагерем для отдыха, и нанёс им полное поражение - Невская битва. Сам сражаясь в первых рядах, Александр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неверному кралю их возложил остриём меча печать на челе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беда в этой битве продемонстрировала талант и силу Алекса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95CD-058F-4CE9-928A-D93C56CEA73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не менее, новгородцы,  в том же году успели рассориться с Александром, и он удалился к отцу, который дал ему на княжество Переяславль-Залесский. Между тем на Новгород надвигались ливонские немцы. Рыцари осадили Псков и вскоре, взяли его, воспользовавшись предательством среди осаждённых. В город были посажены два немецких фогта, что стало беспрецедентным случаем в истории ливонско-новгородских конфликтов. Затем ливонцы повоевали и обложили данью вожан, построили крепость в Копорье, взяли город Тёсов, разграбили земли по реке Луге и стали грабить новгородских купцов в 30 верстах от Новгорода. Новгородцы обратились к Ярославу за князем; он дал им второго своего сына - Андрея. Это не удовлетворило их. Они отправили второе посольство просить Александра. В 1241 году Александр явился в Новгород и очистил его область от врагов, а в следующем году вместе с Андреем двинулся на помощь Пскову. Освободив город, Александр направился в Чудскую землю, во владения орд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771E-670A-4900-AAEE-909638C744F2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апреля 1242 года произошла битва на Чудском озере. Сражение это известно ка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довое побоищ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еред битвой князь Александр велел своим дружинникам снять железные доспехи. Хитрым манёвром закованных в железо вражеских воинов заманили на лёд. Согласно новгородской летописи русские 7 вёрст гнали немцев по льду. По данным ливонской хроники потери ордена составили 20 убитых и 6 пленных рыцарей, что согласуется с Новгородской летописью, которая сообщает, что ливонский орден потерял 400—500 «немец» убитыми и 50 пленными —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и паде Чюди бещисла, а Немець 400, а 50 руками яша и приведоша в Новгородъ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Учитывая, что на каждого полноправного рыцаря приходилось 10-15 воинов более низкого ранга, можно считать, что данные Ливонской хроники и данные Новгородской летописи хорошо подтверждают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93EB-B79F-4DF7-B68F-5227FDDE0CC3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ым рядом побед в 1242 и 1245 годах Александр отразил набеги Литвы, возглавляемой князем Миндовгом. По сказанию летописца, литовцы впали в такой страх, что стал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блюстися имени его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стилетняя победоносная защита Александром северной Руси привела к тому, что немцы, по мирному договору, отказались от всех недавних завоеваний и уступили ему часть Летголии. Есть известие, что папа Иннокентий IV в 1251 году прислал к Александру Невскому двух кардиналов с буллой, написанной в 1248 году. Папа, обещая помощь ливонцев в борьбе с татарами, убеждал Александра пойти по примеру отца, согласившегося будто бы подчиниться римскому престолу. По рассказу летописца, Невский, посоветовавшись с мудрыми людьми, изложил всю историю Руси и в заключение сказал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и вся съведаем добре, а от вас учения не приимаем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7DE3-19B6-43F5-9631-955C4B36B7D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CD35-77E6-4C4D-99E3-2A2B64F8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0BE-F881-4B8B-A370-1E21D097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D71D-79AC-414B-8BE5-EECDDBF5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3A3D-15E8-4381-A452-6EEAB701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CAE7-D0A0-4D17-A483-31518410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6A48-4B13-4B30-9B93-AAD7FC65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F302-BD92-466F-8932-900C9C1B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E7E7-BF33-4B96-9AF8-03A2FA66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C420-6AD1-4FDB-8367-2D35EF50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73E8-9ACD-4649-AD76-175A7489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EF95-B248-4CC6-9177-F13ECB7C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AD93-A27A-40FC-9D6D-94C15B70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7059-4418-4FA5-B834-2E35EDE6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1A19-E43E-4284-A7BE-FC01855A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B47A-EBD3-444B-AAE5-A601D6AB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A7CA-D2A2-4AAC-B6C7-B806B1CE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A23A-3120-4E47-A286-131DA598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D117-E588-47D5-B3CA-414962ED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86CA-4A54-4D1C-9741-B9024073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A400-4AAF-4596-B350-62A36A07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9295-52D6-461E-A98A-4756A8E7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56DE-72E3-4D73-AE67-714BC5DE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6412-A6AC-4A81-9081-C36AC05E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03E8-DEAD-4EFC-97FA-E8503453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19e8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573200" cy="6858000"/>
            <a:chOff x="0" y="0"/>
            <a:chExt cx="1573200" cy="6858000"/>
          </a:xfrm>
        </p:grpSpPr>
        <p:sp>
          <p:nvSpPr>
            <p:cNvPr id="1" name="Rectangle 3"/>
            <p:cNvSpPr/>
            <p:nvPr/>
          </p:nvSpPr>
          <p:spPr>
            <a:xfrm>
              <a:off x="1268280" y="1440"/>
              <a:ext cx="30492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19e8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" name="Picture 4" descr=""/>
            <p:cNvPicPr/>
            <p:nvPr/>
          </p:nvPicPr>
          <p:blipFill>
            <a:blip r:embed="rId2"/>
            <a:srcRect l="8110" t="0" r="0" b="0"/>
            <a:stretch/>
          </p:blipFill>
          <p:spPr>
            <a:xfrm>
              <a:off x="0" y="0"/>
              <a:ext cx="126036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750E-ACBE-4518-9826-2968EAEF1D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DB2C-A74A-4CE6-8821-0BFACAC99F3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лександр Ярославович Невский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ропаевой Насти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0 в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51280" y="0"/>
            <a:ext cx="52927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1256 году на Нарову пришли шведы, Емь, Сумь и начали ставить город. Новгородцы просили помощи у Александра, который и ходил, с суздальскими и новгородскими полками, на Емь, воевал поморье и много вреда учинил неприятельской стране. Возвратившись из похода, он оставил князем за себя в Новгороде сына Василия, а сам уехал во Владимир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Picture 4" descr="180px-NevskyPapalLegates"/>
          <p:cNvPicPr/>
          <p:nvPr/>
        </p:nvPicPr>
        <p:blipFill>
          <a:blip r:embed="rId1"/>
          <a:stretch/>
        </p:blipFill>
        <p:spPr>
          <a:xfrm>
            <a:off x="0" y="620640"/>
            <a:ext cx="4070520" cy="46800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Times New Roman"/>
              </a:rPr>
              <a:t>Политика по отношению к Золотой Орде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Picture 4" descr="300px-Alexander_Nevsky_1942"/>
          <p:cNvPicPr/>
          <p:nvPr/>
        </p:nvPicPr>
        <p:blipFill>
          <a:blip r:embed="rId1"/>
          <a:stretch/>
        </p:blipFill>
        <p:spPr>
          <a:xfrm>
            <a:off x="1908000" y="1844640"/>
            <a:ext cx="6124680" cy="35719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60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сле смерти отца, в 1247 году Александр поехал в Орду к хану Батыю. Оттуда вместе с ранее прибывшим братом Андрем он был отправлен к великому хану в Монголию. Два года потребовалось им на это путешествие. В их отсутствие брат их, Михаил Хороборит Московский, отнял у дяди Святослава Всеволодовича владимирское великое княжение в 1248 году, но в том же году погиб в походе на Литву в битве на реке Протве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371600" y="-360"/>
            <a:ext cx="777240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 смерти Святослава Александр и Андрей явились старейшими в роде, кроме Владимира Углицкого, умершего в 1249 году. Будучи сильнее Владимира, Ярославичи могли соперничать только друг с другом. И летописец отмечает, что у них была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«пря велия о великом княжении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В итоге власть над русскими землями была разделена. Андрей получил Владимир, а Александр — Киев. Современные историки расходятся в оценке того, кому из братьев принадлежало формальное старшинство. Киев после татарского разорения потерял всякое значение; поэтому Александр в него не поехал, а поселился в Новгороде 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4824360" cy="69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Times New Roman"/>
              </a:rPr>
              <a:t>В 1252 году против Андрея были двинуты татарские полчища под предводительством царевича Неврюя. Андрей, в союзе с братом, Ярославом Тверским, выступил против татар, но был разбит и через Новгород бежал в Швецию. Это была первая попытка открытого противодействия монголо-татарам в Северо-Восточной Руси, и она закончилась неудачей. После бегства Андрея великое княжение владимирское, по воле хана, перешло к Александру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Picture 4" descr="aleksandr_nevskiy6"/>
          <p:cNvPicPr/>
          <p:nvPr/>
        </p:nvPicPr>
        <p:blipFill>
          <a:blip r:embed="rId1"/>
          <a:stretch/>
        </p:blipFill>
        <p:spPr>
          <a:xfrm>
            <a:off x="5705640" y="1484280"/>
            <a:ext cx="3438360" cy="422136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41928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aeaea"/>
                </a:solidFill>
                <a:latin typeface="Times New Roman"/>
              </a:rPr>
              <a:t>В 1255 году новгородцы изгнали от себя старшего сына Александра Василия и призвали Ярослава Ярославича Тверского. Невский же силою заставил их снова принять Василия и неугодного ему посадника Анания, поборника новгородской вольности, заменил услужливым Михалкой Степановичем. В 1257 году в Новгороде произошли волнения вследствие требования ханом поголовной переписи и дани с непокорённой им Новгородской земли, как с земель покорённых — Суздальской, Муромской и Рязанской. Большие люди, с посадником Михалкой, уговаривали новгородцев покориться воле хана, но меньшие и слышать о том не хотели. Михалко был убит. Князь Василий, разделяя чувства меньших, но не желая ссориться с отцом, ушёл в Псков. В Новгород явился сам Александр Невский с татарскими послами, выгнал сына в </a:t>
            </a:r>
            <a:r>
              <a:rPr b="0" i="1" lang="ru-RU" sz="2100" spc="-1" strike="noStrike">
                <a:solidFill>
                  <a:srgbClr val="eaeaea"/>
                </a:solidFill>
                <a:latin typeface="Times New Roman"/>
              </a:rPr>
              <a:t>«Низ»</a:t>
            </a:r>
            <a:r>
              <a:rPr b="0" lang="ru-RU" sz="2100" spc="-1" strike="noStrike">
                <a:solidFill>
                  <a:srgbClr val="eaeaea"/>
                </a:solidFill>
                <a:latin typeface="Times New Roman"/>
              </a:rPr>
              <a:t>, то есть Суздальскую землю, советчиков его схватил и наказал (</a:t>
            </a:r>
            <a:r>
              <a:rPr b="0" i="1" lang="ru-RU" sz="2100" spc="-1" strike="noStrike">
                <a:solidFill>
                  <a:srgbClr val="eaeaea"/>
                </a:solidFill>
                <a:latin typeface="Times New Roman"/>
              </a:rPr>
              <a:t>«овому носа урезаша, а иному очи выимаша»</a:t>
            </a:r>
            <a:r>
              <a:rPr b="0" lang="ru-RU" sz="2100" spc="-1" strike="noStrike">
                <a:solidFill>
                  <a:srgbClr val="eaeaea"/>
                </a:solidFill>
                <a:latin typeface="Times New Roman"/>
              </a:rPr>
              <a:t>) и посадил князем к ним второго своего сына, Дмитрия.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Picture 4" descr="nevsky"/>
          <p:cNvPicPr/>
          <p:nvPr/>
        </p:nvPicPr>
        <p:blipFill>
          <a:blip r:embed="rId1"/>
          <a:stretch/>
        </p:blipFill>
        <p:spPr>
          <a:xfrm>
            <a:off x="0" y="765000"/>
            <a:ext cx="3718080" cy="54453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58 году Невский ездил в Орду «чтить» ханского наместника Улавчия, а в 1259 году, угрожая татарским погромом, добился от новгородцев согласия на перепись населения и на поголовную дань. Своей покорностью Александр спас русскую землю от разгрома даже и тогда, когда в 1262 году во Владимире, Суздале, Ростове, Переяславле, Ярославле и других городах были перебиты татарские откупщики дан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Сарайский хан Берке в 1262 г. потребовал произвести военный набор среди жителей Руси, поскольку возникла угроза его владениям со стороны иранского правителя Хулагу. Александр Невский отправился в Орду, чтобы попытаться отговорить хана от этого требования. Там Александр заболел. Уже будучи больным, он выехал на Русь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81010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Приняв схиму под именем Алексия, он 14 ноября 1263 года скончался в Городце волжском. Митрополит Кирилл возвестил народу во Владимире о его смерти словами: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Чада моя милая, разумейте, яко заиде солнце Русской земли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, и все с плачем воскликнули: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уже погибаем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Соблюдение Русской земли,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 — говорит знаменитый историк Сергей Соловьёв, —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от беды на востоке, знаменитые подвиги за веру и землю на западе доставили Александру славную память на Руси и сделали его самым видным историческим лицом в древней истории от Мономаха до Донского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Александр сделался любимым князем духовенства. В дошедшем до нас летописном сказании о подвигах его говорится, что он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Богом рожен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Побеждая везде, он никем не был побеждён. Рыцарь, пришедший с запада посмотреть Невского, рассказывал, что он прошёл много стран и народов, но нигде не видал такого </a:t>
            </a:r>
            <a:r>
              <a:rPr b="0" i="1" lang="ru-RU" sz="2300" spc="-1" strike="noStrike">
                <a:solidFill>
                  <a:srgbClr val="eaeaea"/>
                </a:solidFill>
                <a:latin typeface="Times New Roman"/>
              </a:rPr>
              <a:t>«ни в царях царя, ни в князьях князя»</a:t>
            </a: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. Такой же отзыв будто бы дал о нём и сам хан татарский, а женщины татарские его именем пугали детей.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eaeaea"/>
                </a:solidFill>
                <a:latin typeface="Times New Roman"/>
              </a:rPr>
              <a:t>Изначально похоронен Алекcандр Невский в Рождественском монастыре во Владимире. В 1724 году по приказу Петра I мощи Александра Невского торжественно перенесены в Александро-Невскую лавру в Санкт-Петербурге.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емь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105264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упруга — Александра, дочь Брячислава Полоцког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ыновья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асилий (до 1245—1271) — новгородский князь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митрий (1250—1294) — Князь Новгородский (1260—1263), князь переяславский, великий князь владимирский в 1276—1281 и 1283—1293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Андрей (ок. 1255—1304) — князь костромской в (1276—1293), (1296—1304), великий князь владимирский (1281—1284, 1292—1304), князь новгородский в (1281—1285, 1292—1304), князь городецкий в (1264—1304)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аниил (1261—1303) — первый князь московский (1263—1303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очери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Евдокия, ставшая женой Константина Ростиславича Смоленского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Times New Roman"/>
              </a:rPr>
              <a:t>Оценка личности и результат правлени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817236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Times New Roman"/>
              </a:rPr>
              <a:t>Историки высказывают как положительные, так и отрицательные оценки деятельности Александра Невского. Согласно традиционной трактовке Александр Невский сыграл исключительную роль в русской истории, в драматический период, когда Русь подверглась удару с трёх сторон: католического Запада, монголо-татар и Литвы. Александр Невский, за всю жизнь не проигравший ни одной битвы, проявил талант полководца и дипломата, отразив нападение немцев и, подчинившись неизбежному владычеству Орды, предотвратил разорительные походы татар на Русь. Скептически настроенные историки (Игорь Данилевский, Сергей Смирнов) считают, что традиционный образ Александра Невского — как гениального полководца и «патриота» слишком преувеличен. Они акцентируют внимание на свидетельствах, в которых Александр Ярославович выступает властолюбивым и жестоким человеком. Также ими высказываются сомнения насчёт масштаба ливонской угрозы Руси и реального военного значения столкновений на Неве и Чудском озере.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31640" y="475920"/>
            <a:ext cx="384804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Князь Новгородский и Владимирский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236 -126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редшественник: Ярослав Всеволодович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реемник: Дмитрий Александрович Переяславский 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ероисповедание: Православи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Рождение:30 мая 1221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ереславль-Залесский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мерть:14 ноября 126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Похоронен: Рождественский монастырь, в 1724 году перезахоронен Александро-Невской лавр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инастия: Рюрикович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Отец: Ярослав Всеволодович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Мать: Ростислава Мстиславна Смоленска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Супруга: Александра Брячиславовна Полоцка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Дети: сыновья: Василий, Дмитрий, Андрей и Даниил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6" name="Picture 4" descr="Александр Ярославич"/>
          <p:cNvPicPr/>
          <p:nvPr/>
        </p:nvPicPr>
        <p:blipFill>
          <a:blip r:embed="rId1"/>
          <a:stretch/>
        </p:blipFill>
        <p:spPr>
          <a:xfrm>
            <a:off x="5281560" y="1052640"/>
            <a:ext cx="3624480" cy="47527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Канонизац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Picture 4" descr="Alexander_Newski"/>
          <p:cNvPicPr/>
          <p:nvPr/>
        </p:nvPicPr>
        <p:blipFill>
          <a:blip r:embed="rId1"/>
          <a:stretch/>
        </p:blipFill>
        <p:spPr>
          <a:xfrm>
            <a:off x="5883120" y="1341360"/>
            <a:ext cx="3051360" cy="4680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6920" y="980640"/>
            <a:ext cx="475308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Канонизирован Русской православной церковью в лике благоверных при митрополите Макарии на Московском Соборе 1547 года. Память: 23 ноября и 30 августа. Дни празднования святого Александра Невского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3 мая— Собор Ростово-Ярославских святых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30 августа— день перенесения мощей в Санкт-Петербург (1724) — главный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14 ноября— день кончины в Городце (1263) — отменён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23 ноября— день погребения во Владимире, в схиме Алексия (1263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6084720" y="6021000"/>
            <a:ext cx="32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Икона святого благоверного князя Александра Невского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Память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05228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наше время именем Александра Невского названы церкви, улицы, площади и памятники, посвященные ему. Например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Picture 4" descr="180px-AlNevskiYaltaVxod"/>
          <p:cNvPicPr/>
          <p:nvPr/>
        </p:nvPicPr>
        <p:blipFill>
          <a:blip r:embed="rId1"/>
          <a:stretch/>
        </p:blipFill>
        <p:spPr>
          <a:xfrm>
            <a:off x="1316160" y="2924280"/>
            <a:ext cx="2635200" cy="3529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825120" y="6490440"/>
            <a:ext cx="35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Храм Александра Невского в Ялт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1" name="Picture 6" descr="220px-AlexanderNevskiCathedral"/>
          <p:cNvPicPr/>
          <p:nvPr/>
        </p:nvPicPr>
        <p:blipFill>
          <a:blip r:embed="rId2"/>
          <a:stretch/>
        </p:blipFill>
        <p:spPr>
          <a:xfrm>
            <a:off x="5003640" y="3429000"/>
            <a:ext cx="3969000" cy="29764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5146920" y="6490440"/>
            <a:ext cx="37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Храм Александра Невского в Софии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imes New Roman"/>
              </a:rPr>
              <a:t>Памятник в Санкт-Петербурге (Усть-Ижора)</a:t>
            </a:r>
            <a:endParaRPr b="0" lang="en-US" sz="1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Picture 4" descr="200px-Alexander_Nevsky_2"/>
          <p:cNvPicPr/>
          <p:nvPr/>
        </p:nvPicPr>
        <p:blipFill>
          <a:blip r:embed="rId1"/>
          <a:stretch/>
        </p:blipFill>
        <p:spPr>
          <a:xfrm>
            <a:off x="3660840" y="0"/>
            <a:ext cx="3201840" cy="609588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Молодые годы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560" y="980640"/>
            <a:ext cx="810108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торой сын великого князя киевского и владимирского Ярослава Всеволодовича от второго брака с </a:t>
            </a:r>
            <a:r>
              <a:rPr b="0" lang="ru-RU" sz="2000" spc="-1" strike="noStrike" u="sng">
                <a:solidFill>
                  <a:srgbClr val="eaeaea"/>
                </a:solidFill>
                <a:uFillTx/>
                <a:latin typeface="Times New Roman"/>
              </a:rPr>
              <a:t>Ростиславой-Феодосией 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Мстиславовной. Родился в Переяславле-Залесском в мае 1221 года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1225 году Ярослав </a:t>
            </a:r>
            <a:r>
              <a:rPr b="0" i="1" lang="ru-RU" sz="2000" spc="-1" strike="noStrike">
                <a:solidFill>
                  <a:srgbClr val="eaeaea"/>
                </a:solidFill>
                <a:latin typeface="Times New Roman"/>
              </a:rPr>
              <a:t>«учинил сыновьям княжеский постриг»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 — обряд посвящения в воины, который совершил в Спасо-Преображенском соборе Переяславля-Залесского епископ Суздальский святитель Симон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</a:rPr>
              <a:t>В 1228 году Александр вместе со старшим братом Фёдором были оставлены отцом в Новгороде под присмотром Фёдора Даниловича и тиуна Якима, вместе с Переяславльским войском собиравшимся летом в поход на Ригу, но во время голода, наступившего зимой этого года, Фёдор Данилович и тиун Якима, не дождавшись ответа Ярослава о просьбе новгородцев об отмене забожничья, в феврале 1229 года сбежали с малолетними княжичами из города, опасаясь расправы восставшими новгородцами. В 1230 году, когда новгородцы призвали великого князя Ярослава, он побыв две недели в Новгороде, посадил на княжение в Новгородской земле Фёдора и Александра, однако три года спустя, в тринадцатилетнем возрасте, Фёдор умер. В 1234 году состоялся первый поход Александра на ливонских немцев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Отражение агрессии с запад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2" name="Picture 4" descr="300px-Rus-1240-nevski"/>
          <p:cNvPicPr/>
          <p:nvPr/>
        </p:nvPicPr>
        <p:blipFill>
          <a:blip r:embed="rId1"/>
          <a:stretch/>
        </p:blipFill>
        <p:spPr>
          <a:xfrm>
            <a:off x="2556000" y="1052640"/>
            <a:ext cx="5473440" cy="46116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4140360" y="58046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Карта 1239—124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36 Ярослав уехал из Переяславля княжить в Киев. С этого времени начинается самостоятельность Александра. Юный князь должен был оборонять Новгородскую землю от шведов, ливонцев и Литвы — традиционных врагов Новгородской земли. Борьба с ливонцами и со шведами являлась, вместе с тем, борьбой православного Востока с католическим Западо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37 году разрозненные силы ливонцев — тевтонского ордена и меченосцев — объединились против русских, а с востока пришли монголо-татары, которые, разорив Северо-Восточную Русь, вторглись и в пределы Новгородской земли, взяв Торжок. Однако до Новгорода они не дошли, повернув на юг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00000" y="-360"/>
            <a:ext cx="8244000" cy="710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 1239 году Александр женился на Александре, приступил к укреплению западной границы Новгородской земли по реке Шелони. В следующем году немцы подступили к Пскову, а шведы, двинулись на Новгород, под предводительством самого правителя страны, королевского зятя ярла Биргера. Согласно русским источникам, Биргер прислал Александру объявление войны, гордое и надменное: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«Если можешь, сопротивляйся, знай, что я уже здесь и пленю землю твою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С сравнительно небольшой дружиною новгородцев и ладожан Александр ночью 15 июля 1240 года врасплох напал на шведов Биргера, когда они при устье Ижоры, остановились лагерем для отдыха, и нанёс им полное поражение - Невская битва. Сам сражаясь в первых рядах, Александр </a:t>
            </a:r>
            <a:r>
              <a:rPr b="0" i="1" lang="ru-RU" sz="2800" spc="-1" strike="noStrike">
                <a:solidFill>
                  <a:srgbClr val="eaeaea"/>
                </a:solidFill>
                <a:latin typeface="Times New Roman"/>
              </a:rPr>
              <a:t>«неверному кралю их возложил остриём меча печать на челе»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. Победа в этой битве продемонстрировала талант и силу Александр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Тем не менее, новгородцы,  в том же году успели рассориться с Александром, и он удалился к отцу, который дал ему на княжество Переяславль-Залесский. Между тем на Новгород надвигались ливонские немцы. Рыцари осадили Псков и вскоре, взяли его, воспользовавшись предательством среди осаждённых. В город были посажены два немецких фогта, что стало беспрецедентным случаем в истории ливонско-новгородских конфликтов. Затем ливонцы повоевали и обложили данью вожан, построили крепость в Копорье, взяли город Тёсов, разграбили земли по реке Луге и стали грабить новгородских купцов в 30 верстах от Новгорода. Новгородцы обратились к Ярославу за князем; он дал им второго своего сына - Андрея. Это не удовлетворило их. Они отправили второе посольство просить Александра. В 1241 году Александр явился в Новгород и очистил его область от врагов, а в следующем году вместе с Андреем двинулся на помощь Пскову. Освободив город, Александр направился в Чудскую землю, во владения ордена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5 апреля 1242 года произошла битва на Чудском озере. Сражение это известно как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Ледовое побоище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 Перед битвой князь Александр велел своим дружинникам снять железные доспехи. Хитрым манёвром закованных в железо вражеских воинов заманили на лёд. Согласно новгородской летописи русские 7 вёрст гнали немцев по льду. По данным ливонской хроники потери ордена составили 20 убитых и 6 пленных рыцарей, что согласуется с Новгородской летописью, которая сообщает, что ливонский орден потерял 400—500 «немец» убитыми и 50 пленными —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и паде Чюди бещисла, а Немець 400, а 50 руками яша и приведоша в Новгородъ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 Учитывая, что на каждого полноправного рыцаря приходилось 10-15 воинов более низкого ранга, можно считать, что данные Ливонской хроники и данные Новгородской летописи хорошо подтверждают друг друг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771280" y="0"/>
            <a:ext cx="637236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Целым рядом побед в 1242 и 1245 годах Александр отразил набеги Литвы, возглавляемой князем Миндовгом. По сказанию летописца, литовцы впали в такой страх, что стали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блюстися имени его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Шестилетняя победоносная защита Александром северной Руси привела к тому, что немцы, по мирному договору, отказались от всех недавних завоеваний и уступили ему часть Летголии. Есть известие, что папа Иннокентий IV в 1251 году прислал к Александру Невскому двух кардиналов с буллой, написанной в 1248 году. Папа, обещая помощь ливонцев в борьбе с татарами, убеждал Александра пойти по примеру отца, согласившегося будто бы подчиниться римскому престолу. По рассказу летописца, Невский, посоветовавшись с мудрыми людьми, изложил всю историю Руси и в заключение сказал: </a:t>
            </a:r>
            <a:r>
              <a:rPr b="0" i="1" lang="ru-RU" sz="2400" spc="-1" strike="noStrike">
                <a:solidFill>
                  <a:srgbClr val="eaeaea"/>
                </a:solidFill>
                <a:latin typeface="Times New Roman"/>
              </a:rPr>
              <a:t>«си вся съведаем добре, а от вас учения не приимаем»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Picture 4" descr="011"/>
          <p:cNvPicPr/>
          <p:nvPr/>
        </p:nvPicPr>
        <p:blipFill>
          <a:blip r:embed="rId1"/>
          <a:stretch/>
        </p:blipFill>
        <p:spPr>
          <a:xfrm>
            <a:off x="0" y="1989000"/>
            <a:ext cx="3187800" cy="24526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6:31:31Z</dcterms:created>
  <dc:creator>Дети</dc:creator>
  <dc:description/>
  <cp:keywords/>
  <dc:language>en-US</dc:language>
  <cp:lastModifiedBy>LEGION</cp:lastModifiedBy>
  <dcterms:modified xsi:type="dcterms:W3CDTF">2015-01-14T10:09:48Z</dcterms:modified>
  <cp:revision>6</cp:revision>
  <dc:subject/>
  <dc:title>Александр Ярославович Невск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71049</vt:lpwstr>
  </property>
</Properties>
</file>