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567-5996-4123-979E-2E3003FAF9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крепостного права в России в 186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кие ре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подаватель ис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У «Гимназия №1», г.Новомосков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нова Ия Юрье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2933-63F9-4DE7-9FB3-A3D7E61E0E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ременнообязанный крестьян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Временнообязанное по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хранялось до тех пор, пока крестьянин не начинал процедуру выкуп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а выкупа начиналась с 19февраля 186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1г. «Положение» об обязательном переводе оставшихся крестьян на выку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80F5-8976-4879-AFE8-5A1974ADED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мер участка, меньше которого помещик не должен был предлагать крестьяни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Max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 участка, больше которого крестьянин не должен требовать у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«отрезки»;    «прирез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ставная грамота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говор помещика и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«Дарственный надел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ировые посредники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E2B1-797E-4562-8F7F-93D4CA485B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33"/>
                </a:solidFill>
                <a:latin typeface="Calibri"/>
              </a:rPr>
              <a:t>Г.Г.Мясоедов «Чтение Манифеста 19 февраля 1861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1861г.- 1959крестьянских вол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стания в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Безд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во главе Антон Петров)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ндеевк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закончились расстр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168A-859C-4A13-877D-CEB445F6E9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Значение и итоги крестьянской реформ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а необходимые условия для утверждения капитал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росту темпов экономического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отменой крепостного права последовали и другие реформы 60-70-х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2B5-CCF9-4D02-88BB-D559B595B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33"/>
                </a:solidFill>
                <a:latin typeface="Calibri"/>
              </a:rPr>
              <a:t>Реформа была крайне непоследовательной и противоречиво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73D1-2DF9-4E28-8502-BBC0993FEF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Имущественный цен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Многостепенные выб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660033"/>
                </a:solidFill>
                <a:uFillTx/>
                <a:latin typeface="Calibri"/>
              </a:rPr>
              <a:t>Прямые выбор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B22-22EE-4811-9546-FA8B4239F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́ндр II Никола́е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Император Всероссий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Польский и великий князь Финляндский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85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188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 династи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манов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 императорской четы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Николая Павл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Александры Фёдоро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шёл в русскую историю как проводник широкомасштаб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остоен особого эпитета в русской дореволюционной историографии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ободи́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 связи с отменой крепостного прав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иб в результате террористического акта, организованного партией «Народная воля» 1марта 1881г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0C9E-2EC0-45B5-ABA4-535F14EA8F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есмотря на всю прогрессивность реформа имела недостат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ернатор имел право исключать из списков присяжных заседателей неугод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112-2F2A-416F-8EC2-19CEBFAF37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се мужское население подлежит воинской повинности, </a:t>
            </a:r>
            <a:r>
              <a:rPr b="0" lang="ru-RU" sz="1200" spc="-1" strike="noStrike" u="sng">
                <a:solidFill>
                  <a:srgbClr val="663300"/>
                </a:solidFill>
                <a:uFillTx/>
                <a:latin typeface="Calibri"/>
              </a:rPr>
              <a:t>денежный выкуп не допуск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с образованием право выбора без жреб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льноопределя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роки служб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ухопутные в-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5 лет ( 6-дествительной; 9- в запа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ло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лет ( 7действительной; 3 в запас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енных условиях остаются на службе по необходимости, призывной возраст до 43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0C72-2D9A-4939-B700-AC1CE7F70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олнитель-ные орг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ородской голова и Городские упра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дстави-тельные (распоряди-тельные) органы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одская Д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Функци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озяйственные, благо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9546-C63A-4881-BDEF-9AB6E6B4E0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форма провозглашала принцип общечеловеческого образования и всесослов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 перестройка школы не привела к полной демократизации образ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упна классическая школа для низших слоев ( высокая пла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8BDA-C9C9-49B1-8B4F-33E2566DB5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репостное право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чины отмены крепо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низкая производительность крепостного труда, нерентабельность хозя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.п.- угроза общественного спокойствия (рост крестьянских волнен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1954-248E-4935-BB7C-18553AC4B6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крипт – письмо монарха к под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B596-1AA9-4E50-A9ED-2EE7AFE103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Calibri"/>
              </a:rPr>
              <a:t>Проекты освобождения крестьян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крестьян без земли или с очень маленьким наделом за большой выку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нечерноземных губер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освобождение с землей, но выкуп не только за землю, но и за личность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977E-779D-4528-8493-C0A423B0A3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19 февраля 1861г.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«Манифест об освобождении помещичьих крестьян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Положения о крестьянах, вышедших из крепостной зависим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лась личная своб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7A50-E68D-409C-AA9F-17177F760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Гражданские пра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 производить сделки с движимым и недвижимым имуществом (покупка, продаж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) открывать торговые и промышленные предприя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3) выступать от своего имени в су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) переходить в другие сосло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45A-EEF2-480D-99AD-06558F465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упная опе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C05-E590-4BE7-8DC4-ACC78D9299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950-2A08-40C8-AAF0-A1FF1A49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D83-1CA4-4A1F-A476-C5F7571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0D8-625B-4DC6-B7ED-2CA10F6B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759-C2CE-49AC-862D-356B5381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210D-C1D5-4234-AC8C-0401BEDC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D0CD-C739-4D80-ACE2-4ADE074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4EA-F3C4-4062-AFA0-9DF2A960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CE54-0033-48A8-93E3-2AC7E96C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182-B7B4-41CB-8F33-B32AAB95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9570-A385-4AE3-8EBE-AA520583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73D-8C14-4F60-B754-7D014D1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C1F-F28F-4738-A9DF-4893A737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460-F18E-4F46-B96D-CD7A1F05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50C1-763C-469F-BB79-71A3BB0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CF1-88C8-40AA-8266-1D29178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7E1D-3A27-40A9-A14A-75ED7F5C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817-11F8-44D6-91F7-5EA79FDB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2311-8813-43DE-A6A4-97D4CA3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4A9-6FF8-46B6-8B15-6C94C3A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F78-8AD6-40A9-AFE2-A56983E0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5F9-5109-441E-9978-12608D7B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C47-EF06-4D9D-9C7E-B45B60B9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C29-E94E-4547-ABD6-78CAD92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E43-F109-4E61-925B-0C6A0F6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8430-B1F6-4744-BE0B-D30C4B0FC8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912A-59F2-4D66-93FB-7C78CB2B0F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11.ru/mjasoedov_grigorii_grigorevich/5b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art11.ru/mjasoedov_grigorii_grigorevich/5b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inakoteka.ru/blog/wp-content/uploads/2009/11/dhoenynfdhdhudhdhdh-dhdh-dhndhudhdhdhu-dhdhdhdhndhunfndh-19-ndhudhndhdhny-1861-dhdhdhdh-1873-dh-dhndhnnndhdh-1960-dh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84;&#1087;&#1077;&#1088;&#1072;&#1090;&#1086;&#1088;_&#1042;&#1089;&#1077;&#1088;&#1086;&#1089;&#1089;&#1080;&#1081;&#1089;&#1082;&#1080;&#1081;" TargetMode="External"/><Relationship Id="rId2" Type="http://schemas.openxmlformats.org/officeDocument/2006/relationships/hyperlink" Target="http://ru.wikipedia.org/wiki/1855" TargetMode="External"/><Relationship Id="rId3" Type="http://schemas.openxmlformats.org/officeDocument/2006/relationships/hyperlink" Target="http://ru.wikipedia.org/wiki/1881" TargetMode="External"/><Relationship Id="rId4" Type="http://schemas.openxmlformats.org/officeDocument/2006/relationships/hyperlink" Target="http://ru.wikipedia.org/wiki/&#1056;&#1086;&#1084;&#1072;&#1085;&#1086;&#1074;&#1099;" TargetMode="External"/><Relationship Id="rId5" Type="http://schemas.openxmlformats.org/officeDocument/2006/relationships/hyperlink" Target="http://ru.wikipedia.org/wiki/&#1053;&#1080;&#1082;&#1086;&#1083;&#1072;&#1081;_I" TargetMode="External"/><Relationship Id="rId6" Type="http://schemas.openxmlformats.org/officeDocument/2006/relationships/hyperlink" Target="http://ru.wikipedia.org/wiki/&#1040;&#1083;&#1077;&#1082;&#1089;&#1072;&#1085;&#1076;&#1088;&#1072;_&#1060;&#1105;&#1076;&#1086;&#1088;&#1086;&#1074;&#1085;&#1072;_(&#1078;&#1077;&#1085;&#1072;_&#1053;&#1080;&#1082;&#1086;&#1083;&#1072;&#1103;_I)" TargetMode="External"/><Relationship Id="rId7" Type="http://schemas.openxmlformats.org/officeDocument/2006/relationships/hyperlink" Target="http://ru.wikipedia.org/wiki/&#1056;&#1077;&#1092;&#1086;&#1088;&#1084;&#1099;_&#1040;&#1083;&#1077;&#1082;&#1089;&#1072;&#1085;&#1076;&#1088;&#1072;_II" TargetMode="External"/><Relationship Id="rId8" Type="http://schemas.openxmlformats.org/officeDocument/2006/relationships/hyperlink" Target="http://ru.wikipedia.org/wiki/&#1048;&#1089;&#1090;&#1086;&#1088;&#1080;&#1086;&#1075;&#1088;&#1072;&#1092;&#1080;&#1103;" TargetMode="External"/><Relationship Id="rId9" Type="http://schemas.openxmlformats.org/officeDocument/2006/relationships/hyperlink" Target="http://ru.wikipedia.org/wiki/&#1058;&#1077;&#1088;&#1088;&#1086;&#1088;&#1080;&#1079;&#1084;" TargetMode="External"/><Relationship Id="rId10" Type="http://schemas.openxmlformats.org/officeDocument/2006/relationships/hyperlink" Target="http://ru.wikipedia.org/wiki/&#1053;&#1072;&#1088;&#1086;&#1076;&#1085;&#1072;&#1103;_&#1074;&#1086;&#1083;&#1103;" TargetMode="External"/><Relationship Id="rId11" Type="http://schemas.openxmlformats.org/officeDocument/2006/relationships/hyperlink" Target="http://ru.wikipedia.org/wiki/&#1060;&#1072;&#1081;&#1083;:Alexander_II_of_Russia_(Nikolay_Lavrov_01).jpg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66"/>
                </a:solidFill>
                <a:latin typeface="Arial"/>
              </a:rPr>
              <a:t>Отмена крепостного права в России в 1861г.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кие рефор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ександ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подава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Гимназия №1», г.Новомосковс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а Ия Юр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Picture 4" descr="image001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56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Arial"/>
              </a:rPr>
              <a:t>Временнообязанный крестьянин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лично свободный крестьянин, вынужденный выполнять все свои повинности перед помещиком до перехода на выкуп.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Временнообязанное полож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охранялось до тех пор, пока крестьянин не начинал процедуру выкуп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дура выкупа начиналась с 19февраля 1863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1881г. «Положение» об обязательном переводе оставшихся крестьян на выку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785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М</a:t>
            </a: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i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мер участка, меньше которого помещик не должен был предлагать крестьянин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80"/>
                </a:solidFill>
                <a:latin typeface="Arial"/>
              </a:rPr>
              <a:t>Ma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мер участка, больше которого крестьянин не должен требовать у помещ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«отрезки»;    «прире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ставная грамота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говор помещика и крестьяни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33"/>
                </a:solidFill>
                <a:latin typeface="Arial"/>
              </a:rPr>
              <a:t>«Дарственный надел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 ¼ часть от высшей нормы земельного надела, которую крестьянин мог получить бесплат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ировые посредники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олжностное лицо из дворян, назначался для составления и утверждения уставных грамот и разбора споров между крестьянами и помещиками. Обладал судебно-административной власть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Г.Г.Мясоедов «Чтение Манифеста 19 февраля 1861г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 1861г.- 1959крестьянских вол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осстания в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Бездн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(во главе Антон Петров) и </a:t>
            </a: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Кандеевк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закончились расстрел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5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5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320" y="23211000"/>
            <a:ext cx="14849640" cy="9677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Чтение манифеста 19 февраля 1861 года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0"/>
            <a:ext cx="7885080" cy="5021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Значение и итоги крестьянской реформы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ла необходимые условия для утверждения капитализм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росту темпов экономического развит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ствовала складыванию новой социальной структуры, появлению новых социальных слоев – пролетариата и промышленной буржуазии; изменению самого крестьян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 отменой крепостного права последовали и другие реформы 60-70-хг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Реформа была крайне непоследовательной и противоречивой: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а ущемила экономические интересы помещиков, ликвидировала их монополию на эксплуатацию крестьянского труда, являясь сильнейшим нравственным потрясением для помещ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форма носила грабительский характер по отношению к крестьянам, в ряде случаев способствовала ухудшению их полож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>
            <a:off x="6443640" y="6093000"/>
            <a:ext cx="1441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image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Имущественный цен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избирательное право предоставляется только гражданам, имеющим имущество определенной стоимо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Многостепенные выбор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избирательная система, при которой депутаты представительного органа избираются нижестоящими выборными органами или избирательными коллегиями, в состав которых входят избранные населением выборщики или депутаты нижестоящих представительных орган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Прямые выборы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рядок проведения выборов, при котором избиратели прямо и непосредственно избирают депутатов в представительные орга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4" descr="image001"/>
          <p:cNvPicPr/>
          <p:nvPr/>
        </p:nvPicPr>
        <p:blipFill>
          <a:blip r:embed="rId1"/>
          <a:stretch/>
        </p:blipFill>
        <p:spPr>
          <a:xfrm>
            <a:off x="111600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42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28472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лекса́ндр II Никола́евич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Император Всероссийск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арь Польский и великий князь Финляндский (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185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188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династи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Романов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рший сын императорской четы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Николая Павлович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Александры Фёдоров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шёл в русскую историю как проводник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широкомасштабных рефор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достоен особого эпитета в русской дореволюционной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историограф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вободи́тел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в связи с отменой крепостного прав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гиб в результате 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террористического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акта, организованного партией «</a:t>
            </a:r>
            <a:r>
              <a:rPr b="0" lang="ru-RU" sz="22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Народная вол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» 1марта 1881г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Александр II Николаевич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0920" y="1197000"/>
            <a:ext cx="3871800" cy="4535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4" name="Picture 4" descr="image001"/>
          <p:cNvPicPr/>
          <p:nvPr/>
        </p:nvPicPr>
        <p:blipFill>
          <a:blip r:embed="rId1"/>
          <a:stretch/>
        </p:blipFill>
        <p:spPr>
          <a:xfrm>
            <a:off x="1187280" y="0"/>
            <a:ext cx="61930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смотря на всю прогрессивность реформа имела 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ение сословных судов ( волостные- мелкие споры между крестьянами; дворянские- исключительно сословные вопросы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граничение в праве быть присяжными заседателями (имущественный ценз, должны занимать государственную или общественную должность). Не могли быть присяжными священники, монахи, военнослужащие, рабоч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убернатор имел право исключать из списков присяжных заседателей неугодных ли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0" name="Picture 4" descr="image001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Все мужское население подлежит воинской повинности, </a:t>
            </a:r>
            <a:r>
              <a:rPr b="0" lang="ru-RU" sz="3000" spc="-1" strike="noStrike" u="sng">
                <a:solidFill>
                  <a:srgbClr val="663300"/>
                </a:solidFill>
                <a:uFillTx/>
                <a:latin typeface="Arial"/>
              </a:rPr>
              <a:t>денежный выкуп не допускает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оруженные силы состоят из постоянных войск и ополчения ( решает жребий – с 1 октября, 21 год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ицам с образованием право выбора без жребия – </a:t>
            </a: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ольноопределяющие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роки службы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Сухопутные в-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5 лет ( 6-дествительной; 9- в запас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Флот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= 10лет ( 7действительной; 3 в запасе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военных условиях остаются на службе по необходимости, призывной возраст до 43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Image1"/>
          <p:cNvPicPr/>
          <p:nvPr/>
        </p:nvPicPr>
        <p:blipFill>
          <a:blip r:embed="rId1"/>
          <a:stretch/>
        </p:blipFill>
        <p:spPr>
          <a:xfrm>
            <a:off x="324000" y="58680"/>
            <a:ext cx="8064360" cy="6680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12000" y="1719360"/>
            <a:ext cx="295272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Исполнитель-ные орга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– Городской голова и Городские управ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Представи-тельные (распоряди-тельные) органы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Городская Ду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80"/>
                </a:solidFill>
                <a:latin typeface="Arial"/>
              </a:rPr>
              <a:t>Функции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хозяйственные, благоустрой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image001"/>
          <p:cNvPicPr/>
          <p:nvPr/>
        </p:nvPicPr>
        <p:blipFill>
          <a:blip r:embed="rId1"/>
          <a:stretch/>
        </p:blipFill>
        <p:spPr>
          <a:xfrm>
            <a:off x="0" y="0"/>
            <a:ext cx="6040440" cy="66690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Picture 4" descr="image001"/>
          <p:cNvPicPr/>
          <p:nvPr/>
        </p:nvPicPr>
        <p:blipFill>
          <a:blip r:embed="rId1"/>
          <a:stretch/>
        </p:blipFill>
        <p:spPr>
          <a:xfrm>
            <a:off x="250920" y="0"/>
            <a:ext cx="785016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форма провозглашала принцип общечеловеческого образования и всесословной школ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Но перестройка школы не привела к полной демократизации образова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доступна классическая школа для низших слоев ( высокая плат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чальное образование имело ограниченный уровень и не получило статуса бесплатного и обязательного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стр образования мог назначать и увольнять преподавателей, утверждать инструкции и правила, существовало сословное деление студентов факультетов (юридический - дворяне, медицинский – разночинцы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-403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репостное право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орма зависимости крестьян, при которой они наделяются землей, неся за пользование ею различные повинности (барщину и оброк) и подчиняются судебной и административной власти помещика. Крестьянин – собственность помещ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780000" y="404640"/>
            <a:ext cx="49068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Причины отмены крепостного пра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низкая производительность крепостного труда, нерентабельность хозяйст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Отсутствие личной свободы у крестьян препятствовало развитию промышленности, нет наемных рабочи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К.п.- угроза общественного спокойствия (рост крестьянских волнений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)Крымская война наглядно показала экономическую и военно-техническую отсталость стр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генерал-губернатору В.И.Назимову о разрешении создать в каждой губернии комитеты для обсуждения вопроса отмены крепостного пра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крипт – письмо монарха к подданном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274680"/>
          <a:ext cx="8229600" cy="5954760"/>
        </p:xfrm>
        <a:graphic>
          <a:graphicData uri="http://schemas.openxmlformats.org/drawingml/2006/table">
            <a:tbl>
              <a:tblPr/>
              <a:tblGrid>
                <a:gridCol w="4402080"/>
                <a:gridCol w="3827520"/>
              </a:tblGrid>
              <a:tr h="113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2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Учреждения,       занимавшиеся подготовкой реформ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бязанност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ый Совет, Секретный комитет с 1858г. Главный комитет по крестьянскому дел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ение обсуждения проекта зако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дакционные комиссии (председатель Я.Ростовцев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ие поправок и изменений в проек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убернские дворянские комитеты об улучшении быта помещичьих крестьян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мотрение материалов,представленных губернскими комитетами составление единого проекта зак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3300"/>
                </a:solidFill>
                <a:latin typeface="Arial"/>
              </a:rPr>
              <a:t>Проекты освобождения крестьян: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80"/>
                </a:solidFill>
                <a:latin typeface="Arial"/>
              </a:rPr>
              <a:t>В 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крестьян без земли или с очень маленьким наделом за большой выкуп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e9ce8"/>
                </a:solidFill>
                <a:latin typeface="Arial"/>
              </a:rPr>
              <a:t>В нечерноземных губерния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вобождение с землей, но выкуп не только за землю, но и за личность крестьян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40000" y="476280"/>
            <a:ext cx="482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80"/>
                </a:solidFill>
                <a:latin typeface="Arial"/>
              </a:rPr>
              <a:t>19 февраля 1861г.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«Манифест об освобождении помещичьих крестьян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«Положения о крестьянах, вышедших из крепостной зависимо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оставлялась личная своб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емля за выкуп- Земля предоставлялась не отдельному крестьянину, а общине (она становилась собственником земл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aldr2"/>
          <p:cNvPicPr/>
          <p:nvPr/>
        </p:nvPicPr>
        <p:blipFill>
          <a:blip r:embed="rId1"/>
          <a:stretch/>
        </p:blipFill>
        <p:spPr>
          <a:xfrm>
            <a:off x="468360" y="765000"/>
            <a:ext cx="3524040" cy="51832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Гражданские права: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 производить сделки с движимым и недвижимым имуществом (покупка, продажа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 открывать торговые и промышленные предприя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3) выступать от своего имени в суд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4) не могут подвергаться телесному наказанию иначе как по приговору суда или законному распоряжению поставленныз над ними влас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5) переходить в другие сослов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122040"/>
            <a:ext cx="746928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Выкупная операция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5:28:40Z</dcterms:created>
  <dc:creator>Админ</dc:creator>
  <dc:description/>
  <dc:language>en-US</dc:language>
  <cp:lastModifiedBy>LEGION</cp:lastModifiedBy>
  <dcterms:modified xsi:type="dcterms:W3CDTF">2015-01-14T10:10:40Z</dcterms:modified>
  <cp:revision>21</cp:revision>
  <dc:subject/>
  <dc:title>Слайд 1</dc:title>
</cp:coreProperties>
</file>