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8F0-B961-458F-8E5D-C8263E17D1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крепостного права в России в 186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ие ре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«Гимназия №1», г.Новомосков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нова Ия Юр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650-C3C4-4B59-A9AE-FD0234105C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ременнообязанный крестьян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ременнообязанное по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лось до тех пор, пока крестьянин не начинал процедуру выкуп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выкупа начиналась с 19февраля 186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1г. «Положение» об обязательном переводе оставшихся крестьян на вы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1F9-C622-465B-BAA2-156AD5A198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мер участка, меньше которого помещик не должен был предлагать крестьяни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Ma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частка, больше которого крестьянин не должен требовать у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«отрезки»;    «прирез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ставная грамота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говор помещика и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Дарственный надел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ировые посредники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34B-39A3-4690-9D99-7208BA88B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Г.Г.Мясоедов «Чтение Манифеста 19 февраля 1861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1861г.- 1959крестьянских вол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стания в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езд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во главе Антон Петров)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ндеевк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закончились расстр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8203-D6A7-4D43-8D85-B7F08C04D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Значение и итоги крестьянской рефор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а необходимые условия для утверждения капитал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росту темпов экономическ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тменой крепостного права последовали и другие реформы 60-70-х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62B9-8D72-4F11-A02C-47A72E049C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Реформа была крайне непоследовательной и противоречиво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0EA7-12CF-476E-9D9E-96FE72F7E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Имущественный цен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Многостепенные выб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Прямые выбор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9474-173A-4426-BEA4-A7A7C42E5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́ндр II Никола́е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мператор Всероссий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Польский и великий князь Финляндский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 династ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 императорской чет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иколая Павл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Александры Фёдоро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ёл в русскую историю как проводник широкомасштаб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ен особого эпитета в русской дореволюционной историографии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ободи́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связи с отменой крепостного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 в результате террористического акта, организованного партией «Народная воля» 1марта 1881г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288-CC02-4A37-BE53-29FB2222A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есмотря на всю прогрессивность реформа имела 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ернатор имел право исключать из списков присяжных заседателей неугод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A2B-A343-40BE-BF5E-A5D3D842DE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се мужское население подлежит воинской повинности, </a:t>
            </a:r>
            <a:r>
              <a:rPr b="0" lang="ru-RU" sz="1200" spc="-1" strike="noStrike" u="sng">
                <a:solidFill>
                  <a:srgbClr val="663300"/>
                </a:solidFill>
                <a:uFillTx/>
                <a:latin typeface="Calibri"/>
              </a:rPr>
              <a:t>денежный выкуп не допуск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с образованием право выбора без жреб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льноопределя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роки служ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ухопутные в-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5 лет ( 6-дествительной; 9- в запа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л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лет ( 7действительной; 3 в запас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енных условиях остаются на службе по необходимости, призывной возраст до 4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73C-4028-49CB-B049-689E15247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олнитель-ные орг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ородской голова и Городские упра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дстави-тельные (распоряди-тельные) орган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одская Д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Функци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озяйственные, благо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DDB9-8FEA-4352-812D-868EB4DFAE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орма провозглашала принцип общечеловеческого образования и всесослов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перестройка школы не привела к полной демократизации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упна классическая школа для низших слоев ( высокая пла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ED6-D5ED-4572-A937-14C114FD5D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репостное право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чины отмены крепо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низкая производительность крепостного труда, нерентабельность хозя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.п.- угроза общественного спокойствия (рост крестьянских волне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D35B-08CE-418B-A73B-E4FF94AF3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– письмо монарха к под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E34-3531-4F90-A9DE-F37836DE0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libri"/>
              </a:rPr>
              <a:t>Проекты освобождения крестьян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крестьян без земли или с очень маленьким наделом за большой выку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не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с землей, но выкуп не только за землю, но и за личность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18C6-C225-4B25-A9ED-9ACF881E8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19 февраля 1861г.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«Манифест об освобождении помещичьих крестьян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Положения о крестьянах, вышедших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лась личная своб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D73-D56F-4C4C-BD9C-EBD69F1B2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Гражданские пра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 производить сделки с движимым и недвижимым имуществом (покупка, продаж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) открывать торговые и промышленные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) выступать от своего имени в су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) переходить в другие со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37B-AA8A-4E63-BBB8-90A197E96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упная опе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2DC-A4E6-4448-9A52-ACEE32DA6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7EE-9A2A-4DE4-BACB-F1FE374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81D-621A-462B-983F-2FB2221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254-3C14-4955-A686-7D52580E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6A6-F4C7-40AF-A42B-42FFA7D5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E7D3-3D7D-4175-A5CA-9D4B6248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7722-C2C0-4AF9-93A2-0BCDD0D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1D93-F0C6-40BD-844D-849E263E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1CBC-00BB-4A44-8077-2358E9A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C2D9-FFF3-42C0-BE29-BAE3474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B5C-4300-4CAD-950A-EBB853F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4E6-9B8F-4351-883B-6F8E22E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C9F-EB59-4FA9-B07A-25D8D42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5FA-F30D-40AF-AFA6-7B5FD16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029-44C3-4149-BFE7-FE561AB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598-182C-4EFD-AC39-81F034B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9307-EF28-40A6-BDA8-DC66AF11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BFB-E813-4471-A74A-B3DC7FED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D57-B9F6-49CE-B319-0A453DB1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C17-F9CE-4535-A2BC-01CD54F3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602-A240-42BB-A965-26E92B0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ACC-FB24-4A73-A585-600BEC95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80B-E52F-4DF6-8ECC-A5BC860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C4F-B667-4372-B2E2-553FF30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358-251E-4442-834F-B1DDCCC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D46-2E9B-4446-9AA3-58DDB88E67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60FA-0C1B-4E77-9B11-A7DEA40299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11.ru/mjasoedov_grigorii_grigorevich/5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rt11.ru/mjasoedov_grigorii_grigorevich/5b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nakoteka.ru/blog/wp-content/uploads/2009/11/dhoenynfdhdhudhdhdh-dhdh-dhndhudhdhdhu-dhdhdhdhndhunfndh-19-ndhudhndhdhny-1861-dhdhdhdh-1873-dh-dhndhnnndhdh-1960-dh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hyperlink" Target="http://ru.wikipedia.org/wiki/&#1040;&#1083;&#1077;&#1082;&#1089;&#1072;&#1085;&#1076;&#1088;&#1072;_&#1060;&#1105;&#1076;&#1086;&#1088;&#1086;&#1074;&#1085;&#1072;_(&#1078;&#1077;&#1085;&#1072;_&#1053;&#1080;&#1082;&#1086;&#1083;&#1072;&#1103;_I)" TargetMode="External"/><Relationship Id="rId7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8" Type="http://schemas.openxmlformats.org/officeDocument/2006/relationships/hyperlink" Target="http://ru.wikipedia.org/wiki/&#1048;&#1089;&#1090;&#1086;&#1088;&#1080;&#1086;&#1075;&#1088;&#1072;&#1092;&#1080;&#1103;" TargetMode="External"/><Relationship Id="rId9" Type="http://schemas.openxmlformats.org/officeDocument/2006/relationships/hyperlink" Target="http://ru.wikipedia.org/wiki/&#1058;&#1077;&#1088;&#1088;&#1086;&#1088;&#1080;&#1079;&#1084;" TargetMode="External"/><Relationship Id="rId10" Type="http://schemas.openxmlformats.org/officeDocument/2006/relationships/hyperlink" Target="http://ru.wikipedia.org/wiki/&#1053;&#1072;&#1088;&#1086;&#1076;&#1085;&#1072;&#1103;_&#1074;&#1086;&#1083;&#1103;" TargetMode="External"/><Relationship Id="rId11" Type="http://schemas.openxmlformats.org/officeDocument/2006/relationships/hyperlink" Target="http://ru.wikipedia.org/wiki/&#1060;&#1072;&#1081;&#1083;:Alexander_II_of_Russia_(Nikolay_Lavrov_01).jpg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тмена крепостного права в России в 1861г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е ре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я №1», г.Новомоск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а Ия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4" descr="image001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56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Временнообязанный крестьян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Временнообязанное поло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ялось до тех пор, пока крестьянин не начинал процедуру выкуп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выкупа начиналась с 19февраля 1863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81г. «Положение» об обязательном переводе оставшихся крестьян на выку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М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мер участка, меньше которого помещик не должен был предлагать крестьяни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a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мер участка, больше которого крестьянин не должен требовать у помещ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«отрезки»;    «прире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ставная грамот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говор помещика и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«Дарственный надел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ировые посредники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Г.Г.Мясоедов «Чтение Манифеста 19 февраля 1861г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 1861г.- 1959крестьянских вол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осстания в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Бездн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во главе Антон Петров) и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Кандеевк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закончились расстрел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5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Чтение манифеста 19 февраля 1861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0"/>
            <a:ext cx="7885080" cy="5021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Значение и итоги крестьянской реформы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ла необходимые условия для утверждения капитализ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росту темпов экономического развит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отменой крепостного права последовали и другие реформы 60-70-х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Реформа была крайне непоследовательной и противоречивой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6443640" y="609300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Имущественный цен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Многостепенные выб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Прямые выборы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image001"/>
          <p:cNvPicPr/>
          <p:nvPr/>
        </p:nvPicPr>
        <p:blipFill>
          <a:blip r:embed="rId1"/>
          <a:stretch/>
        </p:blipFill>
        <p:spPr>
          <a:xfrm>
            <a:off x="1116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2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472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́ндр II Никола́е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Император Всероссий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арь Польский и великий князь Финляндский (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18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188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династи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Роман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ший сын императорской четы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Николая Павлович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Александры Фёдоров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шёл в русскую историю как проводник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широкомасштабных рефор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стоен особого эпитета в русской дореволюционной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сториограф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вободи́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связи с отменой крепостного прав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гиб в результате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террористическ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а, организованного партией «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Народная во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1марта 1881г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Александр II Николаевич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1197000"/>
            <a:ext cx="3871800" cy="4535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image001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смотря на всю прогрессивность реформа имела 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бернатор имел право исключать из списков присяжных заседателей неугодных л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01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Все мужское население подлежит воинской повинности, </a:t>
            </a:r>
            <a:r>
              <a:rPr b="0" lang="ru-RU" sz="3000" spc="-1" strike="noStrike" u="sng">
                <a:solidFill>
                  <a:srgbClr val="663300"/>
                </a:solidFill>
                <a:uFillTx/>
                <a:latin typeface="Arial"/>
              </a:rPr>
              <a:t>денежный выкуп не допускае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цам с образованием право выбора без жребия – </a:t>
            </a: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ольноопределяющие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роки служб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Сухопутные в-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5 лет ( 6-дествительной; 9- в запас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Фл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0лет ( 7действительной; 3 в запас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оенных условиях остаются на службе по необходимости, призывной возраст до 43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Image1"/>
          <p:cNvPicPr/>
          <p:nvPr/>
        </p:nvPicPr>
        <p:blipFill>
          <a:blip r:embed="rId1"/>
          <a:stretch/>
        </p:blipFill>
        <p:spPr>
          <a:xfrm>
            <a:off x="324000" y="58680"/>
            <a:ext cx="8064360" cy="6680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0" y="1719360"/>
            <a:ext cx="2952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Исполнитель-ные орга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Городской голова и Городские управ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Представи-тельные (распоряди-тельные) органы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Городская Д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Функци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хозяйственные, благо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040440" cy="6669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4" descr="image001"/>
          <p:cNvPicPr/>
          <p:nvPr/>
        </p:nvPicPr>
        <p:blipFill>
          <a:blip r:embed="rId1"/>
          <a:stretch/>
        </p:blipFill>
        <p:spPr>
          <a:xfrm>
            <a:off x="250920" y="0"/>
            <a:ext cx="785016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форма провозглашала принцип общечеловеческого образования и всесословной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о перестройка школы не привела к полной демократизации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упна классическая школа для низших слоев ( высокая плат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репостное право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чины отмены крепостного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низкая производительность крепостного труда, нерентабельность хозяй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.п.- угроза общественного спокойствия (рост крестьянских волне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– письмо монарха к подданн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74680"/>
          <a:ext cx="8229600" cy="5954760"/>
        </p:xfrm>
        <a:graphic>
          <a:graphicData uri="http://schemas.openxmlformats.org/drawingml/2006/table">
            <a:tbl>
              <a:tblPr/>
              <a:tblGrid>
                <a:gridCol w="4402080"/>
                <a:gridCol w="3827520"/>
              </a:tblGrid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Учреждения,       занимавшиеся подготовкой рефор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бяза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Совет, Секретный комитет с 1858г. Главный комитет по крестьянскому дел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ие обсуждения проекта зак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ционные комиссии (председатель Я.Ростовце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поправок и изменений в проек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ские дворянские комитеты об улучшении быта помещичьих крестьян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отрение материалов,представленных губернскими комитетами составление единого проекта зак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Проекты освобождения крестьян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 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крестьян без земли или с очень маленьким наделом за большой выкуп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В не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с землей, но выкуп не только за землю, но и за личность крестьян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0000" y="476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19 февраля 1861г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«Манифест об освобождении помещичьих крестьян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«Положения о крестьянах, вышедших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лась личная своб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aldr2"/>
          <p:cNvPicPr/>
          <p:nvPr/>
        </p:nvPicPr>
        <p:blipFill>
          <a:blip r:embed="rId1"/>
          <a:stretch/>
        </p:blipFill>
        <p:spPr>
          <a:xfrm>
            <a:off x="468360" y="765000"/>
            <a:ext cx="352404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Гражданские права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 производить сделки с движимым и недвижимым имуществом (покупка, продаж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открывать торговые и промышленные пред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) выступать от своего имени в су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5) переходить в другие сосло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122040"/>
            <a:ext cx="746928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ыкупная операц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28:40Z</dcterms:created>
  <dc:creator>Админ</dc:creator>
  <dc:description/>
  <dc:language>en-US</dc:language>
  <cp:lastModifiedBy>LEGION</cp:lastModifiedBy>
  <dcterms:modified xsi:type="dcterms:W3CDTF">2015-01-14T10:10:40Z</dcterms:modified>
  <cp:revision>21</cp:revision>
  <dc:subject/>
  <dc:title>Слайд 1</dc:title>
</cp:coreProperties>
</file>