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17.gif" ContentType="image/gif"/>
  <Override PartName="/ppt/media/image50.jpeg" ContentType="image/jpeg"/>
  <Override PartName="/ppt/media/image25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21.png" ContentType="image/png"/>
  <Override PartName="/ppt/media/image16.gif" ContentType="image/gif"/>
  <Override PartName="/ppt/media/image51.png" ContentType="image/png"/>
  <Override PartName="/ppt/media/image15.gif" ContentType="image/gif"/>
  <Override PartName="/ppt/media/image5.jpeg" ContentType="image/jpeg"/>
  <Override PartName="/ppt/media/image14.gif" ContentType="image/gif"/>
  <Override PartName="/ppt/media/image3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4.jpeg" ContentType="image/jpeg"/>
  <Override PartName="/ppt/media/image41.jpeg" ContentType="image/jpeg"/>
  <Override PartName="/ppt/media/image45.jpeg" ContentType="image/jpeg"/>
  <Override PartName="/ppt/media/image11.jpeg" ContentType="image/jpeg"/>
  <Override PartName="/ppt/media/image9.jpeg" ContentType="image/jpeg"/>
  <Override PartName="/ppt/media/image44.jpeg" ContentType="image/jpeg"/>
  <Override PartName="/ppt/media/image33.png" ContentType="image/png"/>
  <Override PartName="/ppt/media/image46.jpeg" ContentType="image/jpeg"/>
  <Override PartName="/ppt/media/image43.png" ContentType="image/png"/>
  <Override PartName="/ppt/media/image47.jpeg" ContentType="image/jpeg"/>
  <Override PartName="/ppt/media/image48.jpeg" ContentType="image/jpeg"/>
  <Override PartName="/ppt/media/image32.jpeg" ContentType="image/jpeg"/>
  <Override PartName="/ppt/media/image26.jpeg" ContentType="image/jpeg"/>
  <Override PartName="/ppt/media/image49.jpeg" ContentType="image/jpeg"/>
  <Override PartName="/ppt/media/image10.gif" ContentType="image/gif"/>
  <Override PartName="/ppt/media/image4.png" ContentType="image/png"/>
  <Override PartName="/ppt/media/image12.jpeg" ContentType="image/jpeg"/>
  <Override PartName="/ppt/media/image6.png" ContentType="image/png"/>
  <Override PartName="/ppt/media/image40.jpeg" ContentType="image/jpeg"/>
  <Override PartName="/ppt/media/image13.jpeg" ContentType="image/jpeg"/>
  <Override PartName="/ppt/media/image39.jpeg" ContentType="image/jpeg"/>
  <Override PartName="/ppt/media/image38.png" ContentType="image/png"/>
  <Override PartName="/ppt/media/image8.jpeg" ContentType="image/jpeg"/>
  <Override PartName="/ppt/media/image28.png" ContentType="image/png"/>
  <Override PartName="/ppt/media/image52.jpeg" ContentType="image/jpeg"/>
  <Override PartName="/ppt/media/image7.gif" ContentType="image/gif"/>
  <Override PartName="/ppt/media/image29.jpeg" ContentType="image/jpeg"/>
  <Override PartName="/ppt/media/image3.jpeg" ContentType="image/jpeg"/>
  <Override PartName="/ppt/media/image37.jpeg" ContentType="image/jpeg"/>
  <Override PartName="/ppt/media/image3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D5773-FFD7-4479-B40F-390CE946AF2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Славянские б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E9B81-4772-4F3D-B7E6-E3EC7E88D21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видетельству Дитмара (умер в 1018), языческие славяне чтили Сварога более других богов; некоторые признавали его за одно существо с Редигастом и представляли его распорядителем войн. В мифах белых народов бог молотом кует - творит мир, высекая молнии и искры, у всех он имеет то или иное отношение к огн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81B3D-A754-4F05-8618-D1BEDCAB5CC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балтийских славян Сварожич (иначе называвшийся Радгостом) почитался в культовом центре редариев Ретре-Радгосте как один из главных богов, атрибутами которого были конь и копья, а также огромный вепрь, согласно легенде, выходивший из моря. У чехов, словаков и украинцев со Сварогом можно связать огненного духа Раро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154D3-1D54-42F1-9365-9AA1F5DA2B6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арог - старое солнце, едущее в колеснице, холодное и тем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112E6-41B8-45E0-8771-EC0FA5992E8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Хор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рс – бог солнца. Хорс, хорост, хворост, хрест, крест, кресало, искра, хоровод, хоро, коло, колесо, коловорот, кол, колядки, круг, кровь, красный - все эти слова родственны между собой и обозначают понятия, связанные с огнем, кругом, красным цветом. Если слить их в одно, перед нами появится образ солнца, описанный иносказатель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AE4D3-E150-4DE7-8F53-F79CC8E9870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ало нового года славяне отмечали 22 декабря - в день зимнего солнцестояния. Считалось, что в этот день рождается маленькое ярое солнце в образе мальчика - Хорса. Новое солнце завершало ход старого солнца (старого года) и открывало ход следующего года. Пока солнце еще слабое, на земле господствуют ночь и холод, доставшиеся от старого года, но с каждым днем Великий Хорс (как упоминается в 'Слове о полку Игореве') растет, и солнце крепн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03D89-8CE1-4F46-9372-888BC7C0ECD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ши предки встречали солнцестояние колядками, носили на шесте коловрат (восьмиконечную звезду) - солнце, надевали на себя личины тотемных зверей, которые связывались в сознании людей с образами древних богов: медведь - Велес, корова - Макошь, козел - веселая и одновременно злая ипостась Велеса, конь - солнце, лебедь - Лада, утка - Рожаница (прародительница мира), петух - символ времени, восхода и захода солнца, и так дал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E4ADC-644B-40EA-BC98-E4F4F586AB1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горе жгли колесо, обвязанное соломой, как бы помогая солнышку светить, потом начинались катания на санках, коньках, лыжах, игра в снежки, кулачки и бои стенка на стенку, песни, пляски, состязания, игрища. Люди ходили друг к другу в гости, каждый старался получше угостить пришедших, чтоб в новом году было в доме изобил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575C1-FD1A-42F4-ACFD-71EFFB34F15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ровая северная Русь любила молодецкие потехи. Вынужденные жить и работать в тяжелых условиях, наши пращуры вплоть до ХХ века слыли народом веселым и гостеприимным, умевшим отдыхать. Хорс - мужское божество, воплощающее стремление мальчиков и взрослых мужей к знанию, духовному росту, самосовершенствованию, к преодолению встречающихся в жизни трудностей и нахождению верных ре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3875F-801A-4E60-BE3C-AEDE1A39551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ждьбог– бог плодород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649B8-CF63-400D-9687-EE6C35C10B5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ждьбог, дать, дождь - слова однокоренные, имеющие значение 'делиться, раздавать'. Даждьбог посылал людям не только дождь, но и солнце, напитывающее землю светом и теплом. Даждьбог – это осеннее небо с облаками, дождями, грозами, а подчас и градом. 22 сентября - осеннее равноденствие, праздник Рода и Рожаниц, день Даждьбога и Макош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96ABF-E379-40A2-9554-EBBC2F07B2E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вянский бог – Яри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г зерна, умирающего в земле, чтобы возродиться колосом, - был одновременно и прекрасным, и жесток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9DAC2-9AFD-460E-A8E6-85F77E43DC3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сь урожай снят, ведутся последние сборы в садах и огородах. Все жители деревни или города выходят на природу, зажигают огонь, вкатывают на гору горящее колесо - солнце, водят хороводы с песнями, играют в предсвадебные и ритуальные игры. Потом выносят на главную улицу столы, ставят на них лучшую еду и начинают общий родовой пир. Соседи и родичи пробуют пищу, свою приготовленную другими, хвалят, все вместе славят Солнце, землю и Русь - матуш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E5D8B-60EA-4B1F-B6F2-984EFC690B1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ждьбожьи (солнечные) внуки - так называли себя Русичи. Символические знаки солнца (солнечные розетки, солнцевороты) у наших предков присутствовали везде - на одежде, посуде, в украшении домов. Всякий русский мужчина обязан создать большую семью - род, накормить, вырастить, воспитать детей и стать Даждьбогом. В этом - его долг, слав, правда. За каждым из нас стоят бесчисленные предки - наши корни, и каждый должен дать жизнь ветвям - потомк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8BFAE-6336-4E4F-8C14-51662C302BB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ес - хозяин Дикой Прир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4572A-C436-40A3-AA4D-B1A7012EB8E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ровитель домашнего скота и богатства, воплощением золота, попечитель торговцев, скотоводов, охотников и землепашцев, хозяин магии и сокровенного, властитель перекрестков, навий бог. Ему подчинялись все низшие духи. Волшебной обителью Велеса стал остров Буян. В основном Велес занимался земными делами ведь его почитали как владыку лесов, животных, богом поэзии и достат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66A31-53C4-4237-BE8C-6387A7E1A55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ес - хранитель седой старины и безмолвных костей предков. Последняя ночь октября - день поминовения дедов (на Западе - Хелловин). В этот день русы провожали с кострами и музыкой волынок и дудок духов природы и умерших за год родичей под сне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DF85E-66D0-4A2B-A33F-7F0AE039026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ун — бог грома и мол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626F2-560B-4A73-932F-CFC8AD403FF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ун — бог грома и молнии, покровитель воинов. По воззрению славян, Перун в теплые дни весны являлся со своими молниями, оплодотворял землю дождями и выводил из-за рассеянных туч ясное солнце. Его творческою силою пробуждалась природа к жизни, и он как бы вновь созидал Мир. Отсюда Перун производитель, творец. В то же время Перун — божество грозное и карающее; его явление возбуждает страх и трепет. Перун являлся верховным божеством пантеона князя Владимира как покровитель правящей военной элиты, князя и дружины, карающий за несоблюдение зак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7A987-2300-42C2-8CCB-CD0A09CA9A2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тя Перун имел отношение к холоду (он рождался в первый месяц зимы), но Дни Перуна - его пора - начинались 20 июня и заканчивались в начале августа. В это время Русичи справляли тризны по павшим в боях воинам - собирались на курганах и красных горах, устраивали пиры, ратные потехи, мерялись силой между собой в беге, метании оружия, плавании, скачках на конях. Убивали купленного вскладчину быка, жарили и ели его, пили меды и квасы. Проводили посвящения молодых парней, которые должны были пройти серьезные испытания, в воины и опоясать себя оружием Р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DAA16-BF8B-48EB-9288-21308FC70A3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наших предков всегда было много внешних врагов, велись постоянные войны. Щит и меч почитались как символ Перуна, его подарок мужчине. Оружию поклонялись и его боготворили. Но в смертельный бой шли не только мужчины. Часто среди убитых русичей на поле боя враги с удивлением находили женщин, сражавшихся со своими мужьями плечом к плечу. Им тоже покровительствовал златоусый Перу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58644-C87D-407C-88C5-913FE4A4938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Кон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54E99-5149-410F-BA8D-AD554B98826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ень «яр» присутствует в таких чисто женских сочетаниях: яровая корова — ярка, ярмо, яровая пшеница, яровые хлеба. А вот в чисто женском роде: ярость, доярка, ярь, ярина (овечья шерсть), яра (весна). Ярило — сын или явья ипостась Велеса, который зимой выступает как Мороз, а по весне — Ярил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D6256-C2F1-4B7B-9940-149672B4A8E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рило, ярость, яровые, Яр (у северян в древности означало 'село'), т.к. раньше жили в избах с очагом; яркость, - эти слова объединены понятием усиления яркости, света. Действительно, после приходи весны идет быстрое прибавление дня и усиление тепла. Все оживает, растет, тянется к солнцу. Природа воскресает в образе прекрасной Лады. Ярило, растопляя снега, живит матушку – землю талой водой. Ярило - солнце в образе молодого, полного сил жениха скачет на коне к своей Ладе. Спешит создать семью и народить детей (урожай, детенышей зверей, птиц, рыб и т.д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9EDE8-F42C-4558-BF5A-88BD4D0DF59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летнему солнцестоянию Ярило набирает полную силу. Он живет в правде и любви с землею, рождая летом новые жизни. К 22 июня Ярило превращается в Белбога, день самый длинный, природа обласкана им и любит его. Состояние Ярилы - состояние всех молодых парней. В четвертый месяц года (ныне апрель) русичи начинали самые важные для всего славянского рода сельскохозяйственные р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1DD08-F873-4C80-8E2B-402CCC6EE10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орень его имени – «яр» - встречается в словах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ровая пшени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рочка – молодая ов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рост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рый – сердитый или пылк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4503C-9B96-4D7F-AA06-CC8997BAC9A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Яриле как богу смерти и воскреш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осились  в жертву  молодая овца, кровью которой окропляли пашню, дабы сделать урожай обиль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AF30E-B92B-4292-B7B5-2977ACB73DF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вянский бог Сваро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 из главных богов в славянском пантео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варог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бог огн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9735E-07C1-498E-B3D5-94401715A5B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 из главных богов в славянском пантеоне. «Svarga» на санскрите — небо, небесный свод, «var» — огонь, жар. Отсюда идут и все славянские производные — варить, сварганить, верх и т. п. Сварог считался богом Неба, матерью жизни («Сва» — у индоевропейцев мать-прародительница). В уже более позднее время Сварог переменил свой по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F727A-287C-4B48-B769-379E21890DB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65AA-0A27-4BEA-95D1-957EEC074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10F3-50C6-47CB-AB61-B2D8540B5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58AF-0FB0-41F0-BE78-C03B07A1A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32B1-05C7-4F52-979A-20DDEF830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0DB188-49BD-4056-A811-81046A134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A97189-AC58-4CEC-A7E6-C1ECFB183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3A5F63-BCD5-4FF0-98B9-07B56CA87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BBCEC9-F8A7-408F-AACE-D75DB0575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99CC33-09CC-4ABD-BB30-1DA89FFBC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11D874-8581-4108-B3BC-F2260D521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7130F6-8F25-4CEC-8212-48DD4CF5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3A81-B46A-4DE0-A213-61BC60474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7C3D3A-E7DC-45C7-9B65-EF1A5587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CA0B4F-E369-4884-A208-6F08390D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FF8B4E-6620-417C-96FC-45B0422C0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EE23A8-CB6F-43D9-88D2-7ECF7556D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E98BAB-6BD1-44BF-9A17-B16558C3A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C5EB-B0D7-4546-81DA-728A682D5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4157-94BA-4344-A4E8-8414A7ABE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504A-C535-4523-87E6-3EC9967DD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BE06-ECBE-419C-BECD-BEB9BBFD9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4278-1DB5-4AA1-AF14-A63CD507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4F93-6847-4A01-81BA-5CB75E3C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6E1B-DE35-414E-B132-F51661345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69031-EF41-4C6E-BE76-CC39943FFB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08418-2642-4735-921B-A5ECD7A6CFA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pn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WordArt 4"/>
          <p:cNvSpPr txBox="1"/>
          <p:nvPr/>
        </p:nvSpPr>
        <p:spPr>
          <a:xfrm>
            <a:off x="1071720" y="2071800"/>
            <a:ext cx="6913440" cy="2755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лавянские бог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30" name="Picture 5" descr="кк"/>
          <p:cNvPicPr/>
          <p:nvPr/>
        </p:nvPicPr>
        <p:blipFill>
          <a:blip r:embed="rId1"/>
          <a:stretch/>
        </p:blipFill>
        <p:spPr>
          <a:xfrm>
            <a:off x="0" y="3789360"/>
            <a:ext cx="2100240" cy="2898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svaroвg"/>
          <p:cNvPicPr/>
          <p:nvPr/>
        </p:nvPicPr>
        <p:blipFill>
          <a:blip r:embed="rId2"/>
          <a:stretch/>
        </p:blipFill>
        <p:spPr>
          <a:xfrm>
            <a:off x="4572000" y="3789360"/>
            <a:ext cx="3174840" cy="2879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koni"/>
          <p:cNvPicPr/>
          <p:nvPr/>
        </p:nvPicPr>
        <p:blipFill>
          <a:blip r:embed="rId3"/>
          <a:stretch/>
        </p:blipFill>
        <p:spPr>
          <a:xfrm>
            <a:off x="0" y="0"/>
            <a:ext cx="2595600" cy="1773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tks_ip_scr_npc_iggeld"/>
          <p:cNvPicPr/>
          <p:nvPr/>
        </p:nvPicPr>
        <p:blipFill>
          <a:blip r:embed="rId4"/>
          <a:stretch/>
        </p:blipFill>
        <p:spPr>
          <a:xfrm>
            <a:off x="7124760" y="0"/>
            <a:ext cx="2019240" cy="1844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post-59366-1231089916"/>
          <p:cNvPicPr/>
          <p:nvPr/>
        </p:nvPicPr>
        <p:blipFill>
          <a:blip r:embed="rId5"/>
          <a:stretch/>
        </p:blipFill>
        <p:spPr>
          <a:xfrm>
            <a:off x="2050920" y="3789360"/>
            <a:ext cx="2560680" cy="29084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051"/>
          <p:cNvPicPr/>
          <p:nvPr/>
        </p:nvPicPr>
        <p:blipFill>
          <a:blip r:embed="rId6"/>
          <a:stretch/>
        </p:blipFill>
        <p:spPr>
          <a:xfrm>
            <a:off x="7770960" y="3716280"/>
            <a:ext cx="1373040" cy="288144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18440" cy="255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По свидетельству Дитмара (умер в 1018), языческие славяне чтили Сварога более других богов; некоторые признавали его за одно существо с Редигастом и представляли его распорядителем войн. В мифах белых народов бог молотом кует - творит мир, высекая молнии и искры, у всех он имеет то или иное отношение к огню.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78" name="Picture 6" descr="svaroвg"/>
          <p:cNvPicPr/>
          <p:nvPr/>
        </p:nvPicPr>
        <p:blipFill>
          <a:blip r:embed="rId1"/>
          <a:stretch/>
        </p:blipFill>
        <p:spPr>
          <a:xfrm>
            <a:off x="0" y="3068640"/>
            <a:ext cx="3276720" cy="29242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7" descr="svarыog"/>
          <p:cNvPicPr/>
          <p:nvPr/>
        </p:nvPicPr>
        <p:blipFill>
          <a:blip r:embed="rId2"/>
          <a:stretch/>
        </p:blipFill>
        <p:spPr>
          <a:xfrm>
            <a:off x="6300720" y="3068640"/>
            <a:ext cx="2843280" cy="29527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8" descr="37097"/>
          <p:cNvPicPr/>
          <p:nvPr/>
        </p:nvPicPr>
        <p:blipFill>
          <a:blip r:embed="rId3"/>
          <a:stretch/>
        </p:blipFill>
        <p:spPr>
          <a:xfrm>
            <a:off x="3276720" y="3068640"/>
            <a:ext cx="3043080" cy="295272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454644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e3ff"/>
                </a:solidFill>
                <a:latin typeface="Arial"/>
              </a:rPr>
              <a:t>У балтийских славян Сварожич (иначе называвшийся Радгостом) почитался в культовом центре редариев Ретре-Радгосте как один из главных богов, атрибутами которого были конь и копья, а также огромный вепрь, согласно легенде, выходивший из моря. У чехов, словаков и украинцев со Сварогом можно связать огненного духа Рарога.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83" name="Picture 5" descr="с"/>
          <p:cNvPicPr/>
          <p:nvPr/>
        </p:nvPicPr>
        <p:blipFill>
          <a:blip r:embed="rId1"/>
          <a:stretch/>
        </p:blipFill>
        <p:spPr>
          <a:xfrm>
            <a:off x="5003640" y="765000"/>
            <a:ext cx="3727440" cy="501984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84720" y="692280"/>
            <a:ext cx="4680000" cy="50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варог - старое солнце, едущее в колеснице, холодное и темно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86" name="Picture 5" descr="ыы"/>
          <p:cNvPicPr/>
          <p:nvPr/>
        </p:nvPicPr>
        <p:blipFill>
          <a:blip r:embed="rId1"/>
          <a:stretch/>
        </p:blipFill>
        <p:spPr>
          <a:xfrm>
            <a:off x="468360" y="476280"/>
            <a:ext cx="4105080" cy="590544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82 0.25185 L 0.00382 -0.03148 E">
                                      <p:cBhvr>
                                        <p:cTn id="180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8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8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708000" y="1844640"/>
            <a:ext cx="208764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e3e3ff"/>
                </a:solidFill>
                <a:uFillTx/>
                <a:latin typeface="Arial"/>
              </a:rPr>
              <a:t>Хорс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03280" y="3141360"/>
            <a:ext cx="64008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орс – бог солнца. Хорс, хорост, хворост, хрест, крест, кресало, искра, хоровод, хоро, коло, колесо, коловорот, кол, колядки, круг, кровь, красный - все эти слова родственны между собой и обозначают понятия, связанные с огнем, кругом, красным цветом. Если слить их в одно, перед нами появится образ солнца, описанный иносказательн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6" descr="1215798830_velikiy_hors"/>
          <p:cNvPicPr/>
          <p:nvPr/>
        </p:nvPicPr>
        <p:blipFill>
          <a:blip r:embed="rId1"/>
          <a:stretch/>
        </p:blipFill>
        <p:spPr>
          <a:xfrm>
            <a:off x="468360" y="189000"/>
            <a:ext cx="3240000" cy="29574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7" descr="hors"/>
          <p:cNvPicPr/>
          <p:nvPr/>
        </p:nvPicPr>
        <p:blipFill>
          <a:blip r:embed="rId2"/>
          <a:stretch/>
        </p:blipFill>
        <p:spPr>
          <a:xfrm>
            <a:off x="5364000" y="836640"/>
            <a:ext cx="3333960" cy="1924200"/>
          </a:xfrm>
          <a:prstGeom prst="rect">
            <a:avLst/>
          </a:prstGeom>
          <a:ln w="0">
            <a:noFill/>
          </a:ln>
        </p:spPr>
      </p:pic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4978440" cy="629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Начало нового года славяне отмечали 22 декабря - в день зимнего солнцестояния. Считалось, что в этот день рождается маленькое ярое солнце в образе мальчика - Хорса. Новое солнце завершало ход старого солнца (старого года) и открывало ход следующего года. Пока солнце еще слабое, на земле господствуют ночь и холод, доставшиеся от старого года, но с каждым днем Великий Хорс (как упоминается в 'Слове о полку Игореве') растет, и солнце крепнет.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94" name="Picture 5" descr="45336372_Hors"/>
          <p:cNvPicPr/>
          <p:nvPr/>
        </p:nvPicPr>
        <p:blipFill>
          <a:blip r:embed="rId1"/>
          <a:stretch/>
        </p:blipFill>
        <p:spPr>
          <a:xfrm>
            <a:off x="5867280" y="260280"/>
            <a:ext cx="2791080" cy="38102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post-59366-1231089916"/>
          <p:cNvPicPr/>
          <p:nvPr/>
        </p:nvPicPr>
        <p:blipFill>
          <a:blip r:embed="rId2"/>
          <a:stretch/>
        </p:blipFill>
        <p:spPr>
          <a:xfrm>
            <a:off x="5867280" y="4076640"/>
            <a:ext cx="2808360" cy="256536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91520" cy="247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e3ff"/>
                </a:solidFill>
                <a:latin typeface="Arial"/>
              </a:rPr>
              <a:t>Наши предки встречали солнцестояние колядками, носили на шесте коловрат (восьмиконечную звезду) - солнце, надевали на себя личины тотемных зверей, которые связывались в сознании людей с образами древних богов: медведь - Велес, корова - Макошь, козел - веселая и одновременно злая ипостась Велеса, конь - солнце, лебедь - Лада, утка - Рожаница (прародительница мира), петух - символ времени, восхода и захода солнца, и так далее.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98" name="Picture 5" descr="hors"/>
          <p:cNvPicPr/>
          <p:nvPr/>
        </p:nvPicPr>
        <p:blipFill>
          <a:blip r:embed="rId1"/>
          <a:stretch/>
        </p:blipFill>
        <p:spPr>
          <a:xfrm>
            <a:off x="324000" y="2852640"/>
            <a:ext cx="3960720" cy="36115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nov-47"/>
          <p:cNvPicPr/>
          <p:nvPr/>
        </p:nvPicPr>
        <p:blipFill>
          <a:blip r:embed="rId2"/>
          <a:stretch/>
        </p:blipFill>
        <p:spPr>
          <a:xfrm>
            <a:off x="5148360" y="3357720"/>
            <a:ext cx="3456000" cy="313992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3970440" cy="543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e3ff"/>
                </a:solidFill>
                <a:latin typeface="Arial"/>
              </a:rPr>
              <a:t>На горе жгли колесо, обвязанное соломой, как бы помогая солнышку светить, потом начинались катания на санках, коньках, лыжах, игра в снежки, кулачки и бои стенка на стенку, песни, пляски, состязания, игрища. Люди ходили друг к другу в гости, каждый старался получше угостить пришедших, чтоб в новом году было в доме изобилие.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02" name="Picture 5" descr="tks_ip_scr_npc_iggeld"/>
          <p:cNvPicPr/>
          <p:nvPr/>
        </p:nvPicPr>
        <p:blipFill>
          <a:blip r:embed="rId1"/>
          <a:stretch/>
        </p:blipFill>
        <p:spPr>
          <a:xfrm>
            <a:off x="4284720" y="189000"/>
            <a:ext cx="2955960" cy="39988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6" descr="62"/>
          <p:cNvPicPr/>
          <p:nvPr/>
        </p:nvPicPr>
        <p:blipFill>
          <a:blip r:embed="rId2"/>
          <a:stretch/>
        </p:blipFill>
        <p:spPr>
          <a:xfrm>
            <a:off x="6056280" y="2349360"/>
            <a:ext cx="2411280" cy="3929040"/>
          </a:xfrm>
          <a:prstGeom prst="rect">
            <a:avLst/>
          </a:prstGeom>
          <a:ln w="0">
            <a:noFill/>
          </a:ln>
        </p:spPr>
      </p:pic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30440" cy="550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e3ff"/>
                </a:solidFill>
                <a:latin typeface="Arial"/>
              </a:rPr>
              <a:t>Суровая северная Русь любила молодецкие потехи. Вынужденные жить и работать в тяжелых условиях, наши пращуры вплоть до ХХ века слыли народом веселым и гостеприимным, умевшим отдыхать. Хорс - мужское божество, воплощающее стремление мальчиков и взрослых мужей к знанию, духовному росту, самосовершенствованию, к преодолению встречающихся в жизни трудностей и нахождению верных решений.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06" name="Picture 5" descr="с"/>
          <p:cNvPicPr/>
          <p:nvPr/>
        </p:nvPicPr>
        <p:blipFill>
          <a:blip r:embed="rId1"/>
          <a:stretch/>
        </p:blipFill>
        <p:spPr>
          <a:xfrm>
            <a:off x="324000" y="1268280"/>
            <a:ext cx="3913200" cy="404208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2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627280" y="1628280"/>
            <a:ext cx="3456000" cy="18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Даждьбог– бог плодородия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09" name="Picture 5" descr="2-189"/>
          <p:cNvPicPr/>
          <p:nvPr/>
        </p:nvPicPr>
        <p:blipFill>
          <a:blip r:embed="rId1"/>
          <a:stretch/>
        </p:blipFill>
        <p:spPr>
          <a:xfrm>
            <a:off x="611280" y="3645000"/>
            <a:ext cx="3456000" cy="27129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11_tn"/>
          <p:cNvPicPr/>
          <p:nvPr/>
        </p:nvPicPr>
        <p:blipFill>
          <a:blip r:embed="rId2"/>
          <a:stretch/>
        </p:blipFill>
        <p:spPr>
          <a:xfrm>
            <a:off x="5940360" y="836640"/>
            <a:ext cx="2981520" cy="3809880"/>
          </a:xfrm>
          <a:prstGeom prst="rect">
            <a:avLst/>
          </a:prstGeom>
          <a:ln w="0">
            <a:noFill/>
          </a:ln>
        </p:spPr>
      </p:pic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3970440" cy="536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e3e3ff"/>
                </a:solidFill>
                <a:latin typeface="Arial"/>
              </a:rPr>
              <a:t>Даждьбог, дать, дождь - слова однокоренные, имеющие значение 'делиться, раздавать'. Даждьбог посылал людям не только дождь, но и солнце, напитывающее землю светом и теплом. Даждьбог – это осеннее небо с облаками, дождями, грозами, а подчас и градом. 22 сентября - осеннее равноденствие, праздник Рода и Рожаниц, день Даждьбога и Макоши.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13" name="Picture 5" descr="051"/>
          <p:cNvPicPr/>
          <p:nvPr/>
        </p:nvPicPr>
        <p:blipFill>
          <a:blip r:embed="rId1"/>
          <a:stretch/>
        </p:blipFill>
        <p:spPr>
          <a:xfrm>
            <a:off x="5129280" y="1628640"/>
            <a:ext cx="3093840" cy="417672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84000" y="1773360"/>
            <a:ext cx="620244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3e3ff"/>
                </a:solidFill>
                <a:latin typeface="Arial"/>
              </a:rPr>
              <a:t>Славянский бог – Ярило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г зерна, умирающего в земле, чтобы возродиться колосом, - был одновременно и прекрасным, и жестоки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4" descr="Копия 37r3"/>
          <p:cNvPicPr/>
          <p:nvPr/>
        </p:nvPicPr>
        <p:blipFill>
          <a:blip r:embed="rId1"/>
          <a:stretch/>
        </p:blipFill>
        <p:spPr>
          <a:xfrm>
            <a:off x="3419640" y="0"/>
            <a:ext cx="2520720" cy="2133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i"/>
          <p:cNvPicPr/>
          <p:nvPr/>
        </p:nvPicPr>
        <p:blipFill>
          <a:blip r:embed="rId2"/>
          <a:stretch/>
        </p:blipFill>
        <p:spPr>
          <a:xfrm>
            <a:off x="395280" y="4653000"/>
            <a:ext cx="2303640" cy="2011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iк"/>
          <p:cNvPicPr/>
          <p:nvPr/>
        </p:nvPicPr>
        <p:blipFill>
          <a:blip r:embed="rId3"/>
          <a:stretch/>
        </p:blipFill>
        <p:spPr>
          <a:xfrm>
            <a:off x="179280" y="189000"/>
            <a:ext cx="2178000" cy="311760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075520" cy="29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e3ff"/>
                </a:solidFill>
                <a:latin typeface="Arial"/>
              </a:rPr>
              <a:t>Весь урожай снят, ведутся последние сборы в садах и огородах. Все жители деревни или города выходят на природу, зажигают огонь, вкатывают на гору горящее колесо - солнце, водят хороводы с песнями, играют в предсвадебные и ритуальные игры. Потом выносят на главную улицу столы, ставят на них лучшую еду и начинают общий родовой пир. Соседи и родичи пробуют пищу, свою приготовленную другими, хвалят, все вместе славят Солнце, землю и Русь - матушку.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16" name="Picture 5" descr="2006-33-18"/>
          <p:cNvPicPr/>
          <p:nvPr/>
        </p:nvPicPr>
        <p:blipFill>
          <a:blip r:embed="rId1"/>
          <a:stretch/>
        </p:blipFill>
        <p:spPr>
          <a:xfrm>
            <a:off x="1979640" y="3573360"/>
            <a:ext cx="2360520" cy="21430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6" descr="1235670653_dazhbog"/>
          <p:cNvPicPr/>
          <p:nvPr/>
        </p:nvPicPr>
        <p:blipFill>
          <a:blip r:embed="rId2"/>
          <a:stretch/>
        </p:blipFill>
        <p:spPr>
          <a:xfrm>
            <a:off x="5364000" y="3357720"/>
            <a:ext cx="2081520" cy="2636640"/>
          </a:xfrm>
          <a:prstGeom prst="rect">
            <a:avLst/>
          </a:prstGeom>
          <a:ln w="0">
            <a:noFill/>
          </a:ln>
        </p:spPr>
      </p:pic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42920" y="333360"/>
            <a:ext cx="3899160" cy="586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e3ff"/>
                </a:solidFill>
                <a:latin typeface="Arial"/>
              </a:rPr>
              <a:t>Даждьбожьи (солнечные) внуки - так называли себя Русичи. Символические знаки солнца (солнечные розетки, солнцевороты) у наших предков присутствовали везде - на одежде, посуде, в украшении домов. Всякий русский мужчина обязан создать большую семью - род, накормить, вырастить, воспитать детей и стать Даждьбогом. В этом - его долг, слав, правда. За каждым из нас стоят бесчисленные предки - наши корни, и каждый должен дать жизнь ветвям - потомкам.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20" name="Picture 5" descr="dagbog"/>
          <p:cNvPicPr/>
          <p:nvPr/>
        </p:nvPicPr>
        <p:blipFill>
          <a:blip r:embed="rId1"/>
          <a:stretch/>
        </p:blipFill>
        <p:spPr>
          <a:xfrm>
            <a:off x="684360" y="476280"/>
            <a:ext cx="3228840" cy="25336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photo05"/>
          <p:cNvPicPr/>
          <p:nvPr/>
        </p:nvPicPr>
        <p:blipFill>
          <a:blip r:embed="rId2"/>
          <a:stretch/>
        </p:blipFill>
        <p:spPr>
          <a:xfrm>
            <a:off x="1042920" y="3645000"/>
            <a:ext cx="2411640" cy="2398680"/>
          </a:xfrm>
          <a:prstGeom prst="rect">
            <a:avLst/>
          </a:prstGeom>
          <a:ln w="0">
            <a:noFill/>
          </a:ln>
        </p:spPr>
      </p:pic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00360" y="1483920"/>
            <a:ext cx="3260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Велес - хозяин Дикой Природы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24" name="Picture 5" descr="b14642da42fb"/>
          <p:cNvPicPr/>
          <p:nvPr/>
        </p:nvPicPr>
        <p:blipFill>
          <a:blip r:embed="rId1"/>
          <a:stretch/>
        </p:blipFill>
        <p:spPr>
          <a:xfrm>
            <a:off x="250920" y="836640"/>
            <a:ext cx="3809880" cy="51433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375376906"/>
          <p:cNvPicPr/>
          <p:nvPr/>
        </p:nvPicPr>
        <p:blipFill>
          <a:blip r:embed="rId2"/>
          <a:stretch/>
        </p:blipFill>
        <p:spPr>
          <a:xfrm>
            <a:off x="4859280" y="3357720"/>
            <a:ext cx="3073320" cy="3357360"/>
          </a:xfrm>
          <a:prstGeom prst="rect">
            <a:avLst/>
          </a:prstGeom>
          <a:ln w="0">
            <a:noFill/>
          </a:ln>
        </p:spPr>
      </p:pic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5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9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3178080" cy="579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e3ff"/>
                </a:solidFill>
                <a:latin typeface="Arial"/>
              </a:rPr>
              <a:t>Покровитель домашнего скота и богатства, воплощением золота, попечитель торговцев, скотоводов, охотников и землепашцев, хозяин магии и сокровенного, властитель перекрестков, навий бог. Ему подчинялись все низшие духи. Волшебной обителью Велеса стал остров Буян. В основном Велес занимался земными делами ведь его почитали как владыку лесов, животных, богом поэзии и достатка.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28" name="Picture 5" descr="1241089854_veles"/>
          <p:cNvPicPr/>
          <p:nvPr/>
        </p:nvPicPr>
        <p:blipFill>
          <a:blip r:embed="rId1"/>
          <a:stretch/>
        </p:blipFill>
        <p:spPr>
          <a:xfrm>
            <a:off x="4211640" y="476280"/>
            <a:ext cx="4027320" cy="31240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veles"/>
          <p:cNvPicPr/>
          <p:nvPr/>
        </p:nvPicPr>
        <p:blipFill>
          <a:blip r:embed="rId2"/>
          <a:stretch/>
        </p:blipFill>
        <p:spPr>
          <a:xfrm>
            <a:off x="4211640" y="3573360"/>
            <a:ext cx="4032360" cy="2695680"/>
          </a:xfrm>
          <a:prstGeom prst="rect">
            <a:avLst/>
          </a:prstGeom>
          <a:ln w="0">
            <a:noFill/>
          </a:ln>
        </p:spPr>
      </p:pic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3035160" cy="586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e3ff"/>
                </a:solidFill>
                <a:latin typeface="Arial"/>
              </a:rPr>
              <a:t>Велес - хранитель седой старины и безмолвных костей предков. Последняя ночь октября - день поминовения дедов (на Западе - Хелловин). В этот день русы провожали с кострами и музыкой волынок и дудок духов природы и умерших за год родичей под снег.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32" name="Picture 5" descr="Veles"/>
          <p:cNvPicPr/>
          <p:nvPr/>
        </p:nvPicPr>
        <p:blipFill>
          <a:blip r:embed="rId1"/>
          <a:stretch/>
        </p:blipFill>
        <p:spPr>
          <a:xfrm>
            <a:off x="4067280" y="333360"/>
            <a:ext cx="4584600" cy="635004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6920" y="4076280"/>
            <a:ext cx="41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Перун — бог грома и молнии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35" name="Picture 5" descr="15d36c30c8b9"/>
          <p:cNvPicPr/>
          <p:nvPr/>
        </p:nvPicPr>
        <p:blipFill>
          <a:blip r:embed="rId1"/>
          <a:stretch/>
        </p:blipFill>
        <p:spPr>
          <a:xfrm>
            <a:off x="179280" y="0"/>
            <a:ext cx="3191040" cy="26370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82978-5330d-21110712-m549x500"/>
          <p:cNvPicPr/>
          <p:nvPr/>
        </p:nvPicPr>
        <p:blipFill>
          <a:blip r:embed="rId2"/>
          <a:stretch/>
        </p:blipFill>
        <p:spPr>
          <a:xfrm>
            <a:off x="5867280" y="1989000"/>
            <a:ext cx="2783160" cy="38228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7" descr="941610026"/>
          <p:cNvPicPr/>
          <p:nvPr/>
        </p:nvPicPr>
        <p:blipFill>
          <a:blip r:embed="rId3"/>
          <a:stretch/>
        </p:blipFill>
        <p:spPr>
          <a:xfrm>
            <a:off x="3203640" y="836640"/>
            <a:ext cx="2666880" cy="3168720"/>
          </a:xfrm>
          <a:prstGeom prst="rect">
            <a:avLst/>
          </a:prstGeom>
          <a:ln w="0">
            <a:noFill/>
          </a:ln>
        </p:spPr>
      </p:pic>
      <p:sp>
        <p:nvSpPr>
          <p:cNvPr id="2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4978440" cy="608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e3ff"/>
                </a:solidFill>
                <a:latin typeface="Arial"/>
              </a:rPr>
              <a:t>Перун — бог грома и молнии, покровитель воинов. По воззрению славян, Перун в теплые дни весны являлся со своими молниями, оплодотворял землю дождями и выводил из-за рассеянных туч ясное солнце. Его творческою силою пробуждалась природа к жизни, и он как бы вновь созидал Мир. Отсюда Перун производитель, творец. В то же время Перун — божество грозное и карающее; его явление возбуждает страх и трепет. Перун являлся верховным божеством пантеона князя Владимира как покровитель правящей военной элиты, князя и дружины, карающий за несоблюдение законов.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40" name="Picture 5" descr="ea86db57c83104d4ca750815f8027ada"/>
          <p:cNvPicPr/>
          <p:nvPr/>
        </p:nvPicPr>
        <p:blipFill>
          <a:blip r:embed="rId1"/>
          <a:stretch/>
        </p:blipFill>
        <p:spPr>
          <a:xfrm>
            <a:off x="5867280" y="1484280"/>
            <a:ext cx="2857680" cy="4029120"/>
          </a:xfrm>
          <a:prstGeom prst="rect">
            <a:avLst/>
          </a:prstGeom>
          <a:ln w="0">
            <a:noFill/>
          </a:ln>
        </p:spPr>
      </p:pic>
      <p:sp>
        <p:nvSpPr>
          <p:cNvPr id="2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4475160" cy="600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e3ff"/>
                </a:solidFill>
                <a:latin typeface="Arial"/>
              </a:rPr>
              <a:t>Хотя Перун имел отношение к холоду (он рождался в первый месяц зимы), но Дни Перуна - его пора - начинались 20 июня и заканчивались в начале августа. В это время Русичи справляли тризны по павшим в боях воинам - собирались на курганах и красных горах, устраивали пиры, ратные потехи, мерялись силой между собой в беге, метании оружия, плавании, скачках на конях. Убивали купленного вскладчину быка, жарили и ели его, пили меды и квасы. Проводили посвящения молодых парней, которые должны были пройти серьезные испытания, в воины и опоясать себя оружием Рода.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43" name="Picture 5" descr="perun"/>
          <p:cNvPicPr/>
          <p:nvPr/>
        </p:nvPicPr>
        <p:blipFill>
          <a:blip r:embed="rId1"/>
          <a:stretch/>
        </p:blipFill>
        <p:spPr>
          <a:xfrm>
            <a:off x="4859280" y="476280"/>
            <a:ext cx="3965760" cy="5661000"/>
          </a:xfrm>
          <a:prstGeom prst="rect">
            <a:avLst/>
          </a:prstGeom>
          <a:ln w="0">
            <a:noFill/>
          </a:ln>
        </p:spPr>
      </p:pic>
      <p:sp>
        <p:nvSpPr>
          <p:cNvPr id="2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00244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e3ff"/>
                </a:solidFill>
                <a:latin typeface="Arial"/>
              </a:rPr>
              <a:t>У наших предков всегда было много внешних врагов, велись постоянные войны. Щит и меч почитались как символ Перуна, его подарок мужчине. Оружию поклонялись и его боготворили. Но в смертельный бой шли не только мужчины. Часто среди убитых русичей на поле боя враги с удивлением находили женщин, сражавшихся со своими мужьями плечом к плечу. Им тоже покровительствовал златоусый Перун.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46" name="Picture 5" descr="46542584_perun"/>
          <p:cNvPicPr/>
          <p:nvPr/>
        </p:nvPicPr>
        <p:blipFill>
          <a:blip r:embed="rId1"/>
          <a:stretch/>
        </p:blipFill>
        <p:spPr>
          <a:xfrm>
            <a:off x="539640" y="3500280"/>
            <a:ext cx="2843280" cy="27385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perun"/>
          <p:cNvPicPr/>
          <p:nvPr/>
        </p:nvPicPr>
        <p:blipFill>
          <a:blip r:embed="rId2"/>
          <a:stretch/>
        </p:blipFill>
        <p:spPr>
          <a:xfrm>
            <a:off x="5867280" y="3068640"/>
            <a:ext cx="2657520" cy="31813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7" descr="6c3491c115c9"/>
          <p:cNvPicPr/>
          <p:nvPr/>
        </p:nvPicPr>
        <p:blipFill>
          <a:blip r:embed="rId3"/>
          <a:stretch/>
        </p:blipFill>
        <p:spPr>
          <a:xfrm>
            <a:off x="3348000" y="3500280"/>
            <a:ext cx="2521080" cy="2737080"/>
          </a:xfrm>
          <a:prstGeom prst="rect">
            <a:avLst/>
          </a:prstGeom>
          <a:ln w="0">
            <a:noFill/>
          </a:ln>
        </p:spPr>
      </p:pic>
      <p:sp>
        <p:nvSpPr>
          <p:cNvPr id="2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WordArt 4"/>
          <p:cNvSpPr txBox="1"/>
          <p:nvPr/>
        </p:nvSpPr>
        <p:spPr>
          <a:xfrm rot="652800">
            <a:off x="2050560" y="1197000"/>
            <a:ext cx="5977080" cy="33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6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86000"/>
                </a:gradFill>
                <a:latin typeface="Impact"/>
              </a:rPr>
              <a:t>Коне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86000"/>
              </a:gradFill>
              <a:latin typeface="Impact"/>
              <a:ea typeface="Impact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3178080" cy="543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e3ff"/>
                </a:solidFill>
                <a:latin typeface="Arial"/>
              </a:rPr>
              <a:t>корень «яр» присутствует в таких чисто женских сочетаниях: яровая корова — ярка, ярмо, яровая пшеница, яровые хлеба. А вот в чисто женском роде: ярость, доярка, ярь, ярина (овечья шерсть), яра (весна). Ярило — сын или явья ипостась Велеса, который зимой выступает как Мороз, а по весне — Ярилой.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4" descr="AG00339_"/>
          <p:cNvPicPr/>
          <p:nvPr/>
        </p:nvPicPr>
        <p:blipFill>
          <a:blip r:embed="rId1"/>
          <a:stretch/>
        </p:blipFill>
        <p:spPr>
          <a:xfrm>
            <a:off x="0" y="0"/>
            <a:ext cx="1114560" cy="6764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вапвап"/>
          <p:cNvPicPr/>
          <p:nvPr/>
        </p:nvPicPr>
        <p:blipFill>
          <a:blip r:embed="rId2"/>
          <a:stretch/>
        </p:blipFill>
        <p:spPr>
          <a:xfrm>
            <a:off x="4067280" y="1557360"/>
            <a:ext cx="4103640" cy="313524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77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770" fill="hold"/>
                                        <p:tgtEl>
                                          <p:spTgt spid="1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" dur="77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" dur="77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4186080" cy="622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e3ff"/>
                </a:solidFill>
                <a:latin typeface="Arial"/>
              </a:rPr>
              <a:t>Ярило, ярость, яровые, Яр (у северян в древности означало 'село'), т.к. раньше жили в избах с очагом; яркость, - эти слова объединены понятием усиления яркости, света. Действительно, после приходи весны идет быстрое прибавление дня и усиление тепла. Все оживает, растет, тянется к солнцу. Природа воскресает в образе прекрасной Лады. Ярило, растопляя снега, живит матушку – землю талой водой. Ярило - солнце в образе молодого, полного сил жениха скачет на коне к своей Ладе. Спешит создать семью и народить детей (урожай, детенышей зверей, птиц, рыб и т.д.).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9" name="Picture 5" descr="уу"/>
          <p:cNvPicPr/>
          <p:nvPr/>
        </p:nvPicPr>
        <p:blipFill>
          <a:blip r:embed="rId1"/>
          <a:stretch/>
        </p:blipFill>
        <p:spPr>
          <a:xfrm>
            <a:off x="5292720" y="1773360"/>
            <a:ext cx="3024360" cy="367164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4619520" cy="662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К летнему солнцестоянию Ярило набирает полную силу. Он живет в правде и любви с землею, рождая летом новые жизни. К 22 июня Ярило превращается в Белбога, день самый длинный, природа обласкана им и любит его. Состояние Ярилы - состояние всех молодых парней. В четвертый месяц года (ныне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апрель) русичи начинали самые важные для всего славянского рода сельскохозяйственные работы.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2" name="Picture 4" descr="кк"/>
          <p:cNvPicPr/>
          <p:nvPr/>
        </p:nvPicPr>
        <p:blipFill>
          <a:blip r:embed="rId1"/>
          <a:stretch/>
        </p:blipFill>
        <p:spPr>
          <a:xfrm>
            <a:off x="5076720" y="1197000"/>
            <a:ext cx="1944720" cy="2682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аыва"/>
          <p:cNvPicPr/>
          <p:nvPr/>
        </p:nvPicPr>
        <p:blipFill>
          <a:blip r:embed="rId2"/>
          <a:stretch/>
        </p:blipFill>
        <p:spPr>
          <a:xfrm>
            <a:off x="6372360" y="3429000"/>
            <a:ext cx="2165040" cy="304956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Корень его имени – «яр» - встречается в словах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ровая пшениц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рочка – молодая овц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ростны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рый – сердитый или пылк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4" descr="AG00212_"/>
          <p:cNvPicPr/>
          <p:nvPr/>
        </p:nvPicPr>
        <p:blipFill>
          <a:blip r:embed="rId1"/>
          <a:stretch/>
        </p:blipFill>
        <p:spPr>
          <a:xfrm>
            <a:off x="5651640" y="2060640"/>
            <a:ext cx="1400040" cy="9428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AG00355_"/>
          <p:cNvPicPr/>
          <p:nvPr/>
        </p:nvPicPr>
        <p:blipFill>
          <a:blip r:embed="rId2"/>
          <a:stretch/>
        </p:blipFill>
        <p:spPr>
          <a:xfrm>
            <a:off x="7020000" y="3357720"/>
            <a:ext cx="865080" cy="1150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J0076190"/>
          <p:cNvPicPr/>
          <p:nvPr/>
        </p:nvPicPr>
        <p:blipFill>
          <a:blip r:embed="rId3"/>
          <a:stretch/>
        </p:blipFill>
        <p:spPr>
          <a:xfrm>
            <a:off x="2987640" y="2492280"/>
            <a:ext cx="1150920" cy="11527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AG00610_"/>
          <p:cNvPicPr/>
          <p:nvPr/>
        </p:nvPicPr>
        <p:blipFill>
          <a:blip r:embed="rId4"/>
          <a:stretch/>
        </p:blipFill>
        <p:spPr>
          <a:xfrm>
            <a:off x="4284720" y="1413000"/>
            <a:ext cx="1838160" cy="82872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8"/>
          <p:cNvSpPr/>
          <p:nvPr/>
        </p:nvSpPr>
        <p:spPr>
          <a:xfrm>
            <a:off x="4311720" y="3246480"/>
            <a:ext cx="5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о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Яриле как богу смерти и воскрешения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носились  в жертву  молодая овца, кровью которой окропляли пашню, дабы сделать урожай обильны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7" descr="картинка 2"/>
          <p:cNvPicPr/>
          <p:nvPr/>
        </p:nvPicPr>
        <p:blipFill>
          <a:blip r:embed="rId1"/>
          <a:stretch/>
        </p:blipFill>
        <p:spPr>
          <a:xfrm>
            <a:off x="2771640" y="3429000"/>
            <a:ext cx="2936880" cy="309708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лавянский бог Сварог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4149720"/>
            <a:ext cx="3035160" cy="194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дин из главных богов в славянском пантео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076720" y="1341000"/>
            <a:ext cx="36100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варог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бог огн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5" descr="Svarog"/>
          <p:cNvPicPr/>
          <p:nvPr/>
        </p:nvPicPr>
        <p:blipFill>
          <a:blip r:embed="rId1"/>
          <a:stretch/>
        </p:blipFill>
        <p:spPr>
          <a:xfrm>
            <a:off x="2124000" y="1125360"/>
            <a:ext cx="3313080" cy="35341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i"/>
          <p:cNvPicPr/>
          <p:nvPr/>
        </p:nvPicPr>
        <p:blipFill>
          <a:blip r:embed="rId2"/>
          <a:stretch/>
        </p:blipFill>
        <p:spPr>
          <a:xfrm>
            <a:off x="5435640" y="2421000"/>
            <a:ext cx="3141720" cy="41497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svarog"/>
          <p:cNvPicPr/>
          <p:nvPr/>
        </p:nvPicPr>
        <p:blipFill>
          <a:blip r:embed="rId3"/>
          <a:stretch/>
        </p:blipFill>
        <p:spPr>
          <a:xfrm>
            <a:off x="179280" y="1413000"/>
            <a:ext cx="2536920" cy="252072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0" dur="2000" fill="hold"/>
                                        <p:tgtEl>
                                          <p:spTgt spid="1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4043520" cy="619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e3ff"/>
                </a:solidFill>
                <a:latin typeface="Arial"/>
              </a:rPr>
              <a:t>Один из главных богов в славянском пантеоне. «Svarga» на санскрите — небо, небесный свод, «var» — огонь, жар. Отсюда идут и все славянские производные — варить, сварганить, верх и т. п. Сварог считался богом Неба, матерью жизни («Сва» — у индоевропейцев мать-прародительница). В уже более позднее время Сварог переменил свой пол.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75" name="Picture 9" descr="s30616"/>
          <p:cNvPicPr/>
          <p:nvPr/>
        </p:nvPicPr>
        <p:blipFill>
          <a:blip r:embed="rId1"/>
          <a:stretch/>
        </p:blipFill>
        <p:spPr>
          <a:xfrm>
            <a:off x="4643280" y="692280"/>
            <a:ext cx="4042080" cy="5543280"/>
          </a:xfrm>
          <a:prstGeom prst="rect">
            <a:avLst/>
          </a:prstGeom>
          <a:ln w="0">
            <a:noFill/>
          </a:ln>
        </p:spPr>
      </p:pic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6T08:10:40Z</dcterms:created>
  <dc:creator>Name</dc:creator>
  <dc:description/>
  <dc:language>en-US</dc:language>
  <cp:lastModifiedBy>LEGION</cp:lastModifiedBy>
  <dcterms:modified xsi:type="dcterms:W3CDTF">2015-01-14T10:11:48Z</dcterms:modified>
  <cp:revision>31</cp:revision>
  <dc:subject/>
  <dc:title>Славянский бог - Ярило</dc:title>
</cp:coreProperties>
</file>