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17.gif" ContentType="image/gif"/>
  <Override PartName="/ppt/media/image50.jpeg" ContentType="image/jpeg"/>
  <Override PartName="/ppt/media/image25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21.png" ContentType="image/png"/>
  <Override PartName="/ppt/media/image16.gif" ContentType="image/gif"/>
  <Override PartName="/ppt/media/image51.png" ContentType="image/png"/>
  <Override PartName="/ppt/media/image15.gif" ContentType="image/gif"/>
  <Override PartName="/ppt/media/image5.jpeg" ContentType="image/jpeg"/>
  <Override PartName="/ppt/media/image14.gif" ContentType="image/gif"/>
  <Override PartName="/ppt/media/image3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4.jpeg" ContentType="image/jpeg"/>
  <Override PartName="/ppt/media/image41.jpeg" ContentType="image/jpeg"/>
  <Override PartName="/ppt/media/image45.jpeg" ContentType="image/jpeg"/>
  <Override PartName="/ppt/media/image11.jpeg" ContentType="image/jpeg"/>
  <Override PartName="/ppt/media/image9.jpeg" ContentType="image/jpeg"/>
  <Override PartName="/ppt/media/image44.jpeg" ContentType="image/jpeg"/>
  <Override PartName="/ppt/media/image33.png" ContentType="image/png"/>
  <Override PartName="/ppt/media/image46.jpeg" ContentType="image/jpeg"/>
  <Override PartName="/ppt/media/image43.png" ContentType="image/png"/>
  <Override PartName="/ppt/media/image47.jpeg" ContentType="image/jpeg"/>
  <Override PartName="/ppt/media/image48.jpeg" ContentType="image/jpeg"/>
  <Override PartName="/ppt/media/image32.jpeg" ContentType="image/jpeg"/>
  <Override PartName="/ppt/media/image26.jpeg" ContentType="image/jpeg"/>
  <Override PartName="/ppt/media/image49.jpeg" ContentType="image/jpeg"/>
  <Override PartName="/ppt/media/image10.gif" ContentType="image/gif"/>
  <Override PartName="/ppt/media/image4.png" ContentType="image/png"/>
  <Override PartName="/ppt/media/image12.jpeg" ContentType="image/jpeg"/>
  <Override PartName="/ppt/media/image6.png" ContentType="image/png"/>
  <Override PartName="/ppt/media/image40.jpeg" ContentType="image/jpeg"/>
  <Override PartName="/ppt/media/image13.jpeg" ContentType="image/jpeg"/>
  <Override PartName="/ppt/media/image39.jpeg" ContentType="image/jpeg"/>
  <Override PartName="/ppt/media/image38.png" ContentType="image/png"/>
  <Override PartName="/ppt/media/image8.jpeg" ContentType="image/jpeg"/>
  <Override PartName="/ppt/media/image28.png" ContentType="image/png"/>
  <Override PartName="/ppt/media/image52.jpeg" ContentType="image/jpeg"/>
  <Override PartName="/ppt/media/image7.gif" ContentType="image/gif"/>
  <Override PartName="/ppt/media/image29.jpeg" ContentType="image/jpeg"/>
  <Override PartName="/ppt/media/image3.jpeg" ContentType="image/jpeg"/>
  <Override PartName="/ppt/media/image37.jpeg" ContentType="image/jpeg"/>
  <Override PartName="/ppt/media/image3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F1522-1B4C-4815-972B-81425DD508E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Славянские б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6F580-4962-4FA2-810F-A0702A39ED8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видетельству Дитмара (умер в 1018), языческие славяне чтили Сварога более других богов; некоторые признавали его за одно существо с Редигастом и представляли его распорядителем войн. В мифах белых народов бог молотом кует - творит мир, высекая молнии и искры, у всех он имеет то или иное отношение к огн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E87B4-6579-4C99-A06F-4B68F6B9717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балтийских славян Сварожич (иначе называвшийся Радгостом) почитался в культовом центре редариев Ретре-Радгосте как один из главных богов, атрибутами которого были конь и копья, а также огромный вепрь, согласно легенде, выходивший из моря. У чехов, словаков и украинцев со Сварогом можно связать огненного духа Раро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19BC4-A3DE-4289-9B43-035B0DA5D44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арог - старое солнце, едущее в колеснице, холодное и тем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83E12-60DE-4A5E-B82E-F22E71C5DB0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Хор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рс – бог солнца. Хорс, хорост, хворост, хрест, крест, кресало, искра, хоровод, хоро, коло, колесо, коловорот, кол, колядки, круг, кровь, красный - все эти слова родственны между собой и обозначают понятия, связанные с огнем, кругом, красным цветом. Если слить их в одно, перед нами появится образ солнца, описанный иносказатель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10556-5891-4340-882B-0819F00C530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о нового года славяне отмечали 22 декабря - в день зимнего солнцестояния. Считалось, что в этот день рождается маленькое ярое солнце в образе мальчика - Хорса. Новое солнце завершало ход старого солнца (старого года) и открывало ход следующего года. Пока солнце еще слабое, на земле господствуют ночь и холод, доставшиеся от старого года, но с каждым днем Великий Хорс (как упоминается в 'Слове о полку Игореве') растет, и солнце крепн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1768D-F8A0-4082-AAEA-6217134FDEC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ши предки встречали солнцестояние колядками, носили на шесте коловрат (восьмиконечную звезду) - солнце, надевали на себя личины тотемных зверей, которые связывались в сознании людей с образами древних богов: медведь - Велес, корова - Макошь, козел - веселая и одновременно злая ипостась Велеса, конь - солнце, лебедь - Лада, утка - Рожаница (прародительница мира), петух - символ времени, восхода и захода солнца, и так дал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584C6-8D7F-4790-ABD1-5AE4977BC90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горе жгли колесо, обвязанное соломой, как бы помогая солнышку светить, потом начинались катания на санках, коньках, лыжах, игра в снежки, кулачки и бои стенка на стенку, песни, пляски, состязания, игрища. Люди ходили друг к другу в гости, каждый старался получше угостить пришедших, чтоб в новом году было в доме изобил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04605-0C89-44FD-9157-DCEA8377D8B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ровая северная Русь любила молодецкие потехи. Вынужденные жить и работать в тяжелых условиях, наши пращуры вплоть до ХХ века слыли народом веселым и гостеприимным, умевшим отдыхать. Хорс - мужское божество, воплощающее стремление мальчиков и взрослых мужей к знанию, духовному росту, самосовершенствованию, к преодолению встречающихся в жизни трудностей и нахождению верных ре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4C80A-BB82-4A1C-AB81-6D6CF8D9EC1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ждьбог– бог плодоро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D8046-2B7A-4B5E-8A30-BB7BF151244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ждьбог, дать, дождь - слова однокоренные, имеющие значение 'делиться, раздавать'. Даждьбог посылал людям не только дождь, но и солнце, напитывающее землю светом и теплом. Даждьбог – это осеннее небо с облаками, дождями, грозами, а подчас и градом. 22 сентября - осеннее равноденствие, праздник Рода и Рожаниц, день Даждьбога и Мако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50CA7-7CD9-4887-9C69-0AE0C428876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вянский бог – Яри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г зерна, умирающего в земле, чтобы возродиться колосом, - был одновременно и прекрасным, и жесток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40054-CEAE-41DD-ACC3-7E03644799A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ь урожай снят, ведутся последние сборы в садах и огородах. Все жители деревни или города выходят на природу, зажигают огонь, вкатывают на гору горящее колесо - солнце, водят хороводы с песнями, играют в предсвадебные и ритуальные игры. Потом выносят на главную улицу столы, ставят на них лучшую еду и начинают общий родовой пир. Соседи и родичи пробуют пищу, свою приготовленную другими, хвалят, все вместе славят Солнце, землю и Русь - матуш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2958E-8601-4662-8568-EC75E328EBB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ждьбожьи (солнечные) внуки - так называли себя Русичи. Символические знаки солнца (солнечные розетки, солнцевороты) у наших предков присутствовали везде - на одежде, посуде, в украшении домов. Всякий русский мужчина обязан создать большую семью - род, накормить, вырастить, воспитать детей и стать Даждьбогом. В этом - его долг, слав, правда. За каждым из нас стоят бесчисленные предки - наши корни, и каждый должен дать жизнь ветвям - потомк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EDCE6-8712-4A9C-92D9-C950F35C0C8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ес - хозяин Дикой Прир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35787-2978-4ECB-9C75-8B90A373E8F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ровитель домашнего скота и богатства, воплощением золота, попечитель торговцев, скотоводов, охотников и землепашцев, хозяин магии и сокровенного, властитель перекрестков, навий бог. Ему подчинялись все низшие духи. Волшебной обителью Велеса стал остров Буян. В основном Велес занимался земными делами ведь его почитали как владыку лесов, животных, богом поэзии и достат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D781F-AB62-4C7B-AED8-C16A4A6607B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ес - хранитель седой старины и безмолвных костей предков. Последняя ночь октября - день поминовения дедов (на Западе - Хелловин). В этот день русы провожали с кострами и музыкой волынок и дудок духов природы и умерших за год родичей под сне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14CB7-4064-491B-B01F-75EE007C89C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ун — бог грома и мол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94D21-5545-4CA3-AA4A-09C050B0794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ун — бог грома и молнии, покровитель воинов. По воззрению славян, Перун в теплые дни весны являлся со своими молниями, оплодотворял землю дождями и выводил из-за рассеянных туч ясное солнце. Его творческою силою пробуждалась природа к жизни, и он как бы вновь созидал Мир. Отсюда Перун производитель, творец. В то же время Перун — божество грозное и карающее; его явление возбуждает страх и трепет. Перун являлся верховным божеством пантеона князя Владимира как покровитель правящей военной элиты, князя и дружины, карающий за несоблюдение зак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350DA-5550-42DD-83BC-6DF588DFBA1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тя Перун имел отношение к холоду (он рождался в первый месяц зимы), но Дни Перуна - его пора - начинались 20 июня и заканчивались в начале августа. В это время Русичи справляли тризны по павшим в боях воинам - собирались на курганах и красных горах, устраивали пиры, ратные потехи, мерялись силой между собой в беге, метании оружия, плавании, скачках на конях. Убивали купленного вскладчину быка, жарили и ели его, пили меды и квасы. Проводили посвящения молодых парней, которые должны были пройти серьезные испытания, в воины и опоясать себя оружием Р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DEEFD-76BE-4CB4-BEC0-5CD0A5247D9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наших предков всегда было много внешних врагов, велись постоянные войны. Щит и меч почитались как символ Перуна, его подарок мужчине. Оружию поклонялись и его боготворили. Но в смертельный бой шли не только мужчины. Часто среди убитых русичей на поле боя враги с удивлением находили женщин, сражавшихся со своими мужьями плечом к плечу. Им тоже покровительствовал златоусый Перу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51EBE-65ED-480E-922B-979602031A3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Ко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FF05D-3245-4BEF-BA87-37023DB4C2D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ень «яр» присутствует в таких чисто женских сочетаниях: яровая корова — ярка, ярмо, яровая пшеница, яровые хлеба. А вот в чисто женском роде: ярость, доярка, ярь, ярина (овечья шерсть), яра (весна). Ярило — сын или явья ипостась Велеса, который зимой выступает как Мороз, а по весне — Ярил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F3B6D-520F-4B0E-8982-CB4DBBA57C5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рило, ярость, яровые, Яр (у северян в древности означало 'село'), т.к. раньше жили в избах с очагом; яркость, - эти слова объединены понятием усиления яркости, света. Действительно, после приходи весны идет быстрое прибавление дня и усиление тепла. Все оживает, растет, тянется к солнцу. Природа воскресает в образе прекрасной Лады. Ярило, растопляя снега, живит матушку – землю талой водой. Ярило - солнце в образе молодого, полного сил жениха скачет на коне к своей Ладе. Спешит создать семью и народить детей (урожай, детенышей зверей, птиц, рыб и т.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82026-2DCE-4952-A552-B16047BB08C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летнему солнцестоянию Ярило набирает полную силу. Он живет в правде и любви с землею, рождая летом новые жизни. К 22 июня Ярило превращается в Белбога, день самый длинный, природа обласкана им и любит его. Состояние Ярилы - состояние всех молодых парней. В четвертый месяц года (ныне апрель) русичи начинали самые важные для всего славянского рода сельскохозяйственные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C5159-E076-4080-9F8C-D2236A12064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орень его имени – «яр» - встречается в словах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ровая пшени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рочка – молодая ов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рост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рый – сердитый или пылк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65915-B818-4446-A72D-876780A29AF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Яриле как богу смерти и воскреш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осились  в жертву  молодая овца, кровью которой окропляли пашню, дабы сделать урожай обиль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8B9F-755B-41B6-AE42-31320457794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вянский бог Сваро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из главных богов в славянском пантео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варог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бог огн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B14F2-E153-4181-954D-0319A930F80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из главных богов в славянском пантеоне. «Svarga» на санскрите — небо, небесный свод, «var» — огонь, жар. Отсюда идут и все славянские производные — варить, сварганить, верх и т. п. Сварог считался богом Неба, матерью жизни («Сва» — у индоевропейцев мать-прародительница). В уже более позднее время Сварог переменил свой по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FA9AA-2BB0-4387-A7ED-25520BA013A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BC84-9388-43EA-B6EE-D06723AD5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CCCA-33F1-4498-B184-984F7DC89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FDB9-8249-4052-AF88-F55D60565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5846-1449-41A3-94C0-245217535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9C7B76-34EC-46A3-9CBA-B79B36B40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426024-56AE-4A56-AFC6-03136A4DD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9FC777-1C6B-40A5-8E30-9AE0A5ACE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D64B50-8683-4BC1-BD8E-1C01CBD94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64DCBF-9DDD-4D6A-9F93-74F557D8B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F067DE-25CD-4565-80EA-F1EBE4BFF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8D256A-986F-4DF8-82D3-4AAC1F72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EEDE-4541-4FA7-B176-C2525F6F6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35B9BA-C1E2-4C01-95F5-FC602AC1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FD861C-F65E-4D17-B77D-E61C7D54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2F3EBC-96AE-47DB-A8A3-413F11C76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E2D7DB-ADEC-4EB1-B2D3-9F81C8E1C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04CD2E-B821-4B5C-A5AC-6BF4AE1ED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FDB6-7B54-43B2-966C-0B6B4CDA9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0215-07B6-4419-9B4B-D86D24EBB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DB64-545C-4860-AD85-4E0DB3224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5C67-81D4-4802-AEDC-1A05D4D3A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B713-9362-49FE-BC1D-CB61873E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E2EE-4E2D-4368-84F6-F45272D6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616A-DA64-4706-A67F-B5C7E1BC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3A32F-E8CC-498D-90B5-2A8848BD94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6D50D-4FAC-46DE-BC17-DEA6CBEDA1E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pn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WordArt 4"/>
          <p:cNvSpPr txBox="1"/>
          <p:nvPr/>
        </p:nvSpPr>
        <p:spPr>
          <a:xfrm>
            <a:off x="1071720" y="2071800"/>
            <a:ext cx="6913440" cy="2755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лавянские бог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30" name="Picture 5" descr="кк"/>
          <p:cNvPicPr/>
          <p:nvPr/>
        </p:nvPicPr>
        <p:blipFill>
          <a:blip r:embed="rId1"/>
          <a:stretch/>
        </p:blipFill>
        <p:spPr>
          <a:xfrm>
            <a:off x="0" y="3789360"/>
            <a:ext cx="2100240" cy="2898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svaroвg"/>
          <p:cNvPicPr/>
          <p:nvPr/>
        </p:nvPicPr>
        <p:blipFill>
          <a:blip r:embed="rId2"/>
          <a:stretch/>
        </p:blipFill>
        <p:spPr>
          <a:xfrm>
            <a:off x="4572000" y="3789360"/>
            <a:ext cx="3174840" cy="2879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koni"/>
          <p:cNvPicPr/>
          <p:nvPr/>
        </p:nvPicPr>
        <p:blipFill>
          <a:blip r:embed="rId3"/>
          <a:stretch/>
        </p:blipFill>
        <p:spPr>
          <a:xfrm>
            <a:off x="0" y="0"/>
            <a:ext cx="2595600" cy="1773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tks_ip_scr_npc_iggeld"/>
          <p:cNvPicPr/>
          <p:nvPr/>
        </p:nvPicPr>
        <p:blipFill>
          <a:blip r:embed="rId4"/>
          <a:stretch/>
        </p:blipFill>
        <p:spPr>
          <a:xfrm>
            <a:off x="7124760" y="0"/>
            <a:ext cx="2019240" cy="1844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post-59366-1231089916"/>
          <p:cNvPicPr/>
          <p:nvPr/>
        </p:nvPicPr>
        <p:blipFill>
          <a:blip r:embed="rId5"/>
          <a:stretch/>
        </p:blipFill>
        <p:spPr>
          <a:xfrm>
            <a:off x="2050920" y="3789360"/>
            <a:ext cx="2560680" cy="2908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051"/>
          <p:cNvPicPr/>
          <p:nvPr/>
        </p:nvPicPr>
        <p:blipFill>
          <a:blip r:embed="rId6"/>
          <a:stretch/>
        </p:blipFill>
        <p:spPr>
          <a:xfrm>
            <a:off x="7770960" y="3716280"/>
            <a:ext cx="1373040" cy="288144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18440" cy="255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По свидетельству Дитмара (умер в 1018), языческие славяне чтили Сварога более других богов; некоторые признавали его за одно существо с Редигастом и представляли его распорядителем войн. В мифах белых народов бог молотом кует - творит мир, высекая молнии и искры, у всех он имеет то или иное отношение к огню.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78" name="Picture 6" descr="svaroвg"/>
          <p:cNvPicPr/>
          <p:nvPr/>
        </p:nvPicPr>
        <p:blipFill>
          <a:blip r:embed="rId1"/>
          <a:stretch/>
        </p:blipFill>
        <p:spPr>
          <a:xfrm>
            <a:off x="0" y="3068640"/>
            <a:ext cx="3276720" cy="2924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7" descr="svarыog"/>
          <p:cNvPicPr/>
          <p:nvPr/>
        </p:nvPicPr>
        <p:blipFill>
          <a:blip r:embed="rId2"/>
          <a:stretch/>
        </p:blipFill>
        <p:spPr>
          <a:xfrm>
            <a:off x="6300720" y="3068640"/>
            <a:ext cx="2843280" cy="29527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8" descr="37097"/>
          <p:cNvPicPr/>
          <p:nvPr/>
        </p:nvPicPr>
        <p:blipFill>
          <a:blip r:embed="rId3"/>
          <a:stretch/>
        </p:blipFill>
        <p:spPr>
          <a:xfrm>
            <a:off x="3276720" y="3068640"/>
            <a:ext cx="3043080" cy="295272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454644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e3ff"/>
                </a:solidFill>
                <a:latin typeface="Arial"/>
              </a:rPr>
              <a:t>У балтийских славян Сварожич (иначе называвшийся Радгостом) почитался в культовом центре редариев Ретре-Радгосте как один из главных богов, атрибутами которого были конь и копья, а также огромный вепрь, согласно легенде, выходивший из моря. У чехов, словаков и украинцев со Сварогом можно связать огненного духа Рарога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83" name="Picture 5" descr="с"/>
          <p:cNvPicPr/>
          <p:nvPr/>
        </p:nvPicPr>
        <p:blipFill>
          <a:blip r:embed="rId1"/>
          <a:stretch/>
        </p:blipFill>
        <p:spPr>
          <a:xfrm>
            <a:off x="5003640" y="765000"/>
            <a:ext cx="3727440" cy="501984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84720" y="692280"/>
            <a:ext cx="4680000" cy="50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варог - старое солнце, едущее в колеснице, холодное и темно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86" name="Picture 5" descr="ыы"/>
          <p:cNvPicPr/>
          <p:nvPr/>
        </p:nvPicPr>
        <p:blipFill>
          <a:blip r:embed="rId1"/>
          <a:stretch/>
        </p:blipFill>
        <p:spPr>
          <a:xfrm>
            <a:off x="468360" y="476280"/>
            <a:ext cx="4105080" cy="590544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82 0.25185 L 0.00382 -0.03148 E">
                                      <p:cBhvr>
                                        <p:cTn id="18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8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708000" y="1844640"/>
            <a:ext cx="20876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e3e3ff"/>
                </a:solidFill>
                <a:uFillTx/>
                <a:latin typeface="Arial"/>
              </a:rPr>
              <a:t>Хорс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03280" y="3141360"/>
            <a:ext cx="64008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орс – бог солнца. Хорс, хорост, хворост, хрест, крест, кресало, искра, хоровод, хоро, коло, колесо, коловорот, кол, колядки, круг, кровь, красный - все эти слова родственны между собой и обозначают понятия, связанные с огнем, кругом, красным цветом. Если слить их в одно, перед нами появится образ солнца, описанный иносказатель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6" descr="1215798830_velikiy_hors"/>
          <p:cNvPicPr/>
          <p:nvPr/>
        </p:nvPicPr>
        <p:blipFill>
          <a:blip r:embed="rId1"/>
          <a:stretch/>
        </p:blipFill>
        <p:spPr>
          <a:xfrm>
            <a:off x="468360" y="189000"/>
            <a:ext cx="3240000" cy="29574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hors"/>
          <p:cNvPicPr/>
          <p:nvPr/>
        </p:nvPicPr>
        <p:blipFill>
          <a:blip r:embed="rId2"/>
          <a:stretch/>
        </p:blipFill>
        <p:spPr>
          <a:xfrm>
            <a:off x="5364000" y="836640"/>
            <a:ext cx="3333960" cy="1924200"/>
          </a:xfrm>
          <a:prstGeom prst="rect">
            <a:avLst/>
          </a:prstGeom>
          <a:ln w="0">
            <a:noFill/>
          </a:ln>
        </p:spPr>
      </p:pic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4978440" cy="629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Начало нового года славяне отмечали 22 декабря - в день зимнего солнцестояния. Считалось, что в этот день рождается маленькое ярое солнце в образе мальчика - Хорса. Новое солнце завершало ход старого солнца (старого года) и открывало ход следующего года. Пока солнце еще слабое, на земле господствуют ночь и холод, доставшиеся от старого года, но с каждым днем Великий Хорс (как упоминается в 'Слове о полку Игореве') растет, и солнце крепнет.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94" name="Picture 5" descr="45336372_Hors"/>
          <p:cNvPicPr/>
          <p:nvPr/>
        </p:nvPicPr>
        <p:blipFill>
          <a:blip r:embed="rId1"/>
          <a:stretch/>
        </p:blipFill>
        <p:spPr>
          <a:xfrm>
            <a:off x="5867280" y="260280"/>
            <a:ext cx="2791080" cy="38102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post-59366-1231089916"/>
          <p:cNvPicPr/>
          <p:nvPr/>
        </p:nvPicPr>
        <p:blipFill>
          <a:blip r:embed="rId2"/>
          <a:stretch/>
        </p:blipFill>
        <p:spPr>
          <a:xfrm>
            <a:off x="5867280" y="4076640"/>
            <a:ext cx="2808360" cy="256536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91520" cy="247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e3ff"/>
                </a:solidFill>
                <a:latin typeface="Arial"/>
              </a:rPr>
              <a:t>Наши предки встречали солнцестояние колядками, носили на шесте коловрат (восьмиконечную звезду) - солнце, надевали на себя личины тотемных зверей, которые связывались в сознании людей с образами древних богов: медведь - Велес, корова - Макошь, козел - веселая и одновременно злая ипостась Велеса, конь - солнце, лебедь - Лада, утка - Рожаница (прародительница мира), петух - символ времени, восхода и захода солнца, и так далее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98" name="Picture 5" descr="hors"/>
          <p:cNvPicPr/>
          <p:nvPr/>
        </p:nvPicPr>
        <p:blipFill>
          <a:blip r:embed="rId1"/>
          <a:stretch/>
        </p:blipFill>
        <p:spPr>
          <a:xfrm>
            <a:off x="324000" y="2852640"/>
            <a:ext cx="3960720" cy="36115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nov-47"/>
          <p:cNvPicPr/>
          <p:nvPr/>
        </p:nvPicPr>
        <p:blipFill>
          <a:blip r:embed="rId2"/>
          <a:stretch/>
        </p:blipFill>
        <p:spPr>
          <a:xfrm>
            <a:off x="5148360" y="3357720"/>
            <a:ext cx="3456000" cy="313992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3970440" cy="543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e3ff"/>
                </a:solidFill>
                <a:latin typeface="Arial"/>
              </a:rPr>
              <a:t>На горе жгли колесо, обвязанное соломой, как бы помогая солнышку светить, потом начинались катания на санках, коньках, лыжах, игра в снежки, кулачки и бои стенка на стенку, песни, пляски, состязания, игрища. Люди ходили друг к другу в гости, каждый старался получше угостить пришедших, чтоб в новом году было в доме изобилие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02" name="Picture 5" descr="tks_ip_scr_npc_iggeld"/>
          <p:cNvPicPr/>
          <p:nvPr/>
        </p:nvPicPr>
        <p:blipFill>
          <a:blip r:embed="rId1"/>
          <a:stretch/>
        </p:blipFill>
        <p:spPr>
          <a:xfrm>
            <a:off x="4284720" y="189000"/>
            <a:ext cx="2955960" cy="39988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62"/>
          <p:cNvPicPr/>
          <p:nvPr/>
        </p:nvPicPr>
        <p:blipFill>
          <a:blip r:embed="rId2"/>
          <a:stretch/>
        </p:blipFill>
        <p:spPr>
          <a:xfrm>
            <a:off x="6056280" y="2349360"/>
            <a:ext cx="2411280" cy="3929040"/>
          </a:xfrm>
          <a:prstGeom prst="rect">
            <a:avLst/>
          </a:prstGeom>
          <a:ln w="0">
            <a:noFill/>
          </a:ln>
        </p:spPr>
      </p:pic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30440" cy="550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e3ff"/>
                </a:solidFill>
                <a:latin typeface="Arial"/>
              </a:rPr>
              <a:t>Суровая северная Русь любила молодецкие потехи. Вынужденные жить и работать в тяжелых условиях, наши пращуры вплоть до ХХ века слыли народом веселым и гостеприимным, умевшим отдыхать. Хорс - мужское божество, воплощающее стремление мальчиков и взрослых мужей к знанию, духовному росту, самосовершенствованию, к преодолению встречающихся в жизни трудностей и нахождению верных решений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06" name="Picture 5" descr="с"/>
          <p:cNvPicPr/>
          <p:nvPr/>
        </p:nvPicPr>
        <p:blipFill>
          <a:blip r:embed="rId1"/>
          <a:stretch/>
        </p:blipFill>
        <p:spPr>
          <a:xfrm>
            <a:off x="324000" y="1268280"/>
            <a:ext cx="3913200" cy="404208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2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627280" y="1628280"/>
            <a:ext cx="3456000" cy="18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Даждьбог– бог плодородия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09" name="Picture 5" descr="2-189"/>
          <p:cNvPicPr/>
          <p:nvPr/>
        </p:nvPicPr>
        <p:blipFill>
          <a:blip r:embed="rId1"/>
          <a:stretch/>
        </p:blipFill>
        <p:spPr>
          <a:xfrm>
            <a:off x="611280" y="3645000"/>
            <a:ext cx="3456000" cy="27129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11_tn"/>
          <p:cNvPicPr/>
          <p:nvPr/>
        </p:nvPicPr>
        <p:blipFill>
          <a:blip r:embed="rId2"/>
          <a:stretch/>
        </p:blipFill>
        <p:spPr>
          <a:xfrm>
            <a:off x="5940360" y="836640"/>
            <a:ext cx="2981520" cy="3809880"/>
          </a:xfrm>
          <a:prstGeom prst="rect">
            <a:avLst/>
          </a:prstGeom>
          <a:ln w="0">
            <a:noFill/>
          </a:ln>
        </p:spPr>
      </p:pic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3970440" cy="536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e3e3ff"/>
                </a:solidFill>
                <a:latin typeface="Arial"/>
              </a:rPr>
              <a:t>Даждьбог, дать, дождь - слова однокоренные, имеющие значение 'делиться, раздавать'. Даждьбог посылал людям не только дождь, но и солнце, напитывающее землю светом и теплом. Даждьбог – это осеннее небо с облаками, дождями, грозами, а подчас и градом. 22 сентября - осеннее равноденствие, праздник Рода и Рожаниц, день Даждьбога и Макоши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13" name="Picture 5" descr="051"/>
          <p:cNvPicPr/>
          <p:nvPr/>
        </p:nvPicPr>
        <p:blipFill>
          <a:blip r:embed="rId1"/>
          <a:stretch/>
        </p:blipFill>
        <p:spPr>
          <a:xfrm>
            <a:off x="5129280" y="1628640"/>
            <a:ext cx="3093840" cy="417672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84000" y="1773360"/>
            <a:ext cx="620244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3e3ff"/>
                </a:solidFill>
                <a:latin typeface="Arial"/>
              </a:rPr>
              <a:t>Славянский бог – Ярило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г зерна, умирающего в земле, чтобы возродиться колосом, - был одновременно и прекрасным, и жестоки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4" descr="Копия 37r3"/>
          <p:cNvPicPr/>
          <p:nvPr/>
        </p:nvPicPr>
        <p:blipFill>
          <a:blip r:embed="rId1"/>
          <a:stretch/>
        </p:blipFill>
        <p:spPr>
          <a:xfrm>
            <a:off x="3419640" y="0"/>
            <a:ext cx="2520720" cy="2133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i"/>
          <p:cNvPicPr/>
          <p:nvPr/>
        </p:nvPicPr>
        <p:blipFill>
          <a:blip r:embed="rId2"/>
          <a:stretch/>
        </p:blipFill>
        <p:spPr>
          <a:xfrm>
            <a:off x="395280" y="4653000"/>
            <a:ext cx="2303640" cy="2011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iк"/>
          <p:cNvPicPr/>
          <p:nvPr/>
        </p:nvPicPr>
        <p:blipFill>
          <a:blip r:embed="rId3"/>
          <a:stretch/>
        </p:blipFill>
        <p:spPr>
          <a:xfrm>
            <a:off x="179280" y="189000"/>
            <a:ext cx="2178000" cy="311760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075520" cy="29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e3ff"/>
                </a:solidFill>
                <a:latin typeface="Arial"/>
              </a:rPr>
              <a:t>Весь урожай снят, ведутся последние сборы в садах и огородах. Все жители деревни или города выходят на природу, зажигают огонь, вкатывают на гору горящее колесо - солнце, водят хороводы с песнями, играют в предсвадебные и ритуальные игры. Потом выносят на главную улицу столы, ставят на них лучшую еду и начинают общий родовой пир. Соседи и родичи пробуют пищу, свою приготовленную другими, хвалят, все вместе славят Солнце, землю и Русь - матушку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16" name="Picture 5" descr="2006-33-18"/>
          <p:cNvPicPr/>
          <p:nvPr/>
        </p:nvPicPr>
        <p:blipFill>
          <a:blip r:embed="rId1"/>
          <a:stretch/>
        </p:blipFill>
        <p:spPr>
          <a:xfrm>
            <a:off x="1979640" y="3573360"/>
            <a:ext cx="2360520" cy="21430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" descr="1235670653_dazhbog"/>
          <p:cNvPicPr/>
          <p:nvPr/>
        </p:nvPicPr>
        <p:blipFill>
          <a:blip r:embed="rId2"/>
          <a:stretch/>
        </p:blipFill>
        <p:spPr>
          <a:xfrm>
            <a:off x="5364000" y="3357720"/>
            <a:ext cx="2081520" cy="2636640"/>
          </a:xfrm>
          <a:prstGeom prst="rect">
            <a:avLst/>
          </a:prstGeom>
          <a:ln w="0">
            <a:noFill/>
          </a:ln>
        </p:spPr>
      </p:pic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42920" y="333360"/>
            <a:ext cx="3899160" cy="586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e3ff"/>
                </a:solidFill>
                <a:latin typeface="Arial"/>
              </a:rPr>
              <a:t>Даждьбожьи (солнечные) внуки - так называли себя Русичи. Символические знаки солнца (солнечные розетки, солнцевороты) у наших предков присутствовали везде - на одежде, посуде, в украшении домов. Всякий русский мужчина обязан создать большую семью - род, накормить, вырастить, воспитать детей и стать Даждьбогом. В этом - его долг, слав, правда. За каждым из нас стоят бесчисленные предки - наши корни, и каждый должен дать жизнь ветвям - потомкам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20" name="Picture 5" descr="dagbog"/>
          <p:cNvPicPr/>
          <p:nvPr/>
        </p:nvPicPr>
        <p:blipFill>
          <a:blip r:embed="rId1"/>
          <a:stretch/>
        </p:blipFill>
        <p:spPr>
          <a:xfrm>
            <a:off x="684360" y="476280"/>
            <a:ext cx="3228840" cy="25336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photo05"/>
          <p:cNvPicPr/>
          <p:nvPr/>
        </p:nvPicPr>
        <p:blipFill>
          <a:blip r:embed="rId2"/>
          <a:stretch/>
        </p:blipFill>
        <p:spPr>
          <a:xfrm>
            <a:off x="1042920" y="3645000"/>
            <a:ext cx="2411640" cy="239868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00360" y="1483920"/>
            <a:ext cx="326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Велес - хозяин Дикой Природы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24" name="Picture 5" descr="b14642da42fb"/>
          <p:cNvPicPr/>
          <p:nvPr/>
        </p:nvPicPr>
        <p:blipFill>
          <a:blip r:embed="rId1"/>
          <a:stretch/>
        </p:blipFill>
        <p:spPr>
          <a:xfrm>
            <a:off x="250920" y="836640"/>
            <a:ext cx="3809880" cy="51433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375376906"/>
          <p:cNvPicPr/>
          <p:nvPr/>
        </p:nvPicPr>
        <p:blipFill>
          <a:blip r:embed="rId2"/>
          <a:stretch/>
        </p:blipFill>
        <p:spPr>
          <a:xfrm>
            <a:off x="4859280" y="3357720"/>
            <a:ext cx="3073320" cy="335736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5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9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3178080" cy="579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e3ff"/>
                </a:solidFill>
                <a:latin typeface="Arial"/>
              </a:rPr>
              <a:t>Покровитель домашнего скота и богатства, воплощением золота, попечитель торговцев, скотоводов, охотников и землепашцев, хозяин магии и сокровенного, властитель перекрестков, навий бог. Ему подчинялись все низшие духи. Волшебной обителью Велеса стал остров Буян. В основном Велес занимался земными делами ведь его почитали как владыку лесов, животных, богом поэзии и достатка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28" name="Picture 5" descr="1241089854_veles"/>
          <p:cNvPicPr/>
          <p:nvPr/>
        </p:nvPicPr>
        <p:blipFill>
          <a:blip r:embed="rId1"/>
          <a:stretch/>
        </p:blipFill>
        <p:spPr>
          <a:xfrm>
            <a:off x="4211640" y="476280"/>
            <a:ext cx="4027320" cy="31240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veles"/>
          <p:cNvPicPr/>
          <p:nvPr/>
        </p:nvPicPr>
        <p:blipFill>
          <a:blip r:embed="rId2"/>
          <a:stretch/>
        </p:blipFill>
        <p:spPr>
          <a:xfrm>
            <a:off x="4211640" y="3573360"/>
            <a:ext cx="4032360" cy="269568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3035160" cy="586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e3ff"/>
                </a:solidFill>
                <a:latin typeface="Arial"/>
              </a:rPr>
              <a:t>Велес - хранитель седой старины и безмолвных костей предков. Последняя ночь октября - день поминовения дедов (на Западе - Хелловин). В этот день русы провожали с кострами и музыкой волынок и дудок духов природы и умерших за год родичей под снег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32" name="Picture 5" descr="Veles"/>
          <p:cNvPicPr/>
          <p:nvPr/>
        </p:nvPicPr>
        <p:blipFill>
          <a:blip r:embed="rId1"/>
          <a:stretch/>
        </p:blipFill>
        <p:spPr>
          <a:xfrm>
            <a:off x="4067280" y="333360"/>
            <a:ext cx="4584600" cy="635004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6920" y="4076280"/>
            <a:ext cx="41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Перун — бог грома и молнии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35" name="Picture 5" descr="15d36c30c8b9"/>
          <p:cNvPicPr/>
          <p:nvPr/>
        </p:nvPicPr>
        <p:blipFill>
          <a:blip r:embed="rId1"/>
          <a:stretch/>
        </p:blipFill>
        <p:spPr>
          <a:xfrm>
            <a:off x="179280" y="0"/>
            <a:ext cx="3191040" cy="26370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82978-5330d-21110712-m549x500"/>
          <p:cNvPicPr/>
          <p:nvPr/>
        </p:nvPicPr>
        <p:blipFill>
          <a:blip r:embed="rId2"/>
          <a:stretch/>
        </p:blipFill>
        <p:spPr>
          <a:xfrm>
            <a:off x="5867280" y="1989000"/>
            <a:ext cx="2783160" cy="38228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7" descr="941610026"/>
          <p:cNvPicPr/>
          <p:nvPr/>
        </p:nvPicPr>
        <p:blipFill>
          <a:blip r:embed="rId3"/>
          <a:stretch/>
        </p:blipFill>
        <p:spPr>
          <a:xfrm>
            <a:off x="3203640" y="836640"/>
            <a:ext cx="2666880" cy="316872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4978440" cy="608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e3ff"/>
                </a:solidFill>
                <a:latin typeface="Arial"/>
              </a:rPr>
              <a:t>Перун — бог грома и молнии, покровитель воинов. По воззрению славян, Перун в теплые дни весны являлся со своими молниями, оплодотворял землю дождями и выводил из-за рассеянных туч ясное солнце. Его творческою силою пробуждалась природа к жизни, и он как бы вновь созидал Мир. Отсюда Перун производитель, творец. В то же время Перун — божество грозное и карающее; его явление возбуждает страх и трепет. Перун являлся верховным божеством пантеона князя Владимира как покровитель правящей военной элиты, князя и дружины, карающий за несоблюдение законов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40" name="Picture 5" descr="ea86db57c83104d4ca750815f8027ada"/>
          <p:cNvPicPr/>
          <p:nvPr/>
        </p:nvPicPr>
        <p:blipFill>
          <a:blip r:embed="rId1"/>
          <a:stretch/>
        </p:blipFill>
        <p:spPr>
          <a:xfrm>
            <a:off x="5867280" y="1484280"/>
            <a:ext cx="2857680" cy="4029120"/>
          </a:xfrm>
          <a:prstGeom prst="rect">
            <a:avLst/>
          </a:prstGeom>
          <a:ln w="0">
            <a:noFill/>
          </a:ln>
        </p:spPr>
      </p:pic>
      <p:sp>
        <p:nvSpPr>
          <p:cNvPr id="2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4475160" cy="600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e3ff"/>
                </a:solidFill>
                <a:latin typeface="Arial"/>
              </a:rPr>
              <a:t>Хотя Перун имел отношение к холоду (он рождался в первый месяц зимы), но Дни Перуна - его пора - начинались 20 июня и заканчивались в начале августа. В это время Русичи справляли тризны по павшим в боях воинам - собирались на курганах и красных горах, устраивали пиры, ратные потехи, мерялись силой между собой в беге, метании оружия, плавании, скачках на конях. Убивали купленного вскладчину быка, жарили и ели его, пили меды и квасы. Проводили посвящения молодых парней, которые должны были пройти серьезные испытания, в воины и опоясать себя оружием Рода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43" name="Picture 5" descr="perun"/>
          <p:cNvPicPr/>
          <p:nvPr/>
        </p:nvPicPr>
        <p:blipFill>
          <a:blip r:embed="rId1"/>
          <a:stretch/>
        </p:blipFill>
        <p:spPr>
          <a:xfrm>
            <a:off x="4859280" y="476280"/>
            <a:ext cx="3965760" cy="5661000"/>
          </a:xfrm>
          <a:prstGeom prst="rect">
            <a:avLst/>
          </a:prstGeom>
          <a:ln w="0">
            <a:noFill/>
          </a:ln>
        </p:spPr>
      </p:pic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00244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e3ff"/>
                </a:solidFill>
                <a:latin typeface="Arial"/>
              </a:rPr>
              <a:t>У наших предков всегда было много внешних врагов, велись постоянные войны. Щит и меч почитались как символ Перуна, его подарок мужчине. Оружию поклонялись и его боготворили. Но в смертельный бой шли не только мужчины. Часто среди убитых русичей на поле боя враги с удивлением находили женщин, сражавшихся со своими мужьями плечом к плечу. Им тоже покровительствовал златоусый Перун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46" name="Picture 5" descr="46542584_perun"/>
          <p:cNvPicPr/>
          <p:nvPr/>
        </p:nvPicPr>
        <p:blipFill>
          <a:blip r:embed="rId1"/>
          <a:stretch/>
        </p:blipFill>
        <p:spPr>
          <a:xfrm>
            <a:off x="539640" y="3500280"/>
            <a:ext cx="2843280" cy="27385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perun"/>
          <p:cNvPicPr/>
          <p:nvPr/>
        </p:nvPicPr>
        <p:blipFill>
          <a:blip r:embed="rId2"/>
          <a:stretch/>
        </p:blipFill>
        <p:spPr>
          <a:xfrm>
            <a:off x="5867280" y="3068640"/>
            <a:ext cx="2657520" cy="31813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7" descr="6c3491c115c9"/>
          <p:cNvPicPr/>
          <p:nvPr/>
        </p:nvPicPr>
        <p:blipFill>
          <a:blip r:embed="rId3"/>
          <a:stretch/>
        </p:blipFill>
        <p:spPr>
          <a:xfrm>
            <a:off x="3348000" y="3500280"/>
            <a:ext cx="2521080" cy="2737080"/>
          </a:xfrm>
          <a:prstGeom prst="rect">
            <a:avLst/>
          </a:prstGeom>
          <a:ln w="0">
            <a:noFill/>
          </a:ln>
        </p:spPr>
      </p:pic>
      <p:sp>
        <p:nvSpPr>
          <p:cNvPr id="2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WordArt 4"/>
          <p:cNvSpPr txBox="1"/>
          <p:nvPr/>
        </p:nvSpPr>
        <p:spPr>
          <a:xfrm rot="652800">
            <a:off x="2050560" y="1197000"/>
            <a:ext cx="597708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86000"/>
                </a:gradFill>
                <a:latin typeface="Impact"/>
              </a:rPr>
              <a:t>Коне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86000"/>
              </a:gradFill>
              <a:latin typeface="Impact"/>
              <a:ea typeface="Impact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178080" cy="543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e3ff"/>
                </a:solidFill>
                <a:latin typeface="Arial"/>
              </a:rPr>
              <a:t>корень «яр» присутствует в таких чисто женских сочетаниях: яровая корова — ярка, ярмо, яровая пшеница, яровые хлеба. А вот в чисто женском роде: ярость, доярка, ярь, ярина (овечья шерсть), яра (весна). Ярило — сын или явья ипостась Велеса, который зимой выступает как Мороз, а по весне — Ярилой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4" descr="AG00339_"/>
          <p:cNvPicPr/>
          <p:nvPr/>
        </p:nvPicPr>
        <p:blipFill>
          <a:blip r:embed="rId1"/>
          <a:stretch/>
        </p:blipFill>
        <p:spPr>
          <a:xfrm>
            <a:off x="0" y="0"/>
            <a:ext cx="1114560" cy="6764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вапвап"/>
          <p:cNvPicPr/>
          <p:nvPr/>
        </p:nvPicPr>
        <p:blipFill>
          <a:blip r:embed="rId2"/>
          <a:stretch/>
        </p:blipFill>
        <p:spPr>
          <a:xfrm>
            <a:off x="4067280" y="1557360"/>
            <a:ext cx="4103640" cy="313524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77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770" fill="hold"/>
                                        <p:tgtEl>
                                          <p:spTgt spid="1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" dur="77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" dur="77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4186080" cy="622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e3ff"/>
                </a:solidFill>
                <a:latin typeface="Arial"/>
              </a:rPr>
              <a:t>Ярило, ярость, яровые, Яр (у северян в древности означало 'село'), т.к. раньше жили в избах с очагом; яркость, - эти слова объединены понятием усиления яркости, света. Действительно, после приходи весны идет быстрое прибавление дня и усиление тепла. Все оживает, растет, тянется к солнцу. Природа воскресает в образе прекрасной Лады. Ярило, растопляя снега, живит матушку – землю талой водой. Ярило - солнце в образе молодого, полного сил жениха скачет на коне к своей Ладе. Спешит создать семью и народить детей (урожай, детенышей зверей, птиц, рыб и т.д.)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9" name="Picture 5" descr="уу"/>
          <p:cNvPicPr/>
          <p:nvPr/>
        </p:nvPicPr>
        <p:blipFill>
          <a:blip r:embed="rId1"/>
          <a:stretch/>
        </p:blipFill>
        <p:spPr>
          <a:xfrm>
            <a:off x="5292720" y="1773360"/>
            <a:ext cx="3024360" cy="367164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4619520" cy="66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К летнему солнцестоянию Ярило набирает полную силу. Он живет в правде и любви с землею, рождая летом новые жизни. К 22 июня Ярило превращается в Белбога, день самый длинный, природа обласкана им и любит его. Состояние Ярилы - состояние всех молодых парней. В четвертый месяц года (ныне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апрель) русичи начинали самые важные для всего славянского рода сельскохозяйственные работы.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2" name="Picture 4" descr="кк"/>
          <p:cNvPicPr/>
          <p:nvPr/>
        </p:nvPicPr>
        <p:blipFill>
          <a:blip r:embed="rId1"/>
          <a:stretch/>
        </p:blipFill>
        <p:spPr>
          <a:xfrm>
            <a:off x="5076720" y="1197000"/>
            <a:ext cx="1944720" cy="2682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аыва"/>
          <p:cNvPicPr/>
          <p:nvPr/>
        </p:nvPicPr>
        <p:blipFill>
          <a:blip r:embed="rId2"/>
          <a:stretch/>
        </p:blipFill>
        <p:spPr>
          <a:xfrm>
            <a:off x="6372360" y="3429000"/>
            <a:ext cx="2165040" cy="304956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Корень его имени – «яр» - встречается в словах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ровая пшениц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рочка – молодая овц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ростны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рый – сердитый или пылк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4" descr="AG00212_"/>
          <p:cNvPicPr/>
          <p:nvPr/>
        </p:nvPicPr>
        <p:blipFill>
          <a:blip r:embed="rId1"/>
          <a:stretch/>
        </p:blipFill>
        <p:spPr>
          <a:xfrm>
            <a:off x="5651640" y="2060640"/>
            <a:ext cx="1400040" cy="9428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AG00355_"/>
          <p:cNvPicPr/>
          <p:nvPr/>
        </p:nvPicPr>
        <p:blipFill>
          <a:blip r:embed="rId2"/>
          <a:stretch/>
        </p:blipFill>
        <p:spPr>
          <a:xfrm>
            <a:off x="7020000" y="3357720"/>
            <a:ext cx="865080" cy="1150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J0076190"/>
          <p:cNvPicPr/>
          <p:nvPr/>
        </p:nvPicPr>
        <p:blipFill>
          <a:blip r:embed="rId3"/>
          <a:stretch/>
        </p:blipFill>
        <p:spPr>
          <a:xfrm>
            <a:off x="2987640" y="2492280"/>
            <a:ext cx="1150920" cy="1152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AG00610_"/>
          <p:cNvPicPr/>
          <p:nvPr/>
        </p:nvPicPr>
        <p:blipFill>
          <a:blip r:embed="rId4"/>
          <a:stretch/>
        </p:blipFill>
        <p:spPr>
          <a:xfrm>
            <a:off x="4284720" y="1413000"/>
            <a:ext cx="1838160" cy="82872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8"/>
          <p:cNvSpPr/>
          <p:nvPr/>
        </p:nvSpPr>
        <p:spPr>
          <a:xfrm>
            <a:off x="4311720" y="3246480"/>
            <a:ext cx="5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Яриле как богу смерти и воскрешения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носились  в жертву  молодая овца, кровью которой окропляли пашню, дабы сделать урожай обильны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7" descr="картинка 2"/>
          <p:cNvPicPr/>
          <p:nvPr/>
        </p:nvPicPr>
        <p:blipFill>
          <a:blip r:embed="rId1"/>
          <a:stretch/>
        </p:blipFill>
        <p:spPr>
          <a:xfrm>
            <a:off x="2771640" y="3429000"/>
            <a:ext cx="2936880" cy="309708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лавянский бог Сварог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4149720"/>
            <a:ext cx="3035160" cy="194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дин из главных богов в славянском пантео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076720" y="1341000"/>
            <a:ext cx="36100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варог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бог огн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5" descr="Svarog"/>
          <p:cNvPicPr/>
          <p:nvPr/>
        </p:nvPicPr>
        <p:blipFill>
          <a:blip r:embed="rId1"/>
          <a:stretch/>
        </p:blipFill>
        <p:spPr>
          <a:xfrm>
            <a:off x="2124000" y="1125360"/>
            <a:ext cx="3313080" cy="35341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i"/>
          <p:cNvPicPr/>
          <p:nvPr/>
        </p:nvPicPr>
        <p:blipFill>
          <a:blip r:embed="rId2"/>
          <a:stretch/>
        </p:blipFill>
        <p:spPr>
          <a:xfrm>
            <a:off x="5435640" y="2421000"/>
            <a:ext cx="3141720" cy="4149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svarog"/>
          <p:cNvPicPr/>
          <p:nvPr/>
        </p:nvPicPr>
        <p:blipFill>
          <a:blip r:embed="rId3"/>
          <a:stretch/>
        </p:blipFill>
        <p:spPr>
          <a:xfrm>
            <a:off x="179280" y="1413000"/>
            <a:ext cx="2536920" cy="252072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0" dur="2000" fill="hold"/>
                                        <p:tgtEl>
                                          <p:spTgt spid="1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4043520" cy="619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e3ff"/>
                </a:solidFill>
                <a:latin typeface="Arial"/>
              </a:rPr>
              <a:t>Один из главных богов в славянском пантеоне. «Svarga» на санскрите — небо, небесный свод, «var» — огонь, жар. Отсюда идут и все славянские производные — варить, сварганить, верх и т. п. Сварог считался богом Неба, матерью жизни («Сва» — у индоевропейцев мать-прародительница). В уже более позднее время Сварог переменил свой пол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75" name="Picture 9" descr="s30616"/>
          <p:cNvPicPr/>
          <p:nvPr/>
        </p:nvPicPr>
        <p:blipFill>
          <a:blip r:embed="rId1"/>
          <a:stretch/>
        </p:blipFill>
        <p:spPr>
          <a:xfrm>
            <a:off x="4643280" y="692280"/>
            <a:ext cx="4042080" cy="554328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08:10:40Z</dcterms:created>
  <dc:creator>Name</dc:creator>
  <dc:description/>
  <dc:language>en-US</dc:language>
  <cp:lastModifiedBy>LEGION</cp:lastModifiedBy>
  <dcterms:modified xsi:type="dcterms:W3CDTF">2015-01-14T10:11:48Z</dcterms:modified>
  <cp:revision>31</cp:revision>
  <dc:subject/>
  <dc:title>Славянский бог - Ярило</dc:title>
</cp:coreProperties>
</file>