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196A-D80D-4192-B803-54E4F4814C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Тема уро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 Вечный город» и его жите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212C-8A38-4DC5-A713-353549D097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5B50-F503-4E9D-A3C6-41C06D78E4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2736-53A9-4A7B-AD0D-E1ADC800A1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оэтажные дома в низи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да в квартиры не подавалась, её брали в городских фонтанах и тащили по лестницам на верхний этаж. Грязь и зловоние сопровождали римлян, которые жили в многоэтажных до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489D-7FAE-4669-A306-BE950001C7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б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5FD5-DD84-4F0C-ABF7-A4F14D4D11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пейские те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2815-DB96-4289-A1B7-696BE88F5F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 ба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6C35-5C92-437E-8170-1133884C0B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днота требует « хлеба и зрелищ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D7B2-3E9B-4AD5-9CE0-36A1C5CDF1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днота требует « хлеба и зрелищ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9F84-94BE-4C93-B6B5-D763763EB9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ведём итог ур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на стр. 2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7988-ABCA-4FE6-AD1E-29E23CA7D4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D74C-E4F7-4169-B980-E10187657F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"/>
              </a:rPr>
              <a:t>Параграф 58, вопросы, записи, творческо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49C4-E251-4055-AC9C-40A3BD1CE1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боте использ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ttp://ru.wikipedia.org/wiki/%D0%9F%D0%B0%D0%BD%D1%82%D0%B5%D0%BE%D0%BD_(%D0%A0%D0%B8%D0%B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6B3B-34E7-4BBD-A7BC-8A9A68B6EB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 на ур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omic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comic"/>
              </a:rPr>
              <a:t>Как вы думаете, почему римляне пытались переселиться в Рим, что их влекло в «Вечный город» </a:t>
            </a:r>
            <a:r>
              <a:rPr b="1" lang="en-US" sz="1200" spc="-1" strike="noStrike">
                <a:solidFill>
                  <a:srgbClr val="000066"/>
                </a:solidFill>
                <a:latin typeface="com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38AA-EC77-45FD-83DF-485D79801E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сячи жителей Италии и провинций стремились попасть в Рим. Одни по делам, другие – хотели получить выгодную должность. Но всех привлекали гладиаторские игры, гонки колесниц и триумфальные ше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FF24-03CE-4E88-AE6F-1E98CF4D53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прославления императоров на многих Форумах строились колон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амой колонне помещались барельефы со сценами жизни императоров, а венчали колонны многометровые статуи импера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C17F-AC1B-49D3-8D39-6C924A2A48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дороги ведут в Р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мерами и красотой  выделялся огром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мфитеатр Колизей, который вмещал 50 ты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р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E603-78C4-4D3F-9593-F00DA40BDE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е дороги ведут в Р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ой достопримечательностью Рима бы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рам Пантеон ( дословно – храм всех бог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 был увенчан куполом, внутри находил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громный з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B42A-455B-4A80-8029-9DA403CB06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собняки на городских холм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смотрите иллюстрацию на стр. 267 и расскажите, как выглядел дом богатого римля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6F3A-2983-4271-AC13-560B59B1F9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няки на городских хол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D689-733C-4100-B72F-BAD125E66E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40F-C393-4D49-AED4-E5CB5F08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E9D-A61A-46D7-8B3E-D3491DA5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CC6-18BA-47FE-AD02-86526A58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243-E707-43DC-B2ED-E38C01BE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EC3-4387-400F-BBCB-99F824B8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207-2F09-4A8A-99F4-EC0AA48F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00A-D75F-4A98-AC49-0367D100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0872-BBEF-4E98-903B-16DD7113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673-92C3-4318-96A4-6CA97590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8BBD-032D-4AA5-870F-797FC974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A442-AE10-4F7A-95B7-5B51E929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754-C84B-4839-891F-FE87657B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4E7B-07B0-42BF-A529-DA8F7313C6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79а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520" y="1295280"/>
            <a:ext cx="4800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Arial"/>
              </a:rPr>
              <a:t>Тема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236196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 Вечный город» и его жител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Картинка 6 из 10538"/>
          <p:cNvPicPr/>
          <p:nvPr/>
        </p:nvPicPr>
        <p:blipFill>
          <a:blip r:embed="rId2"/>
          <a:stretch/>
        </p:blipFill>
        <p:spPr>
          <a:xfrm>
            <a:off x="152280" y="3962520"/>
            <a:ext cx="246708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i?id=307134789-67-72"/>
          <p:cNvPicPr/>
          <p:nvPr/>
        </p:nvPicPr>
        <p:blipFill>
          <a:blip r:embed="rId3"/>
          <a:stretch/>
        </p:blipFill>
        <p:spPr>
          <a:xfrm>
            <a:off x="5105520" y="4038480"/>
            <a:ext cx="3838320" cy="266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а 2 из 2532"/>
          <p:cNvPicPr/>
          <p:nvPr/>
        </p:nvPicPr>
        <p:blipFill>
          <a:blip r:embed="rId4"/>
          <a:stretch/>
        </p:blipFill>
        <p:spPr>
          <a:xfrm>
            <a:off x="152280" y="-380880"/>
            <a:ext cx="2857680" cy="20048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Рисунок6"/>
          <p:cNvPicPr/>
          <p:nvPr/>
        </p:nvPicPr>
        <p:blipFill>
          <a:blip r:embed="rId2"/>
          <a:stretch/>
        </p:blipFill>
        <p:spPr>
          <a:xfrm>
            <a:off x="304920" y="228600"/>
            <a:ext cx="5403600" cy="6400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6" name="Rectangle 6"/>
          <p:cNvSpPr/>
          <p:nvPr/>
        </p:nvSpPr>
        <p:spPr>
          <a:xfrm>
            <a:off x="5867280" y="2133720"/>
            <a:ext cx="3048120" cy="3657600"/>
          </a:xfrm>
          <a:prstGeom prst="rect">
            <a:avLst/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ожит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жили бедня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и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52280" y="160020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нство римлян не могли иметь соб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, поэтому снимали жильё в 5-6 этажных до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228600" y="285768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дняки ютились в каморках под черепицей кры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28600" y="419112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улицах отсутствовали таблички с названиями ул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омерами до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228600" y="5486400"/>
            <a:ext cx="8686800" cy="114300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х окон на прохожих часто выливались пом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47640" y="1600200"/>
            <a:ext cx="7848720" cy="12952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положите, как жилось римля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многоэтажных дом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28600" y="3200400"/>
            <a:ext cx="8763120" cy="35053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чей не было, в сырые и холодные д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льцы обогревались жаровнями, к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сыпали древесный уголь. Тут же готов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щу. Бедняки часто ели всухомятку. В ок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ов не было стёкол и закрывались ставн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да в квартиры не подавалась, её брали в городских фонтанах и тащили по лестницам на верхний этаж. Грязь и зловоние сопровождали римлян, которые жили в многоэтажных дом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гоэтажные дома в низин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сещение б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Картинка 2 из 2532"/>
          <p:cNvPicPr/>
          <p:nvPr/>
        </p:nvPicPr>
        <p:blipFill>
          <a:blip r:embed="rId2"/>
          <a:stretch/>
        </p:blipFill>
        <p:spPr>
          <a:xfrm>
            <a:off x="914400" y="1447920"/>
            <a:ext cx="7315200" cy="51451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ypocast8"/>
          <p:cNvPicPr/>
          <p:nvPr/>
        </p:nvPicPr>
        <p:blipFill>
          <a:blip r:embed="rId2"/>
          <a:stretch/>
        </p:blipFill>
        <p:spPr>
          <a:xfrm>
            <a:off x="723960" y="1371600"/>
            <a:ext cx="7696080" cy="5149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мпейские те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Рисунок2"/>
          <p:cNvPicPr/>
          <p:nvPr/>
        </p:nvPicPr>
        <p:blipFill>
          <a:blip r:embed="rId2"/>
          <a:stretch/>
        </p:blipFill>
        <p:spPr>
          <a:xfrm>
            <a:off x="380880" y="1600200"/>
            <a:ext cx="8534520" cy="50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щественная ба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Большой цирк"/>
          <p:cNvPicPr/>
          <p:nvPr/>
        </p:nvPicPr>
        <p:blipFill>
          <a:blip r:embed="rId2"/>
          <a:stretch/>
        </p:blipFill>
        <p:spPr>
          <a:xfrm>
            <a:off x="304920" y="1447920"/>
            <a:ext cx="8534160" cy="5410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днота требует « хлеба и зрелищ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04920" y="5943600"/>
            <a:ext cx="8458200" cy="9144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ой цирк в Древнем Р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днота требует « хлеба и зрелищ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Файл:Circuspainting.jpg"/>
          <p:cNvPicPr/>
          <p:nvPr/>
        </p:nvPicPr>
        <p:blipFill>
          <a:blip r:embed="rId2"/>
          <a:stretch/>
        </p:blipFill>
        <p:spPr>
          <a:xfrm>
            <a:off x="343080" y="1523880"/>
            <a:ext cx="8458200" cy="50990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 на стр. 2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304920" y="1828800"/>
            <a:ext cx="8534160" cy="4572000"/>
          </a:xfrm>
          <a:prstGeom prst="roundRect">
            <a:avLst>
              <a:gd name="adj" fmla="val 16667"/>
            </a:avLst>
          </a:prstGeom>
          <a:solidFill>
            <a:srgbClr val="afe2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Все дороги ведут в Р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Особняки на городских хол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Многоэтажные дома в низинах меж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холм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4. Посещение ба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5. Беднота требует « хлеба и зрелищ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"/>
              </a:rPr>
              <a:t>Параграф 58, вопросы, записи, творческо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работе использова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ru.wikipedia.org/wiki/%D0%9F%D0%B0%D0%BD%D1%82%D0%B5%D0%BE%D0%BD_(%D0%A0%D0%B8%D0%B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09480" y="266688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ru.wikipedia.org/wiki/%D6%E8%F0%EA_%E2_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4%F0%E5%E2%ED%E5%EC_%D0%E8%EC%E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457200" y="3809880"/>
            <a:ext cx="8229600" cy="2438640"/>
          </a:xfrm>
          <a:prstGeom prst="bevel">
            <a:avLst>
              <a:gd name="adj" fmla="val 12500"/>
            </a:avLst>
          </a:prstGeom>
          <a:solidFill>
            <a:srgbClr val="afe296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comic"/>
              </a:rPr>
              <a:t> </a:t>
            </a:r>
            <a:r>
              <a:rPr b="1" lang="ru-RU" sz="4800" spc="-1" strike="noStrike">
                <a:solidFill>
                  <a:srgbClr val="000066"/>
                </a:solidFill>
                <a:latin typeface="comic"/>
              </a:rPr>
              <a:t>Как вы думаете, почему римляне пытались переселиться в Рим, что их влекло в «Вечный город» </a:t>
            </a:r>
            <a:r>
              <a:rPr b="1" lang="en-US" sz="4800" spc="-1" strike="noStrike">
                <a:solidFill>
                  <a:srgbClr val="000066"/>
                </a:solidFill>
                <a:latin typeface="comic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4340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сячи жителей Италии и провинций стремились попасть в Рим. Одни по делам, другие – хотели получить выгодную должность. Но всех привлекали гладиаторские игры, гонки колесниц и триумфальные ше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685800" y="152280"/>
            <a:ext cx="807732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Рисунок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28600" y="1523880"/>
            <a:ext cx="3913200" cy="5029200"/>
          </a:xfrm>
          <a:prstGeom prst="rect">
            <a:avLst/>
          </a:prstGeom>
          <a:ln w="47520">
            <a:solidFill>
              <a:srgbClr val="000000"/>
            </a:solidFill>
            <a:miter/>
          </a:ln>
        </p:spPr>
      </p:pic>
      <p:sp>
        <p:nvSpPr>
          <p:cNvPr id="67" name="Rectangle 10"/>
          <p:cNvSpPr/>
          <p:nvPr/>
        </p:nvSpPr>
        <p:spPr>
          <a:xfrm>
            <a:off x="0" y="6095880"/>
            <a:ext cx="4191120" cy="76212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иумфальная а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прославления императоров на многих Форумах строились колон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амой колонне помещались барельефы со сценами жизни императоров, а венчали колонны многометровые статуи императ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685800" y="152280"/>
            <a:ext cx="8077320" cy="1219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Рисунок2"/>
          <p:cNvPicPr/>
          <p:nvPr/>
        </p:nvPicPr>
        <p:blipFill>
          <a:blip r:embed="rId2"/>
          <a:stretch/>
        </p:blipFill>
        <p:spPr>
          <a:xfrm>
            <a:off x="304920" y="1654200"/>
            <a:ext cx="3711600" cy="4975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Рисунок3"/>
          <p:cNvPicPr/>
          <p:nvPr/>
        </p:nvPicPr>
        <p:blipFill>
          <a:blip r:embed="rId2"/>
          <a:stretch/>
        </p:blipFill>
        <p:spPr>
          <a:xfrm>
            <a:off x="380880" y="1454040"/>
            <a:ext cx="8534520" cy="473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7" name="Rectangle 9"/>
          <p:cNvSpPr/>
          <p:nvPr/>
        </p:nvSpPr>
        <p:spPr>
          <a:xfrm>
            <a:off x="228600" y="5486400"/>
            <a:ext cx="8915400" cy="1371600"/>
          </a:xfrm>
          <a:prstGeom prst="rect">
            <a:avLst/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ами и красотой  выделялся огром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фитеатр Колизей, который вмещал 50 ты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се дороги ведут в 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Картинка 6 из 10538"/>
          <p:cNvPicPr/>
          <p:nvPr/>
        </p:nvPicPr>
        <p:blipFill>
          <a:blip r:embed="rId2"/>
          <a:stretch/>
        </p:blipFill>
        <p:spPr>
          <a:xfrm>
            <a:off x="228600" y="1523880"/>
            <a:ext cx="3657600" cy="335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Файл:Pantheon rome 2005may.jpg"/>
          <p:cNvPicPr/>
          <p:nvPr/>
        </p:nvPicPr>
        <p:blipFill>
          <a:blip r:embed="rId3"/>
          <a:stretch/>
        </p:blipFill>
        <p:spPr>
          <a:xfrm>
            <a:off x="4572000" y="15238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228600" y="5029200"/>
            <a:ext cx="8686800" cy="1828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угой достопримечательностью Рима бы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ам Пантеон ( дословно – храм всех бог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был увенчан куполом, внутри наход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ромный з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153-1"/>
          <p:cNvPicPr/>
          <p:nvPr/>
        </p:nvPicPr>
        <p:blipFill>
          <a:blip r:embed="rId2"/>
          <a:stretch/>
        </p:blipFill>
        <p:spPr>
          <a:xfrm>
            <a:off x="228600" y="2209680"/>
            <a:ext cx="3986280" cy="403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няки на городских хол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62160" y="159984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мотрите иллюстрацию на стр. 267 и расскажите, как выглядел дом богатого римля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79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няки на городских холм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Рисунок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95360" y="1523880"/>
            <a:ext cx="8153280" cy="5011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10:13:1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