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1ED0-3078-487F-BE92-418CF05DD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Тема ур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Вечный город» и его жи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44A4-40F0-4A8B-853C-BE6EB2F8FC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A0F2-9DA4-464E-8148-694C477F94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F6F-64CF-4C01-98DB-80AD7DB406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39C5-6C2F-4C7C-B478-8D62D571F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б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D0B5-DE36-4806-86CF-8BD2F8768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пейские те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58BB-AD91-4B66-B419-E020064344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 б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6B4A-A67B-430D-968F-B7FB660EF1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6E9B-5CEF-4267-960C-1902F914C7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17C3-BD07-4F7C-A798-C1DDF1E274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дём итог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на стр. 2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EEA5-B253-47F5-8ED7-0ABCCD20BB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2F1D-68B0-4337-BE38-F5BA4CA9AA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48D6-2F3F-4B3F-B5CD-DEB0C6E636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боте использ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u.wikipedia.org/wiki/%D0%9F%D0%B0%D0%BD%D1%82%D0%B5%D0%BE%D0%BD_(%D0%A0%D0%B8%D0%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52AB-A3CB-4E64-BEFC-541C8C1B30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на ур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12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E770-8813-4952-96F5-AC23EECCB1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C55-CD20-4DA0-A6C1-A5A5F3FC6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славления императоров на многих Форумах строились коло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F089-BE78-4161-B242-2E861D04AF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рами и красотой  выделялся огр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фитеатр Колизей, который вмещал 50 ты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8ABD-9738-4844-A4E3-861D12F719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 достопримечательностью Рима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ам Пантеон ( дословно – храм всех бог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был увенчан куполом, внутри находил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ромный з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F679-DAA5-4654-BA80-6CB1F1C73D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те иллюстрацию на стр. 267 и расскажите, как выглядел дом богатого римля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17E5-6C12-4D4D-8CCA-767C547649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19D7-DFCE-48F7-A190-0890BFC59B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57D-29F9-496D-B6E4-DE267CCA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29B-F5D0-4681-944D-BCE98A01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439-8E95-4BF8-A58D-811B6585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F58-752D-4B86-B170-3ED54FD1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DEB-773B-41FE-B2AA-23C4C44C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374-CBEB-4CAB-8EA6-019B94D0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C74-3259-42EC-9D20-DAFF4F5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438-5A3C-461D-9AEC-D783935A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548-FF61-49AC-8A70-CD570D7A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FBB-3459-47B6-8FEB-AACA1210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394-3EDB-486E-BF5F-8C32D72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6AB-D82B-4B36-9883-CA8B9CF7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F5AF-0516-4EA1-91EA-7E46F55DF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79а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520" y="12952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Вечный город» и его жите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152280" y="3962520"/>
            <a:ext cx="24670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?id=307134789-67-72"/>
          <p:cNvPicPr/>
          <p:nvPr/>
        </p:nvPicPr>
        <p:blipFill>
          <a:blip r:embed="rId3"/>
          <a:stretch/>
        </p:blipFill>
        <p:spPr>
          <a:xfrm>
            <a:off x="5105520" y="4038480"/>
            <a:ext cx="383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2 из 2532"/>
          <p:cNvPicPr/>
          <p:nvPr/>
        </p:nvPicPr>
        <p:blipFill>
          <a:blip r:embed="rId4"/>
          <a:stretch/>
        </p:blipFill>
        <p:spPr>
          <a:xfrm>
            <a:off x="152280" y="-380880"/>
            <a:ext cx="2857680" cy="2004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6"/>
          <p:cNvPicPr/>
          <p:nvPr/>
        </p:nvPicPr>
        <p:blipFill>
          <a:blip r:embed="rId2"/>
          <a:stretch/>
        </p:blipFill>
        <p:spPr>
          <a:xfrm>
            <a:off x="304920" y="228600"/>
            <a:ext cx="5403600" cy="640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867280" y="2133720"/>
            <a:ext cx="3048120" cy="36576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ож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жили бедн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и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2280" y="16002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римлян не могли иметь соб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, поэтому снимали жильё в 5-6 этажных до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28600" y="285768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яки ютились в каморках под черепицей кр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419112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лицах отсутствовали таблички с названиями у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мерами д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28600" y="54864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окон на прохожих часто выливались пом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7640" y="1600200"/>
            <a:ext cx="7848720" cy="12952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ак жилось римля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ногоэтажных до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8600" y="3200400"/>
            <a:ext cx="8763120" cy="3505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ей не было, в сырые и холодные д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ьцы обогревались жаровнями, к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ыпали древесный уголь. Тут же гото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у. Бедняки часто ели всухомятку. В ок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в не было стёкол и закрывались став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ещение 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 из 2532"/>
          <p:cNvPicPr/>
          <p:nvPr/>
        </p:nvPicPr>
        <p:blipFill>
          <a:blip r:embed="rId2"/>
          <a:stretch/>
        </p:blipFill>
        <p:spPr>
          <a:xfrm>
            <a:off x="914400" y="144792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ypocast8"/>
          <p:cNvPicPr/>
          <p:nvPr/>
        </p:nvPicPr>
        <p:blipFill>
          <a:blip r:embed="rId2"/>
          <a:stretch/>
        </p:blipFill>
        <p:spPr>
          <a:xfrm>
            <a:off x="723960" y="1371600"/>
            <a:ext cx="7696080" cy="51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пейские те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Рисунок2"/>
          <p:cNvPicPr/>
          <p:nvPr/>
        </p:nvPicPr>
        <p:blipFill>
          <a:blip r:embed="rId2"/>
          <a:stretch/>
        </p:blipFill>
        <p:spPr>
          <a:xfrm>
            <a:off x="380880" y="1600200"/>
            <a:ext cx="8534520" cy="50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ственная ба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Большой цирк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04920" y="5943600"/>
            <a:ext cx="84582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цирк в 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айл:Circuspainting.jpg"/>
          <p:cNvPicPr/>
          <p:nvPr/>
        </p:nvPicPr>
        <p:blipFill>
          <a:blip r:embed="rId2"/>
          <a:stretch/>
        </p:blipFill>
        <p:spPr>
          <a:xfrm>
            <a:off x="343080" y="1523880"/>
            <a:ext cx="8458200" cy="5099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на стр. 2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304920" y="1828800"/>
            <a:ext cx="8534160" cy="4572000"/>
          </a:xfrm>
          <a:prstGeom prst="roundRect">
            <a:avLst>
              <a:gd name="adj" fmla="val 16667"/>
            </a:avLst>
          </a:prstGeom>
          <a:solidFill>
            <a:srgbClr val="afe2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се дороги ведут в 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Особняки на городских хол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ногоэтажные дома в низинах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хол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. Посещение б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5. Беднота требует « хлеба и зрелищ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0%9F%D0%B0%D0%BD%D1%82%D0%B5%D0%BE%D0%BD_(%D0%A0%D0%B8%D0%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26668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6%E8%F0%EA_%E2_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4%F0%E5%E2%ED%E5%EC_%D0%E8%EC%E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57200" y="3809880"/>
            <a:ext cx="8229600" cy="243864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48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523880"/>
            <a:ext cx="3913200" cy="50292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0" y="6095880"/>
            <a:ext cx="4191120" cy="7621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рославления императоров на многих Форумах строились коло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Рисунок2"/>
          <p:cNvPicPr/>
          <p:nvPr/>
        </p:nvPicPr>
        <p:blipFill>
          <a:blip r:embed="rId2"/>
          <a:stretch/>
        </p:blipFill>
        <p:spPr>
          <a:xfrm>
            <a:off x="304920" y="1654200"/>
            <a:ext cx="3711600" cy="497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Рисунок3"/>
          <p:cNvPicPr/>
          <p:nvPr/>
        </p:nvPicPr>
        <p:blipFill>
          <a:blip r:embed="rId2"/>
          <a:stretch/>
        </p:blipFill>
        <p:spPr>
          <a:xfrm>
            <a:off x="380880" y="1454040"/>
            <a:ext cx="8534520" cy="47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7" name="Rectangle 9"/>
          <p:cNvSpPr/>
          <p:nvPr/>
        </p:nvSpPr>
        <p:spPr>
          <a:xfrm>
            <a:off x="228600" y="5486400"/>
            <a:ext cx="8915400" cy="13716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ами и красотой  выделялся огром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фитеатр Колизей, который вмещал 50 ты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2286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Файл:Pantheon rome 2005may.jpg"/>
          <p:cNvPicPr/>
          <p:nvPr/>
        </p:nvPicPr>
        <p:blipFill>
          <a:blip r:embed="rId3"/>
          <a:stretch/>
        </p:blipFill>
        <p:spPr>
          <a:xfrm>
            <a:off x="45720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228600" y="5029200"/>
            <a:ext cx="8686800" cy="1828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достопримечательностью Рим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м Пантеон ( дословно – храм всех бог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увенчан куполом, внутри нах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ый з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153-1"/>
          <p:cNvPicPr/>
          <p:nvPr/>
        </p:nvPicPr>
        <p:blipFill>
          <a:blip r:embed="rId2"/>
          <a:stretch/>
        </p:blipFill>
        <p:spPr>
          <a:xfrm>
            <a:off x="228600" y="2209680"/>
            <a:ext cx="3986280" cy="40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ю на стр. 267 и расскажите, как выглядел дом богатого римл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5360" y="1523880"/>
            <a:ext cx="8153280" cy="501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3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