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4553-1BD5-4773-8661-E9DDDA14DF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Тема уро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Вечный город» и его жи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0203-2C87-45B2-BB44-7B7C5E50BC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A579-2341-4213-8A8D-D422A31D50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F815-5C20-48ED-A55D-8A0507C2C1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а в квартиры не подавалась, её брали в городских фонтанах и тащили по лестницам на верхний этаж. Грязь и зловоние сопровождали римлян, которые жили в многоэтажных д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0E68-A169-4B2F-8F4B-5D8635A88B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б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C4CD-9D85-4EB1-A9BC-2A36B3FC52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пейские те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F7B5-1FDA-4EA0-8BE4-DECCD6EAD7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 ба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00F9-8B72-4060-A05F-8B34C18718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днота требует « хлеба и зрелищ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2127-00D1-4FF5-8BA8-58229FDF2E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днота требует « хлеба и зрелищ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E14A-C433-49F8-BC2A-B5B78C3581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ведём итог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на стр. 2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E240-5070-4AB7-9AB7-507819890C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A582-732F-4ABC-95F6-8DDB87104B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"/>
              </a:rPr>
              <a:t>Параграф 58, вопросы, записи, твор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20E9-5B4B-4B8B-BA22-1FECE09E33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боте использ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ru.wikipedia.org/wiki/%D0%9F%D0%B0%D0%BD%D1%82%D0%B5%D0%BE%D0%BD_(%D0%A0%D0%B8%D0%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3416-9C59-453F-9B63-3B0EC5BCAB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 на ур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omic"/>
              </a:rPr>
              <a:t>Как вы думаете, почему римляне пытались переселиться в Рим, что их влекло в «Вечный город» </a:t>
            </a:r>
            <a:r>
              <a:rPr b="1" lang="en-US" sz="1200" spc="-1" strike="noStrike">
                <a:solidFill>
                  <a:srgbClr val="000066"/>
                </a:solidFill>
                <a:latin typeface="com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A480-A80B-4818-85C8-D6B24E3DA2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сячи жителей Италии и провинций стремились попасть в Рим. Одни по делам, другие – хотели получить выгодную должность. Но всех привлекали гладиаторские игры, гонки колесниц и триумфальные 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4F38-CFD4-4122-AB1B-A768CE5ACA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прославления императоров на многих Форумах строились коло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амой колонне помещались барельефы со сценами жизни императоров, а венчали колонны многометровые статуи импера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63BC-5135-4FAC-8493-569DF352EE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дороги ведут в Р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рами и красотой  выделялся огр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фитеатр Колизей, который вмещал 50 ты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р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210F-003C-4D23-95BF-089AA548EA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дороги ведут в Р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 достопримечательностью Рима бы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ам Пантеон ( дословно – храм всех бог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был увенчан куполом, внутри находил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громный з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8FA9-D94C-4A13-946D-FAB8FD31F3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обняки на городских холм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те иллюстрацию на стр. 267 и расскажите, как выглядел дом богатого римля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2D27-3BDB-43A1-AD66-1AC4C7DDA4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няки на городских хол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D84D-68FE-4FFA-90BE-046F483A9F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37F-A9DA-49E8-8C96-DCB1BC28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A38-A400-4660-818D-6A1AAFA7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975-2491-4AB8-9E48-4260FD43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D2E-1223-4AF1-87F2-BD69CAC9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66B-C50C-455D-A2A4-C656EFCA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248-16B1-45BE-8D13-3E8F9F6D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552-6DE3-4CD0-A49C-2D105873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F92-14F2-4678-812E-73CC97E3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A47-51E4-445C-B3AA-C56B0A19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AC4-DADD-4711-BC45-53AF6DD6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EC2-04C5-4980-B94E-DE8F0FC4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638-F06E-4ABE-A56F-A6F1B377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01F5-7003-4503-9445-5DF29CA99B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79а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520" y="12952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 Вечный город» и его жител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152280" y="3962520"/>
            <a:ext cx="246708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i?id=307134789-67-72"/>
          <p:cNvPicPr/>
          <p:nvPr/>
        </p:nvPicPr>
        <p:blipFill>
          <a:blip r:embed="rId3"/>
          <a:stretch/>
        </p:blipFill>
        <p:spPr>
          <a:xfrm>
            <a:off x="5105520" y="4038480"/>
            <a:ext cx="3838320" cy="266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а 2 из 2532"/>
          <p:cNvPicPr/>
          <p:nvPr/>
        </p:nvPicPr>
        <p:blipFill>
          <a:blip r:embed="rId4"/>
          <a:stretch/>
        </p:blipFill>
        <p:spPr>
          <a:xfrm>
            <a:off x="152280" y="-380880"/>
            <a:ext cx="2857680" cy="20048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Рисунок6"/>
          <p:cNvPicPr/>
          <p:nvPr/>
        </p:nvPicPr>
        <p:blipFill>
          <a:blip r:embed="rId2"/>
          <a:stretch/>
        </p:blipFill>
        <p:spPr>
          <a:xfrm>
            <a:off x="304920" y="228600"/>
            <a:ext cx="5403600" cy="6400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6" name="Rectangle 6"/>
          <p:cNvSpPr/>
          <p:nvPr/>
        </p:nvSpPr>
        <p:spPr>
          <a:xfrm>
            <a:off x="5867280" y="2133720"/>
            <a:ext cx="3048120" cy="365760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ожи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жили бедня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и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52280" y="160020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нство римлян не могли иметь соб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, поэтому снимали жильё в 5-6 этажных до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228600" y="285768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дняки ютились в каморках под черепицей кр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419112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лицах отсутствовали таблички с названиями ул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омерами до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28600" y="548640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 окон на прохожих часто выливались пом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47640" y="1600200"/>
            <a:ext cx="7848720" cy="12952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положите, как жилось римля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ногоэтажных дом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28600" y="3200400"/>
            <a:ext cx="8763120" cy="3505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чей не было, в сырые и холодные д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льцы обогревались жаровнями, к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сыпали древесный уголь. Тут же готов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у. Бедняки часто ели всухомятку. В ок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ов не было стёкол и закрывались став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да в квартиры не подавалась, её брали в городских фонтанах и тащили по лестницам на верхний этаж. Грязь и зловоние сопровождали римлян, которые жили в многоэтажных дом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ещение б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Картинка 2 из 2532"/>
          <p:cNvPicPr/>
          <p:nvPr/>
        </p:nvPicPr>
        <p:blipFill>
          <a:blip r:embed="rId2"/>
          <a:stretch/>
        </p:blipFill>
        <p:spPr>
          <a:xfrm>
            <a:off x="914400" y="1447920"/>
            <a:ext cx="7315200" cy="51451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ypocast8"/>
          <p:cNvPicPr/>
          <p:nvPr/>
        </p:nvPicPr>
        <p:blipFill>
          <a:blip r:embed="rId2"/>
          <a:stretch/>
        </p:blipFill>
        <p:spPr>
          <a:xfrm>
            <a:off x="723960" y="1371600"/>
            <a:ext cx="7696080" cy="5149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мпейские те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Рисунок2"/>
          <p:cNvPicPr/>
          <p:nvPr/>
        </p:nvPicPr>
        <p:blipFill>
          <a:blip r:embed="rId2"/>
          <a:stretch/>
        </p:blipFill>
        <p:spPr>
          <a:xfrm>
            <a:off x="380880" y="1600200"/>
            <a:ext cx="8534520" cy="50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ественная ба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Большой цирк"/>
          <p:cNvPicPr/>
          <p:nvPr/>
        </p:nvPicPr>
        <p:blipFill>
          <a:blip r:embed="rId2"/>
          <a:stretch/>
        </p:blipFill>
        <p:spPr>
          <a:xfrm>
            <a:off x="304920" y="1447920"/>
            <a:ext cx="8534160" cy="5410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нота требует « хлеба и зрелищ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04920" y="5943600"/>
            <a:ext cx="8458200" cy="914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й цирк в Древнем Р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нота требует « хлеба и зрелищ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Файл:Circuspainting.jpg"/>
          <p:cNvPicPr/>
          <p:nvPr/>
        </p:nvPicPr>
        <p:blipFill>
          <a:blip r:embed="rId2"/>
          <a:stretch/>
        </p:blipFill>
        <p:spPr>
          <a:xfrm>
            <a:off x="343080" y="1523880"/>
            <a:ext cx="8458200" cy="5099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на стр. 2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304920" y="1828800"/>
            <a:ext cx="8534160" cy="4572000"/>
          </a:xfrm>
          <a:prstGeom prst="roundRect">
            <a:avLst>
              <a:gd name="adj" fmla="val 16667"/>
            </a:avLst>
          </a:prstGeom>
          <a:solidFill>
            <a:srgbClr val="afe2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се дороги ведут в 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Особняки на городских хол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Многоэтажные дома в низинах м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хол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4. Посещение б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5. Беднота требует « хлеба и зрелищ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"/>
              </a:rPr>
              <a:t>Параграф 58, вопросы, записи, творческо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0%9F%D0%B0%D0%BD%D1%82%D0%B5%D0%BE%D0%BD_(%D0%A0%D0%B8%D0%B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09480" y="266688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6%E8%F0%EA_%E2_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4%F0%E5%E2%ED%E5%EC_%D0%E8%EC%E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457200" y="3809880"/>
            <a:ext cx="8229600" cy="243864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lang="ru-RU" sz="4800" spc="-1" strike="noStrike">
                <a:solidFill>
                  <a:srgbClr val="000066"/>
                </a:solidFill>
                <a:latin typeface="comic"/>
              </a:rPr>
              <a:t>Как вы думаете, почему римляне пытались переселиться в Рим, что их влекло в «Вечный город» </a:t>
            </a:r>
            <a:r>
              <a:rPr b="1" lang="en-US" sz="4800" spc="-1" strike="noStrike">
                <a:solidFill>
                  <a:srgbClr val="000066"/>
                </a:solidFill>
                <a:latin typeface="comic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4340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сячи жителей Италии и провинций стремились попасть в Рим. Одни по делам, другие – хотели получить выгодную должность. Но всех привлекали гладиаторские игры, гонки колесниц и триумфальные ше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685800" y="152280"/>
            <a:ext cx="807732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Рисунок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8600" y="1523880"/>
            <a:ext cx="3913200" cy="5029200"/>
          </a:xfrm>
          <a:prstGeom prst="rect">
            <a:avLst/>
          </a:prstGeom>
          <a:ln w="47520">
            <a:solidFill>
              <a:srgbClr val="000000"/>
            </a:solidFill>
            <a:miter/>
          </a:ln>
        </p:spPr>
      </p:pic>
      <p:sp>
        <p:nvSpPr>
          <p:cNvPr id="67" name="Rectangle 10"/>
          <p:cNvSpPr/>
          <p:nvPr/>
        </p:nvSpPr>
        <p:spPr>
          <a:xfrm>
            <a:off x="0" y="6095880"/>
            <a:ext cx="4191120" cy="76212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умфальная 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прославления императоров на многих Форумах строились колон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мой колонне помещались барельефы со сценами жизни императоров, а венчали колонны многометровые статуи импера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685800" y="152280"/>
            <a:ext cx="807732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Рисунок2"/>
          <p:cNvPicPr/>
          <p:nvPr/>
        </p:nvPicPr>
        <p:blipFill>
          <a:blip r:embed="rId2"/>
          <a:stretch/>
        </p:blipFill>
        <p:spPr>
          <a:xfrm>
            <a:off x="304920" y="1654200"/>
            <a:ext cx="3711600" cy="4975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Рисунок3"/>
          <p:cNvPicPr/>
          <p:nvPr/>
        </p:nvPicPr>
        <p:blipFill>
          <a:blip r:embed="rId2"/>
          <a:stretch/>
        </p:blipFill>
        <p:spPr>
          <a:xfrm>
            <a:off x="380880" y="1454040"/>
            <a:ext cx="8534520" cy="473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7" name="Rectangle 9"/>
          <p:cNvSpPr/>
          <p:nvPr/>
        </p:nvSpPr>
        <p:spPr>
          <a:xfrm>
            <a:off x="228600" y="5486400"/>
            <a:ext cx="8915400" cy="1371600"/>
          </a:xfrm>
          <a:prstGeom prst="rect">
            <a:avLst/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ами и красотой  выделялся огром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фитеатр Колизей, который вмещал 50 ты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228600" y="1523880"/>
            <a:ext cx="3657600" cy="335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Файл:Pantheon rome 2005may.jpg"/>
          <p:cNvPicPr/>
          <p:nvPr/>
        </p:nvPicPr>
        <p:blipFill>
          <a:blip r:embed="rId3"/>
          <a:stretch/>
        </p:blipFill>
        <p:spPr>
          <a:xfrm>
            <a:off x="4572000" y="15238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228600" y="5029200"/>
            <a:ext cx="8686800" cy="1828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ой достопримечательностью Рима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ам Пантеон ( дословно – храм всех бог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был увенчан куполом, внутри нахо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ый з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153-1"/>
          <p:cNvPicPr/>
          <p:nvPr/>
        </p:nvPicPr>
        <p:blipFill>
          <a:blip r:embed="rId2"/>
          <a:stretch/>
        </p:blipFill>
        <p:spPr>
          <a:xfrm>
            <a:off x="228600" y="2209680"/>
            <a:ext cx="3986280" cy="403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няки на городских хол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62160" y="15998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отрите иллюстрацию на стр. 267 и расскажите, как выглядел дом богатого римля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няки на городских хол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Рисунок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95360" y="1523880"/>
            <a:ext cx="8153280" cy="5011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10:13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