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4A87-494D-4524-A7B4-5DDFE47791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cc156"/>
                </a:solidFill>
                <a:latin typeface="Calibri"/>
              </a:rPr>
              <a:t>« Города Эллады подчиняются Македо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7392-8CC7-46E8-B482-5A8C815D31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было от 6 до 9 ря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длинной до 2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ая конница была лёгкой по вооружению и  незначительной по своим размер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фаланге от 16 и более ря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ница была тяжёлой и огром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мели метательные орудия, с помощью которых бросали камни, брёвна и большие стре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A676C-D368-46E4-83E6-71A3E2705A47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ла из 16 ря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оины держали копья впереди с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е клали копья впереди стоящему на плеч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раг заходил с тыла, им нужно было лишь поверну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ья были разной длины, самое большое – 5 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0536-1EEE-4EAF-A745-ED903A3538B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мосфен о стратегии Филип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92B2-5A87-4741-9E0F-4A5FC661E056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аботаем по учебник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ойте учебник на стр. 188-189 п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. 189- о Демосф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87D2-B779-46A1-AC60-35DB40A1AA91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читайте об этом самостоятельно  на стр. 189-190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FA8-39E3-4775-8725-4D85CC022F8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ьте на вопросы в конце параграф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тр. 19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8506-0A01-47B2-A8A4-75D58FAA02DF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раграф 41, вопросы, записи, задания в рабочей тетра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9D02-23FA-40E3-B741-24B17B2656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накомимся с новыми пон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удем развивать  умение работать с учебником; историческим источн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766-146B-422D-A405-64EF6EFE961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лан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кедонский царь Филипп стрем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корить сосе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Потеря Грецией не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иход к власти Алексан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218D-B642-4134-BF14-C9879414CAB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яем 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рминологический дикт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3691-5D29-4A94-9C73-C02E0EA2339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атег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) теа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ай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) орхест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икл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) комед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рат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) краснореч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геди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) ск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58DC-BB00-4E4B-99E0-40FA3794B564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а, соперничавшие между соб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6D4-59AD-466A-AA85-1F4F5E70D5A9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едонский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F40A-AC7C-400F-8AC9-181950207EA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Ш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жаный панци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углый щ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роткий ме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линное копь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F22E-DC44-4BCE-B04E-92CBB3B83E2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D10-4D1D-431F-A517-508A6567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A6E-CE12-4CA0-B464-14E52432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B1E-D102-44A3-843D-F73D7E60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FD6C-FDA4-483A-8898-63AB71CE2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50A6-A44B-41D4-92D0-F411D94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350AC-1388-4F35-A508-C467FE91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69F1-2771-41AD-9ED3-18F49AFFC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8B22-6BAF-489A-8B8E-7D8AC155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E3C3-AD28-4AE5-B6EC-0F0C6086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4456-FE43-44E5-8239-3FBB3DD7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348C-5758-4947-9F56-F9685AE7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B246-5A3D-404B-87B6-982E48BB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028F-102E-447E-8C08-5BE9B526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A072-6CA5-4B25-8808-2EA3633A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CC20-D2E1-44C7-B85D-DC9AADE5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EC4D-1955-4769-9F38-582916BA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0EAE-A88E-4EA0-A2FE-DC46BF20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9FE-B56C-4F5B-A26A-46732378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416-6943-44A4-B70B-CE9ACA7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908F-A278-46FE-A77D-A8CB753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447B-8B3C-40EA-A796-6E163D8D3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CFD5-E66B-4B22-A83C-E36B36E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5CE2-EF28-4348-AA92-799DA706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A2D-00F0-484A-8BF9-8E574637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038E-BCB1-4BDB-A82D-1ECA34C264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76"/>
            </a:gs>
            <a:gs pos="50000">
              <a:srgbClr val="9933ff"/>
            </a:gs>
            <a:gs pos="100000">
              <a:srgbClr val="47187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C180-E9DF-489E-A49A-A561F36742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Тема урока: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6840" y="2514600"/>
            <a:ext cx="83818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cc156"/>
                </a:solidFill>
                <a:latin typeface="Times New Roman"/>
              </a:rPr>
              <a:t>« Города Эллады подчиняются Македонии»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4114800" y="4876920"/>
            <a:ext cx="4876920" cy="13716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териал разработан учителем истор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удинской ООШ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тоненковой А.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было от 6 до 9 ряд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длинной до 2 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реческая конница была лёгкой по вооружению и  незначительной по своим размер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фаланге от 16 и более ряд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пья были неодинаковой длины: у первого ряда короткие, у второго длиннее, у третьего длиннее, чем у второг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ница была тяжёлой и огромн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мели метательные орудия, с помощью которых бросали камни, брёвна и большие стрел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" y="228600"/>
            <a:ext cx="8534520" cy="106668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авним греческую и македонскую арм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стояла из 16 рядов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ервые воины держали копья впереди себ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едующие клали копья впереди стоящему на плечо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Если враг заходил с тыла, им нужно было лишь повернуться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пья были разной длины, самое большое – 5 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04920" y="228600"/>
            <a:ext cx="8229600" cy="1219320"/>
          </a:xfrm>
          <a:prstGeom prst="rect">
            <a:avLst/>
          </a:prstGeom>
          <a:solidFill>
            <a:srgbClr val="feec94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троение македонской фаланг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Демосфен о стратегии Филипп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ежде лакедемоняне в течение четырех или пяти месяцев, как раз в самую лучшую пору года, вторгнутся, бывало, опустошат страну противников своими гоплитами, то есть гражданским ополчением, и потом уходят обратно домой… это была какая-то честная и открытая война. Теперь же… большинство дел погубили предатели и ничего не решается выступлениями на поле битвы или правильными сражениями… И я не говорю уж о том, что ему [Филиппу] совершенно безразлично, зима ли стоит в это время или лето, и он не делает изъятия ни для какой поры года и ни в какую пору не приостанавливает своих действи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работаем по учебнику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кройте учебник на стр. 188-189 п.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тр. 189- о Демосфен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сё было готово к выступлению, но осуществить данный поход Филиппу не удалось. Как вы думаете, почему?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Прочитайте об этом самостоятельно  на стр. 189-190.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5" descr="230px-Pausanius_assassinates_Philip_during_the_procession_into_the_theatre_by_Andre_Castaigne_%281898-1899%29"/>
          <p:cNvPicPr/>
          <p:nvPr/>
        </p:nvPicPr>
        <p:blipFill>
          <a:blip r:embed="rId1"/>
          <a:stretch/>
        </p:blipFill>
        <p:spPr>
          <a:xfrm>
            <a:off x="609480" y="1523880"/>
            <a:ext cx="3272040" cy="53341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9"/>
          <p:cNvSpPr/>
          <p:nvPr/>
        </p:nvSpPr>
        <p:spPr>
          <a:xfrm>
            <a:off x="457200" y="380880"/>
            <a:ext cx="8077320" cy="91440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Убийство Филиппа II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10"/>
          <p:cNvSpPr/>
          <p:nvPr/>
        </p:nvSpPr>
        <p:spPr>
          <a:xfrm>
            <a:off x="0" y="5943600"/>
            <a:ext cx="3962520" cy="914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бийство Филипп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авсани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ветьте на вопросы в конце параграф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стр. 19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33520" y="457200"/>
            <a:ext cx="8001000" cy="106668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ведём итог урок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машнее зад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Параграф 41, вопросы, записи, задания в рабочей тетрад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выясним причины упадка Греции, которые в свою очередь стали причиной подчинения её Македонией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знакомимся с новыми понятия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Будем развивать  умение работать с учебником; историческим источнико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457200" y="380880"/>
            <a:ext cx="8305920" cy="10670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762120" y="685800"/>
            <a:ext cx="7696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годня на урок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95360" y="228600"/>
            <a:ext cx="8153280" cy="9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WordArt 5"/>
          <p:cNvSpPr txBox="1"/>
          <p:nvPr/>
        </p:nvSpPr>
        <p:spPr>
          <a:xfrm>
            <a:off x="2209680" y="380880"/>
            <a:ext cx="4953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лан урока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80880" y="1447920"/>
            <a:ext cx="8382240" cy="4800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акедонский царь Филипп стремит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корить сосед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Потеря Грецией независим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Приход к власти Александр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52280" y="533520"/>
            <a:ext cx="8305920" cy="914400"/>
          </a:xfrm>
          <a:prstGeom prst="rect">
            <a:avLst/>
          </a:prstGeom>
          <a:solidFill>
            <a:srgbClr val="feec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380880" y="609480"/>
            <a:ext cx="7772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веряем домашнее задание: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1295280" y="2819520"/>
            <a:ext cx="655344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ерминологический диктан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ратег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) теат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йное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) орхестр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ерикл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) комед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ратор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9) красноречи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агедия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10) скен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762120" y="304920"/>
            <a:ext cx="7772400" cy="1066680"/>
          </a:xfrm>
          <a:prstGeom prst="rect">
            <a:avLst/>
          </a:prstGeom>
          <a:solidFill>
            <a:srgbClr val="feec94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ьте себ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ода, соперничавшие между соб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356724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7" descr="http://www.touravia.ru/netcat_files/298_44.jpg"/>
          <p:cNvPicPr/>
          <p:nvPr/>
        </p:nvPicPr>
        <p:blipFill>
          <a:blip r:embed="rId1"/>
          <a:stretch/>
        </p:blipFill>
        <p:spPr>
          <a:xfrm>
            <a:off x="304920" y="1600200"/>
            <a:ext cx="4038480" cy="283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http://tury.pokarmanu.ru/photogallery/sparta-1.jpg"/>
          <p:cNvPicPr/>
          <p:nvPr/>
        </p:nvPicPr>
        <p:blipFill>
          <a:blip r:embed="rId2"/>
          <a:stretch/>
        </p:blipFill>
        <p:spPr>
          <a:xfrm>
            <a:off x="4800600" y="3733920"/>
            <a:ext cx="4038480" cy="268596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10"/>
          <p:cNvSpPr/>
          <p:nvPr/>
        </p:nvSpPr>
        <p:spPr>
          <a:xfrm>
            <a:off x="1600200" y="4495680"/>
            <a:ext cx="1600200" cy="60984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фи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6019920" y="2971800"/>
            <a:ext cx="1523880" cy="609480"/>
          </a:xfrm>
          <a:prstGeom prst="rect">
            <a:avLst/>
          </a:prstGeom>
          <a:solidFill>
            <a:srgbClr val="feec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пар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12"/>
          <p:cNvSpPr/>
          <p:nvPr/>
        </p:nvSpPr>
        <p:spPr>
          <a:xfrm rot="1938000">
            <a:off x="3657240" y="3886200"/>
            <a:ext cx="1522440" cy="485640"/>
          </a:xfrm>
          <a:prstGeom prst="leftRightArrow">
            <a:avLst>
              <a:gd name="adj1" fmla="val 50000"/>
              <a:gd name="adj2" fmla="val 624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350028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5" descr="350px-Map_Macedonia_336_BC-r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2209680" y="0"/>
            <a:ext cx="2057400" cy="60948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едо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609480"/>
            <a:ext cx="609480" cy="762120"/>
          </a:xfrm>
          <a:prstGeom prst="downArrow">
            <a:avLst>
              <a:gd name="adj1" fmla="val 50000"/>
              <a:gd name="adj2" fmla="val 31261"/>
            </a:avLst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акедонский царь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85776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7" descr="http://sputnik.master-telecom.ru/Kultura/rulers.narod.ru/alexander/philip.jpg"/>
          <p:cNvPicPr/>
          <p:nvPr/>
        </p:nvPicPr>
        <p:blipFill>
          <a:blip r:embed="rId1"/>
          <a:stretch/>
        </p:blipFill>
        <p:spPr>
          <a:xfrm>
            <a:off x="609480" y="1163520"/>
            <a:ext cx="3673440" cy="4530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0" y="1295280"/>
            <a:ext cx="41148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илипп II родился в 382 до н. э. в городе Пелла, столице древней Македонии. Отцом его был царь Аминта III, мать Эвридика происходила из знатного рода Линкестидов, правивших долгое время независимо на северо-западе Македон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152280" y="5715000"/>
            <a:ext cx="419112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илипп I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Шле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жаный панцир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руглый щи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Короткий ме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Длинное копь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Picture 5" descr="200px-Macedonian_Army_Thessalian"/>
          <p:cNvPicPr/>
          <p:nvPr/>
        </p:nvPicPr>
        <p:blipFill>
          <a:blip r:embed="rId1"/>
          <a:stretch/>
        </p:blipFill>
        <p:spPr>
          <a:xfrm>
            <a:off x="4343400" y="1600200"/>
            <a:ext cx="4191120" cy="3897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962520" y="5638680"/>
            <a:ext cx="4952880" cy="99072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акедонский кавалерист с саркофаг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лександра Великого (IV в. до н. э.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838080" y="228600"/>
            <a:ext cx="7772400" cy="914400"/>
          </a:xfrm>
          <a:prstGeom prst="rect">
            <a:avLst/>
          </a:prstGeom>
          <a:solidFill>
            <a:srgbClr val="feec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оружение пехотинц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14T10:14:1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