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138D-7BDE-4454-B6AE-229A860208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cc156"/>
                </a:solidFill>
                <a:latin typeface="Calibri"/>
              </a:rPr>
              <a:t>« Города Эллады подчиняются Македо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F4A6-F969-4051-8E20-AF3429F1F5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было от 6 до 9 р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длинной до 2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ая конница была лёгкой по вооружению и  незначительной по своим разме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от 16 и более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ница была тяжёлой и огром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ели метательные орудия, с помощью которых бросали камни, брёвна и большие стре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BDE0-BA46-4371-9021-19F4EC990D5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ла из 16 ря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оины держали копья впереди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клали копья впереди стоящему на плеч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раг заходил с тыла, им нужно было лишь поверну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ья были разной длины, самое большое – 5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86EB-2343-4E7F-8337-F4755CE968C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сфен о стратегии Фили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27A9-CD71-4C2D-AD50-5E731212BF1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188-189 п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. 189- о Демосф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CC1D-CA12-4112-BBBF-EE91CB8B570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читайте об этом самостоятельно  на стр. 189-190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7DD5-8600-4850-9034-0A511BFE39E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в конце парагра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р. 1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5805-E0A7-4451-AB1B-B53EB82DE7F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граф 41, вопросы, записи, задания в рабочей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4C5F-AEB7-40BE-94DC-FCEDCBFCD0E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мся с новыми пон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ем развивать  умение работать с учебником; историческим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D334-BDB9-418F-A085-73F2D81964E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кедонский царь Филипп стрем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рить сосе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Потеря Грецией не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иход к власти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8B55-86A0-414D-B756-18B153367C3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рминологический дик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56E4-A004-4352-8D4D-DA52D867EBA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те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)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й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) орхес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ик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)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а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) красноре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гед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) ск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0D61-5289-43E5-9AF5-04EF85E37FE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, соперничавшие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7F74-84CD-4BF1-8292-D8405AED2CF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едонский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071F-4234-42DB-A43C-D3B0A3DB80E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жаный панци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лый щ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откий ме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инное копь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6CA5-18D9-4F8C-A3C1-99D20A3BF6F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C0F-CEDC-4FD3-9D47-4F04D21E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E3C-98A5-4D8C-9A32-686504CD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1A1-5F4C-45D3-BA20-40E4AF2D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F1A-0371-4E88-87A2-65339062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4CFE-0C1B-45A6-9148-40E8939A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5C89-2C2E-4BC0-A11D-135A8169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7C6D-232E-4EB3-A479-0200C6D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9FC1-ECFA-4392-AF35-BCD2B52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6F3C-11E8-4130-AC91-CAD89567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E641-5B8B-4C14-B76A-7E0CFDAE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0A0-9669-477B-A559-20975FF4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833-1658-4E7C-8D97-3FA3FA55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FDC5-DC62-4803-8F0D-284178B8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025C-B5BA-4B89-A481-0F27E480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441F-90A2-4A6B-9F10-DC56D8F9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194A-864F-481F-B5B5-45116E4E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F697-511A-40F2-91FD-2432B3D1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7C7-4FE6-4620-81CC-F9150EA5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431-3B8C-43FA-9941-5DC0E63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39B-AF97-4C29-A2ED-2447EF7D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CC6-076E-4644-A6CD-EDC0035F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F6B-1EA2-4DD9-B029-FD262B41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4F3-6058-4955-BB3D-C5F38B9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321-1BED-4EED-964C-F2420D14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510B-1214-4A2D-A9AE-130E001D82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C869-6EED-4DB7-AAC1-1B9751EDED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Тема урока: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6840" y="2514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cc156"/>
                </a:solidFill>
                <a:latin typeface="Times New Roman"/>
              </a:rPr>
              <a:t>« Города Эллады подчиняются Македонии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114800" y="4876920"/>
            <a:ext cx="48769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риал разработан учителем ист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инской ОО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тоненковой А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было от 6 до 9 ря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длинной до 2 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еческая конница была лёгкой по вооружению и  незначительной по своим размер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от 16 и более ря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ница была тяжёлой и огром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ели метательные орудия, с помощью которых бросали камни, брёвна и большие стре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57200" y="228600"/>
            <a:ext cx="8534520" cy="106668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м греческую и македонскую арм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ла из 16 ряд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воины держали копья впереди себ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ющие клали копья впереди стоящему на плеч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враг заходил с тыла, им нужно было лишь повернутьс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пья были разной длины, самое большое – 5 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04920" y="228600"/>
            <a:ext cx="8229600" cy="121932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ие македонской фаланг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емосфен о стратегии Филипп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работаем по учебни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кройте учебник на стр. 188-189 п.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р. 189- о Демосфе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читайте об этом самостоятельно  на стр. 189-190.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5" descr="230px-Pausanius_assassinates_Philip_during_the_procession_into_the_theatre_by_Andre_Castaigne_%281898-1899%29"/>
          <p:cNvPicPr/>
          <p:nvPr/>
        </p:nvPicPr>
        <p:blipFill>
          <a:blip r:embed="rId1"/>
          <a:stretch/>
        </p:blipFill>
        <p:spPr>
          <a:xfrm>
            <a:off x="609480" y="1523880"/>
            <a:ext cx="3272040" cy="53341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457200" y="380880"/>
            <a:ext cx="8077320" cy="914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ийство Филиппа I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5943600"/>
            <a:ext cx="39625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ийство Филипп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вса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ьте на вопросы в конце параграф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стр. 1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3520" y="457200"/>
            <a:ext cx="8001000" cy="1066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ём итог ур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араграф 41, вопросы, записи, задания в рабочей тетрад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знакомимся с новыми понятиям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удем развивать  умение работать с учебником; историческим источник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762120" y="685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годня на урок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95360" y="228600"/>
            <a:ext cx="81532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209680" y="3808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80880" y="1447920"/>
            <a:ext cx="838224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кедонский царь Филипп стреми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орить сосе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отеря Грецией независим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Приход к власти Александ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52280" y="533520"/>
            <a:ext cx="8305920" cy="914400"/>
          </a:xfrm>
          <a:prstGeom prst="rect">
            <a:avLst/>
          </a:prstGeom>
          <a:solidFill>
            <a:srgbClr val="feec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380880" y="60948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яем 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1295280" y="2819520"/>
            <a:ext cx="655344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рминологический диктан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атег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) теат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йно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) орхе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ик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) комед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рато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9) краснореч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агед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0) ске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62120" y="304920"/>
            <a:ext cx="7772400" cy="1066680"/>
          </a:xfrm>
          <a:prstGeom prst="rect">
            <a:avLst/>
          </a:prstGeom>
          <a:solidFill>
            <a:srgbClr val="feec94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верьте себ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орода, соперничавшие между соб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5672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http://www.touravia.ru/netcat_files/298_44.jpg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283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ury.pokarmanu.ru/photogallery/sparta-1.jpg"/>
          <p:cNvPicPr/>
          <p:nvPr/>
        </p:nvPicPr>
        <p:blipFill>
          <a:blip r:embed="rId2"/>
          <a:stretch/>
        </p:blipFill>
        <p:spPr>
          <a:xfrm>
            <a:off x="4800600" y="373392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1600200" y="4495680"/>
            <a:ext cx="1600200" cy="60984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6019920" y="2971800"/>
            <a:ext cx="1523880" cy="60948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р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 rot="1938000">
            <a:off x="3657240" y="3886200"/>
            <a:ext cx="1522440" cy="485640"/>
          </a:xfrm>
          <a:prstGeom prst="leftRightArrow">
            <a:avLst>
              <a:gd name="adj1" fmla="val 50000"/>
              <a:gd name="adj2" fmla="val 624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5002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350px-Map_Macedonia_336_BC-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2209680" y="0"/>
            <a:ext cx="205740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едо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514600" y="60948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кедонский ц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85776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http://sputnik.master-telecom.ru/Kultura/rulers.narod.ru/alexander/philip.jpg"/>
          <p:cNvPicPr/>
          <p:nvPr/>
        </p:nvPicPr>
        <p:blipFill>
          <a:blip r:embed="rId1"/>
          <a:stretch/>
        </p:blipFill>
        <p:spPr>
          <a:xfrm>
            <a:off x="609480" y="1163520"/>
            <a:ext cx="3673440" cy="4530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14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52280" y="5715000"/>
            <a:ext cx="419112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липп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ле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жаный панцир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руглый щ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откий ме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линное копь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200px-Macedonian_Army_Thessalian"/>
          <p:cNvPicPr/>
          <p:nvPr/>
        </p:nvPicPr>
        <p:blipFill>
          <a:blip r:embed="rId1"/>
          <a:stretch/>
        </p:blipFill>
        <p:spPr>
          <a:xfrm>
            <a:off x="4343400" y="1600200"/>
            <a:ext cx="4191120" cy="3897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962520" y="5638680"/>
            <a:ext cx="4952880" cy="99072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едонский кавалерист с саркофа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ександра Великого (IV в. до н. э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838080" y="228600"/>
            <a:ext cx="777240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оружение пехотинц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4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