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338F-C43F-4083-9408-79F8E98F83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1945-19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4772-F118-40FE-B073-3B7BA7B022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FA28-8C8B-4D85-8961-04353A8893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ариб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6ECF-367E-4009-AE5F-EDB03E86BB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убинская революция (1953 – 1959 )</a:t>
            </a: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6979-FE80-4F3E-A16D-F2B63A8342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Джон Кенн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Джон Кеннеди был убит 22 ноября 1963 года в городе Даллас (штат Тех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7C88-345C-49CF-85A6-8FD1E8CD11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8499-64A5-4963-9B5D-E4A449EA04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Calibri"/>
              </a:rPr>
              <a:t>Во </a:t>
            </a: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2539-4DE7-4A99-AE4B-61D945C7A4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E6B0-1447-48A7-B6AD-3CF92372D4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1F84-EE86-47B9-83D0-DA65111346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Встреча на Эльбе (25 апреля 1945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435A-9398-4D9C-89AC-85D6321B02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США в период «холодной вой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F061-FBC2-4A69-81FA-33BD897886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орей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5C71-DC38-467C-AB1A-4F59EF07B7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B160-629E-46F5-80E6-DC5C78D26E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1ED-9183-4D0F-88FD-0B163BFF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F93-AA05-4954-BA8F-423FC33A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316-B4B1-4029-A325-FDCAD4C2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5A9-D03A-4933-A667-D205E2CE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5AB-3E82-43A9-8169-4E27E4E5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AB4-613B-4463-B1F8-8E3C4AA4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FB5-A30E-4410-BD5B-912FEDA6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D95-D80B-4FDC-9A36-BD1ABC3F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F85-A6E6-49C2-BDAB-16F29E18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C82-DD31-4CB7-9608-1A86C47D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E4C-06EF-4CB2-86E8-7787BCD0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B37-AD50-4681-A83B-B11F6A16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D3FB-0A2F-457F-A3FE-93DEB3F563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gif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ША 1945-196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Мои документы\Downloads\travelplanet-usa.gif"/>
          <p:cNvPicPr/>
          <p:nvPr/>
        </p:nvPicPr>
        <p:blipFill>
          <a:blip r:embed="rId1"/>
          <a:stretch/>
        </p:blipFill>
        <p:spPr>
          <a:xfrm>
            <a:off x="1214280" y="1643040"/>
            <a:ext cx="6786720" cy="4524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2" descr="1256646516_karibskij-krizis-q.jpg"/>
          <p:cNvPicPr/>
          <p:nvPr/>
        </p:nvPicPr>
        <p:blipFill>
          <a:blip r:embed="rId1"/>
          <a:stretch/>
        </p:blipFill>
        <p:spPr>
          <a:xfrm>
            <a:off x="214200" y="1571760"/>
            <a:ext cx="4071960" cy="4390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8" name="TextBox 3"/>
          <p:cNvSpPr/>
          <p:nvPr/>
        </p:nvSpPr>
        <p:spPr>
          <a:xfrm>
            <a:off x="857160" y="607212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Кеннеди и Н.Хруще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456px-Cuban_crisis_map_missile_range.jpg"/>
          <p:cNvPicPr/>
          <p:nvPr/>
        </p:nvPicPr>
        <p:blipFill>
          <a:blip r:embed="rId2"/>
          <a:stretch/>
        </p:blipFill>
        <p:spPr>
          <a:xfrm>
            <a:off x="4429080" y="1571760"/>
            <a:ext cx="4429080" cy="44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00" name="TextBox 5"/>
          <p:cNvSpPr/>
          <p:nvPr/>
        </p:nvSpPr>
        <p:spPr>
          <a:xfrm>
            <a:off x="5429160" y="621504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рибский кризис 196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арибский криз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Кубинская революция (1953 – 1959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929200" y="1428840"/>
            <a:ext cx="2667240" cy="2800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5421600" y="435780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дель Алехандро Ка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с, лидер Куби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00040" y="3143160"/>
            <a:ext cx="340524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517680" y="592920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Никита Хрущёв и Джон Кенн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Ведут мирные перего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Прямоугольник 9"/>
          <p:cNvGrpSpPr/>
          <p:nvPr/>
        </p:nvGrpSpPr>
        <p:grpSpPr>
          <a:xfrm>
            <a:off x="3876840" y="1158840"/>
            <a:ext cx="5181480" cy="4761000"/>
            <a:chOff x="3876840" y="1158840"/>
            <a:chExt cx="5181480" cy="4761000"/>
          </a:xfrm>
        </p:grpSpPr>
        <p:pic>
          <p:nvPicPr>
            <p:cNvPr id="112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3876840" y="1158840"/>
              <a:ext cx="518148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143240" y="1428840"/>
              <a:ext cx="464364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61645"/>
                  </a:solidFill>
                  <a:latin typeface="Arial"/>
                </a:rPr>
  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Джон Кенн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554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Джон Кеннеди был убит 22 ноября 1963 года в городе Даллас (штат Тех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215040" y="142884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6296760" y="4714920"/>
            <a:ext cx="259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Джон Фицджераль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Кеннеди, 35-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президент СШ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0 января 1961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2 ноября 196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714240" y="2714760"/>
            <a:ext cx="47307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85716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Это покушение до сих пор остается одной из величайших загадок ХХ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Трумен.jpg"/>
          <p:cNvPicPr/>
          <p:nvPr/>
        </p:nvPicPr>
        <p:blipFill>
          <a:blip r:embed="rId1"/>
          <a:stretch/>
        </p:blipFill>
        <p:spPr>
          <a:xfrm>
            <a:off x="214200" y="1500120"/>
            <a:ext cx="3632400" cy="5079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3" name="TextBox 3"/>
          <p:cNvSpPr/>
          <p:nvPr/>
        </p:nvSpPr>
        <p:spPr>
          <a:xfrm>
            <a:off x="4071960" y="614376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США Гарри Трумен. 1945-1852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1233688484karta_ssha.jpg"/>
          <p:cNvPicPr/>
          <p:nvPr/>
        </p:nvPicPr>
        <p:blipFill>
          <a:blip r:embed="rId2"/>
          <a:stretch/>
        </p:blipFill>
        <p:spPr>
          <a:xfrm>
            <a:off x="4095720" y="1714680"/>
            <a:ext cx="4813200" cy="35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2880" y="1571400"/>
            <a:ext cx="500076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Во </a:t>
            </a: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3857760" cy="3060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42920" y="564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инкор «Аризона» горит после взрыва, вызванного попаданием японской бом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214200"/>
            <a:ext cx="8715600" cy="1739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Маккарти.jpg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435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4" name="TextBox 3"/>
          <p:cNvSpPr/>
          <p:nvPr/>
        </p:nvSpPr>
        <p:spPr>
          <a:xfrm>
            <a:off x="4071960" y="63579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.Маккар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Конгресс.jpg"/>
          <p:cNvPicPr/>
          <p:nvPr/>
        </p:nvPicPr>
        <p:blipFill>
          <a:blip r:embed="rId2"/>
          <a:stretch/>
        </p:blipFill>
        <p:spPr>
          <a:xfrm>
            <a:off x="4357800" y="2143080"/>
            <a:ext cx="4214880" cy="3160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6" name="TextBox 5"/>
          <p:cNvSpPr/>
          <p:nvPr/>
        </p:nvSpPr>
        <p:spPr>
          <a:xfrm>
            <a:off x="5072040" y="54291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гресс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2880" y="1285920"/>
            <a:ext cx="5000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3802320" cy="2876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214200" y="5500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Американские солд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на пляже Омаха в Норман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6 июня 19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Встреча на Эльбе (25 апреля 1945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37212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929040" y="1285920"/>
            <a:ext cx="4157640" cy="281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143000" y="3857760"/>
            <a:ext cx="3452760" cy="263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Пользователь\Мои документы\3dflagsdotcom_usa_2fawl.gif"/>
          <p:cNvPicPr/>
          <p:nvPr/>
        </p:nvPicPr>
        <p:blipFill>
          <a:blip r:embed="rId4"/>
          <a:stretch/>
        </p:blipFill>
        <p:spPr>
          <a:xfrm>
            <a:off x="214200" y="4594320"/>
            <a:ext cx="1328760" cy="90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6357960" y="3286080"/>
            <a:ext cx="2465280" cy="32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Пользователь\Мои документы\soviet.gif"/>
          <p:cNvPicPr/>
          <p:nvPr/>
        </p:nvPicPr>
        <p:blipFill>
          <a:blip r:embed="rId6"/>
          <a:stretch/>
        </p:blipFill>
        <p:spPr>
          <a:xfrm>
            <a:off x="4705200" y="4567320"/>
            <a:ext cx="1486080" cy="10764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 период «холодной вой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5600" y="1600200"/>
            <a:ext cx="69008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285840" y="1357200"/>
            <a:ext cx="1328760" cy="906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орейск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57360" y="1600200"/>
            <a:ext cx="532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68120" y="1357200"/>
            <a:ext cx="3403800" cy="5140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14200" y="214200"/>
            <a:ext cx="8715600" cy="1465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0004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Президент Д.Эйзенхауэр. 1952- 1960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Эйзенхауэр.jpg"/>
          <p:cNvPicPr/>
          <p:nvPr/>
        </p:nvPicPr>
        <p:blipFill>
          <a:blip r:embed="rId1"/>
          <a:stretch/>
        </p:blipFill>
        <p:spPr>
          <a:xfrm>
            <a:off x="428760" y="1857240"/>
            <a:ext cx="3071520" cy="4016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93" name="Рисунок 4" descr="Кеннеди.jpg"/>
          <p:cNvPicPr/>
          <p:nvPr/>
        </p:nvPicPr>
        <p:blipFill>
          <a:blip r:embed="rId2"/>
          <a:stretch/>
        </p:blipFill>
        <p:spPr>
          <a:xfrm>
            <a:off x="5072040" y="1857240"/>
            <a:ext cx="3365640" cy="4130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4" name="TextBox 5"/>
          <p:cNvSpPr/>
          <p:nvPr/>
        </p:nvSpPr>
        <p:spPr>
          <a:xfrm>
            <a:off x="542916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Д.Кеннеди. 1960- 196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0:05:04Z</dcterms:created>
  <dc:creator>GENA</dc:creator>
  <dc:description/>
  <dc:language>en-US</dc:language>
  <cp:lastModifiedBy>LEGION</cp:lastModifiedBy>
  <dcterms:modified xsi:type="dcterms:W3CDTF">2015-01-14T10:15:07Z</dcterms:modified>
  <cp:revision>13</cp:revision>
  <dc:subject/>
  <dc:title>Слайд 1</dc:title>
</cp:coreProperties>
</file>