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35C4-D00A-468E-A23C-AEADA4A24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ША 1945-19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DD6-B308-4D54-8CCF-A924596052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F09A-4B29-459B-9160-33FD051FEB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арибский кри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F707-C555-445A-B03E-2F46A1B424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убинская революция (1953 – 1959 )</a:t>
            </a: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84807"/>
                </a:solidFill>
                <a:latin typeface="Calibri"/>
              </a:rPr>
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13C-CD1C-471C-97A6-8165295D7F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Джон Кенн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Джон Кеннеди был убит 22 ноября 1963 года в городе Даллас (штат Теха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7B12-E4FF-4235-8349-281DA3DCDA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CAF-A9EE-483A-ACD5-BBCB435FB3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d0d0d"/>
                </a:solidFill>
                <a:latin typeface="Calibri"/>
              </a:rPr>
              <a:t>Во </a:t>
            </a: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B732-F349-4B3A-A8F1-DD46A4A060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4612-4590-4F21-9271-F3E3D4E426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США во Второй мировой во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CB2E-368C-4EC2-8033-5FBE8987F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Встреча на Эльбе (25 апреля 1945 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65B-1D99-4A5B-AF2A-442AD18AD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Calibri"/>
              </a:rPr>
              <a:t>США в период «холодной вой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02C-7B35-4795-BDFC-A41DD14699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0d0d"/>
                </a:solidFill>
                <a:latin typeface="Calibri"/>
              </a:rPr>
              <a:t>Корей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d0d0d"/>
                </a:solidFill>
                <a:latin typeface="Calibri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19B2-09DB-4463-943C-5918C24EF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2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7D20-E7F3-4CE2-BE8C-BA5BFE6024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050-9E17-4F62-81DC-21E9F12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46B8-0CB1-4A7D-926B-D64B756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6B34-089A-4D60-9F3D-A4025809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0F9D-7D19-4FBA-A858-8ED837AD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A53-D000-4EAD-BA68-19402347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79C-2E4E-4BC4-A15D-69BAB451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4288-6EB5-4408-BB52-7AEED16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B9A-82F2-48A6-8595-483D81C8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C9C-B309-4CAE-9746-3E0480D1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8C7-C701-4541-9ABB-7B943782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6531-D49E-4995-BC77-C41ACC2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456-9DEB-45AB-BFC1-DEFBD45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97DF-0C11-4727-A9D0-999EA33C1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gif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ША 1945-196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dmin\Мои документы\Downloads\travelplanet-usa.gif"/>
          <p:cNvPicPr/>
          <p:nvPr/>
        </p:nvPicPr>
        <p:blipFill>
          <a:blip r:embed="rId1"/>
          <a:stretch/>
        </p:blipFill>
        <p:spPr>
          <a:xfrm>
            <a:off x="1214280" y="1643040"/>
            <a:ext cx="6786720" cy="4524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Во внешней политике Кеннеди продолжил конфронтацию с СССР и соц.лагерем. При нем произошел в 1962 г. «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арибский кризис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». Во внутренней политике Кеннеди был сторонником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кейнсианства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/гос.регулирования экономики/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2" descr="1256646516_karibskij-krizis-q.jpg"/>
          <p:cNvPicPr/>
          <p:nvPr/>
        </p:nvPicPr>
        <p:blipFill>
          <a:blip r:embed="rId1"/>
          <a:stretch/>
        </p:blipFill>
        <p:spPr>
          <a:xfrm>
            <a:off x="214200" y="1571760"/>
            <a:ext cx="4071960" cy="43909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8" name="TextBox 3"/>
          <p:cNvSpPr/>
          <p:nvPr/>
        </p:nvSpPr>
        <p:spPr>
          <a:xfrm>
            <a:off x="857160" y="607212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Кеннеди и Н.Хруще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456px-Cuban_crisis_map_missile_range.jpg"/>
          <p:cNvPicPr/>
          <p:nvPr/>
        </p:nvPicPr>
        <p:blipFill>
          <a:blip r:embed="rId2"/>
          <a:stretch/>
        </p:blipFill>
        <p:spPr>
          <a:xfrm>
            <a:off x="4429080" y="1571760"/>
            <a:ext cx="4429080" cy="44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00" name="TextBox 5"/>
          <p:cNvSpPr/>
          <p:nvPr/>
        </p:nvSpPr>
        <p:spPr>
          <a:xfrm>
            <a:off x="5429160" y="621504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рибский кризис 196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арибский кризи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чрезвычайно напряжённое противостояние между Советским Союзом и Соединёнными Штатами относительно размещения Советским Союзом ядерных ракет на Кубе в октябре 1962. Кризису предшествовало размещение в 1961 году Соединёнными Штатами в Турции ракет средней дальности «Юпитер», напрямую угрожавших городам в западной части Советского Союза, доставая до Москвы и основных промышленных центров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Кубинская революция (1953 – 1959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2428920" cy="1619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5929200" y="1428840"/>
            <a:ext cx="2667240" cy="28004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5421600" y="435780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дель Алехандро Каст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ус, лидер Кубин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3405240" cy="264312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8"/>
          <p:cNvSpPr/>
          <p:nvPr/>
        </p:nvSpPr>
        <p:spPr>
          <a:xfrm>
            <a:off x="517680" y="5929200"/>
            <a:ext cx="38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Никита Хрущёв и Джон Кенн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Ведут мирные перегов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9"/>
          <p:cNvGrpSpPr/>
          <p:nvPr/>
        </p:nvGrpSpPr>
        <p:grpSpPr>
          <a:xfrm>
            <a:off x="3876840" y="1158840"/>
            <a:ext cx="5181480" cy="4761000"/>
            <a:chOff x="3876840" y="1158840"/>
            <a:chExt cx="5181480" cy="4761000"/>
          </a:xfrm>
        </p:grpSpPr>
        <p:pic>
          <p:nvPicPr>
            <p:cNvPr id="112" name="Прямоугольник 9" descr=""/>
            <p:cNvPicPr/>
            <p:nvPr/>
          </p:nvPicPr>
          <p:blipFill>
            <a:blip r:embed="rId4"/>
            <a:stretch/>
          </p:blipFill>
          <p:spPr>
            <a:xfrm>
              <a:off x="3876840" y="1158840"/>
              <a:ext cx="518148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43240" y="1428840"/>
              <a:ext cx="4643640" cy="421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61645"/>
                  </a:solidFill>
                  <a:latin typeface="Arial"/>
                </a:rPr>
                <a:t>Мир оказался на гране войны. Лидеры двух стран сумели сделать по шагу от края пропасти и урегулировать конфликт. Советские ракеты были вывезены с Кубы, США сняли морскую блокаду острова и убрали часть своих ракет из Турци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Джон Кенн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554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Джон Кеннеди был убит 22 ноября 1963 года в городе Даллас (штат Теха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215040" y="142884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6296760" y="4714920"/>
            <a:ext cx="259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Джон Фицджераль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Кеннеди, 35-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президент СШ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0 января 1961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d0d0d"/>
                </a:solidFill>
                <a:latin typeface="Arial"/>
              </a:rPr>
              <a:t>22 ноября 1963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714240" y="2714760"/>
            <a:ext cx="47307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85716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Это покушение до сих пор остается одной из величайших загадок ХХ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После войны США взяли на себ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мировую ответственность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. Понеся минимальные потери в войне, США вышли из нее сверхдержавой отодвинув всех на второй план. Обладая монополией на ядерное оружие США умело этим пользова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Трумен.jpg"/>
          <p:cNvPicPr/>
          <p:nvPr/>
        </p:nvPicPr>
        <p:blipFill>
          <a:blip r:embed="rId1"/>
          <a:stretch/>
        </p:blipFill>
        <p:spPr>
          <a:xfrm>
            <a:off x="214200" y="1500120"/>
            <a:ext cx="3632400" cy="5079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3" name="TextBox 3"/>
          <p:cNvSpPr/>
          <p:nvPr/>
        </p:nvSpPr>
        <p:spPr>
          <a:xfrm>
            <a:off x="4071960" y="614376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США Гарри Трумен. 1945-1852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4" descr="1233688484karta_ssha.jpg"/>
          <p:cNvPicPr/>
          <p:nvPr/>
        </p:nvPicPr>
        <p:blipFill>
          <a:blip r:embed="rId2"/>
          <a:stretch/>
        </p:blipFill>
        <p:spPr>
          <a:xfrm>
            <a:off x="4095720" y="1714680"/>
            <a:ext cx="4813200" cy="3500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2880" y="1571400"/>
            <a:ext cx="500076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Arial"/>
              </a:rPr>
              <a:t>Во </a:t>
            </a: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вторую мировую войну США вступили как член антифашистской коалиции и союзник СССР. Война началась для Америки с внезапного нападения Японии на военно-морскую базу США в Пёрл-Харборе (Гавайские острова) 7 декабря 1941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57120" y="2357280"/>
            <a:ext cx="3857760" cy="306072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42920" y="5643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Arial"/>
              </a:rPr>
              <a:t>Линкор «Аризона» горит после взрыва, вызванного попаданием японской бом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214200" y="214200"/>
            <a:ext cx="8715600" cy="17398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ША взяло на себя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тбрасывания коммунизма»- Доктрину Трумен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и укрепления устоев капитализма в Европе, Латинской Америке, Азии. Стали создаваться военные блоки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НАТО, АСЕАН, СЕАТО 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и др. Внутри самих США начинается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охота на ведьм»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оиск внутренних врагов, связанных с именем сенатора Д.Маккар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Маккарти.jpg"/>
          <p:cNvPicPr/>
          <p:nvPr/>
        </p:nvPicPr>
        <p:blipFill>
          <a:blip r:embed="rId1"/>
          <a:stretch/>
        </p:blipFill>
        <p:spPr>
          <a:xfrm>
            <a:off x="214200" y="2214720"/>
            <a:ext cx="3643560" cy="4356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4" name="TextBox 3"/>
          <p:cNvSpPr/>
          <p:nvPr/>
        </p:nvSpPr>
        <p:spPr>
          <a:xfrm>
            <a:off x="4071960" y="63579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.Маккар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Конгресс.jpg"/>
          <p:cNvPicPr/>
          <p:nvPr/>
        </p:nvPicPr>
        <p:blipFill>
          <a:blip r:embed="rId2"/>
          <a:stretch/>
        </p:blipFill>
        <p:spPr>
          <a:xfrm>
            <a:off x="4357800" y="2143080"/>
            <a:ext cx="4214880" cy="31608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66" name="TextBox 5"/>
          <p:cNvSpPr/>
          <p:nvPr/>
        </p:nvSpPr>
        <p:spPr>
          <a:xfrm>
            <a:off x="5072040" y="5429160"/>
            <a:ext cx="2786040" cy="3070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нгресс СШ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о Второй миров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2880" y="1285920"/>
            <a:ext cx="5000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Проведя несколько успешных военных операций в Северной Африке, Италии и на Тихоокеанском театре, согласно решению Тегеранской конференции, 6 июня 1944 года был открыт второй фронт. Войска США, Великобритании и Канады высадились в Нормандии. Операция закончилась 31 августа освобождением Фра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500040" y="1357200"/>
            <a:ext cx="1257480" cy="8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214200" y="2428920"/>
            <a:ext cx="3802320" cy="2876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214200" y="5500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Американские солд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на пляже Омаха в Норманд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Arial"/>
              </a:rPr>
              <a:t>6 июня 19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Arial"/>
              </a:rPr>
              <a:t>Встреча на Эльбе (25 апреля 1945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3372120" cy="285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29040" y="1285920"/>
            <a:ext cx="4157640" cy="281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43000" y="3857760"/>
            <a:ext cx="3452760" cy="2638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Пользователь\Мои документы\3dflagsdotcom_usa_2fawl.gif"/>
          <p:cNvPicPr/>
          <p:nvPr/>
        </p:nvPicPr>
        <p:blipFill>
          <a:blip r:embed="rId4"/>
          <a:stretch/>
        </p:blipFill>
        <p:spPr>
          <a:xfrm>
            <a:off x="214200" y="4594320"/>
            <a:ext cx="1328760" cy="90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5"/>
          <a:stretch/>
        </p:blipFill>
        <p:spPr>
          <a:xfrm>
            <a:off x="6357960" y="3286080"/>
            <a:ext cx="24652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:\Documents and Settings\Пользователь\Мои документы\soviet.gif"/>
          <p:cNvPicPr/>
          <p:nvPr/>
        </p:nvPicPr>
        <p:blipFill>
          <a:blip r:embed="rId6"/>
          <a:stretch/>
        </p:blipFill>
        <p:spPr>
          <a:xfrm>
            <a:off x="4705200" y="4567320"/>
            <a:ext cx="1486080" cy="10764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Arial"/>
              </a:rPr>
              <a:t>США в период «холодной войн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5600" y="1600200"/>
            <a:ext cx="69008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Arial"/>
              </a:rPr>
              <a:t>Результатом противостояния США и СССР стала серия конфликтов, включая Корейскую войну и Карибский кризис. Последствием холодной войны стала также «космическая гонка» между США и СССР в 1950-е — 1960-е г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Documents and Settings\Пользователь\Мои документы\3dflagsdotcom_usa_2fawl.gif"/>
          <p:cNvPicPr/>
          <p:nvPr/>
        </p:nvPicPr>
        <p:blipFill>
          <a:blip r:embed="rId1"/>
          <a:stretch/>
        </p:blipFill>
        <p:spPr>
          <a:xfrm>
            <a:off x="285840" y="1357200"/>
            <a:ext cx="1328760" cy="906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Arial"/>
              </a:rPr>
              <a:t>Корейская во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357360" y="1600200"/>
            <a:ext cx="532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Arial"/>
              </a:rPr>
              <a:t>конфликт между Северной Кореей и Южной Кореей, длившийся с 25 июня 1950 по 27 июля 1953 года (хотя официального окончания войны объявлено не было). Часто этот конфликт времён холодной войны рассматривается как опосредованная война между США и их союзниками и силами КНР и ССС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8120" y="1357200"/>
            <a:ext cx="3403800" cy="514044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14200" y="214200"/>
            <a:ext cx="8715600" cy="14655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С началом президентства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генерала Эйзенхауэра</a:t>
            </a:r>
            <a:r>
              <a:rPr b="1" i="1" lang="ru-RU" sz="1800" spc="-1" strike="noStrike">
                <a:solidFill>
                  <a:srgbClr val="002060"/>
                </a:solidFill>
                <a:latin typeface="Georgia"/>
              </a:rPr>
              <a:t>, прекратилась непопулярная корейская война. За годы его правления накопилась куча проблем в экономике, социальной сфере. С этим выступил новый президент республиканец Д.Кеннеди, провозгласивший политику </a:t>
            </a:r>
            <a:r>
              <a:rPr b="1" i="1" lang="ru-RU" sz="1800" spc="-1" strike="noStrike">
                <a:solidFill>
                  <a:srgbClr val="ff0000"/>
                </a:solidFill>
                <a:latin typeface="Georgia"/>
              </a:rPr>
              <a:t>«Новых рубеже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0004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f7f7f"/>
                </a:solidFill>
                <a:latin typeface="Arial"/>
              </a:rPr>
              <a:t>Президент Д.Эйзенхауэр. 1952- 196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Эйзенхауэр.jpg"/>
          <p:cNvPicPr/>
          <p:nvPr/>
        </p:nvPicPr>
        <p:blipFill>
          <a:blip r:embed="rId1"/>
          <a:stretch/>
        </p:blipFill>
        <p:spPr>
          <a:xfrm>
            <a:off x="428760" y="1857240"/>
            <a:ext cx="3071520" cy="4016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93" name="Рисунок 4" descr="Кеннеди.jpg"/>
          <p:cNvPicPr/>
          <p:nvPr/>
        </p:nvPicPr>
        <p:blipFill>
          <a:blip r:embed="rId2"/>
          <a:stretch/>
        </p:blipFill>
        <p:spPr>
          <a:xfrm>
            <a:off x="5072040" y="1857240"/>
            <a:ext cx="3365640" cy="4130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94" name="TextBox 5"/>
          <p:cNvSpPr/>
          <p:nvPr/>
        </p:nvSpPr>
        <p:spPr>
          <a:xfrm>
            <a:off x="5429160" y="6072120"/>
            <a:ext cx="2786040" cy="5202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резидент Д.Кеннеди. 1960- 1963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0:05:04Z</dcterms:created>
  <dc:creator>GENA</dc:creator>
  <dc:description/>
  <dc:language>en-US</dc:language>
  <cp:lastModifiedBy>LEGION</cp:lastModifiedBy>
  <dcterms:modified xsi:type="dcterms:W3CDTF">2015-01-14T10:15:07Z</dcterms:modified>
  <cp:revision>13</cp:revision>
  <dc:subject/>
  <dc:title>Слайд 1</dc:title>
</cp:coreProperties>
</file>