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4.gif" ContentType="image/gif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3EB5-27D3-4339-AFD9-DF7B9F7612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1945-19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49AF-9DAD-45AC-AF1B-89DAAAAB8A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Во внешней политике Кеннеди продолжил конфронтацию с СССР и соц.лагерем. При нем произошел в 1962 г. «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карибский кризис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». Во внутренней политике Кеннеди был сторонником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кейнсианства 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/гос.регулирования экономики/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0738-D50A-4531-A883-8A7A758D42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ариб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чрезвычайно напряжённое противостояние между Советским Союзом и Соединёнными Штатами относительно размещения Советским Союзом ядерных ракет на Кубе в октябре 1962. Кризису предшествовало размещение в 1961 году Соединёнными Штатами в Турции ракет средней дальности «Юпитер», напрямую угрожавших городам в западной части Советского Союза, доставая до Москвы и основных промышленных центров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BB9B-FBB7-466F-A8A0-AEE101CDC5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убинская революция (1953 – 1959 )</a:t>
            </a: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Мир оказался на гране войны. Лидеры двух стран сумели сделать по шагу от края пропасти и урегулировать конфликт. Советские ракеты были вывезены с Кубы, США сняли морскую блокаду острова и убрали часть своих ракет из Тур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19D9-E711-4C74-AC3F-D499CDB74D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Джон Кенн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Джон Кеннеди был убит 22 ноября 1963 года в городе Даллас (штат Теха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7223-137A-45D4-9522-BD5A8EBB7D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После войны США взяли на себя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мировую ответственность»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. Понеся минимальные потери в войне, США вышли из нее сверхдержавой отодвинув всех на второй план. Обладая монополией на ядерное оружие США умело этим пользова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B0E6-CECD-4C65-ABF0-5AC80DE41A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ША во Второй мировой во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Calibri"/>
              </a:rPr>
              <a:t>Во </a:t>
            </a: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вторую мировую войну США вступили как член антифашистской коалиции и союзник СССР. Война началась для Америки с внезапного нападения Японии на военно-морскую базу США в Пёрл-Харборе (Гавайские острова) 7 декабря 194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75D7-FFB1-4F91-A907-B615A804A2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США взяло на себя политику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отбрасывания коммунизма»- Доктрину Трумена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и укрепления устоев капитализма в Европе, Латинской Америке, Азии. Стали создаваться военные блоки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НАТО, АСЕАН, СЕАТО 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и др. Внутри самих США начинается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охота на ведьм»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поиск внутренних врагов, связанных с именем сенатора Д.Макка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AA0B-DD67-4A30-A7D6-B48BE7DE02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ША во Второй мировой во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Проведя несколько успешных военных операций в Северной Африке, Италии и на Тихоокеанском театре, согласно решению Тегеранской конференции, 6 июня 1944 года был открыт второй фронт. Войска США, Великобритании и Канады высадились в Нормандии. Операция закончилась 31 августа освобождением Фра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50BC-429B-4EB4-BFE1-9AAB8A9AA3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Встреча на Эльбе (25 апреля 1945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717E-4702-43CE-9BC8-E8F15A5F8F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Calibri"/>
              </a:rPr>
              <a:t>США в период «холодной войн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Результатом противостояния США и СССР стала серия конфликтов, включая Корейскую войну и Карибский кризис. Последствием холодной войны стала также «космическая гонка» между США и СССР в 1950-е — 1960-е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E759-1AE6-4D05-ABD0-D5FD5B101F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орейская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конфликт между Северной Кореей и Южной Кореей, длившийся с 25 июня 1950 по 27 июля 1953 года (хотя официального окончания войны объявлено не было). Часто этот конфликт времён холодной войны рассматривается как опосредованная война между США и их союзниками и силами КНР и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0270-9DDA-4433-8BF5-C71726E305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С началом президентства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генерала Эйзенхауэра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прекратилась непопулярная корейская война. За годы его правления накопилась куча проблем в экономике, социальной сфере. С этим выступил новый президент республиканец Д.Кеннеди, провозгласивший политику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Новых рубеже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B9BF-D95D-4393-96B4-06CFA92204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839-F84B-4256-AB54-A3D2B6F7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458-11DD-45F0-9687-B8FBEFD4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208-3E08-428A-9DF3-7356AF7A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79C-0DD6-433C-9F0C-13675966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4B6-48C9-4292-971D-58ECCAE3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7E40-A23E-466E-8C8B-662CA3B7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55B-1D2A-43FD-B6A2-2FCA9141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219-FFD7-4783-8188-9B87C2FB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C06-EDEF-46C7-964A-BA3E86DC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EED-FD59-47C7-BBBE-9DBDDEFF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429-70E9-4FDD-A373-F79A002B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4B9-9B60-4DD4-858F-14345520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13AB-6F75-4F3E-9AF6-6A058880D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gif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ША 1945-196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Admin\Мои документы\Downloads\travelplanet-usa.gif"/>
          <p:cNvPicPr/>
          <p:nvPr/>
        </p:nvPicPr>
        <p:blipFill>
          <a:blip r:embed="rId1"/>
          <a:stretch/>
        </p:blipFill>
        <p:spPr>
          <a:xfrm>
            <a:off x="1214280" y="1643040"/>
            <a:ext cx="6786720" cy="4524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Во внешней политике Кеннеди продолжил конфронтацию с СССР и соц.лагерем. При нем произошел в 1962 г. «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карибский кризис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». Во внутренней политике Кеннеди был сторонником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кейнсианства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/гос.регулирования экономики/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2" descr="1256646516_karibskij-krizis-q.jpg"/>
          <p:cNvPicPr/>
          <p:nvPr/>
        </p:nvPicPr>
        <p:blipFill>
          <a:blip r:embed="rId1"/>
          <a:stretch/>
        </p:blipFill>
        <p:spPr>
          <a:xfrm>
            <a:off x="214200" y="1571760"/>
            <a:ext cx="4071960" cy="4390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98" name="TextBox 3"/>
          <p:cNvSpPr/>
          <p:nvPr/>
        </p:nvSpPr>
        <p:spPr>
          <a:xfrm>
            <a:off x="857160" y="607212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f7f7f"/>
                </a:solidFill>
                <a:latin typeface="Arial"/>
              </a:rPr>
              <a:t>Кеннеди и Н.Хрущев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456px-Cuban_crisis_map_missile_range.jpg"/>
          <p:cNvPicPr/>
          <p:nvPr/>
        </p:nvPicPr>
        <p:blipFill>
          <a:blip r:embed="rId2"/>
          <a:stretch/>
        </p:blipFill>
        <p:spPr>
          <a:xfrm>
            <a:off x="4429080" y="1571760"/>
            <a:ext cx="4429080" cy="4400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00" name="TextBox 5"/>
          <p:cNvSpPr/>
          <p:nvPr/>
        </p:nvSpPr>
        <p:spPr>
          <a:xfrm>
            <a:off x="5429160" y="621504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рибский кризис 196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арибский криз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чрезвычайно напряжённое противостояние между Советским Союзом и Соединёнными Штатами относительно размещения Советским Союзом ядерных ракет на Кубе в октябре 1962. Кризису предшествовало размещение в 1961 году Соединёнными Штатами в Турции ракет средней дальности «Юпитер», напрямую угрожавших городам в западной части Советского Союза, доставая до Москвы и основных промышленных центров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Кубинская революция (1953 – 1959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2428920" cy="16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5929200" y="1428840"/>
            <a:ext cx="2667240" cy="2800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5421600" y="4357800"/>
            <a:ext cx="32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дель Алехандро Ка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с, лидер Кубин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500040" y="3143160"/>
            <a:ext cx="3405240" cy="26431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8"/>
          <p:cNvSpPr/>
          <p:nvPr/>
        </p:nvSpPr>
        <p:spPr>
          <a:xfrm>
            <a:off x="517680" y="5929200"/>
            <a:ext cx="38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Никита Хрущёв и Джон Кенн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Ведут мирные перегов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Прямоугольник 9"/>
          <p:cNvGrpSpPr/>
          <p:nvPr/>
        </p:nvGrpSpPr>
        <p:grpSpPr>
          <a:xfrm>
            <a:off x="3876840" y="1158840"/>
            <a:ext cx="5181480" cy="4761000"/>
            <a:chOff x="3876840" y="1158840"/>
            <a:chExt cx="5181480" cy="4761000"/>
          </a:xfrm>
        </p:grpSpPr>
        <p:pic>
          <p:nvPicPr>
            <p:cNvPr id="112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3876840" y="1158840"/>
              <a:ext cx="518148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143240" y="1428840"/>
              <a:ext cx="4643640" cy="42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61645"/>
                  </a:solidFill>
                  <a:latin typeface="Arial"/>
                </a:rPr>
                <a:t>Мир оказался на гране войны. Лидеры двух стран сумели сделать по шагу от края пропасти и урегулировать конфликт. Советские ракеты были вывезены с Кубы, США сняли морскую блокаду острова и убрали часть своих ракет из Турци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Джон Кенн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554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Джон Кеннеди был убит 22 ноября 1963 года в городе Даллас (штат Теха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215040" y="1428840"/>
            <a:ext cx="2666880" cy="32004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6296760" y="4714920"/>
            <a:ext cx="259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Джон Фицджераль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Кеннеди, 35-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президент СШ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0 января 1961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2 ноября 196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714240" y="2714760"/>
            <a:ext cx="473076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85716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Это покушение до сих пор остается одной из величайших загадок ХХ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осле войны США взяли на себя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мировую ответственность»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. Понеся минимальные потери в войне, США вышли из нее сверхдержавой отодвинув всех на второй план. Обладая монополией на ядерное оружие США умело этим пользова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Трумен.jpg"/>
          <p:cNvPicPr/>
          <p:nvPr/>
        </p:nvPicPr>
        <p:blipFill>
          <a:blip r:embed="rId1"/>
          <a:stretch/>
        </p:blipFill>
        <p:spPr>
          <a:xfrm>
            <a:off x="214200" y="1500120"/>
            <a:ext cx="3632400" cy="5079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3" name="TextBox 3"/>
          <p:cNvSpPr/>
          <p:nvPr/>
        </p:nvSpPr>
        <p:spPr>
          <a:xfrm>
            <a:off x="4071960" y="614376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зидент США Гарри Трумен. 1945-1852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1233688484karta_ssha.jpg"/>
          <p:cNvPicPr/>
          <p:nvPr/>
        </p:nvPicPr>
        <p:blipFill>
          <a:blip r:embed="rId2"/>
          <a:stretch/>
        </p:blipFill>
        <p:spPr>
          <a:xfrm>
            <a:off x="4095720" y="1714680"/>
            <a:ext cx="4813200" cy="3500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о Второй миров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42880" y="1571400"/>
            <a:ext cx="500076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Во </a:t>
            </a: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вторую мировую войну США вступили как член антифашистской коалиции и союзник СССР. Война началась для Америки с внезапного нападения Японии на военно-морскую базу США в Пёрл-Харборе (Гавайские острова) 7 декабря 1941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500040" y="1357200"/>
            <a:ext cx="1257480" cy="85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57120" y="2357280"/>
            <a:ext cx="3857760" cy="30607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142920" y="564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инкор «Аризона» горит после взрыва, вызванного попаданием японской бом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14200" y="214200"/>
            <a:ext cx="8715600" cy="1739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США взяло на себя политику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отбрасывания коммунизма»- Доктрину Трумена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и укрепления устоев капитализма в Европе, Латинской Америке, Азии. Стали создаваться военные блоки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НАТО, АСЕАН, СЕАТО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и др. Внутри самих США начинается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охота на ведьм»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поиск внутренних врагов, связанных с именем сенатора Д.Макка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Маккарти.jpg"/>
          <p:cNvPicPr/>
          <p:nvPr/>
        </p:nvPicPr>
        <p:blipFill>
          <a:blip r:embed="rId1"/>
          <a:stretch/>
        </p:blipFill>
        <p:spPr>
          <a:xfrm>
            <a:off x="214200" y="2214720"/>
            <a:ext cx="3643560" cy="4356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4" name="TextBox 3"/>
          <p:cNvSpPr/>
          <p:nvPr/>
        </p:nvSpPr>
        <p:spPr>
          <a:xfrm>
            <a:off x="4071960" y="635796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.Маккар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Конгресс.jpg"/>
          <p:cNvPicPr/>
          <p:nvPr/>
        </p:nvPicPr>
        <p:blipFill>
          <a:blip r:embed="rId2"/>
          <a:stretch/>
        </p:blipFill>
        <p:spPr>
          <a:xfrm>
            <a:off x="4357800" y="2143080"/>
            <a:ext cx="4214880" cy="3160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6" name="TextBox 5"/>
          <p:cNvSpPr/>
          <p:nvPr/>
        </p:nvSpPr>
        <p:spPr>
          <a:xfrm>
            <a:off x="5072040" y="542916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гресс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о Второй миров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2880" y="1285920"/>
            <a:ext cx="50007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Проведя несколько успешных военных операций в Северной Африке, Италии и на Тихоокеанском театре, согласно решению Тегеранской конференции, 6 июня 1944 года был открыт второй фронт. Войска США, Великобритании и Канады высадились в Нормандии. Операция закончилась 31 августа освобождением Фра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500040" y="1357200"/>
            <a:ext cx="1257480" cy="857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214200" y="2428920"/>
            <a:ext cx="3802320" cy="28764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214200" y="55008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Американские солд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на пляже Омаха в Норманд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6 июня 19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Встреча на Эльбе (25 апреля 1945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3372120" cy="285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929040" y="1285920"/>
            <a:ext cx="4157640" cy="281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1143000" y="3857760"/>
            <a:ext cx="3452760" cy="2638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Пользователь\Мои документы\3dflagsdotcom_usa_2fawl.gif"/>
          <p:cNvPicPr/>
          <p:nvPr/>
        </p:nvPicPr>
        <p:blipFill>
          <a:blip r:embed="rId4"/>
          <a:stretch/>
        </p:blipFill>
        <p:spPr>
          <a:xfrm>
            <a:off x="214200" y="4594320"/>
            <a:ext cx="1328760" cy="906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6357960" y="3286080"/>
            <a:ext cx="2465280" cy="3286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Documents and Settings\Пользователь\Мои документы\soviet.gif"/>
          <p:cNvPicPr/>
          <p:nvPr/>
        </p:nvPicPr>
        <p:blipFill>
          <a:blip r:embed="rId6"/>
          <a:stretch/>
        </p:blipFill>
        <p:spPr>
          <a:xfrm>
            <a:off x="4705200" y="4567320"/>
            <a:ext cx="1486080" cy="10764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 период «холодной войн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5600" y="1600200"/>
            <a:ext cx="69008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Результатом противостояния США и СССР стала серия конфликтов, включая Корейскую войну и Карибский кризис. Последствием холодной войны стала также «космическая гонка» между США и СССР в 1950-е — 1960-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285840" y="1357200"/>
            <a:ext cx="1328760" cy="9064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орейская 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57360" y="1600200"/>
            <a:ext cx="532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конфликт между Северной Кореей и Южной Кореей, длившийся с 25 июня 1950 по 27 июля 1953 года (хотя официального окончания войны объявлено не было). Часто этот конфликт времён холодной войны рассматривается как опосредованная война между США и их союзниками и силами КНР и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68120" y="1357200"/>
            <a:ext cx="3403800" cy="51404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14200" y="214200"/>
            <a:ext cx="8715600" cy="14655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С началом президентства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генерала Эйзенхауэра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прекратилась непопулярная корейская война. За годы его правления накопилась куча проблем в экономике, социальной сфере. С этим выступил новый президент республиканец Д.Кеннеди, провозгласивший политику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Новых рубеж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00040" y="607212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f7f7f"/>
                </a:solidFill>
                <a:latin typeface="Arial"/>
              </a:rPr>
              <a:t>Президент Д.Эйзенхауэр. 1952- 1960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Эйзенхауэр.jpg"/>
          <p:cNvPicPr/>
          <p:nvPr/>
        </p:nvPicPr>
        <p:blipFill>
          <a:blip r:embed="rId1"/>
          <a:stretch/>
        </p:blipFill>
        <p:spPr>
          <a:xfrm>
            <a:off x="428760" y="1857240"/>
            <a:ext cx="3071520" cy="4016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93" name="Рисунок 4" descr="Кеннеди.jpg"/>
          <p:cNvPicPr/>
          <p:nvPr/>
        </p:nvPicPr>
        <p:blipFill>
          <a:blip r:embed="rId2"/>
          <a:stretch/>
        </p:blipFill>
        <p:spPr>
          <a:xfrm>
            <a:off x="5072040" y="1857240"/>
            <a:ext cx="3365640" cy="4130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94" name="TextBox 5"/>
          <p:cNvSpPr/>
          <p:nvPr/>
        </p:nvSpPr>
        <p:spPr>
          <a:xfrm>
            <a:off x="5429160" y="607212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зидент Д.Кеннеди. 1960- 196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0:05:04Z</dcterms:created>
  <dc:creator>GENA</dc:creator>
  <dc:description/>
  <dc:language>en-US</dc:language>
  <cp:lastModifiedBy>LEGION</cp:lastModifiedBy>
  <dcterms:modified xsi:type="dcterms:W3CDTF">2015-01-14T10:15:07Z</dcterms:modified>
  <cp:revision>13</cp:revision>
  <dc:subject/>
  <dc:title>Слайд 1</dc:title>
</cp:coreProperties>
</file>