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AC5A-7C2B-4379-9D8C-B7F92C5898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ис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иродоведения)в 4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DBA5-10BB-40D9-B56D-C65A122F50A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0BF5-A312-4EB3-A7FD-FB30606D720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3D2C-8739-4875-A243-38BEE613DD4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–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6708-DE7D-4A63-ABC1-AD9F287E930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CABD-A282-4A86-B9FC-2ECCE3470E5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CD6B-2C97-4E39-A057-FDAB0DF2A4A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78D9-845F-42E8-AFC3-BE398A0A1AF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лет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B3C6-989B-4A94-B0F7-73968CA1331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представление о Древней Руси, русских княз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познавательный кругоз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 интерес к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8CB5-B13E-4DA4-8FBF-B112F895872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 по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Земля наша велика и обильна, но порядка в ней нет: приходите княжить и владеть н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6842-443D-444C-9917-8D36AA8FE06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княз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B6EA-E8F5-40FF-8E05-C321AA24845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князь Рю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EF9E-6DD4-467B-A8F7-76DA1FC63F2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князь Ол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319E-8643-46F0-9608-21A4F1B611F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имир – Красное Солныш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8971-F995-4887-B00E-1E2EBF39198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8C60-8FB5-4BF2-9EEB-BDFDE85E1BA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9DD2-6AAA-4A24-B607-C43D000813F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был первым князем на Ру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уда он прише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русский князь знаменит своими поход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князя на Руси называли Красным Солныш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след в истории он остав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63BA-4F9C-4D0D-A84B-D22A608C06D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оч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, украинцы и белорусы произош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точ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пад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юж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9518-D15F-408D-87D7-EEDE8447BE4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ж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емь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одиноч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л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2A02-DED6-42FB-A91D-C078325BE5B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честь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честь Солн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честь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54CE-9CFB-4886-89BC-7D694D3895A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ом грома и молнии у Древних славян бы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ев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у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р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95C0-24DE-47FB-840C-FF43369A546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911 года, более ранние свидетельства имеют дело с этноним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 е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название народа). Согласно летописцу «Повести временных лет» название произошло от варягов племени русь, призванных новгородскими славянами в 862 году как воинская друж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93B2-ED58-466B-B307-309C1A0D72E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пос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07D6-2955-4394-8D58-04951CFB6B1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вание варяг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М.Васн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12E9-9B08-45B1-8228-525567CD49C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8F8-517F-4800-AB6B-7EE6D64D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6DB-3EDC-4086-88CD-9D6E8761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748CF-A141-4FDF-8062-BF4F46D3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9A71E-0240-4A72-8632-64B86050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1C433-8AA7-47F0-9F59-B95445E2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AE6F2-C620-46DE-BBFC-0A1FE39B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81FAF-892E-4191-92D5-45E601E7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E2618-C636-4182-B81D-8C93B3B7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16B2B-FDA7-4AB1-B903-1023A576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16D91-8F58-4258-AC14-FAD0AB8D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E0A23-7EFB-48F3-BDC8-B05DCAF8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6CAE6-03B9-4B23-82E1-39516C71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1B2-2E88-4320-B84A-170BC7BD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5D3E9-F03B-43D1-8078-9A89100B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F9674-74D4-4478-92CF-F3D7E63A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5233F-716C-4239-AE5F-F66E2440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891FB-9A41-41C4-B24F-6AD58C70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94FA6-67C8-4D50-ADAF-E454C2CB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CCD97-EDC6-4F79-8CD7-4ED68D54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D310E-9988-4818-B46B-0345D681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78E8D-F84B-4448-B8F4-479D7022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FAAA0-311B-4BB8-8B64-531FF10F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D6996-B8A6-4724-A013-35301D7F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5F4-F131-45EC-84A0-E1234EF9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0A579-2A82-47FA-874F-6EEE9295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6A577-8A91-4EAB-94E7-C053D5F5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CDFE7-6801-4EC3-8B42-1B363714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999A4-071B-41DB-806E-2BCFC782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45871-9208-4250-B692-6966A9C5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AB208-6939-4815-BF34-FFD3324B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1091D-8DBB-445C-9E47-ACCFD1F8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7572C-2629-49FC-B72F-071D4460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204E4-5485-48A7-8A92-C7C00B3B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F7D5A-5381-462B-AE77-6E3BC7FB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005F-30D1-47C9-8658-9E303FED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C90C1-EE9A-4009-AA25-01E4B553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3901B-5A2B-46BA-867F-32E15A31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34C21-113A-4758-8381-3BA258EB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F2243-FCCD-4C3F-967F-D55EACA6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4FF65-22F5-4C66-B97B-DBC397E3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CBE6C-D3BE-4063-B5F2-FF442900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4995E-69D6-4D5F-98C3-F4BF056E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C12BF-4CD3-4B61-A728-665254E2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0D84D-45A6-4796-840A-72BDE02C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C93EA-7946-49CE-8095-D0E33B9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9BB5-7573-4C61-BE24-F5AAC78B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72E22-CB8E-4F2C-AE74-8A6DF57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C07B9-D02E-442C-9794-F0B903BC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6B6D0-603F-43B8-98D4-49AD487E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A25E4-AE3E-446E-AB64-E3C2273C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742BE-E489-41B6-BDA1-C4766FB0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2EB1-46A3-4546-A008-811B4928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FDF8-94F0-4C35-A229-0A93F3F8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20B2-BA86-42EC-A460-D61DA3B2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DE85-B636-4A09-A22B-C72CAC04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6A27-383F-4FF5-BC7F-9935A477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639-6939-40A3-B0DC-026AA167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8DC2-4A8B-41A8-B6C3-DF07B543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8088-B9BA-4249-93F4-C4D37C6C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1102-2397-4FC0-8DF6-F1240518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28D7-6292-400D-8ADC-5730C50E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5B5C-902D-4F1E-91A3-B28F5518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9738-34D2-4638-9D1B-7DF5CDD5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64C7-2174-4C92-82FA-5DD51FCA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317F-478C-411F-87E0-8143CC3A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5AD5-955D-433E-8F1E-6EAA6935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C15FD-6880-4098-BBCC-7C17D8B8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199-C9C6-4CFC-8616-1742DEC8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2188-E883-461B-8D94-685A75AE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41A4-1EDD-4315-978F-FAC8F89C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8CC2-530A-4E9D-AD3F-10AFC09C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E26A5-DE7A-4865-9371-6F66DAA1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0671D-DA43-4592-8D3F-CB3B0A9D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7654B-5A68-4D35-BE0C-74615D0F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B372-7314-4AF8-AFC8-D1C72659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CE5E7-CA9B-428A-B4FC-0E70DA3D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4EFD-512F-4F4B-9471-6E7C57C7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DB91-78C3-4A6C-88DD-FA6C50DA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9A5-F520-4592-A5D9-1F45916B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C39CD-0BE3-4A32-949F-A513A7AF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590D1-AADD-48A3-8D90-150BC5A2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9567C-9888-4406-8456-E995C918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3610-A5DC-4B16-8A42-87371372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FA9E4-996D-4911-A860-C46AF74B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E749D-9F91-4916-B1A8-0B7E0688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F6F2E-32F9-479A-BF8F-131CC595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3ECF6-4B97-4B59-B807-B1D29690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DCB2-6652-4B60-B39A-5B1E07EE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9A282-A289-4962-8648-8410A970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A25-0BB5-4C4D-84E2-14077F6C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E45D-958A-44E2-B366-22F6CB17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96C5F-128A-4947-B2A0-3D5931F8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C1F90-FB29-4BFC-BE99-86716723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ED303-FBDB-4F80-8F9B-A5BB42E8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984D4-5A69-4BAD-88C8-B5E8902C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08FE2-C6AE-4A23-8C6A-CF4C9C9D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8B3A5-C886-4632-8A83-51C03174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EF5AF-B2F2-4E63-9EF1-27A1C187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D40F-3429-4C04-82B9-028F29E6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39A99-D35C-41B4-BF9F-C51A0DEE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B49-BEFA-4970-AAB9-54E9CFB0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2D192-EF2D-4FD1-A314-DE7BB994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CCE26-98F9-430C-8C83-2FC656D8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D6D2C-311D-4D33-9286-F827AC96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4D4F2-EEE1-49CE-93C8-141566D4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47D16-598E-45C0-B858-A7335F8D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32E4B-891B-4EDE-9E15-4226F587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BECE4-4C69-4653-86B3-4AB721B1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84B02-32EB-4BA5-B04F-86891F34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D1D61-C4D6-4ECD-AF1A-B640E126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F3A5E-DDDB-4397-8128-9B1F44B2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A05-2D2C-4FED-AA39-2915A59B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FA47C-288A-4CA2-BB82-ED46455F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A533D-6F99-42C7-9F33-A93A62DF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E9B9D-50C8-4350-9B5E-7AB3BFEF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052A6-66FA-412B-817C-2320D930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790B0-85AC-48FD-9DCB-89BBF40E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D5589-43F9-4942-BE24-B4CB7458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B5700-C435-439A-8BFB-5452E2F7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5163C-E750-4C6A-9A89-D5CE1262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2AB90-4E70-4B9C-9B86-74FDF1CD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D1E10-E3B5-4773-877D-ED3EB3FD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727-6096-4F7C-B7C4-A9C9AAFB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8261B-2262-402E-B8CD-23E1635A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CAAF9-A142-4B6D-9F48-88A81C90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979B7-964E-49DC-8827-4EA7FAD1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1DFDE-6931-4BF0-AD13-E4F5AD6D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D5165-4872-478D-AFB4-D082C01C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B9226-2260-45A2-9EFC-AABF9FE3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8397E-1367-4CEB-9B49-602D8D5F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A2A25-413F-48E6-BFBA-2137EC26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CD503-5F60-438B-9616-4A77399E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9B832-B053-48D2-978B-A5309D06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96C-C85D-435E-BBE5-56E042DE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A92D4-1EE2-44E1-89E7-A8B68893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EC268-3F00-43AD-8B93-10A7B113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7D5E8-D315-4D43-99B3-A784B140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ECE90-7C92-4962-90AE-A7D77A68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2BE21-76C0-4B27-AD8B-D2114F22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44F75-9E7F-4B96-A029-FBB55EBE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D3975-DE05-42F2-969D-A43DFACE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2E0C6-0CF6-4F96-80A9-1770E798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2E5B4-B8E7-4255-883E-23B1B180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DE768-EBD5-4E04-AE48-7586B7C1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C1CE-EB62-43A3-829F-E534284B9D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E021-1017-4832-BA1B-63D264F276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ECB9-67C6-42D9-ABFE-B2FC3FC820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52B8-E4E8-4476-967E-07DAC2C075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3D52-2E45-443D-8C01-F3B41D0F11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94A8-62FC-44A6-8733-DC3B54DAC7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1390-1CCF-42AA-B557-C3DA9A2680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AD33-517A-45F3-AFFF-3A113D7C25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DDD2-E986-4784-8E6F-372C21A1CF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CBD2-A0EB-45B4-BE3C-BC33F5BFCA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4CB6-1D9F-4048-8D09-E0D1129E05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50D1-6E0C-4A04-8F76-B2ECE6A52B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11_&#1075;&#1086;&#1076;" TargetMode="External"/><Relationship Id="rId2" Type="http://schemas.openxmlformats.org/officeDocument/2006/relationships/hyperlink" Target="http://ru.wikipedia.org/wiki/&#1069;&#1090;&#1085;&#1086;&#1085;&#1080;&#1084;" TargetMode="External"/><Relationship Id="rId3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4" Type="http://schemas.openxmlformats.org/officeDocument/2006/relationships/hyperlink" Target="http://ru.wikipedia.org/wiki/&#1056;&#1091;&#1089;&#1100;_%28&#1085;&#1072;&#1088;&#1086;&#1076;%29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 времена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 исто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природоведения)в 4 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Верования древних славян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690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 – бог грома и молн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9" name="Picture 4" descr="Громовник Перун Виктор Корольков"/>
          <p:cNvPicPr/>
          <p:nvPr/>
        </p:nvPicPr>
        <p:blipFill>
          <a:blip r:embed="rId1"/>
          <a:stretch/>
        </p:blipFill>
        <p:spPr>
          <a:xfrm>
            <a:off x="2050920" y="1341360"/>
            <a:ext cx="5257800" cy="532764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Перуница Виктор Корольков"/>
          <p:cNvPicPr/>
          <p:nvPr/>
        </p:nvPicPr>
        <p:blipFill>
          <a:blip r:embed="rId1"/>
          <a:stretch/>
        </p:blipFill>
        <p:spPr>
          <a:xfrm>
            <a:off x="147636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иц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аздник Ивана Купал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Праздник Ивана Купа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Иван Купала - Купалле"/>
          <p:cNvPicPr/>
          <p:nvPr/>
        </p:nvPicPr>
        <p:blipFill>
          <a:blip r:embed="rId1"/>
          <a:stretch/>
        </p:blipFill>
        <p:spPr>
          <a:xfrm>
            <a:off x="1258920" y="476280"/>
            <a:ext cx="6697800" cy="5689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lat021"/>
          <p:cNvPicPr/>
          <p:nvPr/>
        </p:nvPicPr>
        <p:blipFill>
          <a:blip r:embed="rId1"/>
          <a:stretch/>
        </p:blipFill>
        <p:spPr>
          <a:xfrm>
            <a:off x="468360" y="692280"/>
            <a:ext cx="8424720" cy="5329080"/>
          </a:xfrm>
          <a:prstGeom prst="rect">
            <a:avLst/>
          </a:prstGeom>
          <a:ln w="0">
            <a:noFill/>
          </a:ln>
        </p:spPr>
      </p:pic>
      <p:sp>
        <p:nvSpPr>
          <p:cNvPr id="58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з летопи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овать представление о Древней Руси, русских князь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ть познавательный кругоз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интерес к исто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ечь посл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Земля наша велика и обильна, но порядка в ней нет: приходите княжить и владеть нам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7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4432320" y="2203560"/>
            <a:ext cx="3876480" cy="3600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68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68" fill="hold"/>
                                        <p:tgtEl>
                                          <p:spTgt spid="5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вые князь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5" descr=""/>
          <p:cNvPicPr/>
          <p:nvPr/>
        </p:nvPicPr>
        <p:blipFill>
          <a:blip r:embed="rId1"/>
          <a:stretch/>
        </p:blipFill>
        <p:spPr>
          <a:xfrm>
            <a:off x="1116000" y="0"/>
            <a:ext cx="7559640" cy="65977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ликий князь Рюри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68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68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ский князь Оле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7" descr="ol1-1"/>
          <p:cNvPicPr/>
          <p:nvPr/>
        </p:nvPicPr>
        <p:blipFill>
          <a:blip r:embed="rId1"/>
          <a:stretch/>
        </p:blipFill>
        <p:spPr>
          <a:xfrm>
            <a:off x="1042920" y="1700280"/>
            <a:ext cx="5958000" cy="5157720"/>
          </a:xfrm>
          <a:prstGeom prst="rect">
            <a:avLst/>
          </a:prstGeom>
          <a:ln w="0">
            <a:noFill/>
          </a:ln>
        </p:spPr>
      </p:pic>
      <p:sp>
        <p:nvSpPr>
          <p:cNvPr id="6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ладимир – Красное Солнышко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нягиня Ольг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489564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« Три богатыря»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508464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тог 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то был первым князем на Рус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уда он прише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русский князь знаменит своими походам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го князя на Руси называли Красным Солнышко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след в истории он остави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оверочное тестиров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 №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ие, украинцы и белорусы произошли о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осточ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пад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южных славя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евние славяне жи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семья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одиночк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племен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здник Ивана Купал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 честь во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честь Солнц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в честь Зем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гом грома и молнии у Древних славян был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Зевс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еру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Мар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911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более ранние свидетельства имеют дело с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этноним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то есть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ак название народа). Согласно летописцу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«Повести временных лет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азвание произошло от варягов племени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ризванных новгородскими славянами в 862 году как воинская друж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ревнее посе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7" name="Picture 5" descr="Изображение:Uchebnik poselok 1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извание варягов.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37:08Z</dcterms:created>
  <dc:creator>Саша</dc:creator>
  <dc:description/>
  <dc:language>en-US</dc:language>
  <cp:lastModifiedBy>LEGION</cp:lastModifiedBy>
  <dcterms:modified xsi:type="dcterms:W3CDTF">2015-01-15T12:19:01Z</dcterms:modified>
  <cp:revision>14</cp:revision>
  <dc:subject/>
  <dc:title>Во времена Древней Руси</dc:title>
</cp:coreProperties>
</file>