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F89A-8930-45DB-AC7C-1EC5199B2C9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ена Древней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истор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природоведения)в 4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41AE-5F0F-4D64-8DF8-8DB72772BE1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ования древних славя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C23B-BBE6-4BF9-8949-7D1184357DC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ования Древних славя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ие славяне - это язычники, обожествлявшие силы природы. Их основными богами являлись: Бог рот - бог неба и земли; Перун - бог грома и молнии, а также войны и оружия; Волос или Велес - бог богатства и скотоводства; Дажь бог (или Ярило) - солнечное божество света, тепла и расцветающей природы. Очень важны были божества, связанные с теми силами природы, влияющими на земледелие. 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8FEBD-5728-43CB-8EBA-19B926D89AD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ун – бог грома и мол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51D5-3367-44C0-9464-077EDADCC0E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у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448D-5319-4C74-A0FD-E07483086D9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здник Ивана Купа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христианский русский праздник Ивана-Купалы совершался в самое время летнего солнцестояния, когда солнце достигает самого высокого и крайне сильного влияния на землю, после чего оно начинает свой поворот на зиму. Совпадение языческого праздника Купалы с днем св. Предтечи Иоанна в народном понятии могли смешаться, тем более, что в основе обоих праздников лежит омовение водой. Поэтому предки наши, сохранив верования и обычаи древнего Купалы, соединили их с днем и именем св. Иоанна Крестите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здник Купалы был для наших предков великим днем очищения огнем и водой и вместе с тем служил праздником летнего солнцестояния, когда обыкновенно природа действует с особенною всеоживляющею и всевозбуждающею силою. Начиналась ночь вакханалией. Мужчины и женщины ходили ночью по домам и улицам, забавлялись бесстыдными играми, пели сатанинские песни и плясали под гусли. По прошествии ночи с великим криком все отправлялись в рощи и омывались в реке "как бешеные"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B6B3-8BAA-4142-BF9B-057AF3BE92B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древней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ления у славян не было такого, как теперь у нас. Государей у них не было, а в каждой семье всеми делами заправлял старший. Для важных дел старейшины сходились на веча ( мирские сходки) и решали дела сообща. Только впоследствии стали править князья. Когда они начали княжить, кто они были такие, и как началось Русское государство, достоверно не извест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E084-4E41-43C6-9EB7-BBB3AA6B9DA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летопи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славянскими племенами не было согласия, а были у них все ссоры до драки. Некоторые племена, рассудив, что добру от этого не бывать, решили на вече князя себе выбрать, но не из своих, а их чужих, чтобы своим родным не потакал. Для этого были отправлены за море к соседнему варяжскому племени Русь послы, и велено держать им такую реч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928E-3CF2-43D5-A2A8-31874994750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ть представление о Древней Руси, русских князь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ть познавательный кругоз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ывать интерес к ис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DEDB-B208-4D31-B2F9-B315E57C0A4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чь пос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 Земля наша велика и обильна, но порядка в ней нет: приходите княжить и владеть нам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D22E-F3A9-41C2-B702-7F6635F0E25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княз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князя варяго-русские Рюрик и два его брата пришли к нам и начали княжить: сам Рюрик сел в Новгороде, а братьев послал в другие города. Так началось в 862 году по Рождества Христовом Русское государство. От имени рода первых князей оно и назвалось Рус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F373-4D6D-446C-B1EB-09797740581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кий князь Рюр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6D95-C411-4ACC-8A42-51FFE5FA51A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ий князь Ол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20F4-6F06-451E-8217-899E595C1C6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ладимир – Красное Солнышк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ИМИР I СВЯТОСЛАВИЧ (?-1015), князь новгородский (с 969), великий князь киевский (с 980). Младший сын Святослава. Покорил вятичей, радимичей и ятвягов; воевал с печенегами, Волжской Болгарией, Византией и Польшей. При нем сооружены оборонительные рубежи по рекам Десна, Осетр, Трубеж, Сула и др., заново укреплен и застроен каменными зданиями г. Киев. В 988-989 ввел в качестве государственной религии христианство. При Владимире I Древнерусское государство вступило в период своего расцвета, усилился международный авторитет Руси. В русских былинах назывался Красное Солнышко. Канонизирован Русской православной церков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9046-E236-414F-8C42-20C2EF4226B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нягиня Оль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4F1B-21A5-4BA9-AE4B-2B1FF2C8A68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нягиня Оль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BE2D-647D-4EF5-8035-9124A7C5D0E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 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был первым князем на Рус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уда он прише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русский князь знаменит своими поход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го князя на Руси называли Красным Солнышк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след в истории он остави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18BD-2BD2-41C0-8D3A-1FE34AFF083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очное тес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№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ие, украинцы и белорусы произошли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осточных славя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западных славя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южных слав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D1E1-2529-4E15-A5B7-AEE81C76D09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ие славяне жи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емь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 одиночк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племе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91F4-44DE-4E61-B4A5-B76FDCEED05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здник Ивана Купал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 честь во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 честь Солн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в честь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8460-CD79-4176-ACF1-205850897AD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ом грома и молнии у Древних славян бы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Зев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еру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Мар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76E2-60B1-4C9E-B7AB-ECF2E852666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ус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первоначально историческое название земель восточных славян и первого государства Древней Руси. Впервые употребляется как название государства в тексте русско-византийского договора 911 года, более ранние свидетельства имеют дело с этнонимом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ус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то есть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ус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ак название народа). Согласно летописцу «Повести временных лет» название произошло от варягов племени русь, призванных новгородскими славянами в 862 году как воинская друж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4849-BE39-40FD-A303-DE170A10787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е пос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3FA8-0A4B-4B69-8155-E5D58AA9305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вание варяго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М.Васнец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DA4A-001C-4CC1-8793-8E28E361B98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4ED9-320E-40D8-A58F-108A17B9F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AC1E-88FF-45CC-BECF-2114A824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3077C0-644C-491C-BAC9-CEF72AA3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A8C32-DCF1-4F3C-BD3E-B5192303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8AB6CD-F671-475D-AC27-021E179D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1E786-A9AA-4BF1-87C7-C2C165B0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3997E-79D3-4C9B-AF8E-92203043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B79CA5-009D-4D1F-81D0-6F9E515D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92C278-9B30-4206-ADD3-B8FCB3D9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D99E3-59CC-4A19-AFC2-62B8C92C2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D21CB-3CA0-40ED-B2FF-DBF1D738A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3E22D-C3A4-4108-92F1-89CDC8F2F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EF99-7FC6-43F6-8894-B5370E156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D2C2C0-EE7D-4D99-98DF-BC25C104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4B21AC-0717-4639-94E0-0618DE41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B90B5D-56A6-45B2-8142-15C831ED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B0984B-FE01-40BC-8A1F-B4A67751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879324-0B30-4607-93A6-246E7EB7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917936-F4B7-4EE1-A09F-F64D0AAC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16F579-27A8-464F-B7AE-6C792F6F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086541-5676-4ACE-A699-F0135B27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FB548D-CD1F-4A31-BE35-264E6C6D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359739-3FED-4D9B-B30B-61E782284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949F-31AD-4AC5-B4D7-33FAB22AC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B424F4-90D8-40BF-907E-3EBEB8DBF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57473-F298-49C8-87F9-13CA7907F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D2720-0427-4EE1-BD47-EC17ED9B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346E7A-F94D-4DC6-B787-A248EE49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A3B1C-1878-4E76-AB8F-853F829A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AEB2C-6318-4BB6-B4B5-672D1B45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0D9F8-2B40-4B4E-9FF4-FF351690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B97A4-2132-4E7B-AD2C-8AD53120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1374A-D298-4D10-A24A-0BA60AE9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4D6E4-4A03-4062-B794-12CD9D94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AD9C-317C-42A8-B52C-1041F8149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4E674-473D-4407-A14A-C6762A94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EF9AE-72A3-4312-B831-C15601CD7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B6096-0ACA-4B7B-8849-D4287FEAD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E55F8B-1D67-43D5-B9A7-1A6B074F4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136BEE-25EE-455E-A75E-ACE07D8E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7FEB2B-ED2B-4ABB-A0D9-2A6F2AA7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5AC57B-E8BD-42B6-B13F-70504DF8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2F578E-899C-4850-B761-131D8F9D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38AD5A-C26B-4343-B89A-F54AAF05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EABCEA-B3A5-412C-AB1F-0095CBFC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5B1C-CE84-4082-BD38-372A7013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7F7BC8-1395-4D07-8466-8FF2DA9C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4D07F7-4699-47DD-8CF0-7A874EA3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89CB03-0608-4C13-A76F-5A2F2C52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4C702D-FC12-4FB1-AF22-B46BA39B1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BF44B9-9382-4EBD-A67D-406269AB7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4610-6905-42DD-9326-A028CB0D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E8EE-8C04-4CB1-92F0-3ED3894A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1DE2-A00A-4DA1-AD4D-1AE00ACB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A9AE-7545-4DC9-89F1-89A94C06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FE24-3A6A-4865-9341-C1C25965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D69F-0D3C-4EDB-BF4A-58118BF6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44EE-7642-4DE0-8431-A2129F2D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3C0C-3019-4CBE-A901-3CD78C7B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E433-F264-48F9-AC1B-1D53808A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EF4F-2EAB-48BB-A514-C1F23D80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04EE-39E8-47DC-817F-D60234BBC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C0983-104E-4736-BF1B-D70486538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A9E66-45B6-45D2-9B61-519E3B39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21E7F-0F7F-44E7-8E84-38CCABD3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58D57-3BC3-4121-8762-CEEF38AF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4C780-F534-4D18-BDEC-491712C3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3B0D-4B2E-4FC5-9928-06E998F6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28B06-8A73-44F8-B6AA-58D8DC45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3C7F9-45EE-4005-91C7-E0F86994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44E68-2B5D-43BE-80AE-DFBFC0A2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44819-E5AB-4DB4-B704-F3D8EE61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E8DC6-65FA-45CF-8E04-C3EB5382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3E9B2-25D4-4448-B39C-4129A202E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3E46D-380D-430A-8D35-6DF001B48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EECC2-7E87-4B1F-BEAE-5E434F519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20EAC-F4D1-4C6C-8146-82A11EA3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6060F-A961-4740-9E11-BD99EEDC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1EC8-3B05-4EDA-BE79-185630C6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18623-E4F9-4AB0-9FCB-CAE3CC8E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F5049-757B-4FC5-9851-07226654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5E40A-1C0B-476E-B531-BC4C969E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C0586-7681-4A09-AD42-35FD3982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5492A-B163-4EB2-9021-34838F65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D2A1A-A63F-4A38-9F21-0FA084AD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CDD97-144A-413A-BD95-68E6FB28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BDCD6-A17B-4CFD-A2D7-367344F36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153D4-337A-4CBB-A343-921365571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BC8DD-1B55-483C-8486-340B3255B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7068-55C0-4434-B0B4-E79625AB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01EE4-CE6E-4440-9AF7-DF81EF68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EEAEB-1533-4FE5-9A43-75D214C5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A7FC3-661E-4A51-8654-7714AD3B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B2AA8-37AA-40E6-A875-932DFB82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BB27C-AE9F-4FE1-9AD5-55F8B7FD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ACAA0-2C32-48B0-B90B-3607113E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9FD27-A454-47A1-999C-17BD223E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513FB-10A6-47F3-AAC7-8E29948F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C73CE-DC60-499A-A00F-399B8DEF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34F90-B712-4823-A4B0-2C1C6BEEB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67A0-3960-4D9A-8703-FABD5D04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12902-8CDB-4EBD-8E68-B8703CB17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DB6DE-48C0-4EA8-BCB6-CF6779F5C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D4930-57BA-4CED-BBB0-C3F2D2BC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947CE-54C4-435D-9C0B-F96280DC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3F73E-4C2F-41E7-B6D4-F47E8E10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312D9-1DEC-4CCF-A02D-80631588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4D675-FBFA-42B3-A71C-B048312C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5B463-866A-4EA5-B869-A3CE79C8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ABB45-39F0-4C51-9516-F90C756F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15530-03D3-4719-A85C-1D391061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F36A-62E4-4F2B-8475-07269386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E6287-643B-4DA8-A456-E405BE2B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E7681-1CFD-4B4B-B100-48E43EEBC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A4F3C-7108-4964-936D-C9327B642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6F3FE-2D40-4256-94D6-6F3F3DD08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47CA6-620F-4789-8C27-FD2356C2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4BA6C-58BF-45FE-8556-65A06370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6D99A-0052-4CDA-832B-AD4D4E61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5F2D5-6ED5-4561-85A2-FFC346FB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8E54B-1817-4260-83CB-9DD13868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FFE5D-D679-4088-8DDD-D5B64F7C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4FC3-283C-4B81-80C6-877239E5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66251-EC18-46F3-A826-C807706D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02C73-9E2A-4CE5-956E-67FB8042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26C0A-1D05-4695-940E-87A22688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607B8-83B9-491C-B7D6-EB48E12D9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E26F6-90A8-40CB-A36E-E2D36B718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E6197-48AA-4CA3-8289-810D70787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EB964-C1CF-469E-907D-F49D9AB4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51148-01BC-47BF-AFA0-EE17DCFD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59B9F-9633-4E7C-AF23-C5E4E1FF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80FFA-2683-4C57-B557-62C28F29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7E78-EC46-4704-BA9C-C2D94C2E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EAC18-35D7-4AC0-95A0-9E397EBC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2DA43-E075-45EB-9199-0AFD98EE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3950A-EC8E-4524-92F1-9336EFF4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1C6CB-E3AE-4D68-81F7-078A4ABC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78494-0F89-427E-BF50-A82ECF2A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30F03-7CD4-40D9-9A36-97C8AB31F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DF88C-E833-43BB-95B2-B38EEAE0E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12C642-B61E-49A1-B340-0C0D19329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6677D1-A732-4B23-803D-12021819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90B62-AA38-4B7F-B606-56C58AAD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488E-DE37-43BF-B80E-8C0FD19D182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481F-A508-4EE7-B68C-8B058ECDC74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6EDB-73E6-488F-AA44-5923BB88062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30A5-5382-45DD-82E5-A09557E32E7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E017-AC6D-46D7-A7DA-71A5DC6A919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B686-D399-4477-B1D5-0A85D8B533C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C830-418E-4A72-8532-5D9376AB775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7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446F-6C4F-491F-8395-63EE99E8DB4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EDE8-E64F-47B0-B943-2D987A3EDD5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1FD1-794D-404D-AC27-BEAE0B3ED54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F213-F02C-4F48-A80C-BC10193A7AA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4618-75C5-4252-8CD8-0E56F75CFFF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911_&#1075;&#1086;&#1076;" TargetMode="External"/><Relationship Id="rId2" Type="http://schemas.openxmlformats.org/officeDocument/2006/relationships/hyperlink" Target="http://ru.wikipedia.org/wiki/&#1069;&#1090;&#1085;&#1086;&#1085;&#1080;&#1084;" TargetMode="External"/><Relationship Id="rId3" Type="http://schemas.openxmlformats.org/officeDocument/2006/relationships/hyperlink" Target="http://ru.wikipedia.org/wiki/&#1055;&#1086;&#1074;&#1077;&#1089;&#1090;&#1100;_&#1074;&#1088;&#1077;&#1084;&#1077;&#1085;&#1085;&#1099;&#1093;_&#1083;&#1077;&#1090;" TargetMode="External"/><Relationship Id="rId4" Type="http://schemas.openxmlformats.org/officeDocument/2006/relationships/hyperlink" Target="http://ru.wikipedia.org/wiki/&#1056;&#1091;&#1089;&#1100;_%28&#1085;&#1072;&#1088;&#1086;&#1076;%29" TargetMode="Externa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о времена Древней Рус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рок истори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 природоведения)в 4 класс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Місце для нижнього колонтитула 1"/>
          <p:cNvSpPr/>
          <p:nvPr/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4" descr="Верования древних славян"/>
          <p:cNvPicPr/>
          <p:nvPr/>
        </p:nvPicPr>
        <p:blipFill>
          <a:blip r:embed="rId1"/>
          <a:stretch/>
        </p:blipFill>
        <p:spPr>
          <a:xfrm>
            <a:off x="684360" y="1628640"/>
            <a:ext cx="7848360" cy="496908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ерования древних славян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4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ерования Древних славян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ревние славяне - это язычники, обожествлявшие силы природы. Их основными богами являлись: Бог рот - бог неба и земли; Перун - бог грома и молнии, а также войны и оружия; Волос или Велес - бог богатства и скотоводства; Дажь бог (или Ярило) - солнечное божество света, тепла и расцветающей природы. Очень важны были божества, связанные с теми силами природы, влияющими на земледелие. 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ерун – бог грома и молни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69" name="Picture 4" descr="Громовник Перун Виктор Корольков"/>
          <p:cNvPicPr/>
          <p:nvPr/>
        </p:nvPicPr>
        <p:blipFill>
          <a:blip r:embed="rId1"/>
          <a:stretch/>
        </p:blipFill>
        <p:spPr>
          <a:xfrm>
            <a:off x="2050920" y="1341360"/>
            <a:ext cx="5257800" cy="5327640"/>
          </a:xfrm>
          <a:prstGeom prst="rect">
            <a:avLst/>
          </a:prstGeom>
          <a:ln w="0">
            <a:noFill/>
          </a:ln>
        </p:spPr>
      </p:pic>
      <p:sp>
        <p:nvSpPr>
          <p:cNvPr id="57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4" descr="Перуница Виктор Корольков"/>
          <p:cNvPicPr/>
          <p:nvPr/>
        </p:nvPicPr>
        <p:blipFill>
          <a:blip r:embed="rId1"/>
          <a:stretch/>
        </p:blipFill>
        <p:spPr>
          <a:xfrm>
            <a:off x="1476360" y="0"/>
            <a:ext cx="6767640" cy="685800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еруниц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3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раздник Ивана Купал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охристианский русский праздник Ивана-Купалы совершался в самое время летнего солнцестояния, когда солнце достигает самого высокого и крайне сильного влияния на землю, после чего оно начинает свой поворот на зиму. Совпадение языческого праздника Купалы с днем св. Предтечи Иоанна в народном понятии могли смешаться, тем более, что в основе обоих праздников лежит омовение водой. Поэтому предки наши, сохранив верования и обычаи древнего Купалы, соединили их с днем и именем св. Иоанна Крестител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аздник Купалы был для наших предков великим днем очищения огнем и водой и вместе с тем служил праздником летнего солнцестояния, когда обыкновенно природа действует с особенною всеоживляющею и всевозбуждающею силою. Начиналась ночь вакханалией. Мужчины и женщины ходили ночью по домам и улицам, забавлялись бесстыдными играми, пели сатанинские песни и плясали под гусли. По прошествии ночи с великим криком все отправлялись в рощи и омывались в реке "как бешеные"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4" descr="Праздник Ивана Купал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8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4" descr="Иван Купала - Купалле"/>
          <p:cNvPicPr/>
          <p:nvPr/>
        </p:nvPicPr>
        <p:blipFill>
          <a:blip r:embed="rId1"/>
          <a:stretch/>
        </p:blipFill>
        <p:spPr>
          <a:xfrm>
            <a:off x="1258920" y="476280"/>
            <a:ext cx="6697800" cy="5689440"/>
          </a:xfrm>
          <a:prstGeom prst="rect">
            <a:avLst/>
          </a:prstGeom>
          <a:ln w="0">
            <a:noFill/>
          </a:ln>
        </p:spPr>
      </p:pic>
      <p:sp>
        <p:nvSpPr>
          <p:cNvPr id="58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4" descr="lat021"/>
          <p:cNvPicPr/>
          <p:nvPr/>
        </p:nvPicPr>
        <p:blipFill>
          <a:blip r:embed="rId1"/>
          <a:stretch/>
        </p:blipFill>
        <p:spPr>
          <a:xfrm>
            <a:off x="468360" y="692280"/>
            <a:ext cx="8424720" cy="5329080"/>
          </a:xfrm>
          <a:prstGeom prst="rect">
            <a:avLst/>
          </a:prstGeom>
          <a:ln w="0">
            <a:noFill/>
          </a:ln>
        </p:spPr>
      </p:pic>
      <p:sp>
        <p:nvSpPr>
          <p:cNvPr id="582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О древней Рус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авления у славян не было такого, как теперь у нас. Государей у них не было, а в каждой семье всеми делами заправлял старший. Для важных дел старейшины сходились на веча ( мирские сходки) и решали дела сообща. Только впоследствии стали править князья. Когда они начали княжить, кто они были такие, и как началось Русское государство, достоверно не известн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Из летопис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жду славянскими племенами не было согласия, а были у них все ссоры до драки. Некоторые племена, рассудив, что добру от этого не бывать, решили на вече князя себе выбрать, но не из своих, а их чужих, чтобы своим родным не потакал. Для этого были отправлены за море к соседнему варяжскому племени Русь послы, и велено держать им такую речь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ормировать представление о Древней Руси, русских князья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вивать познавательный кругозо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спитывать интерес к истор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ечь послов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 Земля наша велика и обильна, но порядка в ней нет: приходите княжить и владеть нами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1" name="Picture 7" descr="Призвание варягов. В. М. Васнецов"/>
          <p:cNvPicPr/>
          <p:nvPr/>
        </p:nvPicPr>
        <p:blipFill>
          <a:blip r:embed="rId1"/>
          <a:stretch/>
        </p:blipFill>
        <p:spPr>
          <a:xfrm>
            <a:off x="4432320" y="2203560"/>
            <a:ext cx="3876480" cy="3600360"/>
          </a:xfrm>
          <a:prstGeom prst="rect">
            <a:avLst/>
          </a:prstGeom>
          <a:ln w="0">
            <a:noFill/>
          </a:ln>
        </p:spPr>
      </p:pic>
      <p:sp>
        <p:nvSpPr>
          <p:cNvPr id="592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768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768" fill="hold"/>
                                        <p:tgtEl>
                                          <p:spTgt spid="5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7" dur="768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9" dur="768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ервые князь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и князя варяго-русские Рюрик и два его брата пришли к нам и начали княжить: сам Рюрик сел в Новгороде, а братьев послал в другие города. Так началось в 862 году по Рождества Христовом Русское государство. От имени рода первых князей оно и назвалось Русью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5" descr=""/>
          <p:cNvPicPr/>
          <p:nvPr/>
        </p:nvPicPr>
        <p:blipFill>
          <a:blip r:embed="rId1"/>
          <a:stretch/>
        </p:blipFill>
        <p:spPr>
          <a:xfrm>
            <a:off x="1116000" y="0"/>
            <a:ext cx="7559640" cy="659772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еликий князь Рюрик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8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768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7" dur="768" fill="hold"/>
                                        <p:tgtEl>
                                          <p:spTgt spid="5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9" dur="768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1" dur="768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усский князь Олег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1" name="Picture 7" descr="ol1-1"/>
          <p:cNvPicPr/>
          <p:nvPr/>
        </p:nvPicPr>
        <p:blipFill>
          <a:blip r:embed="rId1"/>
          <a:stretch/>
        </p:blipFill>
        <p:spPr>
          <a:xfrm>
            <a:off x="1042920" y="1700280"/>
            <a:ext cx="5958000" cy="5157720"/>
          </a:xfrm>
          <a:prstGeom prst="rect">
            <a:avLst/>
          </a:prstGeom>
          <a:ln w="0">
            <a:noFill/>
          </a:ln>
        </p:spPr>
      </p:pic>
      <p:sp>
        <p:nvSpPr>
          <p:cNvPr id="602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ладимир – Красное Солнышко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ЛАДИМИР I СВЯТОСЛАВИЧ (?-1015), князь новгородский (с 969), великий князь киевский (с 980). Младший сын Святослава. Покорил вятичей, радимичей и ятвягов; воевал с печенегами, Волжской Болгарией, Византией и Польшей. При нем сооружены оборонительные рубежи по рекам Десна, Осетр, Трубеж, Сула и др., заново укреплен и застроен каменными зданиями г. Киев. В 988-989 ввел в качестве государственной религии христианство. При Владимире I Древнерусское государство вступило в период своего расцвета, усилился международный авторитет Руси. В русских былинах назывался Красное Солнышко. Канонизирован Русской православной церковью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4" descr=""/>
          <p:cNvPicPr/>
          <p:nvPr/>
        </p:nvPicPr>
        <p:blipFill>
          <a:blip r:embed="rId1"/>
          <a:stretch/>
        </p:blipFill>
        <p:spPr>
          <a:xfrm>
            <a:off x="1187280" y="0"/>
            <a:ext cx="6840720" cy="6858000"/>
          </a:xfrm>
          <a:prstGeom prst="rect">
            <a:avLst/>
          </a:prstGeom>
          <a:ln w="0">
            <a:noFill/>
          </a:ln>
        </p:spPr>
      </p:pic>
      <p:sp>
        <p:nvSpPr>
          <p:cNvPr id="609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Княгиня Ольг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11" name="Picture 4" descr=""/>
          <p:cNvPicPr/>
          <p:nvPr/>
        </p:nvPicPr>
        <p:blipFill>
          <a:blip r:embed="rId1"/>
          <a:stretch/>
        </p:blipFill>
        <p:spPr>
          <a:xfrm>
            <a:off x="2050920" y="1773360"/>
            <a:ext cx="5185080" cy="4895640"/>
          </a:xfrm>
          <a:prstGeom prst="rect">
            <a:avLst/>
          </a:prstGeom>
          <a:ln w="0">
            <a:noFill/>
          </a:ln>
        </p:spPr>
      </p:pic>
      <p:sp>
        <p:nvSpPr>
          <p:cNvPr id="612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7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« Три богатыря»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.М.Васнецов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14" name="Picture 5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7848720" cy="5084640"/>
          </a:xfrm>
          <a:prstGeom prst="rect">
            <a:avLst/>
          </a:prstGeom>
          <a:ln w="0">
            <a:noFill/>
          </a:ln>
        </p:spPr>
      </p:pic>
      <p:sp>
        <p:nvSpPr>
          <p:cNvPr id="615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Итог  урок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то был первым князем на Руси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куда он пришел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ой русский князь знаменит своими походами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ого князя на Руси называли Красным Солнышком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ой след в истории он оставил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роверочное тестирова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ст № 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усские, украинцы и белорусы произошли от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восточных славян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западных славян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южных славя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№ 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ревние славяне жили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семьям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в одиночку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племена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№ 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3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аздник Ивана Купалы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в честь воды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в честь Солнц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в честь Земл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№ 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4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огом грома и молнии у Древних славян был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Зевс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Перун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Марс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усь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ус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— первоначально историческое название земель восточных славян и первого государства Древней Руси. Впервые употребляется как название государства в тексте русско-византийского договора </a:t>
            </a: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911 год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более ранние свидетельства имеют дело с </a:t>
            </a: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этнонимо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рус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(то есть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рус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как название народа). Согласно летописцу </a:t>
            </a: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«Повести временных лет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название произошло от варягов племени </a:t>
            </a: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4"/>
              </a:rPr>
              <a:t>рус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призванных новгородскими славянами в 862 году как воинская дружин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Древнее поселе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57" name="Picture 5" descr="Изображение:Uchebnik poselok 1.jpg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558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4" descr="Призвание варягов. В. М. Васнецо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Призвание варягов.</a:t>
            </a:r>
            <a:br>
              <a:rPr sz="3200"/>
            </a:b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В.М.Васнецов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1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7:37:08Z</dcterms:created>
  <dc:creator>Саша</dc:creator>
  <dc:description/>
  <dc:language>en-US</dc:language>
  <cp:lastModifiedBy>LEGION</cp:lastModifiedBy>
  <dcterms:modified xsi:type="dcterms:W3CDTF">2015-01-15T12:19:01Z</dcterms:modified>
  <cp:revision>14</cp:revision>
  <dc:subject/>
  <dc:title>Во времена Древней Руси</dc:title>
</cp:coreProperties>
</file>