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605-70B7-4340-93B8-CDF1753446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ис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иродоведения)в 4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0AB-D9F1-4EA3-8BC3-D4A63D70519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F231-40C4-4A7E-8B3A-2069142A40C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4813-3F38-498A-A8B7-71F33515DCC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–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9D22-DDD7-4A96-8773-14E658BC9F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E69-DA85-4764-9CE4-F441CED53E9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4F0-8508-422F-86DB-8A84DCFA994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6937-AB6F-4494-95EE-5999DF380B5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т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CE7B-3273-4459-84B5-6A3D8F4F355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представление о Древней Руси, русских княз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познавательный кругоз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 интерес к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6A06-249E-49DE-BEDB-E381D0965D8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 по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Земля наша велика и обильна, но порядка в ней нет: приходите княжить и владеть н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8A48-B288-4AA4-8013-1FC2B0F1FEF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княз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ACEA-1BE1-4DC6-8BB7-C273629083D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князь Рю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8D7A-7D09-4C81-A5B3-A76DCB5DBAA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князь Ол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B8AE-036F-4073-9FA4-414C3435C5E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имир – Красное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F55A-9318-4C51-A396-F75185FD33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7BEA-3B6E-46A5-BE25-02D82F9BE5C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6955-2285-4797-98F6-46A92CAC939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был первым князем на Ру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уда он прише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русский князь знаменит своими поход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князя на Руси называли Красным Солныш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след в истории он остав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F97-F2B8-4E76-A3EB-99814AC862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оч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, украинцы и белорусы произош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точ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пад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юж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964B-DC15-400E-BE38-1A0A2CA0A5A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ж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емь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одиноч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л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EF9B-28DE-4736-B50B-295053F1C25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честь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честь Солн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честь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788B-B81F-412B-BF28-1D283ADC862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ом грома и молнии у Древних славян бы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ев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р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ADC-CD91-467B-A337-BF69A755C8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911 года, более ранние свидетельства имеют дело с этноним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 е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название народа). Согласно летописцу «Повести временных лет» название произошло от варягов племени русь, призванных новгородскими славянами в 862 году как воинская друж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F468-73F9-4120-8823-9E08D4C585D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пос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F1B-E58B-4A0F-A38A-2DCF99E75D0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вание варя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М.Васн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F253-42C0-4FF2-A8DE-0A16235169F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B3B-44B5-4668-AA26-A546E8E1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708-A97A-46AC-9083-C5442BB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5B78E-5236-45B7-853B-3EADA312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F89F3-490D-4AF3-A360-7A859A52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05151-5431-46C1-833F-A116313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62649-073C-40E1-A4B9-E8241140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D195B-07BB-4705-8ADA-CCD5342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E7910-7064-42D9-B4AD-A1A4352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6BF4C-CBAB-4A3B-ACB9-73B052FD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AF6D4-D7D7-4A38-9CB7-97BACFFB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05320-B78F-490A-B139-2C97CECE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33000-B25B-46FF-8C29-76CCC347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32E-1D8A-4805-B1C3-C9738CDD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ED349-782D-410B-9871-E180E1DA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AC51A-17AF-4D9B-9D61-AC430E0B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3702E-21E7-4594-810A-425517DC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2A84D-9CDB-439B-BD42-756CA797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C7223-AA57-49D5-A01C-A3DF86DD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3A563-FBC9-40C5-9123-8EA60DA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178F3-41C3-42B6-96C2-4D8E751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48693-47B5-4B05-9CE0-4EE9B716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9F52D-6401-4EC6-974E-4FBADC4C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1AB47-6724-47F9-A233-D870ABAC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E9B-7540-418E-84E8-2701A1BA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EEC83-90F4-4583-B5DD-21318314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C9B5F-3CA1-43ED-8D46-92E1233B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4C1F6-4EDE-40B2-BFFD-700A6C3B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2AFAD-4B8D-425B-8F21-E83FC09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EBFE5-CA07-4EA8-BADC-3E11FBF8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09278-7CA1-46F9-87DE-CAE64208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E7429-D3EE-48DB-9361-C3BEE0E7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D4F0F-B2C3-46AE-8D81-B18CC30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8ADE7-F178-4F67-9C6A-9A6D25A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D3F3A-D9F3-46EA-A6E4-A264363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FF1F-C476-4D4C-832E-180A3F7A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05996-EFB7-4737-BFDD-61B37806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3B86-92E0-4CB4-BC2C-746CF0B8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CA00A-3D79-4306-A7EC-CE8A6AD8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E86C0-2429-4C7F-BFB2-FE0BB18B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C43F0-7268-4693-979E-89AEDF36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7154A-A5AB-453B-BC06-44977CF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5BA45-072D-4C44-9943-87B4687F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7963F-19F2-4D83-9B33-7D6F09A2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781B0-729F-474D-BC2A-424D80AB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26620-17D0-4E85-8E6C-C15A0762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F5C1-935B-442D-B6AE-00217162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AE1F5-3551-4EF1-961F-9C4BCF3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44DD3-4554-4CAA-B5FF-80EE1AD8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774B1-8135-443F-A1EC-61392132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4FA57-F82E-46A5-BB31-BBEC82D0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D7639-6FC4-4737-A6E2-2FBD434E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711D-3429-4522-AA40-50307394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B0D5-B746-4EBF-95AC-4DBC9B04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DB0B-7D44-4024-8608-6E6DDA17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53B1-1542-4798-8281-A4EE0B69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4A60-A02F-4D60-B6B0-8CC0197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751-C17D-4FAD-89CB-9DA6D28A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C404-63A0-443F-A758-58DB944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05AC-E019-4A89-85D2-0EC77F17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17C1-CCFA-4C2C-A47D-3C222ED4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D4BE-7531-47D8-95F6-9492DD97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BEE5-A5D3-4C64-A8DD-E477F341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D4E5-5664-4424-B5A7-63D97D9F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B7E9-CB03-4261-8571-449C121F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8FBD-B652-4940-92DB-A5784F61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BDFF-2CEA-42DF-8F07-0BA55329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82CD-EFD1-4201-9F7D-3227D4DF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CD4-1721-415C-997C-6283A4E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52D9-5FE0-4435-B045-133E031B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7FB7-C778-4C20-9578-A013BD0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D175-485E-43A3-A8BB-A01A677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357F-9C2A-44EA-B794-EADEFF1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1B1A-4D29-48F9-AEBF-F5C9841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39716-3447-40A7-AC6D-E7F409B2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8A54-B461-425A-8E4F-5A3E1C1D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2C15-01E1-4BF2-836F-78567700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FB3A-AD24-451B-A7F8-F1068BCB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3D968-2C09-4132-9303-7A2480F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F9E-17E0-4908-BCC6-F81EFCC7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3EA3-F780-444D-90BA-C7F73D27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6A78-6662-4429-9EC8-2BA856A6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728B-6DC7-4984-B684-573F0B67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6BA4-DA34-4660-9E1F-FD5673BB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2020-493A-45FE-8CCF-201A1D24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76F2-AA6C-4BA0-A015-1F9117BD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276E-5A73-4401-BD7D-8CBA17A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695A-A0BC-461D-A6D6-FB91AEB3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05F5-67DE-4EFD-96FF-DB01CD4B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91169-89B9-478E-80B2-71689242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10C-C6F1-4FBC-A75F-E335BF23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0E264-FBE1-46FC-95F0-B6C8FCC5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71DB8-29C0-467B-B020-D614D2B1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7190-91DF-44C6-ABA4-5812BF33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D190B-4810-4A10-BF40-D639D3FD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7A8B-4EFE-41CF-8C71-F6E05E9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5596-BA90-4171-8D46-5CB6719E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D416-F7DA-4ABE-97A4-DBE2D74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387E3-B6C6-4DB9-B87A-89C39B0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2FE02-EEDB-4065-98AD-ED427D2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4664B-F46E-49DF-8C1B-18D3D2B5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A1B-CF33-4A61-BC7C-8A9FE1D8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2789-59E3-4923-BCD3-7C2214AB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69B9-D49F-4B9C-96BE-261B91E1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544B-4EC4-4937-B329-9A545149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DFC0-4CA4-4A3B-B546-278324E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30AF0-023D-4A53-B754-A003368D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09ECA-38F7-4449-9457-4EC861A0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C2C2A-2F9D-4CF8-827C-DB2D9603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86B64-FF4C-4FD3-AF46-8682D084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5138B-716D-431B-9405-0AEB116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F8D3-36DF-43C0-B66C-1E599CA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D36-FF3E-411A-A454-BB0EAD3E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D607-F965-4EF4-BC9F-BC0870AF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69B3-8336-4D04-86A2-A235D838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DF2A5-394A-4632-ABC3-A10EEFEE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3AA46-6CA8-4951-86AC-8A50D98A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E5D90-5F47-4D37-8F3F-59C04D71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03AD0-DE0E-4B7B-A568-807AAB9B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EBAE-781B-4EFA-AF93-9E896BB3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7FD1C-6D7E-4DE1-8048-E2BDA769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9269-109D-4270-8D1C-FB1548FB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FAA1-8B19-4D73-953C-17895ED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D8A-8423-475C-8BD1-B349382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5CE28-5BDD-4F47-BE7E-96558C0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1FFB1-422E-461C-9BDB-489358A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E9BC-93F9-4999-8469-AB17B1D2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1222F-C4D5-4596-8AEB-2F6154FE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45E06-B60F-43BB-BF0D-CC1A9FE4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49EEB-A8AC-4AD1-8A52-CEBA8050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7329D-82EE-45D9-8837-1BA97E27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EC08B-548B-4C17-B9EF-18D20EC3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73C58-5ECD-4A97-A849-C2C844CE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914F9-3A13-47A7-BA93-B6A45AB4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286-144B-450F-9A20-F9DAD485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50F1E-D663-45BF-AD54-6FC4DBE7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076C8-B27A-47A6-B35D-E06FF10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EB069-B4D8-44B2-8947-755237A7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98056-5549-4E32-9F1B-A0EEEFE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11454-61DB-4A0A-8721-31FE96D3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20444-36FE-430A-9B41-897A9FEA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B8AE-1B86-4CE5-B9DE-2DEC6C21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033EA-2476-49D9-83D7-4E268A92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6E257-E19D-4F18-BC60-29913AE1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40A54-99C0-403B-9CEE-B5070E24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3A97-F649-4DB8-9A72-43D9C808DD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428D-5FDA-42C9-8DB7-8C38417E4D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95A6-4E2E-4B6D-9609-1D8F9EADC7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1FF8-9AEF-453E-B05C-97B14C4D7C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F198-D063-4404-9B4A-A8B277557B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CFB3-CE8E-40A0-B39E-8E53368170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B05C-F02F-4818-ACA1-611DD764D5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8458-A24D-4B7A-AAE9-B795000F62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4C5-ED8E-4283-A733-D2AC3444E5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FDE3-CE95-40D5-BC25-A3925C9F83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BBD0-BE1E-4167-A9AD-F069CD9DB4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26E2-A002-4B0A-9BE0-E4A3C1B444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11_&#1075;&#1086;&#1076;" TargetMode="External"/><Relationship Id="rId2" Type="http://schemas.openxmlformats.org/officeDocument/2006/relationships/hyperlink" Target="http://ru.wikipedia.org/wiki/&#1069;&#1090;&#1085;&#1086;&#1085;&#1080;&#1084;" TargetMode="External"/><Relationship Id="rId3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4" Type="http://schemas.openxmlformats.org/officeDocument/2006/relationships/hyperlink" Target="http://ru.wikipedia.org/wiki/&#1056;&#1091;&#1089;&#1100;_%28&#1085;&#1072;&#1088;&#1086;&#1076;%29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времена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природоведения)в 4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Верования древних славян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69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 – бог грома и молн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4" descr="Громовник Перун Виктор Корольков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532764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Перуница Виктор Корольков"/>
          <p:cNvPicPr/>
          <p:nvPr/>
        </p:nvPicPr>
        <p:blipFill>
          <a:blip r:embed="rId1"/>
          <a:stretch/>
        </p:blipFill>
        <p:spPr>
          <a:xfrm>
            <a:off x="147636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иц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здник Ивана Купал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Праздник Ивана Куп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Иван Купала - Купалле"/>
          <p:cNvPicPr/>
          <p:nvPr/>
        </p:nvPicPr>
        <p:blipFill>
          <a:blip r:embed="rId1"/>
          <a:stretch/>
        </p:blipFill>
        <p:spPr>
          <a:xfrm>
            <a:off x="1258920" y="476280"/>
            <a:ext cx="6697800" cy="5689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lat021"/>
          <p:cNvPicPr/>
          <p:nvPr/>
        </p:nvPicPr>
        <p:blipFill>
          <a:blip r:embed="rId1"/>
          <a:stretch/>
        </p:blipFill>
        <p:spPr>
          <a:xfrm>
            <a:off x="468360" y="692280"/>
            <a:ext cx="8424720" cy="5329080"/>
          </a:xfrm>
          <a:prstGeom prst="rect">
            <a:avLst/>
          </a:prstGeom>
          <a:ln w="0">
            <a:noFill/>
          </a:ln>
        </p:spPr>
      </p:pic>
      <p:sp>
        <p:nvSpPr>
          <p:cNvPr id="58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з летопи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ть представление о Древней Руси, русских князь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й кругоз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ечь пос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 наша велика и обильна, но порядка в ней нет: приходите княжить и владеть нам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7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4432320" y="2203560"/>
            <a:ext cx="3876480" cy="3600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68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68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е князь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"/>
          <p:cNvPicPr/>
          <p:nvPr/>
        </p:nvPicPr>
        <p:blipFill>
          <a:blip r:embed="rId1"/>
          <a:stretch/>
        </p:blipFill>
        <p:spPr>
          <a:xfrm>
            <a:off x="1116000" y="0"/>
            <a:ext cx="7559640" cy="6597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ликий князь Рюри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ский князь Ол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7" descr="ol1-1"/>
          <p:cNvPicPr/>
          <p:nvPr/>
        </p:nvPicPr>
        <p:blipFill>
          <a:blip r:embed="rId1"/>
          <a:stretch/>
        </p:blipFill>
        <p:spPr>
          <a:xfrm>
            <a:off x="1042920" y="1700280"/>
            <a:ext cx="5958000" cy="5157720"/>
          </a:xfrm>
          <a:prstGeom prst="rect">
            <a:avLst/>
          </a:prstGeom>
          <a:ln w="0">
            <a:noFill/>
          </a:ln>
        </p:spPr>
      </p:pic>
      <p:sp>
        <p:nvSpPr>
          <p:cNvPr id="6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ладимир – Красное Солнышк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нягиня Оль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489564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« Три богатыря»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тог 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был первым князем на Ру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он прише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русский князь знаменит своими походам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князя на Руси называли Красным Солнышк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след в истории он остави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верочное тестиро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№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е, украинцы и белорусы произошли о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осточ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ад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южных славя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ние славяне ж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семь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одиночк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леме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здник Ивана Купал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 честь 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честь Солнц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в честь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 грома и молнии у Древних славян бы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ев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еру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Мар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911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более ранние свидетельства имеют дело с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этноним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то есть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ак название народа). Согласно летописцу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«Повести временных лет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азвание произошло от варягов племен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изванных новгородскими славянами в 862 году как воинская друж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ревнее посе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5" descr="Изображение:Uchebnik poselok 1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извание варягов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7:08Z</dcterms:created>
  <dc:creator>Саша</dc:creator>
  <dc:description/>
  <dc:language>en-US</dc:language>
  <cp:lastModifiedBy>LEGION</cp:lastModifiedBy>
  <dcterms:modified xsi:type="dcterms:W3CDTF">2015-01-15T12:19:01Z</dcterms:modified>
  <cp:revision>14</cp:revision>
  <dc:subject/>
  <dc:title>Во времена Древней Руси</dc:title>
</cp:coreProperties>
</file>