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20D7-5E97-44D4-B100-C11990BC41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ис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иродоведения)в 4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4B19-74D4-4E0D-AA7B-947E46FC0F4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0F74-B49C-4789-A1E8-E054891F1E8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3288-0A1A-409E-B3F5-BB7DE3FEF03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–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3FE4-6F21-4EB7-983F-D2BB4FDA5D5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7864-2DA2-445E-90D3-E505940FE51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52F4-3D6B-4A09-BF7F-89EF70A2209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DA35-4D04-4999-A33A-679143F4126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лет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0209-10BB-4A46-9592-60F33F867D5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представление о Древней Руси, русских княз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познавательный кругоз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 интерес к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0D70-F392-48BC-86A0-1D0939FB3F3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 по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Земля наша велика и обильна, но порядка в ней нет: приходите княжить и владеть н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E0B3-C9AF-4FC1-9A3E-FAB292AC2AA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княз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2B31-23FF-443C-9E2A-6EEA03F074C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князь Рю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36E3-A63D-45E6-B36D-D923B38BCD5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князь Ол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1B21-63B8-4532-8B83-F3928D57C94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имир – Красное Солныш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1037-13F6-4AB3-9AAD-E3FC6139F56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6C01-4730-4D83-A1B2-9C4BE9B08B2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E5CA-9EDA-4AC9-8A71-5C85427EABF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был первым князем на Ру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уда он прише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русский князь знаменит своими поход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князя на Руси называли Красным Солныш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след в истории он остав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0E8B-52C9-42C7-B7EB-36E8E76ACDD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оч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, украинцы и белорусы произош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точ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пад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юж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0BA3-98E3-4178-920F-BAB922D5F13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ж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емь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одиноч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л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9BB9-0D9E-499B-A61A-059890D00CD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честь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честь Солн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честь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6FC6-B125-44A1-AF99-92E8A9713C4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ом грома и молнии у Древних славян бы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ев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у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р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3CC7-0425-4AC8-B5BD-CF1B883063F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911 года, более ранние свидетельства имеют дело с этноним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 е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название народа). Согласно летописцу «Повести временных лет» название произошло от варягов племени русь, призванных новгородскими славянами в 862 году как воинская друж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E173-6AE8-4274-AFC4-8498C4175A4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пос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570F-C855-4FCE-BBAC-AEBAFBB7D64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вание варяг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М.Васн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DD25-B475-470F-814C-18F909072C8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7FD-46E7-4D35-AEE9-12A7F8A3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138-BDA6-4543-AC64-0C373BEC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712D0-7679-4CD8-B224-8DBD3DE6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A5E7A-AFAA-4CB7-BFEA-1AFD59BF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7CDB6-9ED2-4D2A-AF90-216B1F1F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87AC8-1B0D-40A0-9F54-8ADA1185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39D40-2A3A-4727-B918-A83E91B5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30AA4-89F4-423F-ABC9-3CB6BAD0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DCCA8-0C7A-4179-B2E2-3A5917BC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6D02F-BCC2-4BFB-848B-731A6893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FB100-6FFC-4B0E-9CCE-F727EFD2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B74D1-4E05-4DD6-BF0A-D164B1E0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691-9E62-44EB-B591-698B7FF3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3A83A-FD0B-4046-B63D-BACD81F9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0993A-C366-4FB5-AFD0-2CE89AE9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5176E-43B4-4DDC-86C3-D9A8CEF6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81F1C-1A34-432C-A131-3ED5E181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29AC2-C777-4C8E-859B-93A4C8F7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019BF-3EAC-4C22-8AE4-B5E973F0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C2996-AA0E-4EA4-9941-074638F7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137CD-7773-48F6-A2D2-3F9EEF1F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49ACF-8ACD-4E5B-93DD-1C1E5EAE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C7FDA-509A-4D87-BEFC-F2526C02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E3A-1AF2-4808-ACD9-7098B429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A73B1-C88C-489E-8193-FCC3B7B9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29EB2-4683-4264-B6F0-4DE0C7DF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AB638-8AE4-4599-AAD1-7746DF53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E99F1-FE57-4BD3-AC2C-F7CDBF51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8822D-F4B8-4C4D-8BF1-F908B797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E0A18-F64D-4A1B-BEF0-B77F927B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A8062-2DF9-4690-8E31-AB04258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5C848-CCB6-45CC-A60B-C330ACB0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A8E52-AEFF-43DE-9BE4-09C90AE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6D9A9-5F13-460D-9043-E6556579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2EBC-75CA-4A73-A102-81C19471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A90F5-D246-4E57-9D76-5ED17C27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94E32-4A26-44A7-A498-CED4E6F9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7D901-09A9-4A97-9488-31E358A4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B1362-1F41-4BE6-BAD5-0567E1AE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A1F05-BAA5-41CA-BBF0-4E2E7C98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181B4-D5C5-473B-82F7-AE9FCF8F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85490-F480-4BA8-842F-C7A22BDD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E62CA-06B8-411F-8B50-ACDEE493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FEC18-873E-4957-9B9E-DEFD5810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9FC3C-F714-473A-B380-7CEACA7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0A68-562A-48FF-81C9-7F866C0E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D2CE3-B8EF-4984-B69C-D87EF549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69988-1695-4A29-8C12-13EAA00B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980DB-72E2-414F-91A4-91D1AC64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134DC-52D9-4520-863D-1083A42B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BF820-DB34-4CF6-9E00-AF9A6D39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B735-F3EA-4696-8284-51C90464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595F-0FC7-45A3-8397-D7FD36E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5ACF-1CE8-497E-B429-2D5C53EA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4DF-B355-4B36-A342-7CFD6881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DB62-3CE5-454C-9F9B-3EBADAD8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5D0-E3CC-4BD4-BC99-394A4198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E99E-794E-4B30-AF4C-A23FAE9E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5984-546C-4FC8-8169-92E1525A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F40E-1528-4D8D-8CD9-CD79D902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7EC1-A7E7-4F34-9718-C8300C3A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0C54-94ED-470C-AC7F-28278119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9BB6-C2B5-4B69-B81B-F0EDEBC4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443B-FBC9-40D6-ABD4-A3F5FF52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CDB8-FED0-404A-8A29-ACD87C0B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1E72-E4F1-40E3-993A-63069B6A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3774-652B-4C2A-BDB0-E8660C25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BA1-F3A8-48E7-9FD8-A9EB984E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2E7E-6DF8-4C1C-A4DC-E98BC84E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DE7BC-4627-4800-9C3B-0333E933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CC47C-D14B-4AA4-B412-2341280A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2F13-9B5B-4A75-A5C0-8DD6C54E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39B5-9232-455B-B765-5B255869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F91A-0F0E-4E85-A456-60D8F0E4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9CB9-8DDC-4C95-8A68-FFE355A1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072CB-4834-4368-B54B-D83F3EDE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AE267-43DB-4E36-866F-9F9642BC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1A429-25C1-4B13-87B4-FB22AB23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162-5C5F-4FA1-AA55-3762CC8B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8E1D8-FE42-4434-9C24-975A670D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3115C-9F3F-405B-967B-C2CBE760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4D7B-848B-4D47-9CAA-3B5ABF68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FD2D-43B2-4250-8B7E-A40C7999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50E9-B6E7-4159-9D02-CF962BA8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54CA8-3DE6-42C7-8C87-38E7E09D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CC681-9901-4382-947F-95531C07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7F64C-E046-4CBE-A8EC-88AADCA4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9A11-47D1-4020-B0BF-BA3EFD10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42AA2-1421-45FB-8B31-C55789F2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719-6553-44B8-BE1D-07896E73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CE15E-8F27-43D3-B5D4-6081B81F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89F84-D700-4E01-834E-0F5D5399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2EB08-4BA7-4A58-AA30-4013349E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5CD1A-588D-472D-8B58-B208D9A4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435B-412F-4CD2-8730-E7ED1E03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AB13D-E524-429B-B71F-A0B14E5E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56767-384C-43E1-B9E1-918408D6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E8D6C-6F01-4656-B90D-AD013E6D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3CE7A-589F-4547-BFD7-35497755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00ED8-68F6-4BD0-9D69-09885FD5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523-8292-4D33-8BB9-D084D26D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7DD14-1C38-4F4E-9691-084D613C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21AE5-4A06-41A1-BBA1-C23871FD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A9DEE-34BC-45E9-B405-FE06AABD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45C65-A7F5-4AB9-86C6-747340C1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3ABA1-2C9C-46E6-A045-7F9327A0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27965-5CDA-423F-A44C-40769585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F147-E3B3-49A1-8968-F723ABB1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FA7BB-88F2-495D-AF95-0C1E4208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CF5E7-ED23-4FB1-9864-EC92EAE1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62729-52F7-41B3-8E7C-59425F14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E50-B0B7-4CDA-877E-312FA5E1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B49DE-AD51-4166-8552-460107FD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05DE4-604E-4363-A008-209AE71F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173D8-1A32-4B54-8BB1-5583EDF4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D9FC8-0938-41E5-9FAB-47CCE033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0B88B-5B35-4E64-B0E8-908D8EA0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982A3-53AD-4A48-B562-5699B7F9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69BD2-4C9F-4E4B-8EEF-A6D465F5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88140-03E0-4439-A681-3DBE8294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23590-C5D4-4413-97FD-D04AC8D9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D6921-92A0-4B70-8696-9BA320B9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A99-7963-40FC-885B-0519227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F4D98-EE8B-4230-BFAB-A149A4CF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6FE60-C3E3-4F94-82BF-11B94787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061F8-14D9-4C69-8AD9-5B20A226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47E4D-B374-4894-B802-E6C23829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95146-7CBC-4F48-BB2E-E932D180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82898-8D0F-4148-ABB8-2A439A0E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182E2-F64A-4C8E-A126-A3FFA641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D937C-AF09-4A6F-8D6E-414EA761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35172-3007-47CD-AAFD-5E385F56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1EDA3-5B14-4425-8CC4-C65F998E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8B5-1FE9-4B2C-B93D-2DFCC309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10D9E-4D0A-4FAF-972B-D37C8817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F98BA-8C11-4325-BAF3-EBDA4C9D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2308E-66A6-4F50-A895-39201DCC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F8DCF-ADC8-4E0B-AB09-2EAA9D9E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F29D3-E491-4043-B94F-1966AACF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E680F-8481-47AA-A67C-A258F703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D7CD7-60C1-4499-964D-574FCBF8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019D6-18F0-47AE-AF1D-58B175D3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BE2C1-E88F-4018-AD5C-7B6DBB93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8276B-EC29-4F8F-85F9-AB08F9D0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80C4-DED1-4ABC-96A0-1A209E2E79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7C1-76F5-420E-AC73-051CE71AB4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A8B8-C4BA-4EFD-912F-9EEC7EC822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6D40-BB94-4EC9-946C-7402AA6D60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FBC6-BF2C-4003-A458-172A23A524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8069-3616-4023-9B78-8938DAEB4D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A8FD-6937-457D-9685-458102E738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E907-F7D7-4B6B-B29F-2A693709B2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C6ED-5833-4FCE-8EE8-EAB7F82190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8868-2A13-4BCE-893B-2C92F911DF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35B2-255B-49F8-A0E2-D3075881F4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A262-311F-42DE-8018-3A7838FD24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11_&#1075;&#1086;&#1076;" TargetMode="External"/><Relationship Id="rId2" Type="http://schemas.openxmlformats.org/officeDocument/2006/relationships/hyperlink" Target="http://ru.wikipedia.org/wiki/&#1069;&#1090;&#1085;&#1086;&#1085;&#1080;&#1084;" TargetMode="External"/><Relationship Id="rId3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4" Type="http://schemas.openxmlformats.org/officeDocument/2006/relationships/hyperlink" Target="http://ru.wikipedia.org/wiki/&#1056;&#1091;&#1089;&#1100;_%28&#1085;&#1072;&#1088;&#1086;&#1076;%29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 времена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 исто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природоведения)в 4 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Верования древних славян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690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 – бог грома и молн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9" name="Picture 4" descr="Громовник Перун Виктор Корольков"/>
          <p:cNvPicPr/>
          <p:nvPr/>
        </p:nvPicPr>
        <p:blipFill>
          <a:blip r:embed="rId1"/>
          <a:stretch/>
        </p:blipFill>
        <p:spPr>
          <a:xfrm>
            <a:off x="2050920" y="1341360"/>
            <a:ext cx="5257800" cy="532764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Перуница Виктор Корольков"/>
          <p:cNvPicPr/>
          <p:nvPr/>
        </p:nvPicPr>
        <p:blipFill>
          <a:blip r:embed="rId1"/>
          <a:stretch/>
        </p:blipFill>
        <p:spPr>
          <a:xfrm>
            <a:off x="147636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иц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аздник Ивана Купал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Праздник Ивана Купа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Иван Купала - Купалле"/>
          <p:cNvPicPr/>
          <p:nvPr/>
        </p:nvPicPr>
        <p:blipFill>
          <a:blip r:embed="rId1"/>
          <a:stretch/>
        </p:blipFill>
        <p:spPr>
          <a:xfrm>
            <a:off x="1258920" y="476280"/>
            <a:ext cx="6697800" cy="5689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lat021"/>
          <p:cNvPicPr/>
          <p:nvPr/>
        </p:nvPicPr>
        <p:blipFill>
          <a:blip r:embed="rId1"/>
          <a:stretch/>
        </p:blipFill>
        <p:spPr>
          <a:xfrm>
            <a:off x="468360" y="692280"/>
            <a:ext cx="8424720" cy="5329080"/>
          </a:xfrm>
          <a:prstGeom prst="rect">
            <a:avLst/>
          </a:prstGeom>
          <a:ln w="0">
            <a:noFill/>
          </a:ln>
        </p:spPr>
      </p:pic>
      <p:sp>
        <p:nvSpPr>
          <p:cNvPr id="58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з летопи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овать представление о Древней Руси, русских князь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ть познавательный кругоз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интерес к исто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ечь посл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Земля наша велика и обильна, но порядка в ней нет: приходите княжить и владеть нам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7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4432320" y="2203560"/>
            <a:ext cx="3876480" cy="3600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68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68" fill="hold"/>
                                        <p:tgtEl>
                                          <p:spTgt spid="5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вые князь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5" descr=""/>
          <p:cNvPicPr/>
          <p:nvPr/>
        </p:nvPicPr>
        <p:blipFill>
          <a:blip r:embed="rId1"/>
          <a:stretch/>
        </p:blipFill>
        <p:spPr>
          <a:xfrm>
            <a:off x="1116000" y="0"/>
            <a:ext cx="7559640" cy="65977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ликий князь Рюри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68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68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ский князь Оле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7" descr="ol1-1"/>
          <p:cNvPicPr/>
          <p:nvPr/>
        </p:nvPicPr>
        <p:blipFill>
          <a:blip r:embed="rId1"/>
          <a:stretch/>
        </p:blipFill>
        <p:spPr>
          <a:xfrm>
            <a:off x="1042920" y="1700280"/>
            <a:ext cx="5958000" cy="5157720"/>
          </a:xfrm>
          <a:prstGeom prst="rect">
            <a:avLst/>
          </a:prstGeom>
          <a:ln w="0">
            <a:noFill/>
          </a:ln>
        </p:spPr>
      </p:pic>
      <p:sp>
        <p:nvSpPr>
          <p:cNvPr id="6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ладимир – Красное Солнышко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нягиня Ольг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489564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« Три богатыря»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508464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тог 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то был первым князем на Рус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уда он прише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русский князь знаменит своими походам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го князя на Руси называли Красным Солнышко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след в истории он остави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оверочное тестиров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 №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е, украинцы и белорусы произошли о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осточ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пад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южных славя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евние славяне жи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семья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одиночк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леме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здник Ивана Купал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 честь в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честь Солнц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в честь Зем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гом грома и молнии у Древних славян бы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Зевс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еру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Мар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911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более ранние свидетельства имеют дело с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этноним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то есть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ак название народа). Согласно летописцу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«Повести временных лет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азвание произошло от варягов племени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изванных новгородскими славянами в 862 году как воинская друж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ревнее посе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7" name="Picture 5" descr="Изображение:Uchebnik poselok 1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извание варягов.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37:08Z</dcterms:created>
  <dc:creator>Саша</dc:creator>
  <dc:description/>
  <dc:language>en-US</dc:language>
  <cp:lastModifiedBy>LEGION</cp:lastModifiedBy>
  <dcterms:modified xsi:type="dcterms:W3CDTF">2015-01-15T12:19:01Z</dcterms:modified>
  <cp:revision>14</cp:revision>
  <dc:subject/>
  <dc:title>Во времена Древней Руси</dc:title>
</cp:coreProperties>
</file>