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type.wav" ContentType="audio/x-wav"/>
  <Override PartName="/ppt/media/image20.jpeg" ContentType="image/jpeg"/>
  <Override PartName="/ppt/media/image1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2.jpeg" ContentType="image/jpeg"/>
  <Override PartName="/ppt/media/image4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A766-0BE1-48E7-9486-FD9FB6D132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_AlgeriusCaps"/>
              </a:rPr>
              <a:t>Тема: Монголо-татарское нашествие на Ру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_AntiqueTrady"/>
              </a:rPr>
              <a:t>Цель: углубить свои знания по вопросу «Монголо-татары и Русь» на основе историографии и решить проблему: почему монголо -татары смогли покорить Русь, находящуюся на более высокой ступени общественного развити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1FB4-4483-418C-BF05-4F54E73CE21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имиро-Суздальское княж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3FE3-7A27-4BA9-B3E5-121C26AB64F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ы поражения русских вой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зможность сопротивления монголо-татарам в связи с их воинской организацией (комплекс воинских приёмов, использовавшихся при штурме городов, численное превосходство, мобильность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общённость русских войск и си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лое тактическое руководство и стратегический талант Батыя и его военачаль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7928-231D-4246-B063-F5B8D6A4129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바탕"/>
              </a:rPr>
              <a:t>Монголо-татарское нашествие завершилось установлением владычества, сущность которого можно определить следующими понятиями и суждениями: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cademyCTT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cademyCTT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cademyCTT"/>
              </a:rPr>
              <a:t>Завершить подготовку к уроку-семинару, ответив на вопрос: «Как рассматривается содержание монголо-татарского ига в русской и советской историографии (на примере точек зрения С.М. Соловьева, В.В. Каргалова, Л.Н.Гумилёва)?»; сообщение об Александре Невском, учебник с. 123-129; ответить на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EE82-FEB7-407A-8F0A-04A223F3E8C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Социальная 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A39E-FDC4-4AE8-9134-C960F27662B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Чингисхан (1155 г.? – 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                         август 1227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Какое благо выше всех на земле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 на него ответил: </a:t>
            </a:r>
            <a:r>
              <a:rPr b="1" lang="ru-RU" sz="1200" spc="-1" strike="noStrike">
                <a:solidFill>
                  <a:srgbClr val="ff6600"/>
                </a:solidFill>
                <a:latin typeface="Arial"/>
              </a:rPr>
              <a:t>«Счастливее всех на земле тот, кто гонит разбитых им неприятелей, грабит их добро, скачет на их конях, любуется слезами людей, им близких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BA49-EB5A-44CD-B3F8-87111D07EF9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вой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кон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тяжелая</a:t>
            </a: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лёгкая</a:t>
            </a: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2014-0080-4A77-BCB4-CE29F903539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оевания монго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C41B-33A7-42D5-943C-A75547A56D8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Битва на Калке - 31 мая 122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Джебе-но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Субэдэй-богату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хан Котян: «Нашу зем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сегодня отняли, а ваш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завтра, пришедш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возьмут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Мстислав Удал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Мстислав Роман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Мстислав Святослав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Даниил Роман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7235-6293-4CFC-B86C-3AF721331C6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ствие Батыя на Р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4CE3-F4C5-457C-8663-915509474D6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ствие Батыя на Р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C06E-2C76-4FF9-A05E-3DF7DC7B0D3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орение земли Рязан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E458-F448-4332-98F0-48CDC538D2E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081C-074B-466A-AF34-43983EC7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1B99-2EE9-4398-BEAF-9B3F0A24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CC1F56-8D56-4C6C-BD07-06FE419B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F2ADD0-C4D2-4256-9D87-3CB06356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6182F9-7130-47DC-A8F3-9F2E6901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135FD7-385C-4689-A5E5-F8001A6C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68BDD0-A73E-4123-8E20-841E75A0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C62571-07E5-4381-BC7B-AFCAFA72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4D1887-2403-4804-8836-06A77288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0ED407-EFC4-44FE-88BF-14831423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D56576-3417-4215-A885-11B9FA07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B550E-49F4-465F-BE63-10166002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29D0-7F6A-4BED-B263-5B5B21FF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C974B-F51A-45FC-B1B3-CB8EF88F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EFFEB-E5D5-453F-B326-FF0D7C4A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29C08-EDDE-47BF-87A2-5BEAD1AE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52602-6964-4666-A279-91711989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DABAC-6FB0-4774-8DC8-ACC5F112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A24D9-B36A-4139-98AE-2727DBFF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D48AC-17BA-4313-87E4-434B977E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EB07E-2981-4CF3-86DD-1F90060D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8D05D-C72D-4D71-8DB7-8AF1AEE9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93DB5-4538-4432-94EE-A1DC83BED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FD19-C3EB-44CD-B2DE-6954E4AF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FB890-77D0-4233-AAD0-F749F893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28F8E9-11FB-4990-8576-B68BDB8F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9C683B-D85D-4474-AF5C-6802B3CC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19424C-083E-4E13-8324-47635F33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F900BC-BDEF-4EFD-873C-8B775B04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709FAE-1133-466E-990C-2D61FB92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DE6372-92D5-4615-BDC7-E925D0A5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22F444-CDBC-470B-9E79-190D62C8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88E9BB-2A54-4C4D-B5D1-A8171973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E7F33F-D36D-4D4A-ADB0-BF812586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4E46-44DA-4A56-9BE4-D46458E1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13B089-9A29-485C-9E35-7DE791B6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E5AFC4-48A5-48BD-95BC-3060F63C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463CCD-E93F-4722-88D4-C4812768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9088E-B657-4573-9C4F-100D4244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F5E07-7209-415F-BB63-3602CA5C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C781C-AE9D-4DED-BC7E-BFFFCBFA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4A48D-64F8-497E-8A07-3DD6A526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D62B9E-DDB8-4E42-BB5B-8EF7B6DA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FC87E-A203-4BBF-BDC6-0A7F5158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04C02-3303-4E0A-9B7A-53FA29EC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88D4-3F04-405B-846C-DDB00A0A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D2E8C-794B-4F68-B6C9-170FEB1C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9CE6A-1802-4F08-A6DB-49F130B2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F4705-D824-4F85-AF93-9F7AA4A5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36346-D7BB-470A-9DB7-6C289D12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3CB30-2117-4084-B6AC-80AD56AF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D51717-F0CF-4722-A185-B442ADAA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1D9E53-7750-48E2-A03D-C252766B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9F55B1-3E06-40A7-8109-D3C0DD76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B04F9E-CF54-4178-82C5-D747F94E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2C9D4A-0DA3-46F4-8DDC-7E305DAB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9179-1A7A-4DA0-9382-1532AF1D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EC9A94-8702-4D57-8467-C1576674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E356A5-7B52-4204-BEEA-88FD246F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1959BC-0B4D-42A4-9561-D7346287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74937A-EFE9-4FEF-A7E3-ADE503BE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821F15-C7F3-4381-9109-ECFF28DF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EA0BB2-013D-4D0C-BDC5-3C20E1C7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B3432E-9D29-427F-938B-27FDBA8C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3BA9D5-CEA8-48FD-8669-2696ABBD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C42765-A73F-44DE-8179-ED08E621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239B19-AB65-4179-A300-28E84EF7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0733-06C0-4AFD-A6C5-9C942ECA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8A8697-89BF-4D24-AE61-CE6D0EC4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760E08-1DAE-4EAB-838D-FD1084D4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48FE6B-CD22-4B21-A3F2-EC5BA8F9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BC9A5F-AA6C-48D5-8BA9-E493C490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CB38D4-DA0A-4CF8-B37F-B4752094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861F78-3FA1-47FE-B869-98B2271E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CBADCD-DADA-461A-B0F2-C0032F56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237054-BE41-4544-B802-33912A32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666A6F-F019-4C9A-B7B5-A6B10B6D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ECFEA72-F42D-47C3-AE80-8FC9472A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13FA-8E27-40D2-83FC-23026138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29C522-FEA1-45CF-A4BB-D5DDA210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9F69644-21FA-46DE-AB99-C3FACCC2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7C8B268-6A2C-4E5F-85AD-D9B49CE4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3C0B8B6-8DB6-4CCB-A530-5A426836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23F99D6-573D-450C-AF99-C8A6D58D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29C990-61B3-48F1-8AC1-154A88B1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5784CE8-0250-48EA-80DD-E6441F81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3C6BC23-DAD5-4518-B20E-AFBC1F57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6551CA7-5610-47A7-A067-06243C8C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C77647B-C103-4E9A-A49A-2CEB8F9E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E6F0-ABB8-445C-82AC-B14F10FC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4F3A4F-14E4-4B76-BED1-CB35332C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27B7320-9668-4150-8DE8-1EF4AD4F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759C550-7048-4E66-9D34-B506ADB4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C1CAB1F-7694-4ED5-9C7A-0390B607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088E6E9-294D-4485-A1B0-C38C55F7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460D65D-A7C9-4FB9-BCF2-FC548A07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AF759AB-D913-4FC6-8935-285A9040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5926FBB-4814-4486-A2A2-C3219C95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6DEA65C-0723-4401-8C13-D38AAAE3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5324214-DC2E-4503-86F0-7B52A784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448B-A875-45BE-B293-2EAEB342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CCB445D-23D9-445D-91D5-5001AC89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A8D2C73-8A68-4D39-A9A1-63F59714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84A0F21-0F7D-4FB2-9B62-7A142521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309EC1-C116-4F17-8ACE-23F1D54D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D4A02E-3035-408A-AB63-4B03200F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B843D3-AFA4-4F9F-B138-1289E483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83753B-A8AE-4C99-9320-F9892406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93378A-31B6-41F3-8B86-E47D312E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40A4BA-F13B-4201-A973-D34ABA54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B2FCD2-BF31-44E3-B6F1-DB355C2B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97C6-8171-4AF1-9D87-B71A08C5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E5E8-176A-40AD-8195-4427F122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77455D-D3D4-427C-9033-C64FF233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A1AAD7-7BD3-46C2-860B-1438DD7E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57D936-1130-4E10-8CC5-53433F42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539E8F-1916-4EEF-9564-C32FD773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FD4F93-363D-4709-A9CB-2FD36F91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6E4C6E-168E-48AB-B4C3-8121A041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24DAB9-AAE7-4FAB-A652-C23D5E15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6362C2-FD77-4238-B335-6C31FB2A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87669D-9473-4481-BF83-75A6BE5D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182D14-D06B-452B-A325-AF6E5436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E473-59B3-4883-92F4-B19CF69A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3CAB6F-2682-4C83-BF34-4564D915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4AD05E-D8E2-4A71-B009-05D4447B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DA3A5A-0B42-4579-AFAC-FA155D6A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02732E-FC7A-4C13-9CAC-BFFB80A6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24C4A3-6296-4D0A-B212-70E2C79D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9173A8-03B8-47DB-8EF4-D22882EF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6FF24E-2F8D-4CBE-B5D3-9A8FC531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824F-38CC-4988-AE3E-898495E6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280B-2559-4C74-B770-984D4CD75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86BD-5922-4E55-88DE-DD90C1943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8D923-5510-4D84-956B-31C078F7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FEC7D-647E-43D9-9233-A35AB738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A6975-3716-4C00-BE24-2D3BCC1F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78C51-4CC7-4846-8FAD-AE1D89ED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4FA54-A91F-429C-92EB-EE0BBD11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E6FC-554F-4B9B-A21B-7A0A27DB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D309D-F646-40BD-8015-61FF3364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F8CDE-9770-43C3-94D8-E6ABBC7B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03493-A6D5-4DD2-B742-706500CB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75ACB-B729-41AC-BFE4-88AA4521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56A05-3FD6-4F0B-890C-ABF9896E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5BA8C-31AC-4831-BA40-6A41BEE8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3D605-F8D6-43BA-92F3-F996FEEE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34132-D30E-408A-96AB-FF8C76E2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D2E5E-3806-48D6-AEE3-A4101C04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5AD97-F73F-452C-A864-BA8BF0B5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F1FC-D2FE-431B-8218-D0ACFF8A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D5F18-CDBE-41E0-BC61-DB6224D9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61E89-4515-4CD2-9648-639247F7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012C3-DD69-4F68-A82B-2E09A0C0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98F02-4970-47D7-980F-2B396CCF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1D4EF-4135-4616-9875-CF9B2829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6FC0B-3860-4BB0-9A9C-910DD38C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D08DE-501C-4306-89F8-5FF2B968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BC684-497E-4CD5-8FD1-5A3E1EED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C9346-69B1-43D4-BCEC-13C9D13D6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EA44D-4BC1-4489-82D9-75018DDC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F5E0-90A1-4D17-BA8E-80A4B55A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F8AC9-D0B6-464B-B5AE-B6D004D8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C1DBE-D1CE-4B86-958A-7D9860E9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62A7C-C430-432C-A33C-5C05C365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3DC05-6BE7-4AC8-BBED-D2CF5451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531A3-60EE-4407-AF1A-6E83D238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40BB2-8D0A-4717-B11E-1F210F97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DCF00-E9F1-477A-A068-0E55BE20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81C19-3D1D-49C7-84EE-580FB9C0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9CCD8-11F5-4767-8AF5-FFFC28B6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B4C54-9EEE-428D-90B3-7B035D97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C4D9-803A-4AF7-ABE0-829B0459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41F80-FCBD-459A-B38B-A878EE64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247B3-14A1-491C-8305-B1559FF0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E417D-C3E0-468A-86F5-C9D6D55A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F5F8C-2696-4F39-A6DC-DDE3E5D5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FA935-796A-40C5-85DE-9D5A4AC8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A7DC2-84FC-4997-B67D-BF2F8B44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35B61-EEE5-4F96-AD18-8D60B6C5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1517A-149F-4A4F-8F2A-E1EAABB3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AE271-1DF3-4996-B617-12979E5F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D29DD-023A-48B2-9DF5-5D6A97F8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0F6B-DB7B-4875-B185-DEA2EE66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1980E-B06F-46BD-A682-09B9DABE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88D33-D723-464F-9C8A-BF621051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5DCD2-DD3A-471B-AA65-1F16A1B1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71BF0A-1B56-4D37-B2FE-39B4EF73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24F238-5E63-4A4B-9778-A83080EA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B3FB88-DCA4-4018-A615-120708F0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2B29D3-A154-4BEB-B313-CB41A27C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805A77-3CB2-40FD-AAD5-85C7986B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99456B-C1C4-4208-81BB-4DA339FA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8398BF-A772-4588-8979-127002A0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DAEF-3CA2-48CA-AF7B-854E2143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8DD8E1-8C74-4CA6-A27F-CF7A12EA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373EDB-B35B-42EB-B975-CC7A98B3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4970F3-6695-4CDC-961A-E39CC3A1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CD8C2A-32EF-4384-B39B-7CDA7640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1A87FE-3C19-4AA4-AC60-64C20DA8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38663-AFDE-4361-AD3A-24FEBF7D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2683F-D1DE-4518-9685-5D237E64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D2A81-5204-4256-AA62-DD312853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47882-34E8-4870-B16A-E91B2E4A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62012-7E81-4251-877B-F889BB45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CEE4-A6D3-42E1-BC08-0D6378CA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F4AA2-BDF6-43B9-B23B-9AA0F020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DAEB5-A30A-4DDE-85C0-373047C9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3C964-8DCC-45A7-BD3A-2604CD06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2E569-FC66-45EE-B23E-9826152B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58148-7EC0-404A-A8AA-C71B2D28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004C3-0FE4-405A-80AE-315626FE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AD484-CE6A-433C-9BF5-ACC1C6B3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49DAAB-C3BF-4B2E-9D02-EC6E58F5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50265E-75A2-4C07-84CC-DE812FA3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BFC52A-E84F-403A-8A8C-A563CB21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66ff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66ff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21DC-9D67-4E1E-A4FD-11C8F8FA8A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1a0d"/>
            </a:gs>
            <a:gs pos="50000">
              <a:srgbClr val="66ff33"/>
            </a:gs>
            <a:gs pos="100000">
              <a:srgbClr val="271a0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66ff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465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466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67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66ff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468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469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470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471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472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473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28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9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0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CD14-1214-46CA-BB0A-69ADF3862B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16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17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518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519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20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521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22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23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24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25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26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527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528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29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0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1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2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3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4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BEC8-BF81-4F05-80AF-47CC625E27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57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78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79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FA88-9F8A-4B90-97AC-E06566DC213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3240" y="2895480"/>
            <a:ext cx="9147240" cy="113040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3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1214-5786-4362-902B-ACF340CABC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6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82d8ad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6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14C3-658E-49B4-A97C-C28024E9E2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B0C9-1371-466E-B805-BEC9A00E69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752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753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754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755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756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ftr" idx="46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sldNum" idx="47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2F51-80F7-448D-BAF2-556D8B11FE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dt" idx="48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99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0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1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2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3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4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5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6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7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8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9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0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1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2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3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4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5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6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7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8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9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0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1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2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3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4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5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6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7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828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829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830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831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832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833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4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5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6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837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38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39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0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41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842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3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4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5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6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7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49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50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51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A4BB-811F-43B7-BF49-9407DB801F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9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1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5F2D-9DC0-4A0D-B86E-437360EC18A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5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5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5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6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6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3CC5-1C45-427C-8E43-E5386A197C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13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4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0D3D-3A5D-4647-A12B-48134979083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A5AE-BB55-4C53-82F6-07238FCB35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0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90f0c0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0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F2C7-6403-450B-956F-288000D989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DF29-9024-482C-9B37-B2B42E3D87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87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88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9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0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5590-A5A2-42E6-8E9D-B9770AA9DA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dt" idx="2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33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2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3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4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AEB3-74DD-4E6D-8607-908FFEC0A2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0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2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2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2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AC20-E107-48DD-B41B-BC97A0D72CC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_AlgeriusCaps"/>
              </a:rPr>
              <a:t>Тема: Монголо-татарское нашествие на Русь.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_AntiqueTrady"/>
              </a:rPr>
              <a:t>Цель: углубить свои знания по вопросу «Монголо-татары и Русь» на основе историографии и решить проблему: почему монголо -татары смогли покорить Русь, находящуюся на более высокой ступени общественного развития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500" autoRev="1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set>
                                      <p:cBhvr>
                                        <p:cTn id="8" dur="1500" autoRev="1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111,94)"/>
                                      </p:to>
                                    </p:set>
                                    <p:set>
                                      <p:cBhvr>
                                        <p:cTn id="12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3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Владимиро-Суздальское княжество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23" name="Picture 8" descr=""/>
          <p:cNvPicPr/>
          <p:nvPr/>
        </p:nvPicPr>
        <p:blipFill>
          <a:blip r:embed="rId1"/>
          <a:stretch/>
        </p:blipFill>
        <p:spPr>
          <a:xfrm>
            <a:off x="4067280" y="1628640"/>
            <a:ext cx="4464000" cy="39960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9" descr=""/>
          <p:cNvPicPr/>
          <p:nvPr/>
        </p:nvPicPr>
        <p:blipFill>
          <a:blip r:embed="rId2"/>
          <a:stretch/>
        </p:blipFill>
        <p:spPr>
          <a:xfrm>
            <a:off x="2050920" y="1773360"/>
            <a:ext cx="4321440" cy="41432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2" descr=""/>
          <p:cNvPicPr/>
          <p:nvPr/>
        </p:nvPicPr>
        <p:blipFill>
          <a:blip r:embed="rId3"/>
          <a:stretch/>
        </p:blipFill>
        <p:spPr>
          <a:xfrm>
            <a:off x="2050920" y="2679840"/>
            <a:ext cx="5604120" cy="4178160"/>
          </a:xfrm>
          <a:prstGeom prst="rect">
            <a:avLst/>
          </a:prstGeom>
          <a:ln w="0">
            <a:noFill/>
          </a:ln>
        </p:spPr>
      </p:pic>
      <p:sp>
        <p:nvSpPr>
          <p:cNvPr id="1026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3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2" dur="3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3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3" dur="3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Organization Chart 6"/>
          <p:cNvGrpSpPr/>
          <p:nvPr/>
        </p:nvGrpSpPr>
        <p:grpSpPr>
          <a:xfrm>
            <a:off x="1547640" y="404640"/>
            <a:ext cx="7595280" cy="6264000"/>
            <a:chOff x="1547640" y="404640"/>
            <a:chExt cx="7595280" cy="6264000"/>
          </a:xfrm>
        </p:grpSpPr>
        <p:cxnSp>
          <p:nvCxnSpPr>
            <p:cNvPr id="1028" name="_s3076"/>
            <p:cNvCxnSpPr>
              <a:stCxn id="1029" idx="1"/>
              <a:endCxn id="1030" idx="2"/>
            </p:cNvCxnSpPr>
            <p:nvPr/>
          </p:nvCxnSpPr>
          <p:spPr>
            <a:xfrm rot="10800000">
              <a:off x="3825360" y="1298880"/>
              <a:ext cx="759960" cy="492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1" name="_s3077"/>
            <p:cNvCxnSpPr>
              <a:stCxn id="1032" idx="1"/>
              <a:endCxn id="1030" idx="2"/>
            </p:cNvCxnSpPr>
            <p:nvPr/>
          </p:nvCxnSpPr>
          <p:spPr>
            <a:xfrm rot="10800000">
              <a:off x="3825360" y="1298880"/>
              <a:ext cx="759960" cy="3581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3" name="_s3078"/>
            <p:cNvCxnSpPr>
              <a:stCxn id="1034" idx="1"/>
              <a:endCxn id="1030" idx="2"/>
            </p:cNvCxnSpPr>
            <p:nvPr/>
          </p:nvCxnSpPr>
          <p:spPr>
            <a:xfrm rot="10800000">
              <a:off x="3825360" y="1298880"/>
              <a:ext cx="759960" cy="2238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5" name="_s3079"/>
            <p:cNvCxnSpPr>
              <a:stCxn id="1036" idx="1"/>
              <a:endCxn id="1030" idx="2"/>
            </p:cNvCxnSpPr>
            <p:nvPr/>
          </p:nvCxnSpPr>
          <p:spPr>
            <a:xfrm rot="10800000">
              <a:off x="3825360" y="1298880"/>
              <a:ext cx="759960" cy="895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30" name="_s3080"/>
            <p:cNvSpPr/>
            <p:nvPr/>
          </p:nvSpPr>
          <p:spPr>
            <a:xfrm>
              <a:off x="1547640" y="404640"/>
              <a:ext cx="4557240" cy="89496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ffcc66"/>
                  </a:solidFill>
                  <a:latin typeface="Tahoma"/>
                </a:rPr>
                <a:t>II</a:t>
              </a:r>
              <a:r>
                <a:rPr b="0" lang="ru-RU" sz="4900" spc="-1" strike="noStrike">
                  <a:solidFill>
                    <a:srgbClr val="ffcc66"/>
                  </a:solidFill>
                  <a:latin typeface="Tahoma"/>
                </a:rPr>
                <a:t> поход Батыя</a:t>
              </a:r>
              <a:endParaRPr b="0" lang="en-US" sz="49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36" name="_s3081"/>
            <p:cNvSpPr/>
            <p:nvPr/>
          </p:nvSpPr>
          <p:spPr>
            <a:xfrm>
              <a:off x="4585680" y="1747440"/>
              <a:ext cx="4557240" cy="89496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март 1239 г. - Переяславль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34" name="_s3082"/>
            <p:cNvSpPr/>
            <p:nvPr/>
          </p:nvSpPr>
          <p:spPr>
            <a:xfrm>
              <a:off x="4585680" y="3090240"/>
              <a:ext cx="4557240" cy="89496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18 октября 1239 г. - Чернигов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32" name="_s3083"/>
            <p:cNvSpPr/>
            <p:nvPr/>
          </p:nvSpPr>
          <p:spPr>
            <a:xfrm>
              <a:off x="4585680" y="4433040"/>
              <a:ext cx="4557240" cy="89496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6 декабря 1240 г. - Киев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29" name="_s3084"/>
            <p:cNvSpPr/>
            <p:nvPr/>
          </p:nvSpPr>
          <p:spPr>
            <a:xfrm>
              <a:off x="4585680" y="5776200"/>
              <a:ext cx="4557240" cy="8924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январь 1242 г. вышли на 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побережье Адриатического моря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037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ичины поражения русских войс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евозможность сопротивления монголо-татарам в связи с их воинской организацией (комплекс воинских приёмов, использовавшихся при штурме городов, численное превосходство, мобильность)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азобщённость русских войск и сил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мелое тактическое руководство и стратегический талант Батыя и его военачальников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040" name="9.ОГИНСКИЙ - ПОЛОНЕЗ  ПРОЩАНИЕ.mp3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4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1" fill="hold"/>
                                        <p:tgtEl>
                                          <p:spTgt spid="10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300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7" dur="3000"/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" dur="3000"/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6" descr="пожар"/>
          <p:cNvPicPr/>
          <p:nvPr/>
        </p:nvPicPr>
        <p:blipFill>
          <a:blip r:embed="rId1"/>
          <a:stretch/>
        </p:blipFill>
        <p:spPr>
          <a:xfrm>
            <a:off x="755640" y="1773360"/>
            <a:ext cx="3228840" cy="35924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7" descr="f-85"/>
          <p:cNvPicPr/>
          <p:nvPr/>
        </p:nvPicPr>
        <p:blipFill>
          <a:blip r:embed="rId2"/>
          <a:stretch/>
        </p:blipFill>
        <p:spPr>
          <a:xfrm>
            <a:off x="4716360" y="549360"/>
            <a:ext cx="3476880" cy="27669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8" descr="0,1587,1441475_1,00"/>
          <p:cNvPicPr/>
          <p:nvPr/>
        </p:nvPicPr>
        <p:blipFill>
          <a:blip r:embed="rId3"/>
          <a:stretch/>
        </p:blipFill>
        <p:spPr>
          <a:xfrm>
            <a:off x="4716360" y="3789360"/>
            <a:ext cx="3516480" cy="2548080"/>
          </a:xfrm>
          <a:prstGeom prst="rect">
            <a:avLst/>
          </a:prstGeom>
          <a:ln w="0">
            <a:noFill/>
          </a:ln>
        </p:spPr>
      </p:pic>
      <p:sp>
        <p:nvSpPr>
          <p:cNvPr id="10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9325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바탕"/>
              </a:rPr>
              <a:t>Монголо-татарское нашествие завершилось установлением владычества, сущность которого можно определить следующими понятиями и суждениями: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CTT"/>
              </a:rPr>
              <a:t>Домашнее зада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CTT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cademyCTT"/>
              </a:rPr>
              <a:t>Завершить подготовку к уроку-семинару, ответив на вопрос: «Как рассматривается содержание монголо-татарского ига в русской и советской историографии (на примере точек зрения С.М. Соловьева, В.В. Каргалова, Л.Н.Гумилёва)?»; сообщение об Александре Невском, учебник с. 123-129; ответить на вопрос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65.6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2,-84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6516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Социальная структур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63" name="Diagram 18"/>
          <p:cNvGrpSpPr/>
          <p:nvPr/>
        </p:nvGrpSpPr>
        <p:grpSpPr>
          <a:xfrm>
            <a:off x="0" y="1557360"/>
            <a:ext cx="8685000" cy="5120640"/>
            <a:chOff x="0" y="1557360"/>
            <a:chExt cx="8685000" cy="5120640"/>
          </a:xfrm>
        </p:grpSpPr>
        <p:sp>
          <p:nvSpPr>
            <p:cNvPr id="964" name="_s1028"/>
            <p:cNvSpPr/>
            <p:nvPr/>
          </p:nvSpPr>
          <p:spPr>
            <a:xfrm flipV="1">
              <a:off x="4082040" y="2054880"/>
              <a:ext cx="1842840" cy="1155600"/>
            </a:xfrm>
            <a:custGeom>
              <a:avLst/>
              <a:gdLst>
                <a:gd name="textAreaLeft" fmla="*/ 661320 w 1842840"/>
                <a:gd name="textAreaRight" fmla="*/ 1181520 w 1842840"/>
                <a:gd name="textAreaTop" fmla="*/ 414720 h 1155600"/>
                <a:gd name="textAreaBottom" fmla="*/ 74088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f00"/>
            </a:solidFill>
            <a:ln w="39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хан</a:t>
              </a: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65" name="_s1029"/>
            <p:cNvSpPr/>
            <p:nvPr/>
          </p:nvSpPr>
          <p:spPr>
            <a:xfrm flipV="1">
              <a:off x="3161520" y="3210480"/>
              <a:ext cx="3683520" cy="1155600"/>
            </a:xfrm>
            <a:custGeom>
              <a:avLst/>
              <a:gdLst>
                <a:gd name="textAreaLeft" fmla="*/ 810000 w 3683520"/>
                <a:gd name="textAreaRight" fmla="*/ 2873520 w 3683520"/>
                <a:gd name="textAreaTop" fmla="*/ 254160 h 1155600"/>
                <a:gd name="textAreaBottom" fmla="*/ 90144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нойоны </a:t>
              </a: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богатуры</a:t>
              </a:r>
              <a:r>
                <a:rPr b="1" lang="en-US" sz="2700" spc="-1" strike="noStrike">
                  <a:solidFill>
                    <a:srgbClr val="eaeaea"/>
                  </a:solidFill>
                  <a:latin typeface="Tahoma"/>
                </a:rPr>
                <a:t> </a:t>
              </a:r>
              <a:endParaRPr b="0" lang="en-US" sz="27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66" name="_s1030"/>
            <p:cNvSpPr/>
            <p:nvPr/>
          </p:nvSpPr>
          <p:spPr>
            <a:xfrm flipV="1">
              <a:off x="2242080" y="4366080"/>
              <a:ext cx="5523120" cy="1155600"/>
            </a:xfrm>
            <a:custGeom>
              <a:avLst/>
              <a:gdLst>
                <a:gd name="textAreaLeft" fmla="*/ 958680 w 5523120"/>
                <a:gd name="textAreaRight" fmla="*/ 4564440 w 5523120"/>
                <a:gd name="textAreaTop" fmla="*/ 200520 h 1155600"/>
                <a:gd name="textAreaBottom" fmla="*/ 95508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нукеры</a:t>
              </a: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67" name="_s1031"/>
            <p:cNvSpPr/>
            <p:nvPr/>
          </p:nvSpPr>
          <p:spPr>
            <a:xfrm flipV="1">
              <a:off x="1321920" y="5522040"/>
              <a:ext cx="7363080" cy="1155600"/>
            </a:xfrm>
            <a:custGeom>
              <a:avLst/>
              <a:gdLst>
                <a:gd name="textAreaLeft" fmla="*/ 1107720 w 7363080"/>
                <a:gd name="textAreaRight" fmla="*/ 6255360 w 7363080"/>
                <a:gd name="textAreaTop" fmla="*/ 173880 h 1155600"/>
                <a:gd name="textAreaBottom" fmla="*/ 981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араты</a:t>
              </a: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pic>
          <p:nvPicPr>
            <p:cNvPr id="968" name="Picture 26" descr=""/>
            <p:cNvPicPr/>
            <p:nvPr/>
          </p:nvPicPr>
          <p:blipFill>
            <a:blip r:embed="rId1"/>
            <a:stretch/>
          </p:blipFill>
          <p:spPr>
            <a:xfrm>
              <a:off x="0" y="1557360"/>
              <a:ext cx="2954880" cy="316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9" name="Picture 2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549360"/>
            <a:ext cx="3276720" cy="2492280"/>
          </a:xfrm>
          <a:prstGeom prst="rect">
            <a:avLst/>
          </a:prstGeom>
          <a:ln w="0">
            <a:noFill/>
          </a:ln>
        </p:spPr>
      </p:pic>
      <p:sp>
        <p:nvSpPr>
          <p:cNvPr id="97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ингисхан (1155 г.? –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                     август 1227 г.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78920" y="3357360"/>
            <a:ext cx="35290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Какое благо выше всех на земле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 на него ответил: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«Счастливее всех на земле тот, кто гонит разбитых им неприятелей, грабит их добро, скачет на их конях, любуется слезами людей, им близких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3" name="Picture 8" descr=""/>
          <p:cNvPicPr/>
          <p:nvPr/>
        </p:nvPicPr>
        <p:blipFill>
          <a:blip r:embed="rId1"/>
          <a:stretch/>
        </p:blipFill>
        <p:spPr>
          <a:xfrm>
            <a:off x="0" y="765000"/>
            <a:ext cx="1681200" cy="21654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"/>
          <p:cNvPicPr/>
          <p:nvPr/>
        </p:nvPicPr>
        <p:blipFill>
          <a:blip r:embed="rId2"/>
          <a:stretch/>
        </p:blipFill>
        <p:spPr>
          <a:xfrm>
            <a:off x="2124000" y="1125360"/>
            <a:ext cx="1503360" cy="2165400"/>
          </a:xfrm>
          <a:prstGeom prst="rect">
            <a:avLst/>
          </a:prstGeom>
          <a:ln w="0">
            <a:noFill/>
          </a:ln>
        </p:spPr>
      </p:pic>
      <p:grpSp>
        <p:nvGrpSpPr>
          <p:cNvPr id="975" name="Organization Chart 10"/>
          <p:cNvGrpSpPr/>
          <p:nvPr/>
        </p:nvGrpSpPr>
        <p:grpSpPr>
          <a:xfrm>
            <a:off x="3633840" y="765000"/>
            <a:ext cx="5509440" cy="5327640"/>
            <a:chOff x="3633840" y="765000"/>
            <a:chExt cx="5509440" cy="5327640"/>
          </a:xfrm>
        </p:grpSpPr>
        <p:cxnSp>
          <p:nvCxnSpPr>
            <p:cNvPr id="976" name="_s2052"/>
            <p:cNvCxnSpPr>
              <a:stCxn id="977" idx="3"/>
              <a:endCxn id="978" idx="3"/>
            </p:cNvCxnSpPr>
            <p:nvPr/>
          </p:nvCxnSpPr>
          <p:spPr>
            <a:xfrm flipV="1">
              <a:off x="7027200" y="1526040"/>
              <a:ext cx="529200" cy="4186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9" name="_s2053"/>
            <p:cNvCxnSpPr>
              <a:stCxn id="980" idx="3"/>
              <a:endCxn id="978" idx="2"/>
            </p:cNvCxnSpPr>
            <p:nvPr/>
          </p:nvCxnSpPr>
          <p:spPr>
            <a:xfrm flipV="1">
              <a:off x="7027200" y="1526040"/>
              <a:ext cx="529200" cy="3044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1" name="_s2054"/>
            <p:cNvCxnSpPr>
              <a:stCxn id="982" idx="3"/>
              <a:endCxn id="978" idx="1"/>
            </p:cNvCxnSpPr>
            <p:nvPr/>
          </p:nvCxnSpPr>
          <p:spPr>
            <a:xfrm flipV="1">
              <a:off x="7027200" y="1526400"/>
              <a:ext cx="529200" cy="1905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3" name="_s2055"/>
            <p:cNvCxnSpPr>
              <a:stCxn id="984" idx="3"/>
              <a:endCxn id="978" idx="0"/>
            </p:cNvCxnSpPr>
            <p:nvPr/>
          </p:nvCxnSpPr>
          <p:spPr>
            <a:xfrm flipV="1">
              <a:off x="7027200" y="1526400"/>
              <a:ext cx="529200" cy="763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78" name="_s2056"/>
            <p:cNvSpPr/>
            <p:nvPr/>
          </p:nvSpPr>
          <p:spPr>
            <a:xfrm>
              <a:off x="5969520" y="765000"/>
              <a:ext cx="3173760" cy="761760"/>
            </a:xfrm>
            <a:custGeom>
              <a:avLst/>
              <a:gdLst>
                <a:gd name="textAreaLeft" fmla="*/ 0 w 3173760"/>
                <a:gd name="textAreaRight" fmla="*/ 3174120 w 317376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89961" h="21600">
                  <a:moveTo>
                    <a:pt x="0" y="0"/>
                  </a:moveTo>
                  <a:lnTo>
                    <a:pt x="89961" y="0"/>
                  </a:lnTo>
                  <a:lnTo>
                    <a:pt x="89961" y="21600"/>
                  </a:lnTo>
                  <a:lnTo>
                    <a:pt x="0" y="21600"/>
                  </a:lnTo>
                  <a:close/>
                </a:path>
                <a:path fill="lightenLess" w="89961" h="21600">
                  <a:moveTo>
                    <a:pt x="0" y="0"/>
                  </a:moveTo>
                  <a:lnTo>
                    <a:pt x="89961" y="0"/>
                  </a:lnTo>
                  <a:lnTo>
                    <a:pt x="89961" y="0"/>
                  </a:lnTo>
                  <a:lnTo>
                    <a:pt x="0" y="0"/>
                  </a:lnTo>
                  <a:close/>
                </a:path>
                <a:path fill="darken" w="89961" h="21600">
                  <a:moveTo>
                    <a:pt x="89961" y="0"/>
                  </a:moveTo>
                  <a:lnTo>
                    <a:pt x="89961" y="21600"/>
                  </a:lnTo>
                  <a:lnTo>
                    <a:pt x="89961" y="21600"/>
                  </a:lnTo>
                  <a:lnTo>
                    <a:pt x="89961" y="0"/>
                  </a:lnTo>
                  <a:close/>
                </a:path>
                <a:path fill="darkenLess" w="89961" h="21600">
                  <a:moveTo>
                    <a:pt x="89961" y="21600"/>
                  </a:moveTo>
                  <a:lnTo>
                    <a:pt x="0" y="21600"/>
                  </a:lnTo>
                  <a:lnTo>
                    <a:pt x="0" y="21600"/>
                  </a:lnTo>
                  <a:lnTo>
                    <a:pt x="89961" y="21600"/>
                  </a:lnTo>
                  <a:close/>
                </a:path>
                <a:path fill="lighten" w="89961" h="21600">
                  <a:moveTo>
                    <a:pt x="0" y="2160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naLightCTT"/>
                </a:rPr>
                <a:t>Войско монголов.</a:t>
              </a:r>
              <a:endParaRPr b="0" lang="en-US" sz="28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84" name="_s2057"/>
            <p:cNvSpPr/>
            <p:nvPr/>
          </p:nvSpPr>
          <p:spPr>
            <a:xfrm>
              <a:off x="3633840" y="1906560"/>
              <a:ext cx="3393720" cy="762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nnaLightCTT"/>
                </a:rPr>
                <a:t>тумены</a:t>
              </a:r>
              <a:endParaRPr b="0" lang="en-US" sz="54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82" name="_s2058"/>
            <p:cNvSpPr/>
            <p:nvPr/>
          </p:nvSpPr>
          <p:spPr>
            <a:xfrm>
              <a:off x="3633840" y="3049200"/>
              <a:ext cx="3393720" cy="7617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nnaLightCTT"/>
                </a:rPr>
                <a:t>тысячи</a:t>
              </a:r>
              <a:endParaRPr b="0" lang="en-US" sz="4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80" name="_s2059"/>
            <p:cNvSpPr/>
            <p:nvPr/>
          </p:nvSpPr>
          <p:spPr>
            <a:xfrm>
              <a:off x="3633840" y="4191120"/>
              <a:ext cx="3393720" cy="7617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nnaLightCTT"/>
                </a:rPr>
                <a:t>сотни</a:t>
              </a:r>
              <a:endParaRPr b="0" lang="en-US" sz="44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77" name="_s2060"/>
            <p:cNvSpPr/>
            <p:nvPr/>
          </p:nvSpPr>
          <p:spPr>
            <a:xfrm>
              <a:off x="3651840" y="5333040"/>
              <a:ext cx="3375360" cy="7596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nnaLightCTT"/>
                </a:rPr>
                <a:t>десятки</a:t>
              </a:r>
              <a:endParaRPr b="0" lang="en-US" sz="4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9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Picture 13" descr=""/>
          <p:cNvPicPr/>
          <p:nvPr/>
        </p:nvPicPr>
        <p:blipFill>
          <a:blip r:embed="rId1"/>
          <a:stretch/>
        </p:blipFill>
        <p:spPr>
          <a:xfrm>
            <a:off x="0" y="2349360"/>
            <a:ext cx="4003560" cy="3141720"/>
          </a:xfrm>
          <a:prstGeom prst="rect">
            <a:avLst/>
          </a:prstGeom>
          <a:ln w="0">
            <a:noFill/>
          </a:ln>
        </p:spPr>
      </p:pic>
      <p:sp>
        <p:nvSpPr>
          <p:cNvPr id="987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4932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конница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тяжелая</a:t>
            </a: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	</a:t>
            </a: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лёгкая</a:t>
            </a: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Line 29"/>
          <p:cNvSpPr/>
          <p:nvPr/>
        </p:nvSpPr>
        <p:spPr>
          <a:xfrm flipH="1">
            <a:off x="1476360" y="620640"/>
            <a:ext cx="93672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9" name="Line 30"/>
          <p:cNvSpPr/>
          <p:nvPr/>
        </p:nvSpPr>
        <p:spPr>
          <a:xfrm>
            <a:off x="3059280" y="620640"/>
            <a:ext cx="936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title"/>
          </p:nvPr>
        </p:nvSpPr>
        <p:spPr>
          <a:xfrm>
            <a:off x="4680000" y="-36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остроение войска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91" name="Line 32"/>
          <p:cNvSpPr/>
          <p:nvPr/>
        </p:nvSpPr>
        <p:spPr>
          <a:xfrm flipH="1">
            <a:off x="5003640" y="1125360"/>
            <a:ext cx="935280" cy="863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2" name="Line 33"/>
          <p:cNvSpPr/>
          <p:nvPr/>
        </p:nvSpPr>
        <p:spPr>
          <a:xfrm>
            <a:off x="6877080" y="1125360"/>
            <a:ext cx="0" cy="1152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3" name="Line 34"/>
          <p:cNvSpPr/>
          <p:nvPr/>
        </p:nvSpPr>
        <p:spPr>
          <a:xfrm>
            <a:off x="7956720" y="1052640"/>
            <a:ext cx="36036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4" name="Rectangle 35"/>
          <p:cNvSpPr/>
          <p:nvPr/>
        </p:nvSpPr>
        <p:spPr>
          <a:xfrm>
            <a:off x="4704480" y="22050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ланг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5" name="Rectangle 36"/>
          <p:cNvSpPr/>
          <p:nvPr/>
        </p:nvSpPr>
        <p:spPr>
          <a:xfrm>
            <a:off x="7944480" y="21337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ланг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6" name="Rectangle 37"/>
          <p:cNvSpPr/>
          <p:nvPr/>
        </p:nvSpPr>
        <p:spPr>
          <a:xfrm>
            <a:off x="6491880" y="242100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ahoma"/>
              </a:rPr>
              <a:t>Центр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997" name="Picture 38" descr=""/>
          <p:cNvPicPr/>
          <p:nvPr/>
        </p:nvPicPr>
        <p:blipFill>
          <a:blip r:embed="rId2"/>
          <a:stretch/>
        </p:blipFill>
        <p:spPr>
          <a:xfrm>
            <a:off x="5580000" y="2852640"/>
            <a:ext cx="2644920" cy="3732480"/>
          </a:xfrm>
          <a:prstGeom prst="rect">
            <a:avLst/>
          </a:prstGeom>
          <a:ln w="0">
            <a:noFill/>
          </a:ln>
        </p:spPr>
      </p:pic>
      <p:sp>
        <p:nvSpPr>
          <p:cNvPr id="9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ff"/>
                </a:solidFill>
                <a:latin typeface="Arial Black"/>
              </a:rPr>
              <a:t>Завоевания монголов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graphicFrame>
        <p:nvGraphicFramePr>
          <p:cNvPr id="1000" name=""/>
          <p:cNvGraphicFramePr/>
          <p:nvPr/>
        </p:nvGraphicFramePr>
        <p:xfrm>
          <a:off x="34920" y="1557360"/>
          <a:ext cx="9109080" cy="5659560"/>
        </p:xfrm>
        <a:graphic>
          <a:graphicData uri="http://schemas.openxmlformats.org/drawingml/2006/table">
            <a:tbl>
              <a:tblPr/>
              <a:tblGrid>
                <a:gridCol w="2884320"/>
                <a:gridCol w="2881440"/>
                <a:gridCol w="334332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Дат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Направлени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Последстви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06-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11 г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Восточная Ази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Покорение киргизов, бурят, якутов, уйгуров. Разгром Тангутского царства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11-1215 г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Китай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Захват Северного Китая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18 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Коре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Завоевание государства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19-1221 г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Средняя Ази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Завоевание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1" name="7.ХАЧАТУРЯН - ТАНЕЦ С САБЛЯМИ.mp3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0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" fill="hold"/>
                                        <p:tgtEl>
                                          <p:spTgt spid="10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ahoma"/>
              </a:rPr>
              <a:t>Битва на Калке - 31 мая 1223 г.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-360" y="1197000"/>
            <a:ext cx="403380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Джебе-ной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Субэдэй-богату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684000" y="4076280"/>
            <a:ext cx="403380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хан Котян: «Нашу земл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сегодня отняли, а ваш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завтра, пришедш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возьмут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627280" y="907920"/>
            <a:ext cx="467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Мстислав Удал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Мстислав Роман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Мстислав Святослав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Даниил Роман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7" name="11.БРАМС - ВЕНГЕРСКИЙ ТАНЕЦ №1.mp3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51" descr=""/>
          <p:cNvPicPr/>
          <p:nvPr/>
        </p:nvPicPr>
        <p:blipFill>
          <a:blip r:embed="rId2"/>
          <a:stretch/>
        </p:blipFill>
        <p:spPr>
          <a:xfrm>
            <a:off x="5867280" y="2362320"/>
            <a:ext cx="3132360" cy="4495680"/>
          </a:xfrm>
          <a:prstGeom prst="rect">
            <a:avLst/>
          </a:prstGeom>
          <a:ln w="0">
            <a:noFill/>
          </a:ln>
        </p:spPr>
      </p:pic>
      <p:sp>
        <p:nvSpPr>
          <p:cNvPr id="10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10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Нашествие Батыя на Русь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11" name="Picture 4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5059440" cy="5073480"/>
          </a:xfrm>
          <a:prstGeom prst="rect">
            <a:avLst/>
          </a:prstGeom>
          <a:ln w="0">
            <a:noFill/>
          </a:ln>
        </p:spPr>
      </p:pic>
      <p:pic>
        <p:nvPicPr>
          <p:cNvPr id="1012" name="17.ВАГНЕР - ПОЛЕТ ВАЛЬКИРИИ.mp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3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" fill="hold"/>
                                        <p:tgtEl>
                                          <p:spTgt spid="10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Нашествие Батыя на Русь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15" name="Picture 4" descr="карта правильная"/>
          <p:cNvPicPr/>
          <p:nvPr/>
        </p:nvPicPr>
        <p:blipFill>
          <a:blip r:embed="rId1"/>
          <a:stretch/>
        </p:blipFill>
        <p:spPr>
          <a:xfrm>
            <a:off x="1568520" y="1568520"/>
            <a:ext cx="7575480" cy="5289480"/>
          </a:xfrm>
          <a:prstGeom prst="rect">
            <a:avLst/>
          </a:prstGeom>
          <a:ln w="0">
            <a:noFill/>
          </a:ln>
        </p:spPr>
      </p:pic>
      <p:sp>
        <p:nvSpPr>
          <p:cNvPr id="1016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6633"/>
                                      </p:to>
                                    </p:animClr>
                                    <p:animClr clrSpc="rgb">
                                      <p:cBhvr>
                                        <p:cTn id="2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6633"/>
                                      </p:to>
                                    </p:animClr>
                                    <p:set>
                                      <p:cBhvr>
                                        <p:cTn id="2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196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Разорение земли Рязанской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18" name="Picture 9" descr=""/>
          <p:cNvPicPr/>
          <p:nvPr/>
        </p:nvPicPr>
        <p:blipFill>
          <a:blip r:embed="rId1"/>
          <a:stretch/>
        </p:blipFill>
        <p:spPr>
          <a:xfrm>
            <a:off x="0" y="1125360"/>
            <a:ext cx="5435640" cy="57326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0" descr=""/>
          <p:cNvPicPr/>
          <p:nvPr/>
        </p:nvPicPr>
        <p:blipFill>
          <a:blip r:embed="rId2"/>
          <a:stretch/>
        </p:blipFill>
        <p:spPr>
          <a:xfrm>
            <a:off x="4017960" y="1125360"/>
            <a:ext cx="5126040" cy="5732640"/>
          </a:xfrm>
          <a:prstGeom prst="rect">
            <a:avLst/>
          </a:prstGeom>
          <a:ln w="0">
            <a:noFill/>
          </a:ln>
        </p:spPr>
      </p:pic>
      <p:sp>
        <p:nvSpPr>
          <p:cNvPr id="1020" name="Rectangle 11"/>
          <p:cNvSpPr/>
          <p:nvPr/>
        </p:nvSpPr>
        <p:spPr>
          <a:xfrm>
            <a:off x="4370400" y="0"/>
            <a:ext cx="47736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Новгородская земля</a:t>
            </a:r>
            <a:endParaRPr b="0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1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4:29:41Z</dcterms:created>
  <dc:creator>Наталья Андреевна</dc:creator>
  <dc:description/>
  <dc:language>en-US</dc:language>
  <cp:lastModifiedBy>LEGION</cp:lastModifiedBy>
  <dcterms:modified xsi:type="dcterms:W3CDTF">2015-01-15T12:22:56Z</dcterms:modified>
  <cp:revision>17</cp:revision>
  <dc:subject/>
  <dc:title>Слайд 1</dc:title>
</cp:coreProperties>
</file>