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type.wav" ContentType="audio/x-wav"/>
  <Override PartName="/ppt/media/image20.jpeg" ContentType="image/jpeg"/>
  <Override PartName="/ppt/media/image1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.jpeg" ContentType="image/jpeg"/>
  <Override PartName="/ppt/media/image4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BCD1-5C62-4163-9FD5-B91455BA60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_AlgeriusCaps"/>
              </a:rPr>
              <a:t>Тема: Монголо-татарское нашествие на Ру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_AntiqueTrady"/>
              </a:rPr>
              <a:t>Цель: углубить свои знания по вопросу «Монголо-татары и Русь» на основе историографии и решить проблему: почему монголо -татары смогли покорить Русь, находящуюся на более высокой ступени общественного развити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438F-1648-437A-982E-B48899826E8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миро-Суздальское княж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2F72-2E33-4B8C-9D6D-2CE6C85D223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поражения русских во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можность сопротивления монголо-татарам в связи с их воинской организацией (комплекс воинских приёмов, использовавшихся при штурме городов, численное превосходство, мобильност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общённость русских войск и си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лое тактическое руководство и стратегический талант Батыя и его военачаль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2E5A-B80D-4504-AD48-60BB1A35650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바탕"/>
              </a:rPr>
              <a:t>Монголо-татарское нашествие завершилось установлением владычества, сущность которого можно определить следующими понятиями и суждениями: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cademyCTT"/>
              </a:rPr>
              <a:t>Завершить подготовку к уроку-семинару, ответив на вопрос: «Как рассматривается содержание монголо-татарского ига в русской и советской историографии (на примере точек зрения С.М. Соловьева, В.В. Каргалова, Л.Н.Гумилёва)?»; сообщение об Александре Невском, учебник с. 123-129; ответить на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44AA-9116-4B00-82F9-AA557571F87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оциальн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B64D-AF69-4495-A59D-8D67481821A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Чингисхан (1155 г.? – 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                  август 1227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Arial"/>
              </a:rPr>
              <a:t>Какое благо выше всех на земле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 на него ответил: </a:t>
            </a:r>
            <a:r>
              <a:rPr b="1" lang="ru-RU" sz="1200" spc="-1" strike="noStrike">
                <a:solidFill>
                  <a:srgbClr val="ff6600"/>
                </a:solidFill>
                <a:latin typeface="Arial"/>
              </a:rPr>
              <a:t>«Счастливее всех на земле тот, кто гонит разбитых им неприятелей, грабит их добро, скачет на их конях, любуется слезами людей, им близки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2CFF-AC00-48CC-A026-EC6B9DBB04F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вой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кон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тяжелая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лёгкая</a:t>
            </a:r>
            <a:r>
              <a:rPr b="0" lang="ru-RU" sz="1200" spc="-1" strike="noStrike">
                <a:solidFill>
                  <a:srgbClr val="000000"/>
                </a:solidFill>
                <a:latin typeface="AnnaLightCTT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0376-C68A-4B71-A9DD-2656E01FE65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евания монго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E48A-EC7D-4152-B417-EBCEAC1F8E6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итва на Калке - 31 мая 122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Джебе-но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убэдэй-богату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хан Котян: «Нашу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сегодня отняли, а ваш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завтра, пришедш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cc"/>
                </a:solidFill>
                <a:latin typeface="Arial"/>
              </a:rPr>
              <a:t>возьму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Удал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Рома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Мстислав Святослав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cc"/>
                </a:solidFill>
                <a:latin typeface="Arial"/>
              </a:rPr>
              <a:t>Даниил Рома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8BBB-4F75-427A-B271-45EB12C3D31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ствие Батыя на 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3583-99E3-4D4E-8DE4-B116D314618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ствие Батыя на 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FB8C-C1EE-4CD1-A8C0-F2E4A8650C2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орение земли Рязан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3515-26EB-4B4A-9701-F3E5C7CAA89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E187-AD4C-4C75-88FB-41968977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224-56E9-4C14-9570-D0DFE0B1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577B4C-368B-474B-97EC-23E46969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D01CD6-EBD7-4A8C-BB8D-1320239E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743124-8802-4C3E-8B46-D177ACE0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360A2E-1326-4D4C-8ACD-75EF1C19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E3C1C4-390B-4815-8A7B-DE6DE095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2375C5-EE79-49D4-B765-2C3438F0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C89B78-C7CB-478C-9A53-FB70C26F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EEB419-F747-4482-9809-5107C375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B2C08A-6C78-4765-867D-2032EBC5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5C897-96E2-40A9-B5A9-F6498CDA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3BF1-B0B2-4699-B09D-B1172D80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7C44B-19AE-4779-9791-69705003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85FAA-CFDB-408C-989A-EC257DB1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47D49-6040-4AE6-A4B2-7332004A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30978-9BB6-4544-9820-2304D8B7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A0024-CC35-4321-96FF-0BB216E4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9DB5D-AD1A-4ADF-ADE1-255FC312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57F0D-98CD-4E94-B946-F2D9FB22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9D483-6BEA-4FE2-B731-1B86D387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7AA1E-BB68-402B-A8D8-CB1B4FEF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238C9-CA99-4DBB-9303-122D841C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719-2F8C-45E1-B2B2-9428EF40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37DFD-254C-4740-A729-DBBCD7A1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132128-38A4-4D09-B99A-894AAABC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457516-1FEA-46D2-AC19-5AD6B983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758C03-1BCD-4E81-ACCF-11BE2212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5C9B4E-D895-496C-80F1-9DDF3526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EECB37-D519-4664-8527-64A7EAD5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6BDA29-8258-492E-A830-5D9AE897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2C3EA3-B9C3-4259-95C4-B86361AA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0F800E-780D-4BA6-A770-5F627484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080386-A784-44E2-8E2A-58969B6D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4878-B517-4C72-AA7C-E6F97D5E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C09DF9-A3A5-4B8C-9E6B-535DF903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405234-1573-40C2-8B41-56911B7D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5BD68E-81FA-4D62-8FEB-2B3CFA20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8A52D-1F9C-4972-ADC7-0F8A911B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0D57D-4145-49C9-B3F4-B3B004FE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29E9F-64AE-4002-A8DE-42B37FF6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86C78-489B-4F75-BAF0-FC583062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9FF9D-6434-4595-B9AD-8F33E588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72995-61E5-40B0-A0B9-96A22080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D1C3D-8B31-4191-8B72-47322ABB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5951-7444-4B81-B380-39055732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D620C-1583-4DEC-A87F-D7853A9F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CBFC6-3C0B-4A0A-B32B-44BB15B4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74006-51C4-49D9-9170-C32C5369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47210-C8E6-4B5B-AEEF-FEDF985E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6FD9D-5334-4955-B0C5-18D40B79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AC29E-4744-4682-9E31-5BAA5399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DF16E-CEC1-4398-AA60-BFB8760E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0939D-7100-4B37-959D-73C1B0B8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4C52A-48EE-4199-9184-8A2401F1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C9B2F-7D4C-46D5-9688-214DE004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15EA-1239-4E88-A4E4-D91E4EA2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407B3-018E-43EF-BD2C-D9A0954E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A983A5-DADD-4D69-82A7-BFA5B864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C82A9D-2D73-4C42-A931-BF1A4AC2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31ABCC-7604-4215-A1D7-9BD78662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9B75B-55F3-48EC-B958-B2DAD18B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7116A2-C843-4A49-BE9D-CD2AB8CE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869B3C-35FF-41B4-8D27-F4A71057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7C2104-4961-4570-8269-BB93A444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5E6514-9084-456F-94D8-63E7795D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835AC8-8360-4D2F-B736-6F81DF1C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E24C-D03E-4708-8C4D-E6CBCE11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4189AD-4172-442C-AEFE-D43AE01C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3D0B19-38E6-4AD8-B321-452E7F7B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2AF3CD-3922-4585-823F-5A510415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8A258B-52CF-42C9-BF72-E232F9EB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73277-BEDC-49AE-B97A-6880BBA6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E6EB16-DC38-422B-A076-BE7385E5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0C6EA0-E94D-44D2-8CA7-6E8256CF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11A696-5645-4540-B611-B92FE628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1B1DB7-4B6B-41EE-A478-B1312250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EF08A2-C19F-4E4C-ACBE-8955D3AB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1BD7-D3E4-4D40-A1D0-7B8EF46E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95AD247-5D54-418A-9AC2-617248D2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463249-4FB8-4500-98C1-391ABB56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C5BBB2-17D6-434A-A89E-F4D99BFB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BCE134-FB05-40CC-84FF-F701673B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CC2387-D2E1-4A69-849D-166A777C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330784-B609-42AB-B0D1-C887DD0C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67A8FE-EE04-4114-B7CF-DA5B53DF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0B5119A-8B3A-40E1-8792-998CFC22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CAE133-EA70-41C9-A782-5AF17529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E386DD-A72C-4760-9ECC-32E93F66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63B2-5C57-4687-B7F9-B9B06F8C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BEC04DC-8032-4165-8195-10C1FD79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CB3661B-C8E9-4895-BFA1-EB236B72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4E93FF-E1DC-41A2-839A-25256686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E50154A-8DF9-4FC0-848D-9223C2A3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9F0AF8-1519-440C-887E-E4FC3D2E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3D35D5-7269-4A41-9EA4-D5A23D4E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416056A-0ACB-4267-8E96-801FD7D5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8B7BDA4-6D36-408D-B3D6-03130323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EF3123-B040-42C5-986C-32ECF46B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034A06-E18F-40BD-BCF1-D768363A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2B70-A272-4D85-B588-0D96C7C7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7FD1EFB-78A4-4DBD-9EB9-F68673A6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8108F2F-E32B-4094-914A-6291D143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C67CF8-3D3C-4E34-A025-CC10728B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0B3A9-1B24-4C15-B05A-14EB8725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5F25B4-D899-485A-B779-56CD4EE0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846885-6878-4B5C-AA19-D7C655DB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D544EF-541F-44E7-B215-E8A8AC9C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511BD8-E16E-492A-8F3C-34994D40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970080-33C7-403A-ADD2-3C6140DB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7A2986-43FF-43DC-AD11-FDE41AA7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85D-75CC-491C-B1A6-5E778F3A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EDDB-0C30-4589-A1B8-AB167559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50D900-9666-4B0C-8132-B3BE39E9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EA938E-9099-4EF8-B380-8F182463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A1110F-CF48-41CA-8007-2621CA0C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3AF18D-862A-4D4C-A8A5-1764693F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B96DD7-711F-4CE4-98FD-B93EEDB7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9FF9C1-CA89-41C0-9F8D-D7C6D75F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BE2877-DEBE-4DCE-A0B0-5E192370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2C438C-92B6-40F1-A9E4-2DE97AC6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1FD8C4-4CCC-447A-808B-FAB585AC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0B5A6F-D3CD-4781-993B-08B55B6C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768C-D828-498C-B8E1-16813561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EBBE8E-A951-45E7-A383-ED0B99BE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A66E4E-A2D0-410E-AD79-517DB0B3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9F9DC0-93A7-4D5D-94F8-FD24EFA7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012318-56FC-4453-B0C2-8B53AC38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DF4535-8A38-4B1F-A8BA-88A99C63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D74AFB-E0FE-4896-82DE-57900C54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019BE1-5DD6-4E44-80C9-A8D90D0B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2695-C0BD-49E9-A120-BC50D032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E84F-72BC-4870-945B-363EA8E8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67D5-9C5C-4B5B-AE89-182FB762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4BF58-3771-426E-9C56-1EBEEDE8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C55C-603D-4422-A8E2-4943898A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DE060-AC7D-4212-854E-7BD18110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CC5CF-90ED-400C-A4A7-A4EF7170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EA6B6-23B1-4162-81AA-F23ABB63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CB86-25FA-466F-B2B3-303F8180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F1144-B129-4E3E-A295-9EAFDDDE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262B0-FB5B-4BD7-9E77-AD1403C5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4709F-1EF6-44B6-BE45-66A4AEB1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2661E-6537-4340-B551-C557F45D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98AE5-290C-4A24-89BF-160DF3CF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32BCC-DD78-48A0-B0C2-B938AE02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34A9B-313E-4981-8233-34A6B7F0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017E0-57F7-4AF3-8AE9-BF566CBC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84DBA-F856-4682-A7F6-591A5856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CF7CE-D3D3-4F1B-BBF2-C12C8CBD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193B-0ADF-40AA-8390-32BE78F3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FEA37-9652-4A2F-B4EB-27BCC9BC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2F8FB-6695-43E3-8AB9-ADB0361F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ED462-0925-4614-9219-E8A40B41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2AD37-C3C1-4BED-B1EF-605C3D3D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7C299-3C6F-45EB-9693-7C399C08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76BA3-825F-4A4E-B627-55CF6DDA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7A7A9-B0DA-42A0-A22C-32B23443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32F8B-FB9C-4EBA-BCF4-AA25047C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223E7-A27C-4A1C-8C23-5B114FF2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B924C-4EAD-40D1-8679-E94ED986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046D-7951-4F7C-89A7-B31FE6FF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6F0D5-5C88-4456-BD47-479497B3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01668-01EF-4B1E-A8EC-410CF3B3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EBB30-BAB6-4E9E-A905-AA111DAC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480BD-9C3C-4912-AFF8-9D6CE7D1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85747-43F5-471A-83E9-52200CB6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F3B3F-4ABE-4E72-98B4-ACA5D271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13EB5-291C-4A69-8931-C00F38EC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89E2F-798D-4FD8-9698-47953E08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BF56A-2D36-447D-B3C3-76BDA570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50248-C607-4786-9C50-04C3E2EB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001-1989-4284-926C-FD32BC1D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5E3C0-62EA-465B-AC2A-C171F051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5FC19-3796-4B20-9B50-7A78FD0B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43461-544B-48B7-A88B-83A3D2F8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6EE6E-7A8C-41CB-879D-C5BC0A1D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E7EF7-09D7-4930-9F7A-95636211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021F0-142F-4918-A552-292A2828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5DCBB-099D-47FA-A37C-1DAD9D4C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F809B-FB3A-47B0-B7CF-57FEFBA4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9F1C7-EDED-4111-A820-4CFA6981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A85EB-BD34-4854-AA5C-72FCDE1F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81C2-5124-42DD-9DFF-70ECEE0F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B1974-2177-4839-8939-47D55AC4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83C8D-E793-4116-AAAC-F9FA7E6C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4CE90-40A7-465D-9CC2-F9352C3D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BE1A98-DD37-4A5D-AC2A-DF3896D0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890434-76CA-4A9D-9ECE-4A95F789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6485DE-5B92-4CBC-953F-9874ABE8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1781CB-5EE7-4DF6-BE45-D78FD1FC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17EF88-6166-4DAA-9B58-DA883D6E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174E32-B692-47FE-95D5-8112FC64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0CB36-0464-4AB0-ADE9-FA236D47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A0AE-C991-4A92-A29F-A3025198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B4921E-3918-4EF6-BA2F-C090CA66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1CA501-D981-46F0-97DA-E20AD498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DC3FC8-C41C-463F-8153-34CFEE97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1573B0-835D-4BA7-B10E-24FDF511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60B3C5-1BC6-4B00-91CA-D39547F6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D06ED-4C89-4E05-8188-E74615E8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D9B90-12FA-4479-BEA3-7FEB01BE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E867F-3F83-498B-A9A6-1BA8FD08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3B9A6-4D4B-473E-92A1-C377EF5D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E8221-A722-4A2D-B8BC-26C6B41E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D67-192C-4D05-9E0C-0FBCCC9B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AFAEB-4C2F-4776-8B3B-264B6DB6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6B757-27C5-4887-BDCE-F82DA6A5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CF767-7F68-4B43-BC28-AE0AFE64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2F021-F1BC-482C-A4D9-E732FED2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21909-C991-4FA4-B54D-7A2391FF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8F361-CBCF-431D-A56E-89387328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33DB4-43D3-4648-B58E-F610AF70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67EECF-9702-48D3-A142-C9D467A4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7518C3-B64E-4950-A474-AC926277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1025C1-41DC-4866-98EA-5960C60E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66ff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66ff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5D41-AD9E-449A-B669-3DEE451566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1a0d"/>
            </a:gs>
            <a:gs pos="50000">
              <a:srgbClr val="66ff33"/>
            </a:gs>
            <a:gs pos="100000">
              <a:srgbClr val="271a0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271a0d"/>
              </a:gs>
              <a:gs pos="50000">
                <a:srgbClr val="66ff33"/>
              </a:gs>
              <a:gs pos="100000">
                <a:srgbClr val="271a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465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466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67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271a0d"/>
                </a:gs>
                <a:gs pos="100000">
                  <a:srgbClr val="66ff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468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469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0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1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472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473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271a0d"/>
                </a:gs>
                <a:gs pos="50000">
                  <a:srgbClr val="ca9561"/>
                </a:gs>
                <a:gs pos="100000">
                  <a:srgbClr val="271a0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8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9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0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711A-4CF4-41E4-8BA4-B28ED320D8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16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17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18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519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20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521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22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3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4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5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26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527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528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29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0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1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2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3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4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E421-816C-421F-BBE3-72FD90C303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57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78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79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24AC-34B2-4AC1-AEA8-DF095555AB5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8D25-1839-468F-BC94-3EDEFA90C7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6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82d8ad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6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F7DA-ED2D-422C-8BA5-DAE7DFB6D9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15E6-666C-4F06-A7B5-939A4E5795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752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753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754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755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756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ftr" idx="46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sldNum" idx="47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C229-4DF6-4461-9797-7037B4DD33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dt" idx="48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99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0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1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2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3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4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5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6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7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8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09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0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1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3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4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5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6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7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8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19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0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1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2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3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4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5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6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27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828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829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830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831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832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833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4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5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6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37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38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39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0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41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842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3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4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5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6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  <p:sp>
              <p:nvSpPr>
                <p:cNvPr id="847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49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50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51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B222-E1CA-4708-8B64-E9C6254474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9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89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0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1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2661-7143-43F5-99B8-904C512C092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5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5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grpSp>
          <p:nvGrpSpPr>
            <p:cNvPr id="5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  <p:sp>
            <p:nvSpPr>
              <p:cNvPr id="6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ahoma"/>
                </a:endParaRPr>
              </a:p>
            </p:txBody>
          </p:sp>
        </p:grpSp>
        <p:sp>
          <p:nvSpPr>
            <p:cNvPr id="6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grpSp>
        <p:nvGrpSpPr>
          <p:cNvPr id="6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6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7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7379-DF1A-4AB2-97B3-59A0B0FD3E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13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4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139E-47D3-4816-85E1-D632AAA0024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79F5-C60E-4FCF-A3B2-D228668C95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0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0f0c0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8A3E-B136-4E98-994E-B297EB6E5D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6A11-774C-4E0F-A007-DCE76DA319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87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288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9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0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DF9F-0503-4D32-A470-71C66CDF03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dt" idx="2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33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3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4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35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3F66-5D5F-4E71-8236-03B3C92644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0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0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42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BF84-B2EC-401B-B8BD-9ADAB60FBD3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_AlgeriusCaps"/>
              </a:rPr>
              <a:t>Тема: Монголо-татарское нашествие на Русь.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_AntiqueTrady"/>
              </a:rPr>
              <a:t>Цель: углубить свои знания по вопросу «Монголо-татары и Русь» на основе историографии и решить проблему: почему монголо -татары смогли покорить Русь, находящуюся на более высокой ступени общественного развития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8" dur="1500" autoRev="1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111,94)"/>
                                      </p:to>
                                    </p:set>
                                    <p:set>
                                      <p:cBhvr>
                                        <p:cTn id="12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3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1000" fill="hold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Владимиро-Суздальское княжество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23" name="Picture 8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4464000" cy="39960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9" descr=""/>
          <p:cNvPicPr/>
          <p:nvPr/>
        </p:nvPicPr>
        <p:blipFill>
          <a:blip r:embed="rId2"/>
          <a:stretch/>
        </p:blipFill>
        <p:spPr>
          <a:xfrm>
            <a:off x="2050920" y="1773360"/>
            <a:ext cx="4321440" cy="41432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2" descr=""/>
          <p:cNvPicPr/>
          <p:nvPr/>
        </p:nvPicPr>
        <p:blipFill>
          <a:blip r:embed="rId3"/>
          <a:stretch/>
        </p:blipFill>
        <p:spPr>
          <a:xfrm>
            <a:off x="2050920" y="2679840"/>
            <a:ext cx="5604120" cy="4178160"/>
          </a:xfrm>
          <a:prstGeom prst="rect">
            <a:avLst/>
          </a:prstGeom>
          <a:ln w="0">
            <a:noFill/>
          </a:ln>
        </p:spPr>
      </p:pic>
      <p:sp>
        <p:nvSpPr>
          <p:cNvPr id="1026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2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3" dur="3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Organization Chart 6"/>
          <p:cNvGrpSpPr/>
          <p:nvPr/>
        </p:nvGrpSpPr>
        <p:grpSpPr>
          <a:xfrm>
            <a:off x="1547640" y="404640"/>
            <a:ext cx="7595280" cy="6264000"/>
            <a:chOff x="1547640" y="404640"/>
            <a:chExt cx="7595280" cy="6264000"/>
          </a:xfrm>
        </p:grpSpPr>
        <p:cxnSp>
          <p:nvCxnSpPr>
            <p:cNvPr id="1028" name="_s3076"/>
            <p:cNvCxnSpPr>
              <a:stCxn id="1029" idx="1"/>
              <a:endCxn id="1030" idx="2"/>
            </p:cNvCxnSpPr>
            <p:nvPr/>
          </p:nvCxnSpPr>
          <p:spPr>
            <a:xfrm rot="10800000">
              <a:off x="3825360" y="1298880"/>
              <a:ext cx="759960" cy="4924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1" name="_s3077"/>
            <p:cNvCxnSpPr>
              <a:stCxn id="1032" idx="1"/>
              <a:endCxn id="1030" idx="2"/>
            </p:cNvCxnSpPr>
            <p:nvPr/>
          </p:nvCxnSpPr>
          <p:spPr>
            <a:xfrm rot="10800000">
              <a:off x="3825360" y="1298880"/>
              <a:ext cx="759960" cy="3581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3" name="_s3078"/>
            <p:cNvCxnSpPr>
              <a:stCxn id="1034" idx="1"/>
              <a:endCxn id="1030" idx="2"/>
            </p:cNvCxnSpPr>
            <p:nvPr/>
          </p:nvCxnSpPr>
          <p:spPr>
            <a:xfrm rot="10800000">
              <a:off x="3825360" y="1298880"/>
              <a:ext cx="759960" cy="2238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5" name="_s3079"/>
            <p:cNvCxnSpPr>
              <a:stCxn id="1036" idx="1"/>
              <a:endCxn id="1030" idx="2"/>
            </p:cNvCxnSpPr>
            <p:nvPr/>
          </p:nvCxnSpPr>
          <p:spPr>
            <a:xfrm rot="10800000">
              <a:off x="3825360" y="1298880"/>
              <a:ext cx="759960" cy="895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0" name="_s3080"/>
            <p:cNvSpPr/>
            <p:nvPr/>
          </p:nvSpPr>
          <p:spPr>
            <a:xfrm>
              <a:off x="1547640" y="4046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900" spc="-1" strike="noStrike">
                  <a:solidFill>
                    <a:srgbClr val="ffcc66"/>
                  </a:solidFill>
                  <a:latin typeface="Tahoma"/>
                </a:rPr>
                <a:t>II</a:t>
              </a:r>
              <a:r>
                <a:rPr b="0" lang="ru-RU" sz="4900" spc="-1" strike="noStrike">
                  <a:solidFill>
                    <a:srgbClr val="ffcc66"/>
                  </a:solidFill>
                  <a:latin typeface="Tahoma"/>
                </a:rPr>
                <a:t> поход Батыя</a:t>
              </a:r>
              <a:endParaRPr b="0" lang="en-US" sz="49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6" name="_s3081"/>
            <p:cNvSpPr/>
            <p:nvPr/>
          </p:nvSpPr>
          <p:spPr>
            <a:xfrm>
              <a:off x="4585680" y="17474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март 1239 г. - Переяславль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4" name="_s3082"/>
            <p:cNvSpPr/>
            <p:nvPr/>
          </p:nvSpPr>
          <p:spPr>
            <a:xfrm>
              <a:off x="4585680" y="30902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18 октября 1239 г. - Чернигов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32" name="_s3083"/>
            <p:cNvSpPr/>
            <p:nvPr/>
          </p:nvSpPr>
          <p:spPr>
            <a:xfrm>
              <a:off x="4585680" y="4433040"/>
              <a:ext cx="4557240" cy="89496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6 декабря 1240 г. - Киев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1029" name="_s3084"/>
            <p:cNvSpPr/>
            <p:nvPr/>
          </p:nvSpPr>
          <p:spPr>
            <a:xfrm>
              <a:off x="4585680" y="5776200"/>
              <a:ext cx="4557240" cy="892440"/>
            </a:xfrm>
            <a:prstGeom prst="roundRect">
              <a:avLst>
                <a:gd name="adj" fmla="val 16667"/>
              </a:avLst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январь 1242 г. вышли на 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aeaea"/>
                  </a:solidFill>
                  <a:latin typeface="Tahoma"/>
                </a:rPr>
                <a:t>побережье Адриатического моря</a:t>
              </a:r>
              <a:endParaRPr b="0" lang="en-US" sz="23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1037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ичины поражения русских войс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невозможность сопротивления монголо-татарам в связи с их воинской организацией (комплекс воинских приёмов, использовавшихся при штурме городов, численное превосходство, мобильность)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азобщённость русских войск и сил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умелое тактическое руководство и стратегический талант Батыя и его военачальников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040" name="9.ОГИНСКИЙ - ПОЛОНЕЗ  ПРОЩАНИЕ.mp3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1" fill="hold"/>
                                        <p:tgtEl>
                                          <p:spTgt spid="10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300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7" dur="300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300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6" descr="пожар"/>
          <p:cNvPicPr/>
          <p:nvPr/>
        </p:nvPicPr>
        <p:blipFill>
          <a:blip r:embed="rId1"/>
          <a:stretch/>
        </p:blipFill>
        <p:spPr>
          <a:xfrm>
            <a:off x="755640" y="1773360"/>
            <a:ext cx="3228840" cy="35924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7" descr="f-85"/>
          <p:cNvPicPr/>
          <p:nvPr/>
        </p:nvPicPr>
        <p:blipFill>
          <a:blip r:embed="rId2"/>
          <a:stretch/>
        </p:blipFill>
        <p:spPr>
          <a:xfrm>
            <a:off x="4716360" y="549360"/>
            <a:ext cx="3476880" cy="27669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8" descr="0,1587,1441475_1,00"/>
          <p:cNvPicPr/>
          <p:nvPr/>
        </p:nvPicPr>
        <p:blipFill>
          <a:blip r:embed="rId3"/>
          <a:stretch/>
        </p:blipFill>
        <p:spPr>
          <a:xfrm>
            <a:off x="4716360" y="3789360"/>
            <a:ext cx="3516480" cy="2548080"/>
          </a:xfrm>
          <a:prstGeom prst="rect">
            <a:avLst/>
          </a:prstGeom>
          <a:ln w="0">
            <a:noFill/>
          </a:ln>
        </p:spPr>
      </p:pic>
      <p:sp>
        <p:nvSpPr>
          <p:cNvPr id="10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9325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바탕"/>
              </a:rPr>
              <a:t>Монголо-татарское нашествие завершилось установлением владычества, сущность которого можно определить следующими понятиями и суждениями: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…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Домашнее зад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cademyCTT"/>
              </a:rPr>
              <a:t>Завершить подготовку к уроку-семинару, ответив на вопрос: «Как рассматривается содержание монголо-татарского ига в русской и советской историографии (на примере точек зрения С.М. Соловьева, В.В. Каргалова, Л.Н.Гумилёва)?»; сообщение об Александре Невском, учебник с. 123-129; ответить на вопро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65.6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2,-84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516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Социальная структур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63" name="Diagram 18"/>
          <p:cNvGrpSpPr/>
          <p:nvPr/>
        </p:nvGrpSpPr>
        <p:grpSpPr>
          <a:xfrm>
            <a:off x="0" y="1557360"/>
            <a:ext cx="8685000" cy="5120640"/>
            <a:chOff x="0" y="1557360"/>
            <a:chExt cx="8685000" cy="5120640"/>
          </a:xfrm>
        </p:grpSpPr>
        <p:sp>
          <p:nvSpPr>
            <p:cNvPr id="964" name="_s1028"/>
            <p:cNvSpPr/>
            <p:nvPr/>
          </p:nvSpPr>
          <p:spPr>
            <a:xfrm flipV="1">
              <a:off x="4082040" y="2054880"/>
              <a:ext cx="1842840" cy="1155600"/>
            </a:xfrm>
            <a:custGeom>
              <a:avLst/>
              <a:gdLst>
                <a:gd name="textAreaLeft" fmla="*/ 661320 w 1842840"/>
                <a:gd name="textAreaRight" fmla="*/ 1181520 w 1842840"/>
                <a:gd name="textAreaTop" fmla="*/ 414720 h 1155600"/>
                <a:gd name="textAreaBottom" fmla="*/ 74088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00"/>
            </a:solidFill>
            <a:ln w="39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хан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5" name="_s1029"/>
            <p:cNvSpPr/>
            <p:nvPr/>
          </p:nvSpPr>
          <p:spPr>
            <a:xfrm flipV="1">
              <a:off x="3161520" y="3210480"/>
              <a:ext cx="3683520" cy="1155600"/>
            </a:xfrm>
            <a:custGeom>
              <a:avLst/>
              <a:gdLst>
                <a:gd name="textAreaLeft" fmla="*/ 810000 w 3683520"/>
                <a:gd name="textAreaRight" fmla="*/ 2873520 w 3683520"/>
                <a:gd name="textAreaTop" fmla="*/ 254160 h 1155600"/>
                <a:gd name="textAreaBottom" fmla="*/ 90144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нойоны 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богатуры</a:t>
              </a:r>
              <a:r>
                <a:rPr b="1" lang="en-US" sz="2700" spc="-1" strike="noStrike">
                  <a:solidFill>
                    <a:srgbClr val="eaeaea"/>
                  </a:solidFill>
                  <a:latin typeface="Tahoma"/>
                </a:rPr>
                <a:t> </a:t>
              </a:r>
              <a:endParaRPr b="0" lang="en-US" sz="27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6" name="_s1030"/>
            <p:cNvSpPr/>
            <p:nvPr/>
          </p:nvSpPr>
          <p:spPr>
            <a:xfrm flipV="1">
              <a:off x="2242080" y="4366080"/>
              <a:ext cx="5523120" cy="1155600"/>
            </a:xfrm>
            <a:custGeom>
              <a:avLst/>
              <a:gdLst>
                <a:gd name="textAreaLeft" fmla="*/ 958680 w 5523120"/>
                <a:gd name="textAreaRight" fmla="*/ 4564440 w 5523120"/>
                <a:gd name="textAreaTop" fmla="*/ 200520 h 1155600"/>
                <a:gd name="textAreaBottom" fmla="*/ 95508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нукеры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67" name="_s1031"/>
            <p:cNvSpPr/>
            <p:nvPr/>
          </p:nvSpPr>
          <p:spPr>
            <a:xfrm flipV="1">
              <a:off x="1321920" y="5522040"/>
              <a:ext cx="7363080" cy="1155600"/>
            </a:xfrm>
            <a:custGeom>
              <a:avLst/>
              <a:gdLst>
                <a:gd name="textAreaLeft" fmla="*/ 1107720 w 7363080"/>
                <a:gd name="textAreaRight" fmla="*/ 6255360 w 7363080"/>
                <a:gd name="textAreaTop" fmla="*/ 173880 h 1155600"/>
                <a:gd name="textAreaBottom" fmla="*/ 981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271a0d"/>
                  </a:solidFill>
                  <a:latin typeface="Tahoma"/>
                </a:rPr>
                <a:t>араты</a:t>
              </a:r>
              <a:endParaRPr b="0" lang="en-US" sz="36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pic>
          <p:nvPicPr>
            <p:cNvPr id="968" name="Picture 26" descr=""/>
            <p:cNvPicPr/>
            <p:nvPr/>
          </p:nvPicPr>
          <p:blipFill>
            <a:blip r:embed="rId1"/>
            <a:stretch/>
          </p:blipFill>
          <p:spPr>
            <a:xfrm>
              <a:off x="0" y="1557360"/>
              <a:ext cx="2954880" cy="316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9" name="Picture 2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549360"/>
            <a:ext cx="3276720" cy="2492280"/>
          </a:xfrm>
          <a:prstGeom prst="rect">
            <a:avLst/>
          </a:prstGeom>
          <a:ln w="0">
            <a:noFill/>
          </a:ln>
        </p:spPr>
      </p:pic>
      <p:sp>
        <p:nvSpPr>
          <p:cNvPr id="97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ингисхан (1155 г.? –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                    август 1227 г.)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78920" y="3357360"/>
            <a:ext cx="35290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cc"/>
                </a:solidFill>
                <a:latin typeface="Arial"/>
              </a:rPr>
              <a:t>Какое благо выше всех на земл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 на него ответил: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Счастливее всех на земле тот, кто гонит разбитых им неприятелей, грабит их добро, скачет на их конях, любуется слезами людей, им близких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3" name="Picture 8" descr=""/>
          <p:cNvPicPr/>
          <p:nvPr/>
        </p:nvPicPr>
        <p:blipFill>
          <a:blip r:embed="rId1"/>
          <a:stretch/>
        </p:blipFill>
        <p:spPr>
          <a:xfrm>
            <a:off x="0" y="765000"/>
            <a:ext cx="1681200" cy="21654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"/>
          <p:cNvPicPr/>
          <p:nvPr/>
        </p:nvPicPr>
        <p:blipFill>
          <a:blip r:embed="rId2"/>
          <a:stretch/>
        </p:blipFill>
        <p:spPr>
          <a:xfrm>
            <a:off x="2124000" y="1125360"/>
            <a:ext cx="1503360" cy="2165400"/>
          </a:xfrm>
          <a:prstGeom prst="rect">
            <a:avLst/>
          </a:prstGeom>
          <a:ln w="0">
            <a:noFill/>
          </a:ln>
        </p:spPr>
      </p:pic>
      <p:grpSp>
        <p:nvGrpSpPr>
          <p:cNvPr id="975" name="Organization Chart 10"/>
          <p:cNvGrpSpPr/>
          <p:nvPr/>
        </p:nvGrpSpPr>
        <p:grpSpPr>
          <a:xfrm>
            <a:off x="3633840" y="765000"/>
            <a:ext cx="5509440" cy="5327640"/>
            <a:chOff x="3633840" y="765000"/>
            <a:chExt cx="5509440" cy="5327640"/>
          </a:xfrm>
        </p:grpSpPr>
        <p:cxnSp>
          <p:nvCxnSpPr>
            <p:cNvPr id="976" name="_s2052"/>
            <p:cNvCxnSpPr>
              <a:stCxn id="977" idx="3"/>
              <a:endCxn id="978" idx="3"/>
            </p:cNvCxnSpPr>
            <p:nvPr/>
          </p:nvCxnSpPr>
          <p:spPr>
            <a:xfrm flipV="1">
              <a:off x="7027200" y="1526040"/>
              <a:ext cx="529200" cy="41864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9" name="_s2053"/>
            <p:cNvCxnSpPr>
              <a:stCxn id="980" idx="3"/>
              <a:endCxn id="978" idx="2"/>
            </p:cNvCxnSpPr>
            <p:nvPr/>
          </p:nvCxnSpPr>
          <p:spPr>
            <a:xfrm flipV="1">
              <a:off x="7027200" y="1526040"/>
              <a:ext cx="529200" cy="3044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1" name="_s2054"/>
            <p:cNvCxnSpPr>
              <a:stCxn id="982" idx="3"/>
              <a:endCxn id="978" idx="1"/>
            </p:cNvCxnSpPr>
            <p:nvPr/>
          </p:nvCxnSpPr>
          <p:spPr>
            <a:xfrm flipV="1">
              <a:off x="7027200" y="1526400"/>
              <a:ext cx="529200" cy="1905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3" name="_s2055"/>
            <p:cNvCxnSpPr>
              <a:stCxn id="984" idx="3"/>
              <a:endCxn id="978" idx="0"/>
            </p:cNvCxnSpPr>
            <p:nvPr/>
          </p:nvCxnSpPr>
          <p:spPr>
            <a:xfrm flipV="1">
              <a:off x="7027200" y="1526400"/>
              <a:ext cx="529200" cy="763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78" name="_s2056"/>
            <p:cNvSpPr/>
            <p:nvPr/>
          </p:nvSpPr>
          <p:spPr>
            <a:xfrm>
              <a:off x="5969520" y="765000"/>
              <a:ext cx="3173760" cy="761760"/>
            </a:xfrm>
            <a:custGeom>
              <a:avLst/>
              <a:gdLst>
                <a:gd name="textAreaLeft" fmla="*/ 0 w 3173760"/>
                <a:gd name="textAreaRight" fmla="*/ 3174120 w 317376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89961" h="21600">
                  <a:moveTo>
                    <a:pt x="0" y="0"/>
                  </a:moveTo>
                  <a:lnTo>
                    <a:pt x="89961" y="0"/>
                  </a:lnTo>
                  <a:lnTo>
                    <a:pt x="89961" y="21600"/>
                  </a:lnTo>
                  <a:lnTo>
                    <a:pt x="0" y="21600"/>
                  </a:lnTo>
                  <a:close/>
                </a:path>
                <a:path fill="lightenLess" w="89961" h="21600">
                  <a:moveTo>
                    <a:pt x="0" y="0"/>
                  </a:moveTo>
                  <a:lnTo>
                    <a:pt x="89961" y="0"/>
                  </a:lnTo>
                  <a:lnTo>
                    <a:pt x="89961" y="0"/>
                  </a:lnTo>
                  <a:lnTo>
                    <a:pt x="0" y="0"/>
                  </a:lnTo>
                  <a:close/>
                </a:path>
                <a:path fill="darken" w="89961" h="21600">
                  <a:moveTo>
                    <a:pt x="89961" y="0"/>
                  </a:moveTo>
                  <a:lnTo>
                    <a:pt x="89961" y="21600"/>
                  </a:lnTo>
                  <a:lnTo>
                    <a:pt x="89961" y="21600"/>
                  </a:lnTo>
                  <a:lnTo>
                    <a:pt x="89961" y="0"/>
                  </a:lnTo>
                  <a:close/>
                </a:path>
                <a:path fill="darkenLess" w="89961" h="21600">
                  <a:moveTo>
                    <a:pt x="89961" y="21600"/>
                  </a:moveTo>
                  <a:lnTo>
                    <a:pt x="0" y="21600"/>
                  </a:lnTo>
                  <a:lnTo>
                    <a:pt x="0" y="21600"/>
                  </a:lnTo>
                  <a:lnTo>
                    <a:pt x="89961" y="21600"/>
                  </a:lnTo>
                  <a:close/>
                </a:path>
                <a:path fill="lighten" w="89961" h="21600">
                  <a:moveTo>
                    <a:pt x="0" y="2160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nnaLightCTT"/>
                </a:rPr>
                <a:t>Войско монголов.</a:t>
              </a:r>
              <a:endParaRPr b="0" lang="en-US" sz="2800" spc="-1" strike="noStrike">
                <a:solidFill>
                  <a:srgbClr val="eaeaea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4" name="_s2057"/>
            <p:cNvSpPr/>
            <p:nvPr/>
          </p:nvSpPr>
          <p:spPr>
            <a:xfrm>
              <a:off x="3633840" y="1906560"/>
              <a:ext cx="3393720" cy="762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nnaLightCTT"/>
                </a:rPr>
                <a:t>тумены</a:t>
              </a:r>
              <a:endParaRPr b="0" lang="en-US" sz="5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2" name="_s2058"/>
            <p:cNvSpPr/>
            <p:nvPr/>
          </p:nvSpPr>
          <p:spPr>
            <a:xfrm>
              <a:off x="3633840" y="3049200"/>
              <a:ext cx="3393720" cy="761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nnaLightCTT"/>
                </a:rPr>
                <a:t>тысячи</a:t>
              </a:r>
              <a:endParaRPr b="0" lang="en-US" sz="4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80" name="_s2059"/>
            <p:cNvSpPr/>
            <p:nvPr/>
          </p:nvSpPr>
          <p:spPr>
            <a:xfrm>
              <a:off x="3633840" y="4191120"/>
              <a:ext cx="3393720" cy="7617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nnaLightCTT"/>
                </a:rPr>
                <a:t>сотни</a:t>
              </a:r>
              <a:endParaRPr b="0" lang="en-US" sz="44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sp>
          <p:nvSpPr>
            <p:cNvPr id="977" name="_s2060"/>
            <p:cNvSpPr/>
            <p:nvPr/>
          </p:nvSpPr>
          <p:spPr>
            <a:xfrm>
              <a:off x="3651840" y="5333040"/>
              <a:ext cx="3375360" cy="7596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nnaLightCTT"/>
                </a:rPr>
                <a:t>десятки</a:t>
              </a:r>
              <a:endParaRPr b="0" lang="en-US" sz="4000" spc="-1" strike="noStrike">
                <a:solidFill>
                  <a:srgbClr val="eaeaea"/>
                </a:solidFill>
                <a:latin typeface="Tahoma"/>
              </a:endParaRPr>
            </a:p>
          </p:txBody>
        </p:sp>
      </p:grpSp>
      <p:sp>
        <p:nvSpPr>
          <p:cNvPr id="9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Picture 13" descr=""/>
          <p:cNvPicPr/>
          <p:nvPr/>
        </p:nvPicPr>
        <p:blipFill>
          <a:blip r:embed="rId1"/>
          <a:stretch/>
        </p:blipFill>
        <p:spPr>
          <a:xfrm>
            <a:off x="0" y="2349360"/>
            <a:ext cx="4003560" cy="3141720"/>
          </a:xfrm>
          <a:prstGeom prst="rect">
            <a:avLst/>
          </a:prstGeom>
          <a:ln w="0">
            <a:noFill/>
          </a:ln>
        </p:spPr>
      </p:pic>
      <p:sp>
        <p:nvSpPr>
          <p:cNvPr id="987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4932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конница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тяжелая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	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лёгкая</a:t>
            </a:r>
            <a:r>
              <a:rPr b="0" lang="ru-RU" sz="4200" spc="-1" strike="noStrike">
                <a:solidFill>
                  <a:srgbClr val="ffffff"/>
                </a:solidFill>
                <a:latin typeface="AnnaLightCTT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Line 29"/>
          <p:cNvSpPr/>
          <p:nvPr/>
        </p:nvSpPr>
        <p:spPr>
          <a:xfrm flipH="1">
            <a:off x="1476360" y="620640"/>
            <a:ext cx="9367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9" name="Line 30"/>
          <p:cNvSpPr/>
          <p:nvPr/>
        </p:nvSpPr>
        <p:spPr>
          <a:xfrm>
            <a:off x="3059280" y="620640"/>
            <a:ext cx="936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title"/>
          </p:nvPr>
        </p:nvSpPr>
        <p:spPr>
          <a:xfrm>
            <a:off x="4680000" y="-36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остроение войска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91" name="Line 32"/>
          <p:cNvSpPr/>
          <p:nvPr/>
        </p:nvSpPr>
        <p:spPr>
          <a:xfrm flipH="1">
            <a:off x="5003640" y="1125360"/>
            <a:ext cx="935280" cy="863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2" name="Line 33"/>
          <p:cNvSpPr/>
          <p:nvPr/>
        </p:nvSpPr>
        <p:spPr>
          <a:xfrm>
            <a:off x="6877080" y="1125360"/>
            <a:ext cx="0" cy="115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3" name="Line 34"/>
          <p:cNvSpPr/>
          <p:nvPr/>
        </p:nvSpPr>
        <p:spPr>
          <a:xfrm>
            <a:off x="7956720" y="1052640"/>
            <a:ext cx="36036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4" name="Rectangle 35"/>
          <p:cNvSpPr/>
          <p:nvPr/>
        </p:nvSpPr>
        <p:spPr>
          <a:xfrm>
            <a:off x="4704480" y="22050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ланг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5" name="Rectangle 36"/>
          <p:cNvSpPr/>
          <p:nvPr/>
        </p:nvSpPr>
        <p:spPr>
          <a:xfrm>
            <a:off x="7944480" y="2133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ланг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6" name="Rectangle 37"/>
          <p:cNvSpPr/>
          <p:nvPr/>
        </p:nvSpPr>
        <p:spPr>
          <a:xfrm>
            <a:off x="6491880" y="242100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cc"/>
                </a:solidFill>
                <a:latin typeface="Tahoma"/>
              </a:rPr>
              <a:t>Центр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997" name="Picture 38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2644920" cy="3732480"/>
          </a:xfrm>
          <a:prstGeom prst="rect">
            <a:avLst/>
          </a:prstGeom>
          <a:ln w="0">
            <a:noFill/>
          </a:ln>
        </p:spPr>
      </p:pic>
      <p:sp>
        <p:nvSpPr>
          <p:cNvPr id="9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ff"/>
                </a:solidFill>
                <a:latin typeface="Arial Black"/>
              </a:rPr>
              <a:t>Завоевания монголов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graphicFrame>
        <p:nvGraphicFramePr>
          <p:cNvPr id="1000" name=""/>
          <p:cNvGraphicFramePr/>
          <p:nvPr/>
        </p:nvGraphicFramePr>
        <p:xfrm>
          <a:off x="34920" y="1557360"/>
          <a:ext cx="9109080" cy="5659560"/>
        </p:xfrm>
        <a:graphic>
          <a:graphicData uri="http://schemas.openxmlformats.org/drawingml/2006/table">
            <a:tbl>
              <a:tblPr/>
              <a:tblGrid>
                <a:gridCol w="2884320"/>
                <a:gridCol w="2881440"/>
                <a:gridCol w="33433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Дат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Направлени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Последстви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06-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1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Восточная Аз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Покорение киргизов, бурят, якутов, уйгуров. Разгром Тангутского царства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1-1215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хват Северного Китая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8 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Коре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воевание государства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219-1221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Средняя Азия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Завоевание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01" name="7.ХАЧАТУРЯН - ТАНЕЦ С САБЛЯМИ.mp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0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1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Битва на Калке - 31 мая 1223 г.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1197000"/>
            <a:ext cx="40338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Джебе-ной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Субэдэй-богату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84000" y="4076280"/>
            <a:ext cx="403380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хан Котян: «Нашу земл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сегодня отняли, а ваш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завтра, пришедш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cc"/>
                </a:solidFill>
                <a:latin typeface="Tahoma"/>
              </a:rPr>
              <a:t>возьмут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627280" y="907920"/>
            <a:ext cx="467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Удал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Роман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Мстислав Святослав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cc"/>
                </a:solidFill>
                <a:latin typeface="Tahoma"/>
              </a:rPr>
              <a:t>Даниил Роман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7" name="11.БРАМС - ВЕНГЕРСКИЙ ТАНЕЦ №1.mp3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51" descr=""/>
          <p:cNvPicPr/>
          <p:nvPr/>
        </p:nvPicPr>
        <p:blipFill>
          <a:blip r:embed="rId2"/>
          <a:stretch/>
        </p:blipFill>
        <p:spPr>
          <a:xfrm>
            <a:off x="5867280" y="2362320"/>
            <a:ext cx="3132360" cy="4495680"/>
          </a:xfrm>
          <a:prstGeom prst="rect">
            <a:avLst/>
          </a:prstGeom>
          <a:ln w="0">
            <a:noFill/>
          </a:ln>
        </p:spPr>
      </p:pic>
      <p:sp>
        <p:nvSpPr>
          <p:cNvPr id="10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Нашествие Батыя на Русь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1" name="Picture 4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5059440" cy="5073480"/>
          </a:xfrm>
          <a:prstGeom prst="rect">
            <a:avLst/>
          </a:prstGeom>
          <a:ln w="0">
            <a:noFill/>
          </a:ln>
        </p:spPr>
      </p:pic>
      <p:pic>
        <p:nvPicPr>
          <p:cNvPr id="1012" name="17.ВАГНЕР - ПОЛЕТ ВАЛЬКИРИИ.mp3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3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10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Нашествие Батыя на Русь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5" name="Picture 4" descr="карта правильная"/>
          <p:cNvPicPr/>
          <p:nvPr/>
        </p:nvPicPr>
        <p:blipFill>
          <a:blip r:embed="rId1"/>
          <a:stretch/>
        </p:blipFill>
        <p:spPr>
          <a:xfrm>
            <a:off x="1568520" y="1568520"/>
            <a:ext cx="7575480" cy="5289480"/>
          </a:xfrm>
          <a:prstGeom prst="rect">
            <a:avLst/>
          </a:prstGeom>
          <a:ln w="0">
            <a:noFill/>
          </a:ln>
        </p:spPr>
      </p:pic>
      <p:sp>
        <p:nvSpPr>
          <p:cNvPr id="1016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animClr clrSpc="rgb">
                                      <p:cBhvr>
                                        <p:cTn id="2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33"/>
                                      </p:to>
                                    </p:animClr>
                                    <p:set>
                                      <p:cBhvr>
                                        <p:cTn id="2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196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Разорение земли Рязанской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18" name="Picture 9" descr=""/>
          <p:cNvPicPr/>
          <p:nvPr/>
        </p:nvPicPr>
        <p:blipFill>
          <a:blip r:embed="rId1"/>
          <a:stretch/>
        </p:blipFill>
        <p:spPr>
          <a:xfrm>
            <a:off x="0" y="1125360"/>
            <a:ext cx="5435640" cy="57326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0" descr=""/>
          <p:cNvPicPr/>
          <p:nvPr/>
        </p:nvPicPr>
        <p:blipFill>
          <a:blip r:embed="rId2"/>
          <a:stretch/>
        </p:blipFill>
        <p:spPr>
          <a:xfrm>
            <a:off x="4017960" y="1125360"/>
            <a:ext cx="5126040" cy="5732640"/>
          </a:xfrm>
          <a:prstGeom prst="rect">
            <a:avLst/>
          </a:prstGeom>
          <a:ln w="0">
            <a:noFill/>
          </a:ln>
        </p:spPr>
      </p:pic>
      <p:sp>
        <p:nvSpPr>
          <p:cNvPr id="1020" name="Rectangle 11"/>
          <p:cNvSpPr/>
          <p:nvPr/>
        </p:nvSpPr>
        <p:spPr>
          <a:xfrm>
            <a:off x="4370400" y="0"/>
            <a:ext cx="47736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Новгородская земля</a:t>
            </a:r>
            <a:endParaRPr b="0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1" name="Місце для нижнього колонтитула 1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4:29:41Z</dcterms:created>
  <dc:creator>Наталья Андреевна</dc:creator>
  <dc:description/>
  <dc:language>en-US</dc:language>
  <cp:lastModifiedBy>LEGION</cp:lastModifiedBy>
  <dcterms:modified xsi:type="dcterms:W3CDTF">2015-01-15T12:22:56Z</dcterms:modified>
  <cp:revision>17</cp:revision>
  <dc:subject/>
  <dc:title>Слайд 1</dc:title>
</cp:coreProperties>
</file>