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666E-BF1E-4851-8427-6B09D101AC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Россия в конце 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и начала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 X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боту сделал Гумматов 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A606-8627-4C09-BE1A-B7E6733BC64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то был министром финансов в 1887 – 1892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иколай Христианович Бу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ван Алексеевич Вышеград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ергей Юльевич Вит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 Алексей Кудр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ом году образовалась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9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7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ая страна не входила в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нг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встро – Венг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т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FF8C-65E9-4F6B-9721-64E27B5E0D2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Россия во второй половине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XI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Экономическое развитие в 80 – 90 – е гг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Рабочее движение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чало распространения маркс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нешняя поли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Россия в начал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B647-BECD-4626-A168-FB0B2EB9877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оссия во второй половине </a:t>
            </a:r>
            <a:r>
              <a:rPr b="0" lang="en-US" sz="1100" spc="-1" strike="noStrike">
                <a:solidFill>
                  <a:srgbClr val="0000ff"/>
                </a:solidFill>
                <a:latin typeface="Calibri"/>
              </a:rPr>
              <a:t>XIX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A303-34FC-4616-AA69-09738CE2991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Христианович Бунте (1823 – 1895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финансов в 1881 – 1886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едатель Кабинета министров в 1887 – 1895 гг. Сторонник политики протекционизма; основные меры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ие таможенных пош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держка частных акционерных бан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форм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вание системы налогообложения и введение новых налогов на недвижимость, торговлю, промы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ы, денежные оп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итика в крестьянском вопросе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квидация «временнообязанного состояния» и понижение выкупных платежей (188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Крестьянского банка для льготного кредитования крестьян (1882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мена подушной подати (188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ван Алексеевич Вышеградский (1831 – 189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87 – 1892 гг. Продолжает политику протекционизма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ят новый повышенный таможенный тариф (189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ы косвенные налоги и расширено налогообложение торговых и промышленных предприят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Уси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роли государства в регулировании хоз. деятельности частного предпринимательство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чин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частных железных дорог государств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ИЛСЯ УСТОЙЧИВОСТИ ФИНАНСОВ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гей Юльевич Витте (1849 – 191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есткая налоговая политика, увеличение косвенных налогов, введение гос. винной монополии (1894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текционизм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званный защитить российскую промышленность от иностранных конкурентов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инансовая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а (1897). Введение золотого обеспечения рубля и его свободная конвертац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ирокое при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ечение в страну иностран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CB01-85F5-4648-9487-136FFEA21AC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5BCB-5AB5-4714-A6C4-2CB51B0C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4EA2-1241-47D9-B5B9-E78587C9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C2A9A-E742-41DB-BD95-D57E28FD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A9E9-B24A-43BA-AD0A-8BD7AB1D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EEF7-6848-4810-B8E0-C88FC497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FCBE-EC3F-4C06-AC40-1141F8E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B74D-967E-47C3-ABBD-18688FFD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2A60-E521-43EE-979A-A56FCF23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54A5-9FD6-4FFE-B286-FA4E61C0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C380-EB13-4FFE-80D0-0D14A311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639D-BE84-4F22-B2A3-94C1B8E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541B-3257-49C7-9FA2-A09C913A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86CA-C990-4068-9418-9A7060DE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9DDE-616E-424A-BF71-22D08E09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C754-7068-4FE9-8937-1BB5CC32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594C-A519-4468-BDA8-38FB60A6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2BDC-AFB9-45C6-A8A1-EF3ACFE9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6E18-6951-4649-AE00-CC05AAB0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1E75-3C3B-4CFD-A7AA-8152D68E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B825-EC73-4C9B-A1B9-229EFFC3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03B4-37AD-4C34-A3E8-7AB2A2CB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90A0-CDBA-4706-A129-B70F7028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8F44-6078-4901-8BC4-0998A2E7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FE46-D2FC-4F9F-9D2E-788110D2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D5DB-10DC-47DF-AFDA-C24BE387E6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9CCC-56BB-4CB8-861A-6D39DA9883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1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Россия в конце 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XI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 и начала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 X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</a:t>
            </a:r>
            <a:r>
              <a:rPr b="1" lang="ru-RU" sz="6000" spc="-1" strike="noStrike">
                <a:solidFill>
                  <a:srgbClr val="ff99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ту сделал Гумматов 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484360" y="189000"/>
          <a:ext cx="3959280" cy="433440"/>
        </p:xfrm>
        <a:graphic>
          <a:graphicData uri="http://schemas.openxmlformats.org/drawingml/2006/table">
            <a:tbl>
              <a:tblPr/>
              <a:tblGrid>
                <a:gridCol w="39592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55640" y="907920"/>
          <a:ext cx="1584360" cy="10796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лабления российского влияния на Балкан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843280" y="907920"/>
          <a:ext cx="1655640" cy="86544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ссийско -         - германские отнош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219640" y="907920"/>
          <a:ext cx="1297080" cy="86544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ближения России и Фра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7164360" y="907920"/>
          <a:ext cx="1440000" cy="64800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зиатск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79280" y="2421000"/>
          <a:ext cx="1368360" cy="2232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отношений с Болгарией и разрыв дипломати-ческих отношений в 1886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908000" y="2421000"/>
          <a:ext cx="1152720" cy="2232000"/>
        </p:xfrm>
        <a:graphic>
          <a:graphicData uri="http://schemas.openxmlformats.org/drawingml/2006/table">
            <a:tbl>
              <a:tblPr/>
              <a:tblGrid>
                <a:gridCol w="115272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я германо-австий-ского влияния в данном регион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2133720"/>
          <a:ext cx="1224000" cy="146340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Договор перестра-ховки» России и Германии (188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92360" y="3933720"/>
          <a:ext cx="1727280" cy="123516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2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экономических отношений. Таможенная война с 1890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508720" y="2133720"/>
          <a:ext cx="1439640" cy="150804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73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итическое соглашение 1891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енная конвенция 1892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08720" y="3933720"/>
          <a:ext cx="1512720" cy="100656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ормление русско-французского союз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380360" y="1916280"/>
          <a:ext cx="1584360" cy="19206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23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вершение присоединения Средней Азии. Покорение туркменских племен и взятие Ашхабада (1881 – 188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308720" y="4292640"/>
          <a:ext cx="1584360" cy="169236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91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тановления границ России и Афганистана, который яв-ся протектором Англии (1885 -   - 189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4000" y="5300640"/>
          <a:ext cx="2016000" cy="136836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е «Тройственного союза» - Германия, Австро – Венгрия и Италия – 1882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916360" y="5661000"/>
          <a:ext cx="2592360" cy="10065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23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никновение в Европе противоборствующих военно – политических блоков в конце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IX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56360" y="6165720"/>
          <a:ext cx="2736720" cy="50508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о сближения с Англ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9" name="Line 148"/>
          <p:cNvSpPr/>
          <p:nvPr/>
        </p:nvSpPr>
        <p:spPr>
          <a:xfrm flipH="1">
            <a:off x="1618920" y="404640"/>
            <a:ext cx="8650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149"/>
          <p:cNvSpPr/>
          <p:nvPr/>
        </p:nvSpPr>
        <p:spPr>
          <a:xfrm>
            <a:off x="6443640" y="404640"/>
            <a:ext cx="1224000" cy="503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150"/>
          <p:cNvSpPr/>
          <p:nvPr/>
        </p:nvSpPr>
        <p:spPr>
          <a:xfrm>
            <a:off x="3708360" y="62064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151"/>
          <p:cNvSpPr/>
          <p:nvPr/>
        </p:nvSpPr>
        <p:spPr>
          <a:xfrm>
            <a:off x="5940360" y="62064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Line 152"/>
          <p:cNvSpPr/>
          <p:nvPr/>
        </p:nvSpPr>
        <p:spPr>
          <a:xfrm flipH="1">
            <a:off x="899640" y="1989000"/>
            <a:ext cx="64764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154"/>
          <p:cNvSpPr/>
          <p:nvPr/>
        </p:nvSpPr>
        <p:spPr>
          <a:xfrm>
            <a:off x="1547640" y="1989000"/>
            <a:ext cx="792360" cy="432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155"/>
          <p:cNvSpPr/>
          <p:nvPr/>
        </p:nvSpPr>
        <p:spPr>
          <a:xfrm>
            <a:off x="4067280" y="17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156"/>
          <p:cNvSpPr/>
          <p:nvPr/>
        </p:nvSpPr>
        <p:spPr>
          <a:xfrm>
            <a:off x="4067280" y="35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Line 157"/>
          <p:cNvSpPr/>
          <p:nvPr/>
        </p:nvSpPr>
        <p:spPr>
          <a:xfrm>
            <a:off x="6084720" y="1773360"/>
            <a:ext cx="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Line 158"/>
          <p:cNvSpPr/>
          <p:nvPr/>
        </p:nvSpPr>
        <p:spPr>
          <a:xfrm>
            <a:off x="6012000" y="3645000"/>
            <a:ext cx="0" cy="288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159"/>
          <p:cNvSpPr/>
          <p:nvPr/>
        </p:nvSpPr>
        <p:spPr>
          <a:xfrm>
            <a:off x="8028000" y="1557360"/>
            <a:ext cx="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160"/>
          <p:cNvSpPr/>
          <p:nvPr/>
        </p:nvSpPr>
        <p:spPr>
          <a:xfrm>
            <a:off x="8101080" y="4076640"/>
            <a:ext cx="0" cy="21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163"/>
          <p:cNvSpPr/>
          <p:nvPr/>
        </p:nvSpPr>
        <p:spPr>
          <a:xfrm>
            <a:off x="5796000" y="4941720"/>
            <a:ext cx="0" cy="1511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164"/>
          <p:cNvSpPr/>
          <p:nvPr/>
        </p:nvSpPr>
        <p:spPr>
          <a:xfrm>
            <a:off x="5796000" y="645336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165"/>
          <p:cNvSpPr/>
          <p:nvPr/>
        </p:nvSpPr>
        <p:spPr>
          <a:xfrm flipH="1">
            <a:off x="5508720" y="6453360"/>
            <a:ext cx="2872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ine 166"/>
          <p:cNvSpPr/>
          <p:nvPr/>
        </p:nvSpPr>
        <p:spPr>
          <a:xfrm>
            <a:off x="234000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173"/>
          <p:cNvSpPr/>
          <p:nvPr/>
        </p:nvSpPr>
        <p:spPr>
          <a:xfrm flipH="1">
            <a:off x="694800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174"/>
          <p:cNvSpPr/>
          <p:nvPr/>
        </p:nvSpPr>
        <p:spPr>
          <a:xfrm>
            <a:off x="6948360" y="5589720"/>
            <a:ext cx="0" cy="57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175"/>
          <p:cNvSpPr/>
          <p:nvPr/>
        </p:nvSpPr>
        <p:spPr>
          <a:xfrm flipH="1">
            <a:off x="1547280" y="292428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178"/>
          <p:cNvSpPr/>
          <p:nvPr/>
        </p:nvSpPr>
        <p:spPr>
          <a:xfrm>
            <a:off x="1547640" y="42210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187280" y="189000"/>
          <a:ext cx="6985080" cy="41112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41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ОССИЯ В НАЧАЛЕ </a:t>
                      </a:r>
                      <a:r>
                        <a:rPr b="1" lang="en-US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484360" y="692280"/>
          <a:ext cx="4537080" cy="63972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ЭКОНОМИЧЕСКОЕ РАЗВИТИЕ РОССИИ В НАЧАЛЕ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484360" y="1557360"/>
          <a:ext cx="4535640" cy="695160"/>
        </p:xfrm>
        <a:graphic>
          <a:graphicData uri="http://schemas.openxmlformats.org/drawingml/2006/table">
            <a:tbl>
              <a:tblPr/>
              <a:tblGrid>
                <a:gridCol w="453564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го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79280" y="2637000"/>
          <a:ext cx="1800360" cy="165564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ладывание системы государственно--монополисти- ческого капитал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411280" y="2637000"/>
          <a:ext cx="1513080" cy="107928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ирокое внедрение иностранного капит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500720" y="263700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ногоукладность эконом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500720" y="3213000"/>
          <a:ext cx="2232000" cy="13114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нокапиталис-тический уклад (фабрика и заводы, помещичьи и кулацкие хозяйст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500720" y="450864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унатуральный (крестьянский) укл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00720" y="5084640"/>
          <a:ext cx="2232000" cy="10670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лкотоварный уклад (кустарно – ре-месленное производств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524720" y="263700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сокораз-витая про-шленность и финансовая банковская систе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524720" y="515772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203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тавание аграрного сектора, сохранение феодальных пережит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948360" y="3573360"/>
          <a:ext cx="287640" cy="2232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Garamond"/>
                        </a:rPr>
                        <a:t>сочета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91"/>
          <p:cNvSpPr/>
          <p:nvPr/>
        </p:nvSpPr>
        <p:spPr>
          <a:xfrm>
            <a:off x="4140360" y="285264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193"/>
          <p:cNvSpPr/>
          <p:nvPr/>
        </p:nvSpPr>
        <p:spPr>
          <a:xfrm>
            <a:off x="4140360" y="285264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Line 194"/>
          <p:cNvSpPr/>
          <p:nvPr/>
        </p:nvSpPr>
        <p:spPr>
          <a:xfrm>
            <a:off x="4140360" y="3860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Line 195"/>
          <p:cNvSpPr/>
          <p:nvPr/>
        </p:nvSpPr>
        <p:spPr>
          <a:xfrm>
            <a:off x="4140360" y="479736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196"/>
          <p:cNvSpPr/>
          <p:nvPr/>
        </p:nvSpPr>
        <p:spPr>
          <a:xfrm>
            <a:off x="414036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197"/>
          <p:cNvSpPr/>
          <p:nvPr/>
        </p:nvSpPr>
        <p:spPr>
          <a:xfrm>
            <a:off x="4140360" y="3860640"/>
            <a:ext cx="0" cy="93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4140360" y="4797360"/>
            <a:ext cx="0" cy="792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199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200"/>
          <p:cNvSpPr/>
          <p:nvPr/>
        </p:nvSpPr>
        <p:spPr>
          <a:xfrm>
            <a:off x="3203640" y="227664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201"/>
          <p:cNvSpPr/>
          <p:nvPr/>
        </p:nvSpPr>
        <p:spPr>
          <a:xfrm flipH="1">
            <a:off x="971640" y="2276640"/>
            <a:ext cx="1800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202"/>
          <p:cNvSpPr/>
          <p:nvPr/>
        </p:nvSpPr>
        <p:spPr>
          <a:xfrm>
            <a:off x="6084720" y="2276640"/>
            <a:ext cx="2159280" cy="3603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203"/>
          <p:cNvSpPr/>
          <p:nvPr/>
        </p:nvSpPr>
        <p:spPr>
          <a:xfrm>
            <a:off x="8172360" y="4221000"/>
            <a:ext cx="0" cy="936720"/>
          </a:xfrm>
          <a:prstGeom prst="line">
            <a:avLst/>
          </a:prstGeom>
          <a:ln w="28440">
            <a:solidFill>
              <a:srgbClr val="00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204"/>
          <p:cNvSpPr/>
          <p:nvPr/>
        </p:nvSpPr>
        <p:spPr>
          <a:xfrm>
            <a:off x="7236000" y="4653000"/>
            <a:ext cx="936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Кто был министром финансов в 1887 – 1892 г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Николай Христианович Бунг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Иван Алексеевич Вышеградски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Сергей Юльевич Витт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 Алексей Кудрин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В каком году образовалась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890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8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2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79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Какая страна не входила в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Герман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Англ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Австро – Венгр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Итал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03640" y="189000"/>
          <a:ext cx="2881080" cy="517320"/>
        </p:xfrm>
        <a:graphic>
          <a:graphicData uri="http://schemas.openxmlformats.org/drawingml/2006/table">
            <a:tbl>
              <a:tblPr/>
              <a:tblGrid>
                <a:gridCol w="28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9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5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5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6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6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6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9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9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9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Содержание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1. Россия во второй половин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XI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в.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2. Экономическое развитие в 80 – 90 – е гг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XIX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 в.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3. Рабочее движение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и начало распространения марксизма.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4. Внешняя полити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5. Россия в начал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X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5" action="ppaction://hlinksldjump"/>
              </a:rPr>
              <a:t>в.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6" action="ppaction://hlinksldjump"/>
              </a:rPr>
              <a:t>6. Тес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7" action="ppaction://hlinksldjump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Россия во второй половине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XIX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в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68360" y="549360"/>
          <a:ext cx="4272120" cy="365040"/>
        </p:xfrm>
        <a:graphic>
          <a:graphicData uri="http://schemas.openxmlformats.org/drawingml/2006/table">
            <a:tbl>
              <a:tblPr/>
              <a:tblGrid>
                <a:gridCol w="427212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авления Александра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(1881 – 189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87640" y="1052640"/>
          <a:ext cx="2665440" cy="36504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яя поли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86e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627280" y="1700280"/>
          <a:ext cx="6337440" cy="93672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реформы – принятое  в историческое литературе название мероприятий правительства Александра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 пересмотру итогов реформ 60-х г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1700280"/>
          <a:ext cx="1727280" cy="108108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деологи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.П.Победоносц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А.Толст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П.Мещер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8" name="Line 86"/>
          <p:cNvSpPr/>
          <p:nvPr/>
        </p:nvSpPr>
        <p:spPr>
          <a:xfrm>
            <a:off x="183528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55640" y="3357720"/>
          <a:ext cx="8137440" cy="25905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ые напр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земского и городского самоуправ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е полицейского режима и ликвидация некотор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ожений судебной реформы 1864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Введение дополнительных ограничений в сфере печати 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0" name="Line 166"/>
          <p:cNvSpPr/>
          <p:nvPr/>
        </p:nvSpPr>
        <p:spPr>
          <a:xfrm>
            <a:off x="4859280" y="2637000"/>
            <a:ext cx="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116000" y="189000"/>
          <a:ext cx="7058160" cy="503280"/>
        </p:xfrm>
        <a:graphic>
          <a:graphicData uri="http://schemas.openxmlformats.org/drawingml/2006/table">
            <a:tbl>
              <a:tblPr/>
              <a:tblGrid>
                <a:gridCol w="70581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граничение земского и городского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само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реждение должностей земских участковых началь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41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Положение о губернских и уездных земских учреждениях» (189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372360" y="1268280"/>
          <a:ext cx="2592360" cy="720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Городовое положения» (18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4360" y="3213000"/>
          <a:ext cx="2374920" cy="1368360"/>
        </p:xfrm>
        <a:graphic>
          <a:graphicData uri="http://schemas.openxmlformats.org/drawingml/2006/table">
            <a:tbl>
              <a:tblPr/>
              <a:tblGrid>
                <a:gridCol w="2374920"/>
              </a:tblGrid>
              <a:tr h="14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оль за крестьянским самоуправлением. Решение земельных вопро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708360" y="3213000"/>
          <a:ext cx="2303640" cy="187164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я в земской избирательной системе. Увеличение числа депутатов от дворян и их сокращение от друг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659640" y="3213000"/>
          <a:ext cx="2232000" cy="26640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6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в городской избирательной системе. Отстранение от выборов мелких собственников ввиду повышения имущественного ценза, необходимого для участия в выборном процесс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9" name="Line 77"/>
          <p:cNvSpPr/>
          <p:nvPr/>
        </p:nvSpPr>
        <p:spPr>
          <a:xfrm flipH="1">
            <a:off x="3132000" y="692280"/>
            <a:ext cx="1657440" cy="57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81"/>
          <p:cNvSpPr/>
          <p:nvPr/>
        </p:nvSpPr>
        <p:spPr>
          <a:xfrm>
            <a:off x="4643280" y="692280"/>
            <a:ext cx="1729080" cy="576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82"/>
          <p:cNvSpPr/>
          <p:nvPr/>
        </p:nvSpPr>
        <p:spPr>
          <a:xfrm>
            <a:off x="4716360" y="692280"/>
            <a:ext cx="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83"/>
          <p:cNvSpPr/>
          <p:nvPr/>
        </p:nvSpPr>
        <p:spPr>
          <a:xfrm>
            <a:off x="1835280" y="2565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4"/>
          <p:cNvSpPr/>
          <p:nvPr/>
        </p:nvSpPr>
        <p:spPr>
          <a:xfrm>
            <a:off x="4788000" y="256536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89"/>
          <p:cNvSpPr/>
          <p:nvPr/>
        </p:nvSpPr>
        <p:spPr>
          <a:xfrm>
            <a:off x="7740720" y="1989000"/>
            <a:ext cx="0" cy="1224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87280" y="260280"/>
          <a:ext cx="6624720" cy="70164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Усилении полицейского режима и ликвидация некоторых положений судебной реформы 1864 г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4000" y="1700280"/>
          <a:ext cx="3168360" cy="173664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Положение о мерах к охранению гос. Порядка и общественного спокойствия» (1884) – чрезвычайный закон для борьбы  с революционным движе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19640" y="1700280"/>
          <a:ext cx="3313080" cy="158436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а открытость судопроизводства по полит. делам (1887). Ликвидированы мировые суды (188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84360" y="4365720"/>
          <a:ext cx="2303280" cy="86364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зданы охранные отделения. Вводится политических сыс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0" name="Line 54"/>
          <p:cNvSpPr/>
          <p:nvPr/>
        </p:nvSpPr>
        <p:spPr>
          <a:xfrm flipH="1">
            <a:off x="1834920" y="981000"/>
            <a:ext cx="25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5"/>
          <p:cNvSpPr/>
          <p:nvPr/>
        </p:nvSpPr>
        <p:spPr>
          <a:xfrm>
            <a:off x="4427640" y="981000"/>
            <a:ext cx="2520720" cy="719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58"/>
          <p:cNvSpPr/>
          <p:nvPr/>
        </p:nvSpPr>
        <p:spPr>
          <a:xfrm>
            <a:off x="1908000" y="3716280"/>
            <a:ext cx="0" cy="6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050920" y="260280"/>
          <a:ext cx="5400720" cy="7016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Введение дополнительных ограничений в сфере печати и обра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5280" y="1844640"/>
          <a:ext cx="2448000" cy="14637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е «Временные правила о печати» (1882) – любой печатный орган можно закры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492360" y="2060640"/>
          <a:ext cx="2448000" cy="71892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й университет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ий устав (1884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43640" y="1844640"/>
          <a:ext cx="2449440" cy="1224000"/>
        </p:xfrm>
        <a:graphic>
          <a:graphicData uri="http://schemas.openxmlformats.org/drawingml/2006/table">
            <a:tbl>
              <a:tblPr/>
              <a:tblGrid>
                <a:gridCol w="2449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иркуляр Мин. Просвещения «О кухаркиных детях» (188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492360" y="3573360"/>
          <a:ext cx="2448000" cy="432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автоном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32720" y="3645000"/>
          <a:ext cx="1942920" cy="1152360"/>
        </p:xfrm>
        <a:graphic>
          <a:graphicData uri="http://schemas.openxmlformats.org/drawingml/2006/table">
            <a:tbl>
              <a:tblPr/>
              <a:tblGrid>
                <a:gridCol w="194292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для поступления в гимназии детей низш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" name="Line 69"/>
          <p:cNvSpPr/>
          <p:nvPr/>
        </p:nvSpPr>
        <p:spPr>
          <a:xfrm flipH="1">
            <a:off x="1618920" y="981000"/>
            <a:ext cx="309708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71"/>
          <p:cNvSpPr/>
          <p:nvPr/>
        </p:nvSpPr>
        <p:spPr>
          <a:xfrm>
            <a:off x="4716360" y="98100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73"/>
          <p:cNvSpPr/>
          <p:nvPr/>
        </p:nvSpPr>
        <p:spPr>
          <a:xfrm>
            <a:off x="4716360" y="981000"/>
            <a:ext cx="2951280" cy="863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74"/>
          <p:cNvSpPr/>
          <p:nvPr/>
        </p:nvSpPr>
        <p:spPr>
          <a:xfrm>
            <a:off x="4716360" y="2781360"/>
            <a:ext cx="0" cy="792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75"/>
          <p:cNvSpPr/>
          <p:nvPr/>
        </p:nvSpPr>
        <p:spPr>
          <a:xfrm>
            <a:off x="7740720" y="3068640"/>
            <a:ext cx="0" cy="576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55640" y="189000"/>
          <a:ext cx="7704000" cy="43164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Е РАЗВИТИЕ В 80 – 90 – е гг.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XIX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124000" y="836640"/>
          <a:ext cx="5041800" cy="36504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урс на модернизацию промышл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008000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195640" y="1341360"/>
          <a:ext cx="4968720" cy="36504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Реформаторск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9280" y="1700280"/>
          <a:ext cx="8785440" cy="50083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23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Николай Христианович Бунте (1823 – 1895)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1 – 1886 г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седатель Кабинета министров в 1887 – 1895 гг. Сторонник политики протекционизма; основные меры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ие таможенных пошли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держка частных акционерных банков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еформи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ование системы налогообложения и введение новых налогов на недвижимость, торговлю, промыс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ы, денежные операции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Политика в крестьянском вопросе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иквидация «временнообязанного состояния» и понижение выкупных платежей (188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Создание Крестьянского банка для льготного кредитования крестьян (1882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Отмена подушной подати (1885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90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Иван Алексеевич Вышеградский (1831 – 189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7 – 1892 гг. Продолжает политику протекционизма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нят новый повышенный таможенный тариф (189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ы косвенные налоги и расширено налогообложение торговых и промышленных предприятий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Усил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роли государства в регулировании хоз. деятельности частного предпринимательство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чин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частных железных дорог государству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ДОБИЛСЯ УСТОЙЧИВОСТИ ФИНАНСОВОЙ СИСТЕМЫ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26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ергей Юльевич Витте (1849 – 191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Жесткая налоговая политика, увеличение косвенных налогов, введение гос. винной монополии (1894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отекционизм,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званный защитить российскую промышленность от иностранных конкурентов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инансовая р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орма (1897). Введение золотого обеспечения рубля и его свободная конвертация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Широкое прив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ечение в страну иностранного капитал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0" name="Line 108"/>
          <p:cNvSpPr/>
          <p:nvPr/>
        </p:nvSpPr>
        <p:spPr>
          <a:xfrm>
            <a:off x="1258920" y="620640"/>
            <a:ext cx="865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109"/>
          <p:cNvSpPr/>
          <p:nvPr/>
        </p:nvSpPr>
        <p:spPr>
          <a:xfrm flipH="1">
            <a:off x="7164360" y="620640"/>
            <a:ext cx="93672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195640" y="189000"/>
          <a:ext cx="4680000" cy="72072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АБОЧЕЕ ДВИЖЕНИЕ И НАЧАЛО РАСПРОСТРАНЕНИЯ МАРКС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6000" y="1125360"/>
          <a:ext cx="8928000" cy="360072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1295640"/>
                <a:gridCol w="2592360"/>
                <a:gridCol w="165564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Первые рабочие организации в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орган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Годы и место существ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Руково-д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Программа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Деятельность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Южнорос-сийкий союз рабочих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5 – 1876 гг. Оде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Е.О. За-славский Ок. 6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орьба с существующим политическим строем. Влияние народнической иде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Пропагандист-ская деятель-н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Северный союз русских рабочих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8 – 1880 гг.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В.П. Об-норский С.Н.Хал-тур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Ок. 20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существующего строя. Борьба за политическую свободу. Солидарность рабочих всех стран. Влияние народник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Участие в стачках. Изда-ние проклама-ций и листка «Рабочая зар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64000" y="5084640"/>
          <a:ext cx="1871640" cy="432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тачк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24000" y="5805360"/>
          <a:ext cx="3168360" cy="93348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93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2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енгольмская мануфактура (Нар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076720" y="5805360"/>
          <a:ext cx="3780000" cy="93348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11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икольская мануфактура в Орехово - - Зуево (Морозовская стач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8" name="Line 125"/>
          <p:cNvSpPr/>
          <p:nvPr/>
        </p:nvSpPr>
        <p:spPr>
          <a:xfrm flipH="1">
            <a:off x="1835280" y="5229360"/>
            <a:ext cx="172872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26"/>
          <p:cNvSpPr/>
          <p:nvPr/>
        </p:nvSpPr>
        <p:spPr>
          <a:xfrm>
            <a:off x="5435640" y="5229360"/>
            <a:ext cx="172872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79280" y="333360"/>
          <a:ext cx="8785440" cy="5543640"/>
        </p:xfrm>
        <a:graphic>
          <a:graphicData uri="http://schemas.openxmlformats.org/drawingml/2006/table">
            <a:tbl>
              <a:tblPr/>
              <a:tblGrid>
                <a:gridCol w="1704960"/>
                <a:gridCol w="1679760"/>
                <a:gridCol w="1871640"/>
                <a:gridCol w="3529080"/>
              </a:tblGrid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Марксистские кружки в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Кружок</a:t>
                      </a: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Год,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уководите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лаго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3 – 1885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 Благо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учение марксизма пропаганда его среди рабочих, издание газеты «Рабочий». Кружок раскрыт полици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Товарищество санкт –петербургских мастеров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– 1888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.В. Точис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Федосе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8 г.. Каз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.Е. Федосе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 и студентов. Организация студенческих волнений в Казанском университете. В этом кружке к марксизму приобщился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И. Ульянов (Лени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русне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9 – 1892 гг., Петербур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.И. Брусне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, создание рабочих кружков. Организация демонстрации и маевки в 1891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23:29Z</dcterms:created>
  <dc:creator>1</dc:creator>
  <dc:description/>
  <dc:language>en-US</dc:language>
  <cp:lastModifiedBy>LEGION</cp:lastModifiedBy>
  <dcterms:modified xsi:type="dcterms:W3CDTF">2015-01-15T12:24:01Z</dcterms:modified>
  <cp:revision>21</cp:revision>
  <dc:subject/>
  <dc:title>Слайд 1</dc:title>
</cp:coreProperties>
</file>