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ACC9-3064-4664-BE18-B0079AE86F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Россия в конце 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в. и начала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 XX </a:t>
            </a: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боту сделал Гумматов 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6D85-C532-41F6-9D4C-F8BCE5B93AA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то был министром финансов в 1887 – 1892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иколай Христианович Бу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ван Алексеевич Вышеград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ергей Юльевич Вит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 Алексей Кудр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каком году образовалась «Тройственный сою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9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8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8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7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ая страна не входила в «Тройственный сою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Гер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нг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встро – Венг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Ита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EACC-938F-47A2-81A0-C13939DD485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держа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. Россия во второй половине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XIX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Экономическое развитие в 80 – 90 – е гг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Рабочее движение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чало распространения маркс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нешняя полит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Россия в начале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CA4A-182D-4515-B6D6-3D5DE6F84D6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оссия во второй половине </a:t>
            </a:r>
            <a:r>
              <a:rPr b="0" lang="en-US" sz="1100" spc="-1" strike="noStrike">
                <a:solidFill>
                  <a:srgbClr val="0000ff"/>
                </a:solidFill>
                <a:latin typeface="Calibri"/>
              </a:rPr>
              <a:t>XIX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5182-B677-4D29-AC72-6CAC0757A95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лай Христианович Бунте (1823 – 1895)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финансов в 1881 – 1886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едатель Кабинета министров в 1887 – 1895 гг. Сторонник политики протекционизма; основные меры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ение таможенных пош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держка частных акционерных бан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форм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вание системы налогообложения и введение новых налогов на недвижимость, торговлю, промы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ы, денежные опер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итика в крестьянском вопросе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квидация «временнообязанного состояния» и понижение выкупных платежей (1881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здание Крестьянского банка для льготного кредитования крестьян (1882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мена подушной подати (188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ван Алексеевич Вышеградский (1831 – 1895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р финансов в 1887 – 1892 гг. Продолжает политику протекционизма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ят новый повышенный таможенный тариф (1891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ены косвенные налоги и расширено налогообложение торговых и промышленных предприят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Усил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е роли государства в регулировании хоз. деятельности частного предпринимательство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4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чин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е частных железных дорог государств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ИЛСЯ УСТОЙЧИВОСТИ ФИНАНСОВ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гей Юльевич Витте (1849 – 1915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р финансов в 1892 – 1903 гг. Председатель Комитета министров с1903 г., председатель Совета министров в 1905 – 1906 гг. Сторонник ускоренного промышленного развития. Основные направления экономической политики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Жесткая налоговая политика, увеличение косвенных налогов, введение гос. винной монополии (1894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текционизм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званный защитить российскую промышленность от иностранных конкурентов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инансовая 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а (1897). Введение золотого обеспечения рубля и его свободная конвертация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4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ирокое при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ечение в страну иностран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BF98-31FB-4398-A46D-53620E24AF5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6DD91-70AC-4C8E-90ED-DE9B597A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40AF0-FEBD-4BC5-A10A-7D853A2D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3D2A-5B87-43E5-A2E0-70BEF80A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40836-8EBB-41C7-8045-857FC71F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BAA4-9160-4D2B-B660-0EE22E4D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A50B-83FA-4A46-8FC5-2042002B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90EF-7964-45CA-8B54-1EA4FA26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0E18-628B-48B0-98A2-B670B633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507A-5C35-4E27-8559-E4AB0936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1BB7-D2F1-4D60-B223-384A5AC2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76C2-054D-4EC2-AB78-862F201B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CC261-FA68-4F52-B8B7-E8C2C59F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8455-FBA8-432F-8F85-2724FC1A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8544-9C6E-4B33-8C5A-71781516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AE2E-80D0-4ED8-9948-12D0E6DC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1BB9-451A-46DD-84C8-A0585C34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5BDC-5423-44ED-A9FB-64FD7907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2512E-4A39-4ED4-9DEF-E5A71F9C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46D9-95C2-49CA-9DE4-76D7E525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7339-7C2A-4DFF-AAF7-8049213A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8B890-48DB-4D96-B5A8-4364178F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4E29-D451-4976-8354-C1BD9815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387F4-3815-4E0A-8C8B-4E72043C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DD63D-56CF-4A0E-8E91-302DC6E7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AF56-EEEB-4D24-842F-B44BA31A04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8B55-585E-42B6-A575-FD7A92A637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7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1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Россия в конце </a:t>
            </a:r>
            <a:r>
              <a:rPr b="1" lang="en-US" sz="4300" spc="-1" strike="noStrike">
                <a:solidFill>
                  <a:srgbClr val="ff9900"/>
                </a:solidFill>
                <a:latin typeface="Garamond"/>
              </a:rPr>
              <a:t>XIX </a:t>
            </a: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в. и начала</a:t>
            </a:r>
            <a:r>
              <a:rPr b="1" lang="en-US" sz="4300" spc="-1" strike="noStrike">
                <a:solidFill>
                  <a:srgbClr val="ff9900"/>
                </a:solidFill>
                <a:latin typeface="Garamond"/>
              </a:rPr>
              <a:t> XX </a:t>
            </a: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в.</a:t>
            </a:r>
            <a:r>
              <a:rPr b="1" lang="ru-RU" sz="6000" spc="-1" strike="noStrike">
                <a:solidFill>
                  <a:srgbClr val="ff9900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ту сделал Гумматов Н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484360" y="189000"/>
          <a:ext cx="3959280" cy="433440"/>
        </p:xfrm>
        <a:graphic>
          <a:graphicData uri="http://schemas.openxmlformats.org/drawingml/2006/table">
            <a:tbl>
              <a:tblPr/>
              <a:tblGrid>
                <a:gridCol w="39592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ВНЕШНЯЯ ПОЛИ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55640" y="907920"/>
          <a:ext cx="1584360" cy="10796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лабления российского влияния на Балкан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843280" y="907920"/>
          <a:ext cx="1655640" cy="865440"/>
        </p:xfrm>
        <a:graphic>
          <a:graphicData uri="http://schemas.openxmlformats.org/drawingml/2006/table">
            <a:tbl>
              <a:tblPr/>
              <a:tblGrid>
                <a:gridCol w="16556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оссийско -         - германские отнош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219640" y="907920"/>
          <a:ext cx="1297080" cy="865440"/>
        </p:xfrm>
        <a:graphic>
          <a:graphicData uri="http://schemas.openxmlformats.org/drawingml/2006/table">
            <a:tbl>
              <a:tblPr/>
              <a:tblGrid>
                <a:gridCol w="129708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ближения России и Фран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7164360" y="907920"/>
          <a:ext cx="1440000" cy="64800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зиатск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79280" y="2421000"/>
          <a:ext cx="1368360" cy="22320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острение отношений с Болгарией и разрыв дипломати-ческих отношений в 1886 г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908000" y="2421000"/>
          <a:ext cx="1152720" cy="2232000"/>
        </p:xfrm>
        <a:graphic>
          <a:graphicData uri="http://schemas.openxmlformats.org/drawingml/2006/table">
            <a:tbl>
              <a:tblPr/>
              <a:tblGrid>
                <a:gridCol w="115272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иления германо-австий-ского влияния в данном регион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64000" y="2133720"/>
          <a:ext cx="1224000" cy="146340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Договор перестра-ховки» России и Германии (188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492360" y="3933720"/>
          <a:ext cx="1727280" cy="123516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12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острение экономических отношений. Таможенная война с 1890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508720" y="2133720"/>
          <a:ext cx="1439640" cy="150804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1737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итическое соглашение 1891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енная конвенция 1892 г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508720" y="3933720"/>
          <a:ext cx="1512720" cy="100656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формление русско-французского союз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380360" y="1916280"/>
          <a:ext cx="1584360" cy="19206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23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вершение присоединения Средней Азии. Покорение туркменских племен и взятие Ашхабада (1881 – 188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308720" y="4292640"/>
          <a:ext cx="1584360" cy="169236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91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тановления границ России и Афганистана, который яв-ся протектором Англии (1885 -   - 189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24000" y="5300640"/>
          <a:ext cx="2016000" cy="136836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разование «Тройственного союза» - Германия, Австро – Венгрия и Италия – 1882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916360" y="5661000"/>
          <a:ext cx="2592360" cy="100656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233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зникновение в Европе противоборствующих военно – политических блоков в конце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IX 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156360" y="6165720"/>
          <a:ext cx="2736720" cy="50508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о сближения с Англ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9" name="Line 148"/>
          <p:cNvSpPr/>
          <p:nvPr/>
        </p:nvSpPr>
        <p:spPr>
          <a:xfrm flipH="1">
            <a:off x="1618920" y="404640"/>
            <a:ext cx="86508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Line 149"/>
          <p:cNvSpPr/>
          <p:nvPr/>
        </p:nvSpPr>
        <p:spPr>
          <a:xfrm>
            <a:off x="6443640" y="404640"/>
            <a:ext cx="1224000" cy="50328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Line 150"/>
          <p:cNvSpPr/>
          <p:nvPr/>
        </p:nvSpPr>
        <p:spPr>
          <a:xfrm>
            <a:off x="3708360" y="620640"/>
            <a:ext cx="0" cy="2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Line 151"/>
          <p:cNvSpPr/>
          <p:nvPr/>
        </p:nvSpPr>
        <p:spPr>
          <a:xfrm>
            <a:off x="5940360" y="620640"/>
            <a:ext cx="0" cy="287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Line 152"/>
          <p:cNvSpPr/>
          <p:nvPr/>
        </p:nvSpPr>
        <p:spPr>
          <a:xfrm flipH="1">
            <a:off x="899640" y="1989000"/>
            <a:ext cx="64764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Line 154"/>
          <p:cNvSpPr/>
          <p:nvPr/>
        </p:nvSpPr>
        <p:spPr>
          <a:xfrm>
            <a:off x="1547640" y="1989000"/>
            <a:ext cx="792360" cy="432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Line 155"/>
          <p:cNvSpPr/>
          <p:nvPr/>
        </p:nvSpPr>
        <p:spPr>
          <a:xfrm>
            <a:off x="4067280" y="177336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Line 156"/>
          <p:cNvSpPr/>
          <p:nvPr/>
        </p:nvSpPr>
        <p:spPr>
          <a:xfrm>
            <a:off x="4067280" y="357336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Line 157"/>
          <p:cNvSpPr/>
          <p:nvPr/>
        </p:nvSpPr>
        <p:spPr>
          <a:xfrm>
            <a:off x="6084720" y="1773360"/>
            <a:ext cx="0" cy="360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Line 158"/>
          <p:cNvSpPr/>
          <p:nvPr/>
        </p:nvSpPr>
        <p:spPr>
          <a:xfrm>
            <a:off x="6012000" y="3645000"/>
            <a:ext cx="0" cy="2887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Line 159"/>
          <p:cNvSpPr/>
          <p:nvPr/>
        </p:nvSpPr>
        <p:spPr>
          <a:xfrm>
            <a:off x="8028000" y="1557360"/>
            <a:ext cx="0" cy="36036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160"/>
          <p:cNvSpPr/>
          <p:nvPr/>
        </p:nvSpPr>
        <p:spPr>
          <a:xfrm>
            <a:off x="8101080" y="4076640"/>
            <a:ext cx="0" cy="2160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163"/>
          <p:cNvSpPr/>
          <p:nvPr/>
        </p:nvSpPr>
        <p:spPr>
          <a:xfrm>
            <a:off x="5796000" y="4941720"/>
            <a:ext cx="0" cy="1511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Line 164"/>
          <p:cNvSpPr/>
          <p:nvPr/>
        </p:nvSpPr>
        <p:spPr>
          <a:xfrm>
            <a:off x="5796000" y="6453360"/>
            <a:ext cx="3603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Line 165"/>
          <p:cNvSpPr/>
          <p:nvPr/>
        </p:nvSpPr>
        <p:spPr>
          <a:xfrm flipH="1">
            <a:off x="5508720" y="6453360"/>
            <a:ext cx="2872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Line 166"/>
          <p:cNvSpPr/>
          <p:nvPr/>
        </p:nvSpPr>
        <p:spPr>
          <a:xfrm>
            <a:off x="234000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Line 173"/>
          <p:cNvSpPr/>
          <p:nvPr/>
        </p:nvSpPr>
        <p:spPr>
          <a:xfrm flipH="1">
            <a:off x="6948000" y="5589720"/>
            <a:ext cx="3603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ine 174"/>
          <p:cNvSpPr/>
          <p:nvPr/>
        </p:nvSpPr>
        <p:spPr>
          <a:xfrm>
            <a:off x="6948360" y="5589720"/>
            <a:ext cx="0" cy="5760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Line 175"/>
          <p:cNvSpPr/>
          <p:nvPr/>
        </p:nvSpPr>
        <p:spPr>
          <a:xfrm flipH="1">
            <a:off x="1547280" y="2924280"/>
            <a:ext cx="3603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Line 178"/>
          <p:cNvSpPr/>
          <p:nvPr/>
        </p:nvSpPr>
        <p:spPr>
          <a:xfrm>
            <a:off x="1547640" y="42210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4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4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187280" y="189000"/>
          <a:ext cx="6985080" cy="41112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41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РОССИЯ В НАЧАЛЕ </a:t>
                      </a:r>
                      <a:r>
                        <a:rPr b="1" lang="en-US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XX </a:t>
                      </a:r>
                      <a:r>
                        <a:rPr b="1" lang="ru-RU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в.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2484360" y="692280"/>
          <a:ext cx="4537080" cy="63972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ЭКОНОМИЧЕСКОЕ РАЗВИТИЕ РОССИИ В НАЧАЛЕ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484360" y="1557360"/>
          <a:ext cx="4535640" cy="695160"/>
        </p:xfrm>
        <a:graphic>
          <a:graphicData uri="http://schemas.openxmlformats.org/drawingml/2006/table">
            <a:tbl>
              <a:tblPr/>
              <a:tblGrid>
                <a:gridCol w="4535640"/>
              </a:tblGrid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экономического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79280" y="2637000"/>
          <a:ext cx="1800360" cy="1655640"/>
        </p:xfrm>
        <a:graphic>
          <a:graphicData uri="http://schemas.openxmlformats.org/drawingml/2006/table">
            <a:tbl>
              <a:tblPr/>
              <a:tblGrid>
                <a:gridCol w="1800360"/>
              </a:tblGrid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ладывание системы государственно--монополисти- ческого капитал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411280" y="2637000"/>
          <a:ext cx="1513080" cy="107928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ирокое внедрение иностранного капит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500720" y="2637000"/>
          <a:ext cx="2232000" cy="5792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ногоукладность эконом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500720" y="3213000"/>
          <a:ext cx="2232000" cy="13114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астнокапиталис-тический уклад (фабрика и заводы, помещичьи и кулацкие хозяйст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500720" y="4508640"/>
          <a:ext cx="2232000" cy="5792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унатуральный (крестьянский) укла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500720" y="5084640"/>
          <a:ext cx="2232000" cy="10670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лкотоварный уклад (кустарно – ре-месленное производств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7524720" y="2637000"/>
          <a:ext cx="1440000" cy="15541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79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сокораз-витая про-шленность и финансовая банковская систем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524720" y="5157720"/>
          <a:ext cx="1440000" cy="15541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203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ставание аграрного сектора, сохранение феодальных пережит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948360" y="3573360"/>
          <a:ext cx="287640" cy="2232000"/>
        </p:xfrm>
        <a:graphic>
          <a:graphicData uri="http://schemas.openxmlformats.org/drawingml/2006/table">
            <a:tbl>
              <a:tblPr/>
              <a:tblGrid>
                <a:gridCol w="28764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Garamond"/>
                        </a:rPr>
                        <a:t>сочетан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Line 191"/>
          <p:cNvSpPr/>
          <p:nvPr/>
        </p:nvSpPr>
        <p:spPr>
          <a:xfrm>
            <a:off x="4140360" y="2852640"/>
            <a:ext cx="0" cy="1008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Line 193"/>
          <p:cNvSpPr/>
          <p:nvPr/>
        </p:nvSpPr>
        <p:spPr>
          <a:xfrm>
            <a:off x="4140360" y="2852640"/>
            <a:ext cx="3603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Line 194"/>
          <p:cNvSpPr/>
          <p:nvPr/>
        </p:nvSpPr>
        <p:spPr>
          <a:xfrm>
            <a:off x="4140360" y="38606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Line 195"/>
          <p:cNvSpPr/>
          <p:nvPr/>
        </p:nvSpPr>
        <p:spPr>
          <a:xfrm>
            <a:off x="4140360" y="4797360"/>
            <a:ext cx="3603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Line 196"/>
          <p:cNvSpPr/>
          <p:nvPr/>
        </p:nvSpPr>
        <p:spPr>
          <a:xfrm>
            <a:off x="4140360" y="5589720"/>
            <a:ext cx="36036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Line 197"/>
          <p:cNvSpPr/>
          <p:nvPr/>
        </p:nvSpPr>
        <p:spPr>
          <a:xfrm>
            <a:off x="4140360" y="3860640"/>
            <a:ext cx="0" cy="936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Line 198"/>
          <p:cNvSpPr/>
          <p:nvPr/>
        </p:nvSpPr>
        <p:spPr>
          <a:xfrm>
            <a:off x="4140360" y="4797360"/>
            <a:ext cx="0" cy="792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Line 199"/>
          <p:cNvSpPr/>
          <p:nvPr/>
        </p:nvSpPr>
        <p:spPr>
          <a:xfrm>
            <a:off x="5580000" y="2276640"/>
            <a:ext cx="0" cy="360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Line 200"/>
          <p:cNvSpPr/>
          <p:nvPr/>
        </p:nvSpPr>
        <p:spPr>
          <a:xfrm>
            <a:off x="3203640" y="2276640"/>
            <a:ext cx="0" cy="360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Line 201"/>
          <p:cNvSpPr/>
          <p:nvPr/>
        </p:nvSpPr>
        <p:spPr>
          <a:xfrm flipH="1">
            <a:off x="971640" y="2276640"/>
            <a:ext cx="1800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Line 202"/>
          <p:cNvSpPr/>
          <p:nvPr/>
        </p:nvSpPr>
        <p:spPr>
          <a:xfrm>
            <a:off x="6084720" y="2276640"/>
            <a:ext cx="2159280" cy="36036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203"/>
          <p:cNvSpPr/>
          <p:nvPr/>
        </p:nvSpPr>
        <p:spPr>
          <a:xfrm>
            <a:off x="8172360" y="4221000"/>
            <a:ext cx="0" cy="936720"/>
          </a:xfrm>
          <a:prstGeom prst="line">
            <a:avLst/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204"/>
          <p:cNvSpPr/>
          <p:nvPr/>
        </p:nvSpPr>
        <p:spPr>
          <a:xfrm>
            <a:off x="7236000" y="4653000"/>
            <a:ext cx="93636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Кто был министром финансов в 1887 – 1892 г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Николай Христианович Бунг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Иван Алексеевич Вышеградский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Сергей Юльевич Витт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 Алексей Кудрин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В каком году образовалась «Тройственный союз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890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88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82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79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Какая страна не входила в «Тройственный союз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Герман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Англ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Австро – Венгри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Итали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03640" y="189000"/>
          <a:ext cx="2881080" cy="517320"/>
        </p:xfrm>
        <a:graphic>
          <a:graphicData uri="http://schemas.openxmlformats.org/drawingml/2006/table">
            <a:tbl>
              <a:tblPr/>
              <a:tblGrid>
                <a:gridCol w="288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те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5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9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5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5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6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6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6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9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6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9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6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9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9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900" fill="hold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900" fill="hold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Содержание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1. Россия во второй половине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XIX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в.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2. Экономическое развитие в 80 – 90 – е гг.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XIX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 в.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8" action="ppaction://hlinksldjump"/>
              </a:rPr>
              <a:t>3. Рабочее движение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9" action="ppaction://hlinksldjump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0" action="ppaction://hlinksldjump"/>
              </a:rPr>
              <a:t>и начало распространения марксизма.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1" action="ppaction://hlinksldjump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2" action="ppaction://hlinksldjump"/>
              </a:rPr>
              <a:t>4. Внешняя политик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3" action="ppaction://hlinksldjump"/>
              </a:rPr>
              <a:t>5. Россия в начале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4" action="ppaction://hlinksldjump"/>
              </a:rPr>
              <a:t>XX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5" action="ppaction://hlinksldjump"/>
              </a:rPr>
              <a:t>в.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6" action="ppaction://hlinksldjump"/>
              </a:rPr>
              <a:t>6. Тес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7" action="ppaction://hlinksldjump"/>
              </a:rPr>
              <a:t>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Россия во второй половине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XIX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в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68360" y="549360"/>
          <a:ext cx="4272120" cy="365040"/>
        </p:xfrm>
        <a:graphic>
          <a:graphicData uri="http://schemas.openxmlformats.org/drawingml/2006/table">
            <a:tbl>
              <a:tblPr/>
              <a:tblGrid>
                <a:gridCol w="427212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авления Александра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 (1881 – 189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987640" y="1052640"/>
          <a:ext cx="2665440" cy="365040"/>
        </p:xfrm>
        <a:graphic>
          <a:graphicData uri="http://schemas.openxmlformats.org/drawingml/2006/table">
            <a:tbl>
              <a:tblPr/>
              <a:tblGrid>
                <a:gridCol w="266544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яя поли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86e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627280" y="1700280"/>
          <a:ext cx="6337440" cy="936720"/>
        </p:xfrm>
        <a:graphic>
          <a:graphicData uri="http://schemas.openxmlformats.org/drawingml/2006/table">
            <a:tbl>
              <a:tblPr/>
              <a:tblGrid>
                <a:gridCol w="6337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трреформы – принятое  в историческое литературе название мероприятий правительства Александра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 пересмотру итогов реформ 60-х гг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1700280"/>
          <a:ext cx="1727280" cy="108108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деологи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.П.Победоносц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А.Толст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П.Мещер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8" name="Line 86"/>
          <p:cNvSpPr/>
          <p:nvPr/>
        </p:nvSpPr>
        <p:spPr>
          <a:xfrm>
            <a:off x="1835280" y="213372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55640" y="3357720"/>
          <a:ext cx="8137440" cy="259056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1360" indent="-71136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новные напра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.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ие земского и городского самоуправл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.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иление полицейского режима и ликвидация некоторы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ожений судебной реформы 1864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.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Введение дополнительных ограничений в сфере печати 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разова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0" name="Line 166"/>
          <p:cNvSpPr/>
          <p:nvPr/>
        </p:nvSpPr>
        <p:spPr>
          <a:xfrm>
            <a:off x="4859280" y="2637000"/>
            <a:ext cx="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116000" y="189000"/>
          <a:ext cx="7058160" cy="503280"/>
        </p:xfrm>
        <a:graphic>
          <a:graphicData uri="http://schemas.openxmlformats.org/drawingml/2006/table">
            <a:tbl>
              <a:tblPr/>
              <a:tblGrid>
                <a:gridCol w="705816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Ограничение земского и городского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само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9640" y="1268280"/>
          <a:ext cx="2592360" cy="12970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реждение должностей земских участковых началь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419640" y="1268280"/>
          <a:ext cx="2592360" cy="12970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ое «Положение о губернских и уездных земских учреждениях» (189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372360" y="1268280"/>
          <a:ext cx="2592360" cy="72072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ое «Городовое положения» (189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84360" y="3213000"/>
          <a:ext cx="2374920" cy="1368360"/>
        </p:xfrm>
        <a:graphic>
          <a:graphicData uri="http://schemas.openxmlformats.org/drawingml/2006/table">
            <a:tbl>
              <a:tblPr/>
              <a:tblGrid>
                <a:gridCol w="2374920"/>
              </a:tblGrid>
              <a:tr h="14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троль за крестьянским самоуправлением. Решение земельных вопро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708360" y="3213000"/>
          <a:ext cx="2303640" cy="1871640"/>
        </p:xfrm>
        <a:graphic>
          <a:graphicData uri="http://schemas.openxmlformats.org/drawingml/2006/table">
            <a:tbl>
              <a:tblPr/>
              <a:tblGrid>
                <a:gridCol w="23036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я в земской избирательной системе. Увеличение числа депутатов от дворян и их сокращение от других сосло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659640" y="3213000"/>
          <a:ext cx="2232000" cy="266400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36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в городской избирательной системе. Отстранение от выборов мелких собственников ввиду повышения имущественного ценза, необходимого для участия в выборном процесс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9" name="Line 77"/>
          <p:cNvSpPr/>
          <p:nvPr/>
        </p:nvSpPr>
        <p:spPr>
          <a:xfrm flipH="1">
            <a:off x="3132000" y="692280"/>
            <a:ext cx="1657440" cy="57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81"/>
          <p:cNvSpPr/>
          <p:nvPr/>
        </p:nvSpPr>
        <p:spPr>
          <a:xfrm>
            <a:off x="4643280" y="692280"/>
            <a:ext cx="1729080" cy="576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82"/>
          <p:cNvSpPr/>
          <p:nvPr/>
        </p:nvSpPr>
        <p:spPr>
          <a:xfrm>
            <a:off x="4716360" y="692280"/>
            <a:ext cx="0" cy="57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83"/>
          <p:cNvSpPr/>
          <p:nvPr/>
        </p:nvSpPr>
        <p:spPr>
          <a:xfrm>
            <a:off x="1835280" y="2565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4"/>
          <p:cNvSpPr/>
          <p:nvPr/>
        </p:nvSpPr>
        <p:spPr>
          <a:xfrm>
            <a:off x="4788000" y="256536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89"/>
          <p:cNvSpPr/>
          <p:nvPr/>
        </p:nvSpPr>
        <p:spPr>
          <a:xfrm>
            <a:off x="7740720" y="1989000"/>
            <a:ext cx="0" cy="1224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87280" y="260280"/>
          <a:ext cx="6624720" cy="701640"/>
        </p:xfrm>
        <a:graphic>
          <a:graphicData uri="http://schemas.openxmlformats.org/drawingml/2006/table">
            <a:tbl>
              <a:tblPr/>
              <a:tblGrid>
                <a:gridCol w="6624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Усилении полицейского режима и ликвидация некоторых положений судебной реформы 1864 г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4000" y="1700280"/>
          <a:ext cx="3168360" cy="173664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Положение о мерах к охранению гос. Порядка и общественного спокойствия» (1884) – чрезвычайный закон для борьбы  с революционным движе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219640" y="1700280"/>
          <a:ext cx="3313080" cy="158436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а открытость судопроизводства по полит. делам (1887). Ликвидированы мировые суды (188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84360" y="4365720"/>
          <a:ext cx="2303280" cy="863640"/>
        </p:xfrm>
        <a:graphic>
          <a:graphicData uri="http://schemas.openxmlformats.org/drawingml/2006/table">
            <a:tbl>
              <a:tblPr/>
              <a:tblGrid>
                <a:gridCol w="23032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зданы охранные отделения. Вводится политических сыс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0" name="Line 54"/>
          <p:cNvSpPr/>
          <p:nvPr/>
        </p:nvSpPr>
        <p:spPr>
          <a:xfrm flipH="1">
            <a:off x="1834920" y="981000"/>
            <a:ext cx="259236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5"/>
          <p:cNvSpPr/>
          <p:nvPr/>
        </p:nvSpPr>
        <p:spPr>
          <a:xfrm>
            <a:off x="4427640" y="981000"/>
            <a:ext cx="2520720" cy="719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58"/>
          <p:cNvSpPr/>
          <p:nvPr/>
        </p:nvSpPr>
        <p:spPr>
          <a:xfrm>
            <a:off x="1908000" y="3716280"/>
            <a:ext cx="0" cy="64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050920" y="260280"/>
          <a:ext cx="5400720" cy="70164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Введение дополнительных ограничений в сфере печати и обра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95280" y="1844640"/>
          <a:ext cx="2448000" cy="146376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ые «Временные правила о печати» (1882) – любой печатный орган можно закры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492360" y="2060640"/>
          <a:ext cx="2448000" cy="71892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ый университет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ий устав (1884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443640" y="1844640"/>
          <a:ext cx="2449440" cy="1224000"/>
        </p:xfrm>
        <a:graphic>
          <a:graphicData uri="http://schemas.openxmlformats.org/drawingml/2006/table">
            <a:tbl>
              <a:tblPr/>
              <a:tblGrid>
                <a:gridCol w="24494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иркуляр Мин. Просвещения «О кухаркиных детях» (188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492360" y="3573360"/>
          <a:ext cx="2448000" cy="43200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квидация автоном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32720" y="3645000"/>
          <a:ext cx="1942920" cy="1152360"/>
        </p:xfrm>
        <a:graphic>
          <a:graphicData uri="http://schemas.openxmlformats.org/drawingml/2006/table">
            <a:tbl>
              <a:tblPr/>
              <a:tblGrid>
                <a:gridCol w="194292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ие для поступления в гимназии детей низших сосло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" name="Line 69"/>
          <p:cNvSpPr/>
          <p:nvPr/>
        </p:nvSpPr>
        <p:spPr>
          <a:xfrm flipH="1">
            <a:off x="1618920" y="981000"/>
            <a:ext cx="309708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71"/>
          <p:cNvSpPr/>
          <p:nvPr/>
        </p:nvSpPr>
        <p:spPr>
          <a:xfrm>
            <a:off x="4716360" y="98100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73"/>
          <p:cNvSpPr/>
          <p:nvPr/>
        </p:nvSpPr>
        <p:spPr>
          <a:xfrm>
            <a:off x="4716360" y="981000"/>
            <a:ext cx="2951280" cy="863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74"/>
          <p:cNvSpPr/>
          <p:nvPr/>
        </p:nvSpPr>
        <p:spPr>
          <a:xfrm>
            <a:off x="4716360" y="2781360"/>
            <a:ext cx="0" cy="792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75"/>
          <p:cNvSpPr/>
          <p:nvPr/>
        </p:nvSpPr>
        <p:spPr>
          <a:xfrm>
            <a:off x="7740720" y="3068640"/>
            <a:ext cx="0" cy="5763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55640" y="189000"/>
          <a:ext cx="7704000" cy="43164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ЭКОНОМИЧЕСКОЕ РАЗВИТИЕ В 80 – 90 – е гг.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XIX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124000" y="836640"/>
          <a:ext cx="5041800" cy="365040"/>
        </p:xfrm>
        <a:graphic>
          <a:graphicData uri="http://schemas.openxmlformats.org/drawingml/2006/table">
            <a:tbl>
              <a:tblPr/>
              <a:tblGrid>
                <a:gridCol w="5041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урс на модернизацию промышл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008000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195640" y="1341360"/>
          <a:ext cx="4968720" cy="365040"/>
        </p:xfrm>
        <a:graphic>
          <a:graphicData uri="http://schemas.openxmlformats.org/drawingml/2006/table">
            <a:tbl>
              <a:tblPr/>
              <a:tblGrid>
                <a:gridCol w="4968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9900"/>
                          </a:solidFill>
                          <a:uFillTx/>
                          <a:latin typeface="Garamond"/>
                        </a:rPr>
                        <a:t>Реформаторск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79280" y="1700280"/>
          <a:ext cx="8785440" cy="50083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23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Николай Христианович Бунте (1823 – 1895)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81 – 1886 г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седатель Кабинета министров в 1887 – 1895 гг. Сторонник политики протекционизма; основные меры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вышение таможенных пошлин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ддержка частных акционерных банков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Реформи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рование системы налогообложения и введение новых налогов на недвижимость, торговлю, промыс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ы, денежные операции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Политика в крестьянском вопросе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иквидация «временнообязанного состояния» и понижение выкупных платежей (1881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Создание Крестьянского банка для льготного кредитования крестьян (1882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Отмена подушной подати (1885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90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Иван Алексеевич Вышеградский (1831 – 1895)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87 – 1892 гг. Продолжает политику протекционизма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инят новый повышенный таможенный тариф (1891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вышены косвенные налоги и расширено налогообложение торговых и промышленных предприятий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Усил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ние роли государства в регулировании хоз. деятельности частного предпринимательство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4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дчин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ние частных железных дорог государству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Garamond"/>
                        </a:rPr>
                        <a:t>ДОБИЛСЯ УСТОЙЧИВОСТИ ФИНАНСОВОЙ СИСТЕМЫ</a:t>
                      </a: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26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Сергей Юльевич Витте (1849 – 1915)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92 – 1903 гг. Председатель Комитета министров с1903 г., председатель Совета министров в 1905 – 1906 гг. Сторонник ускоренного промышленного развития. Основные направления экономической политики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Жесткая налоговая политика, увеличение косвенных налогов, введение гос. винной монополии (1894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отекционизм,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изванный защитить российскую промышленность от иностранных конкурентов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Финансовая р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Форма (1897). Введение золотого обеспечения рубля и его свободная конвертация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4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Широкое прив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ечение в страну иностранного капитал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0" name="Line 108"/>
          <p:cNvSpPr/>
          <p:nvPr/>
        </p:nvSpPr>
        <p:spPr>
          <a:xfrm>
            <a:off x="1258920" y="620640"/>
            <a:ext cx="86508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109"/>
          <p:cNvSpPr/>
          <p:nvPr/>
        </p:nvSpPr>
        <p:spPr>
          <a:xfrm flipH="1">
            <a:off x="7164360" y="620640"/>
            <a:ext cx="93672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195640" y="189000"/>
          <a:ext cx="4680000" cy="72072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РАБОЧЕЕ ДВИЖЕНИЕ И НАЧАЛО РАСПРОСТРАНЕНИЯ МАРКС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16000" y="1125360"/>
          <a:ext cx="8928000" cy="3600720"/>
        </p:xfrm>
        <a:graphic>
          <a:graphicData uri="http://schemas.openxmlformats.org/drawingml/2006/table">
            <a:tbl>
              <a:tblPr/>
              <a:tblGrid>
                <a:gridCol w="1584360"/>
                <a:gridCol w="1800000"/>
                <a:gridCol w="1295640"/>
                <a:gridCol w="2592360"/>
                <a:gridCol w="165564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Первые рабочие организации в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организ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Годы и место существ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Руково-ди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Программа</a:t>
                      </a: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Деятельность</a:t>
                      </a: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Южнорос-сийкий союз рабочих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875 – 1876 гг. Одес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Е.О. За-славский Ок. 60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орьба с существующим политическим строем. Влияние народнической иде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Пропагандист-ская деятель-но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Северный союз русских рабочих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878 – 1880 гг.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В.П. Об-норский С.Н.Хал-тури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Ок. 200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квидация существующего строя. Борьба за политическую свободу. Солидарность рабочих всех стран. Влияние народник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Участие в стачках. Изда-ние проклама-ций и листка «Рабочая зар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564000" y="5084640"/>
          <a:ext cx="1871640" cy="4320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Стачк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24000" y="5805360"/>
          <a:ext cx="3168360" cy="93348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93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2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ренгольмская мануфактура (Нар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076720" y="5805360"/>
          <a:ext cx="3780000" cy="93348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11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5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икольская мануфактура в Орехово - - Зуево (Морозовская стачк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8" name="Line 125"/>
          <p:cNvSpPr/>
          <p:nvPr/>
        </p:nvSpPr>
        <p:spPr>
          <a:xfrm flipH="1">
            <a:off x="1835280" y="5229360"/>
            <a:ext cx="172872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26"/>
          <p:cNvSpPr/>
          <p:nvPr/>
        </p:nvSpPr>
        <p:spPr>
          <a:xfrm>
            <a:off x="5435640" y="5229360"/>
            <a:ext cx="1728720" cy="57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79280" y="333360"/>
          <a:ext cx="8785440" cy="5543640"/>
        </p:xfrm>
        <a:graphic>
          <a:graphicData uri="http://schemas.openxmlformats.org/drawingml/2006/table">
            <a:tbl>
              <a:tblPr/>
              <a:tblGrid>
                <a:gridCol w="1704960"/>
                <a:gridCol w="1679760"/>
                <a:gridCol w="1871640"/>
                <a:gridCol w="3529080"/>
              </a:tblGrid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Марксистские кружки в Рос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Кружок</a:t>
                      </a: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Год,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Руководител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Деятель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Благое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3 – 1885 гг.,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 Благо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учение марксизма пропаганда его среди рабочих, издание газеты «Рабочий». Кружок раскрыт полици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Товарищество санкт –петербургских мастеров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5 – 1888 гг.,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.В. Точис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 среди рабоч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Федосее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8 г.. Каза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.Е. Федосе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 среди рабочих и студентов. Организация студенческих волнений в Казанском университете. В этом кружке к марксизму приобщился 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И. Ульянов (Ленин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Бруснев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9 – 1892 гг., Петербург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.И. Брусне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, создание рабочих кружков. Организация демонстрации и маевки в 1891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4:23:29Z</dcterms:created>
  <dc:creator>1</dc:creator>
  <dc:description/>
  <dc:language>en-US</dc:language>
  <cp:lastModifiedBy>LEGION</cp:lastModifiedBy>
  <dcterms:modified xsi:type="dcterms:W3CDTF">2015-01-15T12:24:01Z</dcterms:modified>
  <cp:revision>21</cp:revision>
  <dc:subject/>
  <dc:title>Слайд 1</dc:title>
</cp:coreProperties>
</file>