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0AE6-0F78-41BF-BBFB-BC30A158E2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Россия в конце 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и начала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 XX </a:t>
            </a: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боту сделал Гумматов 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7FAF-9169-4D4E-ADE3-9C98F4813EA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то был министром финансов в 1887 – 1892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иколай Христианович Бу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ван Алексеевич Вышеград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ергей Юльевич Вит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 Алексей Кудр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ом году образовалась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9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8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87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ая страна не входила в «Тройственный сою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нг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встро – Венг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т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ый ответ: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E54-CF4B-4CDE-9CA8-27547B3B107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Россия во второй половине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XI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Экономическое развитие в 80 – 90 – е 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Рабочее движение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чало распространения маркс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нешняя поли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Россия в начал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D190-296B-4C29-89FF-CF46A56EC57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оссия во второй половине </a:t>
            </a:r>
            <a:r>
              <a:rPr b="0" lang="en-US" sz="1100" spc="-1" strike="noStrike">
                <a:solidFill>
                  <a:srgbClr val="0000ff"/>
                </a:solidFill>
                <a:latin typeface="Calibri"/>
              </a:rPr>
              <a:t>XIX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A769-C5FE-413F-9977-A1B4798EE83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Христианович Бунте (1823 – 1895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финансов в 1881 – 1886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едатель Кабинета министров в 1887 – 1895 гг. Сторонник политики протекционизма; основные меры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ие таможенных пош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держка частных акционерных бан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форм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вание системы налогообложения и введение новых налогов на недвижимость, торговлю, промы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ы, денежные оп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итика в крестьянском вопросе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квидация «временнообязанного состояния» и понижение выкупных платежей (188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Крестьянского банка для льготного кредитования крестьян (1882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мена подушной подати (188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ван Алексеевич Вышеградский (1831 – 189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87 – 1892 гг. Продолжает политику протекционизма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ят новый повышенный таможенный тариф (1891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ены косвенные налоги и расширено налогообложение торговых и промышленных предприят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Уси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роли государства в регулировании хоз. деятельности частного предпринимательство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чин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е частных железных дорог государств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ИЛСЯ УСТОЙЧИВОСТИ ФИНАНСОВ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гей Юльевич Витте (1849 – 1915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есткая налоговая политика, увеличение косвенных налогов, введение гос. винной монополии (1894)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текционизм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званный защитить российскую промышленность от иностранных конкурентов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3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инансовая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а (1897). Введение золотого обеспечения рубля и его свободная конвертац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ирокое при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чение в страну иностран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E36-DD16-4C6D-B189-CF7AE5497F8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5A67-2CF8-4CFA-BB5E-CAEDD63D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85C6-49CD-42A6-834A-DB638B37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9B2C-DF6B-425A-A832-A16B423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A586-F8E9-40A2-B41E-CC6947E5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7EB-5B93-4E01-B285-B5B95765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E8A-CBAD-4CD0-9B69-03EF79A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6901-5FA0-4DD0-8B21-D1AF07E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277-900C-4B02-A679-E8F3337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745F-D6C2-4A04-B28E-691B973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8A2-87A2-409C-8233-F836F83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4205-CDAD-42B6-A25B-44E8B5F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8A83-B839-41F4-ABBA-DD9A6C2C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3DBE-10B2-4AE9-917E-C18F8CD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763-8830-470F-B84E-6FB625F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200F-039A-4FDA-BACC-C312A1F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8A3D-6E3C-4D39-938C-862E9B46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1880-FFFC-4D8B-BDC1-4F299F65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29C5-7147-4EC4-B85B-E064C73C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3D335-906F-4914-A60D-8A09C5D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1A23-A505-4750-9557-D881ED5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7B55-FC00-4D10-A6C1-85A0583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B7C0-02D0-4A44-865F-8A2B0D1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B324-21C5-49B9-B217-4279FDB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BE7A-4E76-4A1D-80AF-745BC76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52E-B63D-473B-B132-CF43BDFA9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789D-12D4-463C-A04D-9AF7FAD379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7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Россия в конце 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XI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 и начала</a:t>
            </a:r>
            <a:r>
              <a:rPr b="1" lang="en-US" sz="4300" spc="-1" strike="noStrike">
                <a:solidFill>
                  <a:srgbClr val="ff9900"/>
                </a:solidFill>
                <a:latin typeface="Garamond"/>
              </a:rPr>
              <a:t> XX </a:t>
            </a:r>
            <a:r>
              <a:rPr b="1" lang="ru-RU" sz="4300" spc="-1" strike="noStrike">
                <a:solidFill>
                  <a:srgbClr val="ff9900"/>
                </a:solidFill>
                <a:latin typeface="Garamond"/>
              </a:rPr>
              <a:t>в.</a:t>
            </a:r>
            <a:r>
              <a:rPr b="1" lang="ru-RU" sz="6000" spc="-1" strike="noStrike">
                <a:solidFill>
                  <a:srgbClr val="ff99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сделал Гумматов 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484360" y="189000"/>
          <a:ext cx="3959280" cy="433440"/>
        </p:xfrm>
        <a:graphic>
          <a:graphicData uri="http://schemas.openxmlformats.org/drawingml/2006/table">
            <a:tbl>
              <a:tblPr/>
              <a:tblGrid>
                <a:gridCol w="39592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5640" y="907920"/>
          <a:ext cx="1584360" cy="1079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лабления российского влияния на Балкан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43280" y="907920"/>
          <a:ext cx="1655640" cy="86544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ссийско -         - германски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19640" y="907920"/>
          <a:ext cx="1297080" cy="86544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лижения России и Фр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164360" y="907920"/>
          <a:ext cx="1440000" cy="64800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зиатск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79280" y="2421000"/>
          <a:ext cx="1368360" cy="2232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отношений с Болгарией и разрыв дипломати-ческих отношений в 1886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908000" y="2421000"/>
          <a:ext cx="1152720" cy="2232000"/>
        </p:xfrm>
        <a:graphic>
          <a:graphicData uri="http://schemas.openxmlformats.org/drawingml/2006/table">
            <a:tbl>
              <a:tblPr/>
              <a:tblGrid>
                <a:gridCol w="115272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я германо-австий-ского влияния в данном регион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64000" y="2133720"/>
          <a:ext cx="1224000" cy="146340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Договор перестра-ховки» России и Германии (188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92360" y="3933720"/>
          <a:ext cx="1727280" cy="123516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2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острение экономических отношений. Таможенная война с 1890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08720" y="2133720"/>
          <a:ext cx="1439640" cy="1508040"/>
        </p:xfrm>
        <a:graphic>
          <a:graphicData uri="http://schemas.openxmlformats.org/drawingml/2006/table">
            <a:tbl>
              <a:tblPr/>
              <a:tblGrid>
                <a:gridCol w="1439640"/>
              </a:tblGrid>
              <a:tr h="173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итическое соглашение 1891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енная конвенция 1892 г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08720" y="3933720"/>
          <a:ext cx="1512720" cy="10065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ормление русско-французского союз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380360" y="1916280"/>
          <a:ext cx="1584360" cy="19206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23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вершение присоединения Средней Азии. Покорение туркменских племен и взятие Ашхабада (1881 – 18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308720" y="4292640"/>
          <a:ext cx="1584360" cy="169236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91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тановления границ России и Афганистана, который яв-ся протектором Англии (1885 -   - 189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5300640"/>
          <a:ext cx="2016000" cy="13683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е «Тройственного союза» - Германия, Австро – Венгрия и Италия – 1882 г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916360" y="5661000"/>
          <a:ext cx="2592360" cy="1006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23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новение в Европе противоборствующих военно – политических блоков в конце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XIX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56360" y="6165720"/>
          <a:ext cx="2736720" cy="5050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о сближения с Англ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9" name="Line 148"/>
          <p:cNvSpPr/>
          <p:nvPr/>
        </p:nvSpPr>
        <p:spPr>
          <a:xfrm flipH="1">
            <a:off x="1618920" y="404640"/>
            <a:ext cx="8650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49"/>
          <p:cNvSpPr/>
          <p:nvPr/>
        </p:nvSpPr>
        <p:spPr>
          <a:xfrm>
            <a:off x="6443640" y="404640"/>
            <a:ext cx="1224000" cy="503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50"/>
          <p:cNvSpPr/>
          <p:nvPr/>
        </p:nvSpPr>
        <p:spPr>
          <a:xfrm>
            <a:off x="3708360" y="62064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51"/>
          <p:cNvSpPr/>
          <p:nvPr/>
        </p:nvSpPr>
        <p:spPr>
          <a:xfrm>
            <a:off x="5940360" y="62064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52"/>
          <p:cNvSpPr/>
          <p:nvPr/>
        </p:nvSpPr>
        <p:spPr>
          <a:xfrm flipH="1">
            <a:off x="899640" y="198900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4"/>
          <p:cNvSpPr/>
          <p:nvPr/>
        </p:nvSpPr>
        <p:spPr>
          <a:xfrm>
            <a:off x="1547640" y="1989000"/>
            <a:ext cx="792360" cy="432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55"/>
          <p:cNvSpPr/>
          <p:nvPr/>
        </p:nvSpPr>
        <p:spPr>
          <a:xfrm>
            <a:off x="4067280" y="17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56"/>
          <p:cNvSpPr/>
          <p:nvPr/>
        </p:nvSpPr>
        <p:spPr>
          <a:xfrm>
            <a:off x="4067280" y="357336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57"/>
          <p:cNvSpPr/>
          <p:nvPr/>
        </p:nvSpPr>
        <p:spPr>
          <a:xfrm>
            <a:off x="6084720" y="177336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58"/>
          <p:cNvSpPr/>
          <p:nvPr/>
        </p:nvSpPr>
        <p:spPr>
          <a:xfrm>
            <a:off x="6012000" y="3645000"/>
            <a:ext cx="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159"/>
          <p:cNvSpPr/>
          <p:nvPr/>
        </p:nvSpPr>
        <p:spPr>
          <a:xfrm>
            <a:off x="8028000" y="155736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160"/>
          <p:cNvSpPr/>
          <p:nvPr/>
        </p:nvSpPr>
        <p:spPr>
          <a:xfrm>
            <a:off x="8101080" y="4076640"/>
            <a:ext cx="0" cy="21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163"/>
          <p:cNvSpPr/>
          <p:nvPr/>
        </p:nvSpPr>
        <p:spPr>
          <a:xfrm>
            <a:off x="5796000" y="4941720"/>
            <a:ext cx="0" cy="151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ine 164"/>
          <p:cNvSpPr/>
          <p:nvPr/>
        </p:nvSpPr>
        <p:spPr>
          <a:xfrm>
            <a:off x="5796000" y="645336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165"/>
          <p:cNvSpPr/>
          <p:nvPr/>
        </p:nvSpPr>
        <p:spPr>
          <a:xfrm flipH="1">
            <a:off x="5508720" y="6453360"/>
            <a:ext cx="2872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166"/>
          <p:cNvSpPr/>
          <p:nvPr/>
        </p:nvSpPr>
        <p:spPr>
          <a:xfrm>
            <a:off x="234000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173"/>
          <p:cNvSpPr/>
          <p:nvPr/>
        </p:nvSpPr>
        <p:spPr>
          <a:xfrm flipH="1">
            <a:off x="694800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74"/>
          <p:cNvSpPr/>
          <p:nvPr/>
        </p:nvSpPr>
        <p:spPr>
          <a:xfrm>
            <a:off x="6948360" y="5589720"/>
            <a:ext cx="0" cy="5760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75"/>
          <p:cNvSpPr/>
          <p:nvPr/>
        </p:nvSpPr>
        <p:spPr>
          <a:xfrm flipH="1">
            <a:off x="1547280" y="292428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1547640" y="42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187280" y="189000"/>
          <a:ext cx="6985080" cy="41112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1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ОССИЯ В НАЧАЛЕ </a:t>
                      </a:r>
                      <a:r>
                        <a:rPr b="1" lang="en-US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21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в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84360" y="692280"/>
          <a:ext cx="4537080" cy="63972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ЭКОНОМИЧЕСКОЕ РАЗВИТИЕ РОССИИ В НАЧАЛЕ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484360" y="1557360"/>
          <a:ext cx="4535640" cy="69516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9280" y="2637000"/>
          <a:ext cx="1800360" cy="16556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адывание системы государственно--монополисти- ческого капитал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11280" y="2637000"/>
          <a:ext cx="1513080" cy="107928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ирокое внедрение иностранного капит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00720" y="263700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огоукладность эконом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500720" y="3213000"/>
          <a:ext cx="2232000" cy="1311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нокапиталис-тический уклад (фабрика и заводы, помещичьи и кулацкие хозяйст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500720" y="4508640"/>
          <a:ext cx="2232000" cy="5792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унатуральный (крестьянский) ук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00720" y="5084640"/>
          <a:ext cx="2232000" cy="106704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котоварный уклад (кустарно – ре-месленное производств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524720" y="263700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сокораз-витая про-шленность и финансовая банковская систе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524720" y="5157720"/>
          <a:ext cx="1440000" cy="15541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203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тавание аграрного сектора, сохранение феодальных пережит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48360" y="3573360"/>
          <a:ext cx="287640" cy="2232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Garamond"/>
                        </a:rPr>
                        <a:t>сочет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1"/>
          <p:cNvSpPr/>
          <p:nvPr/>
        </p:nvSpPr>
        <p:spPr>
          <a:xfrm>
            <a:off x="4140360" y="285264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193"/>
          <p:cNvSpPr/>
          <p:nvPr/>
        </p:nvSpPr>
        <p:spPr>
          <a:xfrm>
            <a:off x="4140360" y="2852640"/>
            <a:ext cx="36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194"/>
          <p:cNvSpPr/>
          <p:nvPr/>
        </p:nvSpPr>
        <p:spPr>
          <a:xfrm>
            <a:off x="414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195"/>
          <p:cNvSpPr/>
          <p:nvPr/>
        </p:nvSpPr>
        <p:spPr>
          <a:xfrm>
            <a:off x="4140360" y="4797360"/>
            <a:ext cx="3603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96"/>
          <p:cNvSpPr/>
          <p:nvPr/>
        </p:nvSpPr>
        <p:spPr>
          <a:xfrm>
            <a:off x="4140360" y="5589720"/>
            <a:ext cx="360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97"/>
          <p:cNvSpPr/>
          <p:nvPr/>
        </p:nvSpPr>
        <p:spPr>
          <a:xfrm>
            <a:off x="4140360" y="386064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4140360" y="4797360"/>
            <a:ext cx="0" cy="792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99"/>
          <p:cNvSpPr/>
          <p:nvPr/>
        </p:nvSpPr>
        <p:spPr>
          <a:xfrm>
            <a:off x="5580000" y="2276640"/>
            <a:ext cx="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200"/>
          <p:cNvSpPr/>
          <p:nvPr/>
        </p:nvSpPr>
        <p:spPr>
          <a:xfrm>
            <a:off x="3203640" y="2276640"/>
            <a:ext cx="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201"/>
          <p:cNvSpPr/>
          <p:nvPr/>
        </p:nvSpPr>
        <p:spPr>
          <a:xfrm flipH="1">
            <a:off x="971640" y="2276640"/>
            <a:ext cx="1800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202"/>
          <p:cNvSpPr/>
          <p:nvPr/>
        </p:nvSpPr>
        <p:spPr>
          <a:xfrm>
            <a:off x="6084720" y="2276640"/>
            <a:ext cx="2159280" cy="36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03"/>
          <p:cNvSpPr/>
          <p:nvPr/>
        </p:nvSpPr>
        <p:spPr>
          <a:xfrm>
            <a:off x="8172360" y="4221000"/>
            <a:ext cx="0" cy="936720"/>
          </a:xfrm>
          <a:prstGeom prst="line">
            <a:avLst/>
          </a:prstGeom>
          <a:ln w="2844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04"/>
          <p:cNvSpPr/>
          <p:nvPr/>
        </p:nvSpPr>
        <p:spPr>
          <a:xfrm>
            <a:off x="7236000" y="4653000"/>
            <a:ext cx="9363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то был министром финансов в 1887 – 1892 г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Николай Христианович Бунг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Иван Алексеевич Вышеградск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Сергей Юльевич Витт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 Алексей Кудри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В каком году образовалась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890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8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8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1879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Какая страна не входила в «Тройственный союз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ерм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нг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Австро – Венгр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Италия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ильный ответ: «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89000"/>
          <a:ext cx="2881080" cy="5173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5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6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900" fill="hold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900" fill="hold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Содержа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. Россия во второй половин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XI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.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2. Экономическое развитие в 80 – 90 – е гг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XIX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 в.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. Рабочее движение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и начало распространения марксизма.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4. Внешняя полити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5. Россия в начале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XX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в.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6. Тес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Россия во второй половине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XIX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68360" y="549360"/>
          <a:ext cx="4272120" cy="365040"/>
        </p:xfrm>
        <a:graphic>
          <a:graphicData uri="http://schemas.openxmlformats.org/drawingml/2006/table">
            <a:tbl>
              <a:tblPr/>
              <a:tblGrid>
                <a:gridCol w="427212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авления Александр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(1881 – 189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1052640"/>
          <a:ext cx="2665440" cy="36504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яя поли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27280" y="1700280"/>
          <a:ext cx="6337440" cy="9367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реформы – принятое  в историческое литературе название мероприятий правительства Александр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 пересмотру итогов реформ 60-х г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1700280"/>
          <a:ext cx="1727280" cy="10810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деологи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.П.Победоносц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А.Толст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П.Мещер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Line 86"/>
          <p:cNvSpPr/>
          <p:nvPr/>
        </p:nvSpPr>
        <p:spPr>
          <a:xfrm>
            <a:off x="18352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55640" y="3357720"/>
          <a:ext cx="8137440" cy="25905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на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земского и городского самоупр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.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силение полицейского режима и ликвидация некотор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ожений судебной реформы 1864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Введение дополнительных ограничений в сфере печат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разо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711360" indent="-7113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Line 166"/>
          <p:cNvSpPr/>
          <p:nvPr/>
        </p:nvSpPr>
        <p:spPr>
          <a:xfrm>
            <a:off x="4859280" y="2637000"/>
            <a:ext cx="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16000" y="189000"/>
          <a:ext cx="7058160" cy="50328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Ограничение земского и городского </a:t>
                      </a: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реждение должностей земских участковых началь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419640" y="1268280"/>
          <a:ext cx="2592360" cy="12970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Положение о губернских и уездных земских учреждениях» (189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1268280"/>
          <a:ext cx="2592360" cy="720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ое «Городовое положения» (18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3213000"/>
          <a:ext cx="2374920" cy="136836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за крестьянским самоуправлением. Решение земельных вопро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08360" y="3213000"/>
          <a:ext cx="2303640" cy="18716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я в земской избирательной системе. Увеличение числа депутатов от дворян и их сокращение от друг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59640" y="3213000"/>
          <a:ext cx="2232000" cy="2664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6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в городской избирательной системе. Отстранение от выборов мелких собственников ввиду повышения имущественного ценза, необходимого для участия в выборном проце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Line 77"/>
          <p:cNvSpPr/>
          <p:nvPr/>
        </p:nvSpPr>
        <p:spPr>
          <a:xfrm flipH="1">
            <a:off x="3132000" y="692280"/>
            <a:ext cx="165744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1"/>
          <p:cNvSpPr/>
          <p:nvPr/>
        </p:nvSpPr>
        <p:spPr>
          <a:xfrm>
            <a:off x="4643280" y="692280"/>
            <a:ext cx="17290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82"/>
          <p:cNvSpPr/>
          <p:nvPr/>
        </p:nvSpPr>
        <p:spPr>
          <a:xfrm>
            <a:off x="4716360" y="692280"/>
            <a:ext cx="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83"/>
          <p:cNvSpPr/>
          <p:nvPr/>
        </p:nvSpPr>
        <p:spPr>
          <a:xfrm>
            <a:off x="1835280" y="2565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4"/>
          <p:cNvSpPr/>
          <p:nvPr/>
        </p:nvSpPr>
        <p:spPr>
          <a:xfrm>
            <a:off x="4788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89"/>
          <p:cNvSpPr/>
          <p:nvPr/>
        </p:nvSpPr>
        <p:spPr>
          <a:xfrm>
            <a:off x="7740720" y="1989000"/>
            <a:ext cx="0" cy="1224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87280" y="260280"/>
          <a:ext cx="6624720" cy="7016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Усилении полицейского режима и ликвидация некоторых положений судебной реформы 1864 г.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4000" y="1700280"/>
          <a:ext cx="3168360" cy="173664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оложение о мерах к охранению гос. Порядка и общественного спокойствия» (1884) – чрезвычайный закон для борьбы  с революционным движ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219640" y="1700280"/>
          <a:ext cx="3313080" cy="1584360"/>
        </p:xfrm>
        <a:graphic>
          <a:graphicData uri="http://schemas.openxmlformats.org/drawingml/2006/table">
            <a:tbl>
              <a:tblPr/>
              <a:tblGrid>
                <a:gridCol w="33130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а открытость судопроизводства по полит. делам (1887). Ликвидированы мировые суды (18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4360" y="4365720"/>
          <a:ext cx="2303280" cy="863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ы охранные отделения. Вводится политических сы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Line 54"/>
          <p:cNvSpPr/>
          <p:nvPr/>
        </p:nvSpPr>
        <p:spPr>
          <a:xfrm flipH="1">
            <a:off x="1834920" y="981000"/>
            <a:ext cx="25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5"/>
          <p:cNvSpPr/>
          <p:nvPr/>
        </p:nvSpPr>
        <p:spPr>
          <a:xfrm>
            <a:off x="4427640" y="981000"/>
            <a:ext cx="2520720" cy="71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58"/>
          <p:cNvSpPr/>
          <p:nvPr/>
        </p:nvSpPr>
        <p:spPr>
          <a:xfrm>
            <a:off x="1908000" y="371628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050920" y="260280"/>
          <a:ext cx="5400720" cy="7016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Введение дополнительных ограничений в сфере печати и обра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5280" y="1844640"/>
          <a:ext cx="2448000" cy="14637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е «Временные правила о печати» (1882) – любой печатный орган можно закры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492360" y="2060640"/>
          <a:ext cx="2448000" cy="718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вый университет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ий устав (1884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844640"/>
          <a:ext cx="2449440" cy="12240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иркуляр Мин. Просвещения «О кухаркиных детях» (188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92360" y="3573360"/>
          <a:ext cx="2448000" cy="432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автоно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32720" y="3645000"/>
          <a:ext cx="1942920" cy="115236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ение для поступления в гимназии детей низших сосло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" name="Line 69"/>
          <p:cNvSpPr/>
          <p:nvPr/>
        </p:nvSpPr>
        <p:spPr>
          <a:xfrm flipH="1">
            <a:off x="1618920" y="981000"/>
            <a:ext cx="309708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1"/>
          <p:cNvSpPr/>
          <p:nvPr/>
        </p:nvSpPr>
        <p:spPr>
          <a:xfrm>
            <a:off x="4716360" y="98100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73"/>
          <p:cNvSpPr/>
          <p:nvPr/>
        </p:nvSpPr>
        <p:spPr>
          <a:xfrm>
            <a:off x="4716360" y="981000"/>
            <a:ext cx="2951280" cy="863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74"/>
          <p:cNvSpPr/>
          <p:nvPr/>
        </p:nvSpPr>
        <p:spPr>
          <a:xfrm>
            <a:off x="4716360" y="2781360"/>
            <a:ext cx="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75"/>
          <p:cNvSpPr/>
          <p:nvPr/>
        </p:nvSpPr>
        <p:spPr>
          <a:xfrm>
            <a:off x="7740720" y="3068640"/>
            <a:ext cx="0" cy="576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89000"/>
          <a:ext cx="7704000" cy="431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ЭКОНОМИЧЕСКОЕ РАЗВИТИЕ В 80 – 90 – е гг.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XIX</a:t>
                      </a: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124000" y="836640"/>
          <a:ext cx="5041800" cy="3650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с на модернизацию промышл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008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95640" y="1341360"/>
          <a:ext cx="4968720" cy="36504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Реформатор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1700280"/>
          <a:ext cx="8785440" cy="50083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23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Николай Христианович Бунте (1823 – 1895)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1 – 1886 г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едатель Кабинета министров в 1887 – 1895 гг. Сторонник политики протекционизма; основные меры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ие таможенных пошли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держка частных акционерных банков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еформ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рование системы налогообложения и введение новых налогов на недвижимость, торговлю, промы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ы, денежные операции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олитика в крестьянском вопросе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иквидация «временнообязанного состояния» и понижение выкупных платежей (188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оздание Крестьянского банка для льготного кредитования крестьян (1882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Отмена подушной подати (1885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90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Иван Алексеевич Вышеградский (1831 – 189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87 – 1892 гг. Продолжает политику протекционизма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нят новый повышенный таможенный тариф (1891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вышены косвенные налоги и расширено налогообложение торговых и промышленных предприятий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Усил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роли государства в регулировании хоз. деятельности частного предпринимательство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одчин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ие частных железных дорог государству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r>
                        <a:rPr b="1" lang="ru-RU" sz="1400" spc="-1" strike="noStrike" u="sng">
                          <a:solidFill>
                            <a:srgbClr val="ff9900"/>
                          </a:solidFill>
                          <a:uFillTx/>
                          <a:latin typeface="Garamond"/>
                        </a:rPr>
                        <a:t>ДОБИЛСЯ УСТОЙЧИВОСТИ ФИНАНСОВОЙ СИСТЕМЫ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26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ергей Юльевич Витте (1849 – 1915)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инистр финансов в 1892 – 1903 гг. Председатель Комитета министров с1903 г., председатель Совета министров в 1905 – 1906 гг. Сторонник ускоренного промышленного развития. Основные направления экономической политики: 1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Жесткая налоговая политика, увеличение косвенных налогов, введение гос. винной монополии (1894)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2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текционизм,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изванный защитить российскую промышленность от иностранных конкурентов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3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инансовая р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Форма (1897). Введение золотого обеспечения рубля и его свободная конвертация;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4) </a:t>
                      </a: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Широкое прив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лечение в страну иностранного капитал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0" name="Line 108"/>
          <p:cNvSpPr/>
          <p:nvPr/>
        </p:nvSpPr>
        <p:spPr>
          <a:xfrm>
            <a:off x="1258920" y="620640"/>
            <a:ext cx="865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09"/>
          <p:cNvSpPr/>
          <p:nvPr/>
        </p:nvSpPr>
        <p:spPr>
          <a:xfrm flipH="1">
            <a:off x="7164360" y="620640"/>
            <a:ext cx="93672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195640" y="189000"/>
          <a:ext cx="4680000" cy="72072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РАБОЧЕЕ ДВИЖЕНИЕ И НАЧАЛО РАСПРОСТРАНЕНИЯ МАРКС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6000" y="1125360"/>
          <a:ext cx="8928000" cy="360072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295640"/>
                <a:gridCol w="2592360"/>
                <a:gridCol w="165564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Первые рабочие организации в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Годы и место существ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Руково-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Программа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Деятельность</a:t>
                      </a: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Южнорос-сийкий союз рабочи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5 – 1876 гг. Оде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Е.О. За-славский Ок. 6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рьба с существующим политическим строем. Влияние народнической иде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Пропагандист-ская деятель-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Северный союз русских рабочих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1878 – 1880 гг.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В.П. Об-норский С.Н.Хал-тур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66"/>
                          </a:solidFill>
                          <a:latin typeface="Garamond"/>
                        </a:rPr>
                        <a:t>Ок. 200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квидация существующего строя. Борьба за политическую свободу. Солидарность рабочих всех стран. Влияние народник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Участие в стачках. Изда-ние проклама-ций и листка «Рабочая зар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64000" y="5084640"/>
          <a:ext cx="1871640" cy="432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Стач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4000" y="5805360"/>
          <a:ext cx="3168360" cy="93348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93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енгольмская мануфактура (Нар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076720" y="5805360"/>
          <a:ext cx="3780000" cy="93348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11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кольская мануфактура в Орехово - - Зуево (Морозовская стач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Line 125"/>
          <p:cNvSpPr/>
          <p:nvPr/>
        </p:nvSpPr>
        <p:spPr>
          <a:xfrm flipH="1">
            <a:off x="1835280" y="5229360"/>
            <a:ext cx="172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26"/>
          <p:cNvSpPr/>
          <p:nvPr/>
        </p:nvSpPr>
        <p:spPr>
          <a:xfrm>
            <a:off x="5435640" y="5229360"/>
            <a:ext cx="1728720" cy="57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79280" y="333360"/>
          <a:ext cx="8785440" cy="5543640"/>
        </p:xfrm>
        <a:graphic>
          <a:graphicData uri="http://schemas.openxmlformats.org/drawingml/2006/table">
            <a:tbl>
              <a:tblPr/>
              <a:tblGrid>
                <a:gridCol w="1704960"/>
                <a:gridCol w="1679760"/>
                <a:gridCol w="1871640"/>
                <a:gridCol w="3529080"/>
              </a:tblGrid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Марксистские кружки в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Кружок</a:t>
                      </a: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Год,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Руководите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лаго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3 – 1885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. Благ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учение марксизма пропаганда его среди рабочих, издание газеты «Рабочий». Кружок раскрыт полиц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«Товарищество санкт –петербургских мастер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5 – 1888 гг., Петербур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.В. Точи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Федосее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8 г.. Каз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.Е. Федосе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 среди рабочих и студентов. Организация студенческих волнений в Казанском университете. В этом кружке к марксизму приобщился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И. Ульянов (Лен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Кружок Брусне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– 1892 гг., Петербур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И. Брусне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паганда марксизма, создание рабочих кружков. Организация демонстрации и маевки в 189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23:29Z</dcterms:created>
  <dc:creator>1</dc:creator>
  <dc:description/>
  <dc:language>en-US</dc:language>
  <cp:lastModifiedBy>LEGION</cp:lastModifiedBy>
  <dcterms:modified xsi:type="dcterms:W3CDTF">2015-01-15T12:24:01Z</dcterms:modified>
  <cp:revision>21</cp:revision>
  <dc:subject/>
  <dc:title>Слайд 1</dc:title>
</cp:coreProperties>
</file>