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6.wmf" ContentType="image/x-wmf"/>
  <Override PartName="/ppt/media/image9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469D-6622-43B2-A9B8-A43BF4BF40E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Разви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капитал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в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5D3C-5B96-466B-B2C0-994C6525AF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A507-F298-470B-9974-A8548590991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0FF-7A39-4DE3-96F3-0E8388863A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2DE5-3EDF-4EC7-BAA9-0FFA381FFDE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FB7-6F95-43AD-8E08-16BBE5D6F8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.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F772-C40E-44C8-9389-C7A73CDE1B7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094-9BCD-4123-9CAE-72F035D1A8F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2BF6-38D2-42EE-8327-6B0835A0AB6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7F1B-A215-4FFC-BC36-5927A015DE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9C11-C06C-487C-9105-5EA4A19216B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D78-7A10-45CE-A4FA-6C4CB6158C2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7D7-20BD-4E50-89FF-E3788C694F4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8AE-F654-4B21-9543-32C039CDF53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952-0256-4CA4-B054-00BC0B73459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B4B8-782E-4E82-BFCF-2FB695CE911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0AD-D9E0-4286-AA50-FA705114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75E-A255-4D2F-BC08-1981C860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B2B-77AC-414E-A806-249E6466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D62-A986-4A37-8FB9-35EC91D9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D96-276C-4D77-B2D3-FF7BECA0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DC6-B8F5-4914-B756-792D33F8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00A-1407-436C-9843-8EA64C3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B45-DB3C-41A4-BCFA-C9B64AB9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42E-D92B-427F-8E6B-86A1EFA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0A7-48CC-4F55-8D06-F456F32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16E-205D-49B9-B943-9281DAF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C0C-DA2B-4B4B-8C99-CE330EC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D75E-9561-4E6A-9468-146C969BF4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321048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оле 4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клас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бъект 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Объект 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I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Объект WordArt 8"/>
          <p:cNvSpPr txBox="1"/>
          <p:nvPr/>
        </p:nvSpPr>
        <p:spPr>
          <a:xfrm>
            <a:off x="2895480" y="1676520"/>
            <a:ext cx="592164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апитализма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257440" y="609120"/>
            <a:ext cx="380988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е банков оказа-лось тесно связано со строительством желе-зных дорог.Это объяс-няло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оражением в Крымс-кой войн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Желанием увеличить экспорт хлеба за счет  соединения центра с провинцией транспор-тной се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ла создана программа привлечения частного и иностранного капи-т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оле 5"/>
          <p:cNvSpPr/>
          <p:nvPr/>
        </p:nvSpPr>
        <p:spPr>
          <a:xfrm>
            <a:off x="1631880" y="5486400"/>
            <a:ext cx="31341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гоностроите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7" descr="Рисунок5"/>
          <p:cNvPicPr/>
          <p:nvPr/>
        </p:nvPicPr>
        <p:blipFill>
          <a:blip r:embed="rId2"/>
          <a:stretch/>
        </p:blipFill>
        <p:spPr>
          <a:xfrm>
            <a:off x="1547640" y="907920"/>
            <a:ext cx="3314880" cy="4405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3657240"/>
            <a:ext cx="7772400" cy="304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68-72 гг. в стране проходило бурное железнодоро-жное строительство.Транспортная сеть выросла с 2 тыс. до 22 тыс. км дорог.Появились предприни-матели разбогатевшие на таком строительстве.Им разрешали на льготных условиях приобрести под-вижной состав,рельсы и др. материалы.Большин-ство дорог строились в интересах промышленнос-ти и торгов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оле 5"/>
          <p:cNvSpPr/>
          <p:nvPr/>
        </p:nvSpPr>
        <p:spPr>
          <a:xfrm>
            <a:off x="1401480" y="1555920"/>
            <a:ext cx="226548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6" descr="Рисунок4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997440" y="828720"/>
            <a:ext cx="4895640" cy="2746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3809880"/>
            <a:ext cx="769608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сква была с вязана с Нижним Новгородом, Воро-нежем,Уралом.Между собой были соединены круп нейшие текстильные центры.Грузооборот желез-ных дорог вырос за 15 лет в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1 г. началось строительство Транссиба.Разви-тие транспорта привело к развитию сопутствую-щих отраслей промышл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оле 5"/>
          <p:cNvSpPr/>
          <p:nvPr/>
        </p:nvSpPr>
        <p:spPr>
          <a:xfrm>
            <a:off x="1400760" y="1447920"/>
            <a:ext cx="2408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сибирск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лезно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ро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Рисунок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140360" y="846000"/>
            <a:ext cx="4679640" cy="28879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6"/>
          <p:cNvGraphicFramePr/>
          <p:nvPr/>
        </p:nvGraphicFramePr>
        <p:xfrm>
          <a:off x="2590920" y="685800"/>
          <a:ext cx="487656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85800"/>
                    <a:ext cx="4876560" cy="3295800"/>
                  </a:xfrm>
                  <a:prstGeom prst="rect">
                    <a:avLst/>
                  </a:prstGeom>
                  <a:ln w="7632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8195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. 1860-х гг. начался промышленный подъем.В сер. 80-х гг. завершился промышленный перевор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лавной базой металлургии оставался Урал,но быст-ро развивался Донбасс.Здесь же добывали уголь.В Баку сосредоточилась добыча нефти.Начало разви-ваться машиностроение-Путиловский з-д в Петер-бурге и в Коломне производство паровоз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120" y="685440"/>
            <a:ext cx="3886200" cy="6095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ыстрыми темпами раз-вивалась текстильная промышленность.Владельцы мануфактур по-купали земли в Ср. Азии и начали выращи вать там хлопок.За 30 лет производство текс-тиля выросло в 3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Юге успехов достигла свеклосахарная про-мышленность(рост в 6 ва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сло рабочих выросло за 15 лет в 1,5 раза и составила 1 мл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оле 4"/>
          <p:cNvSpPr/>
          <p:nvPr/>
        </p:nvSpPr>
        <p:spPr>
          <a:xfrm>
            <a:off x="1647720" y="5867280"/>
            <a:ext cx="3079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цехе завода Г.Пе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етербург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Рисунок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511280" y="846000"/>
            <a:ext cx="3348000" cy="4815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оле 5"/>
          <p:cNvSpPr/>
          <p:nvPr/>
        </p:nvSpPr>
        <p:spPr>
          <a:xfrm>
            <a:off x="1831320" y="1692360"/>
            <a:ext cx="14821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чего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3580920"/>
            <a:ext cx="7772400" cy="3124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полнение шло за счет крестьян-отходников,посте-пенно отрывавшихся от земли.Уже в 1872 г. на Кре нмгольской мануфактуре прошла 1-я в истории России стач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80-х гг. темпы развития резко замедлились из-за Русско-Турецкой войны,нерациональным налого-обложением и низкой покупательной способностью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8" descr="Рисунок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067280" y="839880"/>
            <a:ext cx="4681440" cy="2660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62012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-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Железнодорожное строитель-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Промышленный подъ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4" descr="ag00029_"/>
          <p:cNvPicPr/>
          <p:nvPr/>
        </p:nvPicPr>
        <p:blipFill>
          <a:blip r:embed="rId2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Что способствовало и что тормозило развитие капиталистических отношений в промышленности, сельском хозяйстве и финансах России в пореформенный период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ag00317_"/>
          <p:cNvPicPr/>
          <p:nvPr/>
        </p:nvPicPr>
        <p:blipFill>
          <a:blip r:embed="rId2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маковский отдых во время сбора урожая"/>
          <p:cNvPicPr/>
          <p:nvPr/>
        </p:nvPicPr>
        <p:blipFill>
          <a:blip r:embed="rId1"/>
          <a:stretch/>
        </p:blipFill>
        <p:spPr>
          <a:xfrm>
            <a:off x="3995640" y="260280"/>
            <a:ext cx="4845240" cy="33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рвые годы после реформы в сельском хозяйстве начался спад вызванный его перестройкой.Поме-щики оказались в сложных условиях-у них не бы-ло свободного капитала и инвентар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(почему?)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-новная часть помещиков выкупные платежи быс-тро промотала,а власти при выдаче денег удержи-вали с них долги.Поэтому помещики сдавали зем-лю в аренду, а за это крестьяне отрабатывали и их над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1535400" y="1152360"/>
            <a:ext cx="21297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ых 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сбо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жа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Рисунок10"/>
          <p:cNvPicPr/>
          <p:nvPr/>
        </p:nvPicPr>
        <p:blipFill>
          <a:blip r:embed="rId1"/>
          <a:stretch/>
        </p:blipFill>
        <p:spPr>
          <a:xfrm>
            <a:off x="4643280" y="522360"/>
            <a:ext cx="4249800" cy="26082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95280" y="3200040"/>
            <a:ext cx="7772400" cy="350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ногие помещики использовали труд временнообя-занных крестьян.Даже высокие мировые цены на хлеб и строительство дорог в хлебные районы не заставило их вести хозяйство по-капиталистичес-ки.Крестьяне-арендаторы тоже не воспользова-лись эти фактором,т.к. аренда росла еще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естьяне и помещики не были уравнены в гражд-анских правах,т.к.1-е были причислены к подат-ным сослов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Развитие сельского хозяй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оле 5"/>
          <p:cNvSpPr/>
          <p:nvPr/>
        </p:nvSpPr>
        <p:spPr>
          <a:xfrm>
            <a:off x="1481400" y="1387440"/>
            <a:ext cx="28202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естьянский д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фото к. 19 века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Рисунок9"/>
          <p:cNvPicPr/>
          <p:nvPr/>
        </p:nvPicPr>
        <p:blipFill>
          <a:blip r:embed="rId1"/>
          <a:stretch/>
        </p:blipFill>
        <p:spPr>
          <a:xfrm>
            <a:off x="4427640" y="598320"/>
            <a:ext cx="4248000" cy="2686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95280" y="3276360"/>
            <a:ext cx="777240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результате крестьянской реформы ожидаемого рос-та промышленности не последовало.Предпринима-тели получили возможность использовать вольно-наемный труд, но посессионные крестьяне испы-тывая ненависть к подневольному труду бросали заводы и уходили в деревню.В результате сократи-лось производство в металлургии и суконной про-мышленности.Лишь через 10 лет они смогли прео-долеть кризи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оле 5"/>
          <p:cNvSpPr/>
          <p:nvPr/>
        </p:nvSpPr>
        <p:spPr>
          <a:xfrm>
            <a:off x="1798200" y="1301760"/>
            <a:ext cx="2012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вод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атье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ы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76560" y="761760"/>
            <a:ext cx="4190760" cy="6019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хлопчатобумажной про-мышленности кризис объ яснялся ростом мировых цен на хлопок.Но после присоединения к России Средней Азии это пробле-ма была разреше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смотря на трудности рос-сийская экономика суме-ла перестроиться доволь-но быстро во многом бла- годаря целенаправлен-ной экономической поли-тике государства.В стра-не появился слой круп-ных фабрик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Развитие промышл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оле 1029"/>
          <p:cNvSpPr/>
          <p:nvPr/>
        </p:nvSpPr>
        <p:spPr>
          <a:xfrm>
            <a:off x="2092320" y="5877000"/>
            <a:ext cx="1820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брикан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о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031" descr="Рисунок8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63560" y="907920"/>
            <a:ext cx="2692440" cy="4759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ие реформы начались с реорганизации банковской системы.В 1860 г. был открыт Госуда-рственный банк, для кредитования важнейших от-раслей промышленности и поддерживать частные коммерческие ба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60-70-е гг.частные банки возникли в Москве и Пе-тербур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оле 7"/>
          <p:cNvSpPr/>
          <p:nvPr/>
        </p:nvSpPr>
        <p:spPr>
          <a:xfrm>
            <a:off x="1486080" y="1631880"/>
            <a:ext cx="2129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.Маковск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9" descr="Рисунок7"/>
          <p:cNvPicPr/>
          <p:nvPr/>
        </p:nvPicPr>
        <p:blipFill>
          <a:blip r:embed="rId2"/>
          <a:stretch/>
        </p:blipFill>
        <p:spPr>
          <a:xfrm>
            <a:off x="3995640" y="838080"/>
            <a:ext cx="4897440" cy="2889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95280" y="3809880"/>
            <a:ext cx="7772400" cy="2895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и оказали огромное влияние на развитие экономи-ки в тот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 истоков банковского дела стоял В.Кокорев, сколо-тивший капитал на винных откупах.В к. 60-х гг. он открыл Московский купеческий банк, а в 1870 г. - Волжско-Камский банк для финансирования про-мышленных предприятий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. 4"/>
          <p:cNvSpPr/>
          <p:nvPr/>
        </p:nvSpPr>
        <p:spPr>
          <a:xfrm>
            <a:off x="137160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Финансы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оле 5"/>
          <p:cNvSpPr/>
          <p:nvPr/>
        </p:nvSpPr>
        <p:spPr>
          <a:xfrm>
            <a:off x="1717920" y="1844640"/>
            <a:ext cx="21726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нкнот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а 19 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8" descr="Рисунок6"/>
          <p:cNvPicPr/>
          <p:nvPr/>
        </p:nvPicPr>
        <p:blipFill>
          <a:blip r:embed="rId2"/>
          <a:stretch/>
        </p:blipFill>
        <p:spPr>
          <a:xfrm>
            <a:off x="4498920" y="808200"/>
            <a:ext cx="4321080" cy="2962080"/>
          </a:xfrm>
          <a:prstGeom prst="rect">
            <a:avLst/>
          </a:prstGeom>
          <a:ln w="57240">
            <a:solidFill>
              <a:srgbClr val="ccccff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LEGION</cp:lastModifiedBy>
  <dcterms:modified xsi:type="dcterms:W3CDTF">2015-01-15T12:24:56Z</dcterms:modified>
  <cp:revision>51</cp:revision>
  <dc:subject/>
  <dc:title>Презентация PowerPoint</dc:title>
</cp:coreProperties>
</file>