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6.wmf" ContentType="image/x-wmf"/>
  <Override PartName="/ppt/media/image9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DB0E-3E9F-40D3-A0F2-6ECE3DBB0F0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капитал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в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7A31-19B1-4760-A256-576BB497C2A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53B1-B654-4F2F-8C99-57B6BFE7A6F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8AC0-1560-422A-90B0-CE3301471A9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2E86-3F62-4538-AAC5-977DF68EC50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1F4F-9B46-4682-8BB2-35467573DF9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.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D939-7F05-4C83-852A-81EEA65FE5D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7F7A-0888-4D00-91C2-4811AC756C6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49B4-F567-47E7-AA00-395C8281FCF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CBDF-1423-4271-9222-A3E593BA7D6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8267-5BC3-4E8B-8A47-6D4CEAA47EE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0713-7F36-4990-9172-096B3BFA08F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BBE7-0813-477A-9D53-F746DE0AC94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2BA2-9106-497D-B98E-3268C3B40AA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BCA9-A00A-4F9A-9B68-76B1411277A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D5CC-C8EA-4083-9679-F03FFAD0B82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232-6FB7-496A-B458-84501F7C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FBE-0F89-4C26-9CF9-13D5BDB1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FD4-ECC5-4A5A-BDBD-9E208CF3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5AD-48C1-440B-A27B-6F0A2781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FFE-6EAF-419D-8FA1-6E975ECF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241-B0CE-40D1-AAAA-4F015B53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591-1CB9-4003-8C7E-D9788AFF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2C4-3C54-43A0-973E-3650E284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06D-D917-4F45-9ACE-D35B1589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014-46BE-408B-83FF-6EB8E1B8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6FF-79B9-470A-B262-58FEADDC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CA7-1977-48E5-ABA3-2ABA2BD1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B998-3B2F-4D95-8F51-B62DE19045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оле 4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клас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бъект 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Объект 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I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Объект WordArt 8"/>
          <p:cNvSpPr txBox="1"/>
          <p:nvPr/>
        </p:nvSpPr>
        <p:spPr>
          <a:xfrm>
            <a:off x="2895480" y="1676520"/>
            <a:ext cx="592164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апитализма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Росси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257440" y="609120"/>
            <a:ext cx="380988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оле 5"/>
          <p:cNvSpPr/>
          <p:nvPr/>
        </p:nvSpPr>
        <p:spPr>
          <a:xfrm>
            <a:off x="1631880" y="5486400"/>
            <a:ext cx="31341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гоностроите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7" descr="Рисунок5"/>
          <p:cNvPicPr/>
          <p:nvPr/>
        </p:nvPicPr>
        <p:blipFill>
          <a:blip r:embed="rId2"/>
          <a:stretch/>
        </p:blipFill>
        <p:spPr>
          <a:xfrm>
            <a:off x="1547640" y="907920"/>
            <a:ext cx="3314880" cy="4405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5280" y="365724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оле 5"/>
          <p:cNvSpPr/>
          <p:nvPr/>
        </p:nvSpPr>
        <p:spPr>
          <a:xfrm>
            <a:off x="1401480" y="1555920"/>
            <a:ext cx="22654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6" descr="Рисунок4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997440" y="828720"/>
            <a:ext cx="4895640" cy="2746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3809880"/>
            <a:ext cx="769608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оле 5"/>
          <p:cNvSpPr/>
          <p:nvPr/>
        </p:nvSpPr>
        <p:spPr>
          <a:xfrm>
            <a:off x="1400760" y="1447920"/>
            <a:ext cx="2408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сибирск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7" descr="Рисунок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140360" y="846000"/>
            <a:ext cx="4679640" cy="2887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Объект 6"/>
          <p:cNvGraphicFramePr/>
          <p:nvPr/>
        </p:nvGraphicFramePr>
        <p:xfrm>
          <a:off x="2590920" y="685800"/>
          <a:ext cx="4876560" cy="32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85800"/>
                    <a:ext cx="4876560" cy="3295800"/>
                  </a:xfrm>
                  <a:prstGeom prst="rect">
                    <a:avLst/>
                  </a:prstGeom>
                  <a:ln w="7632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819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81120" y="685440"/>
            <a:ext cx="3886200" cy="6095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оле 4"/>
          <p:cNvSpPr/>
          <p:nvPr/>
        </p:nvSpPr>
        <p:spPr>
          <a:xfrm>
            <a:off x="1647720" y="5867280"/>
            <a:ext cx="3079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цехе завода Г.Пе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етербур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Рисунок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511280" y="846000"/>
            <a:ext cx="3348000" cy="4815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оле 5"/>
          <p:cNvSpPr/>
          <p:nvPr/>
        </p:nvSpPr>
        <p:spPr>
          <a:xfrm>
            <a:off x="1831320" y="1692360"/>
            <a:ext cx="14821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чег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7772400" cy="31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8" descr="Рисунок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067280" y="839880"/>
            <a:ext cx="4681440" cy="2660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620120" cy="518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4" descr="ag00029_"/>
          <p:cNvPicPr/>
          <p:nvPr/>
        </p:nvPicPr>
        <p:blipFill>
          <a:blip r:embed="rId2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ag00317_"/>
          <p:cNvPicPr/>
          <p:nvPr/>
        </p:nvPicPr>
        <p:blipFill>
          <a:blip r:embed="rId2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маковский отдых во время сбора урожая"/>
          <p:cNvPicPr/>
          <p:nvPr/>
        </p:nvPicPr>
        <p:blipFill>
          <a:blip r:embed="rId1"/>
          <a:stretch/>
        </p:blipFill>
        <p:spPr>
          <a:xfrm>
            <a:off x="3995640" y="260280"/>
            <a:ext cx="4845240" cy="3390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оле 5"/>
          <p:cNvSpPr/>
          <p:nvPr/>
        </p:nvSpPr>
        <p:spPr>
          <a:xfrm>
            <a:off x="1535400" y="1152360"/>
            <a:ext cx="2129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ых 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сбо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жа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Рисунок10"/>
          <p:cNvPicPr/>
          <p:nvPr/>
        </p:nvPicPr>
        <p:blipFill>
          <a:blip r:embed="rId1"/>
          <a:stretch/>
        </p:blipFill>
        <p:spPr>
          <a:xfrm>
            <a:off x="4643280" y="522360"/>
            <a:ext cx="4249800" cy="26082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772400" cy="3505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оле 5"/>
          <p:cNvSpPr/>
          <p:nvPr/>
        </p:nvSpPr>
        <p:spPr>
          <a:xfrm>
            <a:off x="1481400" y="1387440"/>
            <a:ext cx="28202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естьянский д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фото к. 19 века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Рисунок9"/>
          <p:cNvPicPr/>
          <p:nvPr/>
        </p:nvPicPr>
        <p:blipFill>
          <a:blip r:embed="rId1"/>
          <a:stretch/>
        </p:blipFill>
        <p:spPr>
          <a:xfrm>
            <a:off x="4427640" y="598320"/>
            <a:ext cx="4248000" cy="2686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оле 5"/>
          <p:cNvSpPr/>
          <p:nvPr/>
        </p:nvSpPr>
        <p:spPr>
          <a:xfrm>
            <a:off x="1798200" y="1301760"/>
            <a:ext cx="2012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атье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76560" y="761760"/>
            <a:ext cx="4190760" cy="601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оле 1029"/>
          <p:cNvSpPr/>
          <p:nvPr/>
        </p:nvSpPr>
        <p:spPr>
          <a:xfrm>
            <a:off x="2092320" y="5877000"/>
            <a:ext cx="1820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брикан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о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031" descr="Рисунок8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63560" y="907920"/>
            <a:ext cx="2692440" cy="4759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е 7"/>
          <p:cNvSpPr/>
          <p:nvPr/>
        </p:nvSpPr>
        <p:spPr>
          <a:xfrm>
            <a:off x="1486080" y="1631880"/>
            <a:ext cx="21297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9" descr="Рисунок7"/>
          <p:cNvPicPr/>
          <p:nvPr/>
        </p:nvPicPr>
        <p:blipFill>
          <a:blip r:embed="rId2"/>
          <a:stretch/>
        </p:blipFill>
        <p:spPr>
          <a:xfrm>
            <a:off x="3995640" y="838080"/>
            <a:ext cx="4897440" cy="2889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оле 5"/>
          <p:cNvSpPr/>
          <p:nvPr/>
        </p:nvSpPr>
        <p:spPr>
          <a:xfrm>
            <a:off x="1717920" y="1844640"/>
            <a:ext cx="21726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нот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а 19 ве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8" descr="Рисунок6"/>
          <p:cNvPicPr/>
          <p:nvPr/>
        </p:nvPicPr>
        <p:blipFill>
          <a:blip r:embed="rId2"/>
          <a:stretch/>
        </p:blipFill>
        <p:spPr>
          <a:xfrm>
            <a:off x="4498920" y="808200"/>
            <a:ext cx="4321080" cy="296208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LEGION</cp:lastModifiedBy>
  <dcterms:modified xsi:type="dcterms:W3CDTF">2015-01-15T12:24:56Z</dcterms:modified>
  <cp:revision>51</cp:revision>
  <dc:subject/>
  <dc:title>Презентация PowerPoint</dc:title>
</cp:coreProperties>
</file>