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0BFEE-FA13-45D3-88C9-1D2FCD7B11A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АВИЛОНСКИЙ ЦАРЬ ХАММУРАПИ И ЕГО 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C42F5-6AB9-4EAB-A7AF-9F82BB2C04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Хаммурапи получил власть</a:t>
            </a:r>
            <a:br>
              <a:rPr sz="2000"/>
            </a:b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т бог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663300"/>
                </a:solidFill>
                <a:uFillTx/>
                <a:latin typeface="Calibri"/>
              </a:rPr>
              <a:t>Заслуги Хаммурап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величил территорию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Установил единые законы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F151F-EB4F-49FD-B10B-BD4E21092F0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ЗАКОНЫ –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авила, обязательные для всех жителе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6909-3803-4A03-A19B-9051EC4164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на стр 68 текст законов, и предположите, какому наказанию подвергся бедня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C2BC-BE37-4F58-87DD-65B6DF161D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Calibri"/>
              </a:rPr>
              <a:t>КОГО ЗАЩИЩАЛИ ЗАКОНЫ ХАММУРАПИ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е наказание ждёт купца, согласно закону, если его поймаю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за кражу  осла и раба наказывают одинак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C734-76BF-4C25-8C7D-A8135FE889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</a:t>
            </a:r>
            <a:br>
              <a:rPr sz="1800"/>
            </a:b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О СВОБОДНЫХ И РАБ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тр 69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Чем раб отличался от свободн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EB9A-23F3-4089-8877-54EC46F5A56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каза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штра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мертная каз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инцип талио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(око за око, зуб – за з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80C3-FCD0-4AC8-B9C6-9525602D41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ЗАКОНЫ О БОГАЧАХ И БЕДНЯ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рочитайте текст п.5 стр 69-7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едняки становились рабами-должникам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ём разница в положении раба-чужеземца и раба-должника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67FC0-C09A-4972-A01D-770DA25397C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23E4-5EA0-4048-9069-8659C45599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– правила, обязательные для всех жителей стран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наличие писаных законов – важнейший признак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45753-EE05-4DB7-920A-03DB03A847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С какой страной вы познакомил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де она расположе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Почему так называе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Назовите древнейшие города Двуречь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Какой город стал главным в Двуречь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9F625-EBC8-4CDC-890D-01B4EA76B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1F66-F24C-4099-9157-DE8A9DBFAA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Вавилон – торговый гор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родавали купцы, приплывшие в Вавилон с севе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 покупали в Вавилон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3E177-3044-458E-B145-AA12DE0501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Город Вави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763B-3D00-4FE4-8D16-25EAEC814E3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орота богини Ишт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1CD82-0D70-444E-91A1-95F91A9A77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исячие сады Семирами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о из 7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ы – поднимавшиеся уступы 12  терр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дали казалось, что сады висят в воздух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5363-B712-4ABD-8A9B-DDD941DF3C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ВАВИЛОНСКАЯ БАШ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одно из чудес св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многоярусное пирамидальное з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6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D2671-AC92-4D77-A425-2F722D45086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F1C0-F958-4CB1-B09F-28B65D68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9A6-9B5B-4016-86E2-2C293491A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720-3883-4503-8FF7-B5BB309F0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F85-772A-4A9C-9027-0794DC8DB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A45E-8769-4310-B0D8-974079CE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93D-514C-4279-A8BB-7D9EEA85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CA11-8BA2-4827-9FA9-19431F132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B26A-1F7B-41E4-A487-C4BEC718B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44B8-7513-43E1-B971-45EB7291F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B79-4C2E-4B96-BCEA-552463A65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4237-BF51-49A2-989F-361B8CB74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8707-A030-4A9B-AD42-9218C4285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E040-7E0B-4C6F-A6FE-024879D529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ВАВИЛОНСКИЙ ЦАРЬ ХАММУРАПИ И ЕГО ЗАКОН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Хаммурапи "/>
          <p:cNvPicPr/>
          <p:nvPr/>
        </p:nvPicPr>
        <p:blipFill>
          <a:blip r:embed="rId1"/>
          <a:stretch/>
        </p:blipFill>
        <p:spPr>
          <a:xfrm>
            <a:off x="250920" y="2708280"/>
            <a:ext cx="2695320" cy="37908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3143160" y="3643200"/>
            <a:ext cx="47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792-1750 гг до н. э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5283000" y="5500800"/>
            <a:ext cx="358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Куляшова И.П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У-СОШ №3 г. Красноуфи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Хаммурапи получил власть</a:t>
            </a:r>
            <a:br>
              <a:rPr sz="4000"/>
            </a:br>
            <a:r>
              <a:rPr b="1" lang="ru-RU" sz="4000" spc="-1" strike="noStrike">
                <a:solidFill>
                  <a:srgbClr val="990000"/>
                </a:solidFill>
                <a:latin typeface="Arial"/>
              </a:rPr>
              <a:t> от бог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788000" y="1600200"/>
            <a:ext cx="403200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3300"/>
                </a:solidFill>
                <a:uFillTx/>
                <a:latin typeface="Arial"/>
              </a:rPr>
              <a:t>Заслуги Хаммурап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величил территорию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Установил единые законы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0" y="1143000"/>
            <a:ext cx="4467240" cy="5715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5"/>
          <p:cNvSpPr/>
          <p:nvPr/>
        </p:nvSpPr>
        <p:spPr>
          <a:xfrm>
            <a:off x="4859280" y="3881520"/>
            <a:ext cx="3960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текст на стр 67-68, ответьте на вопро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Что написано на стелл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–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авила, обязательные для всех жител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законы "/>
          <p:cNvPicPr/>
          <p:nvPr/>
        </p:nvPicPr>
        <p:blipFill>
          <a:blip r:embed="rId1"/>
          <a:stretch/>
        </p:blipFill>
        <p:spPr>
          <a:xfrm>
            <a:off x="250920" y="1484280"/>
            <a:ext cx="4464000" cy="5181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стелла "/>
          <p:cNvPicPr/>
          <p:nvPr/>
        </p:nvPicPr>
        <p:blipFill>
          <a:blip r:embed="rId2"/>
          <a:stretch/>
        </p:blipFill>
        <p:spPr>
          <a:xfrm>
            <a:off x="6137280" y="1484280"/>
            <a:ext cx="2676600" cy="5068800"/>
          </a:xfrm>
          <a:prstGeom prst="rect">
            <a:avLst/>
          </a:prstGeom>
          <a:ln w="0">
            <a:noFill/>
          </a:ln>
        </p:spPr>
      </p:pic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59280" y="1600200"/>
            <a:ext cx="382752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рочитайте на стр 68 текст законов, и предположите, какому наказанию подвергся бедня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законы Хпмураппи "/>
          <p:cNvPicPr/>
          <p:nvPr/>
        </p:nvPicPr>
        <p:blipFill>
          <a:blip r:embed="rId1"/>
          <a:stretch/>
        </p:blipFill>
        <p:spPr>
          <a:xfrm>
            <a:off x="210960" y="1557360"/>
            <a:ext cx="4426200" cy="511164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>
            <a:off x="4859280" y="4292640"/>
            <a:ext cx="390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«Если человек украл имуществ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храма, он должен быть казнё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КОГО ЗАЩИЩАЛИ ЗАКОНЫ ХАММУРАП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867280" y="160020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Какое наказание ждёт купца, согласно закону, если его поймаю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Arial"/>
              </a:rPr>
              <a:t>Почему за кражу  осла и раба наказывают одинаков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Суд Хамураппи "/>
          <p:cNvPicPr/>
          <p:nvPr/>
        </p:nvPicPr>
        <p:blipFill>
          <a:blip r:embed="rId1"/>
          <a:stretch/>
        </p:blipFill>
        <p:spPr>
          <a:xfrm>
            <a:off x="250920" y="1789200"/>
            <a:ext cx="5400720" cy="43830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</a:t>
            </a:r>
            <a:br>
              <a:rPr sz="4000"/>
            </a:b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О СВОБОДНЫХ И РАБ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14716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Стр 69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3300"/>
                </a:solidFill>
                <a:latin typeface="Arial"/>
              </a:rPr>
              <a:t>Чем раб отличался от свободного челове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клеймо раба "/>
          <p:cNvPicPr/>
          <p:nvPr/>
        </p:nvPicPr>
        <p:blipFill>
          <a:blip r:embed="rId1"/>
          <a:stretch/>
        </p:blipFill>
        <p:spPr>
          <a:xfrm>
            <a:off x="1042920" y="3645000"/>
            <a:ext cx="7234200" cy="291456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Наказ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716000" y="1600200"/>
            <a:ext cx="39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штра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мертная каз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ринцип тал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(око за око, зуб – за зу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текст законов Хаммураппи "/>
          <p:cNvPicPr/>
          <p:nvPr/>
        </p:nvPicPr>
        <p:blipFill>
          <a:blip r:embed="rId1"/>
          <a:stretch/>
        </p:blipFill>
        <p:spPr>
          <a:xfrm>
            <a:off x="539640" y="1484280"/>
            <a:ext cx="3821400" cy="482436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3300"/>
                </a:solidFill>
                <a:latin typeface="Arial"/>
              </a:rPr>
              <a:t>ЗАКОНЫ О БОГАЧАХ И БЕДНЯ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Прочитайте текст п.5 стр 69-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бедняки становились рабами-должникам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чём разница в положении раба-чужеземца и раба-должника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Шумеры знать и простые люди "/>
          <p:cNvPicPr/>
          <p:nvPr/>
        </p:nvPicPr>
        <p:blipFill>
          <a:blip r:embed="rId1"/>
          <a:stretch/>
        </p:blipFill>
        <p:spPr>
          <a:xfrm>
            <a:off x="1258920" y="3878280"/>
            <a:ext cx="7200720" cy="29797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564000" y="-360"/>
            <a:ext cx="5580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«чтобы сильный не обижал слабого,  чтобы сироте и вдове оказывалась справедливость…. Чтобы притеснённому оказывалась справедливость, я начертал драгоценные слова на  моей стеле и поставил перед моим изображением царя справедливо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Будущим временем, навеки! Царь, который будет в стране, да соблюдает справедливые слова, написанные мною на моей стеле, да не изменит он судебных решений страны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Arial"/>
              </a:rPr>
              <a:t>пусть истребит в стране своей беззаконных и злых, пусть даст благоденствие своим людя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стелла с законами "/>
          <p:cNvPicPr/>
          <p:nvPr/>
        </p:nvPicPr>
        <p:blipFill>
          <a:blip r:embed="rId1"/>
          <a:stretch/>
        </p:blipFill>
        <p:spPr>
          <a:xfrm>
            <a:off x="179280" y="333360"/>
            <a:ext cx="3602160" cy="619128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259920"/>
            <a:ext cx="287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ывод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132000" y="764640"/>
            <a:ext cx="6012000" cy="565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– правила, обязательные для всех жителей стра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наличие писаных законов – важнейший признак государ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законы Хаммурапи регулируют все стороны общественной жизни, защищают права собственности, устанавливают различие между рабами-чужеземцами и рабами-должн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виновность обвиняемого устанавливалась через «суд божий», действовал принцип тали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Хаммураппи "/>
          <p:cNvPicPr/>
          <p:nvPr/>
        </p:nvPicPr>
        <p:blipFill>
          <a:blip r:embed="rId1"/>
          <a:stretch/>
        </p:blipFill>
        <p:spPr>
          <a:xfrm>
            <a:off x="179280" y="1844640"/>
            <a:ext cx="2978280" cy="43308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90000"/>
                </a:solidFill>
                <a:latin typeface="Arial"/>
              </a:rPr>
              <a:t>ВОПРОС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 какой страной вы познакомилис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Где она расположен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Почему так назыв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Назовите древнейшие города Двуречь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Какой город стал главным в Двуречь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карта Двуречья 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Вавилон 3 "/>
          <p:cNvPicPr/>
          <p:nvPr/>
        </p:nvPicPr>
        <p:blipFill>
          <a:blip r:embed="rId1"/>
          <a:stretch/>
        </p:blipFill>
        <p:spPr>
          <a:xfrm>
            <a:off x="0" y="1197000"/>
            <a:ext cx="6588000" cy="3929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стены Вавилона раскопки "/>
          <p:cNvPicPr/>
          <p:nvPr/>
        </p:nvPicPr>
        <p:blipFill>
          <a:blip r:embed="rId2"/>
          <a:stretch/>
        </p:blipFill>
        <p:spPr>
          <a:xfrm>
            <a:off x="4427640" y="3591000"/>
            <a:ext cx="4716360" cy="326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3300"/>
                </a:solidFill>
                <a:latin typeface="Arial"/>
              </a:rPr>
              <a:t>Вавилон – торговый город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00720" y="1052640"/>
            <a:ext cx="41860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родавали купцы, приплывшие в Вавилон с север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покупали в Вавилони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Вавилон 4 jpg"/>
          <p:cNvPicPr/>
          <p:nvPr/>
        </p:nvPicPr>
        <p:blipFill>
          <a:blip r:embed="rId1"/>
          <a:stretch/>
        </p:blipFill>
        <p:spPr>
          <a:xfrm>
            <a:off x="179280" y="1125360"/>
            <a:ext cx="3971880" cy="5542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финиковые пальмы "/>
          <p:cNvPicPr/>
          <p:nvPr/>
        </p:nvPicPr>
        <p:blipFill>
          <a:blip r:embed="rId2"/>
          <a:stretch/>
        </p:blipFill>
        <p:spPr>
          <a:xfrm>
            <a:off x="4788000" y="3716280"/>
            <a:ext cx="4000320" cy="26956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Город Вавило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царский дворец в Вавилоне jpg"/>
          <p:cNvPicPr/>
          <p:nvPr/>
        </p:nvPicPr>
        <p:blipFill>
          <a:blip r:embed="rId1"/>
          <a:stretch/>
        </p:blipFill>
        <p:spPr>
          <a:xfrm>
            <a:off x="684360" y="1389240"/>
            <a:ext cx="8096040" cy="546876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орота богини Ишт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ворота Иштар реконструкция "/>
          <p:cNvPicPr/>
          <p:nvPr/>
        </p:nvPicPr>
        <p:blipFill>
          <a:blip r:embed="rId1"/>
          <a:stretch/>
        </p:blipFill>
        <p:spPr>
          <a:xfrm>
            <a:off x="395280" y="1268280"/>
            <a:ext cx="4670280" cy="5300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ворота  Иштар jpg"/>
          <p:cNvPicPr/>
          <p:nvPr/>
        </p:nvPicPr>
        <p:blipFill>
          <a:blip r:embed="rId2"/>
          <a:stretch/>
        </p:blipFill>
        <p:spPr>
          <a:xfrm>
            <a:off x="5003640" y="2637000"/>
            <a:ext cx="3843360" cy="40161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исячие сады Семирами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075520" cy="15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но из 7 чудес с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ды – поднимавшиеся уступы 12  терр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дали казалось, что сады висят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Висячие сады jpg"/>
          <p:cNvPicPr/>
          <p:nvPr/>
        </p:nvPicPr>
        <p:blipFill>
          <a:blip r:embed="rId1"/>
          <a:stretch/>
        </p:blipFill>
        <p:spPr>
          <a:xfrm>
            <a:off x="1258920" y="2700360"/>
            <a:ext cx="6421320" cy="393048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3300"/>
                </a:solidFill>
                <a:latin typeface="Arial"/>
              </a:rPr>
              <a:t>ВАВИЛОНСКАЯ БАШН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12000" y="1600200"/>
            <a:ext cx="267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одно из чудес с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многоярусное пирамидальное зд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Вавилонская башня Брейгель jpg"/>
          <p:cNvPicPr/>
          <p:nvPr/>
        </p:nvPicPr>
        <p:blipFill>
          <a:blip r:embed="rId1"/>
          <a:stretch/>
        </p:blipFill>
        <p:spPr>
          <a:xfrm>
            <a:off x="324000" y="1628640"/>
            <a:ext cx="5381640" cy="440064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1:43:19Z</dcterms:created>
  <dc:creator>Администратор</dc:creator>
  <dc:description/>
  <dc:language>en-US</dc:language>
  <cp:lastModifiedBy>LEGION</cp:lastModifiedBy>
  <dcterms:modified xsi:type="dcterms:W3CDTF">2015-01-15T12:26:26Z</dcterms:modified>
  <cp:revision>10</cp:revision>
  <dc:subject/>
  <dc:title>ВАВИЛОНСКИЙ ЦАРЬ ХАММУРАПИ И ЕГО ЗАКОНЫ</dc:title>
</cp:coreProperties>
</file>