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B610-222C-4DC0-AFF8-C2BFB7F987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АВИЛОНСКИЙ ЦАРЬ ХАММУРАПИ И ЕГО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AA6E-52BE-47DD-8F47-72D02819C5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Хаммурапи получил власть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т б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3300"/>
                </a:solidFill>
                <a:uFillTx/>
                <a:latin typeface="Calibri"/>
              </a:rPr>
              <a:t>Заслуги Хаммура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величил территорию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становил единые законы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3B21-BE0B-4E24-BB8A-415F36E9A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ЗАКОНЫ –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авила, обязательные для всех жител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B4BD-387C-4AAE-A2B2-F58FAE9F4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на стр 68 текст законов, и предположите, какому наказанию подвергся бедня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ABE6-78D3-4E7E-839F-DB7922577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е наказание ждёт купца, согласно закону, если его пойм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за кражу  осла и раба наказывают одинак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401F-2124-4152-822B-8F405EF273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О СВОБОДНЫХ И РАБ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тр 69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Чем раб отличался от свободн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EBE0-55C4-4B9E-B1CA-1EC71A284A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т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мертная ка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инцип тал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(око за око, зуб – за з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CDEB-ED9E-48A1-9096-8547CDEF80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О БОГАЧАХ И БЕДНЯ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текст п.5 стр 69-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едняки становились рабами-долж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разница в положении раба-чужеземца и раба-долж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D883-A150-4C36-9A24-05242879AD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0F17-9242-4933-890B-2A85965364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– правила, обязательные для всех жител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наличие писаных законов – важнейший признак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1E2B-34F1-4ECE-9435-48B1A5D13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 какой страной вы познаком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де она располож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так называ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зовите древнейшие города Двуреч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й город стал главным в Двуреч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4001-4493-487F-AD2D-1527644B0B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7D4-28A6-46FF-A17D-CB1AFC8D0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авилон – торговый г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одавали купцы, приплывшие в Вавилон с сев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окупали в Вавило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797D-1F4F-4739-AC50-BCF383848E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24F-AD01-4BE6-8083-5E3D63D07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орота богини Ишт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A31-6606-4B95-9596-01F7B441F3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исячие сады Семирам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7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ы – поднимавшиеся уступы 12  терр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и казалось, что сады висят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F0F2-EC45-4076-B696-29AAB6C147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АВИЛОНСКАЯ БА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дно из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ногоярусное пирамидальное 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97E0-88D6-4C2F-9E71-38FC3EB36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B7F-9707-45E7-9610-402DCF37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9F0-3460-431C-8069-A7F5CDF8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D9D-A9C2-453B-8376-35121A3B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344-903B-4B2E-BEB1-5444FA90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2D1-1BB9-4484-9946-A8AF43FF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00B-F93A-4A87-8AD7-C73B4C1A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1EB-8241-403E-BC01-32D97EDA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31D-B57E-4EF1-84DE-C741D4F7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B39-BB86-41E6-A8EF-8B2EF592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C62-B03C-474A-A0D4-032F119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E46-53A7-4213-B9D1-77CD3D2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AB0-1685-4B95-A2BE-22DB7E8B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1254-A872-4C3E-9BC6-87C5A8F0E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АВИЛОНСКИЙ ЦАРЬ ХАММУРАПИ И ЕГО ЗАК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Хаммурапи "/>
          <p:cNvPicPr/>
          <p:nvPr/>
        </p:nvPicPr>
        <p:blipFill>
          <a:blip r:embed="rId1"/>
          <a:stretch/>
        </p:blipFill>
        <p:spPr>
          <a:xfrm>
            <a:off x="250920" y="2708280"/>
            <a:ext cx="2695320" cy="379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143160" y="36432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92-1750 гг до н. э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283000" y="55008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уляшова 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СОШ №3 г. Красноуф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Хаммурапи получил влас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от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Заслуги Хаммурап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величил территорию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становил единые зак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0" y="1143000"/>
            <a:ext cx="446724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859280" y="3881520"/>
            <a:ext cx="396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текст на стр 67-68,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то написано на стел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–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а, обязательные для всех жител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законы "/>
          <p:cNvPicPr/>
          <p:nvPr/>
        </p:nvPicPr>
        <p:blipFill>
          <a:blip r:embed="rId1"/>
          <a:stretch/>
        </p:blipFill>
        <p:spPr>
          <a:xfrm>
            <a:off x="250920" y="1484280"/>
            <a:ext cx="446400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ла "/>
          <p:cNvPicPr/>
          <p:nvPr/>
        </p:nvPicPr>
        <p:blipFill>
          <a:blip r:embed="rId2"/>
          <a:stretch/>
        </p:blipFill>
        <p:spPr>
          <a:xfrm>
            <a:off x="6137280" y="1484280"/>
            <a:ext cx="26766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на стр 68 текст законов, и предположите, какому наказанию подвергся бедня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законы Хпмураппи "/>
          <p:cNvPicPr/>
          <p:nvPr/>
        </p:nvPicPr>
        <p:blipFill>
          <a:blip r:embed="rId1"/>
          <a:stretch/>
        </p:blipFill>
        <p:spPr>
          <a:xfrm>
            <a:off x="210960" y="1557360"/>
            <a:ext cx="442620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59280" y="429264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Если человек украл иму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рама, он должен быть казнё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ое наказание ждёт купца, согласно закону, если его пойм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за кражу  осла и раба наказывают одинак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уд Хамураппи "/>
          <p:cNvPicPr/>
          <p:nvPr/>
        </p:nvPicPr>
        <p:blipFill>
          <a:blip r:embed="rId1"/>
          <a:stretch/>
        </p:blipFill>
        <p:spPr>
          <a:xfrm>
            <a:off x="250920" y="1789200"/>
            <a:ext cx="5400720" cy="4383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 СВОБОДНЫХ И РА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р 69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Чем раб отличался от свободн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леймо раба "/>
          <p:cNvPicPr/>
          <p:nvPr/>
        </p:nvPicPr>
        <p:blipFill>
          <a:blip r:embed="rId1"/>
          <a:stretch/>
        </p:blipFill>
        <p:spPr>
          <a:xfrm>
            <a:off x="1042920" y="3645000"/>
            <a:ext cx="7234200" cy="29145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мертная ка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нцип тал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око за око, зуб – за з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текст законов Хаммураппи "/>
          <p:cNvPicPr/>
          <p:nvPr/>
        </p:nvPicPr>
        <p:blipFill>
          <a:blip r:embed="rId1"/>
          <a:stretch/>
        </p:blipFill>
        <p:spPr>
          <a:xfrm>
            <a:off x="539640" y="1484280"/>
            <a:ext cx="3821400" cy="4824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О БОГАЧАХ И БЕДНЯ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читайте текст п.5 стр 69-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едняки становились рабами-должн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ём разница в положении раба-чужеземца и раба-долж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Шумеры знать и простые люди "/>
          <p:cNvPicPr/>
          <p:nvPr/>
        </p:nvPicPr>
        <p:blipFill>
          <a:blip r:embed="rId1"/>
          <a:stretch/>
        </p:blipFill>
        <p:spPr>
          <a:xfrm>
            <a:off x="1258920" y="3878280"/>
            <a:ext cx="7200720" cy="2979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4000" y="-360"/>
            <a:ext cx="55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179280" y="333360"/>
            <a:ext cx="360216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– правила, обязательные для всех жител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личие писаных законов – важнейший признак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Хаммураппи "/>
          <p:cNvPicPr/>
          <p:nvPr/>
        </p:nvPicPr>
        <p:blipFill>
          <a:blip r:embed="rId1"/>
          <a:stretch/>
        </p:blipFill>
        <p:spPr>
          <a:xfrm>
            <a:off x="179280" y="1844640"/>
            <a:ext cx="2978280" cy="433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 какой страной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де она располож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Назовите древнейшие города Двуреч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кой город стал главным в Двуреч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Двуречья 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Вавилон 3 "/>
          <p:cNvPicPr/>
          <p:nvPr/>
        </p:nvPicPr>
        <p:blipFill>
          <a:blip r:embed="rId1"/>
          <a:stretch/>
        </p:blipFill>
        <p:spPr>
          <a:xfrm>
            <a:off x="0" y="1197000"/>
            <a:ext cx="658800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тены Вавилона раскопки "/>
          <p:cNvPicPr/>
          <p:nvPr/>
        </p:nvPicPr>
        <p:blipFill>
          <a:blip r:embed="rId2"/>
          <a:stretch/>
        </p:blipFill>
        <p:spPr>
          <a:xfrm>
            <a:off x="4427640" y="3591000"/>
            <a:ext cx="4716360" cy="326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Вавилон – торговый 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052640"/>
            <a:ext cx="418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давали купцы, приплывшие в Вавилон с сев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купали в Вавило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авилон 4 jpg"/>
          <p:cNvPicPr/>
          <p:nvPr/>
        </p:nvPicPr>
        <p:blipFill>
          <a:blip r:embed="rId1"/>
          <a:stretch/>
        </p:blipFill>
        <p:spPr>
          <a:xfrm>
            <a:off x="179280" y="1125360"/>
            <a:ext cx="3971880" cy="554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финиковые пальмы "/>
          <p:cNvPicPr/>
          <p:nvPr/>
        </p:nvPicPr>
        <p:blipFill>
          <a:blip r:embed="rId2"/>
          <a:stretch/>
        </p:blipFill>
        <p:spPr>
          <a:xfrm>
            <a:off x="4788000" y="3716280"/>
            <a:ext cx="4000320" cy="2695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царский дворец в Вавилоне jpg"/>
          <p:cNvPicPr/>
          <p:nvPr/>
        </p:nvPicPr>
        <p:blipFill>
          <a:blip r:embed="rId1"/>
          <a:stretch/>
        </p:blipFill>
        <p:spPr>
          <a:xfrm>
            <a:off x="684360" y="1389240"/>
            <a:ext cx="809604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орота богини Иш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ворота Иштар реконструкция "/>
          <p:cNvPicPr/>
          <p:nvPr/>
        </p:nvPicPr>
        <p:blipFill>
          <a:blip r:embed="rId1"/>
          <a:stretch/>
        </p:blipFill>
        <p:spPr>
          <a:xfrm>
            <a:off x="395280" y="1268280"/>
            <a:ext cx="467028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ворота  Иштар jpg"/>
          <p:cNvPicPr/>
          <p:nvPr/>
        </p:nvPicPr>
        <p:blipFill>
          <a:blip r:embed="rId2"/>
          <a:stretch/>
        </p:blipFill>
        <p:spPr>
          <a:xfrm>
            <a:off x="5003640" y="2637000"/>
            <a:ext cx="3843360" cy="4016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7 чудес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ды – поднимавшиеся уступы 12  тер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ли казалось, что сады висят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Висячие сады jpg"/>
          <p:cNvPicPr/>
          <p:nvPr/>
        </p:nvPicPr>
        <p:blipFill>
          <a:blip r:embed="rId1"/>
          <a:stretch/>
        </p:blipFill>
        <p:spPr>
          <a:xfrm>
            <a:off x="1258920" y="2700360"/>
            <a:ext cx="6421320" cy="3930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АВИЛО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но из чудес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ногоярусное пирамидальное 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Вавилонская башня Брейгель jpg"/>
          <p:cNvPicPr/>
          <p:nvPr/>
        </p:nvPicPr>
        <p:blipFill>
          <a:blip r:embed="rId1"/>
          <a:stretch/>
        </p:blipFill>
        <p:spPr>
          <a:xfrm>
            <a:off x="324000" y="1628640"/>
            <a:ext cx="5381640" cy="4400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1:43:19Z</dcterms:created>
  <dc:creator>Администратор</dc:creator>
  <dc:description/>
  <dc:language>en-US</dc:language>
  <cp:lastModifiedBy>LEGION</cp:lastModifiedBy>
  <dcterms:modified xsi:type="dcterms:W3CDTF">2015-01-15T12:26:26Z</dcterms:modified>
  <cp:revision>10</cp:revision>
  <dc:subject/>
  <dc:title>ВАВИЛОНСКИЙ ЦАРЬ ХАММУРАПИ И ЕГО ЗАКОНЫ</dc:title>
</cp:coreProperties>
</file>