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AD083-ECFA-448E-B27A-3109E1CCFBB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онетарная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редитно-денежная) политика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Макроэкономика </a:t>
            </a:r>
            <a:br>
              <a:rPr sz="1000"/>
            </a:b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11 класс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ускная аттестационная раб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ушателя группы Э-1/07 специальности «Экономика» Груздовой Т.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A742A-844C-41CF-B9FA-98FB5E15C4C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Изменение нормы обязательных резерв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ышение нормы обязательных резервов ведет к уменьшению банковского мультипликатора: денежная масса сокращае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нижение нормы обязательных резервов ведет к увеличению банковского мультипликатора: денежная масса увеличивае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C20DE-1C3D-416E-8AC5-5B28A36779E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Изменение учетной ставки проц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ышение учетной ставки процента ведет к уменьшению избыточных резервов коммерческих бан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меньшение кредитных возможностей банков ведет к мультипликативному сжатию денежной мас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ижение учетной ставки процента ведет к увеличению избыточных резервов коммерческих бан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величение кредитных возможностей банков ведет к мультипликативному расширению денежной мас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66CE6-BB87-426E-8220-53AD5A1625B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Операции на открытом рынке – это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упка и продажа государственных ценных бумаг на вторичных рынках ценных бума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5C556-459C-42A6-81C5-0107F51C4C4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перации на открытом рынке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одаж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ых ценных бумаг Центральным банк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уменьшению предложения дене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окуп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государственных ценных бумаг Центральным банк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увеличению предложения дене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6AD28-62ED-4AE7-9D2E-081E7016CB2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да вложить деньг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ичны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клады до востреб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очные вкла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ные бумаги (акции, облигаци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Высокая ликвидность, но невысокая доход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Высокая доходность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но низкая ликвид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От чего зависит решение владельцев денег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9063A-D3C7-4881-B4D4-52AA625BCA3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нтная ставка - эт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шение владельцев денег зависит от величины рыночной процентной став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а денег, которая зависит от спроса и предложения денег на денежном рын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3B45A-3FE6-4BBB-BCB0-9876D77AAF8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происходит на денежном рынке под влиянием монетарной политики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746F1-BE92-40A9-9878-7CA4E3A7135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ую политику Центрального банка принято называть сдерживающей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 результате мер монетарной политики денежная масса сокращается, рыночная ставка процента раст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1f497d"/>
                </a:solidFill>
                <a:latin typeface="Calibri"/>
              </a:rPr>
              <a:t>Повышение ставки процента приводит к удорожанию кредитов и сдерживанию роста инвестиционных расходов и потребления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66E68-E6E7-49DF-B880-8574E5F935E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величение предложения дене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DFE8B-E57B-46AE-B0E4-6D4B9582CD5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Такую политику Центрального банка принято называть стимулирующе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Понижение ставки процента стимулирует инвестиционные расходы фирм и потребительские расходы, а это ведет к увеличению совокупного спрос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Увеличение денежной массы в результате мер Центрального банка приводит к понижению рыночной ставки проц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28F09-390E-4532-8DDC-ED05162348E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 работы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учебно-методического комплекса по теме «Монетарная политика» для классов с углубленным изучением эконом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76F33-055D-4FA6-B703-C3576C7B5BD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окупный спрос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возросли инвестиционные расходы фирм или потребительские расходы граждан, то совокупный спрос увеличивает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т цен подталкивает фирмы к увеличению выпус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Поэтому такая монетарная политика называется стимулирующ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Y= C+I+G+X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BD76F-9093-4D0D-A295-D4187AE92DC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фически механизм денежной трансмиссии можно показать так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D44C7-C687-4FC2-B827-16615F9F624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f497d"/>
                </a:solidFill>
                <a:latin typeface="Calibri"/>
              </a:rPr>
              <a:t>Этот механизм называется </a:t>
            </a:r>
            <a:r>
              <a:rPr b="1" i="1" lang="ru-RU" sz="2800" spc="-1" strike="noStrike" u="sng">
                <a:solidFill>
                  <a:srgbClr val="1f497d"/>
                </a:solidFill>
                <a:uFillTx/>
                <a:latin typeface="Calibri"/>
              </a:rPr>
              <a:t>механизмом денежной трансмиссии </a:t>
            </a:r>
            <a:r>
              <a:rPr b="1" i="1" lang="ru-RU" sz="2800" spc="-1" strike="noStrike">
                <a:solidFill>
                  <a:srgbClr val="1f497d"/>
                </a:solidFill>
                <a:latin typeface="Calibri"/>
              </a:rPr>
              <a:t>(</a:t>
            </a:r>
            <a:r>
              <a:rPr b="1" i="1" lang="en-US" sz="2800" spc="-1" strike="noStrike">
                <a:solidFill>
                  <a:srgbClr val="1f497d"/>
                </a:solidFill>
                <a:latin typeface="Calibri"/>
              </a:rPr>
              <a:t>money transmission mechanism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результате монетарной политики происходит изменение предложения денег в экономик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е предложения денег воздействует на рыночную ставку процен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зменение ставки процента приводит либо к росту совокупного спроса, либо к его уменьшению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54FD4-5311-4504-993D-6965F857E60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Учебно-методический комплекс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назначен для преподавателей экономи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оится в соответствии с программой факультета довузовской подготовки ГУ-ВШЭ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иентируется на использование учебных пособий для школ с углубленным изучением эконом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2B0FC-0968-4FFC-9A9B-377C743AAEA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иска из программы ГУ-ВШЭ для слушателей подготовительных курсов и базовых шко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Монетарная (денежно-кредитная политик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нетарная политика, ее цели и целевые ориентиры. Роль центрального бан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струменты монетарной политики. Операции на открытом рынке с государственными ценными бумагами. Изменение нормы обязательных банковских резервов. Изменение ставки рефинансирования (учетной ставки процента). Центральный банк как кредитор коммерческих бан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денег. Предложение и спрос на деньг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имулирующая и сдерживающая монетарная политика. Воздействие монетарной политики на совокупный спро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BFCD8-FCD8-49B1-9C15-2C2A105BE89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Цели изучения темы: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глубление знаний о механизме взаимодействия коммерческих и Центрального банк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представлений о монетарной политике, о целях и способах ее осуществл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владение знаниями о целях и способах регулирования денежного рынка с помощью банковской сист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600E3-B036-483A-986E-E76B34B4956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 результате изучения темы учащиеся должны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ть и описывать понятия: «монетарная политика», «норма обязательных резервов», «ставка рефинансирования», «операции на открытом рынке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имать и объяснять, как политика Центробанка воздействует на макроэкономическую ситуацию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личать стимулирующую и сдерживающую монетарную политик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зывать возможные последствия тех или иных мер Центробан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нять полученные знания для анализа конкретной экономической ситу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DDB12-3766-4FE5-925C-B74275E2617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то такое монетарная политика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ОЛИТИКА КРЕДИТНО-ДЕНЕЖНАЯ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- проводимые правительством страны, государством меры, определяющие величину денежного предложения, массу денег в стране, процентные ставки кредитования, объем кредитов…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экономический словарь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Монетарная политика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- инструмент, при помощи которого правительства стараются воздействовать на макроэкономические условия, увеличивая или уменьшая денежную массу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словарь по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ке и финансам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AD9CF-15AA-45FF-8FEF-D3F9D15BC8B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Монетарна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олити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это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Монетарную политику определяет и осуществляет </a:t>
            </a: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Центральный бан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ры по регулированию денежного рынка с целью стабилизации эконом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60897-BB01-4D96-8AF0-D94AEFECB07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струменты монетарной полити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С помощью этих инструментов Центральный банк может воздействовать на денежную масс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е нормы обязательных резерв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е учетной ставки процента (ставки рефинансирован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ерации на открытом рын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1CAAA-213F-43DF-9F33-5C6D023D7D5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C4F8-E8AC-4A29-B554-377B915DD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C39D-434A-4DFD-874D-361367F35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F631-F569-480A-B6D5-3FC6035CD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9562-4128-4742-A4BF-C7B0218A5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174EB-C7FB-41ED-9C8A-C305EB272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68D7E-CF18-4A16-A8E1-F1B65C278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A3D18-32B0-420D-B2D1-46559F4D3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4BF09-DA16-4F80-9F22-24CE8BAAE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C9D72-BF37-4F0C-9BAF-AD6A07881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858B9-4971-44E1-8D28-3EFD2FB81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2761F-EA04-4F04-823F-29316ED95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D2D9-61CA-4455-8927-2B5A0EB8A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8C633-0FB6-4C08-B24E-2A65BE4F4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E2DA2-0037-4E7A-A11D-68C5E7E49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50612-0432-4810-B43C-84F0DD6E2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827A9-57F2-419D-90AB-815A6D8B1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9CBCC-838F-4C14-9EB8-715780835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1B87-4F0C-42B3-B53A-C8500A1A5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34F4-3397-4B27-A058-AF9871D47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CCD5-055B-4AF9-9C47-B9C08AE21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34AF-6CCB-4429-8AB7-DA4EAA5C0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E281-74D0-44D5-9227-20C093BF1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9D36-28C4-451C-90BB-20D4CB313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CABE-BF5D-4083-9366-BB04B050D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A7793-DF72-4620-8759-522A00C5A7C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B1A6C-9673-4820-9856-CC7B46C804A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765000"/>
            <a:ext cx="7989840" cy="283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Монетарная </a:t>
            </a: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кредитно-денежная) политика</a:t>
            </a:r>
            <a:br>
              <a:rPr sz="4800"/>
            </a:b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i="1" lang="ru-RU" sz="1800" spc="-1" strike="noStrike">
                <a:solidFill>
                  <a:srgbClr val="ffffb7"/>
                </a:solidFill>
                <a:latin typeface="Arial Black"/>
              </a:rPr>
              <a:t>Макроэкономика </a:t>
            </a:r>
            <a:br>
              <a:rPr sz="1800"/>
            </a:br>
            <a:r>
              <a:rPr b="1" i="1" lang="ru-RU" sz="18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i="1" lang="ru-RU" sz="18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i="1" lang="ru-RU" sz="18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i="1" lang="ru-RU" sz="18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i="1" lang="ru-RU" sz="18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i="1" lang="ru-RU" sz="18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i="1" lang="ru-RU" sz="18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i="1" lang="ru-RU" sz="1800" spc="-1" strike="noStrike">
                <a:solidFill>
                  <a:srgbClr val="ffffb7"/>
                </a:solidFill>
                <a:latin typeface="Arial Black"/>
              </a:rPr>
              <a:t>11 класс</a:t>
            </a:r>
            <a:endParaRPr b="1" lang="en-US" sz="1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71640" y="429264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ыпускная аттестационная рабо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лушателя группы Э-1/07 специальности «Экономика» Груздовой Т.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46860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1. Изменение нормы обязательных резервов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99640" y="1916280"/>
            <a:ext cx="3240360" cy="32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вышение нормы обязательных резервов ведет к уменьшению банковского мультипликатора: денежная масса сокращаетс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435280" y="1916280"/>
            <a:ext cx="3384360" cy="25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нижение нормы обязательных резервов ведет к увеличению банковского мультипликатора: денежная масса увеличиваетс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8"/>
          <p:cNvSpPr/>
          <p:nvPr/>
        </p:nvSpPr>
        <p:spPr>
          <a:xfrm flipV="1">
            <a:off x="0" y="3141360"/>
            <a:ext cx="914400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Object 9"/>
              <p:cNvSpPr txBox="1"/>
              <p:nvPr/>
            </p:nvSpPr>
            <p:spPr>
              <a:xfrm>
                <a:off x="3635280" y="4941720"/>
                <a:ext cx="2087640" cy="115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ul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банк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2. Изменение учетной ставки процент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9280" y="1916280"/>
            <a:ext cx="403236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вышение учетной ставки процента ведет к уменьшению избыточных резервов коммерческих банк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меньшение кредитных возможностей банков ведет к мультипликативному сжатию денежной масс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917960" y="1905120"/>
            <a:ext cx="392760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нижение учетной ставки процента ведет к увеличению избыточных резервов коммерческих банк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величение кредитных возможностей банков ведет к мультипликативному расширению денежной масс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3. Операции на открытом рынке – это…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покупка и продажа государственных ценных бумаг на вторичных рынках ценных бумаг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Операции на открытом рынке: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10920" y="1844640"/>
            <a:ext cx="3816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Продажа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осударственных ценных бумаг Центральным банко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 уменьшению предложения дене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Покупк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государственных ценных бумаг Центральным банко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 увеличению предложения дене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Rectangle 10"/>
          <p:cNvSpPr/>
          <p:nvPr/>
        </p:nvSpPr>
        <p:spPr>
          <a:xfrm>
            <a:off x="3492360" y="414972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ед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Куда вложить деньги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826560" y="1905120"/>
            <a:ext cx="3745080" cy="116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личны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клады до востребов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5076720" y="1905120"/>
            <a:ext cx="3456000" cy="116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рочные вклад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Ценные бумаги (акции, облигации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826560" y="3428640"/>
            <a:ext cx="374508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b7"/>
                </a:solidFill>
                <a:latin typeface="Arial"/>
              </a:rPr>
              <a:t>Высокая ликвидность, но невысокая доходн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003640" y="3499920"/>
            <a:ext cx="385632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b7"/>
                </a:solidFill>
                <a:latin typeface="Arial"/>
              </a:rPr>
              <a:t>Высокая доходность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b7"/>
                </a:solidFill>
                <a:latin typeface="Arial"/>
              </a:rPr>
              <a:t>но низкая ликвидн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31640" y="5013360"/>
            <a:ext cx="727236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т чего зависит решение владельцев денег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3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3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8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8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87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95280" y="206028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Процентная ставка - это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36160" y="4941720"/>
            <a:ext cx="800748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Цена денег, которая зависит от спроса и предложения денег на денежном рынк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611280" y="333000"/>
            <a:ext cx="800712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ешение владельцев денег зависит от величины рыночной процентной став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40960" y="260280"/>
            <a:ext cx="8302680" cy="141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Что происходит на денежном рынке под влиянием монетарной политики? 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65" name="Picture 5" descr="Рис"/>
          <p:cNvPicPr/>
          <p:nvPr/>
        </p:nvPicPr>
        <p:blipFill>
          <a:blip r:embed="rId1"/>
          <a:stretch/>
        </p:blipFill>
        <p:spPr>
          <a:xfrm>
            <a:off x="826920" y="1916280"/>
            <a:ext cx="6121440" cy="4464000"/>
          </a:xfrm>
          <a:prstGeom prst="rect">
            <a:avLst/>
          </a:prstGeom>
          <a:ln w="0">
            <a:noFill/>
          </a:ln>
        </p:spPr>
      </p:pic>
      <p:sp>
        <p:nvSpPr>
          <p:cNvPr id="166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4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00000" y="4652640"/>
            <a:ext cx="7920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Такую политику Центрального банка принято называть сдерживающей</a:t>
            </a:r>
            <a:br>
              <a:rPr sz="3200"/>
            </a:b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826920" y="475920"/>
            <a:ext cx="763272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В результате мер монетарной политики денежная масса сокращается, рыночная ставка процента расте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71640" y="2276640"/>
            <a:ext cx="8007120" cy="165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b7"/>
                </a:solidFill>
                <a:latin typeface="Arial"/>
              </a:rPr>
              <a:t>Повышение ставки процента приводит к удорожанию кредитов и сдерживанию роста инвестиционных расходов и потребл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0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8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Увеличение предложения денег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748360" y="4221000"/>
            <a:ext cx="96840" cy="18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Picture 5" descr=""/>
          <p:cNvPicPr/>
          <p:nvPr/>
        </p:nvPicPr>
        <p:blipFill>
          <a:blip r:embed="rId1"/>
          <a:stretch/>
        </p:blipFill>
        <p:spPr>
          <a:xfrm>
            <a:off x="1692360" y="1852560"/>
            <a:ext cx="6048360" cy="4730760"/>
          </a:xfrm>
          <a:prstGeom prst="rect">
            <a:avLst/>
          </a:prstGeom>
          <a:ln w="0">
            <a:noFill/>
          </a:ln>
        </p:spPr>
      </p:pic>
      <p:sp>
        <p:nvSpPr>
          <p:cNvPr id="17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9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16000" y="4797000"/>
            <a:ext cx="763272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Такую политику Центрального банка принято называть стимулирующей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136160" y="2420640"/>
            <a:ext cx="8007480" cy="16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b7"/>
                </a:solidFill>
                <a:latin typeface="Arial"/>
              </a:rPr>
              <a:t>Понижение ставки процента стимулирует инвестиционные расходы фирм и потребительские расходы, а это ведет к увеличению совокупного спрос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1280" y="333360"/>
            <a:ext cx="800712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Увеличение денежной массы в результате мер Центрального банка приводит к понижению рыночной ставки процен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3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3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Цель работы: 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99640" y="21333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здание учебно-методического комплекса по теме «Монетарная политика» для классов с углубленным изучением экономи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971280" y="1988640"/>
            <a:ext cx="817236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Если возросли инвестиционные расходы фирм или потребительские расходы граждан, то совокупный спрос увеличиваетс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ост цен подталкивает фирмы к увеличению выпус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b7"/>
                </a:solidFill>
                <a:latin typeface="Arial"/>
              </a:rPr>
              <a:t>Поэтому такая монетарная политика называется стимулирующе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55280" y="333360"/>
            <a:ext cx="77770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Совокупный спрос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10920" y="1196640"/>
            <a:ext cx="396108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Y= C+I+G+X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0" y="620280"/>
            <a:ext cx="712800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рафически механизм денежной трансмиссии можно показать так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Picture 8" descr="РИс"/>
          <p:cNvPicPr/>
          <p:nvPr/>
        </p:nvPicPr>
        <p:blipFill>
          <a:blip r:embed="rId1"/>
          <a:srcRect l="-4451" t="-1939" r="24707" b="14587"/>
          <a:stretch/>
        </p:blipFill>
        <p:spPr>
          <a:xfrm>
            <a:off x="1692360" y="1989000"/>
            <a:ext cx="3889440" cy="3195720"/>
          </a:xfrm>
          <a:prstGeom prst="rect">
            <a:avLst/>
          </a:prstGeom>
          <a:ln w="0">
            <a:noFill/>
          </a:ln>
        </p:spPr>
      </p:pic>
      <p:sp>
        <p:nvSpPr>
          <p:cNvPr id="185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1116000" y="4941360"/>
            <a:ext cx="7647120" cy="15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b7"/>
                </a:solidFill>
                <a:latin typeface="Arial"/>
              </a:rPr>
              <a:t>Этот механизм называется </a:t>
            </a:r>
            <a:r>
              <a:rPr b="1" i="1" lang="ru-RU" sz="2800" spc="-1" strike="noStrike" u="sng">
                <a:solidFill>
                  <a:srgbClr val="ffffb7"/>
                </a:solidFill>
                <a:uFillTx/>
                <a:latin typeface="Arial"/>
              </a:rPr>
              <a:t>механизмом денежной трансмиссии </a:t>
            </a:r>
            <a:r>
              <a:rPr b="1" i="1" lang="ru-RU" sz="2800" spc="-1" strike="noStrike">
                <a:solidFill>
                  <a:srgbClr val="ffffb7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ffffb7"/>
                </a:solidFill>
                <a:latin typeface="Arial"/>
              </a:rPr>
              <a:t>money transmission mechanism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755280" y="476280"/>
            <a:ext cx="838836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результате монетарной политики происходит изменение предложения денег в экономик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зменение предложения денег воздействует на рыночную ставку процент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зменение ставки процента приводит либо к росту совокупного спроса, либо к его уменьшению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3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3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3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50560" y="244440"/>
            <a:ext cx="8591400" cy="52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Учебно-методический комплекс 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едназначен для преподавателей экономик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троится в соответствии с программой факультета довузовской подготовки ГУ-ВШЭ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риентируется на использование учебных пособий для школ с углубленным изучением экономик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b7"/>
                </a:solidFill>
                <a:latin typeface="Arial Black"/>
              </a:rPr>
              <a:t>Выписка из программы ГУ-ВШЭ для слушателей подготовительных курсов и базовых школ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36160" y="2060640"/>
            <a:ext cx="768348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Монетарная (денежно-кредитная политика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онетарная политика, ее цели и целевые ориентиры. Роль центрального банк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нструменты монетарной политики. Операции на открытом рынке с государственными ценными бумагами. Изменение нормы обязательных банковских резервов. Изменение ставки рефинансирования (учетной ставки процента). Центральный банк как кредитор коммерческих банк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ынок денег. Предложение и спрос на деньг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тимулирующая и сдерживающая монетарная политика. Воздействие монетарной политики на совокупный спрос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Цели изучения темы:</a:t>
            </a:r>
            <a:br>
              <a:rPr sz="3600"/>
            </a:b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09360" y="1773360"/>
            <a:ext cx="823428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глубление знаний о механизме взаимодействия коммерческих и Центрального банков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формирование представлений о монетарной политике, о целях и способах ее осуществлени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владение знаниями о целях и способах регулирования денежного рынка с помощью банковской систем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16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b7"/>
                </a:solidFill>
                <a:latin typeface="Arial Black"/>
              </a:rPr>
              <a:t>В результате изучения темы учащиеся должны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71640" y="1557000"/>
            <a:ext cx="72151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нать и описывать понятия: «монетарная политика», «норма обязательных резервов», «ставка рефинансирования», «операции на открытом рынке»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нимать и объяснять, как политика Центробанка воздействует на макроэкономическую ситуацию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зличать стимулирующую и сдерживающую монетарную политику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зывать возможные последствия тех или иных мер Центробанк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менять полученные знания для анализа конкретной экономической ситуа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1403280" y="4869000"/>
            <a:ext cx="741672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971640" y="1844640"/>
            <a:ext cx="77040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ПОЛИТИКА КРЕДИТНО-ДЕНЕЖНАЯ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- проводимые правительством страны, государством меры, определяющие величину денежного предложения, массу денег в стране, процентные ставки кредитования, объем кредитов…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экономический словарь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Монетарная политика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- инструмент, при помощи которого правительства стараются воздействовать на макроэкономические условия, увеличивая или уменьшая денежную массу.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словарь по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кономике и финансам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5888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Что такое монетарная политика?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b7"/>
                </a:solidFill>
                <a:latin typeface="Arial Black"/>
              </a:rPr>
              <a:t>Монетарная</a:t>
            </a:r>
            <a:r>
              <a:rPr b="0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0" lang="ru-RU" sz="4000" spc="-1" strike="noStrike">
                <a:solidFill>
                  <a:srgbClr val="ffffb7"/>
                </a:solidFill>
                <a:latin typeface="Arial Black"/>
              </a:rPr>
              <a:t>политика</a:t>
            </a:r>
            <a:r>
              <a:rPr b="0" lang="ru-RU" sz="4400" spc="-1" strike="noStrike">
                <a:solidFill>
                  <a:srgbClr val="ffffb7"/>
                </a:solidFill>
                <a:latin typeface="Arial Black"/>
              </a:rPr>
              <a:t> – </a:t>
            </a:r>
            <a:r>
              <a:rPr b="0" lang="ru-RU" sz="4000" spc="-1" strike="noStrike">
                <a:solidFill>
                  <a:srgbClr val="ffffb7"/>
                </a:solidFill>
                <a:latin typeface="Arial Black"/>
              </a:rPr>
              <a:t>это...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755640" y="4797360"/>
            <a:ext cx="7956720" cy="14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Монетарную политику определяет и осуществляет </a:t>
            </a:r>
            <a:r>
              <a:rPr b="0" i="1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Центральный банк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36160" y="1844280"/>
            <a:ext cx="8007480" cy="20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меры по регулированию денежного рынка с целью стабилизации экономик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3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4000" y="4797000"/>
            <a:ext cx="828036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3200" spc="-1" strike="noStrike">
                <a:solidFill>
                  <a:srgbClr val="ffffb7"/>
                </a:solidFill>
                <a:latin typeface="Arial"/>
              </a:rPr>
              <a:t>С помощью этих инструментов Центральный банк может воздействовать на денежную масс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5888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Инструменты монетарной политики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36160" y="1904760"/>
            <a:ext cx="8007480" cy="296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зменение нормы обязательных резерв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зменение учетной ставки процента (ставки рефинансирования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перации на открытом рынк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9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3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3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3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8T11:02:20Z</dcterms:created>
  <dc:creator>Ur.Gr.</dc:creator>
  <dc:description/>
  <dc:language>en-US</dc:language>
  <cp:lastModifiedBy>LEGION</cp:lastModifiedBy>
  <dcterms:modified xsi:type="dcterms:W3CDTF">2014-11-07T13:45:36Z</dcterms:modified>
  <cp:revision>23</cp:revision>
  <dc:subject/>
  <dc:title>Монетарная (кредитно-денежная) политика</dc:title>
</cp:coreProperties>
</file>