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7FD8-82CF-41AA-95D7-D1EC301F547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етарна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дитно-денежная) полити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акроэкономика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ная аттестацион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шателя группы Э-1/07 специальности «Экономика» Груздовой Т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23CE-FF8C-4DEF-94AC-05855876AA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зменение нормы обязательных резерв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нормы обязательных резервов ведет к уменьшению банковского мультипликатора: денежная масса сок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ормы обязательных резервов ведет к увеличению банковского мультипликатора: денежная масса 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C3A5-84E0-409D-BFFF-87C1F61753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менение учетной ставк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четной ставки процента ведет к уменьшению избыточных резервов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кредитных возможностей банков ведет к мультипликативному сжатию денежной м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учетной ставки процента ведет к увеличению избыточных резервов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редитных возможностей банков ведет к мультипликативному расширению денежной м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197E-B2DF-4BB7-A3E8-348E0FDD9C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ерации на открытом рынк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ка и продажа государственных ценных бумаг на вторичных рынках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6169-A83A-4696-A0BD-2F476A9E81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ции на открытом рын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даж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х ценных бумаг Центральным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меньшению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куп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ых ценных бумаг Центральным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величению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A304-E770-4698-BDF3-76B327AAFA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вложить деньг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ы до востреб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вкл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ысокая ликвидность, но невысокая дох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ысокая доход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о низкая ликви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т чего зависит решение владельцев денег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3D47-E854-451B-A486-075B76629A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 -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ладельцев денег зависит от величины рыночной процентной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денег, которая зависит от спроса и предложения денег на денежном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EB71-288D-4A6B-BFBD-57D60B15DD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 на денежном рынке под влиянием монетарной полити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8AFD-7774-471B-836E-67CC095A87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ую политику Центрального банка принято называть сдерживающе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результате мер монетарной политики денежная масса сокращается, рыночная ставка процента рас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Повышение ставки процента приводит к удорожанию кредитов и сдерживанию роста инвестиционных расходов и потребле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B3B7-3E57-44B0-AC86-9DDE19D92D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325D-324F-4F0E-975B-75D6D37C09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кую политику Центрального банка принято называть стимулирующ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нижение ставки процента стимулирует инвестиционные расходы фирм и потребительские расходы, а это ведет к увеличению совокупного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величение денежной массы в результате мер Центрального банка приводит к понижению рыночной ставк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6096-554F-414A-B77C-CB35DEA316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чебно-методического комплекса по теме «Монетарная политика» для классов с углубленным изучением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113A-DB1B-4439-AA7E-5F2075534A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озросли инвестиционные расходы фирм или потребительские расходы граждан, то совокупный спрос увеличи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цен подталкивает фирмы к увеличению выпу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этому такая монетарная политика называется стимулиру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= C+I+G+X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C7EB-E1CE-4B03-A3BE-A2BF94F206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 механизм денежной трансмиссии можно показать т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57CD-4806-4D7C-AC76-4B20817082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Этот механизм называется </a:t>
            </a:r>
            <a:r>
              <a:rPr b="1" i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механизмом денежной трансмиссии </a:t>
            </a: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money transmission mechan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монетарной политики происходит изменение предложения денег в эконом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денег воздействует на рыночную ставку проц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ставки процента приводит либо к росту совокупного спроса, либо к его уменьш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89F2-322A-43D8-B1BA-C857F2F021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й комплекс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реподавателе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ся в соответствии с программой факультета довузовской подготовки ГУ-ВШЭ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ется на использование учебных пособий для школ с углубленным изучением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E98A-B740-4E84-B90F-C8959221CC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иска из программы ГУ-ВШЭ для слушателей подготовительных курсов и базовы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нетарная (денежно-кредитная поли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политика, ее цели и целевые ориентиры. Роль центрального ба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монетарной политики. Операции на открытом рынке с государственными ценными бумагами. Изменение нормы обязательных банковских резервов. Изменение ставки рефинансирования (учетной ставки процента). Центральный банк как кредитор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денег. Предложение и спрос на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 и сдерживающая монетарная политика. Воздействие монетарной политики на совокупный 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E8FD-D3E7-42C5-99BD-45CC1BAF99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ли изучения 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ление знаний о механизме взаимодействия коммерческих и Центрального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едставлений о монетарной политике, о целях и способах ее осущест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знаниями о целях и способах регулирования денежного рынка с помощью банковск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45AD-B8A8-421F-BAFA-7E3257F302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результате изучения темы учащиеся долж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и описывать понятия: «монетарная политика», «норма обязательных резервов», «ставка рефинансирования», «операции на открытом рынке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и объяснять, как политика Центробанка воздействует на макроэкономическую ситуац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ть стимулирующую и сдерживающую монетарную полити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ть возможные последствия тех или иных мер Центроба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ть полученные знания для анализа конкретной эконом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BE5F-C57A-4D92-B031-FD8AC330C5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такое монетарная полит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ИТИКА КРЕДИТНО-ДЕНЕЖНА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проводимые правительством страны, государством меры, определяющие величину денежного предложения, массу денег в стране, процентные ставки кредитования, объем кредитов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нетарная полити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инструмент, при помощи которого правительства стараются воздействовать на макроэкономические условия, увеличивая или уменьшая денежную массу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ловарь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е и финан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B64D-72B2-4553-8585-E027BDEED7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нетар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и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о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нетарную политику определяет и осуществляе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нтральный ба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регулированию денежного рынка с целью стабил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9C82-BD48-47FF-96F5-BFF5A1BC5C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монетар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С помощью этих инструментов Центральный банк может воздействовать на денежную мас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нормы обязательных резер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учетной ставки процента (ставки рефинанс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 на открытом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8551-DF59-4B24-8751-AAD1AB75E7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B61-DAEC-4F2F-AE53-E011ED7D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08A-E3C2-4F1E-9D6F-E22F26DB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ECA-C682-4F6A-A996-D625D3BC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463-0EF5-4076-94CF-34C7981A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8AA9-2406-4683-A7E4-C74E5084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538F-DC37-4C47-B475-C13E29D0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6894-BEEF-4DE4-84A4-6A2E0BE9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D435-B2E9-445A-AC7C-D5153653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CAC4-B436-4B86-8D2F-DB6BD710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BD5E-7569-45DF-B23F-8819CC2E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B020-E2B9-434B-8A2E-531A2207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016C-B6CE-4FFD-8C98-2274AAE8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21BB-D086-4FC0-94E4-FA07A42E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5375-8198-4CA0-BEED-8331FF81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19F1-2A84-47CD-9B72-4ED21D1D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E82B-E3B0-4A01-9B51-DB0E2F1A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65C7-4CBA-417B-8BC6-412314D3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32A-D4F7-4810-AFAD-92FC8531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83C-038B-4C5A-A81A-F7255132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DCF-85F9-47BA-BB11-58059EAD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043-75A6-4D52-AB0C-467610DE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1AB-D1FA-42C6-89C6-E190050C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64D-6737-4BA3-A1AD-06A64D97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0D3-5EA1-43DE-997B-28B292A0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1DE6-6F78-45C6-920B-3489BF5B35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A858-4021-40B7-B56A-DA4D0D1824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8984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Монетарная 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кредитно-денежная) политика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Макроэкономика 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11 класс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71640" y="429264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ускная аттестацион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шателя группы Э-1/07 специальности «Экономика» Груздовой Т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Изменение нормы обязательных резерв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32403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нормы обязательных резервов ведет к уменьшению банковского мультипликатора: денежная масса сокращ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35280" y="1916280"/>
            <a:ext cx="3384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ижение нормы обязательных резервов ведет к увеличению банковского мультипликатора: денежная масса увеличи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 flipV="1">
            <a:off x="0" y="3141360"/>
            <a:ext cx="9144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3635280" y="4941720"/>
                <a:ext cx="2087640" cy="11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l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ан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2. Изменение учетной ставки процен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учетной ставки процента ведет к уменьшению избыточных резервов коммерческих ба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ньшение кредитных возможностей банков ведет к мультипликативному сжатию денежной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960" y="1905120"/>
            <a:ext cx="3927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жение учетной ставки процента ведет к увеличению избыточных резервов коммерческих ба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кредитных возможностей банков ведет к мультипликативному расширению денежной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3. Операции на открытом рынке – это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купка и продажа государственных ценных бумаг на вторичных рынках ценных бума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перации на открытом рынк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816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одаж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сударственных ценных бумаг Центральным бан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уменьшению предложения де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куп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сударственных ценных бумаг Центральным бан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увеличению предложения де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349236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д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да вложить деньги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6560" y="1905120"/>
            <a:ext cx="374508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ады до вос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76720" y="1905120"/>
            <a:ext cx="345600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очные вкла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ные бумаги (акции, облигац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6560" y="3428640"/>
            <a:ext cx="3745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Высокая ликвидность, но невысокая дохо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03640" y="3499920"/>
            <a:ext cx="38563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Высокая доходн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но низкая ликви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31640" y="5013360"/>
            <a:ext cx="7272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чего зависит решение владельцев дене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центная ставка - эт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36160" y="4941720"/>
            <a:ext cx="8007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на денег, которая зависит от спроса и предложения денег на денежном ры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1280" y="333000"/>
            <a:ext cx="80071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ение владельцев денег зависит от величины рыночной процентной ста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40960" y="260280"/>
            <a:ext cx="830268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Что происходит на денежном рынке под влиянием монетарной политики?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Picture 5" descr="Рис"/>
          <p:cNvPicPr/>
          <p:nvPr/>
        </p:nvPicPr>
        <p:blipFill>
          <a:blip r:embed="rId1"/>
          <a:stretch/>
        </p:blipFill>
        <p:spPr>
          <a:xfrm>
            <a:off x="826920" y="1916280"/>
            <a:ext cx="6121440" cy="4464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465264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акую политику Центрального банка принято называть сдерживающей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6920" y="475920"/>
            <a:ext cx="7632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результате мер монетарной политики денежная масса сокращается, рыночная ставка процента раст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8007120" cy="16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овышение ставки процента приводит к удорожанию кредитов и сдерживанию роста инвестиционных расходов и потреб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величение предложения денег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48360" y="4221000"/>
            <a:ext cx="9684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692360" y="1852560"/>
            <a:ext cx="6048360" cy="4730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479700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акую политику Центрального банка принято называть стимулирующе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36160" y="2420640"/>
            <a:ext cx="80074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онижение ставки процента стимулирует инвестиционные расходы фирм и потребительские расходы, а это ведет к увеличению совокупного спро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333360"/>
            <a:ext cx="80071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величение денежной массы в результате мер Центрального банка приводит к понижению рыночной ставки проц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Цель работы: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учебно-методического комплекса по теме «Монетарная политика» для классов с углубленным изучением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71280" y="1988640"/>
            <a:ext cx="8172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озросли инвестиционные расходы фирм или потребительские расходы граждан, то совокупный спрос увеличив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 цен подталкивает фирмы к увеличению выпу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b7"/>
                </a:solidFill>
                <a:latin typeface="Arial"/>
              </a:rPr>
              <a:t>Поэтому такая монетарная политика называется стимулирующ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7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окупный спрос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10920" y="1196640"/>
            <a:ext cx="396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= C+I+G+X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712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фически механизм денежной трансмиссии можно показать та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РИс"/>
          <p:cNvPicPr/>
          <p:nvPr/>
        </p:nvPicPr>
        <p:blipFill>
          <a:blip r:embed="rId1"/>
          <a:srcRect l="-4451" t="-1939" r="24707" b="14587"/>
          <a:stretch/>
        </p:blipFill>
        <p:spPr>
          <a:xfrm>
            <a:off x="1692360" y="1989000"/>
            <a:ext cx="3889440" cy="319572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116000" y="4941360"/>
            <a:ext cx="76471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Этот механизм называется </a:t>
            </a: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механизмом денежной трансмиссии </a:t>
            </a: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b7"/>
                </a:solidFill>
                <a:latin typeface="Arial"/>
              </a:rPr>
              <a:t>money transmission mechan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8388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езультате монетарной политики происходит изменение предложения денег в эконом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предложения денег воздействует на рыночную ставку проц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ставки процента приводит либо к росту совокупного спроса, либо к его уменьш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Учебно-методический комплекс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назначен для преподавателей экономи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ся в соответствии с программой факультета довузовской подготовки ГУ-ВШЭ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ируется на использование учебных пособий для школ с углубленным изучением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ыписка из программы ГУ-ВШЭ для слушателей подготовительных курсов и базовых школ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6160" y="2060640"/>
            <a:ext cx="7683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нетарная (денежно-кредитная полити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етарная политика, ее цели и целевые ориентиры. Роль центрального ба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рументы монетарной политики. Операции на открытом рынке с государственными ценными бумагами. Изменение нормы обязательных банковских резервов. Изменение ставки рефинансирования (учетной ставки процента). Центральный банк как кредитор коммерческих бан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ынок денег. Предложение и спрос на день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мулирующая и сдерживающая монетарная политика. Воздействие монетарной политики на совокупный спро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Цели изучения темы: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9360" y="1773360"/>
            <a:ext cx="8234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убление знаний о механизме взаимодействия коммерческих и Центрального бан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представлений о монетарной политике, о целях и способах ее осущест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владение знаниями о целях и способах регулирования денежного рынка с помощью банковской сис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 результате изучения темы учащиеся долж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2151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 и описывать понятия: «монетарная политика», «норма обязательных резервов», «ставка рефинансирования», «операции на открытом рынке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и объяснять, как политика Центробанка воздействует на макроэкономическую ситуаци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ичать стимулирующую и сдерживающую монетарную политик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ть возможные последствия тех или иных мер Центроба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ть полученные знания для анализа конкретной экономической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03280" y="486900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71640" y="1844640"/>
            <a:ext cx="77040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ИТИКА КРЕДИТНО-ДЕНЕЖНАЯ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проводимые правительством страны, государством меры, определяющие величину денежного предложения, массу денег в стране, процентные ставки кредитования, объем кредитов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экономический словар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нетарная политик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инструмент, при помощи которого правительства стараются воздействовать на макроэкономические условия, увеличивая или уменьшая денежную массу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словарь п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номике и финанс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Что такое монетарная политика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Монетарная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олитика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это..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55640" y="4797360"/>
            <a:ext cx="795672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онетарную политику определяет и осуществляет 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Центральный бан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36160" y="1844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ры по регулированию денежного рынка с целью стабилизации эконом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4000" y="479700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b7"/>
                </a:solidFill>
                <a:latin typeface="Arial"/>
              </a:rPr>
              <a:t>С помощью этих инструментов Центральный банк может воздействовать на денежную мас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нструменты монетарной политик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нормы обязательных резерв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учетной ставки процента (ставки рефинансирова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и на открытом рын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1:02:20Z</dcterms:created>
  <dc:creator>Ur.Gr.</dc:creator>
  <dc:description/>
  <dc:language>en-US</dc:language>
  <cp:lastModifiedBy>LEGION</cp:lastModifiedBy>
  <dcterms:modified xsi:type="dcterms:W3CDTF">2014-11-07T13:45:36Z</dcterms:modified>
  <cp:revision>23</cp:revision>
  <dc:subject/>
  <dc:title>Монетарная (кредитно-денежная) политика</dc:title>
</cp:coreProperties>
</file>