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749E-A6FD-4F6F-AD89-175A237F76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етарна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дитно-денежная) полит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акроэкономика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ая аттеста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теля группы Э-1/07 специальности «Экономика» Груздовой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D87D-AAAF-458C-B93C-26FDF8AAAE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менение нормы обязательных резерв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0DC9-E43F-4338-851E-7FBBDEC6ED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менение учет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DF69-359A-4956-A8FA-285441B1B4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ерации на открытом рынк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ка и продажа государственных ценных бумаг на вторичных рынках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2D64-5EAF-469C-BD1E-097ABC4F1B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ции на открытом рын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аж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меньш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куп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велич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B84F-0310-44B3-A210-0669E651DA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ложить день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ы до вос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кл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ликвидность, но невысокая дох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дохо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о низкая ликви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 чего зависит решение владельцев денег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C655-23A0-4825-8C25-BD846CE321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ладельцев денег зависит от величины рыночной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денег, которая зависит от спроса и предложения денег на денежн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985-A13B-4069-B01F-D55E4082B2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 на денежном рынке под влиянием монетарной полит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C6E-D2C5-48BF-B9BE-F8D2D5FA35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держивающе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F484-5C0F-4D1D-BC60-5A4190C671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02FA-CE50-433D-97D2-F8ABE36EF5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тимулирующ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7925-44D7-4A56-9899-B1C90840FA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AE36-9A65-47CD-8C57-F73B207BBD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цен подталкивает фирмы к увеличению выпу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этому такая монетарная политика называется стимулиру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= C+I+G+X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AA07-E284-44A8-A303-6685FBE644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механизм денежной трансмиссии можно показать т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EB0A-2AE3-4B67-B08B-6C94A760EB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money transmission mechan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денег воздействует на рыночную ставку проц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7BCD-C5E8-4D12-9EC1-45BCDD8937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реподавателе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ся в соответствии с программой факультета довузовской подготовки ГУ-ВШ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05F9-5629-4363-9065-8F62B8AA13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ка из программы ГУ-ВШЭ для слушателей подготовительных курсов и базовы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(денежно-кредитная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политика, ее цели и целевые ориентиры. Роль центрального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денег. Предложение и спрос на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5453-4039-43DB-860C-EA7CEE47C3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и изучения 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ление знаний о механизме взаимодействия коммерческих и Центрального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D58C-60CC-412F-A48D-841B4B8EA2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результате изучения темы учащиеся долж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стимулирующую и сдерживающую монетарную полити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ть возможные последствия тех или иных мер Центроба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полученные знания для анализа конкретной эконом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790A-B123-459D-BC06-29A87ADDB7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монетарная полит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ИТИКА КРЕДИТНО-ДЕНЕЖНА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полити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арь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е и финан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72AE-BC12-4D4B-B0E0-B7A0E6FB39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нета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етарную политику определяет и осуществляе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нтральный б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регулированию денежного рынка с целью стабил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AE23-8FB3-453B-A1BD-0BB8A87433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С помощью этих инструментов Центральный банк может воздействовать на денежную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нормы обязательных резер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учетной ставки процента (ставки рефинанс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на открыт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F098-357C-4777-A960-4F8D876712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39F-BBC8-4A29-8AB3-58AB8727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FA3-1FC6-4011-9ADD-C0DDA5E7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72C-89A7-4DBE-9F33-66330FE6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5CB-25A8-4F61-AAED-19C56E35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6BDC-B5E8-4714-8944-7C7A9A4A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B49E-3450-421C-A5DC-E77ACA9E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4BC3-BF06-4204-B022-6B6BA75A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167A-9330-4A9F-914D-31F9F1E3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2A1A-051D-475D-984D-5A549BA9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E16B-ADA0-4630-BE9E-C220EA35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E7AF-A646-441C-9BF2-CA359DD1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930-6CE1-4F23-BD26-C0A798E8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4646-CE95-43C1-954E-953D503E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BF45-6E9B-4672-ADF0-C4043221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ABED-3492-467F-A771-2520634A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3385-E47D-4B6D-9F4E-0D84A564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5750-41C6-4054-9B28-AE505E93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7F8-4D8B-44EC-9DAD-241BE5F8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75A-9334-4AB0-9319-D345D5C6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399-914C-4935-B0D6-152943B8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7B1-C4A9-45C7-8BE1-FAA10A54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392-9555-4DEA-A303-B66706F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42D-968E-410F-A282-62B1CF3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08E-49E8-43D4-9980-EE27C044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708A-18FB-4371-B120-DDDB62C35C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67D8-35BE-402C-989C-F813930DB5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онетарная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кредитно-денежная) политика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Макроэкономика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11 класс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292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кная аттес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шателя группы Э-1/07 специальности «Экономика» Груздовой Т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Изменение нормы обязательных резерв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32403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35280" y="1916280"/>
            <a:ext cx="338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0" y="314136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635280" y="4941720"/>
                <a:ext cx="208764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l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ан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Изменение учетной ставки процен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3. Операции на открытом рынке – это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купка и продажа государственных ценных бумаг на вторичных рынках ценных бума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ерации на открытом рынк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аж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меньш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куп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велич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492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а вложить день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560" y="1905120"/>
            <a:ext cx="374508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ы до вос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6720" y="1905120"/>
            <a:ext cx="3456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чные вкла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ые бумаги (акции, облиг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3428640"/>
            <a:ext cx="374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ликвидность, но невысокая дох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03640" y="3499920"/>
            <a:ext cx="3856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доход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но низкая ликви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1640" y="5013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чего зависит решение владельцев дене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центная ставка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36160" y="4941720"/>
            <a:ext cx="8007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а денег, которая зависит от спроса и предложения денег на денежн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33000"/>
            <a:ext cx="8007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 владельцев денег зависит от величины рыночной процентной 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40960" y="260280"/>
            <a:ext cx="8302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 происходит на денежном рынке под влиянием монетарной политики?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5" descr="Рис"/>
          <p:cNvPicPr/>
          <p:nvPr/>
        </p:nvPicPr>
        <p:blipFill>
          <a:blip r:embed="rId1"/>
          <a:stretch/>
        </p:blipFill>
        <p:spPr>
          <a:xfrm>
            <a:off x="826920" y="1916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65264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держивающей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475920"/>
            <a:ext cx="763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8007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величение предложения дене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48360" y="4221000"/>
            <a:ext cx="968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692360" y="1852560"/>
            <a:ext cx="6048360" cy="4730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797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тимулирующ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36160" y="2420640"/>
            <a:ext cx="800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8007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работы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1280" y="1988640"/>
            <a:ext cx="8172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цен подталкивает фирмы к увеличению выпу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Поэтому такая монетарная политика называется стимулирующ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окупный с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39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= C+I+G+X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12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 механизм денежной трансмиссии можно показать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РИс"/>
          <p:cNvPicPr/>
          <p:nvPr/>
        </p:nvPicPr>
        <p:blipFill>
          <a:blip r:embed="rId1"/>
          <a:srcRect l="-4451" t="-1939" r="24707" b="14587"/>
          <a:stretch/>
        </p:blipFill>
        <p:spPr>
          <a:xfrm>
            <a:off x="1692360" y="1989000"/>
            <a:ext cx="3889440" cy="31957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16000" y="4941360"/>
            <a:ext cx="76471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money transmission mechan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предложения денег воздействует на рыночную ставку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чебно-методический комплекс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 для преподавателей эконом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ся в соответствии с программой факультета довузовской подготовки ГУ-ВШ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ыписка из программы ГУ-ВШЭ для слушателей подготовительных курсов и базовых шко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6160" y="2060640"/>
            <a:ext cx="7683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(денежно-кредитная полит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етарная политика, ее цели и целевые ориентиры. Роль центрального ба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нок денег. Предложение и спрос на день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Цели изучения темы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9360" y="177336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убление знаний о механизме взаимодействия коммерческих и Центрального бан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результате изучения темы учащиеся долж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15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ть стимулирующую и сдерживающую монетарную поли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ть возможные последствия тех или иных мер Центроба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полученные знания для анализа конкретной экономическ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03280" y="486900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1640" y="1844640"/>
            <a:ext cx="770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ТИКА КРЕДИТНО-ДЕНЕЖНА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кономический слова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полит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ловарь п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ке и финанс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монетарная политик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Монетарная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олитик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это..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4797360"/>
            <a:ext cx="7956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онетарную политику определяет и осуществляет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нтральный ба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36160" y="1844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ры по регулированию денежного рынка с целью стабилизации эконом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000" y="4797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С помощью этих инструментов Центральный банк может воздействовать на денежную мас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нструменты монетарной полит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нормы обязательных резер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учетной ставки процента (ставки рефинансир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и на открытом рын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1:02:20Z</dcterms:created>
  <dc:creator>Ur.Gr.</dc:creator>
  <dc:description/>
  <dc:language>en-US</dc:language>
  <cp:lastModifiedBy>LEGION</cp:lastModifiedBy>
  <dcterms:modified xsi:type="dcterms:W3CDTF">2014-11-07T13:45:36Z</dcterms:modified>
  <cp:revision>23</cp:revision>
  <dc:subject/>
  <dc:title>Монетарная (кредитно-денежная) политика</dc:title>
</cp:coreProperties>
</file>