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E3B6-C97A-41C0-A288-0EA10459034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нетарна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едитно-денежная) полити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Макроэкономика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11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ная аттестацион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шателя группы Э-1/07 специальности «Экономика» Груздовой Т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F4A3-E367-4BF3-AEF0-1090CD7C2D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зменение нормы обязательных резерв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нормы обязательных резервов ведет к уменьшению банковского мультипликатора: денежная масса сок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нормы обязательных резервов ведет к увеличению банковского мультипликатора: денежная масса увели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AB4B-86CB-4B1C-8E6B-158C16030C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зменение учетной ставки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четной ставки процента ведет к уменьшению избыточных резервов коммерческих ба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ение кредитных возможностей банков ведет к мультипликативному сжатию денежной м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учетной ставки процента ведет к увеличению избыточных резервов коммерческих ба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кредитных возможностей банков ведет к мультипликативному расширению денежной м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5F66-A17B-46CB-BEC1-5FC96718473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перации на открытом рынке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ка и продажа государственных ценных бумаг на вторичных рынках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C55C-0C41-4E37-9F03-C7A8D387CE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ерации на открытом рынк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даж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х ценных бумаг Центральным ба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меньшению предложения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куп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сударственных ценных бумаг Центральным ба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величению предложения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F7B6-C615-4337-9139-9B9CEDCF64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вложить деньг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ады до востреб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е вкла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 (акции, облиг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ысокая ликвидность, но невысокая дохо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ысокая доход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о низкая ликви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т чего зависит решение владельцев денег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B8E8-2133-4745-B0C6-FB52861890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ая ставка -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владельцев денег зависит от величины рыночной процентной ста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денег, которая зависит от спроса и предложения денег на денежном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D3B6-0F48-4E14-BBFE-E428AEC7A5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 на денежном рынке под влиянием монетарной политик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A531-DC73-4ED4-AEA3-771C4AB28E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ую политику Центрального банка принято называть сдерживающе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результате мер монетарной политики денежная масса сокращается, рыночная ставка процента рас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f497d"/>
                </a:solidFill>
                <a:latin typeface="Calibri"/>
              </a:rPr>
              <a:t>Повышение ставки процента приводит к удорожанию кредитов и сдерживанию роста инвестиционных расходов и потребле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E4B2-BCD5-4388-86CE-A7C092EC02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предложения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04D1-342E-4C82-9350-8B78EDCE1AA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кую политику Центрального банка принято называть стимулирующ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нижение ставки процента стимулирует инвестиционные расходы фирм и потребительские расходы, а это ведет к увеличению совокупного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величение денежной массы в результате мер Центрального банка приводит к понижению рыночной ставки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C185-A965-4999-9644-6EF14F11E9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учебно-методического комплекса по теме «Монетарная политика» для классов с углубленным изучением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01F9-8D5D-4082-8382-55AE7C5C66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озросли инвестиционные расходы фирм или потребительские расходы граждан, то совокупный спрос увеличив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цен подталкивает фирмы к увеличению выпу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оэтому такая монетарная политика называется стимулиру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= C+I+G+X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5290-85F5-4529-B7AE-86EF3AFAFF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 механизм денежной трансмиссии можно показать т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4D54-594D-4524-B551-E31E2B21A2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Этот механизм называется </a:t>
            </a:r>
            <a:r>
              <a:rPr b="1" i="1" lang="ru-RU" sz="2800" spc="-1" strike="noStrike" u="sng">
                <a:solidFill>
                  <a:srgbClr val="1f497d"/>
                </a:solidFill>
                <a:uFillTx/>
                <a:latin typeface="Calibri"/>
              </a:rPr>
              <a:t>механизмом денежной трансмиссии </a:t>
            </a: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1f497d"/>
                </a:solidFill>
                <a:latin typeface="Calibri"/>
              </a:rPr>
              <a:t>money transmission mechan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езультате монетарной политики происходит изменение предложения денег в эконом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едложения денег воздействует на рыночную ставку проц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е ставки процента приводит либо к росту совокупного спроса, либо к его уменьше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2947-B204-4374-B925-1FE4EE50FD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й комплекс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преподавателей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ся в соответствии с программой факультета довузовской подготовки ГУ-ВШЭ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уется на использование учебных пособий для школ с углубленным изучением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A25A-D77F-4B02-A081-21DDBB891B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иска из программы ГУ-ВШЭ для слушателей подготовительных курсов и базовых шк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нетарная (денежно-кредитная полити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етарная политика, ее цели и целевые ориентиры. Роль центрального ба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ы монетарной политики. Операции на открытом рынке с государственными ценными бумагами. Изменение нормы обязательных банковских резервов. Изменение ставки рефинансирования (учетной ставки процента). Центральный банк как кредитор коммерческих ба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денег. Предложение и спрос на день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 и сдерживающая монетарная политика. Воздействие монетарной политики на совокупный спр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50EC-7881-480E-BF7A-671CC0BAAA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ели изучения темы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убление знаний о механизме взаимодействия коммерческих и Центрального ба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редставлений о монетарной политике, о целях и способах ее осущест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знаниями о целях и способах регулирования денежного рынка с помощью банковск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398E-42E3-4FF6-B763-75D5723287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результате изучения темы учащиеся долж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 и описывать понятия: «монетарная политика», «норма обязательных резервов», «ставка рефинансирования», «операции на открытом рынке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 и объяснять, как политика Центробанка воздействует на макроэкономическую ситуац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ть стимулирующую и сдерживающую монетарную полити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ть возможные последствия тех или иных мер Центроба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ть полученные знания для анализа конкретной экономическо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600D-7B67-4C01-8980-E294973A46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такое монетарная полити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ЛИТИКА КРЕДИТНО-ДЕНЕЖНА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проводимые правительством страны, государством меры, определяющие величину денежного предложения, массу денег в стране, процентные ставки кредитования, объем кредитов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нетарная полити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инструмент, при помощи которого правительства стараются воздействовать на макроэкономические условия, увеличивая или уменьшая денежную массу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ловарь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е и финанс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0CDF-7C53-43F3-998E-879A4994649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нетар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и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то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нетарную политику определяет и осуществляе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нтральный ба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по регулированию денежного рынка с целью стабилизации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2E02-6D9B-44B8-A1EB-193AEE635A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ы монетар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С помощью этих инструментов Центральный банк может воздействовать на денежную мас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нормы обязательных резер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учетной ставки процента (ставки рефинанс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и на открытом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B72B-6C5D-463A-BF71-0A4A77FDD7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620-20BC-48E0-B08D-D78143AE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F079-0277-42D7-8B9B-0ECDD32E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9A32-E04F-4CB2-9822-894E74DA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318B-42A8-421B-8533-EDE70D65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7473-B6DB-4D68-B64C-EEC1F520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283A-00A3-4F09-8B6C-5DAFC5DD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F393-BFD0-49EF-BD1C-5280FEC6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6006-076E-470E-AEA4-6B120C86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E131-F6C3-4785-9F56-A40EE8BA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8C3A-EE32-4423-9C88-D464A6D0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1349-954F-4837-9357-6DEFBB5C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D3FB-595F-49FB-90D3-272A3A45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A1D6-BEB2-4BB5-9894-48DA4423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2B11-0E6F-48CB-B275-FB8E43B2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4098-5489-4DD5-8B26-DDE7DBD1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9630-951B-4A29-945B-B8FBA255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62E1-2E83-4C69-AB8B-2D296533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D464-A97B-4566-95E1-18E573EA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7C97-74DB-465F-B0D2-2A90953C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A21C-3E41-4E51-A144-DE2C70CD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8E6-4825-405D-9F66-EFFBD804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A178-F240-457D-9AE5-E9FC29DD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EE4-1A54-4B9D-9901-F92B1B1E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439-DF49-4C25-98D6-4D885FEA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C497-A2E3-4D4A-87BE-DFCB248358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A0D3-259C-4E1F-8F20-97479B5B8A6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98984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Монетарная 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кредитно-денежная) политика</a:t>
            </a:r>
            <a:br>
              <a:rPr sz="48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Макроэкономика 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11 класс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71640" y="429264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ускная аттестационная 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ушателя группы Э-1/07 специальности «Экономика» Груздовой Т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Изменение нормы обязательных резервов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324036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нормы обязательных резервов ведет к уменьшению банковского мультипликатора: денежная масса сокращ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35280" y="1916280"/>
            <a:ext cx="3384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ижение нормы обязательных резервов ведет к увеличению банковского мультипликатора: денежная масса увеличи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 flipV="1">
            <a:off x="0" y="3141360"/>
            <a:ext cx="91440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3635280" y="4941720"/>
                <a:ext cx="2087640" cy="11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l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ан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2. Изменение учетной ставки процен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4032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учетной ставки процента ведет к уменьшению избыточных резервов коммерческих бан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ньшение кредитных возможностей банков ведет к мультипликативному сжатию денежной м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17960" y="1905120"/>
            <a:ext cx="3927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ижение учетной ставки процента ведет к увеличению избыточных резервов коммерческих бан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кредитных возможностей банков ведет к мультипликативному расширению денежной м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3. Операции на открытом рынке – это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купка и продажа государственных ценных бумаг на вторичных рынках ценных бума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перации на открытом рынке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3816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одаж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сударственных ценных бумаг Центральным бан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уменьшению предложения ден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куп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сударственных ценных бумаг Центральным бан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увеличению предложения ден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3492360" y="414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д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уда вложить деньги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26560" y="1905120"/>
            <a:ext cx="374508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ны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клады до востреб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076720" y="1905120"/>
            <a:ext cx="345600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очные вкла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нные бумаги (акции, облигац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26560" y="3428640"/>
            <a:ext cx="3745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Высокая ликвидность, но невысокая доход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003640" y="3499920"/>
            <a:ext cx="38563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Высокая доходнос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но низкая ликвид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31640" y="5013360"/>
            <a:ext cx="7272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 чего зависит решение владельцев денег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центная ставка - эт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36160" y="4941720"/>
            <a:ext cx="80074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на денег, которая зависит от спроса и предложения денег на денежном рын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11280" y="333000"/>
            <a:ext cx="80071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ение владельцев денег зависит от величины рыночной процентной ста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40960" y="260280"/>
            <a:ext cx="8302680" cy="14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Что происходит на денежном рынке под влиянием монетарной политики?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5" name="Picture 5" descr="Рис"/>
          <p:cNvPicPr/>
          <p:nvPr/>
        </p:nvPicPr>
        <p:blipFill>
          <a:blip r:embed="rId1"/>
          <a:stretch/>
        </p:blipFill>
        <p:spPr>
          <a:xfrm>
            <a:off x="826920" y="1916280"/>
            <a:ext cx="6121440" cy="4464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4652640"/>
            <a:ext cx="7920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Такую политику Центрального банка принято называть сдерживающей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26920" y="475920"/>
            <a:ext cx="7632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результате мер монетарной политики денежная масса сокращается, рыночная ставка процента раст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640" y="2276640"/>
            <a:ext cx="8007120" cy="16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Повышение ставки процента приводит к удорожанию кредитов и сдерживанию роста инвестиционных расходов и потреб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Увеличение предложения денег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748360" y="4221000"/>
            <a:ext cx="96840" cy="18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1692360" y="1852560"/>
            <a:ext cx="6048360" cy="47307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4797000"/>
            <a:ext cx="7632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Такую политику Центрального банка принято называть стимулирующей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36160" y="2420640"/>
            <a:ext cx="800748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Понижение ставки процента стимулирует инвестиционные расходы фирм и потребительские расходы, а это ведет к увеличению совокупного спро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1280" y="333360"/>
            <a:ext cx="80071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величение денежной массы в результате мер Центрального банка приводит к понижению рыночной ставки процен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Цель работы: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учебно-методического комплекса по теме «Монетарная политика» для классов с углубленным изучением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71280" y="1988640"/>
            <a:ext cx="8172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озросли инвестиционные расходы фирм или потребительские расходы граждан, то совокупный спрос увеличивае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т цен подталкивает фирмы к увеличению выпус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b7"/>
                </a:solidFill>
                <a:latin typeface="Arial"/>
              </a:rPr>
              <a:t>Поэтому такая монетарная политика называется стимулирующ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777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вокупный спрос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10920" y="1196640"/>
            <a:ext cx="396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= C+I+G+X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7128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фически механизм денежной трансмиссии можно показать та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РИс"/>
          <p:cNvPicPr/>
          <p:nvPr/>
        </p:nvPicPr>
        <p:blipFill>
          <a:blip r:embed="rId1"/>
          <a:srcRect l="-4451" t="-1939" r="24707" b="14587"/>
          <a:stretch/>
        </p:blipFill>
        <p:spPr>
          <a:xfrm>
            <a:off x="1692360" y="1989000"/>
            <a:ext cx="3889440" cy="319572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116000" y="4941360"/>
            <a:ext cx="764712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b7"/>
                </a:solidFill>
                <a:latin typeface="Arial"/>
              </a:rPr>
              <a:t>Этот механизм называется </a:t>
            </a:r>
            <a:r>
              <a:rPr b="1" i="1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механизмом денежной трансмиссии </a:t>
            </a:r>
            <a:r>
              <a:rPr b="1" i="1" lang="ru-RU" sz="2800" spc="-1" strike="noStrike">
                <a:solidFill>
                  <a:srgbClr val="ffffb7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fffb7"/>
                </a:solidFill>
                <a:latin typeface="Arial"/>
              </a:rPr>
              <a:t>money transmission mechanis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55280" y="476280"/>
            <a:ext cx="8388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езультате монетарной политики происходит изменение предложения денег в эконом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ение предложения денег воздействует на рыночную ставку проце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ение ставки процента приводит либо к росту совокупного спроса, либо к его уменьше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Учебно-методический комплекс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назначен для преподавателей экономи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ится в соответствии с программой факультета довузовской подготовки ГУ-ВШЭ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иентируется на использование учебных пособий для школ с углубленным изучением эконом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Выписка из программы ГУ-ВШЭ для слушателей подготовительных курсов и базовых школ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36160" y="2060640"/>
            <a:ext cx="76834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нетарная (денежно-кредитная политик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етарная политика, ее цели и целевые ориентиры. Роль центрального ба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струменты монетарной политики. Операции на открытом рынке с государственными ценными бумагами. Изменение нормы обязательных банковских резервов. Изменение ставки рефинансирования (учетной ставки процента). Центральный банк как кредитор коммерческих бан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ынок денег. Предложение и спрос на деньг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имулирующая и сдерживающая монетарная политика. Воздействие монетарной политики на совокупный спро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Цели изучения темы: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9360" y="1773360"/>
            <a:ext cx="82342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лубление знаний о механизме взаимодействия коммерческих и Центрального бан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представлений о монетарной политике, о целях и способах ее осуществ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владение знаниями о целях и способах регулирования денежного рынка с помощью банковской систе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В результате изучения темы учащиеся должн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72151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ть и описывать понятия: «монетарная политика», «норма обязательных резервов», «ставка рефинансирования», «операции на открытом рынке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имать и объяснять, как политика Центробанка воздействует на макроэкономическую ситуацию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личать стимулирующую и сдерживающую монетарную политик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ть возможные последствия тех или иных мер Центроба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ять полученные знания для анализа конкретной экономической ситу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403280" y="486900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71640" y="1844640"/>
            <a:ext cx="77040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ЛИТИКА КРЕДИТНО-ДЕНЕЖНАЯ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- проводимые правительством страны, государством меры, определяющие величину денежного предложения, массу денег в стране, процентные ставки кредитования, объем кредитов…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экономический словар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онетарная политик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- инструмент, при помощи которого правительства стараются воздействовать на макроэкономические условия, увеличивая или уменьшая денежную массу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словарь п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ономике и финанса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Что такое монетарная политика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Монетарная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политика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–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это..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55640" y="4797360"/>
            <a:ext cx="795672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Монетарную политику определяет и осуществляет </a:t>
            </a: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Центральный бан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36160" y="1844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ры по регулированию денежного рынка с целью стабилизации экономи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4000" y="4797000"/>
            <a:ext cx="8280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b7"/>
                </a:solidFill>
                <a:latin typeface="Arial"/>
              </a:rPr>
              <a:t>С помощью этих инструментов Центральный банк может воздействовать на денежную мас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нструменты монетарной политик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ение нормы обязательных резерв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ение учетной ставки процента (ставки рефинансирова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ерации на открытом рын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1:02:20Z</dcterms:created>
  <dc:creator>Ur.Gr.</dc:creator>
  <dc:description/>
  <dc:language>en-US</dc:language>
  <cp:lastModifiedBy>LEGION</cp:lastModifiedBy>
  <dcterms:modified xsi:type="dcterms:W3CDTF">2014-11-07T13:45:36Z</dcterms:modified>
  <cp:revision>23</cp:revision>
  <dc:subject/>
  <dc:title>Монетарная (кредитно-денежная) политика</dc:title>
</cp:coreProperties>
</file>