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AA92-82A2-4101-A727-12D0F23CFF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вечность! прекрати твоих шум веч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то превосходней всех героев в свете бы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вятилище твое от нас в сей день вступ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в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й 1800  Г.Р. Держа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F875-B42C-4813-8154-5BF7E79E35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амять о Суворов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CC82-4B12-40D5-A23B-D16358E33C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А. В. Суворову в Севастополе, 19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E461-75D2-4605-B454-98D808DA63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уворова III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риальный му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в Санкт-Петербур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B291-6041-47BD-A205-A70684B26C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b.rus.ec/b/1790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%D0%A1%D1%83%D0%B2%D0%BE%D1%80%D0%BE%D0%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military/commander/suvor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taina.aib.ru/biography/aleksandr-suvorov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8692-3A0A-4E1F-8248-B84B7F1334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(24) ноября 1729 — 6 (18) мая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 Александр Васильевич Италийский, граф Суворов-Рымник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рож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смер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адлеж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ды служб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48—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ералиссим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андова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м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жения/вой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 (178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кшаны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мник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Измаила (17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Праги (17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834F-B8E2-4D6D-A48B-AF48C73D7E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дился 13 (24) ноября 1729 или 1730 года в семье во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42 году был зачислен мушкетёром в лейб-гвардии Семёновский пол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8B28-FA4E-45D6-9825-76F38249E7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Сражения/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401D-25B2-4FBE-A5D5-DC6FA50FBD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-турецкая война 1768—17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1513-5901-4405-8BB3-C8A4327D46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62F4-3995-4BF9-906C-E661EB0AD5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ий поход 179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C944-8AA7-4A2D-B045-5E3EC91EAD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Владимира 1-й ст. (28.07.1783) — за победы над ногайцами в Кры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лександра Невского (20.12.1771) — за победу над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й Анны (09.1770) — за бои с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алер большого креста Иоанна Иерусалим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ийский Военный орден Марии Терезии 1-й кл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усские: орден Красного орла 1-й ст., орден Чёрного орла, «За заслуг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динские: Св. Анунциаты, Св. Маврикия и Лазар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варские: орден Святого Губерта, орден Золотого ль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: орден Кармельской Богородицы, орден Святого Лаза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9D43-B972-4ADE-B8E1-76C875A51F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13A-16BD-489A-B136-647B0CBC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2A2-6B06-42CB-B4EC-8E204F45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FAA-3AE7-4134-A59A-232CA7EB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B19-6151-4964-AB40-2B20CB4B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94F5-5F09-4F09-9DEC-72896DF3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3243-E8E5-488F-976A-6380D075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38B5-E616-445E-887F-6DDA8DD8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8990-917C-497F-AE87-AC0342F3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511B-1A18-4990-BA2F-CE7A4E26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E79A-1591-4439-8497-11E80A5D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74FA-A6BB-45E8-9FD9-2E2CD20D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EE5-55AB-4C6A-A856-9E4A1001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86B9-3947-407F-88A9-B300579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6A4D-A107-4D4C-9209-B065BACA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E95A-3158-43CC-804D-75085CC7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6BAF-9762-4D78-B78D-53A74E18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8B8F-E801-45D4-8C57-DE3ED944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B03-3828-4FD7-8C88-8347B84C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46E-B556-474F-B297-37E49B87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09D7-5734-4DB3-BECA-53301ABC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EF0-07A1-45C9-9350-17A5F1F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066-604C-4BC3-B091-37A9668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741-95A5-4E9F-8B89-1B143DD0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B8E-0E40-4648-8954-97F7F762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F1AA-E02D-4A35-8BBF-01A09C5169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E7D6-FD75-4F28-9EC5-B9D67DDEA9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b.rus.ec/b/179079" TargetMode="External"/><Relationship Id="rId2" Type="http://schemas.openxmlformats.org/officeDocument/2006/relationships/hyperlink" Target="http://ru.wikipedia.org/wiki/&#1057;&#1091;&#1074;&#1086;&#1088;&#1086;&#1074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42720" y="3857760"/>
            <a:ext cx="669924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вечность! прекрати твоих шум вечных сп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 превосходней всех героев в свете бы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вятилище твое от нас в сей день вступ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в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й 1800  Г.Р. Держа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45080" y="858960"/>
            <a:ext cx="2852640" cy="3206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071960" y="35712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mbria Math"/>
                <a:ea typeface="Cambria Math"/>
              </a:rPr>
              <a:t>Александр Васильевич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28760" y="6211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ла к уроку Атапина Анастасия, 10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ОУ  СОШ № 15 г. Балашо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840" y="212760"/>
            <a:ext cx="2378160" cy="3736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043160" cy="5510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1187280" y="5805360"/>
            <a:ext cx="65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похоронен в Нижней Благовещенской церкви Александро-Невской лав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 память о Суворове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4360" y="1700280"/>
            <a:ext cx="2627280" cy="288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6040440" y="1628640"/>
            <a:ext cx="2298600" cy="3486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395280" y="47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швейцарских Аль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5157720"/>
            <a:ext cx="39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а «Суворов в Альпах» (с рисунка Николая Аввакумова, 1941, Москва, Государственный музей изобразительных искусств имени А. С. Пушк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3"/>
          <a:stretch/>
        </p:blipFill>
        <p:spPr>
          <a:xfrm>
            <a:off x="3220920" y="1628640"/>
            <a:ext cx="2293920" cy="3052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5"/>
          <p:cNvSpPr/>
          <p:nvPr/>
        </p:nvSpPr>
        <p:spPr>
          <a:xfrm>
            <a:off x="291636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на месте редута на берегу Сал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772000" cy="381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5807160" y="2276640"/>
            <a:ext cx="3336840" cy="360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0" y="594216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Санкт-Петербурге, Михаил Козловский, 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292720" y="602136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Москве. Скульптор О. К. К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2481480" cy="331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2916360" y="3573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А. В. Суворову в Севастополе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68680" cy="35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367160" cy="3416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325080" y="494172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ен Суворова III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505040" y="4797360"/>
            <a:ext cx="44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риальный муз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орова в Санкт-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формационные ресур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lib.rus.ec/b/179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ru.wikipedia.org/wiki/%D0%A1%D1%83%D0%B2%D0%BE%D1%80%D0%BE%D0%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eoples.ru/military/commander/suvor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aina.aib.ru/biography/aleksandr-suvorov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3805200" cy="4910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140360" y="0"/>
            <a:ext cx="453708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(24) ноября 1729 — 6 (18) мая 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 Александр Васильевич Италийский, граф Суворов-Рымник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ож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смер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оссийская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 служб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48—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лисс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ова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м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жения/вой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нбурнская баталия (178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шаны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мник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Измаила (179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Праги (17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2997360"/>
            <a:ext cx="806436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дился 13 (24) ноября 1729 или 1730 года в семье военног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742 году был зачислен мушкетёром в лейб-гвардии Семёновский полк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19782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773760" y="260280"/>
            <a:ext cx="1938600" cy="240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1814760" cy="250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1886040" cy="24670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9900"/>
                </a:solidFill>
                <a:latin typeface="Garamond"/>
              </a:rPr>
              <a:t>Сражения/войн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290600"/>
            <a:ext cx="4572000" cy="3272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179280" y="472428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ятие крепости Кольберг в ходе Семилетней войны». А. Коцебу. 1852 год. На картине изображено взятие крепости русскими войсками в 176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4572000" y="1287360"/>
            <a:ext cx="4319640" cy="324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1"/>
          <p:cNvSpPr/>
          <p:nvPr/>
        </p:nvSpPr>
        <p:spPr>
          <a:xfrm>
            <a:off x="4791600" y="501336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48. Сражение при Кунерсдор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63640" y="549360"/>
            <a:ext cx="3178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сско-турецкая война 1768—17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824360" cy="3160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43280" y="47973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жение при Козлу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2"/>
          <a:stretch/>
        </p:blipFill>
        <p:spPr>
          <a:xfrm>
            <a:off x="5076720" y="3009960"/>
            <a:ext cx="4067280" cy="3309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05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479960" y="6093000"/>
            <a:ext cx="602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-турецкая война 1787—1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267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нбурнская бата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851280" y="117360"/>
            <a:ext cx="4943520" cy="371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0" y="3211560"/>
            <a:ext cx="5148360" cy="3646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5291280" y="4508640"/>
            <a:ext cx="38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польского восс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94 года. Штурм Пр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184720" cy="221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0" y="3357720"/>
            <a:ext cx="4680000" cy="2676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981080" y="24922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й поход 179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982160" y="633888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царский п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938760" cy="27910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6192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Владимира 1-й ст. (28.07.1783) — за победы над ногайцами в Кры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лександра Невского (20.12.1771) — за победу над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й Анны (09.1770) — за бои с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валер большого креста Иоанна Иерусалимск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стрийский Военный орден Марии Терезии 1-й кл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усские: орден Красного орла 1-й ст., орден Чёрного орла, «За заслуг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динские: Св. Анунциаты, Св. Маврикия и Лаза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варские: орден Святого Губерта, орден Золотого ль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узские: орден Кармельской Богородицы, орден Святого Лаза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689120" cy="3957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6767640" y="4365720"/>
            <a:ext cx="23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Св. Георгия 1-й степени. Вышитая звезда и лента принадлежали А. В. Сувор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4:57Z</dcterms:created>
  <dc:creator>Анастасия Атапина, 10 а класс, МОУ СОШ № 15</dc:creator>
  <dc:description/>
  <dc:language>en-US</dc:language>
  <cp:lastModifiedBy>LEGION</cp:lastModifiedBy>
  <dcterms:modified xsi:type="dcterms:W3CDTF">2015-01-15T12:27:40Z</dcterms:modified>
  <cp:revision>8</cp:revision>
  <dc:subject>Александр Васильевич Суворов</dc:subject>
  <dc:title>Творческое задание к уроку</dc:title>
</cp:coreProperties>
</file>