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F9E1-6A68-4261-9363-66EFD711115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вечность! прекрати твоих шум веч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то превосходней всех героев в свете бы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вятилище твое от нас в сей день вступ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в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й 1800  Г.Р. Держа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542E-8960-437A-A6E3-B46C3C790A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амять о Суворов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E0B2-92E8-42A4-B301-8E05D74F69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А. В. Суворову в Севастополе, 19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AF09-6F7F-4C75-98D0-003ACF7A34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уворова III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риальный му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в Санкт-Петербур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EA32-06B9-4B4B-9141-8D14EF3BC1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.rus.ec/b/1790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%D0%A1%D1%83%D0%B2%D0%BE%D1%80%D0%BE%D0%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military/commander/suvor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aina.aib.ru/biography/aleksandr-suvorov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3099-9959-45FA-8C2E-F58E76473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(24) ноября 1729 — 6 (18) мая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 Александр Васильевич Италийский, граф Суворов-Рымник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рож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смер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адлеж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ды служб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48—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ралиссим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андова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м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жения/вой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 (178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кшаны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мник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Измаила (17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Праги (17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7048-B7E4-4FC6-84C7-9E85B1EA44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ился 13 (24) ноября 1729 или 1730 года в семье во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42 году был зачислен мушкетёром в лейб-гвардии Семёновский пол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9D72-76AA-43D8-88B6-032153008B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Сражения/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597F-68BB-42BD-B6FC-8F20C33717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-турецкая война 1768—17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430D-3E44-46BA-A368-CF3A87B520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9DCF-4247-45AE-B14B-00AD0CDB13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ий поход 179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B0DF-1446-4BA1-8C70-B7FEDD525C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Владимира 1-й ст. (28.07.1783) — за победы над ногайцами в Кры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 (20.12.1771) — за победу над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й Анны (09.1770) — за бои с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алер большого креста Иоанна Иерусалим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ийский Военный орден Марии Терезии 1-й кл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усские: орден Красного орла 1-й ст., орден Чёрного орла, «За заслуг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динские: Св. Анунциаты, Св. Маврикия и Лаза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варские: орден Святого Губерта, орден Золотого ль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: орден Кармельской Богородицы, орден Святого Лаза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3FA0-F547-47FD-AE6B-58C04B5C08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69B-176D-4C90-874F-82DD607D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C04-3C37-4BF2-AC2D-30088195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C44-1493-4388-A128-C8058873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0905-EAF2-47DD-859B-684B2D13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88EF-AE64-4091-B278-156BD0D1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5F3C-A0CE-4F23-AC14-9EE3FE65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2B4B-F36C-4919-8828-2B3702E7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135A-B8BD-4D0E-BBEC-57987978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EA9F-62A2-45B6-913E-5EDEF8DE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4F1-7B46-436D-A08A-BC65E25E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163E-3342-421C-9C78-BD4C0FCC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22E-040A-4A49-9D2E-B8CB8E99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096D-A653-4824-A08F-C2ADA765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8B01-87A7-44A2-AFC3-CF634D13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0F6E-B5DA-45D5-8DC1-51649A57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D0E8-FCEE-4D1E-9199-859E3448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E549-9D28-4273-BFBC-3C8488FA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772-77D8-4151-AD15-9D98BE1D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C748-C341-4A40-AD1C-949652C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A97-C951-4DDB-9D45-12D6165D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2F8-BFD6-4F0D-A550-2EEFF8F1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8BB-B22F-4813-A463-7FFA137D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6B4-AB8D-4932-BF57-32B6A9AB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40B-31A7-4B51-ABE6-59751376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52EB-1056-4A3F-B39B-BAC9A017CB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8C5F-24E3-4ECC-A829-BC1CBF8010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rus.ec/b/179079" TargetMode="External"/><Relationship Id="rId2" Type="http://schemas.openxmlformats.org/officeDocument/2006/relationships/hyperlink" Target="http://ru.wikipedia.org/wiki/&#1057;&#1091;&#1074;&#1086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2720" y="3857760"/>
            <a:ext cx="66992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вечность! прекрати твоих шум вечных сп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превосходней всех героев в свете бы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ятилище твое от нас в сей день вступ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 1800  Г.Р. Держ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45080" y="858960"/>
            <a:ext cx="2852640" cy="320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071960" y="3571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 Math"/>
                <a:ea typeface="Cambria Math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28760" y="621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а к уроку Атапина Анастасия, 10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ОУ  СОШ № 15 г. Балашо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840" y="212760"/>
            <a:ext cx="2378160" cy="3736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43160" cy="551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1187280" y="580536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похоронен в Нижней Благовещенской церкви Александро-Невской лав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 память о Суворове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2627280" cy="288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6040440" y="1628640"/>
            <a:ext cx="2298600" cy="3486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39528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швейцарских Аль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5157720"/>
            <a:ext cx="39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«Суворов в Альпах» (с рисунка Николая Аввакумова, 1941, Москва, Государственный музей изобразительных искусств имени А. С. Пушк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2293920" cy="3052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291636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на месте редута на берегу Сал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5807160" y="2276640"/>
            <a:ext cx="3336840" cy="36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59421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Санкт-Петербурге, Михаил Козловский,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292720" y="602136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Москве. Скульптор О. К. К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2481480" cy="331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2916360" y="3573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А. В. Суворову в Севастополе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6868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367160" cy="3416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325080" y="494172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ен Суворова III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505040" y="4797360"/>
            <a:ext cx="44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риальный м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орова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формационные ресур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lib.rus.ec/b/179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ru.wikipedia.org/wiki/%D0%A1%D1%83%D0%B2%D0%BE%D1%80%D0%BE%D0%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eoples.ru/military/commander/suvor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aina.aib.ru/biography/aleksandr-suvorov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805200" cy="491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140360" y="0"/>
            <a:ext cx="453708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(24) ноября 1729 — 6 (18) мая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Александр Васильевич Италийский, граф Суворов-Рымни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смер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 служ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48—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лисс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ов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я/вой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нбурнская баталия (178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шаны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мник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Измаила (179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Праги (17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997360"/>
            <a:ext cx="806436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дился 13 (24) ноября 1729 или 1730 года в семье военног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742 году был зачислен мушкетёром в лейб-гвардии Семёновский пол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19782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773760" y="260280"/>
            <a:ext cx="1938600" cy="240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814760" cy="250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886040" cy="24670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9900"/>
                </a:solidFill>
                <a:latin typeface="Garamond"/>
              </a:rPr>
              <a:t>Сражения/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290600"/>
            <a:ext cx="4572000" cy="3272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79280" y="472428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ятие крепости Кольберг в ходе Семилетней войны». А. Коцебу. 1852 год. На картине изображено взятие крепости русскими войсками в 176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572000" y="128736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1"/>
          <p:cNvSpPr/>
          <p:nvPr/>
        </p:nvSpPr>
        <p:spPr>
          <a:xfrm>
            <a:off x="4791600" y="5013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48. Сражение при Кунерсдор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63640" y="549360"/>
            <a:ext cx="3178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о-турецкая война 1768—17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824360" cy="3160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43280" y="47973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жение при Козлу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2"/>
          <a:stretch/>
        </p:blipFill>
        <p:spPr>
          <a:xfrm>
            <a:off x="5076720" y="3009960"/>
            <a:ext cx="4067280" cy="3309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5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479960" y="609300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-турецкая война 1787—1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267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нбурнская бата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851280" y="117360"/>
            <a:ext cx="4943520" cy="371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3211560"/>
            <a:ext cx="5148360" cy="3646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5291280" y="4508640"/>
            <a:ext cx="38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польского вос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94 года. Штурм Пр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221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0" y="3357720"/>
            <a:ext cx="4680000" cy="2676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981080" y="24922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оход 179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82160" y="633888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царский п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938760" cy="27910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6192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Владимира 1-й ст. (28.07.1783) — за победы над ногайцами в Кры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лександра Невского (20.12.1771) — за победу над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й Анны (09.1770) — за бои с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валер большого креста Иоанна Иерусалимск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стрийский Военный орден Марии Терезии 1-й кл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усские: орден Красного орла 1-й ст., орден Чёрного орла, «За заслуг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динские: Св. Анунциаты, Св. Маврикия и Лаз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варские: орден Святого Губерта, орден Золотого ль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ие: орден Кармельской Богородицы, орден Святого Лаз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689120" cy="3957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767640" y="4365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. Георгия 1-й степени. Вышитая звезда и лента принадлежали А. В. Сувор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4:57Z</dcterms:created>
  <dc:creator>Анастасия Атапина, 10 а класс, МОУ СОШ № 15</dc:creator>
  <dc:description/>
  <dc:language>en-US</dc:language>
  <cp:lastModifiedBy>LEGION</cp:lastModifiedBy>
  <dcterms:modified xsi:type="dcterms:W3CDTF">2015-01-15T12:27:40Z</dcterms:modified>
  <cp:revision>8</cp:revision>
  <dc:subject>Александр Васильевич Суворов</dc:subject>
  <dc:title>Творческое задание к уроку</dc:title>
</cp:coreProperties>
</file>