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5E8E-0037-4561-9655-7E1738A989F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вечность! прекрати твоих шум вечных сп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то превосходней всех героев в свете бы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вятилище твое от нас в сей день вступи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в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й 1800  Г.Р. Держа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6F97-2305-4C45-B58D-5B41401A65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амять о Суворов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70BD-D7B4-4706-94DC-267AB74C52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А. В. Суворову в Севастополе, 19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F8A5-F9FA-4A20-85E6-5F9230A957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уворова III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мориальный муз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орова в Санкт-Петербур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C00E-20FC-41C6-B389-82110908D8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b.rus.ec/b/1790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/%D0%A1%D1%83%D0%B2%D0%BE%D1%80%D0%BE%D0%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eoples.ru/military/commander/suvor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taina.aib.ru/biography/aleksandr-suvorov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E6DB-B399-4724-A6E7-4302C0B736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(24) ноября 1729 — 6 (18) мая 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 Александр Васильевич Италийский, граф Суворов-Рымник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рожд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смер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адлеж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оссийская имп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ды служб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48—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ералиссим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андова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рм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жения/вой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инбурнская баталия (178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кшаны (1789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мник (1789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турм Измаила (179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турм Праги (17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0B3E-703B-4641-89B0-1F902ED003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дился 13 (24) ноября 1729 или 1730 года в семье во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отец, Василий Иванович Суворов — генерал-аншеф и сенатор . Мать — Авдотья (Евдокия) Федосеевна Суворова, в девичестве Манук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родословной легенде Суворовы происходят от древней шведской благородной фамилии. Предок их, Сувор, выехал в Россию в 1622 году при царе Михаиле Фёдоровиче и принял российское подд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ван Александром в честь Александра Невского. Детство провёл в отцовском имении в деревне. Суворов рос слабым, часто болел. Отец готовил его на гражданскую служ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742 году был зачислен мушкетёром в лейб-гвардии Семёновский пол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EB09-3F22-4B65-8C13-62F48177DB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Сражения/во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6B67-123A-4AFA-AB09-66CC52D49D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-турецкая война 1768—17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C259-0E6E-45CB-8B05-D0B8FD85C9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нбурнская бат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88D6-D53F-437A-A6E4-B016F5FAF7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ий поход 1799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5003-A0A9-4B70-8204-A0D9AB1D90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апостола Андрея Первозванного (09.11.1787) — за сражение под Кинбурном; бриллиантовые знаки к ордену (1789) — за сражение при Фокш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В. Суворов стал одним из 3 Георгиевских кавалеров за всю историю ордена, награждённых с 3-й по 1-ю степ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1-го кл. бол.кр. (18.10.1789, № 7) — «превосходное искусство и отличное мужество во всяком случае, наипаче же при атаке многочисленных турецких сил, верховным визирем предводимых в 11 день сентября на реке Рымнике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2-го кл. (30.07.1773, № 8) — «За произведённое храброе и мужественное дело с вверенным его руководству деташаментом при атаке на Туртукай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3-го кл. (19.08.1771, № 34) — «За храбрость и мужественные подвиги, оказанные 770 и 771 годов с вверенным ему деташаментом против польских возмутителей, когда он благоразумными распоряжениями в случившихся сражениях, поражая везде их партии, одержал над ними победы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ая шпага с бриллиантами и лаврами (10.07.1775) — в честь победы над турками; вторая шпага с бриллиантами и лавровыми венками за победу при Рымнике (1789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Владимира 1-й ст. (28.07.1783) — за победы над ногайцами в Кры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Александра Невского (20.12.1771) — за победу над польскими конфедера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й Анны (09.1770) — за бои с польскими конфедера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алер большого креста Иоанна Иерусалим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ийский Военный орден Марии Терезии 1-й кл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усские: орден Красного орла 1-й ст., орден Чёрного орла, «За заслуг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динские: Св. Анунциаты, Св. Маврикия и Лазар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варские: орден Святого Губерта, орден Золотого ль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е: орден Кармельской Богородицы, орден Святого Лаза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C996-A843-472B-B53B-CD73511B87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537-BA29-4F84-A120-38FEDC5C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F11C-44FA-4EFB-8022-03C73340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821-7B3A-4BCC-8841-7AC1252F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2FF-D1D1-44B7-AEA8-998E8FCA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0F63-D99F-4DBA-BDA2-823DD28A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66EA-E789-460B-897B-18D02569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53B7-5145-4E50-8C48-CF9A6667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2A85-B8D7-4512-8D0C-FF011670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F920-630B-47C8-BCDC-4D78A84D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A3B8-13C8-4A77-905F-639570B7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70A6-668A-4F4E-A6D9-47903271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6C5-72C4-4D95-A580-67622E61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48F2-3443-42FA-A5D8-1FC6EB27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1651-8787-475E-948D-E7DC7719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841D-6731-4C1A-BA13-75203B3B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CFC9-8F9A-46B1-AF5D-C6EC6909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A4F6-69E8-4299-ADBB-FDADE043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E3B-61BE-49C9-9F5C-363574AD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3BB-410D-4A65-888F-715EAFF1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3D5-BA66-4CDF-87D2-0C963DF0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C13-2DA1-48AC-926F-6ACBA595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CC4-4343-477F-AC57-D95C9CDF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5CD-3E6E-497C-90B1-2C0B536E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63A-4579-411E-88AB-F4A3F723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900B-28C8-4219-8DD3-E65C66F035C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1A56-8E2A-47C0-81F5-E5E8B3F3F61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ib.rus.ec/b/179079" TargetMode="External"/><Relationship Id="rId2" Type="http://schemas.openxmlformats.org/officeDocument/2006/relationships/hyperlink" Target="http://ru.wikipedia.org/wiki/&#1057;&#1091;&#1074;&#1086;&#1088;&#1086;&#1074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142720" y="3857760"/>
            <a:ext cx="669924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вечность! прекрати твоих шум вечных сп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то превосходней всех героев в свете бы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святилище твое от нас в сей день вступ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в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й 1800  Г.Р. Держа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645080" y="858960"/>
            <a:ext cx="2852640" cy="3206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4071960" y="35712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mbria Math"/>
                <a:ea typeface="Cambria Math"/>
              </a:rPr>
              <a:t>Александр Васильевич Су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28760" y="6211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дготовила к уроку Атапина Анастасия, 10 клас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ОУ  СОШ № 15 г. Балашова Сарат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840" y="212760"/>
            <a:ext cx="2378160" cy="37368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043160" cy="5510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7"/>
          <p:cNvSpPr/>
          <p:nvPr/>
        </p:nvSpPr>
        <p:spPr>
          <a:xfrm>
            <a:off x="1187280" y="5805360"/>
            <a:ext cx="65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похоронен в Нижней Благовещенской церкви Александро-Невской лав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 память о Суворове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44360" y="1700280"/>
            <a:ext cx="2627280" cy="288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6040440" y="1628640"/>
            <a:ext cx="2298600" cy="34862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395280" y="4797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швейцарских Аль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9640" y="5157720"/>
            <a:ext cx="39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ка «Суворов в Альпах» (с рисунка Николая Аввакумова, 1941, Москва, Государственный музей изобразительных искусств имени А. С. Пушк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3"/>
          <a:stretch/>
        </p:blipFill>
        <p:spPr>
          <a:xfrm>
            <a:off x="3220920" y="1628640"/>
            <a:ext cx="2293920" cy="3052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5"/>
          <p:cNvSpPr/>
          <p:nvPr/>
        </p:nvSpPr>
        <p:spPr>
          <a:xfrm>
            <a:off x="2916360" y="4869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на месте редута на берегу Сал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2772000" cy="381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5807160" y="2276640"/>
            <a:ext cx="3336840" cy="3600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0" y="5942160"/>
            <a:ext cx="41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Санкт-Петербурге, Михаил Козловский, 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5292720" y="6021360"/>
            <a:ext cx="41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Москве. Скульптор О. К. К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2481480" cy="3311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5"/>
          <p:cNvSpPr/>
          <p:nvPr/>
        </p:nvSpPr>
        <p:spPr>
          <a:xfrm>
            <a:off x="2916360" y="357336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А. В. Суворову в Севастополе,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568680" cy="357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2"/>
          <a:stretch/>
        </p:blipFill>
        <p:spPr>
          <a:xfrm>
            <a:off x="4427640" y="1197000"/>
            <a:ext cx="4367160" cy="34164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325080" y="494172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ден Суворова III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505040" y="4797360"/>
            <a:ext cx="44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мориальный муз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орова в Санкт-Петербур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формационные ресур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599840"/>
            <a:ext cx="8186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lib.rus.ec/b/1790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ru.wikipedia.org/wiki/%D0%A1%D1%83%D0%B2%D0%BE%D1%80%D0%BE%D0%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eoples.ru/military/commander/suvoro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aina.aib.ru/biography/aleksandr-suvorov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3805200" cy="4910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4140360" y="0"/>
            <a:ext cx="453708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(24) ноября 1729 — 6 (18) мая 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 Александр Васильевич Италийский, граф Суворов-Рымник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рожд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смер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адлеж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оссийская имп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ы служб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48—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лисси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андова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м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жения/вой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нбурнская баталия (178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кшаны (1789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мник (1789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урм Измаила (179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урм Праги (17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2997360"/>
            <a:ext cx="806436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дился 13 (24) ноября 1729 или 1730 года в семье военного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Его отец, Василий Иванович Суворов — генерал-аншеф и сенатор . Мать — Авдотья (Евдокия) Федосеевна Суворова, в девичестве Мануков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родословной легенде Суворовы происходят от древней шведской благородной фамилии. Предок их, Сувор, выехал в Россию в 1622 году при царе Михаиле Фёдоровиче и принял российское подданств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зван Александром в честь Александра Невского. Детство провёл в отцовском имении в деревне. Суворов рос слабым, часто болел. Отец готовил его на гражданскую служб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1742 году был зачислен мушкетёром в лейб-гвардии Семёновский полк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1978200" cy="244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6773760" y="260280"/>
            <a:ext cx="1938600" cy="2405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1814760" cy="250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1886040" cy="24670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9900"/>
                </a:solidFill>
                <a:latin typeface="Garamond"/>
              </a:rPr>
              <a:t>Сражения/войн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1290600"/>
            <a:ext cx="4572000" cy="3272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179280" y="4724280"/>
            <a:ext cx="41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зятие крепости Кольберг в ходе Семилетней войны». А. Коцебу. 1852 год. На картине изображено взятие крепости русскими войсками в 176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4572000" y="1287360"/>
            <a:ext cx="4319640" cy="324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1"/>
          <p:cNvSpPr/>
          <p:nvPr/>
        </p:nvSpPr>
        <p:spPr>
          <a:xfrm>
            <a:off x="4791600" y="501336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48. Сражение при Кунерсдор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63640" y="549360"/>
            <a:ext cx="31784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сско-турецкая война 1768—177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824360" cy="31608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043280" y="4797360"/>
            <a:ext cx="36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жение при Козлуд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"/>
          <p:cNvPicPr/>
          <p:nvPr/>
        </p:nvPicPr>
        <p:blipFill>
          <a:blip r:embed="rId2"/>
          <a:stretch/>
        </p:blipFill>
        <p:spPr>
          <a:xfrm>
            <a:off x="5076720" y="3009960"/>
            <a:ext cx="4067280" cy="3309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1440" cy="5059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1479960" y="6093000"/>
            <a:ext cx="602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о-турецкая война 1787—17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2674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инбурнская батал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851280" y="117360"/>
            <a:ext cx="4943520" cy="371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0" y="3211560"/>
            <a:ext cx="5148360" cy="3646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5291280" y="4508640"/>
            <a:ext cx="38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вление польского восс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94 года. Штурм Пр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184720" cy="2217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2"/>
          <a:stretch/>
        </p:blipFill>
        <p:spPr>
          <a:xfrm>
            <a:off x="0" y="3357720"/>
            <a:ext cx="4680000" cy="26762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1981080" y="24922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ьянский поход 1799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982160" y="633888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вейцарский по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3938760" cy="27910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6192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апостола Андрея Первозванного (09.11.1787) — за сражение под Кинбурном; бриллиантовые знаки к ордену (1789) — за сражение при Фокшан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 В. Суворов стал одним из 3 Георгиевских кавалеров за всю историю ордена, награждённых с 3-й по 1-ю степе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1-го кл. бол.кр. (18.10.1789, № 7) — «превосходное искусство и отличное мужество во всяком случае, наипаче же при атаке многочисленных турецких сил, верховным визирем предводимых в 11 день сентября на реке Рымнике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2-го кл. (30.07.1773, № 8) — «За произведённое храброе и мужественное дело с вверенным его руководству деташаментом при атаке на Туртукай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3-го кл. (19.08.1771, № 34) — «За храбрость и мужественные подвиги, оказанные 770 и 771 годов с вверенным ему деташаментом против польских возмутителей, когда он благоразумными распоряжениями в случившихся сражениях, поражая везде их партии, одержал над ними победы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ая шпага с бриллиантами и лаврами (10.07.1775) — в честь победы над турками; вторая шпага с бриллиантами и лавровыми венками за победу при Рымнике (1789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Владимира 1-й ст. (28.07.1783) — за победы над ногайцами в Кры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Александра Невского (20.12.1771) — за победу над польскими конфедерат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й Анны (09.1770) — за бои с польскими конфедерат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валер большого креста Иоанна Иерусалимск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стрийский Военный орден Марии Терезии 1-й кл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усские: орден Красного орла 1-й ст., орден Чёрного орла, «За заслуги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рдинские: Св. Анунциаты, Св. Маврикия и Лазар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варские: орден Святого Губерта, орден Золотого ль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узские: орден Кармельской Богородицы, орден Святого Лаза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689120" cy="3957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6767640" y="4365720"/>
            <a:ext cx="23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 Св. Георгия 1-й степени. Вышитая звезда и лента принадлежали А. В. Сувор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4:14:57Z</dcterms:created>
  <dc:creator>Анастасия Атапина, 10 а класс, МОУ СОШ № 15</dc:creator>
  <dc:description/>
  <dc:language>en-US</dc:language>
  <cp:lastModifiedBy>LEGION</cp:lastModifiedBy>
  <dcterms:modified xsi:type="dcterms:W3CDTF">2015-01-15T12:27:40Z</dcterms:modified>
  <cp:revision>8</cp:revision>
  <dc:subject>Александр Васильевич Суворов</dc:subject>
  <dc:title>Творческое задание к уроку</dc:title>
</cp:coreProperties>
</file>