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A12F-B3E5-4E71-B025-F900D48372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вечность! прекрати твоих шум веч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то превосходней всех героев в свете бы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вятилище твое от нас в сей день вступ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в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й 1800  Г.Р. Держа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19AB-C891-48E2-AB46-ABB6810A82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амять о Суворов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2B03-A934-4D55-A335-4C769416F8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А. В. Суворову в Севастополе, 19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11AD-24EB-4030-AB82-33F2878E44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уворова III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риальный му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в Санкт-Петербур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5223-7DEF-4010-93D4-12F8F6F2B8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b.rus.ec/b/1790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%D0%A1%D1%83%D0%B2%D0%BE%D1%80%D0%BE%D0%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military/commander/suvor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taina.aib.ru/biography/aleksandr-suvorov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A2CD-974B-4211-8C31-9410D32664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(24) ноября 1729 — 6 (18) мая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 Александр Васильевич Италийский, граф Суворов-Рымник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рож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смер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адлеж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ды служб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48—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ералиссим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андова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м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жения/вой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 (178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кшаны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мник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Измаила (17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Праги (17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58FD-9E25-40F9-AC7A-75F649B59C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дился 13 (24) ноября 1729 или 1730 года в семье во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42 году был зачислен мушкетёром в лейб-гвардии Семёновский пол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F749-CC34-4D58-9423-E6A85AA5A9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Сражения/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F783-32FB-46B8-AB27-75FBD5FAC2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-турецкая война 1768—17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2C04-E7F6-4EA8-9348-6FDC204AE2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45DF-5458-48ED-AA87-CFEE43B967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ий поход 179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2A25-9758-4665-B0D9-731FB5DCD1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Владимира 1-й ст. (28.07.1783) — за победы над ногайцами в Кры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лександра Невского (20.12.1771) — за победу над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й Анны (09.1770) — за бои с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алер большого креста Иоанна Иерусалим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ийский Военный орден Марии Терезии 1-й кл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усские: орден Красного орла 1-й ст., орден Чёрного орла, «За заслуг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динские: Св. Анунциаты, Св. Маврикия и Лазар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варские: орден Святого Губерта, орден Золотого ль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: орден Кармельской Богородицы, орден Святого Лаза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ED75-2F64-435A-84B8-61E7117FBE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460-7D46-41FE-9DEA-BD9ECFED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5B32-4165-4EC4-93C0-18886B0F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580-8B23-4C25-A417-68BDCC99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C48-AE4A-4155-89BA-16679A26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7202-A640-4A26-8778-67961765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C374-36E8-4CBD-9BAD-3CC91E4E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33EA-96A3-4D4A-BC65-9DA8D9D9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0A60-3DDC-473F-8DF3-39FD233E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B7D2-CDEA-48A8-A897-7964A7C3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D00F-C938-4D30-8E89-3DDEEF56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E30E-8760-4861-A812-C178DF5D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C93-6D30-4BC5-B8DB-B940722B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9CA5-8D9F-4F63-B382-71672F2F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3E00-740B-4136-B689-7C9864BE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9D3A-B80A-4976-8A15-3CE9FACF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256A-FCA8-4E66-BFAC-D8AA3347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C280-7A34-4DA5-96B2-7C3D3989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C35-22FA-4C25-88AB-CFE707B9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DC5-AEE7-4402-93F6-DBBE6F0C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94C-9BD2-4E5C-BC9D-C1040BA1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3A4-4F2A-421D-98F4-E07A21DC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AAF-47AF-47F6-B344-C4BC2418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D59-CC8A-44DF-A499-5602EC64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AB5-96A2-4979-9937-64614FF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44A2-2836-49A9-975C-167D4947DD9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CF39-E657-440C-93FE-406638A561D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ib.rus.ec/b/179079" TargetMode="External"/><Relationship Id="rId2" Type="http://schemas.openxmlformats.org/officeDocument/2006/relationships/hyperlink" Target="http://ru.wikipedia.org/wiki/&#1057;&#1091;&#1074;&#1086;&#1088;&#1086;&#1074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142720" y="3857760"/>
            <a:ext cx="669924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вечность! прекрати твоих шум вечных сп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то превосходней всех героев в свете бы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святилище твое от нас в сей день вступ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в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й 1800  Г.Р. Держа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645080" y="858960"/>
            <a:ext cx="2852640" cy="3206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4071960" y="35712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mbria Math"/>
                <a:ea typeface="Cambria Math"/>
              </a:rPr>
              <a:t>Александр Васильевич Су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28760" y="6211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готовила к уроку Атапина Анастасия, 10 кла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ОУ  СОШ № 15 г. Балашов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840" y="212760"/>
            <a:ext cx="2378160" cy="3736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043160" cy="5510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1187280" y="5805360"/>
            <a:ext cx="65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похоронен в Нижней Благовещенской церкви Александро-Невской лав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 память о Суворове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44360" y="1700280"/>
            <a:ext cx="2627280" cy="288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6040440" y="1628640"/>
            <a:ext cx="2298600" cy="3486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395280" y="47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швейцарских Аль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5157720"/>
            <a:ext cx="39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а «Суворов в Альпах» (с рисунка Николая Аввакумова, 1941, Москва, Государственный музей изобразительных искусств имени А. С. Пушк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3"/>
          <a:stretch/>
        </p:blipFill>
        <p:spPr>
          <a:xfrm>
            <a:off x="3220920" y="1628640"/>
            <a:ext cx="2293920" cy="3052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5"/>
          <p:cNvSpPr/>
          <p:nvPr/>
        </p:nvSpPr>
        <p:spPr>
          <a:xfrm>
            <a:off x="2916360" y="4869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на месте редута на берегу Сал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772000" cy="381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5807160" y="2276640"/>
            <a:ext cx="3336840" cy="3600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0" y="594216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Санкт-Петербурге, Михаил Козловский, 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5292720" y="602136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Москве. Скульптор О. К. К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2481480" cy="331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5"/>
          <p:cNvSpPr/>
          <p:nvPr/>
        </p:nvSpPr>
        <p:spPr>
          <a:xfrm>
            <a:off x="2916360" y="3573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А. В. Суворову в Севастополе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568680" cy="357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4367160" cy="3416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325080" y="494172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ден Суворова III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505040" y="4797360"/>
            <a:ext cx="44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риальный муз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орова в Санкт-Петер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формационные ресур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599840"/>
            <a:ext cx="81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lib.rus.ec/b/179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ru.wikipedia.org/wiki/%D0%A1%D1%83%D0%B2%D0%BE%D1%80%D0%BE%D0%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eoples.ru/military/commander/suvor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aina.aib.ru/biography/aleksandr-suvorov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3805200" cy="4910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4140360" y="0"/>
            <a:ext cx="453708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(24) ноября 1729 — 6 (18) мая 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 Александр Васильевич Италийский, граф Суворов-Рымник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ожд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смер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адлеж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оссийская 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ы служб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48—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лисси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ндова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м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жения/вой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нбурнская баталия (178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кшаны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мник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Измаила (179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Праги (17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2997360"/>
            <a:ext cx="806436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дился 13 (24) ноября 1729 или 1730 года в семье военног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742 году был зачислен мушкетёром в лейб-гвардии Семёновский полк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197820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6773760" y="260280"/>
            <a:ext cx="1938600" cy="240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1814760" cy="250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1886040" cy="24670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9900"/>
                </a:solidFill>
                <a:latin typeface="Garamond"/>
              </a:rPr>
              <a:t>Сражения/войн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1290600"/>
            <a:ext cx="4572000" cy="3272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179280" y="4724280"/>
            <a:ext cx="41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ятие крепости Кольберг в ходе Семилетней войны». А. Коцебу. 1852 год. На картине изображено взятие крепости русскими войсками в 176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4572000" y="1287360"/>
            <a:ext cx="4319640" cy="324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1"/>
          <p:cNvSpPr/>
          <p:nvPr/>
        </p:nvSpPr>
        <p:spPr>
          <a:xfrm>
            <a:off x="4791600" y="501336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48. Сражение при Кунерсдор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63640" y="549360"/>
            <a:ext cx="3178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сско-турецкая война 1768—177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824360" cy="3160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043280" y="479736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жение при Козлуд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"/>
          <p:cNvPicPr/>
          <p:nvPr/>
        </p:nvPicPr>
        <p:blipFill>
          <a:blip r:embed="rId2"/>
          <a:stretch/>
        </p:blipFill>
        <p:spPr>
          <a:xfrm>
            <a:off x="5076720" y="3009960"/>
            <a:ext cx="4067280" cy="3309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1440" cy="5059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479960" y="6093000"/>
            <a:ext cx="602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-турецкая война 1787—17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2674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инбурнская батал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851280" y="117360"/>
            <a:ext cx="4943520" cy="371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0" y="3211560"/>
            <a:ext cx="5148360" cy="3646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5291280" y="4508640"/>
            <a:ext cx="38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ление польского восс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94 года. Штурм Пр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184720" cy="2217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0" y="3357720"/>
            <a:ext cx="4680000" cy="26762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1981080" y="24922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й поход 179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982160" y="633888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йцарский по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938760" cy="27910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6192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Владимира 1-й ст. (28.07.1783) — за победы над ногайцами в Кры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лександра Невского (20.12.1771) — за победу над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й Анны (09.1770) — за бои с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валер большого креста Иоанна Иерусалимск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стрийский Военный орден Марии Терезии 1-й кл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усские: орден Красного орла 1-й ст., орден Чёрного орла, «За заслуги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динские: Св. Анунциаты, Св. Маврикия и Лазар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варские: орден Святого Губерта, орден Золотого ль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узские: орден Кармельской Богородицы, орден Святого Лаза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689120" cy="3957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6767640" y="4365720"/>
            <a:ext cx="23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Св. Георгия 1-й степени. Вышитая звезда и лента принадлежали А. В. Сувор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14:57Z</dcterms:created>
  <dc:creator>Анастасия Атапина, 10 а класс, МОУ СОШ № 15</dc:creator>
  <dc:description/>
  <dc:language>en-US</dc:language>
  <cp:lastModifiedBy>LEGION</cp:lastModifiedBy>
  <dcterms:modified xsi:type="dcterms:W3CDTF">2015-01-15T12:27:40Z</dcterms:modified>
  <cp:revision>8</cp:revision>
  <dc:subject>Александр Васильевич Суворов</dc:subject>
  <dc:title>Творческое задание к уроку</dc:title>
</cp:coreProperties>
</file>