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7C99-295D-4167-B426-CC7ACFB8806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 вечность! прекрати твоих шум вечных сп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то превосходней всех героев в свете бы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вятилище твое от нас в сей день вступи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в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й 1800  Г.Р. Держав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D08D-0AB2-44C9-9A1E-A4E5DCC429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амять о Суворов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2FDF-5FCE-4BC9-9B2F-118A2FDAAD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А. В. Суворову в Севастополе, 19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344B-3FCC-475B-B998-0950340114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уворова III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мориальный муз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орова в Санкт-Петербур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6301-E8B7-412D-B183-DA923A6AA3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b.rus.ec/b/1790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/%D0%A1%D1%83%D0%B2%D0%BE%D1%80%D0%BE%D0%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eoples.ru/military/commander/suvorov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taina.aib.ru/biography/aleksandr-suvorov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574B-29A0-4D3D-8698-FAFD78AF77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 (24) ноября 1729 — 6 (18) мая 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 Александр Васильевич Италийский, граф Суворов-Рымник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рожд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смер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адлеж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оссийская имп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ды служб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48—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а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нералиссим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андова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рм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жения/вой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инбурнская баталия (178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кшаны (1789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мник (1789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турм Измаила (179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турм Праги (17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BF98-B052-4CE9-BD43-26CC835CD0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дился 13 (24) ноября 1729 или 1730 года в семье воен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отец, Василий Иванович Суворов — генерал-аншеф и сенатор . Мать — Авдотья (Евдокия) Федосеевна Суворова, в девичестве Манук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родословной легенде Суворовы происходят от древней шведской благородной фамилии. Предок их, Сувор, выехал в Россию в 1622 году при царе Михаиле Фёдоровиче и принял российское подд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ван Александром в честь Александра Невского. Детство провёл в отцовском имении в деревне. Суворов рос слабым, часто болел. Отец готовил его на гражданскую служ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742 году был зачислен мушкетёром в лейб-гвардии Семёновский пол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567B-3A33-4803-8C97-8C944C3E0A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Сражения/во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455B-3F3A-4DFD-A677-4F7B4BBA36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-турецкая война 1768—17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7A6F-B8F8-4665-AACB-1CFD1137C7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нбурнская бат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51C7-ACD1-4681-B0DF-E7A2EB844A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ий поход 1799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251A-4B86-45CB-AB8B-C6D969C358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апостола Андрея Первозванного (09.11.1787) — за сражение под Кинбурном; бриллиантовые знаки к ордену (1789) — за сражение при Фокша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В. Суворов стал одним из 3 Георгиевских кавалеров за всю историю ордена, награждённых с 3-й по 1-ю степе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1-го кл. бол.кр. (18.10.1789, № 7) — «превосходное искусство и отличное мужество во всяком случае, наипаче же при атаке многочисленных турецких сил, верховным визирем предводимых в 11 день сентября на реке Рымнике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2-го кл. (30.07.1773, № 8) — «За произведённое храброе и мужественное дело с вверенным его руководству деташаментом при атаке на Туртукай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3-го кл. (19.08.1771, № 34) — «За храбрость и мужественные подвиги, оказанные 770 и 771 годов с вверенным ему деташаментом против польских возмутителей, когда он благоразумными распоряжениями в случившихся сражениях, поражая везде их партии, одержал над ними победы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ая шпага с бриллиантами и лаврами (10.07.1775) — в честь победы над турками; вторая шпага с бриллиантами и лавровыми венками за победу при Рымнике (1789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Владимира 1-й ст. (28.07.1783) — за победы над ногайцами в Кры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Александра Невского (20.12.1771) — за победу над польскими конфедера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й Анны (09.1770) — за бои с польскими конфедера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алер большого креста Иоанна Иерусалим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трийский Военный орден Марии Терезии 1-й кл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усские: орден Красного орла 1-й ст., орден Чёрного орла, «За заслуг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динские: Св. Анунциаты, Св. Маврикия и Лазар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варские: орден Святого Губерта, орден Золотого ль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ские: орден Кармельской Богородицы, орден Святого Лаза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0BD4-A384-4E5C-A93C-7A9C405267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EB2C-7000-4261-B71A-E37D3408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9AB-2781-485C-8028-94E4EFC0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0842-2C9E-434C-89DA-FA3A1F21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426C-C2ED-46A9-8B0F-23E36EB5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A2B5-5289-426C-A855-09870D95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ADFD-9F45-4BED-92D0-A9647437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A4ED-8B78-49FB-B511-2458B5E1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4CA1-CEBA-47CC-B9EF-AF0ED001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DC6F-7DE8-4E9D-B3F5-83CE9C22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B50C-C682-49B7-9EC6-733AE061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175F-9801-4D79-B9AE-E805A008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D1B-EDF8-4BCB-BBCB-34EA78F7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CD01-57D2-42AC-B7CD-D33B87E2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44D5-DD66-4E84-B247-43A4BE03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33AF-900D-4F61-9508-32C4FDD2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8A6B-7F83-4746-975A-CA50CEA1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1B4D-1B45-4F6E-9B9B-CE5BA98B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D243-9EEA-4F3E-AC06-11D7C5AF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56CE-3833-4890-82F5-5E99388B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1DA6-ED70-4728-88F0-76CC28D5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C87D-5783-412D-9370-8A5A77AE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2361-2040-4F32-B827-36A6EFB0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9852-A7F6-4381-8DB6-F9FC7733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85CE-20AE-4121-90BF-68F1EE0D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A0BB-3FC8-4ABE-9D6A-C3E3FDAE37C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C759-77F9-49A6-855E-BE1DE8A78B4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ib.rus.ec/b/179079" TargetMode="External"/><Relationship Id="rId2" Type="http://schemas.openxmlformats.org/officeDocument/2006/relationships/hyperlink" Target="http://ru.wikipedia.org/wiki/&#1057;&#1091;&#1074;&#1086;&#1088;&#1086;&#1074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142720" y="3857760"/>
            <a:ext cx="6699240" cy="19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 вечность! прекрати твоих шум вечных сп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то превосходней всех героев в свете бы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святилище твое от нас в сей день вступ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в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й 1800  Г.Р. Держа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645080" y="858960"/>
            <a:ext cx="2852640" cy="3206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4071960" y="35712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mbria Math"/>
                <a:ea typeface="Cambria Math"/>
              </a:rPr>
              <a:t>Александр Васильевич Су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28760" y="6211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дготовила к уроку Атапина Анастасия, 10 клас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МОУ  СОШ № 15 г. Балашова Саратов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840" y="212760"/>
            <a:ext cx="2378160" cy="37368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043160" cy="5510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7"/>
          <p:cNvSpPr/>
          <p:nvPr/>
        </p:nvSpPr>
        <p:spPr>
          <a:xfrm>
            <a:off x="1187280" y="5805360"/>
            <a:ext cx="651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 похоронен в Нижней Благовещенской церкви Александро-Невской лав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 память о Суворове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44360" y="1700280"/>
            <a:ext cx="2627280" cy="2884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6040440" y="1628640"/>
            <a:ext cx="2298600" cy="34862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395280" y="4797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швейцарских Аль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219640" y="5157720"/>
            <a:ext cx="39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ка «Суворов в Альпах» (с рисунка Николая Аввакумова, 1941, Москва, Государственный музей изобразительных искусств имени А. С. Пушк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"/>
          <p:cNvPicPr/>
          <p:nvPr/>
        </p:nvPicPr>
        <p:blipFill>
          <a:blip r:embed="rId3"/>
          <a:stretch/>
        </p:blipFill>
        <p:spPr>
          <a:xfrm>
            <a:off x="3220920" y="1628640"/>
            <a:ext cx="2293920" cy="3052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5"/>
          <p:cNvSpPr/>
          <p:nvPr/>
        </p:nvSpPr>
        <p:spPr>
          <a:xfrm>
            <a:off x="2916360" y="48690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на месте редута на берегу Сал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2772000" cy="381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5807160" y="2276640"/>
            <a:ext cx="3336840" cy="36003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0" y="5942160"/>
            <a:ext cx="41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Санкт-Петербурге, Михаил Козловский, 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5292720" y="6021360"/>
            <a:ext cx="41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Москве. Скульптор О. К. Ко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2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2481480" cy="3311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5"/>
          <p:cNvSpPr/>
          <p:nvPr/>
        </p:nvSpPr>
        <p:spPr>
          <a:xfrm>
            <a:off x="2916360" y="357336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А. В. Суворову в Севастополе, 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3568680" cy="357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2"/>
          <a:stretch/>
        </p:blipFill>
        <p:spPr>
          <a:xfrm>
            <a:off x="4427640" y="1197000"/>
            <a:ext cx="4367160" cy="34164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0"/>
          <p:cNvSpPr/>
          <p:nvPr/>
        </p:nvSpPr>
        <p:spPr>
          <a:xfrm>
            <a:off x="325080" y="4941720"/>
            <a:ext cx="41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ден Суворова III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4505040" y="4797360"/>
            <a:ext cx="44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мориальный муз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ворова в Санкт-Петербур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Информационные ресурс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599840"/>
            <a:ext cx="8186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lib.rus.ec/b/1790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ru.wikipedia.org/wiki/%D0%A1%D1%83%D0%B2%D0%BE%D1%80%D0%BE%D0%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eoples.ru/military/commander/suvorov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aina.aib.ru/biography/aleksandr-suvorov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85840" y="714240"/>
            <a:ext cx="3805200" cy="4910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4140360" y="0"/>
            <a:ext cx="4537080" cy="76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(24) ноября 1729 — 6 (18) мая 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 Александр Васильевич Италийский, граф Суворов-Рымник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рожд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смер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адлеж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оссийская имп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ды служб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48—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лисси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андова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м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жения/войн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нбурнская баталия (1787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кшаны (1789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мник (1789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урм Измаила (179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урм Праги (17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2997360"/>
            <a:ext cx="806436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дился 13 (24) ноября 1729 или 1730 года в семье военного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Его отец, Василий Иванович Суворов — генерал-аншеф и сенатор . Мать — Авдотья (Евдокия) Федосеевна Суворова, в девичестве Мануков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родословной легенде Суворовы происходят от древней шведской благородной фамилии. Предок их, Сувор, выехал в Россию в 1622 году при царе Михаиле Фёдоровиче и принял российское подданств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азван Александром в честь Александра Невского. Детство провёл в отцовском имении в деревне. Суворов рос слабым, часто болел. Отец готовил его на гражданскую служб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1742 году был зачислен мушкетёром в лейб-гвардии Семёновский полк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1978200" cy="244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6773760" y="260280"/>
            <a:ext cx="1938600" cy="2405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4643280" y="260280"/>
            <a:ext cx="1814760" cy="250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395280" y="260280"/>
            <a:ext cx="1886040" cy="24670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9900"/>
                </a:solidFill>
                <a:latin typeface="Garamond"/>
              </a:rPr>
              <a:t>Сражения/войн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1290600"/>
            <a:ext cx="4572000" cy="32720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179280" y="4724280"/>
            <a:ext cx="41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зятие крепости Кольберг в ходе Семилетней войны». А. Коцебу. 1852 год. На картине изображено взятие крепости русскими войсками в 1761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4572000" y="1287360"/>
            <a:ext cx="4319640" cy="3241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1"/>
          <p:cNvSpPr/>
          <p:nvPr/>
        </p:nvSpPr>
        <p:spPr>
          <a:xfrm>
            <a:off x="4791600" y="5013360"/>
            <a:ext cx="39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48. Сражение при Кунерсдор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63640" y="549360"/>
            <a:ext cx="317844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усско-турецкая война 1768—177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824360" cy="31608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043280" y="4797360"/>
            <a:ext cx="36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жение при Козлуд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"/>
          <p:cNvPicPr/>
          <p:nvPr/>
        </p:nvPicPr>
        <p:blipFill>
          <a:blip r:embed="rId2"/>
          <a:stretch/>
        </p:blipFill>
        <p:spPr>
          <a:xfrm>
            <a:off x="5076720" y="3009960"/>
            <a:ext cx="4067280" cy="33098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61440" cy="5059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1479960" y="6093000"/>
            <a:ext cx="602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о-турецкая война 1787—17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26748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инбурнская батал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851280" y="117360"/>
            <a:ext cx="4943520" cy="371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0" y="3211560"/>
            <a:ext cx="5148360" cy="36464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5291280" y="4508640"/>
            <a:ext cx="38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вление польского восс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94 года. Штурм Пр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184720" cy="2217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2"/>
          <a:stretch/>
        </p:blipFill>
        <p:spPr>
          <a:xfrm>
            <a:off x="0" y="3357720"/>
            <a:ext cx="4680000" cy="26762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1981080" y="24922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льянский поход 1799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982160" y="6338880"/>
            <a:ext cx="34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вейцарский по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"/>
          <p:cNvPicPr/>
          <p:nvPr/>
        </p:nvPicPr>
        <p:blipFill>
          <a:blip r:embed="rId3"/>
          <a:stretch/>
        </p:blipFill>
        <p:spPr>
          <a:xfrm>
            <a:off x="4932360" y="3213000"/>
            <a:ext cx="3938760" cy="27910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6192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апостола Андрея Первозванного (09.11.1787) — за сражение под Кинбурном; бриллиантовые знаки к ордену (1789) — за сражение при Фокшан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. В. Суворов стал одним из 3 Георгиевских кавалеров за всю историю ордена, награждённых с 3-й по 1-ю степен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1-го кл. бол.кр. (18.10.1789, № 7) — «превосходное искусство и отличное мужество во всяком случае, наипаче же при атаке многочисленных турецких сил, верховным визирем предводимых в 11 день сентября на реке Рымнике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2-го кл. (30.07.1773, № 8) — «За произведённое храброе и мужественное дело с вверенным его руководству деташаментом при атаке на Туртукай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3-го кл. (19.08.1771, № 34) — «За храбрость и мужественные подвиги, оказанные 770 и 771 годов с вверенным ему деташаментом против польских возмутителей, когда он благоразумными распоряжениями в случившихся сражениях, поражая везде их партии, одержал над ними победы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лотая шпага с бриллиантами и лаврами (10.07.1775) — в честь победы над турками; вторая шпага с бриллиантами и лавровыми венками за победу при Рымнике (1789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Владимира 1-й ст. (28.07.1783) — за победы над ногайцами в Кры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Александра Невского (20.12.1771) — за победу над польскими конфедерат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й Анны (09.1770) — за бои с польскими конфедерат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валер большого креста Иоанна Иерусалимског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стрийский Военный орден Марии Терезии 1-й кл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усские: орден Красного орла 1-й ст., орден Чёрного орла, «За заслуги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рдинские: Св. Анунциаты, Св. Маврикия и Лазар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варские: орден Святого Губерта, орден Золотого ль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нцузские: орден Кармельской Богородицы, орден Святого Лазар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1689120" cy="3957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6767640" y="4365720"/>
            <a:ext cx="23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 Св. Георгия 1-й степени. Вышитая звезда и лента принадлежали А. В. Сувор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4:14:57Z</dcterms:created>
  <dc:creator>Анастасия Атапина, 10 а класс, МОУ СОШ № 15</dc:creator>
  <dc:description/>
  <dc:language>en-US</dc:language>
  <cp:lastModifiedBy>LEGION</cp:lastModifiedBy>
  <dcterms:modified xsi:type="dcterms:W3CDTF">2015-01-15T12:27:40Z</dcterms:modified>
  <cp:revision>8</cp:revision>
  <dc:subject>Александр Васильевич Суворов</dc:subject>
  <dc:title>Творческое задание к уроку</dc:title>
</cp:coreProperties>
</file>