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F6BE-A50D-4344-9EC6-831E9F78094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й император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Никола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лад подгото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9А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нзина Рег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9B38-5DE3-4700-9E65-FF0DB44EADD8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альное убийств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овский приказал раздеть мертвецов, запалить костры и всё снятое сжечь. Из женских корсетов, разбитых пулями и штыками, посыпались... жемчуг, бриллианты. Юровский утверждал, что все они были аккуратно собраны и спрятаны на Алапаевском заводе, в подполье одного из домиков. Раздетые трупы спустили в шахту и попытались «завалить» её брошенными туда гранатами. Не все следы удалось скрыть. Кое-что всё же обронили вблизи кострищ и шахты. «Но, - писал Юровский, - Романовых не предполагалось оставлять здесь, - шахта заранее была предназначена стать лишь временным местом их погреб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копали братскую могилу. Трупы сложили в яму, облив серной кислотой. Забросали землёй и хворостом, несколько раз проехали – следов ямы не осталось. К шести часам утра 19 июля всё было кончено. «Секрет был сохранён вполне – этого места погребения белые не нашл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DEA7-4E77-4545-904A-3E85BCC1EC6C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ова истинная судьба Романов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2CEC-E6D4-4802-9A10-32C89E46C25D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усский цар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най, если убийство совершат твои родственники, то ни один из твоей семьи, родных и детей не проживёт дольше двух лет… Их убьёт русский народ… Меня убьют. Я уже не жилец. Молись. Молись. Будь сильным. Заботься о своём избранном 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следнее письмо Григория Распутина Николаю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кабрь 191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B678-B8CF-4EAB-8DC5-5D493BF9B465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ийство Никола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его семьи – важнейшая веха в истории России, которая до сего дня вызывает споры и разделения в обществе, следовательно, эта тема очень актуальна. В ней очень много исторических загадок, поэтому предоставляется огромный материал для исследования. Но с другой стороны, из-за несовпадений в разных источниках (например, в советской и современной интерпретациях), очень сложно выяснить, где ложь, а где прав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емьдесят пять лет велась пропагандистская война, в которой участвовали красные и белые, большевики  и монархисты, ненавистники и почитатели Романовых. При этом каждая из враждующих партий использовала в пропаганде и по-своему истолковывала известные нам исторические факты, связанные с последними месяцами пребывания в большевистском плену и последовавшим затем расстрелом последнего русского императора и его семьи. Политические и религиозные разногласия, сложившиеся  ещё до убийства царственных мучеников, продолжают осложнять ситуацию. Официальные советские историки уделяли мало внимания судьбе Романовых. Убийства оправдывались условиями революционной ситуации. Людей убеждали в том, что без кровавых жертв революция, это детище Октября, оказалась бы нежизнеспособной. И никого не заботило, что этими жертвами стали четыре девушки и один мальчик, которые по всем человеческим правилам и законам были ни в чём не повинны, если не считать грехом и величайшим несчастьем то, что они вообще родились. Екатеринбургское убийство обросло домыслами о монархических заговорах, о неизбежности кровопролитий в период Гражданской войны, о том, что мир должен, наконец, сорвать кандалы монархического гнёта и отомстить за смерть юнцов, сражавшихся в окопах Первой мировой вой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EF7E-BDB3-4FDD-878E-FAD469F0C312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змена, и трусость, и обман». От Могилёва до Екатеринбур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113C-CF70-40D3-A0AB-62EA0A6B9638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ковая ошиб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настал роковой для царя и его семьи 1917 год. В конце февраля царский поезд, в котором находился император, выехал из Могилёва. Впоследствии многие мемуаристы оценят отъезд Николая из Могилёва как большую, даже роковую ошиб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CC30-AD6D-4222-8284-BF87634CDEDD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езд в Екатеринбур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ром 26 апреля «поезд» с частью венценосной семьи покинул Тобольск и взял направление на Екатеринбург. Александра Фёдоровна, считавшая, что её мужа везут в Москву для подписания Брестского мира, пожелала ехать вместе с ним. А их дети в том числе единственный сын Алексей остались, т.к. ему было плохо. 23 мая 1918 г., как только стало лучше цесаревичу Алексею, царские дети, наконец, прибыли в Екатеринбург. Царская семья воссоединилась под крышей дома, ставшего их последней тюрьм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AFCE-FA59-42B2-9E85-374477D29ADF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ка к расстрел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ждались самые разные варианты – предлагалось заколоть или расстрелять жертвы во время сна или забросать их ручными гранатами; наконец от этих планов было решено отказаться в пользу массового расстрела пленников. Самым безопасным казалось увезти царскую семью из Ипатьевского дома, отвезти её в какое-нибудь глухое место и расстрелять. Однако подобный план заключал в себе и определённую опасность: дело в том, что силы чехословаков и белогвардейцев находились настолько близко от города, что не было никакой гарантии, что они не прорвутся сквозь жидкие ряды красноармейцев, оборонявших Екатеринбург, и не помешают планам убийства. В итоге Юровскому не оставалось ничего иного, как убить Романовых непосредственно в Ипатьевском доме, поскольку в таком случае у них не было ни возможности оказать сопротивление, ни шансов спаст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F62A-033D-47AA-A6D9-83B8AC658063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C087-D17A-46FE-99CA-89254DF8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3F54-89B8-4404-A478-7FE72644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F8FC-750E-4913-8592-A1542174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23D9-60CE-4F82-B043-D81947135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2A11-B351-48E6-9065-4C675387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0273-834F-48D4-8DF1-621F8E5F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57BB-BBDE-415B-923E-0C61A754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6279-6EE0-45A3-A1F7-8449814C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229E-717B-4361-A02A-CE0DBC9D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10A2-975E-4512-9346-3BE322CC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9900-5058-438F-8E04-3C808C05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65DB-D745-417F-97CE-3616F10E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FB60-698B-4C2A-A832-661B579E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3A7A-90BE-4357-9F24-85C9A908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B12A-AAC9-43EA-A618-E6068F82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21BE-B299-42E8-9DB3-6BBE00138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BDBD-77E6-4DCE-921B-7DED237FB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2365-DF2E-4F7D-92CB-24E6A8B8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A885-3614-4A40-A2B7-40DA540D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0A62-BCE1-45A7-92C2-F456BC35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40A8-C28F-4F20-BDD3-642BE81A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6F95-A79B-4614-A84F-7AF6B226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D80C-2EF2-434F-8EA6-2FF4ACCA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776B-5187-48CF-8931-93D315EC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c2c0ba"/>
                </a:gs>
                <a:gs pos="100000">
                  <a:srgbClr val="f4f4e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c0ba"/>
                </a:gs>
                <a:gs pos="100000">
                  <a:srgbClr val="f4f4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74C6-F69F-449D-92F8-06C38C0E25A8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a7af"/>
                </a:gs>
                <a:gs pos="50000">
                  <a:srgbClr val="9c9800"/>
                </a:gs>
                <a:gs pos="100000">
                  <a:srgbClr val="a5a7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a5a7af"/>
                </a:gs>
                <a:gs pos="100000">
                  <a:srgbClr val="f4f4e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4f4ec"/>
                </a:gs>
                <a:gs pos="100000">
                  <a:srgbClr val="a5a7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a25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25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D595-186C-40E7-A990-D7E184C85B08}" type="slidenum">
              <a:rPr b="0" lang="ru-RU" sz="10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19159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Последний император</a:t>
            </a:r>
            <a:br>
              <a:rPr sz="4400"/>
            </a:b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           Николай </a:t>
            </a: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II </a:t>
            </a: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.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14720" y="3500280"/>
            <a:ext cx="3695400" cy="25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Доклад подготовила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Ученица 9А класса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Танзина Регина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18" name="Picture 6" descr="nikolay-rz "/>
          <p:cNvPicPr/>
          <p:nvPr/>
        </p:nvPicPr>
        <p:blipFill>
          <a:blip r:embed="rId1"/>
          <a:stretch/>
        </p:blipFill>
        <p:spPr>
          <a:xfrm>
            <a:off x="1476360" y="3500280"/>
            <a:ext cx="2206800" cy="30499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_44615022_woods"/>
          <p:cNvPicPr/>
          <p:nvPr/>
        </p:nvPicPr>
        <p:blipFill>
          <a:blip r:embed="rId1"/>
          <a:stretch/>
        </p:blipFill>
        <p:spPr>
          <a:xfrm rot="360000">
            <a:off x="179280" y="3357360"/>
            <a:ext cx="1933560" cy="1447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_240111"/>
          <p:cNvPicPr/>
          <p:nvPr/>
        </p:nvPicPr>
        <p:blipFill>
          <a:blip r:embed="rId2"/>
          <a:stretch/>
        </p:blipFill>
        <p:spPr>
          <a:xfrm rot="1260000">
            <a:off x="5651640" y="393372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Детальное убийство…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2500"/>
                </a:solidFill>
                <a:latin typeface="Tahoma"/>
              </a:rPr>
              <a:t>Юровский приказал раздеть мертвецов, запалить костры и всё снятое сжечь. Из женских корсетов, разбитых пулями и штыками, посыпались... жемчуг, бриллианты. Юровский утверждал, что все они были аккуратно собраны и спрятаны на Алапаевском заводе, в подполье одного из домиков. Раздетые трупы спустили в шахту и попытались «завалить» её брошенными туда гранатами. Не все следы удалось скрыть. Кое-что всё же обронили вблизи кострищ и шахты. «Но, - писал Юровский, - Романовых не предполагалось оставлять здесь, - шахта заранее была предназначена стать лишь временным местом их погребения». 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25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4a2500"/>
                </a:solidFill>
                <a:latin typeface="Tahoma"/>
              </a:rPr>
              <a:t>Выкопали братскую могилу. Трупы сложили в яму, облив серной кислотой. Забросали землёй и хворостом, несколько раз проехали – следов ямы не осталось. К шести часам утра 19 июля всё было кончено. «Секрет был сохранён вполне – этого места погребения белые не нашли» 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62" name="Picture 5" descr="03_01_01"/>
          <p:cNvPicPr/>
          <p:nvPr/>
        </p:nvPicPr>
        <p:blipFill>
          <a:blip r:embed="rId3"/>
          <a:stretch/>
        </p:blipFill>
        <p:spPr>
          <a:xfrm rot="21360000">
            <a:off x="250560" y="5516640"/>
            <a:ext cx="2016000" cy="101592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nikolay2"/>
          <p:cNvPicPr/>
          <p:nvPr/>
        </p:nvPicPr>
        <p:blipFill>
          <a:blip r:embed="rId1"/>
          <a:stretch/>
        </p:blipFill>
        <p:spPr>
          <a:xfrm>
            <a:off x="3635280" y="1484280"/>
            <a:ext cx="3529080" cy="28242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88569"/>
                </a:solidFill>
                <a:latin typeface="Tahoma"/>
              </a:rPr>
              <a:t>Такова истинная судьба Романовых. </a:t>
            </a:r>
            <a:endParaRPr b="1" lang="en-US" sz="40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67" name="Picture 5" descr="Николай Второй и семья"/>
          <p:cNvPicPr/>
          <p:nvPr/>
        </p:nvPicPr>
        <p:blipFill>
          <a:blip r:embed="rId2"/>
          <a:stretch/>
        </p:blipFill>
        <p:spPr>
          <a:xfrm>
            <a:off x="971640" y="1844640"/>
            <a:ext cx="2857320" cy="2828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nikolai"/>
          <p:cNvPicPr/>
          <p:nvPr/>
        </p:nvPicPr>
        <p:blipFill>
          <a:blip r:embed="rId3"/>
          <a:stretch/>
        </p:blipFill>
        <p:spPr>
          <a:xfrm>
            <a:off x="6012000" y="3429000"/>
            <a:ext cx="2735280" cy="2255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09_Император Николай II с семьей (слева "/>
          <p:cNvPicPr/>
          <p:nvPr/>
        </p:nvPicPr>
        <p:blipFill>
          <a:blip r:embed="rId4"/>
          <a:stretch/>
        </p:blipFill>
        <p:spPr>
          <a:xfrm>
            <a:off x="3059280" y="4076640"/>
            <a:ext cx="2790720" cy="232560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73" name="Picture 4" descr="36D042D1-DD8B-4328-BCCE-7AC31B874F01_mw800_mh600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Николай </a:t>
            </a: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II 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404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Русский царь!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Знай, если убийство совершат твои родственники, то ни один из твоей семьи, родных и детей не проживёт дольше двух лет… Их убьёт русский народ… Меня убьют. Я уже не жилец. Молись. Молись. Будь сильным. Заботься о своём избранном роде.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                                           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     </a:t>
            </a: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Последнее письмо Григория Распутина Николаю </a:t>
            </a:r>
            <a:r>
              <a:rPr b="0" i="1" lang="en-US" sz="1800" spc="-1" strike="noStrike">
                <a:solidFill>
                  <a:srgbClr val="4a2500"/>
                </a:solidFill>
                <a:latin typeface="Tahoma"/>
              </a:rPr>
              <a:t>II</a:t>
            </a: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.        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    </a:t>
            </a: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Декабрь 1916 г.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22" name="Picture 8" descr="ИльяГалкин-портретИмператораНиколаяII"/>
          <p:cNvPicPr/>
          <p:nvPr/>
        </p:nvPicPr>
        <p:blipFill>
          <a:blip r:embed="rId1"/>
          <a:stretch/>
        </p:blipFill>
        <p:spPr>
          <a:xfrm>
            <a:off x="1152360" y="1981080"/>
            <a:ext cx="3522960" cy="4114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Введение…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286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2500"/>
                </a:solidFill>
                <a:latin typeface="Tahoma"/>
              </a:rPr>
              <a:t>Убийство Николая </a:t>
            </a:r>
            <a:r>
              <a:rPr b="0" lang="en-US" sz="1600" spc="-1" strike="noStrike">
                <a:solidFill>
                  <a:srgbClr val="4a2500"/>
                </a:solidFill>
                <a:latin typeface="Tahoma"/>
              </a:rPr>
              <a:t>II</a:t>
            </a:r>
            <a:r>
              <a:rPr b="0" lang="ru-RU" sz="1600" spc="-1" strike="noStrike">
                <a:solidFill>
                  <a:srgbClr val="4a2500"/>
                </a:solidFill>
                <a:latin typeface="Tahoma"/>
              </a:rPr>
              <a:t> и его семьи – важнейшая веха в истории России, которая до сего дня вызывает споры и разделения в обществе, следовательно, эта тема очень актуальна. В ней очень много исторических загадок, поэтому предоставляется огромный материал для исследования. Но с другой стороны, из-за несовпадений в разных источниках (например, в советской и современной интерпретациях), очень сложно выяснить, где ложь, а где правда.</a:t>
            </a:r>
            <a:endParaRPr b="0" lang="en-US" sz="1600" spc="-1" strike="noStrike">
              <a:solidFill>
                <a:srgbClr val="4a25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2500"/>
                </a:solidFill>
                <a:latin typeface="Tahoma"/>
              </a:rPr>
              <a:t>Восемьдесят пять лет велась пропагандистская война, в которой участвовали красные и белые, большевики  и монархисты, ненавистники и почитатели Романовых. При этом каждая из враждующих партий использовала в пропаганде и по-своему истолковывала известные нам исторические факты, связанные с последними месяцами пребывания в большевистском плену и последовавшим затем расстрелом последнего русского императора и его семьи. Политические и религиозные разногласия, сложившиеся  ещё до убийства царственных мучеников, продолжают осложнять ситуацию. Официальные советские историки уделяли мало внимания судьбе Романовых. Убийства оправдывались условиями революционной ситуации. Людей убеждали в том, что без кровавых жертв революция, это детище Октября, оказалась бы нежизнеспособной. И никого не заботило, что этими жертвами стали четыре девушки и один мальчик, которые по всем человеческим правилам и законам были ни в чём не повинны, если не считать грехом и величайшим несчастьем то, что они вообще родились. Екатеринбургское убийство обросло домыслами о монархических заговорах, о неизбежности кровопролитий в период Гражданской войны, о том, что мир должен, наконец, сорвать кандалы монархического гнёта и отомстить за смерть юнцов, сражавшихся в окопах Первой мировой войны.</a:t>
            </a:r>
            <a:r>
              <a:rPr b="0" lang="ru-RU" sz="1500" spc="-1" strike="noStrike">
                <a:solidFill>
                  <a:srgbClr val="4a2500"/>
                </a:solidFill>
                <a:latin typeface="Tahoma"/>
              </a:rPr>
              <a:t> </a:t>
            </a:r>
            <a:endParaRPr b="0" lang="en-US" sz="15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image001"/>
          <p:cNvPicPr/>
          <p:nvPr/>
        </p:nvPicPr>
        <p:blipFill>
          <a:blip r:embed="rId1"/>
          <a:stretch/>
        </p:blipFill>
        <p:spPr>
          <a:xfrm>
            <a:off x="1763640" y="1557360"/>
            <a:ext cx="2255760" cy="4780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88569"/>
                </a:solidFill>
                <a:latin typeface="Tahoma"/>
              </a:rPr>
              <a:t>«Измена, и трусость, и обман». От Могилёва до Екатеринбурга.</a:t>
            </a: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30" name="Picture 6" descr="0NikAlVForKonnPolk"/>
          <p:cNvPicPr/>
          <p:nvPr/>
        </p:nvPicPr>
        <p:blipFill>
          <a:blip r:embed="rId2"/>
          <a:stretch/>
        </p:blipFill>
        <p:spPr>
          <a:xfrm>
            <a:off x="5076720" y="1916280"/>
            <a:ext cx="3695760" cy="2703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Nicholas_II_of_Russia_painted_by_Earnest_Lipgart"/>
          <p:cNvPicPr/>
          <p:nvPr/>
        </p:nvPicPr>
        <p:blipFill>
          <a:blip r:embed="rId3"/>
          <a:stretch/>
        </p:blipFill>
        <p:spPr>
          <a:xfrm>
            <a:off x="3564000" y="3429000"/>
            <a:ext cx="2038320" cy="30481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" descr="pict"/>
          <p:cNvPicPr/>
          <p:nvPr/>
        </p:nvPicPr>
        <p:blipFill>
          <a:blip r:embed="rId1"/>
          <a:stretch/>
        </p:blipFill>
        <p:spPr>
          <a:xfrm rot="660000">
            <a:off x="3779640" y="472428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Роковая ошибка.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Итак, настал роковой для царя и его семьи 1917 год. В конце февраля царский поезд, в котором находился император, выехал из Могилёва. Впоследствии многие мемуаристы оценят отъезд Николая из Могилёва как большую, даже роковую ошибку. 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36" name="Picture 5" descr="par01"/>
          <p:cNvPicPr/>
          <p:nvPr/>
        </p:nvPicPr>
        <p:blipFill>
          <a:blip r:embed="rId2"/>
          <a:stretch/>
        </p:blipFill>
        <p:spPr>
          <a:xfrm rot="21120000">
            <a:off x="4788000" y="2205000"/>
            <a:ext cx="3695760" cy="26132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Переезд в Екатеринбург.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292720" y="1412640"/>
            <a:ext cx="3695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2500"/>
                </a:solidFill>
                <a:latin typeface="Tahoma"/>
              </a:rPr>
              <a:t>Утром 26 апреля «поезд» с частью венценосной семьи покинул Тобольск и взял направление на Екатеринбург. Александра Фёдоровна, считавшая, что её мужа везут в Москву для подписания Брестского мира, пожелала ехать вместе с ним. А их дети в том числе единственный сын Алексей остались, т.к. ему было плохо. 23 мая 1918 г., как только стало лучше цесаревичу Алексею, царские дети, наконец, прибыли в Екатеринбург. Царская семья воссоединилась под крышей дома, ставшего их последней тюрьмой. 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40" name="Picture 5" descr="Russian_Royal_Family,_1911"/>
          <p:cNvPicPr/>
          <p:nvPr/>
        </p:nvPicPr>
        <p:blipFill>
          <a:blip r:embed="rId1"/>
          <a:stretch/>
        </p:blipFill>
        <p:spPr>
          <a:xfrm>
            <a:off x="1042920" y="2276640"/>
            <a:ext cx="4368960" cy="36367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Ipatjew-Haus1"/>
          <p:cNvPicPr/>
          <p:nvPr/>
        </p:nvPicPr>
        <p:blipFill>
          <a:blip r:embed="rId1"/>
          <a:stretch/>
        </p:blipFill>
        <p:spPr>
          <a:xfrm>
            <a:off x="250920" y="3573360"/>
            <a:ext cx="4249800" cy="2803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45" name="Picture 5" descr="03_Император Николай II с семьей"/>
          <p:cNvPicPr/>
          <p:nvPr/>
        </p:nvPicPr>
        <p:blipFill>
          <a:blip r:embed="rId2"/>
          <a:stretch/>
        </p:blipFill>
        <p:spPr>
          <a:xfrm>
            <a:off x="3492360" y="981000"/>
            <a:ext cx="4969080" cy="4008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Николай Второй и семья"/>
          <p:cNvPicPr/>
          <p:nvPr/>
        </p:nvPicPr>
        <p:blipFill>
          <a:blip r:embed="rId3"/>
          <a:stretch/>
        </p:blipFill>
        <p:spPr>
          <a:xfrm>
            <a:off x="1042920" y="549360"/>
            <a:ext cx="2857680" cy="2828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romanov_family2"/>
          <p:cNvPicPr/>
          <p:nvPr/>
        </p:nvPicPr>
        <p:blipFill>
          <a:blip r:embed="rId4"/>
          <a:stretch/>
        </p:blipFill>
        <p:spPr>
          <a:xfrm>
            <a:off x="5796000" y="4076640"/>
            <a:ext cx="2808360" cy="26431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88569"/>
                </a:solidFill>
                <a:latin typeface="Tahoma"/>
              </a:rPr>
              <a:t>Подготовка к расстрелу</a:t>
            </a:r>
            <a:endParaRPr b="1" lang="en-US" sz="40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7543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2500"/>
                </a:solidFill>
                <a:latin typeface="Tahoma"/>
              </a:rPr>
              <a:t>Обсуждались самые разные варианты – предлагалось заколоть или расстрелять жертвы во время сна или забросать их ручными гранатами; наконец от этих планов было решено отказаться в пользу массового расстрела пленников. Самым безопасным казалось увезти царскую семью из Ипатьевского дома, отвезти её в какое-нибудь глухое место и расстрелять. Однако подобный план заключал в себе и определённую опасность: дело в том, что силы чехословаков и белогвардейцев находились настолько близко от города, что не было никакой гарантии, что они не прорвутся сквозь жидкие ряды красноармейцев, оборонявших Екатеринбург, и не помешают планам убийства. В итоге Юровскому не оставалось ничего иного, как убить Романовых непосредственно в Ипатьевском доме, поскольку в таком случае у них не было ни возможности оказать сопротивление, ни шансов спастись. 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54" name="Picture 4" descr="nik2_8"/>
          <p:cNvPicPr/>
          <p:nvPr/>
        </p:nvPicPr>
        <p:blipFill>
          <a:blip r:embed="rId1"/>
          <a:stretch/>
        </p:blipFill>
        <p:spPr>
          <a:xfrm>
            <a:off x="4284720" y="476280"/>
            <a:ext cx="4248000" cy="3270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36D042D1-DD8B-4328-BCCE-7AC31B874F01_mw800_mh600"/>
          <p:cNvPicPr/>
          <p:nvPr/>
        </p:nvPicPr>
        <p:blipFill>
          <a:blip r:embed="rId2"/>
          <a:stretch/>
        </p:blipFill>
        <p:spPr>
          <a:xfrm>
            <a:off x="611280" y="1773360"/>
            <a:ext cx="4602240" cy="3450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Foto-podval"/>
          <p:cNvPicPr/>
          <p:nvPr/>
        </p:nvPicPr>
        <p:blipFill>
          <a:blip r:embed="rId3"/>
          <a:stretch/>
        </p:blipFill>
        <p:spPr>
          <a:xfrm>
            <a:off x="4140360" y="4149720"/>
            <a:ext cx="3840120" cy="230184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3:15:44Z</dcterms:created>
  <dc:creator>7</dc:creator>
  <dc:description/>
  <dc:language>en-US</dc:language>
  <cp:lastModifiedBy>LEGION</cp:lastModifiedBy>
  <dcterms:modified xsi:type="dcterms:W3CDTF">2015-01-15T12:28:06Z</dcterms:modified>
  <cp:revision>8</cp:revision>
  <dc:subject/>
  <dc:title>Последний император            Николай 2.</dc:title>
</cp:coreProperties>
</file>