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CBB8-1D78-4502-91D0-A41C44375C9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й император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Никола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лад подготов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ца 9А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нзина Рег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0D8C-234A-41AB-B553-D9C5F8B62ED7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альное убийств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овский приказал раздеть мертвецов, запалить костры и всё снятое сжечь. Из женских корсетов, разбитых пулями и штыками, посыпались... жемчуг, бриллианты. Юровский утверждал, что все они были аккуратно собраны и спрятаны на Алапаевском заводе, в подполье одного из домиков. Раздетые трупы спустили в шахту и попытались «завалить» её брошенными туда гранатами. Не все следы удалось скрыть. Кое-что всё же обронили вблизи кострищ и шахты. «Но, - писал Юровский, - Романовых не предполагалось оставлять здесь, - шахта заранее была предназначена стать лишь временным местом их погребе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копали братскую могилу. Трупы сложили в яму, облив серной кислотой. Забросали землёй и хворостом, несколько раз проехали – следов ямы не осталось. К шести часам утра 19 июля всё было кончено. «Секрет был сохранён вполне – этого места погребения белые не нашл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BBAB-A993-4E5C-937E-B08FCBEFD939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ова истинная судьба Романов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1234-19AC-4A26-AFF2-F4C10A0D65FD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усский цар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Знай, если убийство совершат твои родственники, то ни один из твоей семьи, родных и детей не проживёт дольше двух лет… Их убьёт русский народ… Меня убьют. Я уже не жилец. Молись. Молись. Будь сильным. Заботься о своём избранном 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следнее письмо Григория Распутина Николаю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екабрь 1916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DE21-890A-4AB7-946E-4CF9D4B7A8CA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бийство Никола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его семьи – важнейшая веха в истории России, которая до сего дня вызывает споры и разделения в обществе, следовательно, эта тема очень актуальна. В ней очень много исторических загадок, поэтому предоставляется огромный материал для исследования. Но с другой стороны, из-за несовпадений в разных источниках (например, в советской и современной интерпретациях), очень сложно выяснить, где ложь, а где прав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емьдесят пять лет велась пропагандистская война, в которой участвовали красные и белые, большевики  и монархисты, ненавистники и почитатели Романовых. При этом каждая из враждующих партий использовала в пропаганде и по-своему истолковывала известные нам исторические факты, связанные с последними месяцами пребывания в большевистском плену и последовавшим затем расстрелом последнего русского императора и его семьи. Политические и религиозные разногласия, сложившиеся  ещё до убийства царственных мучеников, продолжают осложнять ситуацию. Официальные советские историки уделяли мало внимания судьбе Романовых. Убийства оправдывались условиями революционной ситуации. Людей убеждали в том, что без кровавых жертв революция, это детище Октября, оказалась бы нежизнеспособной. И никого не заботило, что этими жертвами стали четыре девушки и один мальчик, которые по всем человеческим правилам и законам были ни в чём не повинны, если не считать грехом и величайшим несчастьем то, что они вообще родились. Екатеринбургское убийство обросло домыслами о монархических заговорах, о неизбежности кровопролитий в период Гражданской войны, о том, что мир должен, наконец, сорвать кандалы монархического гнёта и отомстить за смерть юнцов, сражавшихся в окопах Первой мировой вой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B6C3-BA43-4030-A6C7-ADFF4641A031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змена, и трусость, и обман». От Могилёва до Екатеринбург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EE41-6A32-4407-9D78-D9E0B031E067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ковая ошиб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настал роковой для царя и его семьи 1917 год. В конце февраля царский поезд, в котором находился император, выехал из Могилёва. Впоследствии многие мемуаристы оценят отъезд Николая из Могилёва как большую, даже роковую ошиб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977D-8A1C-4285-AEDB-1686F27C68CE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езд в Екатеринбур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ром 26 апреля «поезд» с частью венценосной семьи покинул Тобольск и взял направление на Екатеринбург. Александра Фёдоровна, считавшая, что её мужа везут в Москву для подписания Брестского мира, пожелала ехать вместе с ним. А их дети в том числе единственный сын Алексей остались, т.к. ему было плохо. 23 мая 1918 г., как только стало лучше цесаревичу Алексею, царские дети, наконец, прибыли в Екатеринбург. Царская семья воссоединилась под крышей дома, ставшего их последней тюрьм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5764-85D8-43B0-AC54-BDCA63046F42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ка к расстрел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уждались самые разные варианты – предлагалось заколоть или расстрелять жертвы во время сна или забросать их ручными гранатами; наконец от этих планов было решено отказаться в пользу массового расстрела пленников. Самым безопасным казалось увезти царскую семью из Ипатьевского дома, отвезти её в какое-нибудь глухое место и расстрелять. Однако подобный план заключал в себе и определённую опасность: дело в том, что силы чехословаков и белогвардейцев находились настолько близко от города, что не было никакой гарантии, что они не прорвутся сквозь жидкие ряды красноармейцев, оборонявших Екатеринбург, и не помешают планам убийства. В итоге Юровскому не оставалось ничего иного, как убить Романовых непосредственно в Ипатьевском доме, поскольку в таком случае у них не было ни возможности оказать сопротивление, ни шансов спасти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5AA0-3A59-49C4-9587-90B6EB6E5674}" type="slidenum">
              <a:rPr b="0" lang="uk-UA" sz="12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7FB7-AB02-49F4-B75F-B03A274FF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0B80-1937-4BB3-B28F-5E05C1C3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6D24-889C-44B0-90A0-25F6E8195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31A6-5F01-4114-95D9-41434693F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A0E2-2BF3-413E-894F-724AFD6B9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6A6F-F8D2-4201-B556-EC073478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9DA2-1E2A-4D1C-A636-BCD99DFF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9884-0CF2-4B39-A79A-62F5CFAA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EA66-0B65-4093-A90C-62FE0AA8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2B3F-D80B-434F-BF13-163ABF72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DCAC-EF8B-44C1-A383-DE561E8C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FF87-A7C9-40BF-8D2A-EFACCE8C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96342-6F05-41CB-835B-FDA9B066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CAB0-F1AA-464D-86CA-06D3DA17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7415-7F6E-49D3-AE90-582EC5EA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E705-3F6D-4512-8422-7A99AF862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4F58-A9C7-46D6-A1D3-64916CB0B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B1A4-5309-4453-B9D5-278D6B8E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6CA9-BD53-4C91-AF27-D5B00DF3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8E8D-D86C-4585-A779-65EC608A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DBAF-414C-45B0-903E-2B4BDF90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9FF3-AFDA-454C-8741-ADE8B96C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CE3F-3CDF-4410-B9BC-DF8D508C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D1D0-796C-45C0-91AF-E096364E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c2c0ba"/>
                </a:gs>
                <a:gs pos="100000">
                  <a:srgbClr val="f4f4e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2c0ba"/>
                </a:gs>
                <a:gs pos="100000">
                  <a:srgbClr val="f4f4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a5a7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50000">
                    <a:srgbClr val="9c9800"/>
                  </a:gs>
                  <a:gs pos="100000">
                    <a:srgbClr val="a5a7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a5a7a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100000">
                    <a:srgbClr val="f4f4e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50000">
                    <a:srgbClr val="9c9800"/>
                  </a:gs>
                  <a:gs pos="100000">
                    <a:srgbClr val="a5a7a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6369-0A7D-404E-A89D-16BFB579AE46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a7af"/>
                </a:gs>
                <a:gs pos="50000">
                  <a:srgbClr val="9c9800"/>
                </a:gs>
                <a:gs pos="100000">
                  <a:srgbClr val="a5a7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a5a7af"/>
                </a:gs>
                <a:gs pos="100000">
                  <a:srgbClr val="f4f4e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4f4ec"/>
                </a:gs>
                <a:gs pos="100000">
                  <a:srgbClr val="a5a7a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a5a7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50000">
                    <a:srgbClr val="9c9800"/>
                  </a:gs>
                  <a:gs pos="100000">
                    <a:srgbClr val="a5a7a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a25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25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46DA-983A-4ED4-AE82-3287BE30C639}" type="slidenum">
              <a:rPr b="0" lang="ru-RU" sz="10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5640" y="191592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Последний император</a:t>
            </a:r>
            <a:br>
              <a:rPr sz="4400"/>
            </a:b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           Николай </a:t>
            </a: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II </a:t>
            </a: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.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14720" y="3500280"/>
            <a:ext cx="3695400" cy="25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Доклад подготовила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Ученица 9А класса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Танзина Регина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18" name="Picture 6" descr="nikolay-rz "/>
          <p:cNvPicPr/>
          <p:nvPr/>
        </p:nvPicPr>
        <p:blipFill>
          <a:blip r:embed="rId1"/>
          <a:stretch/>
        </p:blipFill>
        <p:spPr>
          <a:xfrm>
            <a:off x="1476360" y="3500280"/>
            <a:ext cx="2206800" cy="30499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_44615022_woods"/>
          <p:cNvPicPr/>
          <p:nvPr/>
        </p:nvPicPr>
        <p:blipFill>
          <a:blip r:embed="rId1"/>
          <a:stretch/>
        </p:blipFill>
        <p:spPr>
          <a:xfrm rot="360000">
            <a:off x="179280" y="3357360"/>
            <a:ext cx="1933560" cy="1447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b_240111"/>
          <p:cNvPicPr/>
          <p:nvPr/>
        </p:nvPicPr>
        <p:blipFill>
          <a:blip r:embed="rId2"/>
          <a:stretch/>
        </p:blipFill>
        <p:spPr>
          <a:xfrm rot="1260000">
            <a:off x="5651640" y="393372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Детальное убийство…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2500"/>
                </a:solidFill>
                <a:latin typeface="Tahoma"/>
              </a:rPr>
              <a:t>Юровский приказал раздеть мертвецов, запалить костры и всё снятое сжечь. Из женских корсетов, разбитых пулями и штыками, посыпались... жемчуг, бриллианты. Юровский утверждал, что все они были аккуратно собраны и спрятаны на Алапаевском заводе, в подполье одного из домиков. Раздетые трупы спустили в шахту и попытались «завалить» её брошенными туда гранатами. Не все следы удалось скрыть. Кое-что всё же обронили вблизи кострищ и шахты. «Но, - писал Юровский, - Романовых не предполагалось оставлять здесь, - шахта заранее была предназначена стать лишь временным местом их погребения». 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25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4a2500"/>
                </a:solidFill>
                <a:latin typeface="Tahoma"/>
              </a:rPr>
              <a:t>Выкопали братскую могилу. Трупы сложили в яму, облив серной кислотой. Забросали землёй и хворостом, несколько раз проехали – следов ямы не осталось. К шести часам утра 19 июля всё было кончено. «Секрет был сохранён вполне – этого места погребения белые не нашли» 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62" name="Picture 5" descr="03_01_01"/>
          <p:cNvPicPr/>
          <p:nvPr/>
        </p:nvPicPr>
        <p:blipFill>
          <a:blip r:embed="rId3"/>
          <a:stretch/>
        </p:blipFill>
        <p:spPr>
          <a:xfrm rot="21360000">
            <a:off x="250560" y="5516640"/>
            <a:ext cx="2016000" cy="101592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6" descr="nikolay2"/>
          <p:cNvPicPr/>
          <p:nvPr/>
        </p:nvPicPr>
        <p:blipFill>
          <a:blip r:embed="rId1"/>
          <a:stretch/>
        </p:blipFill>
        <p:spPr>
          <a:xfrm>
            <a:off x="3635280" y="1484280"/>
            <a:ext cx="3529080" cy="28242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88569"/>
                </a:solidFill>
                <a:latin typeface="Tahoma"/>
              </a:rPr>
              <a:t>Такова истинная судьба Романовых. </a:t>
            </a:r>
            <a:endParaRPr b="1" lang="en-US" sz="40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67" name="Picture 5" descr="Николай Второй и семья"/>
          <p:cNvPicPr/>
          <p:nvPr/>
        </p:nvPicPr>
        <p:blipFill>
          <a:blip r:embed="rId2"/>
          <a:stretch/>
        </p:blipFill>
        <p:spPr>
          <a:xfrm>
            <a:off x="971640" y="1844640"/>
            <a:ext cx="2857320" cy="2828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nikolai"/>
          <p:cNvPicPr/>
          <p:nvPr/>
        </p:nvPicPr>
        <p:blipFill>
          <a:blip r:embed="rId3"/>
          <a:stretch/>
        </p:blipFill>
        <p:spPr>
          <a:xfrm>
            <a:off x="6012000" y="3429000"/>
            <a:ext cx="2735280" cy="22557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09_Император Николай II с семьей (слева "/>
          <p:cNvPicPr/>
          <p:nvPr/>
        </p:nvPicPr>
        <p:blipFill>
          <a:blip r:embed="rId4"/>
          <a:stretch/>
        </p:blipFill>
        <p:spPr>
          <a:xfrm>
            <a:off x="3059280" y="4076640"/>
            <a:ext cx="2790720" cy="232560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73" name="Picture 4" descr="36D042D1-DD8B-4328-BCCE-7AC31B874F01_mw800_mh600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Николай </a:t>
            </a: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II 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404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Русский царь!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Знай, если убийство совершат твои родственники, то ни один из твоей семьи, родных и детей не проживёт дольше двух лет… Их убьёт русский народ… Меня убьют. Я уже не жилец. Молись. Молись. Будь сильным. Заботься о своём избранном роде.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                                           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     </a:t>
            </a: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Последнее письмо Григория Распутина Николаю </a:t>
            </a:r>
            <a:r>
              <a:rPr b="0" i="1" lang="en-US" sz="1800" spc="-1" strike="noStrike">
                <a:solidFill>
                  <a:srgbClr val="4a2500"/>
                </a:solidFill>
                <a:latin typeface="Tahoma"/>
              </a:rPr>
              <a:t>II</a:t>
            </a: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.        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    </a:t>
            </a:r>
            <a:r>
              <a:rPr b="0" i="1" lang="ru-RU" sz="1800" spc="-1" strike="noStrike">
                <a:solidFill>
                  <a:srgbClr val="4a2500"/>
                </a:solidFill>
                <a:latin typeface="Tahoma"/>
              </a:rPr>
              <a:t>Декабрь 1916 г.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22" name="Picture 8" descr="ИльяГалкин-портретИмператораНиколаяII"/>
          <p:cNvPicPr/>
          <p:nvPr/>
        </p:nvPicPr>
        <p:blipFill>
          <a:blip r:embed="rId1"/>
          <a:stretch/>
        </p:blipFill>
        <p:spPr>
          <a:xfrm>
            <a:off x="1152360" y="1981080"/>
            <a:ext cx="3522960" cy="41148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Введение…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286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2500"/>
                </a:solidFill>
                <a:latin typeface="Tahoma"/>
              </a:rPr>
              <a:t>Убийство Николая </a:t>
            </a:r>
            <a:r>
              <a:rPr b="0" lang="en-US" sz="1600" spc="-1" strike="noStrike">
                <a:solidFill>
                  <a:srgbClr val="4a2500"/>
                </a:solidFill>
                <a:latin typeface="Tahoma"/>
              </a:rPr>
              <a:t>II</a:t>
            </a:r>
            <a:r>
              <a:rPr b="0" lang="ru-RU" sz="1600" spc="-1" strike="noStrike">
                <a:solidFill>
                  <a:srgbClr val="4a2500"/>
                </a:solidFill>
                <a:latin typeface="Tahoma"/>
              </a:rPr>
              <a:t> и его семьи – важнейшая веха в истории России, которая до сего дня вызывает споры и разделения в обществе, следовательно, эта тема очень актуальна. В ней очень много исторических загадок, поэтому предоставляется огромный материал для исследования. Но с другой стороны, из-за несовпадений в разных источниках (например, в советской и современной интерпретациях), очень сложно выяснить, где ложь, а где правда.</a:t>
            </a:r>
            <a:endParaRPr b="0" lang="en-US" sz="1600" spc="-1" strike="noStrike">
              <a:solidFill>
                <a:srgbClr val="4a25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a2500"/>
                </a:solidFill>
                <a:latin typeface="Tahoma"/>
              </a:rPr>
              <a:t>Восемьдесят пять лет велась пропагандистская война, в которой участвовали красные и белые, большевики  и монархисты, ненавистники и почитатели Романовых. При этом каждая из враждующих партий использовала в пропаганде и по-своему истолковывала известные нам исторические факты, связанные с последними месяцами пребывания в большевистском плену и последовавшим затем расстрелом последнего русского императора и его семьи. Политические и религиозные разногласия, сложившиеся  ещё до убийства царственных мучеников, продолжают осложнять ситуацию. Официальные советские историки уделяли мало внимания судьбе Романовых. Убийства оправдывались условиями революционной ситуации. Людей убеждали в том, что без кровавых жертв революция, это детище Октября, оказалась бы нежизнеспособной. И никого не заботило, что этими жертвами стали четыре девушки и один мальчик, которые по всем человеческим правилам и законам были ни в чём не повинны, если не считать грехом и величайшим несчастьем то, что они вообще родились. Екатеринбургское убийство обросло домыслами о монархических заговорах, о неизбежности кровопролитий в период Гражданской войны, о том, что мир должен, наконец, сорвать кандалы монархического гнёта и отомстить за смерть юнцов, сражавшихся в окопах Первой мировой войны.</a:t>
            </a:r>
            <a:r>
              <a:rPr b="0" lang="ru-RU" sz="1500" spc="-1" strike="noStrike">
                <a:solidFill>
                  <a:srgbClr val="4a2500"/>
                </a:solidFill>
                <a:latin typeface="Tahoma"/>
              </a:rPr>
              <a:t> </a:t>
            </a:r>
            <a:endParaRPr b="0" lang="en-US" sz="15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8" descr="image001"/>
          <p:cNvPicPr/>
          <p:nvPr/>
        </p:nvPicPr>
        <p:blipFill>
          <a:blip r:embed="rId1"/>
          <a:stretch/>
        </p:blipFill>
        <p:spPr>
          <a:xfrm>
            <a:off x="1763640" y="1557360"/>
            <a:ext cx="2255760" cy="47800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88569"/>
                </a:solidFill>
                <a:latin typeface="Tahoma"/>
              </a:rPr>
              <a:t>«Измена, и трусость, и обман». От Могилёва до Екатеринбурга.</a:t>
            </a: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30" name="Picture 6" descr="0NikAlVForKonnPolk"/>
          <p:cNvPicPr/>
          <p:nvPr/>
        </p:nvPicPr>
        <p:blipFill>
          <a:blip r:embed="rId2"/>
          <a:stretch/>
        </p:blipFill>
        <p:spPr>
          <a:xfrm>
            <a:off x="5076720" y="1916280"/>
            <a:ext cx="3695760" cy="2703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Nicholas_II_of_Russia_painted_by_Earnest_Lipgart"/>
          <p:cNvPicPr/>
          <p:nvPr/>
        </p:nvPicPr>
        <p:blipFill>
          <a:blip r:embed="rId3"/>
          <a:stretch/>
        </p:blipFill>
        <p:spPr>
          <a:xfrm>
            <a:off x="3564000" y="3429000"/>
            <a:ext cx="2038320" cy="304812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6" descr="pict"/>
          <p:cNvPicPr/>
          <p:nvPr/>
        </p:nvPicPr>
        <p:blipFill>
          <a:blip r:embed="rId1"/>
          <a:stretch/>
        </p:blipFill>
        <p:spPr>
          <a:xfrm rot="660000">
            <a:off x="3779640" y="4724280"/>
            <a:ext cx="1904760" cy="14288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Роковая ошибка.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a2500"/>
                </a:solidFill>
                <a:latin typeface="Tahoma"/>
              </a:rPr>
              <a:t>Итак, настал роковой для царя и его семьи 1917 год. В конце февраля царский поезд, в котором находился император, выехал из Могилёва. Впоследствии многие мемуаристы оценят отъезд Николая из Могилёва как большую, даже роковую ошибку. 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36" name="Picture 5" descr="par01"/>
          <p:cNvPicPr/>
          <p:nvPr/>
        </p:nvPicPr>
        <p:blipFill>
          <a:blip r:embed="rId2"/>
          <a:stretch/>
        </p:blipFill>
        <p:spPr>
          <a:xfrm rot="21120000">
            <a:off x="4788000" y="2205000"/>
            <a:ext cx="3695760" cy="26132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9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98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88569"/>
                </a:solidFill>
                <a:latin typeface="Tahoma"/>
              </a:rPr>
              <a:t>Переезд в Екатеринбург.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292720" y="1412640"/>
            <a:ext cx="36957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2500"/>
                </a:solidFill>
                <a:latin typeface="Tahoma"/>
              </a:rPr>
              <a:t>Утром 26 апреля «поезд» с частью венценосной семьи покинул Тобольск и взял направление на Екатеринбург. Александра Фёдоровна, считавшая, что её мужа везут в Москву для подписания Брестского мира, пожелала ехать вместе с ним. А их дети в том числе единственный сын Алексей остались, т.к. ему было плохо. 23 мая 1918 г., как только стало лучше цесаревичу Алексею, царские дети, наконец, прибыли в Екатеринбург. Царская семья воссоединилась под крышей дома, ставшего их последней тюрьмой. 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40" name="Picture 5" descr="Russian_Royal_Family,_1911"/>
          <p:cNvPicPr/>
          <p:nvPr/>
        </p:nvPicPr>
        <p:blipFill>
          <a:blip r:embed="rId1"/>
          <a:stretch/>
        </p:blipFill>
        <p:spPr>
          <a:xfrm>
            <a:off x="1042920" y="2276640"/>
            <a:ext cx="4368960" cy="36367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6" descr="Ipatjew-Haus1"/>
          <p:cNvPicPr/>
          <p:nvPr/>
        </p:nvPicPr>
        <p:blipFill>
          <a:blip r:embed="rId1"/>
          <a:stretch/>
        </p:blipFill>
        <p:spPr>
          <a:xfrm>
            <a:off x="250920" y="3573360"/>
            <a:ext cx="4249800" cy="2803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45" name="Picture 5" descr="03_Император Николай II с семьей"/>
          <p:cNvPicPr/>
          <p:nvPr/>
        </p:nvPicPr>
        <p:blipFill>
          <a:blip r:embed="rId2"/>
          <a:stretch/>
        </p:blipFill>
        <p:spPr>
          <a:xfrm>
            <a:off x="3492360" y="981000"/>
            <a:ext cx="4969080" cy="4008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Николай Второй и семья"/>
          <p:cNvPicPr/>
          <p:nvPr/>
        </p:nvPicPr>
        <p:blipFill>
          <a:blip r:embed="rId3"/>
          <a:stretch/>
        </p:blipFill>
        <p:spPr>
          <a:xfrm>
            <a:off x="1042920" y="549360"/>
            <a:ext cx="2857680" cy="2828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romanov_family2"/>
          <p:cNvPicPr/>
          <p:nvPr/>
        </p:nvPicPr>
        <p:blipFill>
          <a:blip r:embed="rId4"/>
          <a:stretch/>
        </p:blipFill>
        <p:spPr>
          <a:xfrm>
            <a:off x="5796000" y="4076640"/>
            <a:ext cx="2808360" cy="26431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88569"/>
                </a:solidFill>
                <a:latin typeface="Tahoma"/>
              </a:rPr>
              <a:t>Подготовка к расстрелу</a:t>
            </a:r>
            <a:endParaRPr b="1" lang="en-US" sz="40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7543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a2500"/>
                </a:solidFill>
                <a:latin typeface="Tahoma"/>
              </a:rPr>
              <a:t>Обсуждались самые разные варианты – предлагалось заколоть или расстрелять жертвы во время сна или забросать их ручными гранатами; наконец от этих планов было решено отказаться в пользу массового расстрела пленников. Самым безопасным казалось увезти царскую семью из Ипатьевского дома, отвезти её в какое-нибудь глухое место и расстрелять. Однако подобный план заключал в себе и определённую опасность: дело в том, что силы чехословаков и белогвардейцев находились настолько близко от города, что не было никакой гарантии, что они не прорвутся сквозь жидкие ряды красноармейцев, оборонявших Екатеринбург, и не помешают планам убийства. В итоге Юровскому не оставалось ничего иного, как убить Романовых непосредственно в Ипатьевском доме, поскольку в таком случае у них не было ни возможности оказать сопротивление, ни шансов спастись. </a:t>
            </a:r>
            <a:endParaRPr b="0" lang="en-US" sz="20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154" name="Picture 4" descr="nik2_8"/>
          <p:cNvPicPr/>
          <p:nvPr/>
        </p:nvPicPr>
        <p:blipFill>
          <a:blip r:embed="rId1"/>
          <a:stretch/>
        </p:blipFill>
        <p:spPr>
          <a:xfrm>
            <a:off x="4284720" y="476280"/>
            <a:ext cx="4248000" cy="3270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36D042D1-DD8B-4328-BCCE-7AC31B874F01_mw800_mh600"/>
          <p:cNvPicPr/>
          <p:nvPr/>
        </p:nvPicPr>
        <p:blipFill>
          <a:blip r:embed="rId2"/>
          <a:stretch/>
        </p:blipFill>
        <p:spPr>
          <a:xfrm>
            <a:off x="611280" y="1773360"/>
            <a:ext cx="4602240" cy="3450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Foto-podval"/>
          <p:cNvPicPr/>
          <p:nvPr/>
        </p:nvPicPr>
        <p:blipFill>
          <a:blip r:embed="rId3"/>
          <a:stretch/>
        </p:blipFill>
        <p:spPr>
          <a:xfrm>
            <a:off x="4140360" y="4149720"/>
            <a:ext cx="3840120" cy="230184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25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3:15:44Z</dcterms:created>
  <dc:creator>7</dc:creator>
  <dc:description/>
  <dc:language>en-US</dc:language>
  <cp:lastModifiedBy>LEGION</cp:lastModifiedBy>
  <dcterms:modified xsi:type="dcterms:W3CDTF">2015-01-15T12:28:06Z</dcterms:modified>
  <cp:revision>8</cp:revision>
  <dc:subject/>
  <dc:title>Последний император            Николай 2.</dc:title>
</cp:coreProperties>
</file>