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1E67-6691-472B-BDC9-48486F31C9B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император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Никола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 подгото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зина Рег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7FF0-FF66-43E3-9EB2-F2297DA16DEE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ьное убийств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овский приказал раздеть мертвецов, запалить костры и всё снятое сжечь. Из женских корсетов, разбитых пулями и штыками, посыпались... жемчуг, бриллианты. Юровский утверждал, что все они были аккуратно собраны и спрятаны на Алапаевском заводе, в подполье одного из домиков. Раздетые трупы спустили в шахту и попытались «завалить» её брошенными туда гранатами. Не все следы удалось скрыть. Кое-что всё же обронили вблизи кострищ и шахты. «Но, - писал Юровский, - Романовых не предполагалось оставлять здесь, - шахта заранее была предназначена стать лишь временным местом их погреб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копали братскую могилу. Трупы сложили в яму, облив серной кислотой. Забросали землёй и хворостом, несколько раз проехали – следов ямы не осталось. К шести часам утра 19 июля всё было кончено. «Секрет был сохранён вполне – этого места погребения белые не нашл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C57F-2DDB-4E85-9A95-4E9A0112350C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ва истинная судьба Роман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9F92-F8E9-454F-875C-51524D7D22BB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ский цар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най, если убийство совершат твои родственники, то ни один из твоей семьи, родных и детей не проживёт дольше двух лет… Их убьёт русский народ… Меня убьют. Я уже не жилец. Молись. Молись. Будь сильным. Заботься о своём избранном 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следнее письмо Григория Распутина Николаю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кабрь 191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EE42-5ABA-4809-BAC7-5034A4706EEA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ийство Никол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го семьи – важнейшая веха в истории России, которая до сего дня вызывает споры и разделения в обществе, следовательно, эта тема очень актуальна. В ней очень много исторических загадок, поэтому предоставляется огромный материал для исследования. Но с другой стороны, из-за несовпадений в разных источниках (например, в советской и современной интерпретациях), очень сложно выяснить, где ложь, а где прав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десят пять лет велась пропагандистская война, в которой участвовали красные и белые, большевики  и монархисты, ненавистники и почитатели Романовых. При этом каждая из враждующих партий использовала в пропаганде и по-своему истолковывала известные нам исторические факты, связанные с последними месяцами пребывания в большевистском плену и последовавшим затем расстрелом последнего русского императора и его семьи. Политические и религиозные разногласия, сложившиеся  ещё до убийства царственных мучеников, продолжают осложнять ситуацию. Официальные советские историки уделяли мало внимания судьбе Романовых. Убийства оправдывались условиями революционной ситуации. Людей убеждали в том, что без кровавых жертв революция, это детище Октября, оказалась бы нежизнеспособной. И никого не заботило, что этими жертвами стали четыре девушки и один мальчик, которые по всем человеческим правилам и законам были ни в чём не повинны, если не считать грехом и величайшим несчастьем то, что они вообще родились. Екатеринбургское убийство обросло домыслами о монархических заговорах, о неизбежности кровопролитий в период Гражданской войны, о том, что мир должен, наконец, сорвать кандалы монархического гнёта и отомстить за смерть юнцов, сражавшихся в окопах Первой мировой вой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8621-BD25-4047-B1EC-B3F7DBA7946F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мена, и трусость, и обман». От Могилёва до Екатеринбур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3268-2FDC-4C71-9D7E-7B32C8E85E0D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ковая ошиб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настал роковой для царя и его семьи 1917 год. В конце февраля царский поезд, в котором находился император, выехал из Могилёва. Впоследствии многие мемуаристы оценят отъезд Николая из Могилёва как большую, даже роковую ошиб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7803-7343-454A-94E9-204B7C6C9A7B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езд в Екатеринбу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ом 26 апреля «поезд» с частью венценосной семьи покинул Тобольск и взял направление на Екатеринбург. Александра Фёдоровна, считавшая, что её мужа везут в Москву для подписания Брестского мира, пожелала ехать вместе с ним. А их дети в том числе единственный сын Алексей остались, т.к. ему было плохо. 23 мая 1918 г., как только стало лучше цесаревичу Алексею, царские дети, наконец, прибыли в Екатеринбург. Царская семья воссоединилась под крышей дома, ставшего их последней тюрь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E32F-DB1D-4D58-840A-CEE75DC2027B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к расстре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ались самые разные варианты – предлагалось заколоть или расстрелять жертвы во время сна или забросать их ручными гранатами; наконец от этих планов было решено отказаться в пользу массового расстрела пленников. Самым безопасным казалось увезти царскую семью из Ипатьевского дома, отвезти её в какое-нибудь глухое место и расстрелять. Однако подобный план заключал в себе и определённую опасность: дело в том, что силы чехословаков и белогвардейцев находились настолько близко от города, что не было никакой гарантии, что они не прорвутся сквозь жидкие ряды красноармейцев, оборонявших Екатеринбург, и не помешают планам убийства. В итоге Юровскому не оставалось ничего иного, как убить Романовых непосредственно в Ипатьевском доме, поскольку в таком случае у них не было ни возможности оказать сопротивление, ни шансов спаст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C5E2-B8A2-4ED9-A849-06E94DE31012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DC9-C6D0-49AE-86DF-40086779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44F-7D6E-4D69-9265-8431010D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DED-0785-4F29-A258-9163B39F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42E-AABD-420B-AD63-20632160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3540-D070-4DCD-9270-BFE17EA7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DEE6-E8DF-490B-BCD2-DEAF696C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395D-F988-4D10-87F0-5FB8BE4C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4056-E630-4897-84E4-36FAA68E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6C57-9BEB-4775-9E15-BEBD9EBD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B9C1-D9EF-4FF0-A2C0-8AA3AC2B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B2BD-1646-4EE0-967B-AA122871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BF2-AFE7-4CBD-90EC-A6950B1E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B9AE-DDF5-40D2-8B0E-D389668D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F1CA-9B8D-4CAD-ADDC-148E61C5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A6AA-7BEC-4E6B-81F3-8EDEC9F5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FF62-895A-437D-BBB4-9F415AA0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D961-8572-4821-8F47-B13D840C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6029-7A6F-45D8-891C-62397EB6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7DC-A7E2-45FF-8DB9-BDA237C3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8C4-6577-48EA-88DB-6D0FDDD8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273-6A38-472F-8335-C2731B7B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6F18-A8C5-44C4-BF32-38860656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1F5-5775-4B8B-94D0-7FF73ABE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F89-6C6B-42A0-998C-83246C42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4428-030F-4D9F-B5C9-B14865D347E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50000">
                  <a:srgbClr val="9c9800"/>
                </a:gs>
                <a:gs pos="100000">
                  <a:srgbClr val="a5a7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f4ec"/>
                </a:gs>
                <a:gs pos="100000">
                  <a:srgbClr val="a5a7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1F06-F03A-43F2-8FB4-2922D0A83237}" type="slidenum">
              <a:rPr b="0" lang="ru-RU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Последний император</a:t>
            </a:r>
            <a:br>
              <a:rPr sz="4400"/>
            </a:b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          Николай </a:t>
            </a: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II 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14720" y="3500280"/>
            <a:ext cx="36954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Доклад подготовил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Ученица 9А класс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Танзина Регин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18" name="Picture 6" descr="nikolay-rz "/>
          <p:cNvPicPr/>
          <p:nvPr/>
        </p:nvPicPr>
        <p:blipFill>
          <a:blip r:embed="rId1"/>
          <a:stretch/>
        </p:blipFill>
        <p:spPr>
          <a:xfrm>
            <a:off x="1476360" y="3500280"/>
            <a:ext cx="2206800" cy="3049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_44615022_woods"/>
          <p:cNvPicPr/>
          <p:nvPr/>
        </p:nvPicPr>
        <p:blipFill>
          <a:blip r:embed="rId1"/>
          <a:stretch/>
        </p:blipFill>
        <p:spPr>
          <a:xfrm rot="360000">
            <a:off x="179280" y="3357360"/>
            <a:ext cx="1933560" cy="144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_240111"/>
          <p:cNvPicPr/>
          <p:nvPr/>
        </p:nvPicPr>
        <p:blipFill>
          <a:blip r:embed="rId2"/>
          <a:stretch/>
        </p:blipFill>
        <p:spPr>
          <a:xfrm rot="1260000">
            <a:off x="5651640" y="393372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Детальное убийство…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Юровский приказал раздеть мертвецов, запалить костры и всё снятое сжечь. Из женских корсетов, разбитых пулями и штыками, посыпались... жемчуг, бриллианты. Юровский утверждал, что все они были аккуратно собраны и спрятаны на Алапаевском заводе, в подполье одного из домиков. Раздетые трупы спустили в шахту и попытались «завалить» её брошенными туда гранатами. Не все следы удалось скрыть. Кое-что всё же обронили вблизи кострищ и шахты. «Но, - писал Юровский, - Романовых не предполагалось оставлять здесь, - шахта заранее была предназначена стать лишь временным местом их погребения».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Выкопали братскую могилу. Трупы сложили в яму, облив серной кислотой. Забросали землёй и хворостом, несколько раз проехали – следов ямы не осталось. К шести часам утра 19 июля всё было кончено. «Секрет был сохранён вполне – этого места погребения белые не нашли»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62" name="Picture 5" descr="03_01_01"/>
          <p:cNvPicPr/>
          <p:nvPr/>
        </p:nvPicPr>
        <p:blipFill>
          <a:blip r:embed="rId3"/>
          <a:stretch/>
        </p:blipFill>
        <p:spPr>
          <a:xfrm rot="21360000">
            <a:off x="250560" y="5516640"/>
            <a:ext cx="2016000" cy="10159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nikolay2"/>
          <p:cNvPicPr/>
          <p:nvPr/>
        </p:nvPicPr>
        <p:blipFill>
          <a:blip r:embed="rId1"/>
          <a:stretch/>
        </p:blipFill>
        <p:spPr>
          <a:xfrm>
            <a:off x="3635280" y="1484280"/>
            <a:ext cx="3529080" cy="2824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Такова истинная судьба Романовых. 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67" name="Picture 5" descr="Николай Второй и семья"/>
          <p:cNvPicPr/>
          <p:nvPr/>
        </p:nvPicPr>
        <p:blipFill>
          <a:blip r:embed="rId2"/>
          <a:stretch/>
        </p:blipFill>
        <p:spPr>
          <a:xfrm>
            <a:off x="971640" y="1844640"/>
            <a:ext cx="2857320" cy="2828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nikolai"/>
          <p:cNvPicPr/>
          <p:nvPr/>
        </p:nvPicPr>
        <p:blipFill>
          <a:blip r:embed="rId3"/>
          <a:stretch/>
        </p:blipFill>
        <p:spPr>
          <a:xfrm>
            <a:off x="6012000" y="3429000"/>
            <a:ext cx="2735280" cy="2255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09_Император Николай II с семьей (слева "/>
          <p:cNvPicPr/>
          <p:nvPr/>
        </p:nvPicPr>
        <p:blipFill>
          <a:blip r:embed="rId4"/>
          <a:stretch/>
        </p:blipFill>
        <p:spPr>
          <a:xfrm>
            <a:off x="3059280" y="4076640"/>
            <a:ext cx="2790720" cy="23256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73" name="Picture 4" descr="36D042D1-DD8B-4328-BCCE-7AC31B874F01_mw800_mh60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Николай </a:t>
            </a: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II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404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Русский царь!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Знай, если убийство совершат твои родственники, то ни один из твоей семьи, родных и детей не проживёт дольше двух лет… Их убьёт русский народ… Меня убьют. Я уже не жилец. Молись. Молись. Будь сильным. Заботься о своём избранном роде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                                      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Последнее письмо Григория Распутина Николаю </a:t>
            </a:r>
            <a:r>
              <a:rPr b="0" i="1" lang="en-US" sz="1800" spc="-1" strike="noStrike">
                <a:solidFill>
                  <a:srgbClr val="4a2500"/>
                </a:solidFill>
                <a:latin typeface="Tahoma"/>
              </a:rPr>
              <a:t>II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.       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Декабрь 1916 г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22" name="Picture 8" descr="ИльяГалкин-портретИмператораНиколаяII"/>
          <p:cNvPicPr/>
          <p:nvPr/>
        </p:nvPicPr>
        <p:blipFill>
          <a:blip r:embed="rId1"/>
          <a:stretch/>
        </p:blipFill>
        <p:spPr>
          <a:xfrm>
            <a:off x="1152360" y="1981080"/>
            <a:ext cx="352296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Введение…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Убийство Николая </a:t>
            </a:r>
            <a:r>
              <a:rPr b="0" lang="en-US" sz="1600" spc="-1" strike="noStrike">
                <a:solidFill>
                  <a:srgbClr val="4a2500"/>
                </a:solidFill>
                <a:latin typeface="Tahoma"/>
              </a:rPr>
              <a:t>II</a:t>
            </a: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 и его семьи – важнейшая веха в истории России, которая до сего дня вызывает споры и разделения в обществе, следовательно, эта тема очень актуальна. В ней очень много исторических загадок, поэтому предоставляется огромный материал для исследования. Но с другой стороны, из-за несовпадений в разных источниках (например, в советской и современной интерпретациях), очень сложно выяснить, где ложь, а где правда.</a:t>
            </a:r>
            <a:endParaRPr b="0" lang="en-US" sz="1600" spc="-1" strike="noStrike">
              <a:solidFill>
                <a:srgbClr val="4a25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Восемьдесят пять лет велась пропагандистская война, в которой участвовали красные и белые, большевики  и монархисты, ненавистники и почитатели Романовых. При этом каждая из враждующих партий использовала в пропаганде и по-своему истолковывала известные нам исторические факты, связанные с последними месяцами пребывания в большевистском плену и последовавшим затем расстрелом последнего русского императора и его семьи. Политические и религиозные разногласия, сложившиеся  ещё до убийства царственных мучеников, продолжают осложнять ситуацию. Официальные советские историки уделяли мало внимания судьбе Романовых. Убийства оправдывались условиями революционной ситуации. Людей убеждали в том, что без кровавых жертв революция, это детище Октября, оказалась бы нежизнеспособной. И никого не заботило, что этими жертвами стали четыре девушки и один мальчик, которые по всем человеческим правилам и законам были ни в чём не повинны, если не считать грехом и величайшим несчастьем то, что они вообще родились. Екатеринбургское убийство обросло домыслами о монархических заговорах, о неизбежности кровопролитий в период Гражданской войны, о том, что мир должен, наконец, сорвать кандалы монархического гнёта и отомстить за смерть юнцов, сражавшихся в окопах Первой мировой войны.</a:t>
            </a:r>
            <a:r>
              <a:rPr b="0" lang="ru-RU" sz="1500" spc="-1" strike="noStrike">
                <a:solidFill>
                  <a:srgbClr val="4a25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image001"/>
          <p:cNvPicPr/>
          <p:nvPr/>
        </p:nvPicPr>
        <p:blipFill>
          <a:blip r:embed="rId1"/>
          <a:stretch/>
        </p:blipFill>
        <p:spPr>
          <a:xfrm>
            <a:off x="1763640" y="1557360"/>
            <a:ext cx="2255760" cy="4780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8569"/>
                </a:solidFill>
                <a:latin typeface="Tahoma"/>
              </a:rPr>
              <a:t>«Измена, и трусость, и обман». От Могилёва до Екатеринбурга.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0" name="Picture 6" descr="0NikAlVForKonnPolk"/>
          <p:cNvPicPr/>
          <p:nvPr/>
        </p:nvPicPr>
        <p:blipFill>
          <a:blip r:embed="rId2"/>
          <a:stretch/>
        </p:blipFill>
        <p:spPr>
          <a:xfrm>
            <a:off x="5076720" y="1916280"/>
            <a:ext cx="3695760" cy="27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Nicholas_II_of_Russia_painted_by_Earnest_Lipgart"/>
          <p:cNvPicPr/>
          <p:nvPr/>
        </p:nvPicPr>
        <p:blipFill>
          <a:blip r:embed="rId3"/>
          <a:stretch/>
        </p:blipFill>
        <p:spPr>
          <a:xfrm>
            <a:off x="3564000" y="3429000"/>
            <a:ext cx="2038320" cy="30481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pict"/>
          <p:cNvPicPr/>
          <p:nvPr/>
        </p:nvPicPr>
        <p:blipFill>
          <a:blip r:embed="rId1"/>
          <a:stretch/>
        </p:blipFill>
        <p:spPr>
          <a:xfrm rot="660000">
            <a:off x="3779640" y="47242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Роковая ошибка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Итак, настал роковой для царя и его семьи 1917 год. В конце февраля царский поезд, в котором находился император, выехал из Могилёва. Впоследствии многие мемуаристы оценят отъезд Николая из Могилёва как большую, даже роковую ошибку.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6" name="Picture 5" descr="par01"/>
          <p:cNvPicPr/>
          <p:nvPr/>
        </p:nvPicPr>
        <p:blipFill>
          <a:blip r:embed="rId2"/>
          <a:stretch/>
        </p:blipFill>
        <p:spPr>
          <a:xfrm rot="21120000">
            <a:off x="4788000" y="2205000"/>
            <a:ext cx="3695760" cy="26132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Переезд в Екатеринбург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92720" y="1412640"/>
            <a:ext cx="3695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Утром 26 апреля «поезд» с частью венценосной семьи покинул Тобольск и взял направление на Екатеринбург. Александра Фёдоровна, считавшая, что её мужа везут в Москву для подписания Брестского мира, пожелала ехать вместе с ним. А их дети в том числе единственный сын Алексей остались, т.к. ему было плохо. 23 мая 1918 г., как только стало лучше цесаревичу Алексею, царские дети, наконец, прибыли в Екатеринбург. Царская семья воссоединилась под крышей дома, ставшего их последней тюрьмой.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0" name="Picture 5" descr="Russian_Royal_Family,_1911"/>
          <p:cNvPicPr/>
          <p:nvPr/>
        </p:nvPicPr>
        <p:blipFill>
          <a:blip r:embed="rId1"/>
          <a:stretch/>
        </p:blipFill>
        <p:spPr>
          <a:xfrm>
            <a:off x="1042920" y="2276640"/>
            <a:ext cx="4368960" cy="36367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Ipatjew-Haus1"/>
          <p:cNvPicPr/>
          <p:nvPr/>
        </p:nvPicPr>
        <p:blipFill>
          <a:blip r:embed="rId1"/>
          <a:stretch/>
        </p:blipFill>
        <p:spPr>
          <a:xfrm>
            <a:off x="250920" y="3573360"/>
            <a:ext cx="4249800" cy="2803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5" name="Picture 5" descr="03_Император Николай II с семьей"/>
          <p:cNvPicPr/>
          <p:nvPr/>
        </p:nvPicPr>
        <p:blipFill>
          <a:blip r:embed="rId2"/>
          <a:stretch/>
        </p:blipFill>
        <p:spPr>
          <a:xfrm>
            <a:off x="3492360" y="981000"/>
            <a:ext cx="4969080" cy="4008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Николай Второй и семья"/>
          <p:cNvPicPr/>
          <p:nvPr/>
        </p:nvPicPr>
        <p:blipFill>
          <a:blip r:embed="rId3"/>
          <a:stretch/>
        </p:blipFill>
        <p:spPr>
          <a:xfrm>
            <a:off x="1042920" y="549360"/>
            <a:ext cx="2857680" cy="2828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romanov_family2"/>
          <p:cNvPicPr/>
          <p:nvPr/>
        </p:nvPicPr>
        <p:blipFill>
          <a:blip r:embed="rId4"/>
          <a:stretch/>
        </p:blipFill>
        <p:spPr>
          <a:xfrm>
            <a:off x="5796000" y="4076640"/>
            <a:ext cx="2808360" cy="2643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Подготовка к расстрелу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754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Обсуждались самые разные варианты – предлагалось заколоть или расстрелять жертвы во время сна или забросать их ручными гранатами; наконец от этих планов было решено отказаться в пользу массового расстрела пленников. Самым безопасным казалось увезти царскую семью из Ипатьевского дома, отвезти её в какое-нибудь глухое место и расстрелять. Однако подобный план заключал в себе и определённую опасность: дело в том, что силы чехословаков и белогвардейцев находились настолько близко от города, что не было никакой гарантии, что они не прорвутся сквозь жидкие ряды красноармейцев, оборонявших Екатеринбург, и не помешают планам убийства. В итоге Юровскому не оставалось ничего иного, как убить Романовых непосредственно в Ипатьевском доме, поскольку в таком случае у них не было ни возможности оказать сопротивление, ни шансов спастись.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54" name="Picture 4" descr="nik2_8"/>
          <p:cNvPicPr/>
          <p:nvPr/>
        </p:nvPicPr>
        <p:blipFill>
          <a:blip r:embed="rId1"/>
          <a:stretch/>
        </p:blipFill>
        <p:spPr>
          <a:xfrm>
            <a:off x="4284720" y="476280"/>
            <a:ext cx="4248000" cy="327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36D042D1-DD8B-4328-BCCE-7AC31B874F01_mw800_mh600"/>
          <p:cNvPicPr/>
          <p:nvPr/>
        </p:nvPicPr>
        <p:blipFill>
          <a:blip r:embed="rId2"/>
          <a:stretch/>
        </p:blipFill>
        <p:spPr>
          <a:xfrm>
            <a:off x="611280" y="1773360"/>
            <a:ext cx="4602240" cy="3450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Foto-podval"/>
          <p:cNvPicPr/>
          <p:nvPr/>
        </p:nvPicPr>
        <p:blipFill>
          <a:blip r:embed="rId3"/>
          <a:stretch/>
        </p:blipFill>
        <p:spPr>
          <a:xfrm>
            <a:off x="4140360" y="4149720"/>
            <a:ext cx="3840120" cy="23018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3:15:44Z</dcterms:created>
  <dc:creator>7</dc:creator>
  <dc:description/>
  <dc:language>en-US</dc:language>
  <cp:lastModifiedBy>LEGION</cp:lastModifiedBy>
  <dcterms:modified xsi:type="dcterms:W3CDTF">2015-01-15T12:28:06Z</dcterms:modified>
  <cp:revision>8</cp:revision>
  <dc:subject/>
  <dc:title>Последний император            Николай 2.</dc:title>
</cp:coreProperties>
</file>