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EF24-FE9A-4D37-89ED-9506D4F5B886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988_&#1075;&#1086;&#1076;" TargetMode="External"/><Relationship Id="rId2" Type="http://schemas.openxmlformats.org/officeDocument/2006/relationships/hyperlink" Target="http://ru.wikipedia.org/wiki/&#1050;&#1080;&#1077;&#1074;&#1089;&#1082;&#1072;&#1103;_&#1056;&#1091;&#1089;&#1100;" TargetMode="External"/><Relationship Id="rId3" Type="http://schemas.openxmlformats.org/officeDocument/2006/relationships/hyperlink" Target="http://ru.wikipedia.org/wiki/&#1042;&#1083;&#1072;&#1076;&#1080;&#1084;&#1080;&#1088;_I_&#1057;&#1074;&#1103;&#1090;&#1086;&#1089;&#1083;&#1072;&#1074;&#1080;&#1095;" TargetMode="External"/><Relationship Id="rId4" Type="http://schemas.openxmlformats.org/officeDocument/2006/relationships/hyperlink" Target="http://ru.wikipedia.org/wiki/&#1050;&#1088;&#1077;&#1097;&#1077;&#1085;&#1080;&#1077;" TargetMode="External"/><Relationship Id="rId5" Type="http://schemas.openxmlformats.org/officeDocument/2006/relationships/hyperlink" Target="http://ru.wikipedia.org/wiki/&#1050;&#1086;&#1085;&#1089;&#1090;&#1072;&#1085;&#1090;&#1080;&#1085;&#1086;&#1087;&#1086;&#1083;&#1100;&#1089;&#1082;&#1072;&#1103;_&#1087;&#1088;&#1072;&#1074;&#1086;&#1089;&#1083;&#1072;&#1074;&#1085;&#1072;&#1103;_&#1094;&#1077;&#1088;&#1082;&#1086;&#1074;&#1100;" TargetMode="External"/><Relationship Id="rId6" Type="http://schemas.openxmlformats.org/officeDocument/2006/relationships/hyperlink" Target="http://ru.wikipedia.org/wiki/&#1042;&#1072;&#1089;&#1080;&#1083;&#1080;&#1081;_II_(&#1074;&#1080;&#1079;&#1072;&#1085;&#1090;&#1080;&#1081;&#1089;&#1082;&#1080;&#1081;_&#1080;&#1084;&#1087;&#1077;&#1088;&#1072;&#1090;&#1086;&#1088;)" TargetMode="External"/><Relationship Id="rId7" Type="http://schemas.openxmlformats.org/officeDocument/2006/relationships/hyperlink" Target="http://ru.wikipedia.org/wiki/&#1050;&#1086;&#1085;&#1089;&#1090;&#1072;&#1085;&#1090;&#1080;&#1085;_VIII" TargetMode="External"/><Relationship Id="rId8" Type="http://schemas.openxmlformats.org/officeDocument/2006/relationships/slide" Target="../slides/slide7.xml"/><Relationship Id="rId9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ревнерусск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5847-58E9-40A9-ACFF-C4FDE8757878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одумай</a:t>
            </a: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и отве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распространились книги в Древней Руси? Что такое список? Рукопис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всех ли произведений  древнерусской литературы известны имена автор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больше всего ценят в человеке древнерусские писате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чем состоит гуманизм древнерусской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тературы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DE96-41F5-42DA-A57A-A353BA398C79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одерж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ebdings"/>
                <a:ea typeface="Webdings"/>
              </a:rPr>
              <a:t></a:t>
            </a:r>
            <a:r>
              <a:rPr b="1" i="1" lang="ru-RU" sz="1200" spc="-1" strike="noStrike">
                <a:solidFill>
                  <a:srgbClr val="ff00ff"/>
                </a:solidFill>
                <a:latin typeface="Calibri"/>
              </a:rPr>
              <a:t>Истоки Древнерусской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ff"/>
                </a:solidFill>
                <a:latin typeface="Webdings"/>
                <a:ea typeface="Webdings"/>
              </a:rPr>
              <a:t></a:t>
            </a:r>
            <a:r>
              <a:rPr b="1" i="1" lang="ru-RU" sz="1200" spc="-1" strike="noStrike">
                <a:solidFill>
                  <a:srgbClr val="ff00ff"/>
                </a:solidFill>
                <a:latin typeface="Calibri"/>
              </a:rPr>
              <a:t>Летописец Нес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ff"/>
                </a:solidFill>
                <a:latin typeface="Webdings"/>
                <a:ea typeface="Webdings"/>
              </a:rPr>
              <a:t></a:t>
            </a:r>
            <a:r>
              <a:rPr b="1" i="1" lang="ru-RU" sz="1200" spc="-1" strike="noStrike">
                <a:solidFill>
                  <a:srgbClr val="ff00ff"/>
                </a:solidFill>
                <a:latin typeface="Calibri"/>
              </a:rPr>
              <a:t>Повесть временных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CB96-A57F-4CCA-8FF5-ED9F5653F870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urlz MT"/>
              </a:rPr>
              <a:t>Истоки Древнерусской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400B-0883-4869-B29B-8748609477E9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Arial Black"/>
              </a:rPr>
              <a:t>ИСТОРИЧЕСКИЕ ПЕРИОДЫ ЛИТЕРАТУРЫ ДРЕВНЕЙ РУС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Киевской Руси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-XII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периода ордынского ига и борьбы с монголо-татарскими захватчиками ,начала формирования русского государства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II-X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эпохи становления централизованного Русского государства(княжества объединяются вокруг Москвы сначала под властью великого князя,а затем и государя всей Руси):конец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-XV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: происходит процесс преобразования средневековой литературы в литературу нового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0000"/>
                </a:solidFill>
                <a:latin typeface="Calibri"/>
              </a:rPr>
              <a:t>XVII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 век- завершилась литература Древней Руси как особое явление русской и мировой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8E1B-E428-4983-BD59-D89A6C543B62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Black"/>
              </a:rPr>
              <a:t>Жанровое своеобразие Древнерусской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0E98-B2D4-417E-95EB-BAD6DEA4C25E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Л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етописе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Н</a:t>
            </a:r>
            <a:r>
              <a:rPr b="0" i="1" lang="ru-RU" sz="1200" spc="-1" strike="noStrike">
                <a:solidFill>
                  <a:srgbClr val="3333ff"/>
                </a:solidFill>
                <a:latin typeface="Calibri"/>
              </a:rPr>
              <a:t>ес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5921-6B6C-47AE-9CB3-5FA2CA176961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ff"/>
                </a:solidFill>
                <a:latin typeface="Calibri"/>
              </a:rPr>
              <a:t>Начало Русской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Крещение</a:t>
            </a:r>
            <a:r>
              <a:rPr b="0" i="1" lang="ru-RU" sz="1000" spc="-1" strike="noStrike">
                <a:solidFill>
                  <a:srgbClr val="ff0000"/>
                </a:solidFill>
                <a:latin typeface="Calibri"/>
              </a:rPr>
              <a:t> Рус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Князь Владимир Красное Солныш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988 го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Киев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нязь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Владимир Святослави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инял решени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крестить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Константинопольской Церкв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сле чего, в царствование Императоро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Василия 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Константина 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рфирородных, духовенство крестило киевских людей в водах Днепра и Почайны. По преданию Русской Церкви, это произошло 1 августа, хотя достоверных сведений о том нет. Согласно русской летопис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весть временных л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нязь во время крещения своего народа вознёс следующую молитв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013C-1484-4560-9C3A-3DE6150E677B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Боже великий, сотворивый небо и землю! При́зри на новыя люди сия и даждь им, Господи, уведети Тебе, истиннаго Бога, якоже уведеша Тя страны христианския, и утверди в них веру праву и несовратну, и мне помози, Господи, на супротивнаго врага, да надеяся на Тя и Твою державу, побежю козни ег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христианства князем Владимиром во многом определило духовное и политическое развитие Руси на много веков вперед, содействовало распространению писменности, развитию зодчества и живописи в средневековых её формах, проникновению византийской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Лебедев  «Крещение киевлян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E5C2-3864-47CE-86AD-EF1719ABA748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«Повесть временных лет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3333ff"/>
                </a:solidFill>
                <a:latin typeface="Calibri"/>
              </a:rPr>
              <a:t>Се повести времяньных лет,откуда есть пошла Русская земля, кто в Киеве нача первее княжи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-это литературно изложенная история Русской земли от древнейших времен до событий начала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XII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ве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8795-C0F2-4B78-86A1-D59136EB29FA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586D-5550-49F2-9383-5F217356C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21C1-C4BE-4FDA-A17B-4EEAB5D0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1CDE-3396-4019-AEAC-245F7C6C4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A773-7193-4F1D-8774-C57F24A3A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A2BE-0158-45D4-BB6E-B3A43728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5982-9282-4C34-AF1F-E2BDFA22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515D-1BFB-47FB-9F64-AF22A494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A47F-345C-41A6-94F9-9AC36BAB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4FB1-38E2-4E27-A015-CAB64365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B0A6-B99E-46B5-A79E-463599A5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F025-79C2-4A72-BBCA-C8D0EF20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D1C7-EB7A-4448-984E-D630A5E3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D325-06B2-4718-813E-5A11695C98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http://ru.wikipedia.org/wiki/988_&#1075;&#1086;&#1076;" TargetMode="External"/><Relationship Id="rId4" Type="http://schemas.openxmlformats.org/officeDocument/2006/relationships/hyperlink" Target="http://ru.wikipedia.org/wiki/&#1050;&#1080;&#1077;&#1074;&#1089;&#1082;&#1072;&#1103;_&#1056;&#1091;&#1089;&#1100;" TargetMode="External"/><Relationship Id="rId5" Type="http://schemas.openxmlformats.org/officeDocument/2006/relationships/hyperlink" Target="http://ru.wikipedia.org/wiki/&#1042;&#1083;&#1072;&#1076;&#1080;&#1084;&#1080;&#1088;_I_&#1057;&#1074;&#1103;&#1090;&#1086;&#1089;&#1083;&#1072;&#1074;&#1080;&#1095;" TargetMode="External"/><Relationship Id="rId6" Type="http://schemas.openxmlformats.org/officeDocument/2006/relationships/hyperlink" Target="http://ru.wikipedia.org/wiki/&#1050;&#1088;&#1077;&#1097;&#1077;&#1085;&#1080;&#1077;" TargetMode="External"/><Relationship Id="rId7" Type="http://schemas.openxmlformats.org/officeDocument/2006/relationships/hyperlink" Target="http://ru.wikipedia.org/wiki/&#1050;&#1086;&#1085;&#1089;&#1090;&#1072;&#1085;&#1090;&#1080;&#1085;&#1086;&#1087;&#1086;&#1083;&#1100;&#1089;&#1082;&#1072;&#1103;_&#1087;&#1088;&#1072;&#1074;&#1086;&#1089;&#1083;&#1072;&#1074;&#1085;&#1072;&#1103;_&#1094;&#1077;&#1088;&#1082;&#1086;&#1074;&#1100;" TargetMode="External"/><Relationship Id="rId8" Type="http://schemas.openxmlformats.org/officeDocument/2006/relationships/hyperlink" Target="http://ru.wikipedia.org/wiki/&#1042;&#1072;&#1089;&#1080;&#1083;&#1080;&#1081;_II_%28&#1074;&#1080;&#1079;&#1072;&#1085;&#1090;&#1080;&#1081;&#1089;&#1082;&#1080;&#1081;_&#1080;&#1084;&#1087;&#1077;&#1088;&#1072;&#1090;&#1086;&#1088;%29" TargetMode="External"/><Relationship Id="rId9" Type="http://schemas.openxmlformats.org/officeDocument/2006/relationships/hyperlink" Target="http://ru.wikipedia.org/wiki/&#1050;&#1086;&#1085;&#1089;&#1090;&#1072;&#1085;&#1090;&#1080;&#1085;_VIII" TargetMode="External"/><Relationship Id="rId10" Type="http://schemas.openxmlformats.org/officeDocument/2006/relationships/hyperlink" Target="http://ru.wikipedia.org/wiki/&#1044;&#1085;&#1077;&#1087;&#1088;" TargetMode="External"/><Relationship Id="rId11" Type="http://schemas.openxmlformats.org/officeDocument/2006/relationships/hyperlink" Target="http://ru.wikipedia.org/wiki/&#1055;&#1086;&#1095;&#1072;&#1081;&#1085;&#1072;" TargetMode="External"/><Relationship Id="rId12" Type="http://schemas.openxmlformats.org/officeDocument/2006/relationships/hyperlink" Target="http://ru.wikipedia.org/wiki/&#1055;&#1086;&#1074;&#1077;&#1089;&#1090;&#1100;_&#1074;&#1088;&#1077;&#1084;&#1077;&#1085;&#1085;&#1099;&#1093;_&#1083;&#1077;&#1090;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Lebedev_baptism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ru.wikipedia.org/wiki/&#1056;&#1091;&#1089;&#1100;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826920" y="0"/>
            <a:ext cx="77774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ревнерусская литератур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4911840" y="5734080"/>
            <a:ext cx="42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хайлова Наталья Алексеевна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0" name="Picture 9" descr="nestor"/>
          <p:cNvPicPr/>
          <p:nvPr/>
        </p:nvPicPr>
        <p:blipFill>
          <a:blip r:embed="rId1"/>
          <a:stretch/>
        </p:blipFill>
        <p:spPr>
          <a:xfrm>
            <a:off x="250920" y="3357720"/>
            <a:ext cx="2808360" cy="35002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Подумай</a:t>
            </a: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и отве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распространились книги в Древней Руси? Что такое список? Рукопи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всех ли произведений  древнерусской литературы известны имена автор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больше всего ценят в человеке древнерусские писате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чем состоит гуманизм древнерусской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тератур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na_kone"/>
          <p:cNvPicPr/>
          <p:nvPr/>
        </p:nvPicPr>
        <p:blipFill>
          <a:blip r:embed="rId1"/>
          <a:stretch/>
        </p:blipFill>
        <p:spPr>
          <a:xfrm>
            <a:off x="0" y="0"/>
            <a:ext cx="1619280" cy="1700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25000111523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1628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1109"/>
          <p:cNvPicPr/>
          <p:nvPr/>
        </p:nvPicPr>
        <p:blipFill>
          <a:blip r:embed="rId3"/>
          <a:stretch/>
        </p:blipFill>
        <p:spPr>
          <a:xfrm>
            <a:off x="7667640" y="5013360"/>
            <a:ext cx="1476360" cy="1844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kat100173p"/>
          <p:cNvPicPr/>
          <p:nvPr/>
        </p:nvPicPr>
        <p:blipFill>
          <a:blip r:embed="rId4"/>
          <a:stretch/>
        </p:blipFill>
        <p:spPr>
          <a:xfrm>
            <a:off x="0" y="5013360"/>
            <a:ext cx="1476360" cy="18446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0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2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3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3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3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26920" y="1483920"/>
            <a:ext cx="64008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</a:t>
            </a:r>
            <a:r>
              <a:rPr b="1" i="1" lang="ru-RU" sz="2400" spc="-1" strike="noStrike">
                <a:solidFill>
                  <a:srgbClr val="ff00ff"/>
                </a:solidFill>
                <a:latin typeface="Arial"/>
              </a:rPr>
              <a:t>Истоки Древнерусской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ff"/>
                </a:solidFill>
                <a:latin typeface="Webdings"/>
                <a:ea typeface="Webdings"/>
              </a:rPr>
              <a:t></a:t>
            </a:r>
            <a:r>
              <a:rPr b="1" i="1" lang="ru-RU" sz="2400" spc="-1" strike="noStrike">
                <a:solidFill>
                  <a:srgbClr val="ff00ff"/>
                </a:solidFill>
                <a:latin typeface="Arial"/>
              </a:rPr>
              <a:t>Летописец Не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ff"/>
                </a:solidFill>
                <a:latin typeface="Webdings"/>
                <a:ea typeface="Webdings"/>
              </a:rPr>
              <a:t></a:t>
            </a:r>
            <a:r>
              <a:rPr b="1" i="1" lang="ru-RU" sz="2400" spc="-1" strike="noStrike">
                <a:solidFill>
                  <a:srgbClr val="ff00ff"/>
                </a:solidFill>
                <a:latin typeface="Arial"/>
              </a:rPr>
              <a:t>Повесть временных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755640" y="-243360"/>
            <a:ext cx="7772400" cy="19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одерж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1109"/>
          <p:cNvPicPr/>
          <p:nvPr/>
        </p:nvPicPr>
        <p:blipFill>
          <a:blip r:embed="rId1"/>
          <a:stretch/>
        </p:blipFill>
        <p:spPr>
          <a:xfrm>
            <a:off x="5796000" y="2060640"/>
            <a:ext cx="3173400" cy="458136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Curlz MT"/>
              </a:rPr>
              <a:t>Истоки Древнерусской лит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234704560"/>
          <p:cNvPicPr/>
          <p:nvPr/>
        </p:nvPicPr>
        <p:blipFill>
          <a:blip r:embed="rId2"/>
          <a:stretch/>
        </p:blipFill>
        <p:spPr>
          <a:xfrm>
            <a:off x="468360" y="1268280"/>
            <a:ext cx="3797280" cy="50799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0"/>
          <p:cNvSpPr/>
          <p:nvPr/>
        </p:nvSpPr>
        <p:spPr>
          <a:xfrm>
            <a:off x="4211640" y="3860640"/>
            <a:ext cx="49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4067280" y="1341360"/>
            <a:ext cx="455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4788000" y="136368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4427640" y="1484280"/>
            <a:ext cx="311616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Пергамент-специально обработанная кожа ягнят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2" name="Text Box 24"/>
          <p:cNvSpPr/>
          <p:nvPr/>
        </p:nvSpPr>
        <p:spPr>
          <a:xfrm>
            <a:off x="6659640" y="2349360"/>
            <a:ext cx="212724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Береста-светлый слой березовой коры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3" name="Text Box 25"/>
          <p:cNvSpPr/>
          <p:nvPr/>
        </p:nvSpPr>
        <p:spPr>
          <a:xfrm>
            <a:off x="4427640" y="3429000"/>
            <a:ext cx="282708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Рукописи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свитки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отдельные листы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5580000" y="4653000"/>
            <a:ext cx="331164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УСТАВ-ПОЛУУСТАВ-СКОРОПИСЬ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4356000" y="5589720"/>
            <a:ext cx="455616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Устное народное творчество-ПРИНЯТИЕ ХРИСТИАНСТВА-проповеди,жития,поучени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66" name="025. A. MARCELLO - ADAGIO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5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179280" y="18900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ИСТОРИЧЕСКИЕ ПЕРИОДЫ ЛИТЕРАТУРЫ ДРЕВНЕЙ РУСИ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755640" y="76500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Литература Киевской Руси: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XI-XIII 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684360" y="1700280"/>
            <a:ext cx="4628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Литература периода ордынского ига и борьбы с монголо-татарскими захватчиками ,начала формирования русского государства: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XIII-XV 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684360" y="3357720"/>
            <a:ext cx="4341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Литература эпохи становления централизованного Русского государства(княжества объединяются вокруг Москвы сначала под властью великого князя,а затем и государя всей Руси):конец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XV-XVI 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5508720" y="3645000"/>
            <a:ext cx="331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Литература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XVII 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века: происходит процесс преобразования средневековой литературы в литературу нового времени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73" name="Picture 9" descr="236046769"/>
          <p:cNvPicPr/>
          <p:nvPr/>
        </p:nvPicPr>
        <p:blipFill>
          <a:blip r:embed="rId1"/>
          <a:stretch/>
        </p:blipFill>
        <p:spPr>
          <a:xfrm>
            <a:off x="6227640" y="620640"/>
            <a:ext cx="2089440" cy="28796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0"/>
          <p:cNvSpPr/>
          <p:nvPr/>
        </p:nvSpPr>
        <p:spPr>
          <a:xfrm>
            <a:off x="684360" y="56610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Bitstream Vera Sans"/>
              </a:rPr>
              <a:t>XVII</a:t>
            </a:r>
            <a:r>
              <a:rPr b="0" i="1" lang="ru-RU" sz="1800" spc="-1" strike="noStrike">
                <a:solidFill>
                  <a:srgbClr val="ff0000"/>
                </a:solidFill>
                <a:latin typeface="Bitstream Vera Sans"/>
              </a:rPr>
              <a:t> век- завершилась литература Древней Руси как особое явление русской и мировой культуры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Жанровое своеобразие Древнерусской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Organization Chart 6"/>
          <p:cNvGrpSpPr/>
          <p:nvPr/>
        </p:nvGrpSpPr>
        <p:grpSpPr>
          <a:xfrm>
            <a:off x="468360" y="1557360"/>
            <a:ext cx="8208360" cy="4462560"/>
            <a:chOff x="468360" y="1557360"/>
            <a:chExt cx="8208360" cy="4462560"/>
          </a:xfrm>
        </p:grpSpPr>
        <p:cxnSp>
          <p:nvCxnSpPr>
            <p:cNvPr id="78" name="_s1028"/>
            <p:cNvCxnSpPr>
              <a:stCxn id="79" idx="0"/>
              <a:endCxn id="80" idx="2"/>
            </p:cNvCxnSpPr>
            <p:nvPr/>
          </p:nvCxnSpPr>
          <p:spPr>
            <a:xfrm flipV="1" rot="16200000">
              <a:off x="6793560" y="2351160"/>
              <a:ext cx="893160" cy="2873520"/>
            </a:xfrm>
            <a:prstGeom prst="bentConnector3">
              <a:avLst>
                <a:gd name="adj1" fmla="val 12782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81" name="_s1029"/>
            <p:cNvCxnSpPr>
              <a:stCxn id="82" idx="0"/>
              <a:endCxn id="80" idx="1"/>
            </p:cNvCxnSpPr>
            <p:nvPr/>
          </p:nvCxnSpPr>
          <p:spPr>
            <a:xfrm flipV="1">
              <a:off x="5803920" y="3341520"/>
              <a:ext cx="3600" cy="89316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83" name="_s1030"/>
            <p:cNvCxnSpPr>
              <a:stCxn id="84" idx="0"/>
              <a:endCxn id="80" idx="0"/>
            </p:cNvCxnSpPr>
            <p:nvPr/>
          </p:nvCxnSpPr>
          <p:spPr>
            <a:xfrm flipH="1" flipV="1" rot="5400000">
              <a:off x="3920760" y="2351520"/>
              <a:ext cx="893160" cy="2873520"/>
            </a:xfrm>
            <a:prstGeom prst="bentConnector3">
              <a:avLst>
                <a:gd name="adj1" fmla="val 12782"/>
              </a:avLst>
            </a:prstGeom>
            <a:ln w="3240">
              <a:solidFill>
                <a:srgbClr val="000000"/>
              </a:solidFill>
              <a:miter/>
            </a:ln>
          </p:spPr>
        </p:cxnSp>
        <p:sp>
          <p:nvSpPr>
            <p:cNvPr id="80" name="_s1031"/>
            <p:cNvSpPr/>
            <p:nvPr/>
          </p:nvSpPr>
          <p:spPr>
            <a:xfrm>
              <a:off x="3341160" y="1557360"/>
              <a:ext cx="2462400" cy="1784880"/>
            </a:xfrm>
            <a:custGeom>
              <a:avLst/>
              <a:gdLst>
                <a:gd name="textAreaLeft" fmla="*/ 384480 w 2462400"/>
                <a:gd name="textAreaRight" fmla="*/ 2462760 w 2462400"/>
                <a:gd name="textAreaTop" fmla="*/ 0 h 1784880"/>
                <a:gd name="textAreaBottom" fmla="*/ 1785240 h 178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Bitstream Vera Sans"/>
                </a:rPr>
                <a:t>Священное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Bitstream Vera Sans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Bitstream Vera Sans"/>
                </a:rPr>
                <a:t>Писание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Bitstream Vera Sans"/>
                </a:rPr>
                <a:t>проповеди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Bitstream Vera Sans"/>
                </a:rPr>
                <a:t>апокрифы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  <p:sp>
          <p:nvSpPr>
            <p:cNvPr id="84" name="_s1032"/>
            <p:cNvSpPr/>
            <p:nvPr/>
          </p:nvSpPr>
          <p:spPr>
            <a:xfrm>
              <a:off x="468360" y="4235040"/>
              <a:ext cx="2462400" cy="1784880"/>
            </a:xfrm>
            <a:custGeom>
              <a:avLst/>
              <a:gdLst>
                <a:gd name="textAreaLeft" fmla="*/ 384480 w 2462400"/>
                <a:gd name="textAreaRight" fmla="*/ 2462760 w 2462400"/>
                <a:gd name="textAreaTop" fmla="*/ 0 h 1784880"/>
                <a:gd name="textAreaBottom" fmla="*/ 1785240 h 178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333399">
                <a:alpha val="50000"/>
              </a:srgbClr>
            </a:soli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жития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сказания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поучения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  <p:sp>
          <p:nvSpPr>
            <p:cNvPr id="82" name="_s1033"/>
            <p:cNvSpPr/>
            <p:nvPr/>
          </p:nvSpPr>
          <p:spPr>
            <a:xfrm>
              <a:off x="3341160" y="4235040"/>
              <a:ext cx="2462400" cy="1784880"/>
            </a:xfrm>
            <a:custGeom>
              <a:avLst/>
              <a:gdLst>
                <a:gd name="textAreaLeft" fmla="*/ 384480 w 2462400"/>
                <a:gd name="textAreaRight" fmla="*/ 2462760 w 2462400"/>
                <a:gd name="textAreaTop" fmla="*/ 0 h 1784880"/>
                <a:gd name="textAreaBottom" fmla="*/ 1785240 h 178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333399">
                <a:alpha val="50000"/>
              </a:srgbClr>
            </a:soli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летописи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повести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слово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  <p:sp>
          <p:nvSpPr>
            <p:cNvPr id="79" name="_s1034"/>
            <p:cNvSpPr/>
            <p:nvPr/>
          </p:nvSpPr>
          <p:spPr>
            <a:xfrm>
              <a:off x="6214320" y="4235040"/>
              <a:ext cx="2462400" cy="1784880"/>
            </a:xfrm>
            <a:custGeom>
              <a:avLst/>
              <a:gdLst>
                <a:gd name="textAreaLeft" fmla="*/ 384480 w 2462400"/>
                <a:gd name="textAreaRight" fmla="*/ 2462760 w 2462400"/>
                <a:gd name="textAreaTop" fmla="*/ 0 h 1784880"/>
                <a:gd name="textAreaBottom" fmla="*/ 1785240 h 178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333399">
                <a:alpha val="50000"/>
              </a:srgbClr>
            </a:soli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послания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хождения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</p:grp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Л</a:t>
            </a:r>
            <a:r>
              <a:rPr b="0" lang="ru-RU" sz="4400" spc="-1" strike="noStrike">
                <a:solidFill>
                  <a:srgbClr val="3333ff"/>
                </a:solidFill>
                <a:latin typeface="Arial"/>
              </a:rPr>
              <a:t>етописец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ес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nestorpat"/>
          <p:cNvPicPr/>
          <p:nvPr/>
        </p:nvPicPr>
        <p:blipFill>
          <a:blip r:embed="rId1"/>
          <a:stretch/>
        </p:blipFill>
        <p:spPr>
          <a:xfrm>
            <a:off x="324000" y="2781360"/>
            <a:ext cx="2592360" cy="3743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041110_1kyiv"/>
          <p:cNvPicPr/>
          <p:nvPr/>
        </p:nvPicPr>
        <p:blipFill>
          <a:blip r:embed="rId2"/>
          <a:stretch/>
        </p:blipFill>
        <p:spPr>
          <a:xfrm>
            <a:off x="6804000" y="981000"/>
            <a:ext cx="2095560" cy="2808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395280" y="2205000"/>
            <a:ext cx="498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Жил во второй половине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XI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в.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ачале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XII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3851280" y="285264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 Black"/>
              </a:rPr>
              <a:t>ЛЕТОПИСЬ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2987640" y="4869000"/>
            <a:ext cx="187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исание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ытий русской истории по годам(летам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4932360" y="5241960"/>
            <a:ext cx="165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произошло в этом году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6948360" y="4508640"/>
            <a:ext cx="172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чем должны знать и помнить потомки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4" name="AutoShape 14"/>
          <p:cNvSpPr/>
          <p:nvPr/>
        </p:nvSpPr>
        <p:spPr>
          <a:xfrm rot="1911000">
            <a:off x="3795840" y="3281040"/>
            <a:ext cx="133200" cy="1496880"/>
          </a:xfrm>
          <a:prstGeom prst="downArrow">
            <a:avLst>
              <a:gd name="adj1" fmla="val 50000"/>
              <a:gd name="adj2" fmla="val 2809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4859280" y="3429000"/>
            <a:ext cx="144360" cy="1728720"/>
          </a:xfrm>
          <a:prstGeom prst="downArrow">
            <a:avLst>
              <a:gd name="adj1" fmla="val 50000"/>
              <a:gd name="adj2" fmla="val 2993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6" name="AutoShape 18"/>
          <p:cNvSpPr/>
          <p:nvPr/>
        </p:nvSpPr>
        <p:spPr>
          <a:xfrm rot="19617600">
            <a:off x="6161040" y="3213000"/>
            <a:ext cx="158760" cy="1575000"/>
          </a:xfrm>
          <a:prstGeom prst="downArrow">
            <a:avLst>
              <a:gd name="adj1" fmla="val 50000"/>
              <a:gd name="adj2" fmla="val 2480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324000" y="1052640"/>
            <a:ext cx="64292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НЕСТОР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– инок (монах) Киево – Печерского монастыря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ЛЕТОПИСЕЦ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15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1155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Vasnetsov_Bapt_Vladimir"/>
          <p:cNvPicPr/>
          <p:nvPr/>
        </p:nvPicPr>
        <p:blipFill>
          <a:blip r:embed="rId1"/>
          <a:stretch/>
        </p:blipFill>
        <p:spPr>
          <a:xfrm>
            <a:off x="5635800" y="981000"/>
            <a:ext cx="3508200" cy="568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wladimir_krasnoe_solnyshko"/>
          <p:cNvPicPr/>
          <p:nvPr/>
        </p:nvPicPr>
        <p:blipFill>
          <a:blip r:embed="rId2"/>
          <a:stretch/>
        </p:blipFill>
        <p:spPr>
          <a:xfrm>
            <a:off x="3564000" y="907920"/>
            <a:ext cx="2044800" cy="25210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ff"/>
                </a:solidFill>
                <a:latin typeface="Arial"/>
              </a:rPr>
              <a:t>Начало Русской лит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Крещение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 Ру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50920" y="2991600"/>
            <a:ext cx="5257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В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3"/>
              </a:rPr>
              <a:t>988 году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4"/>
              </a:rPr>
              <a:t>Киевский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князь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5"/>
              </a:rPr>
              <a:t>Владимир Святославич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, принял решение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6"/>
              </a:rPr>
              <a:t>креститься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от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7"/>
              </a:rPr>
              <a:t>Константинопольской Церкви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. После чего, в царствование Императоров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8"/>
              </a:rPr>
              <a:t>Василия II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и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9"/>
              </a:rPr>
              <a:t>Константина VIII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Порфирородных, духовенство крестило киевских людей в водах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10"/>
              </a:rPr>
              <a:t>Днепра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и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11"/>
              </a:rPr>
              <a:t>Почайны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. По преданию Русской Церкви, это произошло 1 августа, хотя достоверных сведений о том нет. Согласно русской летописи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12"/>
              </a:rPr>
              <a:t>Повесть временных лет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, князь во время крещения своего народа вознёс следующую молитву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108000" y="242100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Bitstream Vera Sans"/>
              </a:rPr>
              <a:t>Князь Владимир Красное Солнышко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9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611280" y="189000"/>
          <a:ext cx="8101080" cy="1800000"/>
        </p:xfrm>
        <a:graphic>
          <a:graphicData uri="http://schemas.openxmlformats.org/drawingml/2006/table">
            <a:tbl>
              <a:tblPr/>
              <a:tblGrid>
                <a:gridCol w="8101080"/>
              </a:tblGrid>
              <a:tr h="18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16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08" name="Рисунок 3" descr="Крещение киевлян К. Лебедев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916280"/>
            <a:ext cx="4824360" cy="41767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7"/>
          <p:cNvSpPr/>
          <p:nvPr/>
        </p:nvSpPr>
        <p:spPr>
          <a:xfrm>
            <a:off x="0" y="435780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5508720" y="2156760"/>
            <a:ext cx="3311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Принятие христианства князем Владимиром во многом определило духовное и политическое развитие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3"/>
              </a:rPr>
              <a:t>Руси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на много веков вперед, содействовало распространению писменности, развитию зодчества и живописи в средневековых её формах, проникновению византийской культуры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1042920" y="629928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К.Лебедев  «Крещение киевлян»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324000" y="260280"/>
            <a:ext cx="8424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Bitstream Vera Sans"/>
              </a:rPr>
              <a:t>Боже великий, сотворивый небо и землю! При́зри на новыя люди сия и даждь им, Господи, уведети Тебе, истиннаго Бога, якоже уведеша Тя страны христианския, и утверди в них веру праву и несовратну, и мне помози, Господи, на супротивнаго врага, да надеяся на Тя и Твою державу, побежю козни его!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13" name="003. J. S. BACH - TOCCATTA IN D MINOR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52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7200"/>
                            </p:stCondLst>
                            <p:childTnLst>
                              <p:par>
                                <p:cTn id="2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Повесть временных лет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ru-RU" sz="2800" spc="-1" strike="noStrike">
                <a:solidFill>
                  <a:srgbClr val="3333ff"/>
                </a:solidFill>
                <a:latin typeface="Arial"/>
              </a:rPr>
              <a:t>Се повести времяньных лет,откуда есть пошла Русская земля, кто в Киеве нача первее княжи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042920" y="3141720"/>
            <a:ext cx="70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-это литературно изложенная история Русской земли от древнейших времен до событий начала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XII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ека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500720" y="4365720"/>
            <a:ext cx="37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 Black"/>
              </a:rPr>
              <a:t>«Чудо Георгия о змие»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-1620720" y="515772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ff3300"/>
              </a:buClr>
              <a:buFont typeface="Arial Black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 Black"/>
              </a:rPr>
              <a:t>Олег вещий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79280" y="5877000"/>
            <a:ext cx="376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 Black"/>
              </a:rPr>
              <a:t>Князь Игорь и княгиня Ольга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-1765440" y="450864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ff3300"/>
              </a:buClr>
              <a:buFont typeface="Arial Black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 Black"/>
              </a:rPr>
              <a:t>Князь Святослав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4500720" y="4941720"/>
            <a:ext cx="2828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 Black"/>
              </a:rPr>
              <a:t>«Повесть о белгородском киселе»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 Black"/>
              </a:rPr>
              <a:t>«Сказание о Никите Кожемяке»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5867280" y="692280"/>
            <a:ext cx="398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 – монах Нестор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лена около 1113 г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6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2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8T06:13:03Z</dcterms:created>
  <dc:creator>Teacher</dc:creator>
  <dc:description/>
  <dc:language>en-US</dc:language>
  <cp:lastModifiedBy>LEGION</cp:lastModifiedBy>
  <dcterms:modified xsi:type="dcterms:W3CDTF">2015-01-15T12:30:45Z</dcterms:modified>
  <cp:revision>21</cp:revision>
  <dc:subject/>
  <dc:title>Слайд 1</dc:title>
</cp:coreProperties>
</file>