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D398-E9A7-4594-97B6-D6AAAC66FDCB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88_&#1075;&#1086;&#1076;" TargetMode="External"/><Relationship Id="rId2" Type="http://schemas.openxmlformats.org/officeDocument/2006/relationships/hyperlink" Target="http://ru.wikipedia.org/wiki/&#1050;&#1080;&#1077;&#1074;&#1089;&#1082;&#1072;&#1103;_&#1056;&#1091;&#1089;&#1100;" TargetMode="External"/><Relationship Id="rId3" Type="http://schemas.openxmlformats.org/officeDocument/2006/relationships/hyperlink" Target="http://ru.wikipedia.org/wiki/&#1042;&#1083;&#1072;&#1076;&#1080;&#1084;&#1080;&#1088;_I_&#1057;&#1074;&#1103;&#1090;&#1086;&#1089;&#1083;&#1072;&#1074;&#1080;&#1095;" TargetMode="External"/><Relationship Id="rId4" Type="http://schemas.openxmlformats.org/officeDocument/2006/relationships/hyperlink" Target="http://ru.wikipedia.org/wiki/&#1050;&#1088;&#1077;&#1097;&#1077;&#1085;&#1080;&#1077;" TargetMode="External"/><Relationship Id="rId5" Type="http://schemas.openxmlformats.org/officeDocument/2006/relationships/hyperlink" Target="http://ru.wikipedia.org/wiki/&#1050;&#1086;&#1085;&#1089;&#1090;&#1072;&#1085;&#1090;&#1080;&#1085;&#1086;&#1087;&#1086;&#1083;&#1100;&#1089;&#1082;&#1072;&#1103;_&#1087;&#1088;&#1072;&#1074;&#1086;&#1089;&#1083;&#1072;&#1074;&#1085;&#1072;&#1103;_&#1094;&#1077;&#1088;&#1082;&#1086;&#1074;&#1100;" TargetMode="External"/><Relationship Id="rId6" Type="http://schemas.openxmlformats.org/officeDocument/2006/relationships/hyperlink" Target="http://ru.wikipedia.org/wiki/&#1042;&#1072;&#1089;&#1080;&#1083;&#1080;&#1081;_II_(&#1074;&#1080;&#1079;&#1072;&#1085;&#1090;&#1080;&#1081;&#1089;&#1082;&#1080;&#1081;_&#1080;&#1084;&#1087;&#1077;&#1088;&#1072;&#1090;&#1086;&#1088;)" TargetMode="External"/><Relationship Id="rId7" Type="http://schemas.openxmlformats.org/officeDocument/2006/relationships/hyperlink" Target="http://ru.wikipedia.org/wiki/&#1050;&#1086;&#1085;&#1089;&#1090;&#1072;&#1085;&#1090;&#1080;&#1085;_VIII" TargetMode="External"/><Relationship Id="rId8" Type="http://schemas.openxmlformats.org/officeDocument/2006/relationships/slide" Target="../slides/slide7.xml"/><Relationship Id="rId9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ревнерусск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CA49-9BC8-4DFF-ABC5-1E123F06103F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умай</a:t>
            </a: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 отве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аспространились книги в Древней Руси? Что такое список? Рукоп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всех ли произведений  древнерусской литературы известны имена автор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ольше всего ценят в человеке древнерусские писа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ем состоит гуманизм древнерусской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7461-11EF-4B0D-95BA-73E87A64DC9C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Истоки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Летописец Нес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Повесть времен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D6EF-14BC-440A-8FFB-CF4634C0B2F0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urlz MT"/>
              </a:rPr>
              <a:t>Истоки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E29A-F9DC-4D80-914A-C472DA1242D3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 Black"/>
              </a:rPr>
              <a:t>ИСТОРИЧЕСКИЕ ПЕРИОДЫ ЛИТЕРАТУРЫ ДРЕВНЕЙ РУС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Киевской Рус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-X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ериода ордынского ига и борьбы с монголо-татарскими захватчиками ,начала формирования русского государства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-X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эпохи становления централизованного Русского государства(княжества объединяются вокруг Москвы сначала под властью великого князя,а затем и государя всей Руси):коне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-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: происходит процесс преобразования средневековой литературы в литературу нов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XVII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век- завершилась литература Древней Руси как особое явление русской и миров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1EDC-D475-4B70-B980-64D651FE769F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Black"/>
              </a:rPr>
              <a:t>Жанровое своеобразие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18B5-5B75-4A8B-ADA9-A037E00AD782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етописе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0" i="1" lang="ru-RU" sz="1200" spc="-1" strike="noStrike">
                <a:solidFill>
                  <a:srgbClr val="3333ff"/>
                </a:solidFill>
                <a:latin typeface="Calibri"/>
              </a:rPr>
              <a:t>ес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FB83-FDAA-489B-8BEB-F0606F7D2B34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Начало 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Крещение</a:t>
            </a:r>
            <a:r>
              <a:rPr b="0" i="1" lang="ru-RU" sz="1000" spc="-1" strike="noStrike">
                <a:solidFill>
                  <a:srgbClr val="ff0000"/>
                </a:solidFill>
                <a:latin typeface="Calibri"/>
              </a:rPr>
              <a:t> Рус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нязь Владимир Красное Солны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988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и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няз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Владимир Святосла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ял реш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крести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онстантинопольской Церк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сле чего, в царствование Император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Василия 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Константина 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рфирородных, духовенство крестило киевских людей в водах Днепра и Почайны. По преданию Русской Церкви, это произошло 1 августа, хотя достоверных сведений о том нет. Согласно русской летопис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нязь во время крещения своего народа вознёс следующую молитв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A4FF-CC7C-46C8-A592-1230AD6399EB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христианства князем Владимиром во многом определило духовное и политическое развитие Руси на много веков вперед, содействовало распространению писменности, развитию зодчества и живописи в средневековых её формах, проникновению византий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Лебедев  «Крещение киевл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E080-A6C6-4065-8326-5FD6DB1301D7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3333ff"/>
                </a:solidFill>
                <a:latin typeface="Calibri"/>
              </a:rPr>
              <a:t>Се повести времяньных лет,откуда есть пошла Русская земля, кто в Киеве нача первее княжи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это литературно изложенная история Русской земли от древнейших времен до событий начала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XII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6253-5614-4ADF-9B78-3A585451F18D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3C5-BE15-4035-B456-992E7BC5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273-87F6-493B-9D25-652D50F8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6EA-6795-4F7D-A603-5A62284A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2CC-5B76-42E2-A46C-93C9951A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29D-901F-4172-BC50-4AB0437B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112-5CC5-47EF-85B2-778C4D0D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89C-230B-4DFE-B3C7-62C3D6CB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F85-DB94-4A04-8A38-0768FECE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105-87E6-4D54-B001-083350E6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6BC-2899-4DE2-9DB5-3AE3BE9B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200-AFD3-41F3-846D-D7A084E6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3EA-CB10-4CB7-B725-DED5D7A0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B180-6D49-4852-82BC-03FD017C6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ru.wikipedia.org/wiki/988_&#1075;&#1086;&#1076;" TargetMode="External"/><Relationship Id="rId4" Type="http://schemas.openxmlformats.org/officeDocument/2006/relationships/hyperlink" Target="http://ru.wikipedia.org/wiki/&#1050;&#1080;&#1077;&#1074;&#1089;&#1082;&#1072;&#1103;_&#1056;&#1091;&#1089;&#1100;" TargetMode="External"/><Relationship Id="rId5" Type="http://schemas.openxmlformats.org/officeDocument/2006/relationships/hyperlink" Target="http://ru.wikipedia.org/wiki/&#1042;&#1083;&#1072;&#1076;&#1080;&#1084;&#1080;&#1088;_I_&#1057;&#1074;&#1103;&#1090;&#1086;&#1089;&#1083;&#1072;&#1074;&#1080;&#1095;" TargetMode="External"/><Relationship Id="rId6" Type="http://schemas.openxmlformats.org/officeDocument/2006/relationships/hyperlink" Target="http://ru.wikipedia.org/wiki/&#1050;&#1088;&#1077;&#1097;&#1077;&#1085;&#1080;&#1077;" TargetMode="External"/><Relationship Id="rId7" Type="http://schemas.openxmlformats.org/officeDocument/2006/relationships/hyperlink" Target="http://ru.wikipedia.org/wiki/&#1050;&#1086;&#1085;&#1089;&#1090;&#1072;&#1085;&#1090;&#1080;&#1085;&#1086;&#1087;&#1086;&#1083;&#1100;&#1089;&#1082;&#1072;&#1103;_&#1087;&#1088;&#1072;&#1074;&#1086;&#1089;&#1083;&#1072;&#1074;&#1085;&#1072;&#1103;_&#1094;&#1077;&#1088;&#1082;&#1086;&#1074;&#1100;" TargetMode="External"/><Relationship Id="rId8" Type="http://schemas.openxmlformats.org/officeDocument/2006/relationships/hyperlink" Target="http://ru.wikipedia.org/wiki/&#1042;&#1072;&#1089;&#1080;&#1083;&#1080;&#1081;_II_%28&#1074;&#1080;&#1079;&#1072;&#1085;&#1090;&#1080;&#1081;&#1089;&#1082;&#1080;&#1081;_&#1080;&#1084;&#1087;&#1077;&#1088;&#1072;&#1090;&#1086;&#1088;%29" TargetMode="External"/><Relationship Id="rId9" Type="http://schemas.openxmlformats.org/officeDocument/2006/relationships/hyperlink" Target="http://ru.wikipedia.org/wiki/&#1050;&#1086;&#1085;&#1089;&#1090;&#1072;&#1085;&#1090;&#1080;&#1085;_VIII" TargetMode="External"/><Relationship Id="rId10" Type="http://schemas.openxmlformats.org/officeDocument/2006/relationships/hyperlink" Target="http://ru.wikipedia.org/wiki/&#1044;&#1085;&#1077;&#1087;&#1088;" TargetMode="External"/><Relationship Id="rId11" Type="http://schemas.openxmlformats.org/officeDocument/2006/relationships/hyperlink" Target="http://ru.wikipedia.org/wiki/&#1055;&#1086;&#1095;&#1072;&#1081;&#1085;&#1072;" TargetMode="External"/><Relationship Id="rId12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Lebedev_baptism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56;&#1091;&#1089;&#1100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0"/>
            <a:ext cx="7777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ревнерусская литератур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911840" y="5734080"/>
            <a:ext cx="42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йлова Наталья Алексеевн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0" name="Picture 9" descr="nestor"/>
          <p:cNvPicPr/>
          <p:nvPr/>
        </p:nvPicPr>
        <p:blipFill>
          <a:blip r:embed="rId1"/>
          <a:stretch/>
        </p:blipFill>
        <p:spPr>
          <a:xfrm>
            <a:off x="250920" y="3357720"/>
            <a:ext cx="2808360" cy="3500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одумай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распространились книги в Древней Руси? Что такое список? Рукоп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всех ли произведений  древнерусской литературы известны имена авто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больше всего ценят в человеке древнерусские писат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ем состоит гуманизм древнерусской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na_kone"/>
          <p:cNvPicPr/>
          <p:nvPr/>
        </p:nvPicPr>
        <p:blipFill>
          <a:blip r:embed="rId1"/>
          <a:stretch/>
        </p:blipFill>
        <p:spPr>
          <a:xfrm>
            <a:off x="0" y="0"/>
            <a:ext cx="1619280" cy="170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5000111523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162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1109"/>
          <p:cNvPicPr/>
          <p:nvPr/>
        </p:nvPicPr>
        <p:blipFill>
          <a:blip r:embed="rId3"/>
          <a:stretch/>
        </p:blipFill>
        <p:spPr>
          <a:xfrm>
            <a:off x="7667640" y="5013360"/>
            <a:ext cx="147636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kat100173p"/>
          <p:cNvPicPr/>
          <p:nvPr/>
        </p:nvPicPr>
        <p:blipFill>
          <a:blip r:embed="rId4"/>
          <a:stretch/>
        </p:blipFill>
        <p:spPr>
          <a:xfrm>
            <a:off x="0" y="5013360"/>
            <a:ext cx="1476360" cy="184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26920" y="148392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Истоки Древнерусск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Летописец Не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Повесть временных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5640" y="-243360"/>
            <a:ext cx="777240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109"/>
          <p:cNvPicPr/>
          <p:nvPr/>
        </p:nvPicPr>
        <p:blipFill>
          <a:blip r:embed="rId1"/>
          <a:stretch/>
        </p:blipFill>
        <p:spPr>
          <a:xfrm>
            <a:off x="5796000" y="2060640"/>
            <a:ext cx="3173400" cy="45813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urlz MT"/>
              </a:rPr>
              <a:t>Истоки Древне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34704560"/>
          <p:cNvPicPr/>
          <p:nvPr/>
        </p:nvPicPr>
        <p:blipFill>
          <a:blip r:embed="rId2"/>
          <a:stretch/>
        </p:blipFill>
        <p:spPr>
          <a:xfrm>
            <a:off x="468360" y="1268280"/>
            <a:ext cx="3797280" cy="5079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0"/>
          <p:cNvSpPr/>
          <p:nvPr/>
        </p:nvSpPr>
        <p:spPr>
          <a:xfrm>
            <a:off x="4211640" y="3860640"/>
            <a:ext cx="49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067280" y="1341360"/>
            <a:ext cx="45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4788000" y="136368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4427640" y="1484280"/>
            <a:ext cx="3116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Пергамент-специально обработанная кожа ягнят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6659640" y="2349360"/>
            <a:ext cx="212724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Береста-светлый слой березовой кор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4427640" y="3429000"/>
            <a:ext cx="28270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Рукописи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свитки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отдельные лист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5580000" y="4653000"/>
            <a:ext cx="33116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УСТАВ-ПОЛУУСТАВ-СКОРОПИСЬ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4356000" y="5589720"/>
            <a:ext cx="4556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Устное народное творчество-ПРИНЯТИЕ ХРИСТИАНСТВА-проповеди,жития,поучени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6" name="025. A. MARCELLO - ADAGIO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9280" y="189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ИСТОРИЧЕСКИЕ ПЕРИОДЫ ЛИТЕРАТУРЫ ДРЕВНЕЙ РУС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55640" y="765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Киевской Руси: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I-XII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84360" y="1700280"/>
            <a:ext cx="462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периода ордынского ига и борьбы с монголо-татарскими захватчиками ,начала формирования русского государства: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III-XV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84360" y="3357720"/>
            <a:ext cx="434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эпохи становления централизованного Русского государства(княжества объединяются вокруг Москвы сначала под властью великого князя,а затем и государя всей Руси):конец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V-XV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5508720" y="3645000"/>
            <a:ext cx="33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: происходит процесс преобразования средневековой литературы в литературу нового времени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3" name="Picture 9" descr="236046769"/>
          <p:cNvPicPr/>
          <p:nvPr/>
        </p:nvPicPr>
        <p:blipFill>
          <a:blip r:embed="rId1"/>
          <a:stretch/>
        </p:blipFill>
        <p:spPr>
          <a:xfrm>
            <a:off x="6227640" y="620640"/>
            <a:ext cx="2089440" cy="287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684360" y="5661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Bitstream Vera Sans"/>
              </a:rPr>
              <a:t>XVII</a:t>
            </a:r>
            <a:r>
              <a:rPr b="0" i="1" lang="ru-RU" sz="1800" spc="-1" strike="noStrike">
                <a:solidFill>
                  <a:srgbClr val="ff0000"/>
                </a:solidFill>
                <a:latin typeface="Bitstream Vera Sans"/>
              </a:rPr>
              <a:t> век- завершилась литература Древней Руси как особое явление русской и мировой культуры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Жанровое своеобразие Древнерус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Organization Chart 6"/>
          <p:cNvGrpSpPr/>
          <p:nvPr/>
        </p:nvGrpSpPr>
        <p:grpSpPr>
          <a:xfrm>
            <a:off x="468360" y="1557360"/>
            <a:ext cx="8208360" cy="4462560"/>
            <a:chOff x="468360" y="1557360"/>
            <a:chExt cx="8208360" cy="4462560"/>
          </a:xfrm>
        </p:grpSpPr>
        <p:cxnSp>
          <p:nvCxnSpPr>
            <p:cNvPr id="78" name="_s1028"/>
            <p:cNvCxnSpPr>
              <a:stCxn id="79" idx="0"/>
              <a:endCxn id="80" idx="2"/>
            </p:cNvCxnSpPr>
            <p:nvPr/>
          </p:nvCxnSpPr>
          <p:spPr>
            <a:xfrm flipV="1" rot="16200000">
              <a:off x="6793560" y="2351160"/>
              <a:ext cx="893160" cy="2873520"/>
            </a:xfrm>
            <a:prstGeom prst="bentConnector3">
              <a:avLst>
                <a:gd name="adj1" fmla="val 12782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1" name="_s1029"/>
            <p:cNvCxnSpPr>
              <a:stCxn id="82" idx="0"/>
              <a:endCxn id="80" idx="1"/>
            </p:cNvCxnSpPr>
            <p:nvPr/>
          </p:nvCxnSpPr>
          <p:spPr>
            <a:xfrm flipV="1">
              <a:off x="5803920" y="3341520"/>
              <a:ext cx="3600" cy="89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84" idx="0"/>
              <a:endCxn id="80" idx="0"/>
            </p:cNvCxnSpPr>
            <p:nvPr/>
          </p:nvCxnSpPr>
          <p:spPr>
            <a:xfrm flipH="1" flipV="1" rot="5400000">
              <a:off x="3920760" y="2351520"/>
              <a:ext cx="893160" cy="2873520"/>
            </a:xfrm>
            <a:prstGeom prst="bentConnector3">
              <a:avLst>
                <a:gd name="adj1" fmla="val 12782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80" name="_s1031"/>
            <p:cNvSpPr/>
            <p:nvPr/>
          </p:nvSpPr>
          <p:spPr>
            <a:xfrm>
              <a:off x="3341160" y="155736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Священное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Писание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проповед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апокрифы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84" name="_s1032"/>
            <p:cNvSpPr/>
            <p:nvPr/>
          </p:nvSpPr>
          <p:spPr>
            <a:xfrm>
              <a:off x="46836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жит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сказа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уче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334116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летопис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вест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слово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621432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сла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хожде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етописе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ес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nestorpat"/>
          <p:cNvPicPr/>
          <p:nvPr/>
        </p:nvPicPr>
        <p:blipFill>
          <a:blip r:embed="rId1"/>
          <a:stretch/>
        </p:blipFill>
        <p:spPr>
          <a:xfrm>
            <a:off x="324000" y="2781360"/>
            <a:ext cx="2592360" cy="374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041110_1kyiv"/>
          <p:cNvPicPr/>
          <p:nvPr/>
        </p:nvPicPr>
        <p:blipFill>
          <a:blip r:embed="rId2"/>
          <a:stretch/>
        </p:blipFill>
        <p:spPr>
          <a:xfrm>
            <a:off x="6804000" y="981000"/>
            <a:ext cx="2095560" cy="2808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95280" y="2205000"/>
            <a:ext cx="49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Жил во второй половине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XI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в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чале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II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851280" y="285264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 Black"/>
              </a:rPr>
              <a:t>ЛЕТОПИСЬ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987640" y="4869000"/>
            <a:ext cx="187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ытий русской истории по годам(летам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932360" y="524196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произошло в этом году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6948360" y="4508640"/>
            <a:ext cx="17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чем должны знать и помнить потомки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AutoShape 14"/>
          <p:cNvSpPr/>
          <p:nvPr/>
        </p:nvSpPr>
        <p:spPr>
          <a:xfrm rot="1911000">
            <a:off x="3795840" y="3281040"/>
            <a:ext cx="133200" cy="1496880"/>
          </a:xfrm>
          <a:prstGeom prst="downArrow">
            <a:avLst>
              <a:gd name="adj1" fmla="val 50000"/>
              <a:gd name="adj2" fmla="val 2809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4859280" y="3429000"/>
            <a:ext cx="144360" cy="1728720"/>
          </a:xfrm>
          <a:prstGeom prst="downArrow">
            <a:avLst>
              <a:gd name="adj1" fmla="val 50000"/>
              <a:gd name="adj2" fmla="val 299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AutoShape 18"/>
          <p:cNvSpPr/>
          <p:nvPr/>
        </p:nvSpPr>
        <p:spPr>
          <a:xfrm rot="19617600">
            <a:off x="6161040" y="3213000"/>
            <a:ext cx="158760" cy="1575000"/>
          </a:xfrm>
          <a:prstGeom prst="downArrow">
            <a:avLst>
              <a:gd name="adj1" fmla="val 50000"/>
              <a:gd name="adj2" fmla="val 2480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324000" y="1052640"/>
            <a:ext cx="6429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НЕСТОР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– инок (монах) Киево – Печерского монастыря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ЛЕТОПИСЕЦ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Vasnetsov_Bapt_Vladimir"/>
          <p:cNvPicPr/>
          <p:nvPr/>
        </p:nvPicPr>
        <p:blipFill>
          <a:blip r:embed="rId1"/>
          <a:stretch/>
        </p:blipFill>
        <p:spPr>
          <a:xfrm>
            <a:off x="5635800" y="981000"/>
            <a:ext cx="3508200" cy="568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wladimir_krasnoe_solnyshko"/>
          <p:cNvPicPr/>
          <p:nvPr/>
        </p:nvPicPr>
        <p:blipFill>
          <a:blip r:embed="rId2"/>
          <a:stretch/>
        </p:blipFill>
        <p:spPr>
          <a:xfrm>
            <a:off x="3564000" y="907920"/>
            <a:ext cx="2044800" cy="2521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Начало 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Крещение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50920" y="299160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3"/>
              </a:rPr>
              <a:t>988 году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4"/>
              </a:rPr>
              <a:t>Киевский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князь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5"/>
              </a:rPr>
              <a:t>Владимир Святославич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 принял решен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6"/>
              </a:rPr>
              <a:t>креститься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от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7"/>
              </a:rPr>
              <a:t>Константинопольской Церкв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. После чего, в царствование Императоро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8"/>
              </a:rPr>
              <a:t>Василия II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9"/>
              </a:rPr>
              <a:t>Константина VIII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Порфирородных, духовенство крестило киевских людей в вода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0"/>
              </a:rPr>
              <a:t>Днепра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1"/>
              </a:rPr>
              <a:t>Почайны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. По преданию Русской Церкви, это произошло 1 августа, хотя достоверных сведений о том нет. Согласно русской летопис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2"/>
              </a:rPr>
              <a:t>Повесть временных лет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 князь во время крещения своего народа вознёс следующую молитву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08000" y="2421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Bitstream Vera Sans"/>
              </a:rPr>
              <a:t>Князь Владимир Красное Солнышко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11280" y="189000"/>
          <a:ext cx="8101080" cy="1800000"/>
        </p:xfrm>
        <a:graphic>
          <a:graphicData uri="http://schemas.openxmlformats.org/drawingml/2006/table">
            <a:tbl>
              <a:tblPr/>
              <a:tblGrid>
                <a:gridCol w="810108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6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08" name="Рисунок 3" descr="Крещение киевлян К. Лебеде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16280"/>
            <a:ext cx="4824360" cy="4176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7"/>
          <p:cNvSpPr/>
          <p:nvPr/>
        </p:nvSpPr>
        <p:spPr>
          <a:xfrm>
            <a:off x="0" y="43578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508720" y="2156760"/>
            <a:ext cx="331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Принятие христианства князем Владимиром во многом определило духовное и политическое развит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3"/>
              </a:rPr>
              <a:t>Рус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на много веков вперед, содействовало распространению писменности, развитию зодчества и живописи в средневековых её формах, проникновению византийской культуры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042920" y="6299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К.Лебедев  «Крещение киевлян»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324000" y="26028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Bitstream Vera Sans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13" name="003. J. S. BACH - TOCCATTA IN D MINOR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72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Повесть временных ле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Се повести времяньных лет,откуда есть пошла Русская земля, кто в Киеве нача первее княжи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42920" y="314172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это литературно изложенная история Русской земли от древнейших времен до событий начала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XII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ека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00720" y="4365720"/>
            <a:ext cx="37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Чудо Георгия о зми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-1620720" y="5157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Олег вещий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5877000"/>
            <a:ext cx="37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Князь Игорь и княгиня Ольга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-1765440" y="45086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Князь Святослав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500720" y="4941720"/>
            <a:ext cx="28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Повесть о белгородском кисел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Сказание о Никите Кожемяк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867280" y="692280"/>
            <a:ext cx="398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– монах Нестор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а около 1113 г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06:13:03Z</dcterms:created>
  <dc:creator>Teacher</dc:creator>
  <dc:description/>
  <dc:language>en-US</dc:language>
  <cp:lastModifiedBy>LEGION</cp:lastModifiedBy>
  <dcterms:modified xsi:type="dcterms:W3CDTF">2015-01-15T12:30:45Z</dcterms:modified>
  <cp:revision>21</cp:revision>
  <dc:subject/>
  <dc:title>Слайд 1</dc:title>
</cp:coreProperties>
</file>