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E85F-FFEC-4F30-B682-01A88AA73B0A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88_&#1075;&#1086;&#1076;" TargetMode="External"/><Relationship Id="rId2" Type="http://schemas.openxmlformats.org/officeDocument/2006/relationships/hyperlink" Target="http://ru.wikipedia.org/wiki/&#1050;&#1080;&#1077;&#1074;&#1089;&#1082;&#1072;&#1103;_&#1056;&#1091;&#1089;&#1100;" TargetMode="External"/><Relationship Id="rId3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4" Type="http://schemas.openxmlformats.org/officeDocument/2006/relationships/hyperlink" Target="http://ru.wikipedia.org/wiki/&#1050;&#1088;&#1077;&#1097;&#1077;&#1085;&#1080;&#1077;" TargetMode="External"/><Relationship Id="rId5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6" Type="http://schemas.openxmlformats.org/officeDocument/2006/relationships/hyperlink" Target="http://ru.wikipedia.org/wiki/&#1042;&#1072;&#1089;&#1080;&#1083;&#1080;&#1081;_II_(&#1074;&#1080;&#1079;&#1072;&#1085;&#1090;&#1080;&#1081;&#1089;&#1082;&#1080;&#1081;_&#1080;&#1084;&#1087;&#1077;&#1088;&#1072;&#1090;&#1086;&#1088;)" TargetMode="External"/><Relationship Id="rId7" Type="http://schemas.openxmlformats.org/officeDocument/2006/relationships/hyperlink" Target="http://ru.wikipedia.org/wiki/&#1050;&#1086;&#1085;&#1089;&#1090;&#1072;&#1085;&#1090;&#1080;&#1085;_VIII" TargetMode="External"/><Relationship Id="rId8" Type="http://schemas.openxmlformats.org/officeDocument/2006/relationships/slide" Target="../slides/slide7.xml"/><Relationship Id="rId9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EC6F-20A5-420F-A674-05A2EA63AF21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умай</a:t>
            </a: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 отв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спространились книги в Древней Руси? Что такое список? Рукоп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всех ли произведений  древнерусской литературы известны имена автор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ольше всего ценят в человеке древнерусские писа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ем состоит гуманизм древнерусской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00E2-47D7-4B5F-BA13-B8B295E5C825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Летописец Н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Повесть времен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7DC4-AC0E-4AF5-9644-BC9F3A7A454A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ADEC-AE67-4DB2-8A81-BDE29FA65687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Киевской Ру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-X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-X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-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5013-2374-468F-8BDB-231E75E8ABE3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00E7-84CB-4093-9680-2AB51FF52332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етописе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FA9-88AA-47C6-A3E4-580CEF91AC10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Начало 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Крещение</a:t>
            </a:r>
            <a:r>
              <a:rPr b="0" i="1" lang="ru-RU" sz="1000" spc="-1" strike="noStrike">
                <a:solidFill>
                  <a:srgbClr val="ff0000"/>
                </a:solidFill>
                <a:latin typeface="Calibri"/>
              </a:rPr>
              <a:t> Рус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нязь Владимир Красное Солны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988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и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няз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ладимир Святосла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ял реш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рести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онстантинопольской Церк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сле чего, в царствование Император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асилия 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нстантина 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фирородных, духовенство крестило киевских людей в водах Днепра и Почайны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нязь во время крещения своего народа вознёс следующую молитв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06C-8BA9-40A6-A1A9-AA636C255636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христианства князем Владимиром во многом определило духовное и политическое развитие Руси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Лебедев  «Крещение киевл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109B-F778-4390-AF9B-A2968F219CFB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55AB-0ABD-4220-BBDB-3A0502BE592D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D7A-705E-420F-BEAD-076D54C3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4FD-F702-4D9A-AD1C-313E0AAC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A3B-1B84-4A66-82AB-289F91B1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FC9-0215-46B8-98B3-7BA3FDA4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45C-E57E-40D2-9928-F897E5B1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875-7FE9-4CA9-84D5-622582E7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F53-077A-4FDA-9615-39406D70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B1B-85AC-447C-9A46-DB3BE16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266-7023-4B43-BA5A-D45B7CB2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CFD-7B39-46CD-B911-0423611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0A7-5117-4841-96F3-03BA832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0E9-2A08-4F58-B9C0-2BCA5E1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676-14D7-41D1-BB76-8AC9C97B2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988_&#1075;&#1086;&#1076;" TargetMode="External"/><Relationship Id="rId4" Type="http://schemas.openxmlformats.org/officeDocument/2006/relationships/hyperlink" Target="http://ru.wikipedia.org/wiki/&#1050;&#1080;&#1077;&#1074;&#1089;&#1082;&#1072;&#1103;_&#1056;&#1091;&#1089;&#1100;" TargetMode="External"/><Relationship Id="rId5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6" Type="http://schemas.openxmlformats.org/officeDocument/2006/relationships/hyperlink" Target="http://ru.wikipedia.org/wiki/&#1050;&#1088;&#1077;&#1097;&#1077;&#1085;&#1080;&#1077;" TargetMode="External"/><Relationship Id="rId7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8" Type="http://schemas.openxmlformats.org/officeDocument/2006/relationships/hyperlink" Target="http://ru.wikipedia.org/wiki/&#1042;&#1072;&#1089;&#1080;&#1083;&#1080;&#1081;_II_%28&#1074;&#1080;&#1079;&#1072;&#1085;&#1090;&#1080;&#1081;&#1089;&#1082;&#1080;&#1081;_&#1080;&#1084;&#1087;&#1077;&#1088;&#1072;&#1090;&#1086;&#1088;%29" TargetMode="External"/><Relationship Id="rId9" Type="http://schemas.openxmlformats.org/officeDocument/2006/relationships/hyperlink" Target="http://ru.wikipedia.org/wiki/&#1050;&#1086;&#1085;&#1089;&#1090;&#1072;&#1085;&#1090;&#1080;&#1085;_VIII" TargetMode="External"/><Relationship Id="rId10" Type="http://schemas.openxmlformats.org/officeDocument/2006/relationships/hyperlink" Target="http://ru.wikipedia.org/wiki/&#1044;&#1085;&#1077;&#1087;&#1088;" TargetMode="External"/><Relationship Id="rId11" Type="http://schemas.openxmlformats.org/officeDocument/2006/relationships/hyperlink" Target="http://ru.wikipedia.org/wiki/&#1055;&#1086;&#1095;&#1072;&#1081;&#1085;&#1072;" TargetMode="External"/><Relationship Id="rId12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Lebedev_baptism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6;&#1091;&#1089;&#1100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0"/>
            <a:ext cx="7777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евнерусская 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911840" y="5734080"/>
            <a:ext cx="42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талья Алексеевн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0" name="Picture 9" descr="nestor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одумай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спространились книги в Древней Руси? Что такое список? Руко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всех ли произведений  древнерусской литературы известны имена ав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больше всего ценят в человеке древнерусские писа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состоит гуманизм древнерусско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na_kone"/>
          <p:cNvPicPr/>
          <p:nvPr/>
        </p:nvPicPr>
        <p:blipFill>
          <a:blip r:embed="rId1"/>
          <a:stretch/>
        </p:blipFill>
        <p:spPr>
          <a:xfrm>
            <a:off x="0" y="0"/>
            <a:ext cx="1619280" cy="17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5000111523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109"/>
          <p:cNvPicPr/>
          <p:nvPr/>
        </p:nvPicPr>
        <p:blipFill>
          <a:blip r:embed="rId3"/>
          <a:stretch/>
        </p:blipFill>
        <p:spPr>
          <a:xfrm>
            <a:off x="7667640" y="5013360"/>
            <a:ext cx="147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kat100173p"/>
          <p:cNvPicPr/>
          <p:nvPr/>
        </p:nvPicPr>
        <p:blipFill>
          <a:blip r:embed="rId4"/>
          <a:stretch/>
        </p:blipFill>
        <p:spPr>
          <a:xfrm>
            <a:off x="0" y="5013360"/>
            <a:ext cx="1476360" cy="184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Истоки Древне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Летописец Не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овесть врем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09"/>
          <p:cNvPicPr/>
          <p:nvPr/>
        </p:nvPicPr>
        <p:blipFill>
          <a:blip r:embed="rId1"/>
          <a:stretch/>
        </p:blipFill>
        <p:spPr>
          <a:xfrm>
            <a:off x="5796000" y="2060640"/>
            <a:ext cx="317340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34704560"/>
          <p:cNvPicPr/>
          <p:nvPr/>
        </p:nvPicPr>
        <p:blipFill>
          <a:blip r:embed="rId2"/>
          <a:stretch/>
        </p:blipFill>
        <p:spPr>
          <a:xfrm>
            <a:off x="468360" y="1268280"/>
            <a:ext cx="37972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4211640" y="386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067280" y="13413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788000" y="13636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7640" y="1484280"/>
            <a:ext cx="311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ергамент-специально обработанная кожа ягнят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659640" y="2349360"/>
            <a:ext cx="212724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Береста-светлый слой березовой кор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27640" y="3429000"/>
            <a:ext cx="2827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Рукопис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свитк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отдельные лист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5580000" y="4653000"/>
            <a:ext cx="33116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АВ-ПОЛУУСТАВ-СКОРОПИСЬ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356000" y="5589720"/>
            <a:ext cx="455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ное народное творчество-ПРИНЯТИЕ ХРИСТИАНСТВА-проповеди,жития,поучени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6" name="025. A. MARCELLO - 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9280" y="189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76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Киевской Руси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-XI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1700280"/>
            <a:ext cx="46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II-XV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4360" y="3357720"/>
            <a:ext cx="434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-XV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508720" y="364500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3" name="Picture 9" descr="236046769"/>
          <p:cNvPicPr/>
          <p:nvPr/>
        </p:nvPicPr>
        <p:blipFill>
          <a:blip r:embed="rId1"/>
          <a:stretch/>
        </p:blipFill>
        <p:spPr>
          <a:xfrm>
            <a:off x="6227640" y="620640"/>
            <a:ext cx="20894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84360" y="566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itstream Vera Sans"/>
              </a:rPr>
              <a:t>XVII</a:t>
            </a:r>
            <a:r>
              <a:rPr b="0" i="1" lang="ru-RU" sz="1800" spc="-1" strike="noStrike">
                <a:solidFill>
                  <a:srgbClr val="ff0000"/>
                </a:solidFill>
                <a:latin typeface="Bitstream Vera Sans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Organization Chart 6"/>
          <p:cNvGrpSpPr/>
          <p:nvPr/>
        </p:nvGrpSpPr>
        <p:grpSpPr>
          <a:xfrm>
            <a:off x="468360" y="1557360"/>
            <a:ext cx="8208360" cy="4462560"/>
            <a:chOff x="468360" y="1557360"/>
            <a:chExt cx="8208360" cy="4462560"/>
          </a:xfrm>
        </p:grpSpPr>
        <p:cxnSp>
          <p:nvCxnSpPr>
            <p:cNvPr id="78" name="_s1028"/>
            <p:cNvCxnSpPr>
              <a:stCxn id="79" idx="0"/>
              <a:endCxn id="80" idx="2"/>
            </p:cNvCxnSpPr>
            <p:nvPr/>
          </p:nvCxnSpPr>
          <p:spPr>
            <a:xfrm flipV="1" rot="16200000">
              <a:off x="6793560" y="235116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1" name="_s1029"/>
            <p:cNvCxnSpPr>
              <a:stCxn id="82" idx="0"/>
              <a:endCxn id="80" idx="1"/>
            </p:cNvCxnSpPr>
            <p:nvPr/>
          </p:nvCxnSpPr>
          <p:spPr>
            <a:xfrm flipV="1">
              <a:off x="5803920" y="3341520"/>
              <a:ext cx="3600" cy="89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84" idx="0"/>
              <a:endCxn id="80" idx="0"/>
            </p:cNvCxnSpPr>
            <p:nvPr/>
          </p:nvCxnSpPr>
          <p:spPr>
            <a:xfrm flipH="1" flipV="1" rot="5400000">
              <a:off x="3920760" y="235152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0" name="_s1031"/>
            <p:cNvSpPr/>
            <p:nvPr/>
          </p:nvSpPr>
          <p:spPr>
            <a:xfrm>
              <a:off x="3341160" y="155736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Священно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исани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роповед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апокрифы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4" name="_s1032"/>
            <p:cNvSpPr/>
            <p:nvPr/>
          </p:nvSpPr>
          <p:spPr>
            <a:xfrm>
              <a:off x="4683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жит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каз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уч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33411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летопис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вест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лово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621432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сл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хожд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етописе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е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estorpat"/>
          <p:cNvPicPr/>
          <p:nvPr/>
        </p:nvPicPr>
        <p:blipFill>
          <a:blip r:embed="rId1"/>
          <a:stretch/>
        </p:blipFill>
        <p:spPr>
          <a:xfrm>
            <a:off x="324000" y="2781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41110_1kyiv"/>
          <p:cNvPicPr/>
          <p:nvPr/>
        </p:nvPicPr>
        <p:blipFill>
          <a:blip r:embed="rId2"/>
          <a:stretch/>
        </p:blipFill>
        <p:spPr>
          <a:xfrm>
            <a:off x="6804000" y="98100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95280" y="2205000"/>
            <a:ext cx="49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л во второй половин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XI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851280" y="2852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Black"/>
              </a:rPr>
              <a:t>ЛЕТОПИСЬ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987640" y="486900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русской истории по годам(летам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932360" y="5241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роизошло в этом году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948360" y="4508640"/>
            <a:ext cx="17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должны знать и помнить потомки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AutoShape 14"/>
          <p:cNvSpPr/>
          <p:nvPr/>
        </p:nvSpPr>
        <p:spPr>
          <a:xfrm rot="1911000">
            <a:off x="3795840" y="3281040"/>
            <a:ext cx="133200" cy="1496880"/>
          </a:xfrm>
          <a:prstGeom prst="downArrow">
            <a:avLst>
              <a:gd name="adj1" fmla="val 50000"/>
              <a:gd name="adj2" fmla="val 2809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859280" y="3429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AutoShape 18"/>
          <p:cNvSpPr/>
          <p:nvPr/>
        </p:nvSpPr>
        <p:spPr>
          <a:xfrm rot="19617600">
            <a:off x="6161040" y="3213000"/>
            <a:ext cx="158760" cy="1575000"/>
          </a:xfrm>
          <a:prstGeom prst="downArrow">
            <a:avLst>
              <a:gd name="adj1" fmla="val 50000"/>
              <a:gd name="adj2" fmla="val 2480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24000" y="1052640"/>
            <a:ext cx="6429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СТОР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инок (монах) Киево – Печерского монастыр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ЛЕТОПИСЕЦ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Vasnetsov_Bapt_Vladimir"/>
          <p:cNvPicPr/>
          <p:nvPr/>
        </p:nvPicPr>
        <p:blipFill>
          <a:blip r:embed="rId1"/>
          <a:stretch/>
        </p:blipFill>
        <p:spPr>
          <a:xfrm>
            <a:off x="5635800" y="981000"/>
            <a:ext cx="3508200" cy="568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ladimir_krasnoe_solnyshko"/>
          <p:cNvPicPr/>
          <p:nvPr/>
        </p:nvPicPr>
        <p:blipFill>
          <a:blip r:embed="rId2"/>
          <a:stretch/>
        </p:blipFill>
        <p:spPr>
          <a:xfrm>
            <a:off x="3564000" y="907920"/>
            <a:ext cx="204480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Начало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реще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299160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988 году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4"/>
              </a:rPr>
              <a:t>Киевский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княз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5"/>
              </a:rPr>
              <a:t>Владимир Святославич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принял реш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6"/>
              </a:rPr>
              <a:t>креститьс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о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7"/>
              </a:rPr>
              <a:t>Константинопольской Церкв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сле чего, в царствование Император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8"/>
              </a:rPr>
              <a:t>Василия 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9"/>
              </a:rPr>
              <a:t>Константина VI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Порфирородных, духовенство крестило киевских людей в вода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0"/>
              </a:rPr>
              <a:t>Днепра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1"/>
              </a:rPr>
              <a:t>Почайны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2"/>
              </a:rPr>
              <a:t>Повесть временных лет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князь во время крещения своего народа вознёс следующую молитву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08000" y="2421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Bitstream Vera Sans"/>
              </a:rPr>
              <a:t>Князь Владимир Красное Солнышко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11280" y="189000"/>
          <a:ext cx="8101080" cy="1800000"/>
        </p:xfrm>
        <a:graphic>
          <a:graphicData uri="http://schemas.openxmlformats.org/drawingml/2006/table">
            <a:tbl>
              <a:tblPr/>
              <a:tblGrid>
                <a:gridCol w="81010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8" name="Рисунок 3" descr="Крещение киевлян К. Лебеде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7"/>
          <p:cNvSpPr/>
          <p:nvPr/>
        </p:nvSpPr>
        <p:spPr>
          <a:xfrm>
            <a:off x="0" y="4357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508720" y="215676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ринятие христианства князем Владимиром во многом определило духовное и политическое развит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042920" y="6299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К.Лебедев  «Крещение киевлян»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24000" y="26028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Bitstream Vera Sans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13" name="003. J. S. BACH - TOCCATTA IN D MINOR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овесть временных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42920" y="314172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00720" y="4365720"/>
            <a:ext cx="37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Чудо Георгия о зми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-1620720" y="5157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Олег вещий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5877000"/>
            <a:ext cx="37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Игорь и княгиня Ольга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-176544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Святослав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4941720"/>
            <a:ext cx="28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Повесть о белгородском кисел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Сказание о Никите Кожемяк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867280" y="692280"/>
            <a:ext cx="398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– монах Нестор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а около 1113 г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6:13:03Z</dcterms:created>
  <dc:creator>Teacher</dc:creator>
  <dc:description/>
  <dc:language>en-US</dc:language>
  <cp:lastModifiedBy>LEGION</cp:lastModifiedBy>
  <dcterms:modified xsi:type="dcterms:W3CDTF">2015-01-15T12:30:45Z</dcterms:modified>
  <cp:revision>21</cp:revision>
  <dc:subject/>
  <dc:title>Слайд 1</dc:title>
</cp:coreProperties>
</file>