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9401-19DE-44EA-8EDF-95FEC90838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ca048"/>
                </a:solidFill>
                <a:latin typeface="Arial"/>
              </a:rPr>
              <a:t>Принятие Христианства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5B28-E5CC-4B02-BB99-819F4C538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9B90-DD77-4FFA-8780-AC4192A49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D1B8-BB5D-4DC5-B670-435D3DB88D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ятия христи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9160-D707-4134-A693-CE044A0BC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977B-F76E-4059-A50B-3405B357C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8FDA-8FF8-4407-BE89-528A34577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0d04"/>
                </a:solidFill>
                <a:latin typeface="Arial"/>
              </a:rPr>
              <a:t>Опрос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A465-50E1-40F4-8FC4-A6632E589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6112-99C9-4138-9B05-E33D9D2D8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язь Владимир Святослав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C78F-0EAD-4564-B543-141FAC513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ь Влади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67EE-3160-4742-BB18-D39637433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9FB0-45CA-4155-A648-250AD9104C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80 году князь Владимир попытался провести реформу старой религии – объявить одного бога- Перуна. Однако  механическое объединение племен. Божеств не могло привести к единству культа. И по прежнему иде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ринят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исти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ически разобщало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A230-7BA1-4E77-AC06-C39659684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другие раннефеодальные государства Русь нуждалась в общегосударственной религии, которая закрепила бы только что созданное государственное единство. Дохристианская религия – язычество – такой роли играть не могла, будучи идеологией родового строя. Она вошла в противоречие с новыми условиями классового общПричины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ва и государства и не была способна освящать и укреплять существующий общественный поряд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BF28-C83C-4E6D-95B2-325F55DB4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99E-4099-4083-B13D-E12804DD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F6C-EE91-4D09-94FB-DF4E2A71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F8B-98FB-4100-BC9F-BE033635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DF5-7200-414C-B867-17513BA0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C7AD-0AA3-4E28-9B6B-376F7966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E74F-F09E-415A-A832-717AB4CB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7159-9179-4EF9-B36D-B8D5791F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0C8B-A61D-46D6-BF40-7B85C156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29A0-2CCA-4F52-B525-4C62C983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3924-1DCB-475A-B1C3-0AA2B717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4516-EB46-46B8-A9A5-E44CD4D0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777-523A-4D1A-8018-74DDF9EE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9168-813D-464C-98FB-2D84448A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44A2-379B-4BEA-BAA2-5E5593FB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D96F-4DAE-4FFD-A7CA-5F9D1A8D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775B-6036-4DF8-BCB3-30839318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BC56-74ED-45E7-AEFB-36346DC2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796-164C-48CC-BA26-A39EDA80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F68-A41E-43E5-B6C0-28740B4C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658-222A-4170-86D1-316320D7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BB4-2CDA-4E93-905B-F234356A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F0A-9E0E-4A3D-8400-83BEB24D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DCB-99B6-429D-ABB8-635672B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F57-A915-474E-B561-4D808FE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3FB2-383D-4FBD-AD71-60ED2CDB0C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350F-D1D3-4482-8899-CAE2638AA6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ca048"/>
                </a:solidFill>
                <a:latin typeface="Times New Roman"/>
              </a:rPr>
              <a:t>Принятие Христианства на Рус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190760" y="3504960"/>
            <a:ext cx="434340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3306"/>
          <p:cNvPicPr/>
          <p:nvPr/>
        </p:nvPicPr>
        <p:blipFill>
          <a:blip r:embed="rId1"/>
          <a:stretch/>
        </p:blipFill>
        <p:spPr>
          <a:xfrm>
            <a:off x="528480" y="3048120"/>
            <a:ext cx="2913120" cy="3582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3306"/>
          <p:cNvPicPr/>
          <p:nvPr/>
        </p:nvPicPr>
        <p:blipFill>
          <a:blip r:embed="rId1"/>
          <a:stretch/>
        </p:blipFill>
        <p:spPr>
          <a:xfrm>
            <a:off x="1752480" y="0"/>
            <a:ext cx="55753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15535739_vasnecov_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25014919_Kreschenie_kievly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чение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начение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принятия христиан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okrov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7652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t04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image001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big[1]"/>
          <p:cNvPicPr/>
          <p:nvPr/>
        </p:nvPicPr>
        <p:blipFill>
          <a:blip r:embed="rId1"/>
          <a:srcRect l="0" t="8004" r="0" b="10004"/>
          <a:stretch/>
        </p:blipFill>
        <p:spPr>
          <a:xfrm>
            <a:off x="1676520" y="0"/>
            <a:ext cx="5472000" cy="69343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00d04"/>
                </a:solidFill>
                <a:latin typeface="Times New Roman"/>
              </a:rPr>
              <a:t>Опрос домашнего зада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 для повторе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нязь Владимир Святослав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Image205_6720"/>
          <p:cNvPicPr/>
          <p:nvPr/>
        </p:nvPicPr>
        <p:blipFill>
          <a:blip r:embed="rId1"/>
          <a:srcRect l="0" t="4674" r="7792" b="4828"/>
          <a:stretch/>
        </p:blipFill>
        <p:spPr>
          <a:xfrm>
            <a:off x="1752480" y="1143000"/>
            <a:ext cx="541044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чность Владимир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3" name="Organization Chart 5"/>
          <p:cNvGrpSpPr/>
          <p:nvPr/>
        </p:nvGrpSpPr>
        <p:grpSpPr>
          <a:xfrm>
            <a:off x="532440" y="1219320"/>
            <a:ext cx="8547120" cy="5319000"/>
            <a:chOff x="532440" y="1219320"/>
            <a:chExt cx="8547120" cy="5319000"/>
          </a:xfrm>
        </p:grpSpPr>
        <p:cxnSp>
          <p:nvCxnSpPr>
            <p:cNvPr id="124" name="_s1028"/>
            <p:cNvCxnSpPr>
              <a:endCxn id="125" idx="2"/>
            </p:cNvCxnSpPr>
            <p:nvPr/>
          </p:nvCxnSpPr>
          <p:spPr>
            <a:xfrm flipV="1" rot="16200000">
              <a:off x="3247560" y="2674800"/>
              <a:ext cx="4177440" cy="3549600"/>
            </a:xfrm>
            <a:prstGeom prst="bentConnector3">
              <a:avLst>
                <a:gd name="adj1" fmla="val 3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8" idx="2"/>
            </p:cNvCxnSpPr>
            <p:nvPr/>
          </p:nvCxnSpPr>
          <p:spPr>
            <a:xfrm flipH="1" flipV="1" rot="5400000">
              <a:off x="6629400" y="1238040"/>
              <a:ext cx="157320" cy="2241000"/>
            </a:xfrm>
            <a:prstGeom prst="bentConnector3">
              <a:avLst>
                <a:gd name="adj1" fmla="val 504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0"/>
            <p:cNvCxnSpPr>
              <a:stCxn id="128" idx="3"/>
              <a:endCxn id="125" idx="2"/>
            </p:cNvCxnSpPr>
            <p:nvPr/>
          </p:nvCxnSpPr>
          <p:spPr>
            <a:xfrm flipH="1">
              <a:off x="3561480" y="1751040"/>
              <a:ext cx="5404320" cy="610920"/>
            </a:xfrm>
            <a:prstGeom prst="bentConnector4">
              <a:avLst>
                <a:gd name="adj1" fmla="val -2111"/>
                <a:gd name="adj2" fmla="val 1373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1"/>
            <p:cNvCxnSpPr>
              <a:stCxn id="131" idx="3"/>
              <a:endCxn id="125" idx="2"/>
            </p:cNvCxnSpPr>
            <p:nvPr/>
          </p:nvCxnSpPr>
          <p:spPr>
            <a:xfrm flipV="1">
              <a:off x="3274920" y="2360880"/>
              <a:ext cx="286920" cy="358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32"/>
            <p:cNvCxnSpPr>
              <a:stCxn id="133" idx="3"/>
              <a:endCxn id="125" idx="2"/>
            </p:cNvCxnSpPr>
            <p:nvPr/>
          </p:nvCxnSpPr>
          <p:spPr>
            <a:xfrm flipV="1">
              <a:off x="3200040" y="2361240"/>
              <a:ext cx="361800" cy="236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3"/>
            <p:cNvCxnSpPr/>
            <p:nvPr/>
          </p:nvCxnSpPr>
          <p:spPr>
            <a:xfrm flipV="1">
              <a:off x="2964240" y="3693600"/>
              <a:ext cx="845640" cy="26640"/>
            </a:xfrm>
            <a:prstGeom prst="bentConnector3">
              <a:avLst>
                <a:gd name="adj1" fmla="val 14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4"/>
            <p:cNvCxnSpPr>
              <a:stCxn id="136" idx="3"/>
              <a:endCxn id="125" idx="2"/>
            </p:cNvCxnSpPr>
            <p:nvPr/>
          </p:nvCxnSpPr>
          <p:spPr>
            <a:xfrm flipV="1">
              <a:off x="3200040" y="2361240"/>
              <a:ext cx="361800" cy="5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035"/>
            <p:cNvSpPr/>
            <p:nvPr/>
          </p:nvSpPr>
          <p:spPr>
            <a:xfrm>
              <a:off x="1828440" y="1294920"/>
              <a:ext cx="3459600" cy="1066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Владими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(Великий князь Рус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0-1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>
              <a:off x="608760" y="2515320"/>
              <a:ext cx="2591640" cy="7614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Tahoma"/>
                </a:rPr>
                <a:t>985 год Болгар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7"/>
            <p:cNvSpPr/>
            <p:nvPr/>
          </p:nvSpPr>
          <p:spPr>
            <a:xfrm>
              <a:off x="608760" y="3351960"/>
              <a:ext cx="2591640" cy="75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100d04"/>
                  </a:solidFill>
                  <a:latin typeface="Tahoma"/>
                </a:rPr>
                <a:t>988 год Корсун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8"/>
            <p:cNvSpPr/>
            <p:nvPr/>
          </p:nvSpPr>
          <p:spPr>
            <a:xfrm>
              <a:off x="608760" y="4267440"/>
              <a:ext cx="2591640" cy="912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Пять ж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800 наложниц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532440" y="5409720"/>
              <a:ext cx="2742840" cy="1065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0 го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зыческая реформ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Перун и д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0"/>
            <p:cNvSpPr/>
            <p:nvPr/>
          </p:nvSpPr>
          <p:spPr>
            <a:xfrm>
              <a:off x="6684840" y="1219320"/>
              <a:ext cx="2280600" cy="106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рополк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(Великий князь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72-98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571280" y="2437200"/>
              <a:ext cx="2025720" cy="7477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Убийство брат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2"/>
            <p:cNvSpPr/>
            <p:nvPr/>
          </p:nvSpPr>
          <p:spPr>
            <a:xfrm>
              <a:off x="4399920" y="3782520"/>
              <a:ext cx="3459600" cy="264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Мир с Польшей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Женитьба на Анн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8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Крещение Рус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100d04"/>
                  </a:solidFill>
                  <a:latin typeface="Tahoma"/>
                </a:rPr>
                <a:t>Новгород огнем и мече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22"/>
          <p:cNvSpPr/>
          <p:nvPr/>
        </p:nvSpPr>
        <p:spPr>
          <a:xfrm flipV="1">
            <a:off x="556272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5257800" y="1600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чины приняти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христианств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чины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5T12:34:4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