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C1D0-AFB2-4452-A0E2-C9A532EB85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ca048"/>
                </a:solidFill>
                <a:latin typeface="Arial"/>
              </a:rPr>
              <a:t>Принятие Христианства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EB47-9F72-4EB9-BF1E-503E541AB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C7ED-C661-41C9-A6E8-CB1B2093C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16E9-F3F1-4C44-A51C-8431AC581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ия христи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2FE-5FF2-4AD7-96D7-42F95D87C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3A80-375F-4536-933F-A4344002A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C100-B508-4C69-ADD1-5D5F9DDDC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0d04"/>
                </a:solidFill>
                <a:latin typeface="Arial"/>
              </a:rPr>
              <a:t>Опрос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20A-02BB-4DF9-BC74-017AD8969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2022-7032-4252-B0AF-4A576F470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язь Владимир Святослав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CD9-6CEE-452A-894A-92D1AB6F4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ь Влади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52B-1D5F-4A24-A59A-FCDF4F3BE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3624-3F20-4401-9A6F-01060522A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80 году князь Владимир попытался провести реформу старой религии – объявить одного бога- Перуна. Однако  механическое объединение племен. Божеств не могло привести к единству культа. И по прежнему иде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ринят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ически разобщало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9CBB-99CE-4BA7-B9A1-E75DE42EC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 другие раннефеодальные государства Русь нуждалась в общегосударственной религии, которая закрепила бы только что созданное государственное единство. Дохристианская религия – язычество – такой роли играть не могла, будучи идеологией родового строя. Она вошла в противоречие с новыми условиями классового общПричины принятия христи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ва и государства и не была способна освящать и укреплять существующий общественный поряд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ие христианства  в 98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3B9-614B-4A9E-8270-CDA708DE5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4C7-D38E-46DF-8246-0DB79BC1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90D-36AD-48A7-BBB4-7046A88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C0E-F3C1-4C47-A2FD-07D044A9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7B2-D642-468C-8642-740612BC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93BC-0663-4D1B-B8DE-ACDC43EB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3286-A657-4FBA-86C6-ED19ED69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7BBB-B8CC-495F-B85D-A5AC194F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9348-4976-412D-B9D8-07DFF0A3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1ECE-A7EC-4685-B170-EA8BA358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6796-82A3-47CF-A82C-8A7AFCFD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63DF-3C8F-42DD-9879-A676A028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F50-6CE2-4B17-8C3A-DE92A18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63F6-F33D-4490-A35B-7906F56F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3DF5-3BC7-4399-BC06-0F6E463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7CE-529D-4D4B-82BD-B2BDDD2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E053-1A8E-4A22-8FD7-0F2D36BE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43A5-43A7-435E-89FE-39A67EDC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495-E739-4C9E-8243-245FB1CC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351-5FC0-40B6-9B7E-52C56F11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818-BF50-4461-81A8-414B9CB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CED-C7FC-4DFB-87F8-96DBC4CB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22C-3E4F-4437-BF5D-8E0BAE24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6E3-D72E-4981-A2E9-72159A4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ADA-29B8-4D13-AB6C-50554C2D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8C84-0189-49F8-9362-2B06832DAC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8950-E8BD-4145-8F6C-D0F712841F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ca048"/>
                </a:solidFill>
                <a:latin typeface="Times New Roman"/>
              </a:rPr>
              <a:t>Принятие Христианства на Рус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760" y="3504960"/>
            <a:ext cx="434340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Открыт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по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в 10 «А»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Учитель: Шаламова Т.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1b7d"/>
                </a:solidFill>
                <a:latin typeface="Arial"/>
              </a:rPr>
              <a:t>Ноябрь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3306"/>
          <p:cNvPicPr/>
          <p:nvPr/>
        </p:nvPicPr>
        <p:blipFill>
          <a:blip r:embed="rId1"/>
          <a:stretch/>
        </p:blipFill>
        <p:spPr>
          <a:xfrm>
            <a:off x="528480" y="3048120"/>
            <a:ext cx="2913120" cy="3582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3306"/>
          <p:cNvPicPr/>
          <p:nvPr/>
        </p:nvPicPr>
        <p:blipFill>
          <a:blip r:embed="rId1"/>
          <a:stretch/>
        </p:blipFill>
        <p:spPr>
          <a:xfrm>
            <a:off x="17524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15535739_vasnecov_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ая обста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Руси с Визант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сть Руси от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25014919_Kreschenie_kievly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начение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ящая верх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я для укрепления госп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рковь – новая политическая 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ологически закрепило единство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начени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принятия христиан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енность, достижения культуры Византии и других христианс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связи, рост авторитета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kr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54608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t04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mage001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ig[1]"/>
          <p:cNvPicPr/>
          <p:nvPr/>
        </p:nvPicPr>
        <p:blipFill>
          <a:blip r:embed="rId1"/>
          <a:srcRect l="0" t="8004" r="0" b="10004"/>
          <a:stretch/>
        </p:blipFill>
        <p:spPr>
          <a:xfrm>
            <a:off x="1676520" y="0"/>
            <a:ext cx="5472000" cy="69343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стр57-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ы 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00d04"/>
                </a:solidFill>
                <a:latin typeface="Times New Roman"/>
              </a:rPr>
              <a:t>Опрос домашнего зада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йте определения слов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 для повторен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исторической личностью связаны эти пон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княгиня Ольга обратилась в христиа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арактеризуйте политику Святосл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ая обстановка сложилась на Руси после гибели Святосла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нязь Владимир Святослав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205_6720"/>
          <p:cNvPicPr/>
          <p:nvPr/>
        </p:nvPicPr>
        <p:blipFill>
          <a:blip r:embed="rId1"/>
          <a:srcRect l="0" t="4674" r="7792" b="4828"/>
          <a:stretch/>
        </p:blipFill>
        <p:spPr>
          <a:xfrm>
            <a:off x="1752480" y="1143000"/>
            <a:ext cx="541044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чность Владими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3" name="Organization Chart 5"/>
          <p:cNvGrpSpPr/>
          <p:nvPr/>
        </p:nvGrpSpPr>
        <p:grpSpPr>
          <a:xfrm>
            <a:off x="532440" y="1219320"/>
            <a:ext cx="8547120" cy="5319000"/>
            <a:chOff x="532440" y="1219320"/>
            <a:chExt cx="8547120" cy="5319000"/>
          </a:xfrm>
        </p:grpSpPr>
        <p:cxnSp>
          <p:nvCxnSpPr>
            <p:cNvPr id="124" name="_s1028"/>
            <p:cNvCxnSpPr>
              <a:endCxn id="125" idx="2"/>
            </p:cNvCxnSpPr>
            <p:nvPr/>
          </p:nvCxnSpPr>
          <p:spPr>
            <a:xfrm flipV="1" rot="16200000">
              <a:off x="3247560" y="2674800"/>
              <a:ext cx="4177440" cy="3549600"/>
            </a:xfrm>
            <a:prstGeom prst="bentConnector3">
              <a:avLst>
                <a:gd name="adj1" fmla="val 31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H="1" flipV="1" rot="5400000">
              <a:off x="6629400" y="1238040"/>
              <a:ext cx="157320" cy="2241000"/>
            </a:xfrm>
            <a:prstGeom prst="bentConnector3">
              <a:avLst>
                <a:gd name="adj1" fmla="val 50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28" idx="3"/>
              <a:endCxn id="125" idx="2"/>
            </p:cNvCxnSpPr>
            <p:nvPr/>
          </p:nvCxnSpPr>
          <p:spPr>
            <a:xfrm flipH="1">
              <a:off x="3561480" y="1751040"/>
              <a:ext cx="5404320" cy="610920"/>
            </a:xfrm>
            <a:prstGeom prst="bentConnector4">
              <a:avLst>
                <a:gd name="adj1" fmla="val -2111"/>
                <a:gd name="adj2" fmla="val 1373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1"/>
            <p:cNvCxnSpPr>
              <a:stCxn id="131" idx="3"/>
              <a:endCxn id="125" idx="2"/>
            </p:cNvCxnSpPr>
            <p:nvPr/>
          </p:nvCxnSpPr>
          <p:spPr>
            <a:xfrm flipV="1">
              <a:off x="3274920" y="2360880"/>
              <a:ext cx="286920" cy="358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2"/>
            <p:cNvCxnSpPr>
              <a:stCxn id="133" idx="3"/>
              <a:endCxn id="125" idx="2"/>
            </p:cNvCxnSpPr>
            <p:nvPr/>
          </p:nvCxnSpPr>
          <p:spPr>
            <a:xfrm flipV="1">
              <a:off x="3200040" y="2361240"/>
              <a:ext cx="361800" cy="236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3"/>
            <p:cNvCxnSpPr/>
            <p:nvPr/>
          </p:nvCxnSpPr>
          <p:spPr>
            <a:xfrm flipV="1">
              <a:off x="2964240" y="3693600"/>
              <a:ext cx="845640" cy="26640"/>
            </a:xfrm>
            <a:prstGeom prst="bentConnector3">
              <a:avLst>
                <a:gd name="adj1" fmla="val 14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4"/>
            <p:cNvCxnSpPr>
              <a:stCxn id="136" idx="3"/>
              <a:endCxn id="125" idx="2"/>
            </p:cNvCxnSpPr>
            <p:nvPr/>
          </p:nvCxnSpPr>
          <p:spPr>
            <a:xfrm flipV="1">
              <a:off x="3200040" y="2361240"/>
              <a:ext cx="361800" cy="5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1035"/>
            <p:cNvSpPr/>
            <p:nvPr/>
          </p:nvSpPr>
          <p:spPr>
            <a:xfrm>
              <a:off x="1828440" y="1294920"/>
              <a:ext cx="3459600" cy="1066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Владимир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(Великий князь Рус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0-1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608760" y="2515320"/>
              <a:ext cx="2591640" cy="7614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Tahoma"/>
                </a:rPr>
                <a:t>985 год Болгар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7"/>
            <p:cNvSpPr/>
            <p:nvPr/>
          </p:nvSpPr>
          <p:spPr>
            <a:xfrm>
              <a:off x="608760" y="3351960"/>
              <a:ext cx="2591640" cy="75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100d04"/>
                  </a:solidFill>
                  <a:latin typeface="Tahoma"/>
                </a:rPr>
                <a:t>988 год Корсун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608760" y="4267440"/>
              <a:ext cx="2591640" cy="912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Пять ж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0033"/>
                  </a:solidFill>
                  <a:latin typeface="Tahoma"/>
                </a:rPr>
                <a:t>800 наложниц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32440" y="5409720"/>
              <a:ext cx="2742840" cy="1065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0 го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зыческая реформ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Перун и д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0"/>
            <p:cNvSpPr/>
            <p:nvPr/>
          </p:nvSpPr>
          <p:spPr>
            <a:xfrm>
              <a:off x="6684840" y="1219320"/>
              <a:ext cx="2280600" cy="106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Ярополк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(Великий князь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72-9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571280" y="2437200"/>
              <a:ext cx="2025720" cy="7477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Убийство бра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2"/>
            <p:cNvSpPr/>
            <p:nvPr/>
          </p:nvSpPr>
          <p:spPr>
            <a:xfrm>
              <a:off x="4399920" y="3782520"/>
              <a:ext cx="3459600" cy="264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Мир с Польшей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0d04"/>
                  </a:solidFill>
                  <a:latin typeface="Tahoma"/>
                </a:rPr>
                <a:t>988 год. Женитьба на Анн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988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0d04"/>
                  </a:solidFill>
                  <a:latin typeface="Tahoma"/>
                </a:rPr>
                <a:t>Крещение Рус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100d04"/>
                  </a:solidFill>
                  <a:latin typeface="Tahoma"/>
                </a:rPr>
                <a:t>Новгород огнем и мечем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22"/>
          <p:cNvSpPr/>
          <p:nvPr/>
        </p:nvSpPr>
        <p:spPr>
          <a:xfrm flipV="1">
            <a:off x="5562720" y="16765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5257800" y="1600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чины принятия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христиан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сть реформирования старой рели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теон языческих богов (980) не приводил к единству культа, разъединял част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принятия христиан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чество не выра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одство княжеской власти и феодальной верх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примирения с существующим поряд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ятие христианства  в 988 году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е Руси социально-политическое устройство Визан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христианства на Руси до князя Влади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5T12:34:4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