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6FA9-D52A-4B14-B08D-200FA6E4BA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ca048"/>
                </a:solidFill>
                <a:latin typeface="Arial"/>
              </a:rPr>
              <a:t>Принятие Христианства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Открытый у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по истор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в 10 «А» кла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Учитель: Шаламова Т.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Ноябрь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6CA3-73B6-4D73-8C15-3507A3AFCF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ие христианства  в 98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обстан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ьба Руси с Визант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висимость Руси от Визан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9BA4-8A1B-4118-B4A7-C5109D0BCC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инятия христи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ящая верху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ология для укрепления госп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рковь – новая политическая 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ологически закрепило единство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3ABC-11A0-479C-8645-EB3DCE959B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нятия христи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сьменность, достижения культуры Византии и других христиански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связи, рост авторитета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189D-279F-4ABB-AC4C-6CF218E704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1201-DF82-4880-BCC2-05E76F9CA4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 стр57-6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просы 1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1DF6-7C15-4C4E-AA90-EEAE434704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0d04"/>
                </a:solidFill>
                <a:latin typeface="Arial"/>
              </a:rPr>
              <a:t>Опрос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те определения слов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юд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о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6276-394E-4026-AED3-84C2C927D1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повто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й исторической личностью связаны эти понят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княгиня Ольга обратилась в христианст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уйте политику Святосл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обстановка сложилась на Руси после гибели Святосла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58E4-323D-45CA-B767-3F679259B3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язь Владимир Святослав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ADB7-DFD3-40AB-90A2-4D23FEC845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ь Влади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7CDD-6D3B-4AF1-9542-BF8AAA3B5B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9666-07EA-408B-AC21-E2A85CD3D8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980 году князь Владимир попытался провести реформу старой религии – объявить одного бога- Перуна. Однако  механическое объединение племен. Божеств не могло привести к единству культа. И по прежнему идео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принят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истиан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возможность реформирования старой рели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теон языческих богов (980) не приводил к единству культа, разъединял част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ически разобщало стра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458A-F0F0-4D49-9D72-A3D6A20589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 другие раннефеодальные государства Русь нуждалась в общегосударственной религии, которая закрепила бы только что созданное государственное единство. Дохристианская религия – язычество – такой роли играть не могла, будучи идеологией родового строя. Она вошла в противоречие с новыми условиями классового общПричины принятия христи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зычество не выражал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ого еди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подство княжеской власти и феодальной верх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примирения с существующим поряд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ва и государства и не была способна освящать и укреплять существующий общественный поряд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ие христианства  в 98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зкое Руси социально-политическое устройство Визан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христианства на Руси до князя Влади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B595-05AE-4F3C-B26E-656E4C8C4C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071B-5F38-4FE2-9EDB-BE6F04F5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8086-A7DD-499A-9A22-546F9D74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BE57-A63F-4390-8424-F3613909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9B53-E515-414C-9992-EA6BFB6A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552E-2118-4423-8F8A-4BDF8ED0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F8B3-B307-4F08-B157-F09E418F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0435-10BF-4EB4-A1EB-96A7D46F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91E4-43FD-4358-9AE7-648E3134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989C-8394-4966-9046-B57FE0DF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A79D-09EA-43A0-BFB8-A907F8A0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703B-9AAF-40D6-813F-237C795B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925-B4DC-41B0-88BF-98249623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2065-B183-422B-8A1D-BA419339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9EB8-EAC7-45E7-8E88-16CC0485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214C-9D5F-4D2C-A7A0-7BFDF7F7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26CD-7F33-4F23-B5E7-4655A019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7757-66C5-43FB-B236-F5C001C2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8AA0-1C81-4835-BEEE-5860BF39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D80-6B74-4143-9F82-82A990DC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6C9-A112-44B5-84A2-5FC3C2A1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5F36-B8AE-41F9-8FC6-A9A6D0F7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488C-F189-4D79-83D1-7780EC4B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7436-43C5-4C6E-B873-7A340F2A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29F-986E-4989-9CBB-340901C8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F9B2-6E6D-4387-BA80-2CB26D0788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BB9C-CE6D-42B3-985E-318187CB6CF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2210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003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ca048"/>
                </a:solidFill>
                <a:latin typeface="Times New Roman"/>
              </a:rPr>
              <a:t>Принятие Христианства на Руси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190760" y="3504960"/>
            <a:ext cx="4343400" cy="2438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003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Открытый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по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в 10 «А»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Учитель: Шаламова Т.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Ноябрь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3306"/>
          <p:cNvPicPr/>
          <p:nvPr/>
        </p:nvPicPr>
        <p:blipFill>
          <a:blip r:embed="rId1"/>
          <a:stretch/>
        </p:blipFill>
        <p:spPr>
          <a:xfrm>
            <a:off x="528480" y="3048120"/>
            <a:ext cx="2913120" cy="35827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13306"/>
          <p:cNvPicPr/>
          <p:nvPr/>
        </p:nvPicPr>
        <p:blipFill>
          <a:blip r:embed="rId1"/>
          <a:stretch/>
        </p:blipFill>
        <p:spPr>
          <a:xfrm>
            <a:off x="1752480" y="0"/>
            <a:ext cx="557532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15535739_vasnecov_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нятие христианства  в 988 году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ая обстан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ьба Руси с Визант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зависимость Руси от Визан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25014919_Kreschenie_kievly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начение принятия христиан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ящая верх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ология для укрепления госп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рковь – новая политическая орган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ологически закрепило единство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начение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принятия христиан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ьменность, достижения культуры Византии и других христианских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связи, рост авторитета Ру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a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pokrov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76520" y="0"/>
            <a:ext cx="546084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st04_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image001"/>
          <p:cNvPicPr/>
          <p:nvPr/>
        </p:nvPicPr>
        <p:blipFill>
          <a:blip r:embed="rId1"/>
          <a:stretch/>
        </p:blipFill>
        <p:spPr>
          <a:xfrm>
            <a:off x="0" y="-13320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big[1]"/>
          <p:cNvPicPr/>
          <p:nvPr/>
        </p:nvPicPr>
        <p:blipFill>
          <a:blip r:embed="rId1"/>
          <a:srcRect l="0" t="8004" r="0" b="10004"/>
          <a:stretch/>
        </p:blipFill>
        <p:spPr>
          <a:xfrm>
            <a:off x="1676520" y="0"/>
            <a:ext cx="5472000" cy="69343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 стр57-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просы 1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100d04"/>
                </a:solidFill>
                <a:latin typeface="Times New Roman"/>
              </a:rPr>
              <a:t>Опрос домашнего задан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йте определения слов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юд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о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опросы для повторен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какой исторической личностью связаны эти понят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княгиня Ольга обратилась в христиан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характеризуйте политику Святосл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ая обстановка сложилась на Руси после гибели Святосла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нязь Владимир Святославович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Image205_6720"/>
          <p:cNvPicPr/>
          <p:nvPr/>
        </p:nvPicPr>
        <p:blipFill>
          <a:blip r:embed="rId1"/>
          <a:srcRect l="0" t="4674" r="7792" b="4828"/>
          <a:stretch/>
        </p:blipFill>
        <p:spPr>
          <a:xfrm>
            <a:off x="1752480" y="1143000"/>
            <a:ext cx="541044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ичность Владимир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23" name="Organization Chart 5"/>
          <p:cNvGrpSpPr/>
          <p:nvPr/>
        </p:nvGrpSpPr>
        <p:grpSpPr>
          <a:xfrm>
            <a:off x="532440" y="1219320"/>
            <a:ext cx="8547120" cy="5319000"/>
            <a:chOff x="532440" y="1219320"/>
            <a:chExt cx="8547120" cy="5319000"/>
          </a:xfrm>
        </p:grpSpPr>
        <p:cxnSp>
          <p:nvCxnSpPr>
            <p:cNvPr id="124" name="_s1028"/>
            <p:cNvCxnSpPr>
              <a:endCxn id="125" idx="2"/>
            </p:cNvCxnSpPr>
            <p:nvPr/>
          </p:nvCxnSpPr>
          <p:spPr>
            <a:xfrm flipV="1" rot="16200000">
              <a:off x="3247560" y="2674800"/>
              <a:ext cx="4177440" cy="3549600"/>
            </a:xfrm>
            <a:prstGeom prst="bentConnector3">
              <a:avLst>
                <a:gd name="adj1" fmla="val 31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29"/>
            <p:cNvCxnSpPr>
              <a:stCxn id="127" idx="0"/>
              <a:endCxn id="128" idx="2"/>
            </p:cNvCxnSpPr>
            <p:nvPr/>
          </p:nvCxnSpPr>
          <p:spPr>
            <a:xfrm flipH="1" flipV="1" rot="5400000">
              <a:off x="6629400" y="1238040"/>
              <a:ext cx="157320" cy="2241000"/>
            </a:xfrm>
            <a:prstGeom prst="bentConnector3">
              <a:avLst>
                <a:gd name="adj1" fmla="val 504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030"/>
            <p:cNvCxnSpPr>
              <a:stCxn id="128" idx="3"/>
              <a:endCxn id="125" idx="2"/>
            </p:cNvCxnSpPr>
            <p:nvPr/>
          </p:nvCxnSpPr>
          <p:spPr>
            <a:xfrm flipH="1">
              <a:off x="3561480" y="1751040"/>
              <a:ext cx="5404320" cy="610920"/>
            </a:xfrm>
            <a:prstGeom prst="bentConnector4">
              <a:avLst>
                <a:gd name="adj1" fmla="val -2111"/>
                <a:gd name="adj2" fmla="val 1373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31"/>
            <p:cNvCxnSpPr>
              <a:stCxn id="131" idx="3"/>
              <a:endCxn id="125" idx="2"/>
            </p:cNvCxnSpPr>
            <p:nvPr/>
          </p:nvCxnSpPr>
          <p:spPr>
            <a:xfrm flipV="1">
              <a:off x="3274920" y="2360880"/>
              <a:ext cx="286920" cy="358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032"/>
            <p:cNvCxnSpPr>
              <a:stCxn id="133" idx="3"/>
              <a:endCxn id="125" idx="2"/>
            </p:cNvCxnSpPr>
            <p:nvPr/>
          </p:nvCxnSpPr>
          <p:spPr>
            <a:xfrm flipV="1">
              <a:off x="3200040" y="2361240"/>
              <a:ext cx="361800" cy="2365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033"/>
            <p:cNvCxnSpPr/>
            <p:nvPr/>
          </p:nvCxnSpPr>
          <p:spPr>
            <a:xfrm flipV="1">
              <a:off x="2964240" y="3693600"/>
              <a:ext cx="845640" cy="26640"/>
            </a:xfrm>
            <a:prstGeom prst="bentConnector3">
              <a:avLst>
                <a:gd name="adj1" fmla="val 14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034"/>
            <p:cNvCxnSpPr>
              <a:stCxn id="136" idx="3"/>
              <a:endCxn id="125" idx="2"/>
            </p:cNvCxnSpPr>
            <p:nvPr/>
          </p:nvCxnSpPr>
          <p:spPr>
            <a:xfrm flipV="1">
              <a:off x="3200040" y="2361240"/>
              <a:ext cx="361800" cy="53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5" name="_s1035"/>
            <p:cNvSpPr/>
            <p:nvPr/>
          </p:nvSpPr>
          <p:spPr>
            <a:xfrm>
              <a:off x="1828440" y="1294920"/>
              <a:ext cx="3459600" cy="1066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Владимир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(Великий князь Руси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980-10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36"/>
            <p:cNvSpPr/>
            <p:nvPr/>
          </p:nvSpPr>
          <p:spPr>
            <a:xfrm>
              <a:off x="608760" y="2515320"/>
              <a:ext cx="2591640" cy="7614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0033"/>
                  </a:solidFill>
                  <a:latin typeface="Tahoma"/>
                </a:rPr>
                <a:t>985 год Болгари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7"/>
            <p:cNvSpPr/>
            <p:nvPr/>
          </p:nvSpPr>
          <p:spPr>
            <a:xfrm>
              <a:off x="608760" y="3351960"/>
              <a:ext cx="2591640" cy="750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100d04"/>
                  </a:solidFill>
                  <a:latin typeface="Tahoma"/>
                </a:rPr>
                <a:t>988 год Корсун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8"/>
            <p:cNvSpPr/>
            <p:nvPr/>
          </p:nvSpPr>
          <p:spPr>
            <a:xfrm>
              <a:off x="608760" y="4267440"/>
              <a:ext cx="2591640" cy="912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0033"/>
                  </a:solidFill>
                  <a:latin typeface="Tahoma"/>
                </a:rPr>
                <a:t>Пять жен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0033"/>
                  </a:solidFill>
                  <a:latin typeface="Tahoma"/>
                </a:rPr>
                <a:t>800 наложниц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9"/>
            <p:cNvSpPr/>
            <p:nvPr/>
          </p:nvSpPr>
          <p:spPr>
            <a:xfrm>
              <a:off x="532440" y="5409720"/>
              <a:ext cx="2742840" cy="1065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80 год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 </a:t>
              </a: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Языческая реформ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Перун и др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0"/>
            <p:cNvSpPr/>
            <p:nvPr/>
          </p:nvSpPr>
          <p:spPr>
            <a:xfrm>
              <a:off x="6684840" y="1219320"/>
              <a:ext cx="2280600" cy="10612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Ярополк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(Великий князь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72-98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1"/>
            <p:cNvSpPr/>
            <p:nvPr/>
          </p:nvSpPr>
          <p:spPr>
            <a:xfrm>
              <a:off x="4571280" y="2437200"/>
              <a:ext cx="2025720" cy="7477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Убийство брат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42"/>
            <p:cNvSpPr/>
            <p:nvPr/>
          </p:nvSpPr>
          <p:spPr>
            <a:xfrm>
              <a:off x="4399920" y="3782520"/>
              <a:ext cx="3459600" cy="2648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88 год. Мир с Польшей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88 год. Женитьба на Анн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988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Крещение Рус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100d04"/>
                  </a:solidFill>
                  <a:latin typeface="Tahoma"/>
                </a:rPr>
                <a:t>Новгород огнем и мечем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22"/>
          <p:cNvSpPr/>
          <p:nvPr/>
        </p:nvSpPr>
        <p:spPr>
          <a:xfrm flipV="1">
            <a:off x="5562720" y="1676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3"/>
          <p:cNvSpPr/>
          <p:nvPr/>
        </p:nvSpPr>
        <p:spPr>
          <a:xfrm>
            <a:off x="5257800" y="16002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чины принятия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христианства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возможность реформирования старой рели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нтеон языческих богов (980) не приводил к единству культа, разъединял части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ичины принятия христиан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зычество не выражал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ого ед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подство княжеской власти и феодальной верх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и примирения с существующим поряд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нятие христианства  в 988 году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зкое Руси социально-политическое устройство Визан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остранение христианства на Руси до князя Влади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5T12:34:4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