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6537A-BE2E-4B4D-97E3-4E5D653213B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dca048"/>
                </a:solidFill>
                <a:latin typeface="Arial"/>
              </a:rPr>
              <a:t>Принятие Христианства на Рус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581b7d"/>
                </a:solidFill>
                <a:latin typeface="Arial"/>
              </a:rPr>
              <a:t>Открытый уро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581b7d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581b7d"/>
                </a:solidFill>
                <a:latin typeface="Arial"/>
              </a:rPr>
              <a:t>по истори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581b7d"/>
                </a:solidFill>
                <a:latin typeface="Arial"/>
              </a:rPr>
              <a:t>в 10 «А» класс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581b7d"/>
                </a:solidFill>
                <a:latin typeface="Arial"/>
              </a:rPr>
              <a:t>Учитель: Шаламова Т.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581b7d"/>
                </a:solidFill>
                <a:latin typeface="Arial"/>
              </a:rPr>
              <a:t>Ноябрь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9D13E-8BE8-4837-ABE7-56C1CD7DE32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нятие христианства  в 988 год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литическая обстанов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рьба Руси с Византи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зависимость Руси от Визант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5CD44-C46C-4C8D-B124-19B98514945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начение принятия христиан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авящая верхуш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деология для укрепления господ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рковь – новая политическая организ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деологически закрепило единство государ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032AF-F46E-43B2-87F4-B3593D2855B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начение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ринятия христиан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ус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исьменность, достижения культуры Византии и других христианских стра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народные связи, рост авторитета Рус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169C4-1891-41B9-AD2A-C494B0A5C2E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1880F-8A95-4678-BB41-05C201FFEAC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п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машнее зада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§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6 стр57-6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Вопросы 1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понят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C36DE-B848-434E-9E54-D17A8EEF644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00d04"/>
                </a:solidFill>
                <a:latin typeface="Arial"/>
              </a:rPr>
              <a:t>Опрос домашнего зада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айте определения словам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н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юдь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гост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ро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0B79E-E25B-4AEE-806B-6E156D64ED9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просы для повтор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какой исторической личностью связаны эти понятия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чему княгиня Ольга обратилась в христианство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характеризуйте политику Святосла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ая обстановка сложилась на Руси после гибели Святослав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414CF-91AC-4DAC-B4DC-252211C0BDD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нязь Владимир Святославови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6EF19-CD2E-4F20-8183-FDF848528A0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чность Владимир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DA812-BDEB-468D-B159-17635193CC9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86DFF-EFC4-4B3E-8D79-850C698510C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980 году князь Владимир попытался провести реформу старой религии – объявить одного бога- Перуна. Однако  механическое объединение племен. Божеств не могло привести к единству культа. И по прежнему идео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чины принятия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ристианств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евозможность реформирования старой религ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антеон языческих богов (980) не приводил к единству культа, разъединял части стран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гически разобщало страну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90355-9DF0-4C94-A7E6-CF9F1854F68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и другие раннефеодальные государства Русь нуждалась в общегосударственной религии, которая закрепила бы только что созданное государственное единство. Дохристианская религия – язычество – такой роли играть не могла, будучи идеологией родового строя. Она вошла в противоречие с новыми условиями классового общПричины принятия христиан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Язычество не выражал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осударственного един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осподство княжеской власти и феодальной верхуш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деи примирения с существующим порядк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тва и государства и не была способна освящать и укреплять существующий общественный порядок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нятие христианства  в 988 год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ыбо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лизкое Руси социально-политическое устройство Визант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пространение христианства на Руси до князя Владими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1BDFE-627F-4B1F-AC5F-5B4123E28B8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935C0-EC89-41F4-8FB2-A5A50FAA7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D5895-ECEB-48F5-9101-66156F0C8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4A136-275E-425E-85E2-24FD0AEE4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21C95-CFA5-4C65-8876-DBE3F097E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FCBC0-B473-4857-B8E5-1F8906FCE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C461F-3EDF-4AAC-A1EA-29C2E576D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74F18-EE8D-4616-810A-9BB1FE545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50FF0-0AE5-44A5-98F9-37245FC03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628FF-C0A1-49B8-8E83-0702B68EE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9B00C-6F6E-4E00-AF13-CCBE905B7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D5EF3-3A25-4358-866B-4B256F9E2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FD54E-C03B-40BB-9E55-6CE16B8A6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33A18-7CC5-4F08-8D05-480A063EE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F7A26-43FD-47CB-BE13-F2199D81E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FE91D-6DC5-4640-B96E-7F6A62A10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BF9A9-E187-4B62-861F-B3883CE2B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67574-2A5E-4998-8758-8E9D04101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4F563-A651-4480-8233-C70669AB2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0A26D-BAEA-4F76-8718-3CCD94E29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E8E0B-1A17-496C-814D-9B9097ED2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BBD3C-DDEA-48EA-B550-C400727FD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BD76D-84CD-4A49-991C-F2CA4E5B1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3E8AD-75BF-41D8-9E68-337039982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32958-9FA0-4000-851C-A359F582E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A268E-F33F-4F13-A198-D2D7DFEFEB2A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36ECE-BBB7-4042-8C9E-42B9EC1EAD84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133360" y="837720"/>
            <a:ext cx="6629400" cy="22100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330033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dca048"/>
                </a:solidFill>
                <a:latin typeface="Times New Roman"/>
              </a:rPr>
              <a:t>Принятие Христианства на Руси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4190760" y="3504960"/>
            <a:ext cx="4343400" cy="24382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330033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81b7d"/>
                </a:solidFill>
                <a:latin typeface="Arial"/>
              </a:rPr>
              <a:t>Открытый ур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81b7d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581b7d"/>
                </a:solidFill>
                <a:latin typeface="Arial"/>
              </a:rPr>
              <a:t>по истор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81b7d"/>
                </a:solidFill>
                <a:latin typeface="Arial"/>
              </a:rPr>
              <a:t>в 10 «А» класс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81b7d"/>
                </a:solidFill>
                <a:latin typeface="Arial"/>
              </a:rPr>
              <a:t>Учитель: Шаламова Т.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81b7d"/>
                </a:solidFill>
                <a:latin typeface="Arial"/>
              </a:rPr>
              <a:t>Ноябрь 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13306"/>
          <p:cNvPicPr/>
          <p:nvPr/>
        </p:nvPicPr>
        <p:blipFill>
          <a:blip r:embed="rId1"/>
          <a:stretch/>
        </p:blipFill>
        <p:spPr>
          <a:xfrm>
            <a:off x="528480" y="3048120"/>
            <a:ext cx="2913120" cy="3582720"/>
          </a:xfrm>
          <a:prstGeom prst="rect">
            <a:avLst/>
          </a:prstGeom>
          <a:ln w="0">
            <a:noFill/>
          </a:ln>
        </p:spPr>
      </p:pic>
      <p:sp>
        <p:nvSpPr>
          <p:cNvPr id="107" name="Місце для нижнього колонтитула 1"/>
          <p:cNvSpPr/>
          <p:nvPr/>
        </p:nvSpPr>
        <p:spPr>
          <a:xfrm>
            <a:off x="33544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4" descr="13306"/>
          <p:cNvPicPr/>
          <p:nvPr/>
        </p:nvPicPr>
        <p:blipFill>
          <a:blip r:embed="rId1"/>
          <a:stretch/>
        </p:blipFill>
        <p:spPr>
          <a:xfrm>
            <a:off x="1752480" y="0"/>
            <a:ext cx="557532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0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5" descr="15535739_vasnecov_12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9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0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2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Принятие христианства  в 988 году.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олитическая обстанов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орьба Руси с Византи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зависимость Руси от Визант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0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3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7" dur="5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1" dur="500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4" descr="25014919_Kreschenie_kievlya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7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0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8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Значение принятия христианства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равящая верхуш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деология для укрепления господ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Церковь – новая политическая организа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деологически закрепило единство государ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0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9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" dur="5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7" dur="5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" dur="5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Значение</a:t>
            </a:r>
            <a:br>
              <a:rPr sz="3800"/>
            </a:b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 принятия христианства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Рус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исьменность, достижения культуры Византии и других христианских стра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ждународные связи, рост авторитета Рус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0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8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2" dur="20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9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6" dur="20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9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0" dur="20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4" descr="a_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7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4" descr="pokrova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676520" y="0"/>
            <a:ext cx="5460840" cy="6858000"/>
          </a:xfrm>
          <a:prstGeom prst="rect">
            <a:avLst/>
          </a:prstGeom>
          <a:ln w="0">
            <a:noFill/>
          </a:ln>
        </p:spPr>
      </p:pic>
      <p:sp>
        <p:nvSpPr>
          <p:cNvPr id="181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0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4" descr="st04_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5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0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4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5" descr="image001"/>
          <p:cNvPicPr/>
          <p:nvPr/>
        </p:nvPicPr>
        <p:blipFill>
          <a:blip r:embed="rId1"/>
          <a:stretch/>
        </p:blipFill>
        <p:spPr>
          <a:xfrm>
            <a:off x="0" y="-133200"/>
            <a:ext cx="9144000" cy="6991200"/>
          </a:xfrm>
          <a:prstGeom prst="rect">
            <a:avLst/>
          </a:prstGeom>
          <a:ln w="0">
            <a:noFill/>
          </a:ln>
        </p:spPr>
      </p:pic>
      <p:sp>
        <p:nvSpPr>
          <p:cNvPr id="189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0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1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4" descr="big[1]"/>
          <p:cNvPicPr/>
          <p:nvPr/>
        </p:nvPicPr>
        <p:blipFill>
          <a:blip r:embed="rId1"/>
          <a:srcRect l="0" t="8004" r="0" b="10004"/>
          <a:stretch/>
        </p:blipFill>
        <p:spPr>
          <a:xfrm>
            <a:off x="1676520" y="0"/>
            <a:ext cx="5472000" cy="6934320"/>
          </a:xfrm>
          <a:prstGeom prst="rect">
            <a:avLst/>
          </a:prstGeom>
          <a:ln w="0">
            <a:noFill/>
          </a:ln>
        </p:spPr>
      </p:pic>
      <p:sp>
        <p:nvSpPr>
          <p:cNvPr id="111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Домашнее задание.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§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6 стр57-6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Вопросы 1-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оня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100d04"/>
                </a:solidFill>
                <a:latin typeface="Times New Roman"/>
              </a:rPr>
              <a:t>Опрос домашнего задания.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ctr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айте определения словам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ан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людь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гост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ро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Вопросы для повторения.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 какой исторической личностью связаны эти поняти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чему княгиня Ольга обратилась в христианство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характеризуйте политику Святосла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ая обстановка сложилась на Руси после гибели Святослав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Князь Владимир Святославович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4" descr="Image205_6720"/>
          <p:cNvPicPr/>
          <p:nvPr/>
        </p:nvPicPr>
        <p:blipFill>
          <a:blip r:embed="rId1"/>
          <a:srcRect l="0" t="4674" r="7792" b="4828"/>
          <a:stretch/>
        </p:blipFill>
        <p:spPr>
          <a:xfrm>
            <a:off x="1752480" y="1143000"/>
            <a:ext cx="5410440" cy="5715000"/>
          </a:xfrm>
          <a:prstGeom prst="rect">
            <a:avLst/>
          </a:prstGeom>
          <a:ln w="0">
            <a:noFill/>
          </a:ln>
        </p:spPr>
      </p:pic>
      <p:sp>
        <p:nvSpPr>
          <p:cNvPr id="121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Личность Владимира.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pSp>
        <p:nvGrpSpPr>
          <p:cNvPr id="123" name="Organization Chart 5"/>
          <p:cNvGrpSpPr/>
          <p:nvPr/>
        </p:nvGrpSpPr>
        <p:grpSpPr>
          <a:xfrm>
            <a:off x="532440" y="1219320"/>
            <a:ext cx="8547120" cy="5319000"/>
            <a:chOff x="532440" y="1219320"/>
            <a:chExt cx="8547120" cy="5319000"/>
          </a:xfrm>
        </p:grpSpPr>
        <p:cxnSp>
          <p:nvCxnSpPr>
            <p:cNvPr id="124" name="_s1028"/>
            <p:cNvCxnSpPr>
              <a:endCxn id="125" idx="2"/>
            </p:cNvCxnSpPr>
            <p:nvPr/>
          </p:nvCxnSpPr>
          <p:spPr>
            <a:xfrm flipV="1" rot="16200000">
              <a:off x="3247560" y="2674800"/>
              <a:ext cx="4177440" cy="3549600"/>
            </a:xfrm>
            <a:prstGeom prst="bentConnector3">
              <a:avLst>
                <a:gd name="adj1" fmla="val 317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6" name="_s1029"/>
            <p:cNvCxnSpPr>
              <a:stCxn id="127" idx="0"/>
              <a:endCxn id="128" idx="2"/>
            </p:cNvCxnSpPr>
            <p:nvPr/>
          </p:nvCxnSpPr>
          <p:spPr>
            <a:xfrm flipH="1" flipV="1" rot="5400000">
              <a:off x="6629400" y="1238040"/>
              <a:ext cx="157320" cy="2241000"/>
            </a:xfrm>
            <a:prstGeom prst="bentConnector3">
              <a:avLst>
                <a:gd name="adj1" fmla="val 5045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9" name="_s1030"/>
            <p:cNvCxnSpPr>
              <a:stCxn id="128" idx="3"/>
              <a:endCxn id="125" idx="2"/>
            </p:cNvCxnSpPr>
            <p:nvPr/>
          </p:nvCxnSpPr>
          <p:spPr>
            <a:xfrm flipH="1">
              <a:off x="3561480" y="1751040"/>
              <a:ext cx="5404320" cy="610920"/>
            </a:xfrm>
            <a:prstGeom prst="bentConnector4">
              <a:avLst>
                <a:gd name="adj1" fmla="val -2111"/>
                <a:gd name="adj2" fmla="val 1373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0" name="_s1031"/>
            <p:cNvCxnSpPr>
              <a:stCxn id="131" idx="3"/>
              <a:endCxn id="125" idx="2"/>
            </p:cNvCxnSpPr>
            <p:nvPr/>
          </p:nvCxnSpPr>
          <p:spPr>
            <a:xfrm flipV="1">
              <a:off x="3274920" y="2360880"/>
              <a:ext cx="286920" cy="35802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2" name="_s1032"/>
            <p:cNvCxnSpPr>
              <a:stCxn id="133" idx="3"/>
              <a:endCxn id="125" idx="2"/>
            </p:cNvCxnSpPr>
            <p:nvPr/>
          </p:nvCxnSpPr>
          <p:spPr>
            <a:xfrm flipV="1">
              <a:off x="3200040" y="2361240"/>
              <a:ext cx="361800" cy="23652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4" name="_s1033"/>
            <p:cNvCxnSpPr/>
            <p:nvPr/>
          </p:nvCxnSpPr>
          <p:spPr>
            <a:xfrm flipV="1">
              <a:off x="2964240" y="3693600"/>
              <a:ext cx="845640" cy="26640"/>
            </a:xfrm>
            <a:prstGeom prst="bentConnector3">
              <a:avLst>
                <a:gd name="adj1" fmla="val 1499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5" name="_s1034"/>
            <p:cNvCxnSpPr>
              <a:stCxn id="136" idx="3"/>
              <a:endCxn id="125" idx="2"/>
            </p:cNvCxnSpPr>
            <p:nvPr/>
          </p:nvCxnSpPr>
          <p:spPr>
            <a:xfrm flipV="1">
              <a:off x="3200040" y="2361240"/>
              <a:ext cx="361800" cy="5349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25" name="_s1035"/>
            <p:cNvSpPr/>
            <p:nvPr/>
          </p:nvSpPr>
          <p:spPr>
            <a:xfrm>
              <a:off x="1828440" y="1294920"/>
              <a:ext cx="3459600" cy="1066680"/>
            </a:xfrm>
            <a:prstGeom prst="roundRect">
              <a:avLst>
                <a:gd name="adj" fmla="val 16667"/>
              </a:avLst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100d04"/>
                  </a:solidFill>
                  <a:latin typeface="Tahoma"/>
                </a:rPr>
                <a:t>Владимир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100d04"/>
                  </a:solidFill>
                  <a:latin typeface="Tahoma"/>
                </a:rPr>
                <a:t>(Великий князь Руси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100d04"/>
                  </a:solidFill>
                  <a:latin typeface="Tahoma"/>
                </a:rPr>
                <a:t>980-101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_s1036"/>
            <p:cNvSpPr/>
            <p:nvPr/>
          </p:nvSpPr>
          <p:spPr>
            <a:xfrm>
              <a:off x="608760" y="2515320"/>
              <a:ext cx="2591640" cy="761400"/>
            </a:xfrm>
            <a:prstGeom prst="roundRect">
              <a:avLst>
                <a:gd name="adj" fmla="val 16667"/>
              </a:avLst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0033"/>
                  </a:solidFill>
                  <a:latin typeface="Tahoma"/>
                </a:rPr>
                <a:t>985 год Болгария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_s1037"/>
            <p:cNvSpPr/>
            <p:nvPr/>
          </p:nvSpPr>
          <p:spPr>
            <a:xfrm>
              <a:off x="608760" y="3351960"/>
              <a:ext cx="2591640" cy="750960"/>
            </a:xfrm>
            <a:prstGeom prst="roundRect">
              <a:avLst>
                <a:gd name="adj" fmla="val 16667"/>
              </a:avLst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900" spc="-1" strike="noStrike">
                  <a:solidFill>
                    <a:srgbClr val="100d04"/>
                  </a:solidFill>
                  <a:latin typeface="Tahoma"/>
                </a:rPr>
                <a:t>988 год Корсунь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_s1038"/>
            <p:cNvSpPr/>
            <p:nvPr/>
          </p:nvSpPr>
          <p:spPr>
            <a:xfrm>
              <a:off x="608760" y="4267440"/>
              <a:ext cx="2591640" cy="912960"/>
            </a:xfrm>
            <a:prstGeom prst="roundRect">
              <a:avLst>
                <a:gd name="adj" fmla="val 16667"/>
              </a:avLst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330033"/>
                  </a:solidFill>
                  <a:latin typeface="Tahoma"/>
                </a:rPr>
                <a:t>Пять жен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330033"/>
                  </a:solidFill>
                  <a:latin typeface="Tahoma"/>
                </a:rPr>
                <a:t>800 наложниц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_s1039"/>
            <p:cNvSpPr/>
            <p:nvPr/>
          </p:nvSpPr>
          <p:spPr>
            <a:xfrm>
              <a:off x="532440" y="5409720"/>
              <a:ext cx="2742840" cy="1065960"/>
            </a:xfrm>
            <a:prstGeom prst="roundRect">
              <a:avLst>
                <a:gd name="adj" fmla="val 16667"/>
              </a:avLst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100d04"/>
                  </a:solidFill>
                  <a:latin typeface="Tahoma"/>
                </a:rPr>
                <a:t>980 год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100d04"/>
                  </a:solidFill>
                  <a:latin typeface="Tahoma"/>
                </a:rPr>
                <a:t> </a:t>
              </a:r>
              <a:r>
                <a:rPr b="1" lang="en-US" sz="1900" spc="-1" strike="noStrike">
                  <a:solidFill>
                    <a:srgbClr val="100d04"/>
                  </a:solidFill>
                  <a:latin typeface="Tahoma"/>
                </a:rPr>
                <a:t>Языческая реформа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100d04"/>
                  </a:solidFill>
                  <a:latin typeface="Tahoma"/>
                </a:rPr>
                <a:t>Перун и др.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_s1040"/>
            <p:cNvSpPr/>
            <p:nvPr/>
          </p:nvSpPr>
          <p:spPr>
            <a:xfrm>
              <a:off x="6684840" y="1219320"/>
              <a:ext cx="2280600" cy="1061280"/>
            </a:xfrm>
            <a:prstGeom prst="roundRect">
              <a:avLst>
                <a:gd name="adj" fmla="val 16667"/>
              </a:avLst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100d04"/>
                  </a:solidFill>
                  <a:latin typeface="Tahoma"/>
                </a:rPr>
                <a:t>Ярополк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100d04"/>
                  </a:solidFill>
                  <a:latin typeface="Tahoma"/>
                </a:rPr>
                <a:t>(Великий князь)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100d04"/>
                  </a:solidFill>
                  <a:latin typeface="Tahoma"/>
                </a:rPr>
                <a:t>972-980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_s1041"/>
            <p:cNvSpPr/>
            <p:nvPr/>
          </p:nvSpPr>
          <p:spPr>
            <a:xfrm>
              <a:off x="4571280" y="2437200"/>
              <a:ext cx="2025720" cy="747720"/>
            </a:xfrm>
            <a:prstGeom prst="roundRect">
              <a:avLst>
                <a:gd name="adj" fmla="val 16667"/>
              </a:avLst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100d04"/>
                  </a:solidFill>
                  <a:latin typeface="Tahoma"/>
                </a:rPr>
                <a:t>Убийство брата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_s1042"/>
            <p:cNvSpPr/>
            <p:nvPr/>
          </p:nvSpPr>
          <p:spPr>
            <a:xfrm>
              <a:off x="4399920" y="3782520"/>
              <a:ext cx="3459600" cy="2648880"/>
            </a:xfrm>
            <a:prstGeom prst="roundRect">
              <a:avLst>
                <a:gd name="adj" fmla="val 16667"/>
              </a:avLst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100d04"/>
                  </a:solidFill>
                  <a:latin typeface="Tahoma"/>
                </a:rPr>
                <a:t>988 год. Мир с Польшей.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100d04"/>
                  </a:solidFill>
                  <a:latin typeface="Tahoma"/>
                </a:rPr>
                <a:t>988 год. Женитьба на Анне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100d04"/>
                  </a:solidFill>
                  <a:latin typeface="Tahoma"/>
                </a:rPr>
                <a:t>988 год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100d04"/>
                  </a:solidFill>
                  <a:latin typeface="Tahoma"/>
                </a:rPr>
                <a:t>Крещение Руси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900" spc="-1" strike="noStrike">
                  <a:solidFill>
                    <a:srgbClr val="100d04"/>
                  </a:solidFill>
                  <a:latin typeface="Tahoma"/>
                </a:rPr>
                <a:t>Новгород огнем и мечем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Line 22"/>
          <p:cNvSpPr/>
          <p:nvPr/>
        </p:nvSpPr>
        <p:spPr>
          <a:xfrm flipV="1">
            <a:off x="5562720" y="1676520"/>
            <a:ext cx="10666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23"/>
          <p:cNvSpPr/>
          <p:nvPr/>
        </p:nvSpPr>
        <p:spPr>
          <a:xfrm>
            <a:off x="5257800" y="1600200"/>
            <a:ext cx="30492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0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7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Причины принятия </a:t>
            </a:r>
            <a:br>
              <a:rPr sz="3800"/>
            </a:b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христианства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Невозможность реформирования старой религ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антеон языческих богов (980) не приводил к единству культа, разъединял части стра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0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4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" dur="20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2" dur="20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Причины принятия христианства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Язычество не выражало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осударственного един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осподство княжеской власти и феодальной верхуш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деи примирения с существующим порядк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9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3" dur="20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20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20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9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20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20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9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20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20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Принятие христианства  в 988 году.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ыбо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29480" indent="-429480">
              <a:lnSpc>
                <a:spcPct val="12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лизкое Руси социально-политическое устройство Визант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9480" indent="-429480">
              <a:lnSpc>
                <a:spcPct val="12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спространение христианства на Руси до князя Владими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0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5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4" dur="2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8" dur="20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5-01-15T12:34:40Z</dcterms:modified>
  <cp:revision>1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