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8B30-FB21-43E1-9ACA-9795811CB7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"Вост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славян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древност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C0A4-F64C-49FF-9067-5C9B77FA6691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4.Происхождение Ру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5CEB-F275-4CAC-8EE8-8AE35F5BF82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2.Расселение славянских пле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3.Язычество древни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4.Происхождение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882E-4647-4CBB-BD49-D47FED1E632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Задание на у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пытайтесь выяснить, чем славяне отличались от других народов Евро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D01A-A45D-475B-B35B-DF1D109D7C9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34F6-EB6B-4ABB-A28C-9D6BA712AE3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пределите, как на-зывались племена восточных славян, и где они ж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A25-F81A-46DD-B643-7B91605871D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Большинство славян жили в лесах, но поляне обитали в лесостепной пол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Опишите их быт? Чем они занима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9A9B-5FB4-4181-AA97-40EE89BA67A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Язычество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это не религия, а мировоззрение.Славя-не пытались объяснить то ,что видели вокр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Почему появилась вера в бог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BA48-B443-47F6-9B6B-60FD64E98C1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823D-CEAF-47EF-B2B8-211CFDB88DA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аряду с богами славяне верили в «низших дух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Те в свою очередь делились на полезных и опасных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Определите, кто изображен на слайдах и к какой группе духов относятся эти су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-Домовой,леший,водяной,волкол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Каких еще славянских духов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CB59-4C42-4177-A480-304F1155483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E4A6-7A54-4B26-B6CA-A2EEB11E2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296F-79FF-4523-B217-ADBA9C719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D0A9-930D-4803-AEF6-E9B42272D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E03F-22D2-48C4-8A40-9B7E46E73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9341F-CEC8-49D2-AB7C-5FD639BB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6309A-77BA-4ED7-89E0-B041681F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82B74-F55B-4FC0-8BC0-0ED8D766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E777B-C149-450B-94CA-30508C31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41CED-38B7-4990-8DED-16E9F636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9D032-3299-4453-9F33-FD3F8C29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3A022-E66A-44AF-A782-4DCF66AC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1BBA-0F98-4D34-8E77-09DF8C725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D2675-59E6-4102-B95A-64DAD6DD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46BCD-5A1E-4E1B-BB0A-F164FC2F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1F889-F565-4589-83FF-F91D3C6D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D98E6-C44D-4A16-AC4A-E12EC6E8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B30C4-78AF-4897-9673-A7A03C5B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3720-4BD2-4DC9-97AD-2FA6E21F4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D52E-EF83-4F6E-B9B1-0833F2E54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C67F-E92A-4422-94C5-EA2440108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BB16-5CDD-4847-91D8-DEFE281A7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47E9-F26C-4A70-BF23-90C1F3143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D0AD-A440-466C-8303-17B430396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C9E1-16FF-4A6D-AA0E-B7EA84466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6C10-649F-414F-9AD4-5FD774011F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403-6DA0-4067-9BFC-53CEE8DDF4AB}" type="datetime">
              <a:rPr b="0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FFC4-AEC2-4C69-9E4F-EAD4B76DF594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85FB-E693-410E-A002-9E3059B3E2D5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30.07.26</a:t>
            </a:fld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4" name="WordArt 6" descr="Дуб"/>
          <p:cNvPicPr/>
          <p:nvPr/>
        </p:nvPicPr>
        <p:blipFill>
          <a:blip r:embed="rId1"/>
          <a:stretch/>
        </p:blipFill>
        <p:spPr>
          <a:xfrm>
            <a:off x="1579680" y="2724120"/>
            <a:ext cx="6973920" cy="392580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7" descr=""/>
          <p:cNvPicPr/>
          <p:nvPr/>
        </p:nvPicPr>
        <p:blipFill>
          <a:blip r:embed="rId2"/>
          <a:stretch/>
        </p:blipFill>
        <p:spPr>
          <a:xfrm>
            <a:off x="2193840" y="712800"/>
            <a:ext cx="5962680" cy="10191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7631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.Происхождение Рус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2361960"/>
            <a:ext cx="7240320" cy="380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.Происхождение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.Расселение славянских племе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.Язычество древних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.Происхождение Рус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2362320"/>
            <a:ext cx="724032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пытайтесь выяснить, чем славяне отличались от других народов Европы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6" descr="Рисунок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Происхождение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7880" y="4130640"/>
            <a:ext cx="5671800" cy="82548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Определите по карте прародину славя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 родственные им народы?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88360" y="838080"/>
            <a:ext cx="104328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л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7240" y="1557360"/>
            <a:ext cx="1572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германц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8520" y="879480"/>
            <a:ext cx="1878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андинав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58040" y="1523880"/>
            <a:ext cx="12110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кель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1120" y="3048120"/>
            <a:ext cx="9716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с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37200" y="2743200"/>
            <a:ext cx="13543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тали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97200" y="2209680"/>
            <a:ext cx="11149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иф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128120" y="1523880"/>
            <a:ext cx="127944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лавян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071480" y="3789360"/>
            <a:ext cx="1674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ндо-ари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267600" y="2860560"/>
            <a:ext cx="10342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перс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24280" y="838080"/>
            <a:ext cx="4267440" cy="5943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Определите, как на-зывались племена восточных славян, и где они жили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9" name="Picture 8" descr="Рисунок8"/>
          <p:cNvPicPr/>
          <p:nvPr/>
        </p:nvPicPr>
        <p:blipFill>
          <a:blip r:embed="rId1"/>
          <a:stretch/>
        </p:blipFill>
        <p:spPr>
          <a:xfrm>
            <a:off x="46080" y="836640"/>
            <a:ext cx="4670280" cy="5977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320" y="5105160"/>
            <a:ext cx="8991360" cy="1600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ольшинство славян жили в лесах, но поляне обитали в лесостепной полос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-Опишите их быт? Чем они занимались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3" name="Picture 8" descr="Рисунок7"/>
          <p:cNvPicPr/>
          <p:nvPr/>
        </p:nvPicPr>
        <p:blipFill>
          <a:blip r:embed="rId1"/>
          <a:stretch/>
        </p:blipFill>
        <p:spPr>
          <a:xfrm>
            <a:off x="1906560" y="73980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9" descr="Рисунок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0600" y="873000"/>
            <a:ext cx="4451400" cy="5220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1640" y="609120"/>
            <a:ext cx="44197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зычество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это не религия, а мировоззрение.Славя-не пытались объяснить то ,что видели вокру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-Почему появилась вера в богов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980720" y="981000"/>
            <a:ext cx="98856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еру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320280" y="6051600"/>
            <a:ext cx="128700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мокошь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3962520" y="5552640"/>
            <a:ext cx="304560" cy="38124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955600" y="5692680"/>
            <a:ext cx="92304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велес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24200" y="5235480"/>
            <a:ext cx="125352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триб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241800" y="2492280"/>
            <a:ext cx="10936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вар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4648320"/>
            <a:ext cx="8991360" cy="2133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7" name="Picture 5" descr="Рисунок5"/>
          <p:cNvPicPr/>
          <p:nvPr/>
        </p:nvPicPr>
        <p:blipFill>
          <a:blip r:embed="rId1"/>
          <a:stretch/>
        </p:blipFill>
        <p:spPr>
          <a:xfrm>
            <a:off x="1763640" y="692280"/>
            <a:ext cx="583272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4191120"/>
            <a:ext cx="8991360" cy="2590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ряду с богами славяне верили в «низших духов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 в свою очередь делились на полезных и опасных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Определите, кто изображен на слайдах и к какой группе духов относятся эти существа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Домовой,леший,водяной,волкола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Каких еще славянских духов вы знаете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1" name="Picture 9" descr="Рисунок4"/>
          <p:cNvPicPr/>
          <p:nvPr/>
        </p:nvPicPr>
        <p:blipFill>
          <a:blip r:embed="rId1"/>
          <a:stretch/>
        </p:blipFill>
        <p:spPr>
          <a:xfrm>
            <a:off x="179280" y="812880"/>
            <a:ext cx="1778040" cy="333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3"/>
          <p:cNvPicPr/>
          <p:nvPr/>
        </p:nvPicPr>
        <p:blipFill>
          <a:blip r:embed="rId2"/>
          <a:stretch/>
        </p:blipFill>
        <p:spPr>
          <a:xfrm>
            <a:off x="2001960" y="812880"/>
            <a:ext cx="2187360" cy="331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Рисунок2"/>
          <p:cNvPicPr/>
          <p:nvPr/>
        </p:nvPicPr>
        <p:blipFill>
          <a:blip r:embed="rId3"/>
          <a:stretch/>
        </p:blipFill>
        <p:spPr>
          <a:xfrm>
            <a:off x="4233960" y="812880"/>
            <a:ext cx="2176200" cy="331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Рисунок1"/>
          <p:cNvPicPr/>
          <p:nvPr/>
        </p:nvPicPr>
        <p:blipFill>
          <a:blip r:embed="rId4"/>
          <a:stretch/>
        </p:blipFill>
        <p:spPr>
          <a:xfrm>
            <a:off x="6454800" y="812880"/>
            <a:ext cx="2509920" cy="33177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5:06Z</dcterms:modified>
  <cp:revision>18</cp:revision>
  <dc:subject/>
  <dc:title>Заголовок слайда отсутствует</dc:title>
</cp:coreProperties>
</file>