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A9D9-62B3-4F60-92EF-68D2FF348C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"Вост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славян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древност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55DD-98F1-4C9F-A084-3823D21D71BC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4.Происхождение Рус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Times New Roman"/>
              </a:rPr>
              <a:t>Название Русь объясняется 2-я вариан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1.По названию варяжского племе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2.По названию р.Рось(на Украин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Times New Roman"/>
              </a:rPr>
              <a:t>Прочитайте отрывок из ПВЛ относящийся к 7 веку и сделайте вывод,какой вариант кажется вам верным,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Times New Roman"/>
              </a:rPr>
              <a:t>«Повесть временных лет» рассказы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Напали на полян хазары... И сказали хазары: «Плати-те нам дань». Посоветовались поляне и дали от двора меч... И сказали старцы хазарские: «Не добрая это дань. Мы добыли ее саблями, заостренными с одной стороны, а у этих оружие обоюдоострое; будут они (русы) потом брать дань с нас самих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7E13-7F51-4D16-8A34-079A51A1A2E9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Calibri"/>
              </a:rPr>
              <a:t>План ур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1.Происхождение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2.Расселение славянских плем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3.Язычество древни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4.Происхождение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EC83-DDB2-4B3B-9707-8C981D48890A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Задание на уро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пытайтесь выяснить, чем славяне отличались от других народов Евро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C412-D279-405A-A241-D32263F6EC37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1.Происхождение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1500-9EF5-4F89-A7E5-7E4D87DBC380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2.Расселение славянских племе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Восточные славяне заселив Восточно- Европейскую рав-нину, постепенно обособились друг от друга, и раздели-лись на пле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пределите, как на-зывались племена восточных славян, и где они ж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06B0-7AB7-479A-8986-416E1A97D68F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2.Расселение славянских племе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Большинство славян жили в лесах, но поляне обитали в лесостепной пол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-Опишите их быт? Чем они занима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5937-C5F7-4249-AAA2-0D4136241006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Язычество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это не религия, а мировоззрение.Славя-не пытались объяснить то ,что видели вокр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-Почему появилась вера в бог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Рассмотрите слайд и по-пытайтесь определить, какие боги были у сла-вян и чему они покрови-тельствова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Перун-верховный бог,Сва-рог-бог огня, Стрибог-бог ветра,Велес бог ско-товодства,Мокошь-боги-ня т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5467-B884-4DF3-85D5-9721A5BFF4B2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Для поклонения богам славяне строили Капища.По его границе водружались Идолы(деревянные изображе-ния бог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В капищах славяне приносили жертвы,совершали об-ряды, просили богов о милости и покровительстве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55DD-6E83-460B-854F-67F48FC72C17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Наряду с богами славяне верили в «низших дух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Те в свою очередь делились на полезных и опасных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Определите, кто изображен на слайдах и к какой группе духов относятся эти су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-Домовой,леший,водяной,волкол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Каких еще славянских духов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2155-130D-4637-BDD0-F1B3F0030526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B074-5FF5-4312-8002-E5D327A0F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E663F-1D6C-4018-B6B0-2DC134659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97861-5026-4D68-9902-7B3B9EFE8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4E6D3-8054-4CF2-8616-BEFE35AC2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B84B2-69CB-470B-A05E-184E8BFE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E3EC4-2CF0-460F-844D-320D958B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1CC82-E1CF-462C-BF5E-B9319E7A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58FDC-2E11-401D-BBD5-87B92ED3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57027-212C-486A-87EE-9FF4B0B8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DC0A2-AFD2-4353-A48D-EB444E20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41C25-E370-478D-A30A-C1A85DD4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3820-05BE-44F7-8A49-8CC44F504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9DB0C-3485-46DF-86D6-13D94545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40DBD-605D-4873-9FED-43A193EF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66255-9455-4962-AB27-389622F9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BB165-52F8-4577-9003-EDC2AD74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8C719-C1E6-4852-944C-1189E6F2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75D97-A105-4E0D-861C-B546B3599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DC7A-03B7-4186-9048-C1C331FDD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E7B74-8A57-41F2-A918-890CE2E8D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2B48-C9D5-44AD-B93D-8251A8F08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EAFB-BCCC-468D-87D3-D3DEF0603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2946-8E76-451F-8764-A4B9949D8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5913-EFD2-47AC-A168-AA5C1425E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A6B8-007C-4A57-93D5-87F18A8AA7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lnTo>
                  <a:pt x="1129" y="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2730" y="4317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E5E2-6841-417C-9E35-3E82FF931774}" type="datetime">
              <a:rPr b="0" lang="ru-RU" sz="3200" spc="-1" strike="noStrike">
                <a:solidFill>
                  <a:srgbClr val="336699"/>
                </a:solidFill>
                <a:latin typeface="Arial"/>
              </a:rPr>
              <a:t>29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CD85-BFCA-4E76-9261-9308D5E08E19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BB44-1B80-4323-9729-88D4BB290FAC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29.07.26</a:t>
            </a:fld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4" name="WordArt 6" descr="Дуб"/>
          <p:cNvPicPr/>
          <p:nvPr/>
        </p:nvPicPr>
        <p:blipFill>
          <a:blip r:embed="rId1"/>
          <a:stretch/>
        </p:blipFill>
        <p:spPr>
          <a:xfrm>
            <a:off x="1579680" y="2724120"/>
            <a:ext cx="6973920" cy="3925800"/>
          </a:xfrm>
          <a:prstGeom prst="rect">
            <a:avLst/>
          </a:prstGeom>
          <a:ln w="0">
            <a:noFill/>
          </a:ln>
        </p:spPr>
      </p:pic>
      <p:pic>
        <p:nvPicPr>
          <p:cNvPr id="105" name="WordArt 7" descr=""/>
          <p:cNvPicPr/>
          <p:nvPr/>
        </p:nvPicPr>
        <p:blipFill>
          <a:blip r:embed="rId2"/>
          <a:stretch/>
        </p:blipFill>
        <p:spPr>
          <a:xfrm>
            <a:off x="2193840" y="712800"/>
            <a:ext cx="5962680" cy="10191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8763120" cy="6172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звание Русь объясняется 2-я вариантами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1.По названию варяжского племени,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2.По названию р.Рось(на Украине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читайте отрывок из ПВЛ относящийся к 7 веку и сделайте вывод,какой вариант кажется вам верным, почему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«Повесть временных лет» рассказывает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пали на полян хазары... И сказали хазары: «Плати-те нам дань». Посоветовались поляне и дали от двора меч... И сказали старцы хазарские: «Не добрая это дань. Мы добыли ее саблями, заостренными с одной стороны, а у этих оружие обоюдоострое; будут они (русы) потом брать дань с нас самих!»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4.Происхождение Руси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2361960"/>
            <a:ext cx="7240320" cy="3809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.Происхождение славя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2.Расселение славянских племе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3.Язычество древних славя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4.Происхождение Рус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76520" y="2362320"/>
            <a:ext cx="724032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опытайтесь выяснить, чем славяне отличались от других народов Европы?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6" descr="Рисунок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1.Происхождение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7880" y="4130640"/>
            <a:ext cx="5671800" cy="82548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Определите по карте прародину славян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 родственные им народы?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88360" y="838080"/>
            <a:ext cx="1043280" cy="4597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балт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487240" y="1557360"/>
            <a:ext cx="1572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германц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08520" y="879480"/>
            <a:ext cx="1878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скандинав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58040" y="1523880"/>
            <a:ext cx="12110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кельт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21120" y="3048120"/>
            <a:ext cx="9716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баск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537200" y="2743200"/>
            <a:ext cx="13543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талик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97200" y="2209680"/>
            <a:ext cx="11149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скиф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128120" y="1523880"/>
            <a:ext cx="127944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лавяне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071480" y="3789360"/>
            <a:ext cx="167436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ндо-ари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267600" y="2860560"/>
            <a:ext cx="10342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перс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724280" y="838080"/>
            <a:ext cx="4267440" cy="5943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осточные славяне заселив Восточно- Европейскую рав-нину, постепенно обособились друг от друга, и раздели-лись на племен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Определите, как на-зывались племена восточных славян, и где они жили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2.Расселение славянских племе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9" name="Picture 8" descr="Рисунок8"/>
          <p:cNvPicPr/>
          <p:nvPr/>
        </p:nvPicPr>
        <p:blipFill>
          <a:blip r:embed="rId1"/>
          <a:stretch/>
        </p:blipFill>
        <p:spPr>
          <a:xfrm>
            <a:off x="46080" y="836640"/>
            <a:ext cx="4670280" cy="5977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320" y="5105160"/>
            <a:ext cx="8991360" cy="1600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ольшинство славян жили в лесах, но поляне обитали в лесостепной полос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-Опишите их быт? Чем они занимались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2.Расселение славянских племе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3" name="Picture 8" descr="Рисунок7"/>
          <p:cNvPicPr/>
          <p:nvPr/>
        </p:nvPicPr>
        <p:blipFill>
          <a:blip r:embed="rId1"/>
          <a:stretch/>
        </p:blipFill>
        <p:spPr>
          <a:xfrm>
            <a:off x="1906560" y="739800"/>
            <a:ext cx="5761080" cy="43196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9" descr="Рисунок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0600" y="873000"/>
            <a:ext cx="4451400" cy="5220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1640" y="609120"/>
            <a:ext cx="4419720" cy="6172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зычество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это не религия, а мировоззрение.Славя-не пытались объяснить то ,что видели вокруг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-Почему появилась вера в богов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ссмотрите слайд и по-пытайтесь определить, какие боги были у сла-вян и чему они покрови-тельствовали?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ерун-верховный бог,Сва-рог-бог огня, Стрибог-бог ветра,Велес бог ско-товодства,Мокошь-боги-ня ткачеств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980720" y="981000"/>
            <a:ext cx="98856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перун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320280" y="6051600"/>
            <a:ext cx="128700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мокошь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V="1">
            <a:off x="3962520" y="5552640"/>
            <a:ext cx="304560" cy="381240"/>
          </a:xfrm>
          <a:prstGeom prst="line">
            <a:avLst/>
          </a:prstGeom>
          <a:ln cap="sq" w="7632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955600" y="5692680"/>
            <a:ext cx="92304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велес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024200" y="5235480"/>
            <a:ext cx="125352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трибог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3241800" y="2492280"/>
            <a:ext cx="109368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варог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20" y="4648320"/>
            <a:ext cx="8991360" cy="2133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ля поклонения богам славяне строили Капища.По его границе водружались Идолы(деревянные изображе-ния богов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 капищах славяне приносили жертвы,совершали об-ряды, просили богов о милости и покровительств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7" name="Picture 5" descr="Рисунок5"/>
          <p:cNvPicPr/>
          <p:nvPr/>
        </p:nvPicPr>
        <p:blipFill>
          <a:blip r:embed="rId1"/>
          <a:stretch/>
        </p:blipFill>
        <p:spPr>
          <a:xfrm>
            <a:off x="1763640" y="692280"/>
            <a:ext cx="5832720" cy="39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4191120"/>
            <a:ext cx="8991360" cy="2590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ряду с богами славяне верили в «низших духов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е в свою очередь делились на полезных и опасных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Определите, кто изображен на слайдах и к какой группе духов относятся эти существа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-Домовой,леший,водяной,волколак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Каких еще славянских духов вы знаете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1" name="Picture 9" descr="Рисунок4"/>
          <p:cNvPicPr/>
          <p:nvPr/>
        </p:nvPicPr>
        <p:blipFill>
          <a:blip r:embed="rId1"/>
          <a:stretch/>
        </p:blipFill>
        <p:spPr>
          <a:xfrm>
            <a:off x="179280" y="812880"/>
            <a:ext cx="1778040" cy="3336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3"/>
          <p:cNvPicPr/>
          <p:nvPr/>
        </p:nvPicPr>
        <p:blipFill>
          <a:blip r:embed="rId2"/>
          <a:stretch/>
        </p:blipFill>
        <p:spPr>
          <a:xfrm>
            <a:off x="2001960" y="812880"/>
            <a:ext cx="2187360" cy="3317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Рисунок2"/>
          <p:cNvPicPr/>
          <p:nvPr/>
        </p:nvPicPr>
        <p:blipFill>
          <a:blip r:embed="rId3"/>
          <a:stretch/>
        </p:blipFill>
        <p:spPr>
          <a:xfrm>
            <a:off x="4233960" y="812880"/>
            <a:ext cx="2176200" cy="3317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Рисунок1"/>
          <p:cNvPicPr/>
          <p:nvPr/>
        </p:nvPicPr>
        <p:blipFill>
          <a:blip r:embed="rId4"/>
          <a:stretch/>
        </p:blipFill>
        <p:spPr>
          <a:xfrm>
            <a:off x="6454800" y="812880"/>
            <a:ext cx="2509920" cy="33177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elior</dc:creator>
  <dc:description/>
  <dc:language>en-US</dc:language>
  <cp:lastModifiedBy>LEGION</cp:lastModifiedBy>
  <cp:lastPrinted>1997-01-19T19:09:28Z</cp:lastPrinted>
  <dcterms:modified xsi:type="dcterms:W3CDTF">2015-01-15T12:35:06Z</dcterms:modified>
  <cp:revision>18</cp:revision>
  <dc:subject/>
  <dc:title>Заголовок слайда отсутствует</dc:title>
</cp:coreProperties>
</file>