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170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0" y="8926200"/>
            <a:ext cx="300528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8"/>
          </p:nvPr>
        </p:nvSpPr>
        <p:spPr>
          <a:xfrm>
            <a:off x="3927240" y="8926200"/>
            <a:ext cx="3004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E1A-4428-444D-8DEF-F6E2391F7E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"Вост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славян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древност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4504-3AC7-482E-B7F1-DC1DB3B3C61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4.Происхождение Рус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3436-1A1F-47A3-9669-5F344FB394E6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Calibri"/>
              </a:rPr>
              <a:t>План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2.Расселение славянских пл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3.Язычество древних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4.Происхождение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403C-8ED3-412B-AA6A-2571F531DD37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00"/>
                </a:solidFill>
                <a:uFillTx/>
                <a:latin typeface="Calibri"/>
              </a:rPr>
              <a:t>Задание на уро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пытайтесь выяснить, чем славяне отличались от других народов Евро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236E-E8CC-4EB4-9D0E-1F1D5B26693C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1.Происхождение слав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FD79-22FA-4F8F-8A90-55B9845A76C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Определите, как на-зывались племена восточных славян, и где они жи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F9A1-15B9-477C-A86E-19B7BB88A379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Calibri"/>
              </a:rPr>
              <a:t>2.Расселение славянских племе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Большинство славян жили в лесах, но поляне обитали в лесостепной пол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Опишите их быт? Чем они занима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32B0-053C-4D72-B0C2-8C218625DB4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Язычество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это не религия, а мировоззрение.Славя-не пытались объяснить то ,что видели вокр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Calibri"/>
              </a:rPr>
              <a:t>-Почему появилась вера в бог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9CD-AF42-4B96-BC4C-33E273281C24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06C2-D77C-48E9-8004-02DA10D7CFBE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74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93720" y="4464000"/>
            <a:ext cx="5546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3.Язычество древних славя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аряду с богами славяне верили в «низших дух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Те в свою очередь делились на полезных и опасных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Определите, кто изображен на слайдах и к какой группе духов относятся эти суще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-Домовой,леший,водяной,волкол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-Каких еще славянских духов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927600" y="8926560"/>
            <a:ext cx="30049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CFC2-7229-43B3-825A-DF162809BA5A}" type="slidenum">
              <a:rPr b="1" lang="uk-UA" sz="1200" spc="-1" strike="noStrike" u="sng">
                <a:solidFill>
                  <a:srgbClr val="336699"/>
                </a:solidFill>
                <a:uFillTx/>
                <a:latin typeface="Times New Roman"/>
              </a:rPr>
              <a:t>&lt;number&gt;</a:t>
            </a:fld>
            <a:endParaRPr b="1" lang="en-US" sz="1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D346-4648-40A0-8FEF-DD812289C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5121-CD23-4A31-905B-10C94EF44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8371-5682-4387-A4C1-1F15CF0F0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0B522-E5B2-4E1F-9B67-D78A267B8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1A2AA-A925-46B5-A7C2-4730BAEB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06E5D-550A-4752-A3A3-3E38B0D7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39D18-E6C5-4D2C-AA55-906A8340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EFF86-ACE6-4561-AD7F-F6D673F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6440E-67F3-453D-B73A-C2EB699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17BB-174D-429E-93E1-68418F17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4A22C-3D8C-4551-9A24-E0C882D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20E3-5AF7-41D6-A58F-398CFEB6F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1D0AD-2525-4040-902D-A89002D7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31EE2-C6CC-4215-BB6E-220056C3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98CCB-6C41-48F3-B13B-C5BFBEF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3B39-276A-4D3A-817E-AB063101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CBCB-518A-498B-8489-B77D0858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279D-3439-41CB-B57F-C092528B7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DE7C-3B38-4FA1-94C9-A3F866D5E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0A9A-02C1-4BCA-A6FF-53B19825C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63F2-C1F3-4007-ADCB-96C5BE743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DA02-D0F8-461B-B350-2FC4B4653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A4DC-F456-4ED5-A2C7-9F9F4A375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A5C8-8D23-46BD-9537-BBB30D61F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7D76-ED20-4E95-86CD-D2FEA6D88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8" name="AutoShape 11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0" name="Oval 13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" name="Oval 14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" name="Arc 15"/>
          <p:cNvSpPr/>
          <p:nvPr/>
        </p:nvSpPr>
        <p:spPr>
          <a:xfrm>
            <a:off x="872964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</a:path>
              <a:path stroke="0" w="22730" h="43200">
                <a:moveTo>
                  <a:pt x="1129" y="0"/>
                </a:moveTo>
                <a:cubicBezTo>
                  <a:pt x="13059" y="0"/>
                  <a:pt x="22730" y="9670"/>
                  <a:pt x="22730" y="21600"/>
                </a:cubicBezTo>
                <a:cubicBezTo>
                  <a:pt x="22730" y="33529"/>
                  <a:pt x="13059" y="43200"/>
                  <a:pt x="1130" y="43200"/>
                </a:cubicBezTo>
                <a:cubicBezTo>
                  <a:pt x="753" y="43200"/>
                  <a:pt x="376" y="43190"/>
                  <a:pt x="-1" y="43170"/>
                </a:cubicBezTo>
                <a:lnTo>
                  <a:pt x="1130" y="21600"/>
                </a:lnTo>
                <a:lnTo>
                  <a:pt x="1129" y="0"/>
                </a:lnTo>
                <a:close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" name="Arc 16"/>
          <p:cNvSpPr/>
          <p:nvPr/>
        </p:nvSpPr>
        <p:spPr>
          <a:xfrm>
            <a:off x="8472600" y="63360"/>
            <a:ext cx="284040" cy="533520"/>
          </a:xfrm>
          <a:custGeom>
            <a:avLst/>
            <a:gdLst/>
            <a:ahLst/>
            <a:rect l="l" t="t" r="r" b="b"/>
            <a:pathLst>
              <a:path fill="none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2730" h="43200">
                <a:moveTo>
                  <a:pt x="22730" y="43170"/>
                </a:moveTo>
                <a:cubicBezTo>
                  <a:pt x="22353" y="43190"/>
                  <a:pt x="21976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2730" y="4317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" name="Oval 17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rc 2"/>
          <p:cNvSpPr/>
          <p:nvPr/>
        </p:nvSpPr>
        <p:spPr>
          <a:xfrm>
            <a:off x="32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</a:path>
              <a:path stroke="0" w="21600" h="43200">
                <a:moveTo>
                  <a:pt x="21600" y="43200"/>
                </a:moveTo>
                <a:cubicBezTo>
                  <a:pt x="9670" y="43200"/>
                  <a:pt x="0" y="33529"/>
                  <a:pt x="0" y="21600"/>
                </a:cubicBezTo>
                <a:cubicBezTo>
                  <a:pt x="-1" y="9670"/>
                  <a:pt x="9670" y="0"/>
                  <a:pt x="21599" y="0"/>
                </a:cubicBezTo>
                <a:lnTo>
                  <a:pt x="21600" y="21600"/>
                </a:lnTo>
                <a:lnTo>
                  <a:pt x="21600" y="4320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2" name="Arc 3"/>
          <p:cNvSpPr/>
          <p:nvPr/>
        </p:nvSpPr>
        <p:spPr>
          <a:xfrm>
            <a:off x="1333440" y="463680"/>
            <a:ext cx="399960" cy="6400800"/>
          </a:xfrm>
          <a:custGeom>
            <a:avLst/>
            <a:gdLst/>
            <a:ahLst/>
            <a:rect l="l" t="t" r="r" b="b"/>
            <a:pathLst>
              <a:path fill="none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</a:path>
              <a:path stroke="0" w="21600" h="432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529"/>
                  <a:pt x="11929" y="43199"/>
                  <a:pt x="0" y="432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4" name="AutoShape 10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C88C-AD2D-4689-818E-089EDDD6D1C8}" type="datetime">
              <a:rPr b="0" lang="ru-RU" sz="3200" spc="-1" strike="noStrike">
                <a:solidFill>
                  <a:srgbClr val="336699"/>
                </a:solidFill>
                <a:latin typeface="Arial"/>
              </a:rPr>
              <a:t>28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DC7-E3A7-4C22-837D-0CE848162D4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5F55-C55F-4BCE-B59D-9FADEE8BED27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8.07.26</a:t>
            </a:fld>
            <a:endParaRPr b="1" lang="en-US" sz="32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pic>
        <p:nvPicPr>
          <p:cNvPr id="104" name="WordArt 6" descr="Дуб"/>
          <p:cNvPicPr/>
          <p:nvPr/>
        </p:nvPicPr>
        <p:blipFill>
          <a:blip r:embed="rId1"/>
          <a:stretch/>
        </p:blipFill>
        <p:spPr>
          <a:xfrm>
            <a:off x="1579680" y="2724120"/>
            <a:ext cx="6973920" cy="3925800"/>
          </a:xfrm>
          <a:prstGeom prst="rect">
            <a:avLst/>
          </a:prstGeom>
          <a:ln w="0">
            <a:noFill/>
          </a:ln>
        </p:spPr>
      </p:pic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2193840" y="712800"/>
            <a:ext cx="596268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87631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звание Русь объясняется 2-я вариантам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1.По названию варяжского племени,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2.По названию р.Рось(на Украине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читайте отрывок из ПВЛ относящийся к 7 веку и сделайте вывод,какой вариант кажется вам верным, почему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«Повесть временных лет» рассказывает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Напали на полян хазары... И сказали хазары: «Плати-те нам дань». Посоветовались поляне и дали от двора меч... И сказали старцы хазарские: «Не добрая это дань. Мы добыли ее саблями, заостренными с одной стороны, а у этих оружие обоюдоострое; будут они (русы) потом брать дань с нас самих!»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Происхождение Руси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7240320" cy="3809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1.Происхождение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2.Расселение славянских племе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3.Язычество древних славян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4.Происхождение Руси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24032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опытайтесь выяснить, чем славяне отличались от других народов Европы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6" descr="Рисунок9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схождение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7880" y="4130640"/>
            <a:ext cx="5671800" cy="82548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Определите по карте прародину славя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 родственные им народы?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88360" y="838080"/>
            <a:ext cx="1043280" cy="459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л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487240" y="1557360"/>
            <a:ext cx="1572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германц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8520" y="879480"/>
            <a:ext cx="1878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андинав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58040" y="1523880"/>
            <a:ext cx="12110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кельт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21120" y="3048120"/>
            <a:ext cx="9716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бас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1537200" y="2743200"/>
            <a:ext cx="13543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талик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597200" y="2209680"/>
            <a:ext cx="11149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скиф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128120" y="1523880"/>
            <a:ext cx="127944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лавяне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071480" y="3789360"/>
            <a:ext cx="1674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Индо-арии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267600" y="2860560"/>
            <a:ext cx="10342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Times New Roman"/>
              </a:rPr>
              <a:t>персы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24280" y="838080"/>
            <a:ext cx="4267440" cy="59436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осточные славяне заселив Восточно- Европейскую рав-нину, постепенно обособились друг от друга, и раздели-лись на племена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Определите, как на-зывались племена восточных славян, и где они жили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9" name="Picture 8" descr="Рисунок8"/>
          <p:cNvPicPr/>
          <p:nvPr/>
        </p:nvPicPr>
        <p:blipFill>
          <a:blip r:embed="rId1"/>
          <a:stretch/>
        </p:blipFill>
        <p:spPr>
          <a:xfrm>
            <a:off x="46080" y="836640"/>
            <a:ext cx="4670280" cy="5977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5105160"/>
            <a:ext cx="8991360" cy="1600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ольшинство славян жили в лесах, но поляне обитали в лесостепной полосе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-Опишите их быт? Чем они занимались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2.Расселение славянских племе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3" name="Picture 8" descr="Рисунок7"/>
          <p:cNvPicPr/>
          <p:nvPr/>
        </p:nvPicPr>
        <p:blipFill>
          <a:blip r:embed="rId1"/>
          <a:stretch/>
        </p:blipFill>
        <p:spPr>
          <a:xfrm>
            <a:off x="1906560" y="73980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9" descr="Рисунок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0600" y="873000"/>
            <a:ext cx="4451400" cy="522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1640" y="609120"/>
            <a:ext cx="4419720" cy="61722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зычество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это не религия, а мировоззрение.Славя-не пытались объяснить то ,что видели вокруг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-Почему появилась вера в богов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ассмотрите слайд и по-пытайтесь определить, какие боги были у сла-вян и чему они покрови-тельствовали?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ерун-верховный бог,Сва-рог-бог огня, Стрибог-бог ветра,Велес бог ско-товодства,Мокошь-боги-ня ткачеств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980720" y="981000"/>
            <a:ext cx="98856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перун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320280" y="6051600"/>
            <a:ext cx="128700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кошь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3962520" y="5552640"/>
            <a:ext cx="304560" cy="381240"/>
          </a:xfrm>
          <a:prstGeom prst="line">
            <a:avLst/>
          </a:prstGeom>
          <a:ln cap="sq" w="7632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955600" y="5692680"/>
            <a:ext cx="92304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велес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024200" y="5235480"/>
            <a:ext cx="125352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триб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3241800" y="2492280"/>
            <a:ext cx="10936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варог</a:t>
            </a:r>
            <a:endParaRPr b="1" lang="en-US" sz="2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4648320"/>
            <a:ext cx="8991360" cy="2133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Для поклонения богам славяне строили Капища.По его границе водружались Идолы(деревянные изображе-ния богов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капищах славяне приносили жертвы,совершали об-ряды, просили богов о милости и покровительств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7" name="Picture 5" descr="Рисунок5"/>
          <p:cNvPicPr/>
          <p:nvPr/>
        </p:nvPicPr>
        <p:blipFill>
          <a:blip r:embed="rId1"/>
          <a:stretch/>
        </p:blipFill>
        <p:spPr>
          <a:xfrm>
            <a:off x="1763640" y="692280"/>
            <a:ext cx="5832720" cy="39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Язычество древних славян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320" y="4191120"/>
            <a:ext cx="8991360" cy="2590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аряду с богами славяне верили в «низших духов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е в свою очередь делились на полезных и опасных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Определите, кто изображен на слайдах и к какой группе духов относятся эти существа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-Домовой,леший,водяной,волкола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-Каких еще славянских духов вы знаете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9" descr="Рисунок4"/>
          <p:cNvPicPr/>
          <p:nvPr/>
        </p:nvPicPr>
        <p:blipFill>
          <a:blip r:embed="rId1"/>
          <a:stretch/>
        </p:blipFill>
        <p:spPr>
          <a:xfrm>
            <a:off x="179280" y="812880"/>
            <a:ext cx="1778040" cy="333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3"/>
          <p:cNvPicPr/>
          <p:nvPr/>
        </p:nvPicPr>
        <p:blipFill>
          <a:blip r:embed="rId2"/>
          <a:stretch/>
        </p:blipFill>
        <p:spPr>
          <a:xfrm>
            <a:off x="2001960" y="812880"/>
            <a:ext cx="2187360" cy="331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Рисунок2"/>
          <p:cNvPicPr/>
          <p:nvPr/>
        </p:nvPicPr>
        <p:blipFill>
          <a:blip r:embed="rId3"/>
          <a:stretch/>
        </p:blipFill>
        <p:spPr>
          <a:xfrm>
            <a:off x="4233960" y="812880"/>
            <a:ext cx="2176200" cy="3317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Рисунок1"/>
          <p:cNvPicPr/>
          <p:nvPr/>
        </p:nvPicPr>
        <p:blipFill>
          <a:blip r:embed="rId4"/>
          <a:stretch/>
        </p:blipFill>
        <p:spPr>
          <a:xfrm>
            <a:off x="6454800" y="812880"/>
            <a:ext cx="2509920" cy="33177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8736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336699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21:55:04Z</dcterms:created>
  <dc:creator>elior</dc:creator>
  <dc:description/>
  <dc:language>en-US</dc:language>
  <cp:lastModifiedBy>LEGION</cp:lastModifiedBy>
  <cp:lastPrinted>1997-01-19T19:09:28Z</cp:lastPrinted>
  <dcterms:modified xsi:type="dcterms:W3CDTF">2015-01-15T12:35:06Z</dcterms:modified>
  <cp:revision>18</cp:revision>
  <dc:subject/>
  <dc:title>Заголовок слайда отсутствует</dc:title>
</cp:coreProperties>
</file>