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C9FAF-B466-43ED-87EC-C4423840C42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Toyota" TargetMode="External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режливое произво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CE60A-48C1-4AB8-BC91-D794CFCA240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лгоритм внедрения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EAN -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деолог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ти проводника перемен (нужен ЛИДЕР, способный взять на себя ответственность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ить необходимые знания по систем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N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знания должны быть получены из надежного источник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ти или создать кризис (хорошим мотивом внедрени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N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лужит кризис в организаци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ить карту всего потока создания ценности для каждого семейства продук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можно быстрей начинать работу по основным направлениям (информация о результатах должна быть доступна персоналу организаци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емиться немедленно получить результа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ять непрерывные улучшения по системе Кайдзен (переходить от процессов создания ценностей в цехах к административным процесса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BFDBA-413F-48C9-BF42-23323657BB7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ипичные ошибки при внедрении бережливого производств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о семь видов основных ошибо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нимание роли руководства при внедрении системы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роение «Системы», не обладающей необходимой гибк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о внедрения не с «осн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яются рабочие места, но не меняются привы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измерять (собирать данные), но ни на что не реагиров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аралитический анализ» (бесконечный анализ ситуации, вместо непрерывных улучшени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ходиться без поддерж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AF509-89FF-45DA-9F94-7F0F1ED7310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AN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культура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режливое производство невозможно без бережливой культуры. Главное 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n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туре — человеческий фактор, коллективная рабо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енную поддержку этому оказывает эмоциональный интеллект (EQ) сотрудни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n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ультуре соответствует и определенная корпоративная культу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EDEC1-BF89-443E-A5A2-15AE8DEDCEC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айдзен – это настоящая философи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ософия постоянного, неторопливого совершенствования всех процес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ть  стоит только с реальными фак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 и анализ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очных данны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ршенствование процессов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онцепция Кайдз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09203-E2D5-412C-BD7B-6D5AAFE2BAA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йдз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концепции кайдзен относят большую часть извест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понских техник менеджмен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оставки-точно-в-срок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нба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общий контроль качества, контроль качества в масштабе всей комп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у нуль дефе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у подачи предложений и многое друго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C9684-3163-483B-BC7C-A14CBE4FCDE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Кайдз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истеме Кайдзен каждый сотрудник является равноправным партнером комп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0707F-FC8C-45FD-8C6A-DF62C7BCD49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оставки-точно-в-сро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итель, в качестве любого последующе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ть -  продукция должна быть поставлена потребителю в идеальном варианте. Без дефектов, на каждом предыдущем этап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1DB45-61E6-43D7-9A83-82ACD46782B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 КАНБ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CANBAN, тянущая система, pull system) - наиболее распространенная разновид-ность системы "точно в срок") - система, обеспечивающая организацию непрерывного материального потока при отсутствии запасов: производственные запасы подаются не-большими партиями непосредственно в нужные точки производственного процесса, минуя склад, а готовая продукция сразу отгружается покупателя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7EF8-FD5E-4CB6-A41E-B102D2E9BF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 КАНБ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ы производства на данном участке определяются потребностями следующего производственного участ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83970-6392-458B-A153-6EEE735C8E1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 КАНБ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841A7-BB56-4DF6-8CA1-11CC864FE93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ы никогда не решишь проблему, если будешь думать так же, как те, кто ее созда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Альберт Эйнштейн (1879–1955), немецкий физи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DE8C7-5467-4839-A57F-175DE887E9C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 КАНБ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емление к снижению запасов – метод выявления и решения производственных пробл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опление запасов и завышенные объемы производства  скрывают: частые поломки и остановки оборудования, производственный бра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требования системы CANB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ноль запасов"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ноль дефектов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истема CANBAN   невозможна без внедрения комплексной системы управления качеств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A46A3-DEFF-45D2-88D9-9DBC3382D8B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 КАНБ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ажными элементами системы CANBAN являются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система, включающая не только карточки, но и производственные, транспортные и снабженческие графики, технологические карт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регулирования потребности и профессиональной ротации кадр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всеобщего (TQM) и выборочного ("Дзидока") контроля качества продук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выравнивания производ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9268F-F143-4669-BAC6-A92F06C0A52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 КАНБ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реимущества системы CANBAN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откий производственный цикл, высокая оборачиваемость активов, в том числе запас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уют или чрезвычайно низки издержки хранения производственных и товарных запас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ое качество продукции на всех стадиях производственного процес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56176-CA07-4387-8BB3-4EF9194310B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новные недостатки системы "точно в срок"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ость обеспечения высокой согласованности между стадиями производства продук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ительный риск срыва производства и реализации продук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B0BE2-711E-4397-A207-F08D9D2BB1D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ы «канбан» и «точно вовремя» - два метода управления производством и запасами - помогают найти лучшие способы повышения производительности процесса и качества продук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DD789-EB44-4FEF-9CC2-68AB418B235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Calibri"/>
              </a:rPr>
              <a:t>Система    качества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Четырнадцать принципов Уильям Эдвардса Демин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тоянство цел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улучшение продукции и обслужи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овая философ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ля нового экономического периода путем познания менеджерами своих обязанностей и принятия на себя лидерства на пути к переменам. Далее, обращаясь к менеджерам, д-р Деминг призывае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кончите с зависимостью от массового контрол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достижении качества; исключите необходимость в массовом контроле, сделав качество неотъемлемым свойством продукции, «встроив» качество в продукц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кончите с практикой закупок по самой дешевой цене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место этого следует минимизировать общие затраты и стремиться к выбору определенного поставщика для каждого продукта, необходимого в производств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лучшайте каждый процес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ля улучшения качества, повышения производительности и уменьшения затра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ведите в практику подготовку и переподготовку кадров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редите «лидерство»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оцесс руководства сотрудниками должен помогать им лучше делать свою работу; необходимо тщательно рассмотреть систему управления персонал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гоняйте страхи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чтобы все могли эффективно работать для предприят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рушайте барьер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ежду подразделениями; исследования, проектирование, производство и реализация должны быть объединены, чтобы предвидеть проблемы производства и эксплуат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кажитесь от пустых лозунгов, призыв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ля производственного персонала, таких, как «ноль дефектов» или новые задания по производительности. Такие призывы бессмысленны, так как подавляющее большинство проблем возникает в системе и находится вне возможностей работни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страните произвольно установленные задания и количественные нормы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айте работникам возможность гордиться своим трудом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страните барьеры, которые обкрадывают рабочих и руководителей, лишая их возможности гордиться своим труд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ощряйте стремление к образованию и совершенствованию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обходима приверженность делу повышения качества и действенность высшего руководств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EBA0D-37CF-4328-9CFD-CB448DE0962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ловия мешающие реализации внедрения системы качест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постоянства цел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гоня за сиюминутной выгодо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ы аттестации и ранжирования персонал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оянная ротация кадров управляющи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только количественных критериев для оценки деятельности компа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F6D65-36DF-4C23-B2FB-D61388092D3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ка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лан действ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руководство, опираясь на все 14 принципов, борется со «смертельными болезнями» и препятствиями, согласовывает понятия и направления планов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руководство собирается с духом и внутренне настраивается на движение в новом направлении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руководство объясняет сотрудникам компании, почему перемены необходимы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вся деятельность компании разбивается на этапы (стадии), при этом каждый последующий этап является как бы заказчиком предыдущего. Постоянное улучшение методов работы должно осуществляться на каждом этапе, и каждый этап должен работать в направлении качества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как можно быстрее строится организационная структура, которая будет работать на постоянное улучшение качеств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) каждый сотрудник может принять участие в совершенствовании работы на любом этапе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) Для строительства системы качества - требуется участие знающих специалис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53003-2567-4280-8565-5797E4F983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9 видов потер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читесь видеть эти потери и избавляться от них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ТРАВМ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чинение вреда здоровью люд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ТРАНСПОРТИРОВК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мещения вещей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СКЛАД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ещи, ожидающие своего ча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ПЕРЕМЕЩЕН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лишние перемещения люд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ВРЕМЯ ОЖИДАН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жидание чего-либ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ПЕРЕПРОИЗВОДСТВ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ишком много продукции/ресурсов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ИЗЛИШНЯЯ ОБРАБОТК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лание того, что не добавляет цен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БРАК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неправильные» вещи, требующие доработ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0C625-1136-4C52-90FC-68A8DDEB252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едостаточно полное использование интеллекта и таланта люд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88CA-D06D-4053-96B5-CF5AF1D8B09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lean production, lean manufacturing — англ. lean — постный, стройный, без жира; в России с 2004 года принят перевод «бережливое», хотя ранее встречались варианты «стройное», «щадящее», «рачительное», сейчас также встречается вариант с транслитом «лин») —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концепция менеджмента, созданная на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Toyota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 и основанная на неуклонном стремлении к устранению всех видов потерь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8B4F0-3332-41CB-87BC-C717779CAE8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МЕНТ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ДЕОЛОГИИ НЕПРЕРЫВНЫХ УЛУЧ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2CA48-2E7F-47BF-8A46-32C769244A9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ИЗУАЛЬНОЕ  УПР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D0E5C-1C01-4524-989B-DAA906AA710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6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“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EE43C-9ACC-43E7-84FA-95F4B22A54B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тяги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диняет потоковые ячейки вместе Содержит 3 элемен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D1F39-930D-4F22-BFE2-9B5F6A29838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андартна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66271-FEB7-497F-95A6-CFD8B6D382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андартна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позволяет избежать серьезных отклонений при выполнении работы, как в сроках, так и в получаемом каче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BE8E1-B724-405B-84BE-E6420E25414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изуальное Упр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24B4A-60F2-4246-8C42-87054F0E890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ЧИСЛО АЛЬТЕРНАТИВНЫХ СЦЕНАРИЕВ БЕСКОНЕЧН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ью Эверет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C641C-A1E8-4932-B430-D8A5E086BD3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A35F9-9DF2-4F0D-AC1B-5AEEDBA4CDC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режливое произво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режливое производство предполагает вовлечение в процесс оптимизации бизнеса каждого сотрудника и максимальную ориентацию на потребителя. Целями бережливого производства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трудозатра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сроков разработки новой продукц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сроков создания продукц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производственных и складских площаде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рантия поставки продукции заказчик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симальное качество при минимальной стои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FB31B-1470-4DEA-B5D1-50037B3B16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правная точка бережливого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ность для потребите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точки зрения конечного потребителя, продукт(услуга) приобретает действительную ценность только в то время, когда происходит непосредственная обработка, изготовление технологических элемен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ё, что не добавляет ценности для потребителя, с точки зрения бережливого производства, классифицируется как потери, и должно быть устране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393A5-4EDD-4297-A340-05BB2768174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ринцип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ь ценность конкретного продукта.(</a:t>
            </a: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Ценност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товар или услуга за которую платит Заказчик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ь поток создания ценности для этого проду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ть непрерывное течение потока создания ценности проду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волить потребителю вытягивать проду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емиться к совершенст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D1987-617C-4C27-AF1A-C13322BC015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 принципов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LE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Ц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Заказчик покупает на самом де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Цепочка Создания Ц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оздается ц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т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лучшение цепочки создания ц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ытяги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потоком только на основании реальных потребно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овершенств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оянный нескончаемый процесс улуч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5E7F4-3BA1-48F7-BC35-FD2E12F82F3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ругие принци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восходное качество (сдача с первого предъявления, система ноль дефектов, обнаружение и решение проблем у истоков их возникновен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к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долговременных отношений с заказчиком (путем деления рисков, затрат и информаци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организация, эволюция, адапт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EAC4-6992-4229-B2CA-DE79A4A457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струменты бережливого производств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TPM (Total Productive Maintenance) — Всеобщий уход за оборудова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6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ортируйте, соблюдайте порядок, содержите в чистоте, стандартизируйте, совершенствуйт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страя переналадк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Single-Minute Exchange of Dies (буквально «быстрая смена пресс-форм» — переналадка/переоснастка оборудования менее чем за 10 минут). Переналадка в одно касание (One-touch setup) — вариант SMED, но время переналадки уже изменяерся единицами минут, то есть не больше 9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йдзен(kaizen) — непрерывное совершенств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мба кайдзен — непрерывное совершенствование на месте создания дополнительной стои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нбан, вытягивающее производство — продукция «вытягивается» со стороны заказчика, а не «толкается» производителем. Информирования предыдущей производственной стадии о том, что нужно начинать работ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но в срок— система синхронизации передачи продукта с одной производственной стадии на другую посредством карточек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анба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Комплектующие должны передаваться на следующую стадию только тогда, когда это нужно, и ни минутой раньш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ока — ёкэ» («защита от ошибок», «защита от дурака») — метод предотвращения ошибок — специальное устройство или метод, благодаря которому дефекты просто не могут появи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094A6-89A6-4C50-8EEC-618A9DCA0A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B2FE-5AE2-469B-9DB8-C1AF61FF2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19EF-23F1-4D1D-94F4-C5748B231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F550-CF10-407F-80E3-E9600090A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A7AF-82EB-4481-AE10-E2D0F756F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EF542-ECC8-4A6E-A562-1823A52DE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A1DD3-E851-4D93-A86C-D5650E070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179FB-972A-4BD4-8289-4D0EAD64C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A490C-FDA6-4B20-84F6-211628E99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FBF68-F6D3-47F0-B987-4B43F118F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E9C37-0D2D-4284-BBBD-499267903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ADCA1-FA4E-4F31-9779-41FB6181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9A4A-EA99-496B-BBCF-4D9330FB0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44FAB-8FE3-4C3D-AE45-762E22FB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29A93-281A-48EA-B903-476A2A30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4FDB9-03A5-4097-A5A3-7E45F98F4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28C1D-8BCB-4FDD-AACF-BA1F8B1FD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C8376-DAD5-4D1C-B6F2-D2B0E53A5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95A5-2B32-43E4-A690-D80C6BE61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BEF0-CD42-4842-9633-39945DA6A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4188-AD1F-475F-8346-AABFD69E2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295F-8CB5-45E5-81A6-9616518C6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A46D-A1E2-4172-A0E8-4A97323E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7457-AB2B-4688-8863-25E68EE5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FFF9-A499-4D4F-A036-F89F7001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CFB95-CF4E-465C-ACDE-A2F63A28C89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E5458-7615-4781-AC51-04F1EA86DA6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Toyota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61760" y="1295280"/>
            <a:ext cx="7543800" cy="426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Arial"/>
              </a:rPr>
              <a:t>Бережливое производство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Алгоритм внедрения </a:t>
            </a: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LEAN - </a:t>
            </a: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идеолог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ти проводника перемен (нужен ЛИДЕР, способный взять на себя ответственность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ить необходимые знания по систем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знания должны быть получены из надежного источник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ти или создать кризис (хорошим мотивом внедрени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лужит кризис в организаци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авить карту всего потока создания ценности для каждого семейства продук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можно быстрей начинать работу по основным направлениям (информация о результатах должна быть доступна персоналу организаци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емиться немедленно получить результа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уществлять непрерывные улучшения по системе Кайдзен (переходить от процессов создания ценностей в цехах к административным процесса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Типичные ошибки при внедрении бережливого производства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лено семь видов основных ошибо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понимание роли руководства при внедрении систем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ение «Системы», не обладающей необходимой гибкос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ало внедрения не с «осн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яются рабочие места, но не меняются привы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измерять (собирать данные), но ни на что не реагиро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Паралитический анализ» (бесконечный анализ ситуации, вместо непрерывных улучшен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ходиться без поддерж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L</a:t>
            </a: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EAN </a:t>
            </a: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 культура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режливое производство невозможно без бережливой культуры. Главное 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n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ультуре — человеческий фактор, коллективная рабо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щественную поддержку этому оказывает эмоциональный интеллект (EQ) сотрудни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n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ультуре соответствует и определенная корпоративная культу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Кайдзен – это настоящая философия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лософия постоянного, неторопливого совершенствования всех процес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ть  стоит только с реальными факт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бор и анализ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очных данны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ершенствование процессов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онцепция Кайдз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279000" y="32457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990720" y="4572000"/>
            <a:ext cx="70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5"/>
          <p:cNvSpPr/>
          <p:nvPr/>
        </p:nvSpPr>
        <p:spPr>
          <a:xfrm>
            <a:off x="914400" y="1841040"/>
            <a:ext cx="77724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концепции кайдзен относят большую часть извест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понских техник менеджмен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поставки-точно-в-срок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нба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общий контроль качества, контроль качества в масштабе всей компа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у нуль дефек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у подачи предложений и многое друг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330033"/>
                </a:solidFill>
                <a:latin typeface="Times New Roman"/>
              </a:rPr>
              <a:t>Кайдзен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истема Кайдзен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системе Кайдзен каждый сотрудник является равноправным партнером компа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457200" y="598896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«Поставки-точно-в-срок»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требитель, в качестве любого последующего проц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ть -  продукция должна быть поставлена потребителю в идеальном варианте. Без дефектов, на каждом предыдущем этап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Система КАНБАН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CANBAN, тянущая система, pull system) - наиболее распространенная разновид-ность системы "точно в срок") - система, обеспечивающая организацию непрерывного материального потока при отсутствии запасов: производственные запасы подаются не-большими партиями непосредственно в нужные точки производственного процесса, минуя склад, а готовая продукция сразу отгружается покупателя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Система КАНБАН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меры производства на данном участке определяются потребностями следующего производственного участ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Система КАНБАН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0" name="Picture 4" descr="canban-1"/>
          <p:cNvPicPr/>
          <p:nvPr/>
        </p:nvPicPr>
        <p:blipFill>
          <a:blip r:embed="rId1"/>
          <a:stretch/>
        </p:blipFill>
        <p:spPr>
          <a:xfrm>
            <a:off x="838080" y="1676520"/>
            <a:ext cx="8001000" cy="472428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ы никогда не решишь проблему, если будешь думать так же, как те, кто ее созд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ьберт Эйнштейн (1879–1955), немецкий физ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Система КАНБАН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емление к снижению запасов – метод выявления и решения производственных пробл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копление запасов и завышенные объемы производства  скрывают: частые поломки и остановки оборудования, производственный бра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требования системы CANB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ноль запасов"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ноль дефектов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истема CANBAN   невозможна без внедрения комплексной системы управления качеств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Система КАНБАН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жными элементами системы CANBAN являютс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ая система, включающая не только карточки, но и производственные, транспортные и снабженческие графики, технологические карт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регулирования потребности и профессиональной ротации кадро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всеобщего (TQM) и выборочного ("Дзидока") контроля качества продукци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выравнивания производ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Система КАНБАН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ые преимущества системы CANBA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откий производственный цикл, высокая оборачиваемость активов, в том числе запасов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сутствуют или чрезвычайно низки издержки хранения производственных и товарных запасов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сокое качество продукции на всех стадиях производственного процесс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сновные недостатки системы "точно в срок"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жность обеспечения высокой согласованности между стадиями производства продукци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чительный риск срыва производства и реализации продук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ы «канбан» и «точно вовремя» - два метода управления производством и запасами - помогают найти лучшие способы повышения производительности процесса и качества продук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Система    качеств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Четырнадцать принципов Уильям Эдвардса Демин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стоянство цел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— улучшение продукции и обслужи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овая философ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ля нового экономического периода путем познания менеджерами своих обязанностей и принятия на себя лидерства на пути к переменам. Далее, обращаясь к менеджерам, д-р Деминг призывает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кончите с зависимостью от массового контрол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достижении качества; исключите необходимость в массовом контроле, сделав качество неотъемлемым свойством продукции, «встроив» качество в продукц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кончите с практикой закупок по самой дешевой цене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место этого следует минимизировать общие затраты и стремиться к выбору определенного поставщика для каждого продукта, необходимого в производств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лучшайте каждый процесс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ля улучшения качества, повышения производительности и уменьшения затра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ведите в практику подготовку и переподготовку кадров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чредите «лидерство»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оцесс руководства сотрудниками должен помогать им лучше делать свою работу; необходимо тщательно рассмотреть систему управления персонал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згоняйте страхи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тобы все могли эффективно работать для предприят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рушайте барьер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между подразделениями; исследования, проектирование, производство и реализация должны быть объединены, чтобы предвидеть проблемы производства и эксплуат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кажитесь от пустых лозунгов, призыв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ля производственного персонала, таких, как «ноль дефектов» или новые задания по производительности. Такие призывы бессмысленны, так как подавляющее большинство проблем возникает в системе и находится вне возможностей работник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страните произвольно установленные задания и количественные нормы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айте работникам возможность гордиться своим трудом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устраните барьеры, которые обкрадывают рабочих и руководителей, лишая их возможности гордиться своим труд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ощряйте стремление к образованию и совершенствованию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обходима приверженность делу повышения качества и действенность высшего руководства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Условия мешающие реализации внедрения системы качеств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сутствие постоянства целе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гоня за сиюминутной выгодо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ы аттестации и ранжирования персонал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оянная ротация кадров управляющих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ние только количественных критериев для оценки деятельности компан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истема качеств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лан действ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руководство, опираясь на все 14 принципов, борется со «смертельными болезнями» и препятствиями, согласовывает понятия и направления планов;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руководство собирается с духом и внутренне настраивается на движение в новом направлении;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руководство объясняет сотрудникам компании, почему перемены необходимы;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) вся деятельность компании разбивается на этапы (стадии), при этом каждый последующий этап является как бы заказчиком предыдущего. Постоянное улучшение методов работы должно осуществляться на каждом этапе, и каждый этап должен работать в направлении качества;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) как можно быстрее строится организационная структура, которая будет работать на постоянное улучшение качества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) каждый сотрудник может принять участие в совершенствовании работы на любом этапе;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) Для строительства системы качества - требуется участие знающих специалист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99"/>
                </a:solidFill>
                <a:latin typeface="Times New Roman"/>
              </a:rPr>
              <a:t>9 видов потерь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15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читесь видеть эти потери и избавляться от ни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5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ТРАВМ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чинение вреда здоровью лю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5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ТРАНСПОРТИРОВ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мещения веще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5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СКЛАД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щи, ожидающие своего ча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5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ПЕРЕМЕЩ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лишние перемещения лю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5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ВРЕМЯ ОЖИД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жидание чего-либ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5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ПЕРЕПРОИЗВОДСТВ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ишком много продукции/ресурс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5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ИЗЛИШНЯЯ ОБРАБОТ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лание того, что не добавляет ц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5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БРА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неправильные» вещи, требующие дорабо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Недостаточно полное использование интеллекта и таланта люде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914400" y="167616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lean production, lean manufacturing — англ. lean — постный, стройный, без жира; в России с 2004 года принят перевод «бережливое», хотя ранее встречались варианты «стройное», «щадящее», «рачительное», сейчас также встречается вариант с транслитом «лин») —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онцепция менеджмента, созданная на </a:t>
            </a:r>
            <a:r>
              <a:rPr b="0" lang="ru-RU" sz="32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Toyota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и основанная на неуклонном стремлении к устранению всех видов потерь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1066680" y="22860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ережливое производ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СТРУМЕНТ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ДЕОЛОГИИ НЕПРЕРЫВНЫХ УЛУЧШ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AutoShape 9"/>
          <p:cNvSpPr/>
          <p:nvPr/>
        </p:nvSpPr>
        <p:spPr>
          <a:xfrm flipV="1">
            <a:off x="2438280" y="4267080"/>
            <a:ext cx="4361040" cy="1447920"/>
          </a:xfrm>
          <a:custGeom>
            <a:avLst/>
            <a:gdLst>
              <a:gd name="textAreaLeft" fmla="*/ 937080 w 4361040"/>
              <a:gd name="textAreaRight" fmla="*/ 3423960 w 4361040"/>
              <a:gd name="textAreaTop" fmla="*/ 311040 h 1447920"/>
              <a:gd name="textAreaBottom" fmla="*/ 11368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684" y="21600"/>
                </a:lnTo>
                <a:lnTo>
                  <a:pt x="15916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5715000"/>
            <a:ext cx="8229600" cy="944640"/>
          </a:xfrm>
          <a:prstGeom prst="rect">
            <a:avLst/>
          </a:pr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ЗУАЛЬНОЕ  УПРА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rc 5"/>
          <p:cNvSpPr/>
          <p:nvPr/>
        </p:nvSpPr>
        <p:spPr>
          <a:xfrm>
            <a:off x="2514600" y="762120"/>
            <a:ext cx="2484360" cy="2458800"/>
          </a:xfrm>
          <a:prstGeom prst="pie">
            <a:avLst/>
          </a:prstGeom>
          <a:solidFill>
            <a:srgbClr val="ffcc66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rc 6"/>
          <p:cNvSpPr/>
          <p:nvPr/>
        </p:nvSpPr>
        <p:spPr>
          <a:xfrm>
            <a:off x="2544840" y="3083040"/>
            <a:ext cx="2492280" cy="2438280"/>
          </a:xfrm>
          <a:custGeom>
            <a:avLst/>
            <a:gdLst>
              <a:gd name="textAreaLeft" fmla="*/ 0 w 2492280"/>
              <a:gd name="textAreaRight" fmla="*/ 2492640 w 2492280"/>
              <a:gd name="textAreaTop" fmla="*/ 0 h 2438280"/>
              <a:gd name="textAreaBottom" fmla="*/ 2438640 h 2438280"/>
            </a:gdLst>
            <a:ahLst/>
            <a:rect l="textAreaLeft" t="textAreaTop" r="textAreaRight" b="textAreaBottom"/>
            <a:pathLst>
              <a:path fill="none" w="21757" h="21600">
                <a:moveTo>
                  <a:pt x="21757" y="21599"/>
                </a:moveTo>
                <a:cubicBezTo>
                  <a:pt x="21704" y="21599"/>
                  <a:pt x="21652" y="21599"/>
                  <a:pt x="21600" y="21600"/>
                </a:cubicBezTo>
                <a:cubicBezTo>
                  <a:pt x="9688" y="21600"/>
                  <a:pt x="25" y="11957"/>
                  <a:pt x="0" y="45"/>
                </a:cubicBezTo>
              </a:path>
              <a:path stroke="0" w="21757" h="21600">
                <a:moveTo>
                  <a:pt x="21757" y="21599"/>
                </a:moveTo>
                <a:cubicBezTo>
                  <a:pt x="21704" y="21599"/>
                  <a:pt x="21652" y="21599"/>
                  <a:pt x="21600" y="21600"/>
                </a:cubicBezTo>
                <a:cubicBezTo>
                  <a:pt x="9688" y="21600"/>
                  <a:pt x="25" y="11957"/>
                  <a:pt x="0" y="45"/>
                </a:cubicBezTo>
                <a:lnTo>
                  <a:pt x="21600" y="0"/>
                </a:lnTo>
                <a:lnTo>
                  <a:pt x="21757" y="21599"/>
                </a:lnTo>
                <a:close/>
              </a:path>
            </a:pathLst>
          </a:custGeom>
          <a:solidFill>
            <a:srgbClr val="ff9999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rc 7"/>
          <p:cNvSpPr/>
          <p:nvPr/>
        </p:nvSpPr>
        <p:spPr>
          <a:xfrm>
            <a:off x="4952880" y="3048120"/>
            <a:ext cx="2398680" cy="24778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2477880"/>
              <a:gd name="textAreaBottom" fmla="*/ 2478240 h 2477880"/>
            </a:gdLst>
            <a:ahLst/>
            <a:rect l="textAreaLeft" t="textAreaTop" r="textAreaRight" b="textAreaBottom"/>
            <a:pathLst>
              <a:path fill="none" w="21600" h="21882">
                <a:moveTo>
                  <a:pt x="21598" y="-1"/>
                </a:moveTo>
                <a:cubicBezTo>
                  <a:pt x="21599" y="93"/>
                  <a:pt x="21600" y="187"/>
                  <a:pt x="21600" y="282"/>
                </a:cubicBezTo>
                <a:cubicBezTo>
                  <a:pt x="21600" y="12155"/>
                  <a:pt x="12016" y="21802"/>
                  <a:pt x="142" y="21881"/>
                </a:cubicBezTo>
              </a:path>
              <a:path stroke="0" w="21600" h="21882">
                <a:moveTo>
                  <a:pt x="21598" y="-1"/>
                </a:moveTo>
                <a:cubicBezTo>
                  <a:pt x="21599" y="93"/>
                  <a:pt x="21600" y="187"/>
                  <a:pt x="21600" y="282"/>
                </a:cubicBezTo>
                <a:cubicBezTo>
                  <a:pt x="21600" y="12155"/>
                  <a:pt x="12016" y="21802"/>
                  <a:pt x="142" y="21881"/>
                </a:cubicBezTo>
                <a:lnTo>
                  <a:pt x="0" y="282"/>
                </a:lnTo>
                <a:lnTo>
                  <a:pt x="21598" y="-1"/>
                </a:lnTo>
                <a:close/>
              </a:path>
            </a:pathLst>
          </a:custGeom>
          <a:solidFill>
            <a:srgbClr val="66ff66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rc 8"/>
          <p:cNvSpPr/>
          <p:nvPr/>
        </p:nvSpPr>
        <p:spPr>
          <a:xfrm>
            <a:off x="4952880" y="762120"/>
            <a:ext cx="2398680" cy="2361960"/>
          </a:xfrm>
          <a:prstGeom prst="pie">
            <a:avLst/>
          </a:prstGeom>
          <a:solidFill>
            <a:srgbClr val="66cc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2"/>
          <p:cNvSpPr/>
          <p:nvPr/>
        </p:nvSpPr>
        <p:spPr>
          <a:xfrm>
            <a:off x="3886200" y="1981080"/>
            <a:ext cx="2109960" cy="2286000"/>
          </a:xfrm>
          <a:prstGeom prst="ellipse">
            <a:avLst/>
          </a:prstGeom>
          <a:solidFill>
            <a:srgbClr val="cce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13"/>
          <p:cNvSpPr/>
          <p:nvPr/>
        </p:nvSpPr>
        <p:spPr>
          <a:xfrm>
            <a:off x="3886200" y="3124080"/>
            <a:ext cx="2127240" cy="1800"/>
          </a:xfrm>
          <a:custGeom>
            <a:avLst/>
            <a:gdLst>
              <a:gd name="textAreaLeft" fmla="*/ 0 w 2127240"/>
              <a:gd name="textAreaRight" fmla="*/ 2127600 w 2127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1451" h="1">
                <a:moveTo>
                  <a:pt x="0" y="0"/>
                </a:moveTo>
                <a:lnTo>
                  <a:pt x="1451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5"/>
          <p:cNvSpPr/>
          <p:nvPr/>
        </p:nvSpPr>
        <p:spPr>
          <a:xfrm>
            <a:off x="4952880" y="198108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6"/>
          <p:cNvSpPr/>
          <p:nvPr/>
        </p:nvSpPr>
        <p:spPr>
          <a:xfrm>
            <a:off x="4952880" y="2362320"/>
            <a:ext cx="9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н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7"/>
          <p:cNvSpPr/>
          <p:nvPr/>
        </p:nvSpPr>
        <p:spPr>
          <a:xfrm>
            <a:off x="4955760" y="350532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8"/>
          <p:cNvSpPr/>
          <p:nvPr/>
        </p:nvSpPr>
        <p:spPr>
          <a:xfrm>
            <a:off x="4952880" y="3200400"/>
            <a:ext cx="10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тя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9"/>
          <p:cNvSpPr/>
          <p:nvPr/>
        </p:nvSpPr>
        <p:spPr>
          <a:xfrm>
            <a:off x="4039920" y="327672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0"/>
          <p:cNvSpPr/>
          <p:nvPr/>
        </p:nvSpPr>
        <p:spPr>
          <a:xfrm>
            <a:off x="3963240" y="2514600"/>
            <a:ext cx="89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1"/>
          <p:cNvSpPr/>
          <p:nvPr/>
        </p:nvSpPr>
        <p:spPr>
          <a:xfrm rot="19000200">
            <a:off x="4647960" y="3580920"/>
            <a:ext cx="2672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ребова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2"/>
          <p:cNvSpPr/>
          <p:nvPr/>
        </p:nvSpPr>
        <p:spPr>
          <a:xfrm rot="2625600">
            <a:off x="4876200" y="1523520"/>
            <a:ext cx="262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ниженные затр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3"/>
          <p:cNvSpPr/>
          <p:nvPr/>
        </p:nvSpPr>
        <p:spPr>
          <a:xfrm rot="18909600">
            <a:off x="2821320" y="1447200"/>
            <a:ext cx="172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дин 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дн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4"/>
          <p:cNvSpPr/>
          <p:nvPr/>
        </p:nvSpPr>
        <p:spPr>
          <a:xfrm rot="2613000">
            <a:off x="2818080" y="3962160"/>
            <a:ext cx="212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ез бра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6 </a:t>
            </a: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“S”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762120" y="1600200"/>
          <a:ext cx="8076960" cy="4925880"/>
        </p:xfrm>
        <a:graphic>
          <a:graphicData uri="http://schemas.openxmlformats.org/drawingml/2006/table">
            <a:tbl>
              <a:tblPr/>
              <a:tblGrid>
                <a:gridCol w="3477960"/>
                <a:gridCol w="1492560"/>
                <a:gridCol w="310644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ортиров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бавление от ненужн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85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Упрощ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lify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igh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ведение в порядок, организация по соответств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мет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rub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ee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 в чистоте, обеспечение возможности видеть и решать пробле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езопас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транение небезопасных услов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90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тандартиза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о, что и когда делает для обеспечения работоспособности процес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05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табилиза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tain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f-discip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дисциплина и поддержание в поряд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21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Вытягиван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914400" y="1599840"/>
            <a:ext cx="3813120" cy="12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единяет потоковые ячейки вместе Содержит 3 элемен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8" descr="Min"/>
          <p:cNvPicPr/>
          <p:nvPr/>
        </p:nvPicPr>
        <p:blipFill>
          <a:blip r:embed="rId1">
            <a:lum contrast="6000"/>
          </a:blip>
          <a:srcRect l="25324" t="0" r="20838" b="8540"/>
          <a:stretch/>
        </p:blipFill>
        <p:spPr>
          <a:xfrm>
            <a:off x="5024520" y="1600200"/>
            <a:ext cx="3284280" cy="5029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6" name=""/>
          <p:cNvGraphicFramePr/>
          <p:nvPr/>
        </p:nvGraphicFramePr>
        <p:xfrm>
          <a:off x="838080" y="2876400"/>
          <a:ext cx="3962520" cy="3753000"/>
        </p:xfrm>
        <a:graphic>
          <a:graphicData uri="http://schemas.openxmlformats.org/drawingml/2006/table">
            <a:tbl>
              <a:tblPr/>
              <a:tblGrid>
                <a:gridCol w="2040120"/>
                <a:gridCol w="1922400"/>
              </a:tblGrid>
              <a:tr h="138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1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1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Гото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товность изделия для следующего шага по цепочке – изделие вытягивается только в случае необходим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23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1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1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 Работ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ребляется сей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13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1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пусковой Кур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гнал о том что нужно, где, когда и скольк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21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Стандартная Работ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914400" y="1600200"/>
          <a:ext cx="7772400" cy="4530600"/>
        </p:xfrm>
        <a:graphic>
          <a:graphicData uri="http://schemas.openxmlformats.org/drawingml/2006/table">
            <a:tbl>
              <a:tblPr/>
              <a:tblGrid>
                <a:gridCol w="3767040"/>
                <a:gridCol w="4005360"/>
              </a:tblGrid>
              <a:tr h="167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авно-сбалансирова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абота в команд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85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тандартизирована и постоянно улучшает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се инструменты и материалы доступны в точке использ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22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Стандартная Работ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тандартизация позволяет избежать серьезных отклонений при выполнении работы, как в сроках, так и в получаемом качеств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Визуальное Управлен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838080" y="1676520"/>
          <a:ext cx="4267440" cy="4419360"/>
        </p:xfrm>
        <a:graphic>
          <a:graphicData uri="http://schemas.openxmlformats.org/drawingml/2006/table">
            <a:tbl>
              <a:tblPr/>
              <a:tblGrid>
                <a:gridCol w="3229200"/>
                <a:gridCol w="1038240"/>
              </a:tblGrid>
              <a:tr h="655560"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а в процесс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797040"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икато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45920"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ту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728640"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авнение с план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728640"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гналы трево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63560"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зи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008000"/>
                    </a:solidFill>
                  </a:tcPr>
                </a:tc>
              </a:tr>
            </a:tbl>
          </a:graphicData>
        </a:graphic>
      </p:graphicFrame>
      <p:sp>
        <p:nvSpPr>
          <p:cNvPr id="226" name="Rectangle 29"/>
          <p:cNvSpPr/>
          <p:nvPr/>
        </p:nvSpPr>
        <p:spPr>
          <a:xfrm>
            <a:off x="0" y="6248520"/>
            <a:ext cx="9144000" cy="975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Владельцы процесса – люди, работающие на этом участ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30"/>
          <p:cNvSpPr/>
          <p:nvPr/>
        </p:nvSpPr>
        <p:spPr>
          <a:xfrm>
            <a:off x="5334120" y="1905120"/>
            <a:ext cx="3657600" cy="3581280"/>
          </a:xfrm>
          <a:prstGeom prst="ellipse">
            <a:avLst/>
          </a:prstGeom>
          <a:solidFill>
            <a:srgbClr val="ff0000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1"/>
          <p:cNvSpPr/>
          <p:nvPr/>
        </p:nvSpPr>
        <p:spPr>
          <a:xfrm>
            <a:off x="6404760" y="2819520"/>
            <a:ext cx="14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иде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2"/>
          <p:cNvSpPr/>
          <p:nvPr/>
        </p:nvSpPr>
        <p:spPr>
          <a:xfrm>
            <a:off x="6175440" y="3429000"/>
            <a:ext cx="20840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гновен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 5 секун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ЧИСЛО АЛЬТЕРНАТИВНЫХ СЦЕНАРИЕВ БЕСКОНЕЧН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ью Эверет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Times New Roman"/>
              </a:rPr>
              <a:t>Бережливое производство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режливое производство предполагает вовлечение в процесс оптимизации бизнеса каждого сотрудника и максимальную ориентацию на потребителя. Целями бережливого производства являю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кращение трудозатра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кращение сроков разработки новой продукци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кращение сроков создания продукци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кращение производственных и складских площаде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арантия поставки продукции заказчик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ксимальное качество при минимальной стоим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тправная точка бережливого производств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нность для потребите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точки зрения конечного потребителя, продукт(услуга) приобретает действительную ценность только в то время, когда происходит непосредственная обработка, изготовление технологических элемент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ё, что не добавляет ценности для потребителя, с точки зрения бережливого производства, классифицируется как потери, и должно быть устране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сновные принципы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ить ценность конкретного продукта.(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Ценност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товар или услуга за которую платит Заказчик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ить поток создания ценности для этого проду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еспечить непрерывное течение потока создания ценности проду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зволить потребителю вытягивать продук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емиться к совершенств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01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5 принципов </a:t>
            </a: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LEA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762120" y="1905120"/>
          <a:ext cx="8153280" cy="4525920"/>
        </p:xfrm>
        <a:graphic>
          <a:graphicData uri="http://schemas.openxmlformats.org/drawingml/2006/table">
            <a:tbl>
              <a:tblPr/>
              <a:tblGrid>
                <a:gridCol w="5487840"/>
                <a:gridCol w="2665440"/>
              </a:tblGrid>
              <a:tr h="757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Ценнос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Заказчик покупает на самом дел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10238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Цепочка Создания Ценност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 создается цен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Пото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лучшение цепочки создания цен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Вытягиван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равление потоком только на основании реальных потребнос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914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Совершенствован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оянный нескончаемый процесс улучш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12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Другие принцип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восходное качество (сдача с первого предъявления, система ноль дефектов, обнаружение и решение проблем у истоков их возникновен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бк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ление долговременных отношений с заказчиком (путем деления рисков, затрат и информации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организация, эволюция, адапт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0033"/>
                </a:solidFill>
                <a:latin typeface="Times New Roman"/>
              </a:rPr>
              <a:t>Инструменты бережливого производства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стема TPM (Total Productive Maintenance) — Всеобщий уход за оборудовани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стема 6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сортируйте, соблюдайте порядок, содержите в чистоте, стандартизируйте, совершенствуйте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ыстрая переналадк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Single-Minute Exchange of Dies (буквально «быстрая смена пресс-форм» — переналадка/переоснастка оборудования менее чем за 10 минут). Переналадка в одно касание (One-touch setup) — вариант SMED, но время переналадки уже изменяерся единицами минут, то есть не больше 9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йдзен(kaizen) — непрерывное совершенствова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мба кайдзен — непрерывное совершенствование на месте создания дополнительной стоим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нбан, вытягивающее производство — продукция «вытягивается» со стороны заказчика, а не «толкается» производителем. Информирования предыдущей производственной стадии о том, что нужно начинать работ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очно в срок— система синхронизации передачи продукта с одной производственной стадии на другую посредством карточек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Канба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Комплектующие должны передаваться на следующую стадию только тогда, когда это нужно, и ни минутой раньш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Пока — ёкэ» («защита от ошибок», «защита от дурака») — метод предотвращения ошибок — специальное устройство или метод, благодаря которому дефекты просто не могут появить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1-10T07:57:37Z</dcterms:modified>
  <cp:revision>8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