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2911-A788-4651-88E5-9B75B98A80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4D69-2703-4392-94FB-210A3A57FD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недрени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N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проводника перемен (нужен ЛИДЕР, способный взять на себя ответствен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необходимые знания по систе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нания должны быть получены из надежного источни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или создать кризис (хорошим мотиво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ужит кризис в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карту всего потока создания ценности для каждого семейства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немедленно получить результ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6D24-6F6C-4D32-B257-07536C6960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ошибки при внедрении бережливого произ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 семь видов основных ошиб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имание роли руководства при внедрении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«Системы», не обладающей необходимой гиб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внедрения не с «ос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ются рабочие места, но не меняются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мерять (собирать данные), но ни на что не реаг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ралитический анализ» (бесконечный анализ ситуации, вместо непрерывных улучш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ходиться без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14EB-1637-4219-90DA-A565C6EF12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A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ульту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невозможно без бережливой культуры. Главно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е — человеческий фактор, коллективная раб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ддержку этому оказывает эмоциональный интеллект (EQ) сотруд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е соответствует и определенная корпоративная куль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4660-AEB6-4A0D-BFCB-3F5EB00410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йдзен – это настоящая фило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остоянного, неторопливого совершенствования все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 стоит только с реальными фа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чны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цепция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C836-4EBD-43BB-9AC2-C20E9DD13B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епции кайдзен относят большую часть извес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х техник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ий контроль качества, контроль качества в масштабе всей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нуль деф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подачи предложений и многое друг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31AB-57C7-4A6E-9F1C-03D65F820C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Кайдзен каждый сотрудник является равноправным партнером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23D2-AD93-4191-B4B0-DD3BED5AF0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, в качестве любого последующе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ED57-BBB7-46C1-8694-6D3F5DBF5C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3418-EF79-4DC9-AC32-965CF9A32A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6DE-D03D-4BE8-9579-47A90C4E95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834E-BB0F-4B07-9545-EE922FBD15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 никогда не решишь проблему, если будешь думать так же, как те, кто ее созд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льберт Эйнштейн (1879–1955), немецкий физ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F373-835C-4F69-B5CC-E3A11E100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снижению запасов – метод выявления и решения производствен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системы CAN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запасов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дефектов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стема CANBAN   невозможна без внедрения комплексной системы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A408-7B35-48F0-AE36-951CA711A9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жными элементами системы CANBAN являютс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регулирования потребности и профессиональной ротации кад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сеобщего (TQM) и выборочного ("Дзидока") контроля каче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ыравнивания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1F5B-12C3-41BB-9A91-3E1BA824A2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еимущества системы CANB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качество продукции на всех стадиях производственн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F6F4-3D5B-4831-8797-F2C3C7C7C7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недостатки системы "точно в срок"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ый риск срыва производства и реализации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DED9-A601-4FC2-9EDD-6B58F4293C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AB09-74A9-45B8-8957-2CC35A0969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истема    качеств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9925-B7B4-4EC0-83C7-29AAB96A4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мешающие реализации внедрения системы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стоянства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ня за сиюминутной выгод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аттестации и ранжирования персон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ротация кадров управля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только количественных критериев для оценки деятельности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44D7-FA5E-4882-AB0B-C15018FB8E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уководство объясняет сотрудникам компании, почему перемены необходимы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сотрудник может принять участие в совершенствовании работы на любом этапе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ля строительства системы качества - требуется участие знающих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5BEE-75D7-422B-9431-4B94CE03FA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9 видов пот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ECE9-7A8F-43AF-B83A-CC8BA5E132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 полное использование интеллекта и таланта люд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0785-158A-4DDA-B5AD-4B4BAE7B90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онцепция менеджмента, созданна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oyot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и основанная на неуклонном стремлении к устранению всех видов потер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BE6B-FE68-40EF-8857-29B86784BD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И НЕПРЕРЫВНЫХ УЛУЧ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C6C4-AD02-47B3-BC5A-0632D501E5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952E-36A6-4941-B505-7CC9243C2C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ACC2-D162-4347-8304-5CF561166B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потоковые ячейки вместе Содержит 3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592-8B7C-496D-9E20-8AB943D564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DB8C-0409-4F6F-BD32-3C2299409B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FA6C-30FF-4E3D-8768-469E80D727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CB91-9445-4C05-A847-4C2FB24C74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ЛО АЛЬТЕРНАТИВНЫХ СЦЕНАРИЕВ БЕСКОНЕЧ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ью Эв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7D97-D8FB-434E-9E98-2DFD9C074B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BF3B-F4B9-4BF3-A680-9E46A21EEF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трудозатра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зработки новой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здания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роизводственных и складских площа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я поставки продукции заказчи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ое качество при минима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692E-B1B9-48D8-A9E8-0EACBAEF74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ная точка бережлив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 для потреб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245C-9FC1-4C65-9455-A858EE6D49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ценность конкретного продукта.(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Ц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 или услуга за которую платит Заказч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поток создания ценности для эт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непрерывное течение потока создания ценности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ить потребителю вытягивать проду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совершен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9EA6-6373-44FD-999D-5F87558F77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принцип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казчик покупает на самом д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очка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е цепочки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отоком только на основании реальных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й нескончаемый процесс улуч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7647-5886-4B69-8EDA-4C90A1EDA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, эволюция,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ED41-C270-4BCA-961A-1A0EB4BCF5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 бережливого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TPM (Total Productive Maintenance) — Всеобщий уход за оборудо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переналад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(kaizen) — непрерывное совершен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нб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6BEF-D04F-49D2-89FA-54AEB715F7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E33-B44A-4952-B785-2D119BD4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92C-DDFB-4EB9-B80E-7D4D1E3A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4EB-1359-4810-B99E-18F9A0C7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1A1-1F6D-46F9-A8DD-6F0B6BA5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C240-2DFF-498E-84CD-D0A425AF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C226-2FB2-4229-BC73-D0367E9F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D0FF-A4CA-4D56-8833-4D325CF2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12CE-F167-485B-B27F-2F42AB40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474C-C910-4C5A-809A-970AA61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B3E1-90B2-466E-9D3D-83A4DFAF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FF68-19DE-48B0-B422-7764F390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40A-0FBA-4E4F-B2CB-973BD481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ABE9-7028-435C-8883-E5BA8FB5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DDC8-F434-4280-A029-114F6CF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457D-96FC-48D2-A707-D5986736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38A9-81C5-40C2-B3D9-AE920DE6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BFF4-EB39-4855-A505-0385603A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660-8608-4B8F-A71C-754A3EE0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FC1-EDFA-4E42-9913-B76AFEDD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5B3-DA1B-4291-B87C-6D5B379A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5FE-492E-4B93-977B-DB034F64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F64-6894-4CE5-8FAD-4D0F83A9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52E-4D6B-498B-B1FF-99534E6B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574-6392-4222-BD0F-37886A5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C776-D868-418D-9DBB-E7632A623B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CEF-73F3-4611-9F45-B1F3D46672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лгоритм внедрения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LEAN -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деолог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оводника перемен (нужен ЛИДЕР, способный взять на себя ответ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необходимые знания по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нания должны быть получены из надежного источ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создать кризис (хорошим мотивом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кризис в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карту всего потока создания ценности для каждого семейства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немедленно получить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ипичные ошибки при внедрении бережливого производст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 семь видов основных ошиб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ли руководства при внедрении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«Системы», не обладающей необходимой гиб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внедрения не с «ос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ются рабочие места, но не меняются 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рять (собирать данные), но ни на что не реа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алитический анализ» (бесконечный анализ ситуации, вместо непрерывных улуч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иться без под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EAN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ультур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ливое производство невозможно без бережливой культуры. Главно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е — человеческий фактор, коллектив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ую поддержку этому оказывает эмоциональный интеллект (EQ) сотру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льтуре соответствует и определенная корпоративная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йдзен – это настоящая философ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постоянного, неторопливого совершенствования все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 стоит только с реальными ф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цепция Кайд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9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572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914400" y="184104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епции кайдзен относят большую часть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понских техник менедж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вки-точно-в-с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б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ий контроль качества, контроль качества в масштабе вс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нуль деф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подачи предложений и многое друг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Кайдзен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йдзе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истеме Кайдзен каждый сотрудник является равноправным партнером комп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5988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оставки-точно-в-сро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, в качестве любого последующе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canban-1"/>
          <p:cNvPicPr/>
          <p:nvPr/>
        </p:nvPicPr>
        <p:blipFill>
          <a:blip r:embed="rId1"/>
          <a:stretch/>
        </p:blipFill>
        <p:spPr>
          <a:xfrm>
            <a:off x="838080" y="167652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 никогда не решишь проблему, если будешь думать так же, как те, кто ее соз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берт Эйнштейн (1879–1955), немецкий 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снижению запасов – метод выявления и решения производственны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системы CAN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запас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дефектов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CANBAN   невозможна без внедрения комплексной системы управления каче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ми элементами системы CANBAN являю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егулирования потребности и профессиональной ротации кад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сеобщего (TQM) и выборочного ("Дзидока") контроля качества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равнивания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еимущества системы CANB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качество продукции на всех стадиях производствен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достатки системы "точно в срок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риск срыва производства и реализации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стема   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ловия мешающие реализации внедрения системы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стоянства ц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ня за сиюминутной выг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аттестации и ранжирования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ротация кадров управляющ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количественных критериев для оценки деятельности комп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че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уководство объясняет сотрудникам компании, почему перемены необходимы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аждый сотрудник может принять участие в совершенствовании работы на любом этап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Для строительства системы качества - требуется участие знающих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Times New Roman"/>
              </a:rPr>
              <a:t>9 видов пот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аточно полное использование интеллекта и таланта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цепция менеджмента, созданная на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oyot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основанная на неуклонном стремлении к устранению всех видов поте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6668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ОЛОГИИ НЕПРЕРЫВНЫХ УЛУЧ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9"/>
          <p:cNvSpPr/>
          <p:nvPr/>
        </p:nvSpPr>
        <p:spPr>
          <a:xfrm flipV="1">
            <a:off x="2438280" y="4267080"/>
            <a:ext cx="4361040" cy="1447920"/>
          </a:xfrm>
          <a:custGeom>
            <a:avLst/>
            <a:gdLst>
              <a:gd name="textAreaLeft" fmla="*/ 937080 w 4361040"/>
              <a:gd name="textAreaRight" fmla="*/ 3423960 w 4361040"/>
              <a:gd name="textAreaTop" fmla="*/ 311040 h 1447920"/>
              <a:gd name="textAreaBottom" fmla="*/ 113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84" y="21600"/>
                </a:lnTo>
                <a:lnTo>
                  <a:pt x="159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ОЕ 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5"/>
          <p:cNvSpPr/>
          <p:nvPr/>
        </p:nvSpPr>
        <p:spPr>
          <a:xfrm>
            <a:off x="2514600" y="762120"/>
            <a:ext cx="2484360" cy="2458800"/>
          </a:xfrm>
          <a:prstGeom prst="pie">
            <a:avLst/>
          </a:prstGeom>
          <a:solidFill>
            <a:srgbClr val="ffcc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6"/>
          <p:cNvSpPr/>
          <p:nvPr/>
        </p:nvSpPr>
        <p:spPr>
          <a:xfrm>
            <a:off x="2544840" y="3083040"/>
            <a:ext cx="2492280" cy="24382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fill="none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</a:path>
              <a:path stroke="0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  <a:lnTo>
                  <a:pt x="21600" y="0"/>
                </a:lnTo>
                <a:lnTo>
                  <a:pt x="21757" y="21599"/>
                </a:lnTo>
                <a:close/>
              </a:path>
            </a:pathLst>
          </a:custGeom>
          <a:solidFill>
            <a:srgbClr val="ff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7"/>
          <p:cNvSpPr/>
          <p:nvPr/>
        </p:nvSpPr>
        <p:spPr>
          <a:xfrm>
            <a:off x="4952880" y="3048120"/>
            <a:ext cx="2398680" cy="2477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77880"/>
              <a:gd name="textAreaBottom" fmla="*/ 2478240 h 2477880"/>
            </a:gdLst>
            <a:ahLst/>
            <a:rect l="textAreaLeft" t="textAreaTop" r="textAreaRight" b="textAreaBottom"/>
            <a:pathLst>
              <a:path fill="none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</a:path>
              <a:path stroke="0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  <a:lnTo>
                  <a:pt x="0" y="282"/>
                </a:lnTo>
                <a:lnTo>
                  <a:pt x="21598" y="-1"/>
                </a:lnTo>
                <a:close/>
              </a:path>
            </a:pathLst>
          </a:custGeom>
          <a:solidFill>
            <a:srgbClr val="66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8"/>
          <p:cNvSpPr/>
          <p:nvPr/>
        </p:nvSpPr>
        <p:spPr>
          <a:xfrm>
            <a:off x="4952880" y="762120"/>
            <a:ext cx="2398680" cy="236196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3886200" y="1981080"/>
            <a:ext cx="2109960" cy="22860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3886200" y="3124080"/>
            <a:ext cx="2127240" cy="180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451" h="1">
                <a:moveTo>
                  <a:pt x="0" y="0"/>
                </a:moveTo>
                <a:lnTo>
                  <a:pt x="14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952880" y="2362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5576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952880" y="32004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039920" y="3276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63240" y="25146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 rot="19000200">
            <a:off x="4647960" y="358092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 rot="2625600">
            <a:off x="4876200" y="152352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ные за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 rot="18909600">
            <a:off x="2821320" y="1447200"/>
            <a:ext cx="17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 rot="2613000">
            <a:off x="2818080" y="396216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6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“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600200"/>
          <a:ext cx="8076960" cy="4925880"/>
        </p:xfrm>
        <a:graphic>
          <a:graphicData uri="http://schemas.openxmlformats.org/drawingml/2006/table">
            <a:tbl>
              <a:tblPr/>
              <a:tblGrid>
                <a:gridCol w="3477960"/>
                <a:gridCol w="1492560"/>
                <a:gridCol w="31064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р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авление от ненуж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ро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порядок, организация по соответств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ме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u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в чистоте, обеспечение возможности видеть и решать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небезопасных усло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, что и когда делает для обеспечения работоспособности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бил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дисциплина и поддержание в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ытяг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599840"/>
            <a:ext cx="38131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яет потоковые ячейки вместе Содержит 3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Min"/>
          <p:cNvPicPr/>
          <p:nvPr/>
        </p:nvPicPr>
        <p:blipFill>
          <a:blip r:embed="rId1">
            <a:lum contrast="6000"/>
          </a:blip>
          <a:srcRect l="25324" t="0" r="20838" b="8540"/>
          <a:stretch/>
        </p:blipFill>
        <p:spPr>
          <a:xfrm>
            <a:off x="5024520" y="1600200"/>
            <a:ext cx="32842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838080" y="2876400"/>
          <a:ext cx="3962520" cy="3753000"/>
        </p:xfrm>
        <a:graphic>
          <a:graphicData uri="http://schemas.openxmlformats.org/drawingml/2006/table">
            <a:tbl>
              <a:tblPr/>
              <a:tblGrid>
                <a:gridCol w="2040120"/>
                <a:gridCol w="1922400"/>
              </a:tblGrid>
              <a:tr h="13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ность изделия для следующего шага по цепочке – изделие вытягивается только в случа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Раб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тся сей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усковой К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 о том что нужно, где, когда и ск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767040"/>
                <a:gridCol w="4005360"/>
              </a:tblGrid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вно-сбалансиров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бота в коман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ирована и постоянно улуч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инструменты и материалы доступны в точке ис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изуальное Управ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1676520"/>
          <a:ext cx="4267440" cy="4419360"/>
        </p:xfrm>
        <a:graphic>
          <a:graphicData uri="http://schemas.openxmlformats.org/drawingml/2006/table">
            <a:tbl>
              <a:tblPr/>
              <a:tblGrid>
                <a:gridCol w="3229200"/>
                <a:gridCol w="1038240"/>
              </a:tblGrid>
              <a:tr h="655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процес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970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592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с пл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ы трев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9"/>
          <p:cNvSpPr/>
          <p:nvPr/>
        </p:nvSpPr>
        <p:spPr>
          <a:xfrm>
            <a:off x="0" y="6248520"/>
            <a:ext cx="9144000" cy="9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дельцы процесса – люди, работающие на этом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5334120" y="1905120"/>
            <a:ext cx="3657600" cy="358128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04760" y="2819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175440" y="3429000"/>
            <a:ext cx="208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ИСЛО АЛЬТЕРНАТИВНЫХ СЦЕНАРИЕВ БЕСКОНЕЧ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ью Эвере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Бережливое производ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разработки новой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создания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производственных и складских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я поставки продукции заказч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ачество при минимальной сто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правная точка бережливого производ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ь для потреб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ринцип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ценность конкретного продукта.(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Ц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вар или услуга за которую платит Заказч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ток создания ценности для эт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непрерывное течение потока создания ценности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ь потребителю вытягивать прод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5 принципов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LE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905120"/>
          <a:ext cx="8153280" cy="4525920"/>
        </p:xfrm>
        <a:graphic>
          <a:graphicData uri="http://schemas.openxmlformats.org/drawingml/2006/table">
            <a:tbl>
              <a:tblPr/>
              <a:tblGrid>
                <a:gridCol w="5487840"/>
                <a:gridCol w="2665440"/>
              </a:tblGrid>
              <a:tr h="75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казчик покупает на самом д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2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почка Создания Цен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оздаетс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цепочки создания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ытяги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потоком только на основании реальных потре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вершенств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нескончаемый процесс улуч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ругие принц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рганизация, эволюция, адап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струменты бережливого производст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TPM (Total Productive Maintenance) — Всеобщий уход за оборуд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ая перенала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йдзен(kaizen) — непрерывное совершен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нб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7:57:3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