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1E5D6-DAAB-4CF6-9466-C72F2F53900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Toyota" TargetMode="External"/><Relationship Id="rId2" Type="http://schemas.openxmlformats.org/officeDocument/2006/relationships/slide" Target="../slides/slide3.xml"/><Relationship Id="rId3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режливое производ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4BFAC-09AE-4ACC-B41A-44DA2B90E21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лгоритм внедрения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EAN -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деолог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йти проводника перемен (нужен ЛИДЕР, способный взять на себя ответственность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ить необходимые знания по системе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AN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знания должны быть получены из надежного источника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йти или создать кризис (хорошим мотивом внедрения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AN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лужит кризис в организации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ить карту всего потока создания ценности для каждого семейства продукт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можно быстрей начинать работу по основным направлениям (информация о результатах должна быть доступна персоналу организации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емиться немедленно получить результа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уществлять непрерывные улучшения по системе Кайдзен (переходить от процессов создания ценностей в цехах к административным процессам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5A9F9-B603-4AFD-A452-B9BB923E824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Типичные ошибки при внедрении бережливого производства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ановлено семь видов основных ошибок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понимание роли руководства при внедрении системы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A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роение «Системы», не обладающей необходимой гибкость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чало внедрения не с «основ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яются рабочие места, но не меняются привыч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измерять (собирать данные), но ни на что не реагирова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Паралитический анализ» (бесконечный анализ ситуации, вместо непрерывных улучшений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ходиться без поддерж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A14F5-447E-45A5-9287-ABBC0CF1DEB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AN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культура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режливое производство невозможно без бережливой культуры. Главное в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an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льтуре — человеческий фактор, коллективная рабо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енную поддержку этому оказывает эмоциональный интеллект (EQ) сотрудник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an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ультуре соответствует и определенная корпоративная культур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BB67D-5065-4FA3-B28F-AD7B9CEBDD5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Кайдзен – это настоящая философия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лософия постоянного, неторопливого совершенствования всех процес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ть  стоит только с реальными факт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бор и анализ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точных данны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ершенствование процессов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онцепция Кайдз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0B030-AE54-442A-A0EE-9BD4837EBE7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йдз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концепции кайдзен относят большую часть известны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понских техник менеджмент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поставки-точно-в-срок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нбан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общий контроль качества, контроль качества в масштабе всей компа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у нуль дефек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у подачи предложений и многое друго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4E2D7-BCA5-4EA2-8896-9490E0BA441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Кайдз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истеме Кайдзен каждый сотрудник является равноправным партнером компа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AB1CA-46C8-4A75-B52E-0749D5E07E3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Поставки-точно-в-срок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требитель, в качестве любого последующего проце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ть -  продукция должна быть поставлена потребителю в идеальном варианте. Без дефектов, на каждом предыдущем этап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06838-4980-4AFD-9671-690F7F98F05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истема КАНБ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(CANBAN, тянущая система, pull system) - наиболее распространенная разновид-ность системы "точно в срок") - система, обеспечивающая организацию непрерывного материального потока при отсутствии запасов: производственные запасы подаются не-большими партиями непосредственно в нужные точки производственного процесса, минуя склад, а готовая продукция сразу отгружается покупателя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52BE8-D5BD-44A7-805F-92109160078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истема КАНБ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меры производства на данном участке определяются потребностями следующего производственного участ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D3C07-3C61-4CE8-B65F-2560F66E257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истема КАНБ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82C6C-2219-4FA0-81D5-787E78C7A99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ы никогда не решишь проблему, если будешь думать так же, как те, кто ее созда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Альберт Эйнштейн (1879–1955), немецкий физи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21C58-02E2-44B9-BDBD-BD30244C233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истема КАНБ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емление к снижению запасов – метод выявления и решения производственных пробле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копление запасов и завышенные объемы производства  скрывают: частые поломки и остановки оборудования, производственный бра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требования системы CANB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ноль запасов"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ноль дефектов"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истема CANBAN   невозможна без внедрения комплексной системы управления качеств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6BA97-B2F8-4AA2-9453-1608BCC2F98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истема КАНБ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ажными элементами системы CANBAN являются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ая система, включающая не только карточки, но и производственные, транспортные и снабженческие графики, технологические карты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регулирования потребности и профессиональной ротации кадров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всеобщего (TQM) и выборочного ("Дзидока") контроля качества продукци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выравнивания производ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42B1F-94B2-4E3D-A87E-9FB90613F04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истема КАНБ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преимущества системы CANBAN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роткий производственный цикл, высокая оборачиваемость активов, в том числе запасов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утствуют или чрезвычайно низки издержки хранения производственных и товарных запасов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окое качество продукции на всех стадиях производственного процесс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63B80-5B07-47BA-82DD-4F2307382DE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сновные недостатки системы "точно в срок"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ожность обеспечения высокой согласованности между стадиями производства продукци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чительный риск срыва производства и реализации продук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807EA-25F1-469C-B7CA-009787F4A59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ы «канбан» и «точно вовремя» - два метода управления производством и запасами - помогают найти лучшие способы повышения производительности процесса и качества продук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456F0-A2D6-438D-997E-3C74CCFB7F2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Calibri"/>
              </a:rPr>
              <a:t>Система    качества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Четырнадцать принципов Уильям Эдвардса Деминг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стоянство цел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улучшение продукции и обслужив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овая философ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для нового экономического периода путем познания менеджерами своих обязанностей и принятия на себя лидерства на пути к переменам. Далее, обращаясь к менеджерам, д-р Деминг призывает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кончите с зависимостью от массового контрол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 достижении качества; исключите необходимость в массовом контроле, сделав качество неотъемлемым свойством продукции, «встроив» качество в продукцию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кончите с практикой закупок по самой дешевой цене;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место этого следует минимизировать общие затраты и стремиться к выбору определенного поставщика для каждого продукта, необходимого в производств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лучшайте каждый процесс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для улучшения качества, повышения производительности и уменьшения затра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ведите в практику подготовку и переподготовку кадров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чредите «лидерство»;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роцесс руководства сотрудниками должен помогать им лучше делать свою работу; необходимо тщательно рассмотреть систему управления персонал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згоняйте страхи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чтобы все могли эффективно работать для предприят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зрушайте барьер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между подразделениями; исследования, проектирование, производство и реализация должны быть объединены, чтобы предвидеть проблемы производства и эксплуат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ткажитесь от пустых лозунгов, призыв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для производственного персонала, таких, как «ноль дефектов» или новые задания по производительности. Такие призывы бессмысленны, так как подавляющее большинство проблем возникает в системе и находится вне возможностей работник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страните произвольно установленные задания и количественные нормы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айте работникам возможность гордиться своим трудом;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устраните барьеры, которые обкрадывают рабочих и руководителей, лишая их возможности гордиться своим труд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ощряйте стремление к образованию и совершенствованию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обходима приверженность делу повышения качества и действенность высшего руководства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A9C0B-6696-450B-A89D-C583A70F05F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словия мешающие реализации внедрения системы качеств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утствие постоянства целе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гоня за сиюминутной выгодо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ы аттестации и ранжирования персонал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оянная ротация кадров управляющих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 только количественных критериев для оценки деятельности компан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4E96C-4795-44B1-8E8B-28646158AB3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кач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лан действ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руководство, опираясь на все 14 принципов, борется со «смертельными болезнями» и препятствиями, согласовывает понятия и направления планов;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руководство собирается с духом и внутренне настраивается на движение в новом направлении;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руководство объясняет сотрудникам компании, почему перемены необходимы;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) вся деятельность компании разбивается на этапы (стадии), при этом каждый последующий этап является как бы заказчиком предыдущего. Постоянное улучшение методов работы должно осуществляться на каждом этапе, и каждый этап должен работать в направлении качества;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) как можно быстрее строится организационная структура, которая будет работать на постоянное улучшение качества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) каждый сотрудник может принять участие в совершенствовании работы на любом этапе;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) Для строительства системы качества - требуется участие знающих специалист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D084D-6CFF-442B-A67F-AE4C30F475B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9 видов потер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Учитесь видеть эти потери и избавляться от них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Calibri"/>
              </a:rPr>
              <a:t>ТРАВМЫ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чинение вреда здоровью люде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Calibri"/>
              </a:rPr>
              <a:t>ТРАНСПОРТИРОВК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еремещения вещей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Calibri"/>
              </a:rPr>
              <a:t>СКЛАДЫ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ещи, ожидающие своего час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Calibri"/>
              </a:rPr>
              <a:t>ПЕРЕМЕЩЕНИЯ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злишние перемещения люде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Calibri"/>
              </a:rPr>
              <a:t>ВРЕМЯ ОЖИДАНИЯ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жидание чего-либ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Calibri"/>
              </a:rPr>
              <a:t>ПЕРЕПРОИЗВОДСТВ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лишком много продукции/ресурсов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Calibri"/>
              </a:rPr>
              <a:t>ИЗЛИШНЯЯ ОБРАБОТК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–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елание того, что не добавляет ценн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Calibri"/>
              </a:rPr>
              <a:t>БРАК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«неправильные» вещи, требующие доработк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3B094-0196-4371-B05C-400A6B185E3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едостаточно полное использование интеллекта и таланта люде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6F797-5507-43FA-A451-FF127910D9A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lean production, lean manufacturing — англ. lean — постный, стройный, без жира; в России с 2004 года принят перевод «бережливое», хотя ранее встречались варианты «стройное», «щадящее», «рачительное», сейчас также встречается вариант с транслитом «лин») —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Calibri"/>
              </a:rPr>
              <a:t>концепция менеджмента, созданная на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Toyota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Calibri"/>
              </a:rPr>
              <a:t> и основанная на неуклонном стремлении к устранению всех видов потерь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6FDEA-4437-4364-86E9-949E52ACB9F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СТРУМЕНТ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ДЕОЛОГИИ НЕПРЕРЫВНЫХ УЛУЧ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0E43B-306C-432E-9AE5-7CB49D7505D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ИЗУАЛЬНОЕ  УПРАВ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8FE0F-7093-4360-8C33-002919D83CE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6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“S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F03DD-E61C-4984-B626-11978176586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ытяги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диняет потоковые ячейки вместе Содержит 3 элемент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002FC-B519-423A-85A5-428911D0827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тандартная Раб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0AF70-7B5C-47F5-9BC6-6EC11338EEB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тандартная Раб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изация позволяет избежать серьезных отклонений при выполнении работы, как в сроках, так и в получаемом качеств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05329-5526-480C-87FC-AEF50858B80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изуальное Управ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E5F0A-6993-4C8D-A122-09B7FAAB17B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ЧИСЛО АЛЬТЕРНАТИВНЫХ СЦЕНАРИЕВ БЕСКОНЕЧНО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ью Эверет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E4986-6EAB-4A2A-BE86-162D099BC47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АСИБО ЗА ВНИМАНИЕ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04DBC-A405-4797-B791-377393FB372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ережливое производ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режливое производство предполагает вовлечение в процесс оптимизации бизнеса каждого сотрудника и максимальную ориентацию на потребителя. Целями бережливого производства являю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кращение трудозатрат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кращение сроков разработки новой продукци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кращение сроков создания продукци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кращение производственных и складских площаде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арантия поставки продукции заказчику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симальное качество при минимальной стоим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1A777-FDA4-436E-8E4D-1BB74274F98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правная точка бережливого произво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ность для потребител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точки зрения конечного потребителя, продукт(услуга) приобретает действительную ценность только в то время, когда происходит непосредственная обработка, изготовление технологических элемент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ё, что не добавляет ценности для потребителя, с точки зрения бережливого производства, классифицируется как потери, и должно быть устране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08B20-67CB-4E6A-93CE-B0E9B7D448C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принцип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ить ценность конкретного продукта.(</a:t>
            </a:r>
            <a:r>
              <a:rPr b="1" i="1" lang="ru-RU" sz="1200" spc="-1" strike="noStrike">
                <a:solidFill>
                  <a:srgbClr val="ff3300"/>
                </a:solidFill>
                <a:latin typeface="Calibri"/>
              </a:rPr>
              <a:t>Ценност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товар или услуга за которую платит Заказчик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ить поток создания ценности для этого продук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ить непрерывное течение потока создания ценности продук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волить потребителю вытягивать продук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емиться к совершенств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112A5-E124-4004-ACD6-3376F916C96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5 принципов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LE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Ц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Заказчик покупает на самом дел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Цепочка Создания Ц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создается ц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от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лучшение цепочки создания ц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ытяги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ение потоком только на основании реальных потребност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овершенств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оянный нескончаемый процесс улуч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3BE78-EF5A-4BBF-A6E3-A1AE6A35BA9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ругие принцип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восходное качество (сдача с первого предъявления, система ноль дефектов, обнаружение и решение проблем у истоков их возникновения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бкос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ановление долговременных отношений с заказчиком (путем деления рисков, затрат и информации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оорганизация, эволюция, адапт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B03AD-B982-414F-A642-C7F905D5D22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нструменты бережливого производств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TPM (Total Productive Maintenance) — Всеобщий уход за оборудовани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6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сортируйте, соблюдайте порядок, содержите в чистоте, стандартизируйте, совершенствуйте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ыстрая переналадк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Single-Minute Exchange of Dies (буквально «быстрая смена пресс-форм» — переналадка/переоснастка оборудования менее чем за 10 минут). Переналадка в одно касание (One-touch setup) — вариант SMED, но время переналадки уже изменяерся единицами минут, то есть не больше 9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йдзен(kaizen) — непрерывное совершенствов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мба кайдзен — непрерывное совершенствование на месте создания дополнительной стоим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нбан, вытягивающее производство — продукция «вытягивается» со стороны заказчика, а не «толкается» производителем. Информирования предыдущей производственной стадии о том, что нужно начинать работ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чно в срок— система синхронизации передачи продукта с одной производственной стадии на другую посредством карточек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Канба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Комплектующие должны передаваться на следующую стадию только тогда, когда это нужно, и ни минутой раньш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Пока — ёкэ» («защита от ошибок», «защита от дурака») — метод предотвращения ошибок — специальное устройство или метод, благодаря которому дефекты просто не могут появить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F7686-1AD0-4573-B035-FA96D29AAFA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D5A3-969D-40ED-8AF4-6A601723D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4634-711D-4388-BA45-B0F348833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99C0-B978-4666-BB78-A3AC648CA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A613-E99B-47F8-8A7E-274D1292B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45F92-4E18-4D4F-AE5C-C4A1E4A1E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55CE0-9B6E-4F32-B529-FD3A266F8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F7F78-29D7-4CB2-87F6-A6902E2EC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0D82B-D38F-4411-8029-0B70109B6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B649A-58BC-4D8B-90C2-B1F0AD2AB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6E151-DB46-4971-A9D6-D7E47FA8E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D6632-56F1-42A8-A8FE-8E230E7E4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1E97-CA72-4F4C-9D07-105075099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A7186-848C-4DC9-ACCC-06A71DD64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7FC47-6ACC-4E56-B68F-1F2BFE232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F5742-E3D2-4B9A-8307-E8C3C2C59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30A40-4684-4A84-AAEA-6C89FAB3F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02B31-7E84-4F9D-9212-63D6B08F3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B04F-7A78-4F04-AAAC-86370E35C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3E5C-DDE7-403A-AB0D-7495A8BE9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0A39-C768-4A73-83A7-60FE5E728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07E7-0923-463F-B0EF-36613C422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8692-BBE0-4666-8A78-C6D126AD9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A5EE-6B1F-4DA3-8F2F-CBB2FE40A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F1A6-F290-4F21-A66B-48809D35D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D05AA-D436-4CE0-B253-2D7BE65B0AD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E897E-F518-4235-B561-8EC8C73C6AC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Toyota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761760" y="1295280"/>
            <a:ext cx="7543800" cy="426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00000"/>
                </a:solidFill>
                <a:latin typeface="Arial"/>
              </a:rPr>
              <a:t>Бережливое производство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3544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Алгоритм внедрения </a:t>
            </a: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LEAN - </a:t>
            </a: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идеологии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йти проводника перемен (нужен ЛИДЕР, способный взять на себя ответственность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учить необходимые знания по систем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знания должны быть получены из надежного источника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йти или создать кризис (хорошим мотивом внедрения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лужит кризис в организации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ставить карту всего потока создания ценности для каждого семейства продукт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 можно быстрей начинать работу по основным направлениям (информация о результатах должна быть доступна персоналу организации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ремиться немедленно получить результа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уществлять непрерывные улучшения по системе Кайдзен (переходить от процессов создания ценностей в цехах к административным процессам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Типичные ошибки при внедрении бережливого производства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тановлено семь видов основных ошибок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понимание роли руководства при внедрении системы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троение «Системы», не обладающей необходимой гибкость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чало внедрения не с «основ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меняются рабочие места, но не меняются привыч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 измерять (собирать данные), но ни на что не реагиров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Паралитический анализ» (бесконечный анализ ситуации, вместо непрерывных улучшени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ходиться без поддерж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L</a:t>
            </a: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EAN </a:t>
            </a: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 культура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ережливое производство невозможно без бережливой культуры. Главное в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n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ультуре — человеческий фактор, коллективная работ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ущественную поддержку этому оказывает эмоциональный интеллект (EQ) сотрудник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n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культуре соответствует и определенная корпоративная культур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Кайдзен – это настоящая философия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илософия постоянного, неторопливого совершенствования всех процес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ботать  стоит только с реальными факт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бор и анализ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точных данных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вершенствование процессов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концепция Кайдзе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279000" y="324576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990720" y="4572000"/>
            <a:ext cx="701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5"/>
          <p:cNvSpPr/>
          <p:nvPr/>
        </p:nvSpPr>
        <p:spPr>
          <a:xfrm>
            <a:off x="914400" y="1841040"/>
            <a:ext cx="77724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 концепции кайдзен относят большую часть известны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понских техник менеджмент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поставки-точно-в-срок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нба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еобщий контроль качества, контроль качества в масштабе всей компан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стему нуль дефек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стему подачи предложений и многое друго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330033"/>
                </a:solidFill>
                <a:latin typeface="Times New Roman"/>
              </a:rPr>
              <a:t>Кайдзен</a:t>
            </a: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Система Кайдзен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 системе Кайдзен каждый сотрудник является равноправным партнером компан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457200" y="5988960"/>
            <a:ext cx="83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Times New Roman"/>
              </a:rPr>
              <a:t>«Поставки-точно-в-срок»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требитель, в качестве любого последующего процес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уть -  продукция должна быть поставлена потребителю в идеальном варианте. Без дефектов, на каждом предыдущем этап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Система КАНБАН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(CANBAN, тянущая система, pull system) - наиболее распространенная разновид-ность системы "точно в срок") - система, обеспечивающая организацию непрерывного материального потока при отсутствии запасов: производственные запасы подаются не-большими партиями непосредственно в нужные точки производственного процесса, минуя склад, а готовая продукция сразу отгружается покупателя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Система КАНБАН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меры производства на данном участке определяются потребностями следующего производственного участк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Система КАНБАН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60" name="Picture 4" descr="canban-1"/>
          <p:cNvPicPr/>
          <p:nvPr/>
        </p:nvPicPr>
        <p:blipFill>
          <a:blip r:embed="rId1"/>
          <a:stretch/>
        </p:blipFill>
        <p:spPr>
          <a:xfrm>
            <a:off x="838080" y="1676520"/>
            <a:ext cx="8001000" cy="4724280"/>
          </a:xfrm>
          <a:prstGeom prst="rect">
            <a:avLst/>
          </a:prstGeom>
          <a:ln w="0">
            <a:noFill/>
          </a:ln>
        </p:spPr>
      </p:pic>
      <p:sp>
        <p:nvSpPr>
          <p:cNvPr id="16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914400" y="1981080"/>
            <a:ext cx="77724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ы никогда не решишь проблему, если будешь думать так же, как те, кто ее созда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льберт Эйнштейн (1879–1955), немецкий физ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Система КАНБАН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емление к снижению запасов – метод выявления и решения производственных пробле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копление запасов и завышенные объемы производства  скрывают: частые поломки и остановки оборудования, производственный бра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ые требования системы CANB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"ноль запасов"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"ноль дефектов"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Система CANBAN   невозможна без внедрения комплексной системы управления качество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Система КАНБАН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ажными элементами системы CANBAN являются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формационная система, включающая не только карточки, но и производственные, транспортные и снабженческие графики, технологические карты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а регулирования потребности и профессиональной ротации кадров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а всеобщего (TQM) и выборочного ("Дзидока") контроля качества продукци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а выравнивания производств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Система КАНБАН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новные преимущества системы CANBAN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роткий производственный цикл, высокая оборачиваемость активов, в том числе запасов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сутствуют или чрезвычайно низки издержки хранения производственных и товарных запасов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сокое качество продукции на всех стадиях производственного процесс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сновные недостатки системы "точно в срок"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ожность обеспечения высокой согласованности между стадиями производства продукции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начительный риск срыва производства и реализации продукц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стемы «канбан» и «точно вовремя» - два метода управления производством и запасами - помогают найти лучшие способы повышения производительности процесса и качества продукц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Система    качества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Четырнадцать принципов Уильям Эдвардса Демин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стоянство цел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— улучшение продукции и обслужива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овая философ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для нового экономического периода путем познания менеджерами своих обязанностей и принятия на себя лидерства на пути к переменам. Далее, обращаясь к менеджерам, д-р Деминг призывает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кончите с зависимостью от массового контрол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 достижении качества; исключите необходимость в массовом контроле, сделав качество неотъемлемым свойством продукции, «встроив» качество в продукцию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кончите с практикой закупок по самой дешевой цене;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место этого следует минимизировать общие затраты и стремиться к выбору определенного поставщика для каждого продукта, необходимого в производств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лучшайте каждый процесс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для улучшения качества, повышения производительности и уменьшения затрат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ведите в практику подготовку и переподготовку кадров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чредите «лидерство»;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роцесс руководства сотрудниками должен помогать им лучше делать свою работу; необходимо тщательно рассмотреть систему управления персонало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згоняйте страхи,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чтобы все могли эффективно работать для предприят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зрушайте барьер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между подразделениями; исследования, проектирование, производство и реализация должны быть объединены, чтобы предвидеть проблемы производства и эксплуата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ткажитесь от пустых лозунгов, призыво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для производственного персонала, таких, как «ноль дефектов» или новые задания по производительности. Такие призывы бессмысленны, так как подавляющее большинство проблем возникает в системе и находится вне возможностей работник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страните произвольно установленные задания и количественные нормы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айте работникам возможность гордиться своим трудом;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устраните барьеры, которые обкрадывают рабочих и руководителей, лишая их возможности гордиться своим трудо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ощряйте стремление к образованию и совершенствованию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еобходима приверженность делу повышения качества и действенность высшего руководства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Условия мешающие реализации внедрения системы качества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сутствие постоянства целей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гоня за сиюминутной выгодой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стемы аттестации и ранжирования персонала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тоянная ротация кадров управляющих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пользование только количественных критериев для оценки деятельности компан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Система качеств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лан действ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) руководство, опираясь на все 14 принципов, борется со «смертельными болезнями» и препятствиями, согласовывает понятия и направления планов;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) руководство собирается с духом и внутренне настраивается на движение в новом направлении;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) руководство объясняет сотрудникам компании, почему перемены необходимы;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) вся деятельность компании разбивается на этапы (стадии), при этом каждый последующий этап является как бы заказчиком предыдущего. Постоянное улучшение методов работы должно осуществляться на каждом этапе, и каждый этап должен работать в направлении качества;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5) как можно быстрее строится организационная структура, которая будет работать на постоянное улучшение качества.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6) каждый сотрудник может принять участие в совершенствовании работы на любом этапе;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7) Для строительства системы качества - требуется участие знающих специалисто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99"/>
                </a:solidFill>
                <a:latin typeface="Times New Roman"/>
              </a:rPr>
              <a:t>9 видов потерь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15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читесь видеть эти потери и избавляться от них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15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ТРАВМ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чинение вреда здоровью люд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15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ТРАНСПОРТИРОВК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емещения веще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15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СКЛАД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щи, ожидающие своего ча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15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ПЕРЕМЕЩЕ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лишние перемещения люд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15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ВРЕМЯ ОЖИДА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жидание чего-либ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15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ПЕРЕПРОИЗВОДСТВ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ишком много продукции/ресурсо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15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ИЗЛИШНЯЯ ОБРАБОТК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лание того, что не добавляет цен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15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БРА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неправильные» вещи, требующие доработ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Недостаточно полное использование интеллекта и таланта люде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914400" y="167616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lean production, lean manufacturing — англ. lean — постный, стройный, без жира; в России с 2004 года принят перевод «бережливое», хотя ранее встречались варианты «стройное», «щадящее», «рачительное», сейчас также встречается вариант с транслитом «лин») —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концепция менеджмента, созданная на </a:t>
            </a:r>
            <a:r>
              <a:rPr b="0" lang="ru-RU" sz="3200" spc="-1" strike="noStrike" u="sng">
                <a:solidFill>
                  <a:srgbClr val="990033"/>
                </a:solidFill>
                <a:uFillTx/>
                <a:latin typeface="Arial"/>
                <a:hlinkClick r:id="rId1"/>
              </a:rPr>
              <a:t>Toyota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 и основанная на неуклонном стремлении к устранению всех видов потерь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1066680" y="228600"/>
            <a:ext cx="731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Бережливое производств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НСТРУМЕНТ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ДЕОЛОГИИ НЕПРЕРЫВНЫХ УЛУЧШЕН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AutoShape 9"/>
          <p:cNvSpPr/>
          <p:nvPr/>
        </p:nvSpPr>
        <p:spPr>
          <a:xfrm flipV="1">
            <a:off x="2438280" y="4267080"/>
            <a:ext cx="4361040" cy="1447920"/>
          </a:xfrm>
          <a:custGeom>
            <a:avLst/>
            <a:gdLst>
              <a:gd name="textAreaLeft" fmla="*/ 937080 w 4361040"/>
              <a:gd name="textAreaRight" fmla="*/ 3423960 w 4361040"/>
              <a:gd name="textAreaTop" fmla="*/ 311040 h 1447920"/>
              <a:gd name="textAreaBottom" fmla="*/ 11368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684" y="21600"/>
                </a:lnTo>
                <a:lnTo>
                  <a:pt x="15916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457200" y="5715000"/>
            <a:ext cx="8229600" cy="944640"/>
          </a:xfrm>
          <a:prstGeom prst="rect">
            <a:avLst/>
          </a:pr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ИЗУАЛЬНОЕ  УПРАВ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rc 5"/>
          <p:cNvSpPr/>
          <p:nvPr/>
        </p:nvSpPr>
        <p:spPr>
          <a:xfrm>
            <a:off x="2514600" y="762120"/>
            <a:ext cx="2484360" cy="2458800"/>
          </a:xfrm>
          <a:prstGeom prst="pie">
            <a:avLst/>
          </a:prstGeom>
          <a:solidFill>
            <a:srgbClr val="ffcc66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rc 6"/>
          <p:cNvSpPr/>
          <p:nvPr/>
        </p:nvSpPr>
        <p:spPr>
          <a:xfrm>
            <a:off x="2544840" y="3083040"/>
            <a:ext cx="2492280" cy="2438280"/>
          </a:xfrm>
          <a:custGeom>
            <a:avLst/>
            <a:gdLst>
              <a:gd name="textAreaLeft" fmla="*/ 0 w 2492280"/>
              <a:gd name="textAreaRight" fmla="*/ 2492640 w 2492280"/>
              <a:gd name="textAreaTop" fmla="*/ 0 h 2438280"/>
              <a:gd name="textAreaBottom" fmla="*/ 2438640 h 2438280"/>
            </a:gdLst>
            <a:ahLst/>
            <a:rect l="textAreaLeft" t="textAreaTop" r="textAreaRight" b="textAreaBottom"/>
            <a:pathLst>
              <a:path fill="none" w="21757" h="21600">
                <a:moveTo>
                  <a:pt x="21757" y="21599"/>
                </a:moveTo>
                <a:cubicBezTo>
                  <a:pt x="21704" y="21599"/>
                  <a:pt x="21652" y="21599"/>
                  <a:pt x="21600" y="21600"/>
                </a:cubicBezTo>
                <a:cubicBezTo>
                  <a:pt x="9688" y="21600"/>
                  <a:pt x="25" y="11957"/>
                  <a:pt x="0" y="45"/>
                </a:cubicBezTo>
              </a:path>
              <a:path stroke="0" w="21757" h="21600">
                <a:moveTo>
                  <a:pt x="21757" y="21599"/>
                </a:moveTo>
                <a:cubicBezTo>
                  <a:pt x="21704" y="21599"/>
                  <a:pt x="21652" y="21599"/>
                  <a:pt x="21600" y="21600"/>
                </a:cubicBezTo>
                <a:cubicBezTo>
                  <a:pt x="9688" y="21600"/>
                  <a:pt x="25" y="11957"/>
                  <a:pt x="0" y="45"/>
                </a:cubicBezTo>
                <a:lnTo>
                  <a:pt x="21600" y="0"/>
                </a:lnTo>
                <a:lnTo>
                  <a:pt x="21757" y="21599"/>
                </a:lnTo>
                <a:close/>
              </a:path>
            </a:pathLst>
          </a:custGeom>
          <a:solidFill>
            <a:srgbClr val="ff9999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rc 7"/>
          <p:cNvSpPr/>
          <p:nvPr/>
        </p:nvSpPr>
        <p:spPr>
          <a:xfrm>
            <a:off x="4952880" y="3048120"/>
            <a:ext cx="2398680" cy="2477880"/>
          </a:xfrm>
          <a:custGeom>
            <a:avLst/>
            <a:gdLst>
              <a:gd name="textAreaLeft" fmla="*/ 0 w 2398680"/>
              <a:gd name="textAreaRight" fmla="*/ 2399040 w 2398680"/>
              <a:gd name="textAreaTop" fmla="*/ 0 h 2477880"/>
              <a:gd name="textAreaBottom" fmla="*/ 2478240 h 2477880"/>
            </a:gdLst>
            <a:ahLst/>
            <a:rect l="textAreaLeft" t="textAreaTop" r="textAreaRight" b="textAreaBottom"/>
            <a:pathLst>
              <a:path fill="none" w="21600" h="21882">
                <a:moveTo>
                  <a:pt x="21598" y="-1"/>
                </a:moveTo>
                <a:cubicBezTo>
                  <a:pt x="21599" y="93"/>
                  <a:pt x="21600" y="187"/>
                  <a:pt x="21600" y="282"/>
                </a:cubicBezTo>
                <a:cubicBezTo>
                  <a:pt x="21600" y="12155"/>
                  <a:pt x="12016" y="21802"/>
                  <a:pt x="142" y="21881"/>
                </a:cubicBezTo>
              </a:path>
              <a:path stroke="0" w="21600" h="21882">
                <a:moveTo>
                  <a:pt x="21598" y="-1"/>
                </a:moveTo>
                <a:cubicBezTo>
                  <a:pt x="21599" y="93"/>
                  <a:pt x="21600" y="187"/>
                  <a:pt x="21600" y="282"/>
                </a:cubicBezTo>
                <a:cubicBezTo>
                  <a:pt x="21600" y="12155"/>
                  <a:pt x="12016" y="21802"/>
                  <a:pt x="142" y="21881"/>
                </a:cubicBezTo>
                <a:lnTo>
                  <a:pt x="0" y="282"/>
                </a:lnTo>
                <a:lnTo>
                  <a:pt x="21598" y="-1"/>
                </a:lnTo>
                <a:close/>
              </a:path>
            </a:pathLst>
          </a:custGeom>
          <a:solidFill>
            <a:srgbClr val="66ff66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rc 8"/>
          <p:cNvSpPr/>
          <p:nvPr/>
        </p:nvSpPr>
        <p:spPr>
          <a:xfrm>
            <a:off x="4952880" y="762120"/>
            <a:ext cx="2398680" cy="2361960"/>
          </a:xfrm>
          <a:prstGeom prst="pie">
            <a:avLst/>
          </a:prstGeom>
          <a:solidFill>
            <a:srgbClr val="66cc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Oval 12"/>
          <p:cNvSpPr/>
          <p:nvPr/>
        </p:nvSpPr>
        <p:spPr>
          <a:xfrm>
            <a:off x="3886200" y="1981080"/>
            <a:ext cx="2109960" cy="2286000"/>
          </a:xfrm>
          <a:prstGeom prst="ellipse">
            <a:avLst/>
          </a:prstGeom>
          <a:solidFill>
            <a:srgbClr val="cce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reeform 13"/>
          <p:cNvSpPr/>
          <p:nvPr/>
        </p:nvSpPr>
        <p:spPr>
          <a:xfrm>
            <a:off x="3886200" y="3124080"/>
            <a:ext cx="2127240" cy="1800"/>
          </a:xfrm>
          <a:custGeom>
            <a:avLst/>
            <a:gdLst>
              <a:gd name="textAreaLeft" fmla="*/ 0 w 2127240"/>
              <a:gd name="textAreaRight" fmla="*/ 2127600 w 212724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1451" h="1">
                <a:moveTo>
                  <a:pt x="0" y="0"/>
                </a:moveTo>
                <a:lnTo>
                  <a:pt x="1451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15"/>
          <p:cNvSpPr/>
          <p:nvPr/>
        </p:nvSpPr>
        <p:spPr>
          <a:xfrm>
            <a:off x="4952880" y="198108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6"/>
          <p:cNvSpPr/>
          <p:nvPr/>
        </p:nvSpPr>
        <p:spPr>
          <a:xfrm>
            <a:off x="4952880" y="2362320"/>
            <a:ext cx="9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ан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бо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7"/>
          <p:cNvSpPr/>
          <p:nvPr/>
        </p:nvSpPr>
        <p:spPr>
          <a:xfrm>
            <a:off x="4955760" y="350532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18"/>
          <p:cNvSpPr/>
          <p:nvPr/>
        </p:nvSpPr>
        <p:spPr>
          <a:xfrm>
            <a:off x="4952880" y="3200400"/>
            <a:ext cx="104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тяг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9"/>
          <p:cNvSpPr/>
          <p:nvPr/>
        </p:nvSpPr>
        <p:spPr>
          <a:xfrm>
            <a:off x="4039920" y="327672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6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20"/>
          <p:cNvSpPr/>
          <p:nvPr/>
        </p:nvSpPr>
        <p:spPr>
          <a:xfrm>
            <a:off x="3963240" y="2514600"/>
            <a:ext cx="89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т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1"/>
          <p:cNvSpPr/>
          <p:nvPr/>
        </p:nvSpPr>
        <p:spPr>
          <a:xfrm rot="19000200">
            <a:off x="4647960" y="3580920"/>
            <a:ext cx="2672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ребован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22"/>
          <p:cNvSpPr/>
          <p:nvPr/>
        </p:nvSpPr>
        <p:spPr>
          <a:xfrm rot="2625600">
            <a:off x="4876200" y="1523520"/>
            <a:ext cx="2625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ниженные затра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23"/>
          <p:cNvSpPr/>
          <p:nvPr/>
        </p:nvSpPr>
        <p:spPr>
          <a:xfrm rot="18909600">
            <a:off x="2821320" y="1447200"/>
            <a:ext cx="1722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дин 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дн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24"/>
          <p:cNvSpPr/>
          <p:nvPr/>
        </p:nvSpPr>
        <p:spPr>
          <a:xfrm rot="2613000">
            <a:off x="2818080" y="3962160"/>
            <a:ext cx="212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ез бра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6 </a:t>
            </a: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“S”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762120" y="1600200"/>
          <a:ext cx="8076960" cy="4925880"/>
        </p:xfrm>
        <a:graphic>
          <a:graphicData uri="http://schemas.openxmlformats.org/drawingml/2006/table">
            <a:tbl>
              <a:tblPr/>
              <a:tblGrid>
                <a:gridCol w="3477960"/>
                <a:gridCol w="1492560"/>
                <a:gridCol w="3106440"/>
              </a:tblGrid>
              <a:tr h="64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1" i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Сортиров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бавление от ненужно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851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1" i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Упрощ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plify/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aigh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ведение в порядок, организация по соответстви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1" i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Смета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rub/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wee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держание в чистоте, обеспечение возможности видеть и решать проблем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63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1" i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Безопас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странение небезопасных услов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903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1" i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Стандартизац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ndard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то, что и когда делает для обеспечения работоспособности процесс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1058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1" i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Стабилизац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stain/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lf-discipl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модисциплина и поддержание в порядк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sp>
        <p:nvSpPr>
          <p:cNvPr id="21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Вытягивание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914400" y="1599840"/>
            <a:ext cx="3813120" cy="122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ъединяет потоковые ячейки вместе Содержит 3 элемент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8" descr="Min"/>
          <p:cNvPicPr/>
          <p:nvPr/>
        </p:nvPicPr>
        <p:blipFill>
          <a:blip r:embed="rId1">
            <a:lum contrast="6000"/>
          </a:blip>
          <a:srcRect l="25324" t="0" r="20838" b="8540"/>
          <a:stretch/>
        </p:blipFill>
        <p:spPr>
          <a:xfrm>
            <a:off x="5024520" y="1600200"/>
            <a:ext cx="3284280" cy="5029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6" name=""/>
          <p:cNvGraphicFramePr/>
          <p:nvPr/>
        </p:nvGraphicFramePr>
        <p:xfrm>
          <a:off x="838080" y="2876400"/>
          <a:ext cx="3962520" cy="3753000"/>
        </p:xfrm>
        <a:graphic>
          <a:graphicData uri="http://schemas.openxmlformats.org/drawingml/2006/table">
            <a:tbl>
              <a:tblPr/>
              <a:tblGrid>
                <a:gridCol w="2040120"/>
                <a:gridCol w="1922400"/>
              </a:tblGrid>
              <a:tr h="1384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108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108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Готов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товность изделия для следующего шага по цепочке – изделие вытягивается только в случае необходим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1234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108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108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 Работ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требляется сейча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1133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108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Спусковой Куро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гнал о том что нужно, где, когда и скольк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ccccff"/>
                    </a:solidFill>
                  </a:tcPr>
                </a:tc>
              </a:tr>
            </a:tbl>
          </a:graphicData>
        </a:graphic>
      </p:graphicFrame>
      <p:sp>
        <p:nvSpPr>
          <p:cNvPr id="21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Стандартная Работ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914400" y="1600200"/>
          <a:ext cx="7772400" cy="4530600"/>
        </p:xfrm>
        <a:graphic>
          <a:graphicData uri="http://schemas.openxmlformats.org/drawingml/2006/table">
            <a:tbl>
              <a:tblPr/>
              <a:tblGrid>
                <a:gridCol w="3767040"/>
                <a:gridCol w="4005360"/>
              </a:tblGrid>
              <a:tr h="1677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Равно-сбалансирова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Работа в команд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852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Стандартизирована и постоянно улучшаетс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се инструменты и материалы доступны в точке использова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22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Стандартная Работ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тандартизация позволяет избежать серьезных отклонений при выполнении работы, как в сроках, так и в получаемом качеств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Визуальное Управление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838080" y="1676520"/>
          <a:ext cx="4267440" cy="4419360"/>
        </p:xfrm>
        <a:graphic>
          <a:graphicData uri="http://schemas.openxmlformats.org/drawingml/2006/table">
            <a:tbl>
              <a:tblPr/>
              <a:tblGrid>
                <a:gridCol w="3229200"/>
                <a:gridCol w="1038240"/>
              </a:tblGrid>
              <a:tr h="655560">
                <a:tc>
                  <a:txBody>
                    <a:bodyPr lIns="90000" rIns="90000" tIns="90000" bIns="900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бота в процесс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e1"/>
                      </a:solidFill>
                    </a:lnL>
                    <a:lnR w="1872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90000" b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e1"/>
                      </a:solidFill>
                    </a:lnL>
                    <a:lnR w="1872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797040">
                <a:tc>
                  <a:txBody>
                    <a:bodyPr lIns="90000" rIns="90000" tIns="90000" bIns="900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дикато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e1"/>
                      </a:solidFill>
                    </a:lnL>
                    <a:lnR w="1872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90000" b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e1"/>
                      </a:solidFill>
                    </a:lnL>
                    <a:lnR w="1872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745920">
                <a:tc>
                  <a:txBody>
                    <a:bodyPr lIns="90000" rIns="90000" tIns="90000" bIns="900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ту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e1"/>
                      </a:solidFill>
                    </a:lnL>
                    <a:lnR w="1872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90000" b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e1"/>
                      </a:solidFill>
                    </a:lnL>
                    <a:lnR w="1872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008000"/>
                    </a:solidFill>
                  </a:tcPr>
                </a:tc>
              </a:tr>
              <a:tr h="728640">
                <a:tc>
                  <a:txBody>
                    <a:bodyPr lIns="90000" rIns="90000" tIns="90000" bIns="900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авнение с план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e1"/>
                      </a:solidFill>
                    </a:lnL>
                    <a:lnR w="1872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90000" b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e1"/>
                      </a:solidFill>
                    </a:lnL>
                    <a:lnR w="1872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728640">
                <a:tc>
                  <a:txBody>
                    <a:bodyPr lIns="90000" rIns="90000" tIns="90000" bIns="900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гналы тревог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e1"/>
                      </a:solidFill>
                    </a:lnL>
                    <a:lnR w="1872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90000" b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e1"/>
                      </a:solidFill>
                    </a:lnL>
                    <a:lnR w="1872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763560">
                <a:tc>
                  <a:txBody>
                    <a:bodyPr lIns="90000" rIns="90000" tIns="90000" bIns="900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зи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e1"/>
                      </a:solidFill>
                    </a:lnL>
                    <a:lnR w="1872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90000" b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e1"/>
                      </a:solidFill>
                    </a:lnL>
                    <a:lnR w="1872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008000"/>
                    </a:solidFill>
                  </a:tcPr>
                </a:tc>
              </a:tr>
            </a:tbl>
          </a:graphicData>
        </a:graphic>
      </p:graphicFrame>
      <p:sp>
        <p:nvSpPr>
          <p:cNvPr id="226" name="Rectangle 29"/>
          <p:cNvSpPr/>
          <p:nvPr/>
        </p:nvSpPr>
        <p:spPr>
          <a:xfrm>
            <a:off x="0" y="6248520"/>
            <a:ext cx="9144000" cy="975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Владельцы процесса – люди, работающие на этом участ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Oval 30"/>
          <p:cNvSpPr/>
          <p:nvPr/>
        </p:nvSpPr>
        <p:spPr>
          <a:xfrm>
            <a:off x="5334120" y="1905120"/>
            <a:ext cx="3657600" cy="3581280"/>
          </a:xfrm>
          <a:prstGeom prst="ellipse">
            <a:avLst/>
          </a:prstGeom>
          <a:solidFill>
            <a:srgbClr val="ff0000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31"/>
          <p:cNvSpPr/>
          <p:nvPr/>
        </p:nvSpPr>
        <p:spPr>
          <a:xfrm>
            <a:off x="6404760" y="2819520"/>
            <a:ext cx="14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иде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32"/>
          <p:cNvSpPr/>
          <p:nvPr/>
        </p:nvSpPr>
        <p:spPr>
          <a:xfrm>
            <a:off x="6175440" y="3429000"/>
            <a:ext cx="20840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гновен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 5 секун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«ЧИСЛО АЛЬТЕРНАТИВНЫХ СЦЕНАРИЕВ БЕСКОНЕЧНО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ью Эверет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00"/>
                </a:solidFill>
                <a:latin typeface="Times New Roman"/>
              </a:rPr>
              <a:t>Бережливое производство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ережливое производство предполагает вовлечение в процесс оптимизации бизнеса каждого сотрудника и максимальную ориентацию на потребителя. Целями бережливого производства являютс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кращение трудозатра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кращение сроков разработки новой продукци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кращение сроков создания продукци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кращение производственных и складских площаде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арантия поставки продукции заказчик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ксимальное качество при минимальной стоим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Отправная точка бережливого производств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енность для потребител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точки зрения конечного потребителя, продукт(услуга) приобретает действительную ценность только в то время, когда происходит непосредственная обработка, изготовление технологических элемент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ё, что не добавляет ценности для потребителя, с точки зрения бережливого производства, классифицируется как потери, и должно быть устране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Основные принципы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ределить ценность конкретного продукта.(</a:t>
            </a: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Ценност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 товар или услуга за которую платит Заказчик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ределить поток создания ценности для этого продук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еспечить непрерывное течение потока создания ценности продук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зволить потребителю вытягивать продук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ремиться к совершенств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01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5 принципов </a:t>
            </a: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LEA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762120" y="1905120"/>
          <a:ext cx="8153280" cy="4525920"/>
        </p:xfrm>
        <a:graphic>
          <a:graphicData uri="http://schemas.openxmlformats.org/drawingml/2006/table">
            <a:tbl>
              <a:tblPr/>
              <a:tblGrid>
                <a:gridCol w="5487840"/>
                <a:gridCol w="2665440"/>
              </a:tblGrid>
              <a:tr h="757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ffffe1"/>
                          </a:solidFill>
                          <a:latin typeface="Arial"/>
                        </a:rPr>
                        <a:t>Ценност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то Заказчик покупает на самом дел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10238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ffffe1"/>
                          </a:solidFill>
                          <a:latin typeface="Arial"/>
                        </a:rPr>
                        <a:t>Цепочка Создания Ценност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к создается цен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ffffe1"/>
                          </a:solidFill>
                          <a:latin typeface="Arial"/>
                        </a:rPr>
                        <a:t>Пото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лучшение цепочки создания цен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118908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ffffe1"/>
                          </a:solidFill>
                          <a:latin typeface="Arial"/>
                        </a:rPr>
                        <a:t>Вытягивани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правление потоком только на основании реальных потребност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91476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ffffe1"/>
                          </a:solidFill>
                          <a:latin typeface="Arial"/>
                        </a:rPr>
                        <a:t>Совершенствовани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тоянный нескончаемый процесс улучш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ccff99"/>
                    </a:solidFill>
                  </a:tcPr>
                </a:tc>
              </a:tr>
            </a:tbl>
          </a:graphicData>
        </a:graphic>
      </p:graphicFrame>
      <p:sp>
        <p:nvSpPr>
          <p:cNvPr id="12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Другие принципы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восходное качество (сдача с первого предъявления, система ноль дефектов, обнаружение и решение проблем у истоков их возникновения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ибкос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тановление долговременных отношений с заказчиком (путем деления рисков, затрат и информации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моорганизация, эволюция, адапта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0033"/>
                </a:solidFill>
                <a:latin typeface="Times New Roman"/>
              </a:rPr>
              <a:t>Инструменты бережливого производства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истема TPM (Total Productive Maintenance) — Всеобщий уход за оборудование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истема 6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сортируйте, соблюдайте порядок, содержите в чистоте, стандартизируйте, совершенствуйте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ыстрая переналадка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(Single-Minute Exchange of Dies (буквально «быстрая смена пресс-форм» — переналадка/переоснастка оборудования менее чем за 10 минут). Переналадка в одно касание (One-touch setup) — вариант SMED, но время переналадки уже изменяерся единицами минут, то есть не больше 9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йдзен(kaizen) — непрерывное совершенствован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емба кайдзен — непрерывное совершенствование на месте создания дополнительной стоим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нбан, вытягивающее производство — продукция «вытягивается» со стороны заказчика, а не «толкается» производителем. Информирования предыдущей производственной стадии о том, что нужно начинать работу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очно в срок— система синхронизации передачи продукта с одной производственной стадии на другую посредством карточек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Канбан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Комплектующие должны передаваться на следующую стадию только тогда, когда это нужно, и ни минутой раньш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Пока — ёкэ» («защита от ошибок», «защита от дурака») — метод предотвращения ошибок — специальное устройство или метод, благодаря которому дефекты просто не могут появитьс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EGION</dc:creator>
  <dc:description/>
  <dc:language>en-US</dc:language>
  <cp:lastModifiedBy>LEGION</cp:lastModifiedBy>
  <dcterms:modified xsi:type="dcterms:W3CDTF">2014-11-10T07:57:37Z</dcterms:modified>
  <cp:revision>8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