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933600" cy="939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6"/>
          </p:nvPr>
        </p:nvSpPr>
        <p:spPr>
          <a:xfrm>
            <a:off x="3927240" y="-360"/>
            <a:ext cx="300492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 u="sng">
                <a:solidFill>
                  <a:srgbClr val="000000"/>
                </a:solidFill>
                <a:uFillTx/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date/time&gt;</a:t>
            </a:r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17080" y="704880"/>
            <a:ext cx="4699080" cy="352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7"/>
          </p:nvPr>
        </p:nvSpPr>
        <p:spPr>
          <a:xfrm>
            <a:off x="0" y="8926200"/>
            <a:ext cx="300528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8"/>
          </p:nvPr>
        </p:nvSpPr>
        <p:spPr>
          <a:xfrm>
            <a:off x="3927240" y="8926200"/>
            <a:ext cx="300492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 u="sng">
                <a:solidFill>
                  <a:srgbClr val="000000"/>
                </a:solidFill>
                <a:uFillTx/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9E538-6FAC-4934-A9E4-32C3E7342CD6}" type="slidenum">
              <a:rPr b="1" lang="uk-UA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33"/>
                </a:solidFill>
                <a:latin typeface="Calibri"/>
              </a:rPr>
              <a:t>2. Появление славян</a:t>
            </a:r>
            <a:r>
              <a:rPr b="0" i="1" lang="ru-RU" sz="1200" spc="-1" strike="noStrike">
                <a:solidFill>
                  <a:srgbClr val="660033"/>
                </a:solidFill>
                <a:latin typeface="Calibri"/>
              </a:rPr>
              <a:t>.</a:t>
            </a:r>
            <a:r>
              <a:rPr b="1" lang="ru-RU" sz="1200" spc="-1" strike="noStrike">
                <a:solidFill>
                  <a:srgbClr val="660033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5EA80-8B51-4E46-8EB4-C93E6970F76D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Calibri"/>
              </a:rPr>
              <a:t>4. Славяне в V—VII вв. Язычество</a:t>
            </a:r>
            <a:r>
              <a:rPr b="1" lang="ru-RU" sz="1800" spc="-1" strike="noStrike">
                <a:solidFill>
                  <a:srgbClr val="660033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чение VI — VII вв. славяне вели с аварами постоянные войны. В союзе с франкским королем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Карлом Велики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лавяне в конце VIII п. разгромили авар. Но в это время в Восточной Европе появилась новая тюркская орда —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хазары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ни прошли через Нижнее Поволжье в Северное Причерноморье, заняли территории в предгорьях Кавказа, На долгие столетия эти кочевники стали опасными соседями восточных славя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6688D-D65E-47B3-B341-6028D8925A74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Calibri"/>
              </a:rPr>
              <a:t>4. Славяне в V—VII вв. Язычество</a:t>
            </a:r>
            <a:r>
              <a:rPr b="1" lang="ru-RU" sz="2000" spc="-1" strike="noStrike">
                <a:solidFill>
                  <a:srgbClr val="660033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а была не только средой обитания славян, но и источником их существования. Славяне обожествляли силы природы влияющие на их жизнь. Славянская религия со множеством божеств, называется многобожием или политеизмом (от греческих слов «поли» — много и «теос» — бог).  В христианские времена эта вера получила название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язычество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языце – иноземные, нехристианске народ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CA33D-C776-48AE-8F50-C01751CC1759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о главе славянских божеств стоял великий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Сваро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бог вселенной, напоминающий древнегреческого Зевса. 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Calibri"/>
              </a:rPr>
              <a:t>(запишите имена богов и их значение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сыновь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Сварожич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солнце и огонь — были носителям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ета и тепла. Бог солнца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Даждьбо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есьма почитался славя­нами. Недаром автор «Слова о полку Игореве называл славян «даждьбожьи внуки». Молились славяне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Род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роженица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богу и богиням плодородия. Этот культ был связан с земледельческими занятиями населения и поэтому был особенно популярен. Бог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Весле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читался у славян в качестве покровителя скотоводства, это был своеобразный «скотный бог».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Стрибог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их понятиям. повелевал ветрами, как древнегреческий Эол. По мере слияния славян с некоторыми иранскими и угрофинскими племенами их боги перекочевывали и в славянский панте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, в VIII — IX вв. у славян почитался бог солнца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Хор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ый явно пришел из мира иранских племен. Бог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Симаргл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оторый изображался в виде пса и считался богом почвы, корней растении. В иранском мире это был хозяин подземного царства, божество плодород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ственным крупным женским божеством у славян была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Макош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ая олицетворяла рождение всего живого, была покровительницей женской части хозяйства. Со временем, уже по мере выдвижения в общественной жизни славян князей, дружины, начала великих военных походов, на первый план все больше выдвигается бог молнии и грома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еру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ый затем становится главным небесным божеством, сливает­ся со Сварогом, Родом как более древними бог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17C2E-0687-4AB0-9361-0818F118CE0E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Calibri"/>
              </a:rPr>
              <a:t>5.Видеофраг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33AD7-DDDF-4C2A-96A1-054AAAE0A142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6. Закрепление изучен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еречислите славянских  богов, чему каждый покровительству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4B53D-88BC-4002-8414-86A92726E26C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Calibri"/>
              </a:rPr>
              <a:t>7.Выво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eeece1"/>
                </a:solidFill>
                <a:latin typeface="Times New Roman"/>
              </a:rPr>
              <a:t>Запишите в тетрад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Древняя славянская религия – многобожие - обожествляля все силы природы, которые влияли на их жиз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57927-6B89-478D-A8A5-8CF4A6C1854A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00"/>
                </a:solidFill>
                <a:uFillTx/>
                <a:latin typeface="Calibri"/>
              </a:rPr>
              <a:t>6. Закрепление изученно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Запишите в тетрад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Хронология появления враждебных славянам народов на территории Северного Причерноморья и Поднеп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. Кимерийцы (1 тыс. до н.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2. Скифы (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VI – II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в. до н.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3. Сарматы (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в до н.э -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 II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н.э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4. Готы, аланы (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V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5. Гунны (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V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6. Авары (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VI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7. Хазары (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VIII – X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026CA-1FA1-4C8D-B47B-AFCE420C8E66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Calibri"/>
              </a:rPr>
              <a:t>7.Выво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eeece1"/>
                </a:solidFill>
                <a:latin typeface="Times New Roman"/>
              </a:rPr>
              <a:t>Запишите в тетрад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В середине </a:t>
            </a:r>
            <a:r>
              <a:rPr b="0" lang="en-US" sz="1200" spc="-1" strike="noStrike">
                <a:solidFill>
                  <a:srgbClr val="eeece1"/>
                </a:solidFill>
                <a:latin typeface="Times New Roman"/>
              </a:rPr>
              <a:t>I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тысячелетия до н.э. славяне окончательно выделились из семьи индоевропейских народов. С </a:t>
            </a:r>
            <a:r>
              <a:rPr b="0" lang="en-US" sz="1200" spc="-1" strike="noStrike">
                <a:solidFill>
                  <a:srgbClr val="eeece1"/>
                </a:solidFill>
                <a:latin typeface="Times New Roman"/>
              </a:rPr>
              <a:t>V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века н.э. идет бурный демографический рост славянского мира. Складываются два мощных союза славянских племен: анты (Днепр и Днестр) и склавины (север Балкан). Будут разбиты в</a:t>
            </a:r>
            <a:r>
              <a:rPr b="0" lang="en-US" sz="1200" spc="-1" strike="noStrike">
                <a:solidFill>
                  <a:srgbClr val="eeece1"/>
                </a:solidFill>
                <a:latin typeface="Times New Roman"/>
              </a:rPr>
              <a:t>VI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веке авар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6C848-3211-42F9-B1D5-0D0D534296B7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Calibri"/>
              </a:rPr>
              <a:t>2. Появление славян</a:t>
            </a:r>
            <a:r>
              <a:rPr b="0" i="1" lang="ru-RU" sz="1800" spc="-1" strike="noStrike">
                <a:solidFill>
                  <a:srgbClr val="660033"/>
                </a:solidFill>
                <a:latin typeface="Calibri"/>
              </a:rPr>
              <a:t>.</a:t>
            </a:r>
            <a:r>
              <a:rPr b="1" lang="ru-RU" sz="1800" spc="-1" strike="noStrike">
                <a:solidFill>
                  <a:srgbClr val="660033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ь индоевропейцев ко 2-му тысячелетию до н. э. образовали в Центральной и Восточной Европе особый массив, состоявший из предков будущих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германцев, славян, балтов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воривших тогда на одном языке. В середине 2-го тысячелетня до н. обособились предки германских племен, а предки балтов и славян продолжали составлять еще некоторое время общую балтославянскую групп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8FF60-ADDC-423A-BC0F-34C706565C8D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Calibri"/>
              </a:rPr>
              <a:t>2. Появление славян</a:t>
            </a:r>
            <a:r>
              <a:rPr b="1" lang="ru-RU" sz="2000" spc="-1" strike="noStrike">
                <a:solidFill>
                  <a:srgbClr val="660033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тром расселения предков славянских народов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(праславян)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л бассейн реки Вислы. На рубеже 2-го и 1-го тысячелетни до н. э. предки славян компактно расселяются в двух районах Европы. Первый — в северной части Центральной Европы: в будущем здесь появятс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западные славяне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а второй — в Среднем Поднепровье: века спустя здесь сформируются племена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осточных славя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DAEA3-FE3A-4C4E-BA8D-DCD95B95E68A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Calibri"/>
              </a:rPr>
              <a:t>2. Появление славян</a:t>
            </a:r>
            <a:r>
              <a:rPr b="1" lang="ru-RU" sz="1800" spc="-1" strike="noStrike">
                <a:solidFill>
                  <a:srgbClr val="660033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же в начале 1 тыс. до н.э. праславяне вступили в противоборство с кочевыми племенами. Это были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киммерийцы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анявшие степные пространства Северного Причерноморья. С VI по IV в. до н. з. земли предков восточных славян подверглись новому нашествию. То были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скифы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ифы оттеснили киммерийцев и стали опасными соседями славян и балтов. К тому времени, когда скифы заняли Северное Причерноморье, там уже существовали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греческие колони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1A8C5-0756-4FA2-8123-404FA21E5B60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Calibri"/>
              </a:rPr>
              <a:t>2. Появление славян</a:t>
            </a:r>
            <a:r>
              <a:rPr b="1" lang="ru-RU" sz="1800" spc="-1" strike="noStrike">
                <a:solidFill>
                  <a:srgbClr val="660033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раз в скифское время формируется население, говорившее уже по-славянски, а не на балтославянском языке. Начиная со II в. до н. э. Поднепровье испытало новый натиск врагов. Из-за Дона сюда продвинулись кочевые орды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сарма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рматы нанесли серию ударов захватили земли скифов и проникли в глубь северной лесостепной зоны, где жили славя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59B12-ADD0-4F17-B2C9-F5C7D04A57EC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Calibri"/>
              </a:rPr>
              <a:t>3.Работа с учебник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eece1"/>
                </a:solidFill>
                <a:latin typeface="Times New Roman"/>
              </a:rPr>
              <a:t>Выпишите названия и время пребывания других народов на территории Росс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§ 3 пункты «Другие народы России в глубокой древности» и «Великое переселение народов и Восточная Европа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5C628-3F89-44DE-BC5F-8D0950FF10CE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Calibri"/>
              </a:rPr>
              <a:t>4. Славяне в V—VII вв. Язычеств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падения державы гуннов вновь наполняются славянским населением дунайские и днепровские берега. В V—VI вв происходит его быстрое и громадное увеличение. Начиная г V в. в бассейнах Днепра и Днестра складывается мощный союз восточнославянских племен, которых называли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ант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что на древнеиранском языке означало «жители окраин». Одновременно на севере Балканского полуострова образовался племенной союэ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склави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8BAD8-22F2-4FE1-B762-D2C689882C23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Calibri"/>
              </a:rPr>
              <a:t>4. Славяне в V—VII вв. Язычеств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зантийские сочинения той поры полны паническими известиями о набегах славян на византийские владения. Именно с тех времен до нас доходит история о славянском вожде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К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об основании им города Киева, будущей столицы Рус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й — один из вождей славянских племен, живших по среднему Днепру, вместе с братьями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Щек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Ха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ив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сестрой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Лыбедь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сновали город, названный в честь старшего брата Кие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2C4E4-66C9-4DB6-88BC-30EF45C09333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Calibri"/>
              </a:rPr>
              <a:t>4. Славяне в V—VII вв. Язычество</a:t>
            </a:r>
            <a:r>
              <a:rPr b="1" lang="ru-RU" sz="1800" spc="-1" strike="noStrike">
                <a:solidFill>
                  <a:srgbClr val="660033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В то же время, а севере шло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еще одного мощного славянского центра в Приильменье; позднее здесь возник союз племен, получивших названне новгородских (приильменских) слов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в середине VI в, новая тюркская орда —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авар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вторглась в Восточную Европу и позже осела по берегам Ду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 во время гуннского нашествия удару подверглись славянские пос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2DB9E-DADA-4050-BF9D-4B5A5FD724A6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B6993-DAEF-4675-A589-AAA97A7FDD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85B2B-7C3F-415D-93E2-31CAB9E10F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4FEBB-F493-4D49-886D-2D6F24D99A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1DE3A-6BD4-407E-B52E-13ED5269F9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C18DC2-235F-4112-B153-D09A4CF1C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03AAB0-BD5C-4B9C-9C0D-E9FC22E77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131889-E10B-40BE-BA3A-00C1C444C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259416-8945-4309-BE0A-66AF33215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E5A6B0-F28D-4FA3-882F-05145B23D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370160" y="375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88B9AA-34CA-477B-BEFE-2D9C2848C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5313E6-0F97-464D-9F0F-A1C83CC4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129BE-679D-43AF-BD1D-7AF6EAAC25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8FA803-F512-423C-8815-4DF3721F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F3BE36-47A0-45BE-A2EC-7B0B2CBC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FEDC92-AAC4-4247-8650-DD1013B7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78BD1F-1D02-4968-94DC-0043467B6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543C14-A99C-4593-8CD2-5ECC35629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24240-8D15-4853-BD90-9D39AD3409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B49DC-54BE-485E-9BA7-4A1B7EE1AA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B4F5F-2CB7-4AD2-A4AA-8DDFF9E7CE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370160" y="375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6F23B-489B-4914-96BD-38B4F2C131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415ED-3939-40E5-9614-C433A3595D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B58BE-5EA7-4268-89CA-D1C2919DE7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899DD-F8A3-4EB3-8F88-84218015FE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3240" y="463680"/>
            <a:ext cx="399960" cy="6400800"/>
          </a:xfrm>
          <a:custGeom>
            <a:avLst/>
            <a:gdLst/>
            <a:ahLst/>
            <a:rect l="l" t="t" r="r" b="b"/>
            <a:pathLst>
              <a:path fill="none" w="21600" h="43200">
                <a:moveTo>
                  <a:pt x="21600" y="43200"/>
                </a:move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</a:path>
              <a:path stroke="0" w="21600" h="43200">
                <a:moveTo>
                  <a:pt x="21600" y="43200"/>
                </a:move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  <a:lnTo>
                  <a:pt x="21600" y="21600"/>
                </a:lnTo>
                <a:lnTo>
                  <a:pt x="21600" y="43200"/>
                </a:lnTo>
                <a:close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" name="Arc 3"/>
          <p:cNvSpPr/>
          <p:nvPr/>
        </p:nvSpPr>
        <p:spPr>
          <a:xfrm>
            <a:off x="1333440" y="463680"/>
            <a:ext cx="399960" cy="6400800"/>
          </a:xfrm>
          <a:custGeom>
            <a:avLst/>
            <a:gdLst/>
            <a:ahLst/>
            <a:rect l="l" t="t" r="r" b="b"/>
            <a:pathLst>
              <a:path fill="none" w="21600" h="432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529"/>
                  <a:pt x="11929" y="43199"/>
                  <a:pt x="0" y="43200"/>
                </a:cubicBezTo>
              </a:path>
              <a:path stroke="0" w="21600" h="432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529"/>
                  <a:pt x="11929" y="43199"/>
                  <a:pt x="0" y="432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324000" y="0"/>
            <a:ext cx="106668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8732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D4554-E3E7-485B-84DD-B0923BFCE8C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" name="AutoShape 10">
            <a:hlinkClick r:id="" action="ppaction://hlinkshowjump?jump=nextslide"/>
          </p:cNvPr>
          <p:cNvSpPr/>
          <p:nvPr/>
        </p:nvSpPr>
        <p:spPr>
          <a:xfrm rot="5400000">
            <a:off x="610920" y="6156360"/>
            <a:ext cx="539640" cy="4129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66ccff"/>
              </a:gs>
              <a:gs pos="100000">
                <a:srgbClr val="ff99ff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090a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8" name="AutoShape 11">
            <a:hlinkClick r:id="" action="ppaction://hlinkshowjump?jump=previousslide"/>
          </p:cNvPr>
          <p:cNvSpPr/>
          <p:nvPr/>
        </p:nvSpPr>
        <p:spPr>
          <a:xfrm flipH="1" rot="16200000">
            <a:off x="48240" y="6156360"/>
            <a:ext cx="539640" cy="4129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ff99ff"/>
              </a:gs>
              <a:gs pos="100000">
                <a:srgbClr val="66ccff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090a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6492960" y="147600"/>
            <a:ext cx="1887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6699"/>
                </a:solidFill>
                <a:latin typeface="Times New Roman"/>
              </a:rPr>
              <a:t>Меню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0" name="Oval 13"/>
          <p:cNvSpPr/>
          <p:nvPr/>
        </p:nvSpPr>
        <p:spPr>
          <a:xfrm>
            <a:off x="8518680" y="125280"/>
            <a:ext cx="539640" cy="538200"/>
          </a:xfrm>
          <a:prstGeom prst="ellips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1" name="Oval 14"/>
          <p:cNvSpPr/>
          <p:nvPr/>
        </p:nvSpPr>
        <p:spPr>
          <a:xfrm>
            <a:off x="8470800" y="58680"/>
            <a:ext cx="541440" cy="5349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2" name="Arc 15"/>
          <p:cNvSpPr/>
          <p:nvPr/>
        </p:nvSpPr>
        <p:spPr>
          <a:xfrm>
            <a:off x="8729640" y="63360"/>
            <a:ext cx="284040" cy="533520"/>
          </a:xfrm>
          <a:custGeom>
            <a:avLst/>
            <a:gdLst/>
            <a:ahLst/>
            <a:rect l="l" t="t" r="r" b="b"/>
            <a:pathLst>
              <a:path fill="none" w="22730" h="43200">
                <a:moveTo>
                  <a:pt x="1129" y="0"/>
                </a:moveTo>
                <a:cubicBezTo>
                  <a:pt x="13059" y="0"/>
                  <a:pt x="22730" y="9670"/>
                  <a:pt x="22730" y="21600"/>
                </a:cubicBezTo>
                <a:cubicBezTo>
                  <a:pt x="22730" y="33529"/>
                  <a:pt x="13059" y="43200"/>
                  <a:pt x="1130" y="43200"/>
                </a:cubicBezTo>
                <a:cubicBezTo>
                  <a:pt x="753" y="43200"/>
                  <a:pt x="376" y="43190"/>
                  <a:pt x="-1" y="43170"/>
                </a:cubicBezTo>
              </a:path>
              <a:path stroke="0" w="22730" h="43200">
                <a:moveTo>
                  <a:pt x="1129" y="0"/>
                </a:moveTo>
                <a:cubicBezTo>
                  <a:pt x="13059" y="0"/>
                  <a:pt x="22730" y="9670"/>
                  <a:pt x="22730" y="21600"/>
                </a:cubicBezTo>
                <a:cubicBezTo>
                  <a:pt x="22730" y="33529"/>
                  <a:pt x="13059" y="43200"/>
                  <a:pt x="1130" y="43200"/>
                </a:cubicBezTo>
                <a:cubicBezTo>
                  <a:pt x="753" y="43200"/>
                  <a:pt x="376" y="43190"/>
                  <a:pt x="-1" y="43170"/>
                </a:cubicBezTo>
                <a:lnTo>
                  <a:pt x="1130" y="21600"/>
                </a:lnTo>
                <a:lnTo>
                  <a:pt x="1129" y="0"/>
                </a:lnTo>
                <a:close/>
              </a:path>
            </a:pathLst>
          </a:custGeom>
          <a:solidFill>
            <a:srgbClr val="090a1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3" name="Arc 16"/>
          <p:cNvSpPr/>
          <p:nvPr/>
        </p:nvSpPr>
        <p:spPr>
          <a:xfrm>
            <a:off x="8472600" y="63360"/>
            <a:ext cx="284040" cy="533520"/>
          </a:xfrm>
          <a:custGeom>
            <a:avLst/>
            <a:gdLst/>
            <a:ahLst/>
            <a:rect l="l" t="t" r="r" b="b"/>
            <a:pathLst>
              <a:path fill="none" w="22730" h="43200">
                <a:moveTo>
                  <a:pt x="22730" y="43170"/>
                </a:moveTo>
                <a:cubicBezTo>
                  <a:pt x="22353" y="43190"/>
                  <a:pt x="21976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</a:path>
              <a:path stroke="0" w="22730" h="43200">
                <a:moveTo>
                  <a:pt x="22730" y="43170"/>
                </a:moveTo>
                <a:cubicBezTo>
                  <a:pt x="22353" y="43190"/>
                  <a:pt x="21976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  <a:lnTo>
                  <a:pt x="21600" y="21600"/>
                </a:lnTo>
                <a:lnTo>
                  <a:pt x="22730" y="4317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4" name="Oval 17">
            <a:hlinkClick r:id="" action="ppaction://hlinkshowjump?jump=firstslide"/>
          </p:cNvPr>
          <p:cNvSpPr/>
          <p:nvPr/>
        </p:nvSpPr>
        <p:spPr>
          <a:xfrm>
            <a:off x="8555040" y="142920"/>
            <a:ext cx="378000" cy="37296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rc 2"/>
          <p:cNvSpPr/>
          <p:nvPr/>
        </p:nvSpPr>
        <p:spPr>
          <a:xfrm>
            <a:off x="3240" y="463680"/>
            <a:ext cx="399960" cy="6400800"/>
          </a:xfrm>
          <a:custGeom>
            <a:avLst/>
            <a:gdLst/>
            <a:ahLst/>
            <a:rect l="l" t="t" r="r" b="b"/>
            <a:pathLst>
              <a:path fill="none" w="21600" h="43200">
                <a:moveTo>
                  <a:pt x="21600" y="43200"/>
                </a:move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</a:path>
              <a:path stroke="0" w="21600" h="43200">
                <a:moveTo>
                  <a:pt x="21600" y="43200"/>
                </a:move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  <a:lnTo>
                  <a:pt x="21600" y="21600"/>
                </a:lnTo>
                <a:lnTo>
                  <a:pt x="21600" y="43200"/>
                </a:lnTo>
                <a:close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52" name="Arc 3"/>
          <p:cNvSpPr/>
          <p:nvPr/>
        </p:nvSpPr>
        <p:spPr>
          <a:xfrm>
            <a:off x="1333440" y="463680"/>
            <a:ext cx="399960" cy="6400800"/>
          </a:xfrm>
          <a:custGeom>
            <a:avLst/>
            <a:gdLst/>
            <a:ahLst/>
            <a:rect l="l" t="t" r="r" b="b"/>
            <a:pathLst>
              <a:path fill="none" w="21600" h="432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529"/>
                  <a:pt x="11929" y="43199"/>
                  <a:pt x="0" y="43200"/>
                </a:cubicBezTo>
              </a:path>
              <a:path stroke="0" w="21600" h="432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529"/>
                  <a:pt x="11929" y="43199"/>
                  <a:pt x="0" y="432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324000" y="0"/>
            <a:ext cx="106668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54" name="AutoShape 10">
            <a:hlinkClick r:id="" action="ppaction://hlinkshowjump?jump=nextslide"/>
          </p:cNvPr>
          <p:cNvSpPr/>
          <p:nvPr/>
        </p:nvSpPr>
        <p:spPr>
          <a:xfrm rot="5400000">
            <a:off x="610920" y="6156360"/>
            <a:ext cx="539640" cy="4129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66ccff"/>
              </a:gs>
              <a:gs pos="100000">
                <a:srgbClr val="ff99ff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090a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3"/>
          </p:nvPr>
        </p:nvSpPr>
        <p:spPr>
          <a:xfrm>
            <a:off x="1905120" y="21337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4"/>
          </p:nvPr>
        </p:nvSpPr>
        <p:spPr>
          <a:xfrm>
            <a:off x="38732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5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29E63-C725-4F86-AF0D-FFE7A5AAF99F}" type="slidenum"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214880" y="714240"/>
            <a:ext cx="4921200" cy="61437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130320" rIns="130320" tIns="84240" bIns="842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90a1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Times New Roman"/>
              </a:rPr>
              <a:t>2. Появление славян</a:t>
            </a:r>
            <a:r>
              <a:rPr b="0" i="1" lang="ru-RU" sz="3600" spc="-1" strike="noStrike">
                <a:solidFill>
                  <a:srgbClr val="660033"/>
                </a:solidFill>
                <a:latin typeface="Times New Roman"/>
              </a:rPr>
              <a:t>.</a:t>
            </a: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5" name="Text Box 37"/>
          <p:cNvSpPr/>
          <p:nvPr/>
        </p:nvSpPr>
        <p:spPr>
          <a:xfrm>
            <a:off x="285840" y="6143760"/>
            <a:ext cx="2928960" cy="461880"/>
          </a:xfrm>
          <a:prstGeom prst="rect">
            <a:avLst/>
          </a:prstGeom>
          <a:solidFill>
            <a:srgbClr val="ccecff"/>
          </a:solidFill>
          <a:ln cap="sq"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0" y="642960"/>
            <a:ext cx="9155160" cy="621504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929040" y="714240"/>
            <a:ext cx="5207040" cy="61437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В течение VI — VII вв. славяне вели с аварами постоянные войны. В союзе с франкским королем</a:t>
            </a:r>
            <a:r>
              <a:rPr b="1" i="1" lang="ru-RU" sz="2400" spc="-1" strike="noStrike">
                <a:solidFill>
                  <a:srgbClr val="336699"/>
                </a:solidFill>
                <a:latin typeface="Arial"/>
              </a:rPr>
              <a:t> Карлом Великим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славяне в конце VIII п. разгромили авар. Но в это время в Восточной Европе появилась новая тюркская орда —</a:t>
            </a:r>
            <a:r>
              <a:rPr b="0" i="1" lang="ru-RU" sz="2400" spc="-1" strike="noStrike">
                <a:solidFill>
                  <a:srgbClr val="336699"/>
                </a:solidFill>
                <a:latin typeface="Arial"/>
              </a:rPr>
              <a:t> хазары.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Они прошли через Нижнее Поволжье в Северное Причерноморье, заняли территории в предгорьях Кавказа, На долгие столетия эти кочевники стали опасными соседями восточных славян.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Times New Roman"/>
              </a:rPr>
              <a:t>4. Славяне в V—VII вв. Язычество</a:t>
            </a: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214200" y="817560"/>
            <a:ext cx="3429000" cy="473868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37"/>
          <p:cNvSpPr/>
          <p:nvPr/>
        </p:nvSpPr>
        <p:spPr>
          <a:xfrm>
            <a:off x="500040" y="6143760"/>
            <a:ext cx="2928960" cy="459720"/>
          </a:xfrm>
          <a:prstGeom prst="rect">
            <a:avLst/>
          </a:prstGeom>
          <a:solidFill>
            <a:srgbClr val="ccecff"/>
          </a:solidFill>
          <a:ln cap="sq"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Карл Великий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6" dur="1" fill="hold"/>
                                  <p:tgtEl>
                                    <p:spTgt spid="14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4572000"/>
            <a:ext cx="9136080" cy="22860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. </a:t>
            </a: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Природа была не только средой обитания славян, но и источником их существования. Славяне обожествляли силы природы влияющие на их жизнь. Славянская религия со множеством божеств, называется многобожием или политеизмом (от греческих слов «поли» — много и «теос» — бог).  В христианские времена эта вера получила название </a:t>
            </a:r>
            <a:r>
              <a:rPr b="1" i="1" lang="ru-RU" sz="2000" spc="-1" strike="noStrike">
                <a:solidFill>
                  <a:srgbClr val="336699"/>
                </a:solidFill>
                <a:latin typeface="Arial"/>
              </a:rPr>
              <a:t>язычество </a:t>
            </a: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(языце – иноземные, нехристианске народы)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Times New Roman"/>
              </a:rPr>
              <a:t>4. Славяне в V—VII вв. Язычество</a:t>
            </a: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49" name="Picture 5" descr=""/>
          <p:cNvPicPr/>
          <p:nvPr/>
        </p:nvPicPr>
        <p:blipFill>
          <a:blip r:embed="rId1"/>
          <a:stretch/>
        </p:blipFill>
        <p:spPr>
          <a:xfrm>
            <a:off x="1643040" y="657360"/>
            <a:ext cx="5643720" cy="382896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5" dur="1" fill="hold"/>
                                  <p:tgtEl>
                                    <p:spTgt spid="14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0"/>
            <a:ext cx="9136080" cy="68580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just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. Во главе славянских божеств стоял великий</a:t>
            </a:r>
            <a:r>
              <a:rPr b="1" i="1" lang="ru-RU" sz="1800" spc="-1" strike="noStrike">
                <a:solidFill>
                  <a:srgbClr val="336699"/>
                </a:solidFill>
                <a:latin typeface="Arial"/>
              </a:rPr>
              <a:t> Сварог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 — бог вселенной, напоминающий древнегреческого Зевса.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(запишите имена богов и их значение)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Его сыновья</a:t>
            </a:r>
            <a:r>
              <a:rPr b="1" i="1" lang="ru-RU" sz="1800" spc="-1" strike="noStrike">
                <a:solidFill>
                  <a:srgbClr val="336699"/>
                </a:solidFill>
                <a:latin typeface="Arial"/>
              </a:rPr>
              <a:t> Сварожичи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 — солнце и огонь — были носителями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света и тепла. Бог солнца</a:t>
            </a:r>
            <a:r>
              <a:rPr b="1" i="1" lang="ru-RU" sz="1800" spc="-1" strike="noStrike">
                <a:solidFill>
                  <a:srgbClr val="336699"/>
                </a:solidFill>
                <a:latin typeface="Arial"/>
              </a:rPr>
              <a:t> Даждьбог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 весьма почитался славя­нами. Недаром автор «Слова о полку Игореве называл славян «даждьбожьи внуки». Молились славяне</a:t>
            </a:r>
            <a:r>
              <a:rPr b="1" i="1" lang="ru-RU" sz="1800" spc="-1" strike="noStrike">
                <a:solidFill>
                  <a:srgbClr val="336699"/>
                </a:solidFill>
                <a:latin typeface="Arial"/>
              </a:rPr>
              <a:t> Роду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 и</a:t>
            </a:r>
            <a:r>
              <a:rPr b="1" i="1" lang="ru-RU" sz="1800" spc="-1" strike="noStrike">
                <a:solidFill>
                  <a:srgbClr val="336699"/>
                </a:solidFill>
                <a:latin typeface="Arial"/>
              </a:rPr>
              <a:t> роженицам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 — богу и богиням плодородия. Этот культ был связан с земледельческими занятиями населения и поэтому был особенно популярен. Бог</a:t>
            </a:r>
            <a:r>
              <a:rPr b="1" i="1" lang="ru-RU" sz="1800" spc="-1" strike="noStrike">
                <a:solidFill>
                  <a:srgbClr val="336699"/>
                </a:solidFill>
                <a:latin typeface="Arial"/>
              </a:rPr>
              <a:t> Веслес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 почитался у славян в качестве покровителя скотоводства, это был своеобразный «скотный бог».</a:t>
            </a:r>
            <a:r>
              <a:rPr b="1" i="1" lang="ru-RU" sz="1800" spc="-1" strike="noStrike">
                <a:solidFill>
                  <a:srgbClr val="336699"/>
                </a:solidFill>
                <a:latin typeface="Arial"/>
              </a:rPr>
              <a:t> Стрибог,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 по их понятиям. повелевал ветрами, как древнегреческий Эол. По мере слияния славян с некоторыми иранскими и угрофинскими племенами их боги перекочевывали и в славянский пантеон.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Так, в VIII — IX вв. у славян почитался бог солнца</a:t>
            </a:r>
            <a:r>
              <a:rPr b="1" i="1" lang="ru-RU" sz="1800" spc="-1" strike="noStrike">
                <a:solidFill>
                  <a:srgbClr val="336699"/>
                </a:solidFill>
                <a:latin typeface="Arial"/>
              </a:rPr>
              <a:t> Хорс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, который явно пришел из мира иранских племен. Бог</a:t>
            </a:r>
            <a:r>
              <a:rPr b="1" i="1" lang="ru-RU" sz="1800" spc="-1" strike="noStrike">
                <a:solidFill>
                  <a:srgbClr val="336699"/>
                </a:solidFill>
                <a:latin typeface="Arial"/>
              </a:rPr>
              <a:t> Симаргл,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 который изображался в виде пса и считался богом почвы, корней растении. В иранском мире это был хозяин подземного царства, божество плодородия.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Единственным крупным женским божеством у славян была</a:t>
            </a:r>
            <a:r>
              <a:rPr b="1" i="1" lang="ru-RU" sz="1800" spc="-1" strike="noStrike">
                <a:solidFill>
                  <a:srgbClr val="336699"/>
                </a:solidFill>
                <a:latin typeface="Arial"/>
              </a:rPr>
              <a:t> Макошь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, которая олицетворяла рождение всего живого, была покровительницей женской части хозяйства. Со временем, уже по мере выдвижения в общественной жизни славян князей, дружины, начала великих военных походов, на первый план все больше выдвигается бог молнии и грома </a:t>
            </a:r>
            <a:r>
              <a:rPr b="1" i="1" lang="ru-RU" sz="1800" spc="-1" strike="noStrike">
                <a:solidFill>
                  <a:srgbClr val="336699"/>
                </a:solidFill>
                <a:latin typeface="Arial"/>
              </a:rPr>
              <a:t>Перун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, который затем становится главным небесным божеством, сливает­ся со Сварогом, Родом как более древними богами.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9" dur="1" fill="hold"/>
                                  <p:tgtEl>
                                    <p:spTgt spid="15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0" y="928800"/>
            <a:ext cx="9144000" cy="5929200"/>
          </a:xfrm>
          <a:prstGeom prst="rect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txBody>
          <a:bodyPr lIns="130320" rIns="130320" tIns="84240" bIns="842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090a11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88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0033"/>
                </a:solidFill>
                <a:latin typeface="Times New Roman"/>
              </a:rPr>
              <a:t>5.Видеофрагмент</a:t>
            </a:r>
            <a:endParaRPr b="0" lang="en-US" sz="6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571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00"/>
                </a:solidFill>
                <a:uFillTx/>
                <a:latin typeface="Times New Roman"/>
              </a:rPr>
              <a:t>6. Закрепление изученного</a:t>
            </a:r>
            <a:endParaRPr b="0" lang="en-US" sz="6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928800"/>
            <a:ext cx="9144000" cy="59292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Перечислите славянских  богов, чему каждый покровительствует</a:t>
            </a:r>
            <a:endParaRPr b="1" lang="en-US" sz="6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714240"/>
            <a:ext cx="9144000" cy="614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90a11"/>
                </a:solidFill>
                <a:latin typeface="Times New Roman"/>
              </a:rPr>
              <a:t>Запишите в тетрадь: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90a11"/>
                </a:solidFill>
                <a:latin typeface="Times New Roman"/>
              </a:rPr>
              <a:t>Древняя славянская религия – многобожие - обожествляля все силы природы, которые влияли на их жизнь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42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33"/>
                </a:solidFill>
                <a:latin typeface="Times New Roman"/>
              </a:rPr>
              <a:t>7.Выводы</a:t>
            </a:r>
            <a:endParaRPr b="0" lang="en-US" sz="5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3" dur="1" fill="hold"/>
                                  <p:tgtEl>
                                    <p:spTgt spid="1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571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00"/>
                </a:solidFill>
                <a:uFillTx/>
                <a:latin typeface="Times New Roman"/>
              </a:rPr>
              <a:t>6. Закрепление изученного</a:t>
            </a:r>
            <a:endParaRPr b="0" lang="en-US" sz="6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928800"/>
            <a:ext cx="9144000" cy="59292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Запишите в тетрадь: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Хронология появления враждебных славянам народов на территории Северного Причерноморья и Поднепровья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. Кимерийцы (1 тыс. до н.э.)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. Скифы 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 – II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в. до н.э.)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. Сарматы 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в до н.э -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I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н.э)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. Готы, аланы 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V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в)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5. Гунны 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в)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6. Авары 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)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7. Хазары 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II – X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в)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0" y="714240"/>
            <a:ext cx="9144000" cy="614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90a11"/>
                </a:solidFill>
                <a:latin typeface="Times New Roman"/>
              </a:rPr>
              <a:t>Запишите в тетрадь: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90a11"/>
                </a:solidFill>
                <a:latin typeface="Times New Roman"/>
              </a:rPr>
              <a:t>В середине </a:t>
            </a:r>
            <a:r>
              <a:rPr b="0" lang="en-US" sz="3200" spc="-1" strike="noStrike">
                <a:solidFill>
                  <a:srgbClr val="090a11"/>
                </a:solidFill>
                <a:latin typeface="Times New Roman"/>
              </a:rPr>
              <a:t>I</a:t>
            </a:r>
            <a:r>
              <a:rPr b="0" lang="ru-RU" sz="3200" spc="-1" strike="noStrike">
                <a:solidFill>
                  <a:srgbClr val="090a11"/>
                </a:solidFill>
                <a:latin typeface="Times New Roman"/>
              </a:rPr>
              <a:t> тысячелетия до н.э. славяне окончательно выделились из семьи индоевропейских народов. С </a:t>
            </a:r>
            <a:r>
              <a:rPr b="0" lang="en-US" sz="3200" spc="-1" strike="noStrike">
                <a:solidFill>
                  <a:srgbClr val="090a11"/>
                </a:solidFill>
                <a:latin typeface="Times New Roman"/>
              </a:rPr>
              <a:t>V</a:t>
            </a:r>
            <a:r>
              <a:rPr b="0" lang="ru-RU" sz="3200" spc="-1" strike="noStrike">
                <a:solidFill>
                  <a:srgbClr val="090a11"/>
                </a:solidFill>
                <a:latin typeface="Times New Roman"/>
              </a:rPr>
              <a:t> века н.э. идет бурный демографический рост славянского мира. Складываются два мощных союза славянских племен: анты (Днепр и Днестр) и склавины (север Балкан). Будут разбиты в</a:t>
            </a:r>
            <a:r>
              <a:rPr b="0" lang="en-US" sz="3200" spc="-1" strike="noStrike">
                <a:solidFill>
                  <a:srgbClr val="090a11"/>
                </a:solidFill>
                <a:latin typeface="Times New Roman"/>
              </a:rPr>
              <a:t>VI</a:t>
            </a:r>
            <a:r>
              <a:rPr b="0" lang="ru-RU" sz="3200" spc="-1" strike="noStrike">
                <a:solidFill>
                  <a:srgbClr val="090a11"/>
                </a:solidFill>
                <a:latin typeface="Times New Roman"/>
              </a:rPr>
              <a:t> веке аварами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42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33"/>
                </a:solidFill>
                <a:latin typeface="Times New Roman"/>
              </a:rPr>
              <a:t>7.Выводы</a:t>
            </a:r>
            <a:endParaRPr b="0" lang="en-US" sz="5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7" dur="1" fill="hold"/>
                                  <p:tgtEl>
                                    <p:spTgt spid="16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214880" y="714240"/>
            <a:ext cx="4921200" cy="61437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Часть индоевропейцев ко 2-му тысячелетию до н. э. образовали в Центральной и Восточной Европе особый массив, состоявший из предков будущих</a:t>
            </a:r>
            <a:r>
              <a:rPr b="0" i="1" lang="ru-RU" sz="2400" spc="-1" strike="noStrike">
                <a:solidFill>
                  <a:srgbClr val="336699"/>
                </a:solidFill>
                <a:latin typeface="Arial"/>
              </a:rPr>
              <a:t> германцев, славян, балтов, 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говоривших тогда на одном языке. В середине 2-го тысячелетня до н. обособились предки германских племен, а предки балтов и славян продолжали составлять еще некоторое время общую балтославянскую группу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Times New Roman"/>
              </a:rPr>
              <a:t>2. Появление славян</a:t>
            </a:r>
            <a:r>
              <a:rPr b="0" i="1" lang="ru-RU" sz="3600" spc="-1" strike="noStrike">
                <a:solidFill>
                  <a:srgbClr val="660033"/>
                </a:solidFill>
                <a:latin typeface="Times New Roman"/>
              </a:rPr>
              <a:t>.</a:t>
            </a: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tretch/>
        </p:blipFill>
        <p:spPr>
          <a:xfrm>
            <a:off x="0" y="1392120"/>
            <a:ext cx="4219560" cy="35370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" dur="1" fill="hold"/>
                                  <p:tgtEl>
                                    <p:spTgt spid="1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4572000"/>
            <a:ext cx="9136080" cy="22860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Центром расселения предков славянских народов</a:t>
            </a:r>
            <a:r>
              <a:rPr b="0" i="1" lang="ru-RU" sz="2000" spc="-1" strike="noStrike">
                <a:solidFill>
                  <a:srgbClr val="336699"/>
                </a:solidFill>
                <a:latin typeface="Arial"/>
              </a:rPr>
              <a:t> (праславян) </a:t>
            </a: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стал бассейн реки Вислы. На рубеже 2-го и 1-го тысячелетни до н. э. предки славян компактно расселяются в двух районах Европы. Первый — в северной части Центральной Европы: в будущем здесь появятся</a:t>
            </a:r>
            <a:r>
              <a:rPr b="1" i="1" lang="ru-RU" sz="2000" spc="-1" strike="noStrike">
                <a:solidFill>
                  <a:srgbClr val="336699"/>
                </a:solidFill>
                <a:latin typeface="Arial"/>
              </a:rPr>
              <a:t> западные славяне,</a:t>
            </a: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 а второй — в Среднем Поднепровье: века спустя здесь сформируются племена </a:t>
            </a:r>
            <a:r>
              <a:rPr b="1" i="1" lang="ru-RU" sz="2000" spc="-1" strike="noStrike">
                <a:solidFill>
                  <a:srgbClr val="336699"/>
                </a:solidFill>
                <a:latin typeface="Arial"/>
              </a:rPr>
              <a:t>восточных славян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Times New Roman"/>
              </a:rPr>
              <a:t>2. Появление славян</a:t>
            </a: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tretch/>
        </p:blipFill>
        <p:spPr>
          <a:xfrm>
            <a:off x="1285920" y="760320"/>
            <a:ext cx="6286320" cy="370836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" dur="1" fill="hold"/>
                                  <p:tgtEl>
                                    <p:spTgt spid="1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428640" y="714240"/>
            <a:ext cx="5707080" cy="61437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Уже в начале 1 тыс. до н.э. праславяне вступили в противоборство с кочевыми племенами. Это были</a:t>
            </a:r>
            <a:r>
              <a:rPr b="0" i="1" lang="ru-RU" sz="2400" spc="-1" strike="noStrike">
                <a:solidFill>
                  <a:srgbClr val="336699"/>
                </a:solidFill>
                <a:latin typeface="Arial"/>
              </a:rPr>
              <a:t> киммерийцы,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занявшие степные пространства Северного Причерноморья. С VI по IV в. до н. з. земли предков восточных славян подверглись новому нашествию. То были</a:t>
            </a:r>
            <a:r>
              <a:rPr b="0" i="1" lang="ru-RU" sz="2400" spc="-1" strike="noStrike">
                <a:solidFill>
                  <a:srgbClr val="336699"/>
                </a:solidFill>
                <a:latin typeface="Arial"/>
              </a:rPr>
              <a:t> скифы. 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Скифы оттеснили киммерийцев и стали опасными соседями славян и балтов. К тому времени, когда скифы заняли Северное Причерноморье, там уже существовали</a:t>
            </a:r>
            <a:r>
              <a:rPr b="0" i="1" lang="ru-RU" sz="2400" spc="-1" strike="noStrike">
                <a:solidFill>
                  <a:srgbClr val="336699"/>
                </a:solidFill>
                <a:latin typeface="Arial"/>
              </a:rPr>
              <a:t> греческие колонии.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Times New Roman"/>
              </a:rPr>
              <a:t>2. Появление славян</a:t>
            </a: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0" y="857160"/>
            <a:ext cx="3324240" cy="46008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" dur="1" fill="hold"/>
                                  <p:tgtEl>
                                    <p:spTgt spid="11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142880" y="714240"/>
            <a:ext cx="4992840" cy="61437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Как раз в скифское время формируется население, говорившее уже по-славянски, а не на балтославянском языке. Начиная со II в. до н. э. Поднепровье испытало новый натиск врагов. Из-за Дона сюда продвинулись кочевые орды</a:t>
            </a:r>
            <a:r>
              <a:rPr b="1" i="1" lang="ru-RU" sz="2400" spc="-1" strike="noStrike">
                <a:solidFill>
                  <a:srgbClr val="336699"/>
                </a:solidFill>
                <a:latin typeface="Arial"/>
              </a:rPr>
              <a:t> сарматов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Сарматы нанесли серию ударов захватили земли скифов и проникли в глубь северной лесостепной зоны, где жили славяне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Times New Roman"/>
              </a:rPr>
              <a:t>2. Появление славян</a:t>
            </a: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2" name="Text Box 37"/>
          <p:cNvSpPr/>
          <p:nvPr/>
        </p:nvSpPr>
        <p:spPr>
          <a:xfrm>
            <a:off x="500040" y="6000840"/>
            <a:ext cx="2928960" cy="459720"/>
          </a:xfrm>
          <a:prstGeom prst="rect">
            <a:avLst/>
          </a:prstGeom>
          <a:solidFill>
            <a:srgbClr val="ccecff"/>
          </a:solidFill>
          <a:ln cap="sq"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Боевой меч  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x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  века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714240" y="1000080"/>
            <a:ext cx="2571840" cy="459252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" dur="1" fill="hold"/>
                                  <p:tgtEl>
                                    <p:spTgt spid="12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04560" y="1356840"/>
            <a:ext cx="8481960" cy="5072040"/>
          </a:xfrm>
          <a:prstGeom prst="rect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90a11"/>
                </a:solidFill>
                <a:latin typeface="Times New Roman"/>
              </a:rPr>
              <a:t>Выпишите названия и время пребывания других народов на территории России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99"/>
                </a:solidFill>
                <a:latin typeface="Arial"/>
              </a:rPr>
              <a:t>§ 3 пункты «Другие народы России в глубокой древности» и «Великое переселение народов и Восточная Европа.»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304560" y="152280"/>
            <a:ext cx="8553240" cy="99072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0033"/>
                </a:solidFill>
                <a:latin typeface="Times New Roman"/>
              </a:rPr>
              <a:t>3.Работа с учебником</a:t>
            </a:r>
            <a:endParaRPr b="0" lang="en-US" sz="6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5" dur="1" fill="hold"/>
                                  <p:tgtEl>
                                    <p:spTgt spid="12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571920" y="714240"/>
            <a:ext cx="5564160" cy="61437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После падения державы гуннов вновь наполняются славянским населением дунайские и днепровские берега. В V—VI вв происходит его быстрое и громадное увеличение. Начиная г V в. в бассейнах Днепра и Днестра складывается мощный союз восточнославянских племен, которых называли</a:t>
            </a:r>
            <a:r>
              <a:rPr b="0" i="1" lang="ru-RU" sz="2400" spc="-1" strike="noStrike">
                <a:solidFill>
                  <a:srgbClr val="336699"/>
                </a:solidFill>
                <a:latin typeface="Arial"/>
              </a:rPr>
              <a:t> антами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, что на древнеиранском языке означало «жители окраин». Одновременно на севере Балканского полуострова образовался племенной союэ</a:t>
            </a:r>
            <a:r>
              <a:rPr b="0" i="1" lang="ru-RU" sz="2400" spc="-1" strike="noStrike">
                <a:solidFill>
                  <a:srgbClr val="336699"/>
                </a:solidFill>
                <a:latin typeface="Arial"/>
              </a:rPr>
              <a:t> склавинов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Times New Roman"/>
              </a:rPr>
              <a:t>4. Славяне в V—VII вв. Язычество 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0" name="Text Box 37"/>
          <p:cNvSpPr/>
          <p:nvPr/>
        </p:nvSpPr>
        <p:spPr>
          <a:xfrm>
            <a:off x="285840" y="5929200"/>
            <a:ext cx="2928960" cy="825480"/>
          </a:xfrm>
          <a:prstGeom prst="rect">
            <a:avLst/>
          </a:prstGeom>
          <a:solidFill>
            <a:srgbClr val="ccecff"/>
          </a:solidFill>
          <a:ln cap="sq"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Статуэтка антского воина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tretch/>
        </p:blipFill>
        <p:spPr>
          <a:xfrm>
            <a:off x="0" y="644400"/>
            <a:ext cx="3500280" cy="520704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4" dur="1" fill="hold"/>
                                  <p:tgtEl>
                                    <p:spTgt spid="12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929040" y="714240"/>
            <a:ext cx="5207040" cy="61437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Византийские сочинения той поры полны паническими известиями о набегах славян на византийские владения. Именно с тех времен до нас доходит история о славянском вожде</a:t>
            </a:r>
            <a:r>
              <a:rPr b="1" i="1" lang="ru-RU" sz="2400" spc="-1" strike="noStrike">
                <a:solidFill>
                  <a:srgbClr val="336699"/>
                </a:solidFill>
                <a:latin typeface="Arial"/>
              </a:rPr>
              <a:t> Кие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и об основании им города Киева, будущей столицы Руси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Кий — один из вождей славянских племен, живших по среднему Днепру, вместе с братьями</a:t>
            </a:r>
            <a:r>
              <a:rPr b="1" i="1" lang="ru-RU" sz="2400" spc="-1" strike="noStrike">
                <a:solidFill>
                  <a:srgbClr val="336699"/>
                </a:solidFill>
                <a:latin typeface="Arial"/>
              </a:rPr>
              <a:t> Щеком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и Ха</a:t>
            </a:r>
            <a:r>
              <a:rPr b="1" i="1" lang="ru-RU" sz="2400" spc="-1" strike="noStrike">
                <a:solidFill>
                  <a:srgbClr val="336699"/>
                </a:solidFill>
                <a:latin typeface="Arial"/>
              </a:rPr>
              <a:t>ривом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и сестрой</a:t>
            </a:r>
            <a:r>
              <a:rPr b="1" i="1" lang="ru-RU" sz="2400" spc="-1" strike="noStrike">
                <a:solidFill>
                  <a:srgbClr val="336699"/>
                </a:solidFill>
                <a:latin typeface="Arial"/>
              </a:rPr>
              <a:t> Лыбедью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основали город, названный в честь старшего брата Киевом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Times New Roman"/>
              </a:rPr>
              <a:t>4. Славяне в V—VII вв. Язычество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285840" y="1785960"/>
            <a:ext cx="3429000" cy="27432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8" dur="1" fill="hold"/>
                                  <p:tgtEl>
                                    <p:spTgt spid="13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929040" y="714240"/>
            <a:ext cx="5207040" cy="61437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В то же время, а севере шло 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формирование еще одного мощного славянского центра в Приильменье; позднее здесь возник союз племен, получивших названне новгородских (приильменских) словен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Но в середине VI в, новая тюркская орда —</a:t>
            </a:r>
            <a:r>
              <a:rPr b="1" i="1" lang="ru-RU" sz="2400" spc="-1" strike="noStrike">
                <a:solidFill>
                  <a:srgbClr val="336699"/>
                </a:solidFill>
                <a:latin typeface="Arial"/>
              </a:rPr>
              <a:t> авары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— вторглась в Восточную Европу и позже осела по берегам Дуная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Как и во время гуннского нашествия удару подверглись славянские поселения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Times New Roman"/>
              </a:rPr>
              <a:t>4. Славяне в V—VII вв. Язычество</a:t>
            </a: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9" name="Text Box 37"/>
          <p:cNvSpPr/>
          <p:nvPr/>
        </p:nvSpPr>
        <p:spPr>
          <a:xfrm>
            <a:off x="571680" y="6072120"/>
            <a:ext cx="2928600" cy="459720"/>
          </a:xfrm>
          <a:prstGeom prst="rect">
            <a:avLst/>
          </a:prstGeom>
          <a:solidFill>
            <a:srgbClr val="ccecff"/>
          </a:solidFill>
          <a:ln cap="sq"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Авары 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pic>
        <p:nvPicPr>
          <p:cNvPr id="140" name="Picture 5" descr=""/>
          <p:cNvPicPr/>
          <p:nvPr/>
        </p:nvPicPr>
        <p:blipFill>
          <a:blip r:embed="rId1"/>
          <a:stretch/>
        </p:blipFill>
        <p:spPr>
          <a:xfrm>
            <a:off x="0" y="666720"/>
            <a:ext cx="3857760" cy="514512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7" dur="1" fill="hold"/>
                                  <p:tgtEl>
                                    <p:spTgt spid="13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0T21:55:04Z</dcterms:created>
  <dc:creator>elior</dc:creator>
  <dc:description/>
  <dc:language>en-US</dc:language>
  <cp:lastModifiedBy>LEGION</cp:lastModifiedBy>
  <cp:lastPrinted>1997-01-19T19:09:28Z</cp:lastPrinted>
  <dcterms:modified xsi:type="dcterms:W3CDTF">2015-01-15T12:37:04Z</dcterms:modified>
  <cp:revision>131</cp:revision>
  <dc:subject/>
  <dc:title>Заголовок слайда отсутствует</dc:title>
</cp:coreProperties>
</file>