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93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date/time&gt;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17080" y="704880"/>
            <a:ext cx="4699080" cy="352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7"/>
          </p:nvPr>
        </p:nvSpPr>
        <p:spPr>
          <a:xfrm>
            <a:off x="0" y="8926200"/>
            <a:ext cx="3005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8"/>
          </p:nvPr>
        </p:nvSpPr>
        <p:spPr>
          <a:xfrm>
            <a:off x="3927240" y="8926200"/>
            <a:ext cx="30049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3E1B-A3BC-4963-BEE5-61DE6A2BAD16}" type="slidenum">
              <a:rPr b="1" lang="uk-UA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Calibri"/>
              </a:rPr>
              <a:t>2. Появление славян</a:t>
            </a:r>
            <a:r>
              <a:rPr b="0" i="1" lang="ru-RU" sz="1200" spc="-1" strike="noStrike">
                <a:solidFill>
                  <a:srgbClr val="660033"/>
                </a:solidFill>
                <a:latin typeface="Calibri"/>
              </a:rPr>
              <a:t>.</a:t>
            </a: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745A-EA61-4EE2-A018-7EC875A941F8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4. Славяне в V—VII вв. Язычество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VI — VII вв. славяне вели с аварами постоянные войны. В союзе с франкским королем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Карлом Велики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авяне в конце VIII п. разгромили авар. Но в это время в Восточной Европе появилась новая тюркская орда —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хазар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ни прошли через Нижнее Поволжье в Северное Причерноморье, заняли территории в предгорьях Кавказа, На долгие столетия эти кочевники стали опасными соседями восточных славя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DC18-9C1F-4F14-8BDD-B278A606E582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Calibri"/>
              </a:rPr>
              <a:t>4. Славяне в V—VII вв. Язычество</a:t>
            </a: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 была не только средой обитания славян, но и источником их существования. Славяне обожествляли силы природы влияющие на их жизнь. Славянская религия со множеством божеств, называется многобожием или политеизмом (от греческих слов «поли» — много и «теос» — бог).  В христианские времена эта вера получила названи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язычеств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языце – иноземные, нехристианске народ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A44D-F3D4-48E1-B671-3750036BEE33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о главе славянских божеств стоял великий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вар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бог вселенной, напоминающий древнегреческого Зевса.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Calibri"/>
              </a:rPr>
              <a:t>(запишите имена богов и их значение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сыновь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варожич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солнце и огонь — были носителям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а и тепла. Бог солнц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Даждьб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сьма почитался славя­нами. Недаром автор «Слова о полку Игореве называл славян «даждьбожьи внуки». Молились славян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Ро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рожениц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богу и богиням плодородия. Этот культ был связан с земледельческими занятиями населения и поэтому был особенно популярен. Бог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Весле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читался у славян в качестве покровителя скотоводства, это был своеобразный «скотный бог»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трибог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их понятиям. повелевал ветрами, как древнегреческий Эол. По мере слияния славян с некоторыми иранскими и угрофинскими племенами их боги перекочевывали и в славянский панте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, в VIII — IX вв. у славян почитался бог солнц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Хор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й явно пришел из мира иранских племен. Бог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имаргл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торый изображался в виде пса и считался богом почвы, корней растении. В иранском мире это был хозяин подземного царства, божество плодород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енным крупным женским божеством у славян был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Макош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ая олицетворяла рождение всего живого, была покровительницей женской части хозяйства. Со временем, уже по мере выдвижения в общественной жизни славян князей, дружины, начала великих военных походов, на первый план все больше выдвигается бог молнии и гром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у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й затем становится главным небесным божеством, сливает­ся со Сварогом, Родом как более древними бог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3105-41DD-467A-916E-33182648983B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5.Видеофраг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B665-68C1-44AF-870F-5CB775540183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6. Закрепление изуче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еречислите славянских  богов, чему каждый покровитель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7AFC-BC06-4745-9CAB-5F05283CA04A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7.Выв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eeece1"/>
                </a:solidFill>
                <a:latin typeface="Times New Roman"/>
              </a:rPr>
              <a:t>Запишите в тетрад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Древняя славянская религия – многобожие - обожествляля все силы природы, которые влияли на их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182E-FF4D-4D74-A0D5-33EE6F3466E8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00"/>
                </a:solidFill>
                <a:uFillTx/>
                <a:latin typeface="Calibri"/>
              </a:rPr>
              <a:t>6. Закрепление изучен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Запишите в тетрад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ронология появления враждебных славянам народов на территории Северного Причерноморья и Поднеп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. Кимерийцы (1 тыс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2. Скиф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I – II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в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3. Сармат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в до н.э -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II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н.э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4. Готы, алан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V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5. Гунн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6. Авар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I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7. Хазар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III – X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B5AA-B161-423C-BE92-0CE2C4CFF9F6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7.Выв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eeece1"/>
                </a:solidFill>
                <a:latin typeface="Times New Roman"/>
              </a:rPr>
              <a:t>Запишите в тетрад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В середине </a:t>
            </a:r>
            <a:r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I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тысячелетия до н.э. славяне окончательно выделились из семьи индоевропейских народов. С </a:t>
            </a:r>
            <a:r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V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века н.э. идет бурный демографический рост славянского мира. Складываются два мощных союза славянских племен: анты (Днепр и Днестр) и склавины (север Балкан). Будут разбиты в</a:t>
            </a:r>
            <a:r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VI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веке ава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A023-487B-4AAD-AB7F-0B72E62A28E8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2. Появление славян</a:t>
            </a:r>
            <a:r>
              <a:rPr b="0" i="1" lang="ru-RU" sz="1800" spc="-1" strike="noStrike">
                <a:solidFill>
                  <a:srgbClr val="660033"/>
                </a:solidFill>
                <a:latin typeface="Calibri"/>
              </a:rPr>
              <a:t>.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индоевропейцев ко 2-му тысячелетию до н. э. образовали в Центральной и Восточной Европе особый массив, состоявший из предков будущих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германцев, славян, балтов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воривших тогда на одном языке. В середине 2-го тысячелетня до н. обособились предки германских племен, а предки балтов и славян продолжали составлять еще некоторое время общую балтославянскую групп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3168-4BF9-4F6A-9BEF-0C751C93C2FC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Calibri"/>
              </a:rPr>
              <a:t>2. Появление славян</a:t>
            </a: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ом расселения предков славянских народов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праславян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л бассейн реки Вислы. На рубеже 2-го и 1-го тысячелетни до н. э. предки славян компактно расселяются в двух районах Европы. Первый — в северной части Центральной Европы: в будущем здесь появятс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западные славяне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 второй — в Среднем Поднепровье: века спустя здесь сформируются племен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сточных слав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3637-49AD-4801-8AF0-A7CC86C96848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2. Появление славян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в начале 1 тыс. до н.э. праславяне вступили в противоборство с кочевыми племенами. Это был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киммерийцы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нявшие степные пространства Северного Причерноморья. С VI по IV в. до н. з. земли предков восточных славян подверглись новому нашествию. То был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кифы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ифы оттеснили киммерийцев и стали опасными соседями славян и балтов. К тому времени, когда скифы заняли Северное Причерноморье, там уже существовал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греческие колон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336F-747B-4C96-9DD3-898B568166ED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2. Появление славян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раз в скифское время формируется население, говорившее уже по-славянски, а не на балтославянском языке. Начиная со II в. до н. э. Поднепровье испытало новый натиск врагов. Из-за Дона сюда продвинулись кочевые орд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арм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маты нанесли серию ударов захватили земли скифов и проникли в глубь северной лесостепной зоны, где жили славя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1F8A-67E2-40D3-9347-43620B76E335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3.Работа с учебник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Times New Roman"/>
              </a:rPr>
              <a:t>Выпишите названия и время пребывания других народов на территории Росс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§ 3 пункты «Другие народы России в глубокой древности» и «Великое переселение народов и Восточная Европа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BEB6-D0E5-4AD0-A517-4156F19569A8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4. Славяне в V—VII вв. Язычеств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падения державы гуннов вновь наполняются славянским населением дунайские и днепровские берега. В V—VI вв происходит его быстрое и громадное увеличение. Начиная г V в. в бассейнах Днепра и Днестра складывается мощный союз восточнославянских племен, которых называл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ан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что на древнеиранском языке означало «жители окраин». Одновременно на севере Балканского полуострова образовался племенной союэ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клави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7B7F-A48B-4176-86E2-1C2E8D5F1F88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4. Славяне в V—VII вв. Язычест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зантийские сочинения той поры полны паническими известиями о набегах славян на византийские владения. Именно с тех времен до нас доходит история о славянском вожд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К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об основании им города Киева, будущей столицы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й — один из вождей славянских племен, живших по среднему Днепру, вместе с братьям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Ще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Х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ив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сестрой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Лыбед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сновали город, названный в честь старшего брата Кие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8FA0-D14F-482B-82E6-9FD7997950AF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4. Славяне в V—VII вв. Язычество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 то же время, а севере шл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еще одного мощного славянского центра в Приильменье; позднее здесь возник союз племен, получивших названне новгородских (приильменских) слов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 середине VI в, новая тюркская орда —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ава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вторглась в Восточную Европу и позже осела по берегам Ду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 во время гуннского нашествия удару подверглись славянские по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D705-F985-49A7-BDA6-88135D49ECC9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869D3-E044-4B37-8549-0583339ECE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C3C78-FD14-4F91-9879-2E241ADEB5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4502B-CF4F-4186-8DB1-537E6FA281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584C4-7B33-465A-9ACF-87A95ACE4E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618EC-3256-40A0-8539-2E46D318F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F908D-7545-41A2-9C85-7804974E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75300-82B2-47B7-9A43-55040684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CB8D5-0DB5-4B93-A95A-0D5F0AC5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BD12F-5ECA-4610-9E6C-2847F048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5FB9E-360E-4ED1-9C1A-9AD5A826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81A1E-5ED8-44A2-9283-9A45A181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7E14B-1BE6-4315-843C-6D99552E9D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796EC-CAA6-4420-BE7A-13DE130B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02D7A-1B3C-4F56-AD82-75F72E74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6AB78-A07B-44DC-A003-11A9E1A2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A0D5A-3583-445A-A8A1-1F121119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D2EFC-2D21-440A-8F4B-7D75F7F8A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03C89-4215-4E58-BAFF-7FE566D0FE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B6E91-0AC5-4928-BD58-B20E92BBBD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1C09D-6E4F-43DB-9CAE-1E126FD6D2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8E9F4-FCA8-4D52-A1D2-6DC85477DF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3CEEC-B50F-4217-A6BD-598A546BE4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5502C-9186-4DDB-A287-C31343E2E8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6F50B-32F6-4A55-B7E4-08AB9C181C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32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lnTo>
                  <a:pt x="21600" y="432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" name="Arc 3"/>
          <p:cNvSpPr/>
          <p:nvPr/>
        </p:nvSpPr>
        <p:spPr>
          <a:xfrm>
            <a:off x="13334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780A-9C46-4038-88E0-3889FAC358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" name="AutoShape 10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8" name="AutoShape 11">
            <a:hlinkClick r:id="" action="ppaction://hlinkshowjump?jump=previousslide"/>
          </p:cNvPr>
          <p:cNvSpPr/>
          <p:nvPr/>
        </p:nvSpPr>
        <p:spPr>
          <a:xfrm flipH="1" rot="16200000">
            <a:off x="4824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99ff"/>
              </a:gs>
              <a:gs pos="100000">
                <a:srgbClr val="66cc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492960" y="147600"/>
            <a:ext cx="188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Times New Roman"/>
              </a:rPr>
              <a:t>Меню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0" name="Oval 13"/>
          <p:cNvSpPr/>
          <p:nvPr/>
        </p:nvSpPr>
        <p:spPr>
          <a:xfrm>
            <a:off x="8518680" y="125280"/>
            <a:ext cx="539640" cy="53820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" name="Oval 14"/>
          <p:cNvSpPr/>
          <p:nvPr/>
        </p:nvSpPr>
        <p:spPr>
          <a:xfrm>
            <a:off x="8470800" y="58680"/>
            <a:ext cx="541440" cy="5349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" name="Arc 15"/>
          <p:cNvSpPr/>
          <p:nvPr/>
        </p:nvSpPr>
        <p:spPr>
          <a:xfrm>
            <a:off x="8729640" y="63360"/>
            <a:ext cx="284040" cy="533520"/>
          </a:xfrm>
          <a:custGeom>
            <a:avLst/>
            <a:gdLst/>
            <a:ahLst/>
            <a:rect l="l" t="t" r="r" b="b"/>
            <a:pathLst>
              <a:path fill="none" w="22730" h="43200">
                <a:moveTo>
                  <a:pt x="1129" y="0"/>
                </a:moveTo>
                <a:cubicBezTo>
                  <a:pt x="13059" y="0"/>
                  <a:pt x="22730" y="9670"/>
                  <a:pt x="22730" y="21600"/>
                </a:cubicBezTo>
                <a:cubicBezTo>
                  <a:pt x="22730" y="33529"/>
                  <a:pt x="13059" y="43200"/>
                  <a:pt x="1130" y="43200"/>
                </a:cubicBezTo>
                <a:cubicBezTo>
                  <a:pt x="753" y="43200"/>
                  <a:pt x="376" y="43190"/>
                  <a:pt x="-1" y="43170"/>
                </a:cubicBezTo>
              </a:path>
              <a:path stroke="0" w="22730" h="43200">
                <a:moveTo>
                  <a:pt x="1129" y="0"/>
                </a:moveTo>
                <a:cubicBezTo>
                  <a:pt x="13059" y="0"/>
                  <a:pt x="22730" y="9670"/>
                  <a:pt x="22730" y="21600"/>
                </a:cubicBezTo>
                <a:cubicBezTo>
                  <a:pt x="22730" y="33529"/>
                  <a:pt x="13059" y="43200"/>
                  <a:pt x="1130" y="43200"/>
                </a:cubicBezTo>
                <a:cubicBezTo>
                  <a:pt x="753" y="43200"/>
                  <a:pt x="376" y="43190"/>
                  <a:pt x="-1" y="43170"/>
                </a:cubicBezTo>
                <a:lnTo>
                  <a:pt x="1130" y="21600"/>
                </a:lnTo>
                <a:lnTo>
                  <a:pt x="1129" y="0"/>
                </a:lnTo>
                <a:close/>
              </a:path>
            </a:pathLst>
          </a:custGeom>
          <a:solidFill>
            <a:srgbClr val="090a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3" name="Arc 16"/>
          <p:cNvSpPr/>
          <p:nvPr/>
        </p:nvSpPr>
        <p:spPr>
          <a:xfrm>
            <a:off x="8472600" y="63360"/>
            <a:ext cx="284040" cy="533520"/>
          </a:xfrm>
          <a:custGeom>
            <a:avLst/>
            <a:gdLst/>
            <a:ahLst/>
            <a:rect l="l" t="t" r="r" b="b"/>
            <a:pathLst>
              <a:path fill="none" w="22730" h="43200">
                <a:moveTo>
                  <a:pt x="22730" y="43170"/>
                </a:moveTo>
                <a:cubicBezTo>
                  <a:pt x="22353" y="43190"/>
                  <a:pt x="21976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2730" h="43200">
                <a:moveTo>
                  <a:pt x="22730" y="43170"/>
                </a:moveTo>
                <a:cubicBezTo>
                  <a:pt x="22353" y="43190"/>
                  <a:pt x="21976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lnTo>
                  <a:pt x="22730" y="4317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" name="Oval 17">
            <a:hlinkClick r:id="" action="ppaction://hlinkshowjump?jump=firstslide"/>
          </p:cNvPr>
          <p:cNvSpPr/>
          <p:nvPr/>
        </p:nvSpPr>
        <p:spPr>
          <a:xfrm>
            <a:off x="8555040" y="142920"/>
            <a:ext cx="378000" cy="372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rc 2"/>
          <p:cNvSpPr/>
          <p:nvPr/>
        </p:nvSpPr>
        <p:spPr>
          <a:xfrm>
            <a:off x="32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lnTo>
                  <a:pt x="21600" y="432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2" name="Arc 3"/>
          <p:cNvSpPr/>
          <p:nvPr/>
        </p:nvSpPr>
        <p:spPr>
          <a:xfrm>
            <a:off x="13334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4" name="AutoShape 10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1905120" y="21337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4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5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DC93-0768-4700-B447-0FE8FAB76E1C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214880" y="714240"/>
            <a:ext cx="492120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130320" rIns="130320" tIns="84240" bIns="84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90a1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2. Появление славян</a:t>
            </a:r>
            <a:r>
              <a:rPr b="0" i="1" lang="ru-RU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5" name="Text Box 37"/>
          <p:cNvSpPr/>
          <p:nvPr/>
        </p:nvSpPr>
        <p:spPr>
          <a:xfrm>
            <a:off x="285840" y="6143760"/>
            <a:ext cx="2928960" cy="461880"/>
          </a:xfrm>
          <a:prstGeom prst="rect">
            <a:avLst/>
          </a:prstGeom>
          <a:solidFill>
            <a:srgbClr val="ccecff"/>
          </a:solidFill>
          <a:ln cap="sq"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0" y="642960"/>
            <a:ext cx="9155160" cy="62150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929040" y="714240"/>
            <a:ext cx="520704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В течение VI — VII вв. славяне вели с аварами постоянные войны. В союзе с франкским королем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Карлом Великим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славяне в конце VIII п. разгромили авар. Но в это время в Восточной Европе появилась новая тюркская орда —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хазары.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Они прошли через Нижнее Поволжье в Северное Причерноморье, заняли территории в предгорьях Кавказа, На долгие столетия эти кочевники стали опасными соседями восточных славян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4. Славяне в V—VII вв. Язычество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214200" y="817560"/>
            <a:ext cx="3429000" cy="47386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7"/>
          <p:cNvSpPr/>
          <p:nvPr/>
        </p:nvSpPr>
        <p:spPr>
          <a:xfrm>
            <a:off x="500040" y="6143760"/>
            <a:ext cx="2928960" cy="459720"/>
          </a:xfrm>
          <a:prstGeom prst="rect">
            <a:avLst/>
          </a:prstGeom>
          <a:solidFill>
            <a:srgbClr val="ccecff"/>
          </a:solidFill>
          <a:ln cap="sq"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Карл Великий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" dur="1" fill="hold"/>
                                  <p:tgtEl>
                                    <p:spTgt spid="1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4572000"/>
            <a:ext cx="9136080" cy="2286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Природа была не только средой обитания славян, но и источником их существования. Славяне обожествляли силы природы влияющие на их жизнь. Славянская религия со множеством божеств, называется многобожием или политеизмом (от греческих слов «поли» — много и «теос» — бог).  В христианские времена эта вера получила название </a:t>
            </a:r>
            <a:r>
              <a:rPr b="1" i="1" lang="ru-RU" sz="2000" spc="-1" strike="noStrike">
                <a:solidFill>
                  <a:srgbClr val="336699"/>
                </a:solidFill>
                <a:latin typeface="Arial"/>
              </a:rPr>
              <a:t>язычество 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(языце – иноземные, нехристианске народы)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4. Славяне в V—VII вв. Язычество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1643040" y="657360"/>
            <a:ext cx="5643720" cy="382896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5" dur="1" fill="hold"/>
                                  <p:tgtEl>
                                    <p:spTgt spid="1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36080" cy="6858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. Во главе славянских божеств стоял великий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Сварог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— бог вселенной, напоминающий древнегреческого Зевса.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(запишите имена богов и их значение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Его сыновья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Сварожичи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— солнце и огонь — были носителями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света и тепла. Бог солнца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Даждьбог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весьма почитался славя­нами. Недаром автор «Слова о полку Игореве называл славян «даждьбожьи внуки». Молились славяне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Роду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и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роженицам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— богу и богиням плодородия. Этот культ был связан с земледельческими занятиями населения и поэтому был особенно популярен. Бог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Веслес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почитался у славян в качестве покровителя скотоводства, это был своеобразный «скотный бог».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Стрибог,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по их понятиям. повелевал ветрами, как древнегреческий Эол. По мере слияния славян с некоторыми иранскими и угрофинскими племенами их боги перекочевывали и в славянский пантеон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Так, в VIII — IX вв. у славян почитался бог солнца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Хорс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, который явно пришел из мира иранских племен. Бог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Симаргл,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который изображался в виде пса и считался богом почвы, корней растении. В иранском мире это был хозяин подземного царства, божество плодородия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Единственным крупным женским божеством у славян была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Макошь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, которая олицетворяла рождение всего живого, была покровительницей женской части хозяйства. Со временем, уже по мере выдвижения в общественной жизни славян князей, дружины, начала великих военных походов, на первый план все больше выдвигается бог молнии и грома 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Перун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, который затем становится главным небесным божеством, сливает­ся со Сварогом, Родом как более древними богами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9" dur="1" fill="hold"/>
                                  <p:tgtEl>
                                    <p:spTgt spid="1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928800"/>
            <a:ext cx="9144000" cy="5929200"/>
          </a:xfrm>
          <a:prstGeom prst="rect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txBody>
          <a:bodyPr lIns="130320" rIns="130320" tIns="84240" bIns="84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090a11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33"/>
                </a:solidFill>
                <a:latin typeface="Times New Roman"/>
              </a:rPr>
              <a:t>5.Видеофрагмент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6. Закрепление изученного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928800"/>
            <a:ext cx="9144000" cy="59292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Перечислите славянских  богов, чему каждый покровительствует</a:t>
            </a:r>
            <a:endParaRPr b="1" lang="en-US" sz="6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714240"/>
            <a:ext cx="9144000" cy="614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90a11"/>
                </a:solidFill>
                <a:latin typeface="Times New Roman"/>
              </a:rPr>
              <a:t>Запишите в тетрадь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90a11"/>
                </a:solidFill>
                <a:latin typeface="Times New Roman"/>
              </a:rPr>
              <a:t>Древняя славянская религия – многобожие - обожествляля все силы природы, которые влияли на их жизнь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Times New Roman"/>
              </a:rPr>
              <a:t>7.Выводы</a:t>
            </a:r>
            <a:endParaRPr b="0" lang="en-US" sz="5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3" dur="1" fill="hold"/>
                                  <p:tgtEl>
                                    <p:spTgt spid="1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6. Закрепление изученного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928800"/>
            <a:ext cx="9144000" cy="59292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Запишите в тетрадь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ронология появления враждебных славянам народов на территории Северного Причерноморья и Поднепровья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Кимерийцы (1 тыс. до н.э.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 Скиф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 – II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в. до н.э.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Сармат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 до н.э 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I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н.э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Готы, алан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 Гунн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6. Авар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7. Хазар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II – X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в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714240"/>
            <a:ext cx="9144000" cy="614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90a11"/>
                </a:solidFill>
                <a:latin typeface="Times New Roman"/>
              </a:rPr>
              <a:t>Запишите в тетрадь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90a11"/>
                </a:solidFill>
                <a:latin typeface="Times New Roman"/>
              </a:rPr>
              <a:t>В середине </a:t>
            </a:r>
            <a:r>
              <a:rPr b="0" lang="en-US" sz="3200" spc="-1" strike="noStrike">
                <a:solidFill>
                  <a:srgbClr val="090a11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90a11"/>
                </a:solidFill>
                <a:latin typeface="Times New Roman"/>
              </a:rPr>
              <a:t> тысячелетия до н.э. славяне окончательно выделились из семьи индоевропейских народов. С </a:t>
            </a:r>
            <a:r>
              <a:rPr b="0" lang="en-US" sz="3200" spc="-1" strike="noStrike">
                <a:solidFill>
                  <a:srgbClr val="090a11"/>
                </a:solidFill>
                <a:latin typeface="Times New Roman"/>
              </a:rPr>
              <a:t>V</a:t>
            </a:r>
            <a:r>
              <a:rPr b="0" lang="ru-RU" sz="3200" spc="-1" strike="noStrike">
                <a:solidFill>
                  <a:srgbClr val="090a11"/>
                </a:solidFill>
                <a:latin typeface="Times New Roman"/>
              </a:rPr>
              <a:t> века н.э. идет бурный демографический рост славянского мира. Складываются два мощных союза славянских племен: анты (Днепр и Днестр) и склавины (север Балкан). Будут разбиты в</a:t>
            </a:r>
            <a:r>
              <a:rPr b="0" lang="en-US" sz="3200" spc="-1" strike="noStrike">
                <a:solidFill>
                  <a:srgbClr val="090a11"/>
                </a:solidFill>
                <a:latin typeface="Times New Roman"/>
              </a:rPr>
              <a:t>VI</a:t>
            </a:r>
            <a:r>
              <a:rPr b="0" lang="ru-RU" sz="3200" spc="-1" strike="noStrike">
                <a:solidFill>
                  <a:srgbClr val="090a11"/>
                </a:solidFill>
                <a:latin typeface="Times New Roman"/>
              </a:rPr>
              <a:t> веке аварами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Times New Roman"/>
              </a:rPr>
              <a:t>7.Выводы</a:t>
            </a:r>
            <a:endParaRPr b="0" lang="en-US" sz="5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7" dur="1" fill="hold"/>
                                  <p:tgtEl>
                                    <p:spTgt spid="1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214880" y="714240"/>
            <a:ext cx="492120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Часть индоевропейцев ко 2-му тысячелетию до н. э. образовали в Центральной и Восточной Европе особый массив, состоявший из предков будущих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германцев, славян, балтов,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говоривших тогда на одном языке. В середине 2-го тысячелетня до н. обособились предки германских племен, а предки балтов и славян продолжали составлять еще некоторое время общую балтославянскую группу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2. Появление славян</a:t>
            </a:r>
            <a:r>
              <a:rPr b="0" i="1" lang="ru-RU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0" y="1392120"/>
            <a:ext cx="4219560" cy="3537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4572000"/>
            <a:ext cx="9136080" cy="2286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Центром расселения предков славянских народов</a:t>
            </a:r>
            <a:r>
              <a:rPr b="0" i="1" lang="ru-RU" sz="2000" spc="-1" strike="noStrike">
                <a:solidFill>
                  <a:srgbClr val="336699"/>
                </a:solidFill>
                <a:latin typeface="Arial"/>
              </a:rPr>
              <a:t> (праславян) 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стал бассейн реки Вислы. На рубеже 2-го и 1-го тысячелетни до н. э. предки славян компактно расселяются в двух районах Европы. Первый — в северной части Центральной Европы: в будущем здесь появятся</a:t>
            </a:r>
            <a:r>
              <a:rPr b="1" i="1" lang="ru-RU" sz="2000" spc="-1" strike="noStrike">
                <a:solidFill>
                  <a:srgbClr val="336699"/>
                </a:solidFill>
                <a:latin typeface="Arial"/>
              </a:rPr>
              <a:t> западные славяне,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 а второй — в Среднем Поднепровье: века спустя здесь сформируются племена </a:t>
            </a:r>
            <a:r>
              <a:rPr b="1" i="1" lang="ru-RU" sz="2000" spc="-1" strike="noStrike">
                <a:solidFill>
                  <a:srgbClr val="336699"/>
                </a:solidFill>
                <a:latin typeface="Arial"/>
              </a:rPr>
              <a:t>восточных славян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2. Появление славян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1285920" y="760320"/>
            <a:ext cx="6286320" cy="370836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/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428640" y="714240"/>
            <a:ext cx="570708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Уже в начале 1 тыс. до н.э. праславяне вступили в противоборство с кочевыми племенами. Это были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киммерийцы,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занявшие степные пространства Северного Причерноморья. С VI по IV в. до н. з. земли предков восточных славян подверглись новому нашествию. То были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скифы.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Скифы оттеснили киммерийцев и стали опасными соседями славян и балтов. К тому времени, когда скифы заняли Северное Причерноморье, там уже существовали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греческие колонии.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2. Появление славян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0" y="857160"/>
            <a:ext cx="3324240" cy="46008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" dur="1" fill="hold"/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142880" y="714240"/>
            <a:ext cx="499284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Как раз в скифское время формируется население, говорившее уже по-славянски, а не на балтославянском языке. Начиная со II в. до н. э. Поднепровье испытало новый натиск врагов. Из-за Дона сюда продвинулись кочевые орды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сарматов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Сарматы нанесли серию ударов захватили земли скифов и проникли в глубь северной лесостепной зоны, где жили славяне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2. Появление славян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2" name="Text Box 37"/>
          <p:cNvSpPr/>
          <p:nvPr/>
        </p:nvSpPr>
        <p:spPr>
          <a:xfrm>
            <a:off x="500040" y="6000840"/>
            <a:ext cx="2928960" cy="459720"/>
          </a:xfrm>
          <a:prstGeom prst="rect">
            <a:avLst/>
          </a:prstGeom>
          <a:solidFill>
            <a:srgbClr val="ccecff"/>
          </a:solidFill>
          <a:ln cap="sq"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оевой меч 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  века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714240" y="1000080"/>
            <a:ext cx="2571840" cy="45925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" dur="1" fill="hold"/>
                                  <p:tgtEl>
                                    <p:spTgt spid="1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560" y="1356840"/>
            <a:ext cx="8481960" cy="5072040"/>
          </a:xfrm>
          <a:prstGeom prst="rect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90a11"/>
                </a:solidFill>
                <a:latin typeface="Times New Roman"/>
              </a:rPr>
              <a:t>Выпишите названия и время пребывания других народов на территории России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Arial"/>
              </a:rPr>
              <a:t>§ 3 пункты «Другие народы России в глубокой древности» и «Великое переселение народов и Восточная Европа.»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553240" cy="9907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33"/>
                </a:solidFill>
                <a:latin typeface="Times New Roman"/>
              </a:rPr>
              <a:t>3.Работа с учебником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" dur="1" fill="hold"/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571920" y="714240"/>
            <a:ext cx="556416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После падения державы гуннов вновь наполняются славянским населением дунайские и днепровские берега. В V—VI вв происходит его быстрое и громадное увеличение. Начиная г V в. в бассейнах Днепра и Днестра складывается мощный союз восточнославянских племен, которых называли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антами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, что на древнеиранском языке означало «жители окраин». Одновременно на севере Балканского полуострова образовался племенной союэ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склавинов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4. Славяне в V—VII вв. Язычество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285840" y="5929200"/>
            <a:ext cx="2928960" cy="825480"/>
          </a:xfrm>
          <a:prstGeom prst="rect">
            <a:avLst/>
          </a:prstGeom>
          <a:solidFill>
            <a:srgbClr val="ccecff"/>
          </a:solidFill>
          <a:ln cap="sq"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Статуэтка антского воина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0" y="644400"/>
            <a:ext cx="3500280" cy="52070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4" dur="1" fill="hold"/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29040" y="714240"/>
            <a:ext cx="520704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Византийские сочинения той поры полны паническими известиями о набегах славян на византийские владения. Именно с тех времен до нас доходит история о славянском вожде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Кие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и об основании им города Киева, будущей столицы Рус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Кий — один из вождей славянских племен, живших по среднему Днепру, вместе с братьями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Щеком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и Ха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ривом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и сестрой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Лыбедью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основали город, названный в честь старшего брата Киевом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4. Славяне в V—VII вв. Язычество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285840" y="1785960"/>
            <a:ext cx="342900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8" dur="1" fill="hold"/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929040" y="714240"/>
            <a:ext cx="520704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то же время, а севере шло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формирование еще одного мощного славянского центра в Приильменье; позднее здесь возник союз племен, получивших названне новгородских (приильменских) словен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Но в середине VI в, новая тюркская орда —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авары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— вторглась в Восточную Европу и позже осела по берегам Дуная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Как и во время гуннского нашествия удару подверглись славянские поселения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4. Славяне в V—VII вв. Язычество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9" name="Text Box 37"/>
          <p:cNvSpPr/>
          <p:nvPr/>
        </p:nvSpPr>
        <p:spPr>
          <a:xfrm>
            <a:off x="571680" y="6072120"/>
            <a:ext cx="2928600" cy="459720"/>
          </a:xfrm>
          <a:prstGeom prst="rect">
            <a:avLst/>
          </a:prstGeom>
          <a:solidFill>
            <a:srgbClr val="ccecff"/>
          </a:solidFill>
          <a:ln cap="sq"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Авары 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0" y="666720"/>
            <a:ext cx="3857760" cy="51451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" dur="1" fill="hold"/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21:55:04Z</dcterms:created>
  <dc:creator>elior</dc:creator>
  <dc:description/>
  <dc:language>en-US</dc:language>
  <cp:lastModifiedBy>LEGION</cp:lastModifiedBy>
  <cp:lastPrinted>1997-01-19T19:09:28Z</cp:lastPrinted>
  <dcterms:modified xsi:type="dcterms:W3CDTF">2015-01-15T12:37:04Z</dcterms:modified>
  <cp:revision>131</cp:revision>
  <dc:subject/>
  <dc:title>Заголовок слайда отсутствует</dc:title>
</cp:coreProperties>
</file>