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3FFA-0B65-4920-A805-6A0679E75920}" type="slidenum"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2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D594-732E-47CC-BF75-AC1FAA00EF4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VI — VII вв. славяне вели с аварами постоянные войны. В союзе с франкским короле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арлом Вели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азар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8391-464C-44AA-B5A7-6A3A9765566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зы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зыце – иноземные, нехристианске нар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E7DC-0FFB-4275-ACBA-2EF88AD7B0C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о главе славянских божеств стоял велик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 вселенной, напоминающий древнегреческого Зевса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(запишите имена богов и их знач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сыновь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олнце и огонь — были носителя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а и тепла.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ес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трибог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VIII — IX вв. у славян почитался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о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явно пришел из мира иранских плем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имарг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D1F7-E9DE-498B-B5E8-9038D8BDDAD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5.Видеофраг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741C-3F37-41DC-A7C6-3C3FEBA0B0C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ечислите славянских  богов, чему каждый покровитель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6E79-27FD-4D3B-AFF0-6838CBB32F49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3B85-D719-4B44-8BAF-01384956A6E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. Кимерийцы (1 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. Скиф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–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3. Сармат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 до н.э -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.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. Готы, ала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. Гун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6. Ав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7. Хаз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II – X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E865-A4E6-47B7-A234-33749B6124E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В середине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е ава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25F5-8061-4AEE-84A7-A04AB3B61EF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ерманцев, славян, балт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DD74-02EE-4A8E-9DE3-7FC811E958D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ом расселения предков славянских народ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праславян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западные славяне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второй — в Среднем Поднепровье: века спустя здесь сформируются племе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0400-D5E7-4343-A870-F6D5FFEE35D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ммерийц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иф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реческие коло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25F0-04A1-40C2-806D-6C3608B882D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ар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5869-5540-4090-A0DD-A4BD5EE89DD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Работа с учебни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711E-6C39-43B9-8A97-1B55550309C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лав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AAFD-FBE9-4AF2-ACA6-A40DAB8F4B1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 основании им города Киева, будущей столицы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й — один из вождей славянских племен, живших по среднему Днепру, вместе с братья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Ще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Х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и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естро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ыбед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али город, названный в честь старшего брата Кие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6E6F-E0D4-4284-B102-44284B2A1FC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 то же время, а севере шл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редине VI в,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ва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торглась в Восточную Европу и позже осела по берегам Ду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во время гуннского нашествия удару подверглись славянские по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D171-8526-4F36-B730-DFFE37A1CFB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E08C-855C-4313-B3EE-57AA0306C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9043-2BA8-4FAA-9C7A-61886C9C5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1CB5-297A-4B9B-8AE1-42AE8AE29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4436-6191-4FF0-AA5B-FB1F056D6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40F4D-89CE-4A58-B438-01C7D55A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7A132-7D61-4F82-85C0-DC87D10F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78C7B-355F-4755-9F89-5A02AB63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0477D-4692-4D17-A230-83F4AC03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2FD6-A4B3-44EE-B831-46070FF5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C9F6C-6CB5-4C01-B22D-A39060D0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5D06A-9450-4619-906F-ECA916CA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5F8B-78D4-49C3-BACA-C104FD1A8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98223-D99E-496A-8EDA-E0C9D5F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5B6AC-76F9-4D35-935C-40D7DF77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B505D-9B1B-40BC-9D0F-F5F02142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0B467-F7BE-447E-B989-C3AD2630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591BF-4F9E-444D-9175-1B20171C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619E-AD52-4FFB-A792-5BF2DA468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9014-B92C-476B-80CC-786F1A1D2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C823-73D2-41E0-A39A-BAE611C72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19BE-54D9-48FD-B863-B793F3728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528B-20A0-4899-982A-FB19BF04D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2F77-C600-4840-9753-64DD9CE6D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6AE2-8BBA-4A5D-8CAD-F397C8ACB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A627-74BD-433C-8054-FB2EDC7503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97A5-AE66-4B4B-B0D2-609DC08BC6FE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90a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85840" y="6143760"/>
            <a:ext cx="2928960" cy="4618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642960"/>
            <a:ext cx="91551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течение VI — VII вв. славяне вели с аварами постоянные войны. В союзе с франкским королем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арлом Велики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хазары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14200" y="817560"/>
            <a:ext cx="3429000" cy="473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7"/>
          <p:cNvSpPr/>
          <p:nvPr/>
        </p:nvSpPr>
        <p:spPr>
          <a:xfrm>
            <a:off x="500040" y="614376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рл Вели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язычество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(языце – иноземные, нехристианске народы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643040" y="657360"/>
            <a:ext cx="5643720" cy="3828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3608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. Во главе славянских божеств стоял великий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 вселенной, напоминающий древнегреческого Зевса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(запишите имена богов и их значение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го сыновья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жичи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солнце и огонь — были носителями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вета и тепла.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Даждьб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ду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женицам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Весле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трибог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ак, в VIII — IX вв. у славян почитался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Хор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явно пришел из мира иранских плем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имаргл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динственным крупным женским божеством у славян был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Макошь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Перун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90a1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5.Видеофрагмент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еречислите славянских  богов, чему каждый покровительствует</a:t>
            </a: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пишите в тетрадь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имерийцы (1 тыс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Скиф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– 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Сармат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до н.э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.э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Готы, ала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Гун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Ав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Хаз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II – 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В середине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е авара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ерманцев, славян, балтов,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0" y="1392120"/>
            <a:ext cx="4219560" cy="3537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Центром расселения предков славянских народов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 (праславян)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западные славяне,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а второй — в Среднем Поднепровье: века спустя здесь сформируются племена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восточных славян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285920" y="760320"/>
            <a:ext cx="6286320" cy="37083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428640" y="714240"/>
            <a:ext cx="570708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киммерийцы,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ифы.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реческие колонии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3324240" cy="460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142880" y="714240"/>
            <a:ext cx="49928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сармат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500040" y="600084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оевой меч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 ве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571840" cy="4592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1356840"/>
            <a:ext cx="8481960" cy="50720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553240" cy="990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3.Работа с учебником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920" y="714240"/>
            <a:ext cx="556416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антами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лави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285840" y="5929200"/>
            <a:ext cx="2928960" cy="8254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татуэтка антского во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644400"/>
            <a:ext cx="3500280" cy="52070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ие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об основании им города Киева, будущей столицы Рус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ий — один из вождей славянских племен, живших по среднему Днепру, вместе с братьями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Щек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Ха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рив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сестрой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Лыбедью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сновали город, названный в честь старшего брата Киевом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то же время, а севере шло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о в середине VI в, новая тюркская орда —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авары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— вторглась в Восточную Европу и позже осела по берегам Дуна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и во время гуннского нашествия удару подверглись славянские поселени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571680" y="6072120"/>
            <a:ext cx="292860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вары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0" y="666720"/>
            <a:ext cx="3857760" cy="5145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7:04Z</dcterms:modified>
  <cp:revision>131</cp:revision>
  <dc:subject/>
  <dc:title>Заголовок слайда отсутствует</dc:title>
</cp:coreProperties>
</file>