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72AD-BE2D-4F60-A3EA-D351988BC168}" type="slidenum">
              <a:rPr b="1" lang="uk-UA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2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047E-80E7-42AC-AFAB-3B832B81472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VI — VII вв. славяне вели с аварами постоянные войны. В союзе с франкским короле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арлом Вели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азар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C5D1-F9A3-4324-98F2-683616EE5C0F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зы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зыце – иноземные, нехристианске нар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8C44-F867-4AB7-B053-F53D6B6E59C2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о главе славянских божеств стоял велик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 вселенной, напоминающий древнегреческого Зевса.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(запишите имена богов и их знач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сыновь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олнце и огонь — были носителя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а и тепла.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ес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трибог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VIII — IX вв. у славян почитался бог солнц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Хо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явно пришел из мира иранских племен. Бог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имарг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4B6D-1DEF-4DA8-AF51-4D40BB083F1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5.Видеофраг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C52-CDA2-40EA-BC65-6EF4D3D38A3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ечислите славянских  богов, чему каждый покровитель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19D-0C0E-4834-9985-020CF1AE027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2FF-698E-4DEB-805A-9122491F292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6. Закрепление изуч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. Кимерийцы (1 тыс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. Скиф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–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. Сармат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 до н.э 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.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. Готы, ала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. Гунн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. Ав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. Хазары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II – X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A840-CD22-4285-9FC6-BF0B26A4914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7.Вы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eece1"/>
                </a:solidFill>
                <a:latin typeface="Times New Roman"/>
              </a:rPr>
              <a:t>Запишите в тетрад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В середине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VI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веке ава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28AF-278D-4A72-8726-922C113FC32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0" i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ерманцев, славян, балтов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C1C-DD5B-4A7C-9ACE-A654917384D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ом расселения предков славянских народ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праславян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западные славяне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второй — в Среднем Поднепровье: века спустя здесь сформируются племе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A26-82EE-43E1-B28E-F8E6FAB67A2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ммерийц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иф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реческие коло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391A-3F61-4226-B23A-46A14EFFEFC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2. Появление славян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ар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78CA-E951-451D-A5CC-0AEFB1FE47F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3.Работа с учебни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36E-0C56-4D79-A58B-BB858962369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клав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83F7-E995-4F63-AE83-0089CF8A0300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К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 основании им города Киева, будущей столицы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й — один из вождей славянских племен, живших по среднему Днепру, вместе с братья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Ще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Х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естро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Лыбед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али город, названный в честь старшего брата Кие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135-5738-4D91-817C-5C8D308B688D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Calibri"/>
              </a:rPr>
              <a:t>4. Славяне в V—VII вв. Язычество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 то же время, а севере шл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редине VI в, новая тюркская орда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ава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торглась в Восточную Европу и позже осела по берегам Ду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во время гуннского нашествия удару подверглись славянские по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68D6-1D3F-4666-B007-48BC0EB1AAF5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F1A2-B3E7-4E6A-8C94-05D14821E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7EAB-87BF-41FD-997D-2331E02F2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ED89-0AFA-48F2-A61B-878793ED2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E042-9811-4E4C-95A9-A5BC1CFCF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A7EAD-5732-4C9F-BE20-11C43746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3C0E-268B-4F03-8EEE-D097240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926F8-0346-4433-BAD1-FE1BA295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6D934-4F30-4753-A189-3094F0AF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5AF22-735A-4973-9A08-89B91353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C140-8782-4749-8266-0C05934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6D3B4-D942-4478-B457-E7E033E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2F8E-4BBD-4746-B125-42862E80B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F568D-320F-4DCD-A724-BA367C88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CE9D8-5A86-4E96-BB67-4B41293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3BC6-D4ED-449A-8E09-93C791DB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82EE9-A02C-4693-9F21-569FC05A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B17E-2813-4075-A906-63890BFC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2D81-98C3-4576-95E4-529CB0D2D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E778-5EEC-496F-A33C-7941DD55D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B709-B262-44F4-BFAA-3EC2F882C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F982-4DBD-458B-979A-9F0F11FC2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4BE1-A5DF-484B-BC3B-0657D2A7F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27E5-CDAC-4B13-99BB-C78B0FE71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6DE8-946D-43C4-AF7A-A7EA3B096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A122-2C31-4FC1-81F5-51DBB0399C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68F-1F5F-4B52-88C5-5B11A13600A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90a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85840" y="6143760"/>
            <a:ext cx="2928960" cy="4618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642960"/>
            <a:ext cx="91551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 течение VI — VII вв. славяне вели с аварами постоянные войны. В союзе с франкским королем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арлом Велики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славяне в конце VIII п. разгромили авар. Но в это время в Восточной Европе появилась новая тюркская орда —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хазары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ни прошли через Нижнее Поволжье в Северное Причерноморье, заняли территории в предгорьях Кавказа, На долгие столетия эти кочевники стали опасными соседями восточных славян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14200" y="817560"/>
            <a:ext cx="3429000" cy="473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7"/>
          <p:cNvSpPr/>
          <p:nvPr/>
        </p:nvSpPr>
        <p:spPr>
          <a:xfrm>
            <a:off x="500040" y="614376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рл Вели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рода была не только средой обитания славян, но и источником их существования. Славяне обожествляли силы природы влияющие на их жизнь. Славянская религия со множеством божеств, называется многобожием или политеизмом (от греческих слов «поли» — много и «теос» — бог).  В христианские времена эта вера получила название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язычество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(языце – иноземные, нехристианске народы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43040" y="657360"/>
            <a:ext cx="56437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3608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. Во главе славянских божеств стоял великий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 вселенной, напоминающий древнегреческого Зевса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запишите имена богов и их значение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го сыновья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варожич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солнце и огонь — были носителями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вета и тепла.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Даждьбог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весьма почитался славя­нами. Недаром автор «Слова о полку Игореве называл славян «даждьбожьи внуки». Молились славяне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ду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роженицам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— богу и богиням плодородия. Этот культ был связан с земледельческими занятиями населения и поэтому был особенно популяр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Весле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читался у славян в качестве покровителя скотоводства, это был своеобразный «скотный бог».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трибог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по их понятиям. повелевал ветрами, как древнегреческий Эол. По мере слияния славян с некоторыми иранскими и угрофинскими племенами их боги перекочевывали и в славянский пантеон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Так, в VIII — IX вв. у славян почитался бог солнц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Хорс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явно пришел из мира иранских племен. Бог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Симаргл,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который изображался в виде пса и считался богом почвы, корней растении. В иранском мире это был хозяин подземного царства, божество плодородия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Единственным крупным женским божеством у славян была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Макошь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 Со временем, уже по мере выдвижения в общественной жизни славян князей, дружины, начала великих военных походов, на первый план все больше выдвигается бог молнии и грома </a:t>
            </a: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Перун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, который затем становится главным небесным божеством, сливает­ся со Сварогом, Родом как более древними богами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130320" rIns="130320" tIns="84240" bIns="84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90a1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5.Видеофрагмент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еречислите славянских  богов, чему каждый покровительствует</a:t>
            </a:r>
            <a:endParaRPr b="1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Древняя славянская религия – многобожие - обожествляля все силы природы, которые влияли на их жизн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6. Закрепление изученного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9144000" cy="5929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апишите в тетрадь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ронология появления враждебных славянам народов на территории Северного Причерноморья и Поднепровья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имерийцы (1 тыс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киф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– 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. до н.э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Сармат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до н.э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н.э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Готы, ала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Гунн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Ав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Хазары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– X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90a11"/>
                </a:solidFill>
                <a:latin typeface="Times New Roman"/>
              </a:rPr>
              <a:t>Запишите в тетра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В середине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тысячелетия до н.э. славяне окончательно выделились из семьи индоевропейских народов. С 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а н.э. идет бурный демографический рост славянского мира. Складываются два мощных союза славянских племен: анты (Днепр и Днестр) и склавины (север Балкан). Будут разбиты в</a:t>
            </a:r>
            <a:r>
              <a:rPr b="0" lang="en-US" sz="3200" spc="-1" strike="noStrike">
                <a:solidFill>
                  <a:srgbClr val="090a11"/>
                </a:solidFill>
                <a:latin typeface="Times New Roman"/>
              </a:rPr>
              <a:t>VI</a:t>
            </a:r>
            <a:r>
              <a:rPr b="0" lang="ru-RU" sz="3200" spc="-1" strike="noStrike">
                <a:solidFill>
                  <a:srgbClr val="090a11"/>
                </a:solidFill>
                <a:latin typeface="Times New Roman"/>
              </a:rPr>
              <a:t> веке авара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Times New Roman"/>
              </a:rPr>
              <a:t>7.Выводы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92120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Часть индоевропейцев ко 2-му тысячелетию до н. э. образовали в Центральной и Восточной Европе особый массив, состоявший из предков будущих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ерманцев, славян, балтов,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говоривших тогда на одном языке. В середине 2-го тысячелетня до н. обособились предки германских племен, а предки балтов и славян продолжали составлять еще некоторое время общую балтославянскую групп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0" y="1392120"/>
            <a:ext cx="4219560" cy="3537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36080" cy="228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Центром расселения предков славянских народов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 (праславян)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тал бассейн реки Вислы. На рубеже 2-го и 1-го тысячелетни до н. э. предки славян компактно расселяются в двух районах Европы. Первый — в северной части Центральной Европы: в будущем здесь появятся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западные славяне,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а второй — в Среднем Поднепровье: века спустя здесь сформируются племена 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восточных славян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285920" y="760320"/>
            <a:ext cx="6286320" cy="37083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28640" y="714240"/>
            <a:ext cx="570708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Уже в начале 1 тыс. до н.э. праславяне вступили в противоборство с кочевыми племенами. Э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киммерийцы,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нявшие степные пространства Северного Причерноморья. С VI по IV в. до н. з. земли предков восточных славян подверглись новому нашествию. То бы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ифы.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кифы оттеснили киммерийцев и стали опасными соседями славян и балтов. К тому времени, когда скифы заняли Северное Причерноморье, там уже существо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греческие колонии.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3324240" cy="460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142880" y="714240"/>
            <a:ext cx="49928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раз в скифское время формируется население, говорившее уже по-славянски, а не на балтославянском языке. Начиная со II в. до н. э. Поднепровье испытало новый натиск врагов. Из-за Дона сюда продвинулись кочевые орды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сармат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арматы нанесли серию ударов захватили земли скифов и проникли в глубь северной лесостепной зоны, где жили славян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2. Появление славян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500040" y="6000840"/>
            <a:ext cx="292896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оевой меч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 ве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571840" cy="4592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1356840"/>
            <a:ext cx="8481960" cy="50720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ыпишите названия и время пребывания других народов на территории России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§ 3 пункты «Другие народы России в глубокой древности» и «Великое переселение народов и Восточная Европа.»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553240" cy="9907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33"/>
                </a:solidFill>
                <a:latin typeface="Times New Roman"/>
              </a:rPr>
              <a:t>3.Работа с учебником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920" y="714240"/>
            <a:ext cx="556416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сле падения державы гуннов вновь наполняются славянским населением дунайские и днепровские берега. В V—VI вв происходит его быстрое и громадное увеличение. Начиная г V в. в бассейнах Днепра и Днестра складывается мощный союз восточнославянских племен, которых называли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антами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, что на древнеиранском языке означало «жители окраин». Одновременно на севере Балканского полуострова образовался племенной союэ</a:t>
            </a:r>
            <a:r>
              <a:rPr b="0" i="1" lang="ru-RU" sz="2400" spc="-1" strike="noStrike">
                <a:solidFill>
                  <a:srgbClr val="336699"/>
                </a:solidFill>
                <a:latin typeface="Arial"/>
              </a:rPr>
              <a:t> склави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285840" y="5929200"/>
            <a:ext cx="2928960" cy="82548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татуэтка антского во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644400"/>
            <a:ext cx="3500280" cy="52070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изантийские сочинения той поры полны паническими известиями о набегах славян на византийские владения. Именно с тех времен до нас доходит история о славянском вожде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Кие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об основании им города Киева, будущей столицы Рус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ий — один из вождей славянских племен, живших по среднему Днепру, вместе с братьями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Щек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Ха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ривом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и сестрой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Лыбедью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основали город, названный в честь старшего брата Киевом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29040" y="714240"/>
            <a:ext cx="5207040" cy="6143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то же время, а севере шло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еще одного мощного славянского центра в Приильменье; позднее здесь возник союз племен, получивших названне новгородских (приильменских) слов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Но в середине VI в, новая тюркская орда —</a:t>
            </a: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авары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— вторглась в Восточную Европу и позже осела по берегам Дуна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и во время гуннского нашествия удару подверглись славянские поселени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Times New Roman"/>
              </a:rPr>
              <a:t>4. Славяне в V—VII вв. Язычество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571680" y="6072120"/>
            <a:ext cx="2928600" cy="459720"/>
          </a:xfrm>
          <a:prstGeom prst="rect">
            <a:avLst/>
          </a:prstGeom>
          <a:solidFill>
            <a:srgbClr val="ccecff"/>
          </a:solidFill>
          <a:ln cap="sq"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вары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0" y="666720"/>
            <a:ext cx="3857760" cy="5145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7:04Z</dcterms:modified>
  <cp:revision>131</cp:revision>
  <dc:subject/>
  <dc:title>Заголовок слайда отсутствует</dc:title>
</cp:coreProperties>
</file>