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52.jpeg" ContentType="image/jpeg"/>
  <Override PartName="/ppt/media/image25.png" ContentType="image/png"/>
  <Override PartName="/ppt/media/image19.jpeg" ContentType="image/jpeg"/>
  <Override PartName="/ppt/media/image42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27.jpeg" ContentType="image/jpeg"/>
  <Override PartName="/ppt/media/image50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26.jpeg" ContentType="image/jpeg"/>
  <Override PartName="/ppt/media/image5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57.jpeg" ContentType="image/jpeg"/>
  <Override PartName="/ppt/media/image43.png" ContentType="image/pn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8.jpeg" ContentType="image/jpeg"/>
  <Override PartName="/ppt/media/image59.jpeg" ContentType="image/jpeg"/>
  <Override PartName="/ppt/media/image36.png" ContentType="image/png"/>
  <Override PartName="/ppt/media/image6.png" ContentType="image/png"/>
  <Override PartName="/ppt/media/image34.jpeg" ContentType="image/jpeg"/>
  <Override PartName="/ppt/media/image38.jpeg" ContentType="image/jpeg"/>
  <Override PartName="/ppt/media/image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11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28.jpeg" ContentType="image/jpeg"/>
  <Override PartName="/ppt/media/image5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90AD-A22B-4B58-81C4-03A5A6E06F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Рукописные книги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Древней Руси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(литературное чтение, 3класс, УМК«Школа России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йкова О. В., учитель начальных классов МОУ СОШ №1 г. Конаково Тверской об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E8FB-3771-49F7-8173-AA4A33B38D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исали книги обычно гусиным пером и чернил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ривилегию писать лебединым и даже павлиньи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ером имел цар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8E34-CD94-4CC2-B846-45A5D6AB67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редневековые чернила, в отличие от привычных для нас синих и чёрных, были бурого цвет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так как делались на основе железистых состав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а проще говоря, ржавчи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 воду опускали кусочки старого железа, которые, ржаве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окрашивали её в бурый цв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ACE9-7434-4902-9608-64C6E20AA02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оскольку книга стоила дорого, её берег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Для защиты от механических повреждений делали переплёт из двух досок, обтянутых кожей и имевших застёжку на боковом срез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5449-E3EA-46EC-BE9A-55E4991F0B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Иногда переплёт оковывали золотом и серебром, украшали драгоценными камн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Такие металлические переплёты называют окла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FD8B-FD45-4257-AC23-1B68DEF50A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Средневековые рукописные книги нарядно оформляли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еред текстом обязательно делали заставку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небольшую орнаментальную композици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часто в форме рамки вокруг названия главы или разде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ая заставка Остромирова Евангел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DCD7-0ABA-4743-816D-A58F1A0552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ервую, заглавную букву в тексте – </a:t>
            </a:r>
            <a:r>
              <a:rPr b="1" lang="ru-RU" sz="1400" spc="-1" strike="noStrike">
                <a:solidFill>
                  <a:srgbClr val="0070c0"/>
                </a:solidFill>
                <a:latin typeface="Cambria"/>
              </a:rPr>
              <a:t>"инициал" 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– писали крупнее и красивее остальных, украшали орнаментом, иногда в виде человечка, животного, птицы, фантастического су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Обычно инициал был крас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 тех пор говорят – "писать с красной строки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20BB-ADDF-4DED-A8A4-17AA98570F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ыполненные от руки иллюстрации (рисунки) называются миниатюрами — от латинского слова «миния», которым древние римляне обозначали красную краску. Делали миниатюры особые мастера — художники-миниатюрис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Древние рукописи иллюстрировали и заботливо украшали. Их называли «цветоносными», так как для рисунков русские мастера использовали многие цвета, а в Европе в основном только красн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D7AE-22E6-4AAC-AB4A-8E8428A0AE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В Остромировом Евангелии — три большие иллюстрации, на которых изображены апостолы Марк, Иоанн и Лука (составители Евангел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07EA-7610-46A6-B9E6-39CEB3AECA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реди рукописных книг было много </a:t>
            </a:r>
            <a:r>
              <a:rPr b="1" lang="ru-RU" sz="1400" spc="-1" strike="noStrike">
                <a:solidFill>
                  <a:srgbClr val="0070c0"/>
                </a:solidFill>
                <a:latin typeface="Cambria"/>
              </a:rPr>
              <a:t>летописей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Текст летописи состоит из погодных (составленных по годам) запис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Каждая из них начинается словами: "в лето такое-то"... и сообщений о события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которые произошли в этом год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ообщения бывают и короткими, и длинны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иногда они даже включают пространные повести о важных событи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Но иногда летописец ограничивался кратким замечанием тип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" В лето 6752 (1244) не бысть ничтоже" (ничего не был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8410-8753-4E83-BADE-1E5125E020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РУКОПИСНАЯ КНИГА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– уникальная книг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 которой текст, иллюстрации и орнаментальное оформление воспроизведены от ру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F69D-111B-431A-ADA3-23843B295D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Как настоящие историки, летописцы стремились как можно точнее рассказать обо всём, что происходило в стране. Чтобы составить краткий и точный рассказ, летописцам приходилось быть в самой гуще событий. Они сражались "подле стремени" своего князя, участвовали в походах и осадах городов, принимали участие в мирских дел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    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Но летописец должен был рассказывать и о тех событиях, свидетелем которых он не был, поэтому в летописи включались и рассказы других лиц, и даже легенды и пре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35BD-BE46-45F7-83F3-272F7DC18D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Cambria"/>
              </a:rPr>
              <a:t>«Повесть временных лет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амое знаменитое из летописных сочинений (12 в.), описывающее в основном историю восточных славян (повествование начинается от Всемирного потопа), исторические и полулегендарные события, происходившие в Древней Руси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mbria"/>
              </a:rPr>
              <a:t>Повесть временных лет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- труд нескольких монахов Киево-Печерской лавры, прежде всего </a:t>
            </a:r>
            <a:r>
              <a:rPr b="1" lang="ru-RU" sz="1200" spc="-1" strike="noStrike">
                <a:solidFill>
                  <a:srgbClr val="0070c0"/>
                </a:solidFill>
                <a:latin typeface="Cambria"/>
              </a:rPr>
              <a:t>Нестора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(по-другому памятник называется Летопись Нестор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E70D-9954-4DBC-86CF-9C173C6169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Cambria"/>
              </a:rPr>
              <a:t>«Реками, наполняющими Вселенную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Cambria"/>
              </a:rPr>
              <a:t>назвал книги русский летописец XI 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Cambria"/>
              </a:rPr>
              <a:t>Книги ценились на Руси, собирались в семьях несколькими поколениями, упоминались почти в каждой духовной грамоте (завещании) среди ценностей и родовых икон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F2EB-C4D8-41C8-8E9D-08926D918C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а́дни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— глава города, «посаженый»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значен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князем в землях, входивших в состав Древнерусского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исе́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ил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и́сар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 — человек, который профессионально занимается переписыванием книг и документов от ру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укописная книг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— это книга, текст и иллюстрации к которой воспроизведены от руки, в отличие от печатной книги, воспроизведение которой осуществляется полиграфическим способом. Рукописная книга состоит из собственно книги — носителя текста и защитно-предохраняющих элементов (футляр, переплё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насты́р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 —религиозная община монахов или монахинь, имеющая единый устав, а также единый комплекс богослужебных, жилых, хозяйственных построек, ей принадлежащ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на́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член религиозной общины, в соответствии с обетом (клятвой) ведущий жизнь либо в рамках монашеской общины, либо в одиночестве, отшельничестве. Монахи проживают в монастырях (обителях), пустынях, лавр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га́ме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в работах по истории обычно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ргаме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 — материал для письма из недублёной кожи животных (до изобретения бумаги). Также древняя рукопись на таком материа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́топис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погодово́й, более или менее подробный рассказ о событ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48A4-5310-4C44-BC97-AE74EFEB7E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Рукописные книги многие века являлись объектом поклонения и восхищения, предметом роскоши и собиратель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Со временем большинство из них вошли в собрания знаменитых музеев и библиот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D522-C839-474A-9347-054C73896B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Самая древняя русская рукописная книга </a:t>
            </a:r>
            <a:r>
              <a:rPr b="1" lang="ru-RU" sz="1200" spc="-1" strike="noStrike">
                <a:solidFill>
                  <a:srgbClr val="0070c0"/>
                </a:solidFill>
                <a:latin typeface="Cambria"/>
              </a:rPr>
              <a:t>«Остромирово</a:t>
            </a:r>
            <a:r>
              <a:rPr b="1" lang="en-US" sz="1200" spc="-1" strike="noStrike">
                <a:solidFill>
                  <a:srgbClr val="0070c0"/>
                </a:solidFill>
                <a:latin typeface="Cambria"/>
              </a:rPr>
              <a:t> </a:t>
            </a:r>
            <a:r>
              <a:rPr b="1" lang="ru-RU" sz="1200" spc="-1" strike="noStrike">
                <a:solidFill>
                  <a:srgbClr val="0070c0"/>
                </a:solidFill>
                <a:latin typeface="Cambria"/>
              </a:rPr>
              <a:t>Евангелие» 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написана в середине XI 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Более 900 лет назад мастер книжного дела </a:t>
            </a:r>
            <a:r>
              <a:rPr b="1" lang="ru-RU" sz="1200" spc="-1" strike="noStrike">
                <a:solidFill>
                  <a:srgbClr val="0070c0"/>
                </a:solidFill>
                <a:latin typeface="Cambria"/>
              </a:rPr>
              <a:t>писец Григорий 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ереписал это Евангелие для новгородского посадника Остроми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Сейчас книга хранится в Санкт-Петербурге, в Государственной публичной библиотеке име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М. Е. Салтыкова-Щедр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38F7-E8AB-4C60-9AA8-CAD7C8183D5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Писец Григорий писал Остромирово Евангелие почти семь месяц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За день он успевал написать не более 3 стран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оздание рукописи - это тяжёлый и изнурительный труд. Рабочий день длился летом от восхода и до заката солнца, зимой же захватывали и тёмную половину дня, когда писали при свечах или лучин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Успешное окончание книги было праздником. Радуясь, писец оставлял</a:t>
            </a: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 конце книги, например,</a:t>
            </a: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такую</a:t>
            </a: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запис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«Яко же радуется жених о невесте, тако радуется писец, видя последний лис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CA51-17AA-45DC-9569-031438D667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Монастыри служили основными центр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книгописания в средние 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 монастырской книжной мастерской царила строгая дисципли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За ослушание, небрежность сажали на сухой паё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охранились древние миниатюры, изображающие монахов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переписчиков книг за работой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7ABD-4925-47F0-8090-99F4B24318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Изготовление древних рукописных книг было делом дорогим и трудоёмк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Материалом для них служил </a:t>
            </a:r>
            <a:r>
              <a:rPr b="1" lang="ru-RU" sz="1400" spc="-1" strike="noStrike">
                <a:solidFill>
                  <a:srgbClr val="0070c0"/>
                </a:solidFill>
                <a:latin typeface="Cambria"/>
              </a:rPr>
              <a:t>пергамен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(или пергамент)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кожа особой выдел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Лучший пергамен получался из мягкой, тонкой кож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ягнят и теля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Её очищали от шерсти и тщательно промыва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Затем натягивали на рамки, посыпали мелом и чистили пемз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C591-28E3-4E89-A771-C9C89BFFE3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ыделанную кожу разрезали на прямоугольные куски и сшивали в тетради по восемь лис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шитые тетради собирали в книг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 зависимости от формата и количества листов, на одну книгу требовалось от 10 до 30 шкур животных – целое стадо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B1970-B757-41B6-9784-5D17095BE6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Приступая к работе, писец брал стопу пергаменных листов и тщательно линовал их с помощью шиль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Рукописи большого формата писали в два столб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 каждом столбце по 18 стр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Так написано и Остромирово Евангел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D025-98F6-4632-A76F-4B22882AD2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656C-3144-4E88-B6B8-B6517E688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51AA-5A8B-46C4-A8DF-01937414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AE63-876A-4D39-8A47-0126BB7FB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063A-C7E1-4E9E-B31B-4FE195781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4283-9497-43D1-88F7-90C0FEA6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874B-8ABB-4C74-92D4-A7A96769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DFE0-B743-4827-B28E-928FE12A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B2D5-2B35-450E-B2FF-C26EF11E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F5FD-34C0-4A63-8433-45264970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C267-CECC-4079-A84A-35E92304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C004-D6A8-4E16-96A8-0F26C34C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5B06-632D-4A46-9A62-CB6731BD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D24F-2B7B-4760-9267-2FF41D796FC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DFBC-0149-4F46-A1AD-C17B9FB609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12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pn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45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bibliotekar.ru/divo/35.htm" TargetMode="External"/><Relationship Id="rId2" Type="http://schemas.openxmlformats.org/officeDocument/2006/relationships/hyperlink" Target="http://www.home-edu.ru/pages/filippova/texts11/texts11.htm" TargetMode="External"/><Relationship Id="rId3" Type="http://schemas.openxmlformats.org/officeDocument/2006/relationships/hyperlink" Target="http://www.booksite.ru/ancient/reader/spirit_3_04.ht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2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520" y="642960"/>
            <a:ext cx="771516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Рукописные книги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Древней Руси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(литературное чтение, 3класс, УМК«Школа России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1000440" y="6481800"/>
            <a:ext cx="1164420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ойкова О. В., учитель начальных классов МОУ СОШ №1 г. Конаково Тверской об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4" descr="евангелие 11 век.jpg"/>
          <p:cNvPicPr/>
          <p:nvPr/>
        </p:nvPicPr>
        <p:blipFill>
          <a:blip r:embed="rId1"/>
          <a:stretch/>
        </p:blipFill>
        <p:spPr>
          <a:xfrm>
            <a:off x="571680" y="3214800"/>
            <a:ext cx="4673520" cy="30002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6" descr="b_rus_57page2.jpg"/>
          <p:cNvPicPr/>
          <p:nvPr/>
        </p:nvPicPr>
        <p:blipFill>
          <a:blip r:embed="rId2"/>
          <a:stretch/>
        </p:blipFill>
        <p:spPr>
          <a:xfrm>
            <a:off x="6072120" y="3214800"/>
            <a:ext cx="2233800" cy="292896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571680" y="214200"/>
            <a:ext cx="821520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исали книги обычно гусиным пером и чернил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ривилегию писать лебединым и даже павлинь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ером имел цар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"/>
          <p:cNvSpPr/>
          <p:nvPr/>
        </p:nvSpPr>
        <p:spPr>
          <a:xfrm>
            <a:off x="500040" y="4714920"/>
            <a:ext cx="8215200" cy="22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Извлекали перо непременно из левого крыла птиц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чтобы изгиб был удобен для правой, пишущей, ру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еро обезжиривали, втыкая в горячий песо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затем кончик наискось срезал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расщепляли и затачивали специальным, перочинным, ножичк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Им же выскабливали ошибки в тексте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3" descr="120px-Feather_150_transparent.png"/>
          <p:cNvPicPr/>
          <p:nvPr/>
        </p:nvPicPr>
        <p:blipFill>
          <a:blip r:embed="rId1"/>
          <a:stretch/>
        </p:blipFill>
        <p:spPr>
          <a:xfrm>
            <a:off x="500040" y="1357200"/>
            <a:ext cx="1905120" cy="17146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4" descr="Walraversijde25.jpg"/>
          <p:cNvPicPr/>
          <p:nvPr/>
        </p:nvPicPr>
        <p:blipFill>
          <a:blip r:embed="rId2"/>
          <a:stretch/>
        </p:blipFill>
        <p:spPr>
          <a:xfrm>
            <a:off x="4714920" y="1500120"/>
            <a:ext cx="4000320" cy="30006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5" descr="art_2.jpg"/>
          <p:cNvPicPr/>
          <p:nvPr/>
        </p:nvPicPr>
        <p:blipFill>
          <a:blip r:embed="rId3"/>
          <a:stretch/>
        </p:blipFill>
        <p:spPr>
          <a:xfrm>
            <a:off x="2214720" y="2143080"/>
            <a:ext cx="1885680" cy="234648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428760" y="142920"/>
            <a:ext cx="8215200" cy="192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редневековые чернила, в отличие от привычных для нас синих и чёрных, были бурого цве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так как делались на основе железистых состав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а проще говоря, ржавчи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воду опускали кусочки старого железа, которые, ржаве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окрашивали её в бурый цв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2"/>
          <p:cNvSpPr/>
          <p:nvPr/>
        </p:nvSpPr>
        <p:spPr>
          <a:xfrm>
            <a:off x="357120" y="5380200"/>
            <a:ext cx="842976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Сохранились древние рецепты изготовления чернил. В качестве компонентов, помимо железа, использовали дубовую или ольховую кору, вишнёвый клей, квас, мёд и многие другие вещества, придававшие чернилам необходимую вязкость, цвет, устойчив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4" descr="277847_2008-12-29_154513.jpg"/>
          <p:cNvPicPr/>
          <p:nvPr/>
        </p:nvPicPr>
        <p:blipFill>
          <a:blip r:embed="rId1"/>
          <a:stretch/>
        </p:blipFill>
        <p:spPr>
          <a:xfrm>
            <a:off x="785880" y="2286000"/>
            <a:ext cx="2027160" cy="29289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Инициал В. Остромирово евангелие. 1056-1057 гг..jpg"/>
          <p:cNvPicPr/>
          <p:nvPr/>
        </p:nvPicPr>
        <p:blipFill>
          <a:blip r:embed="rId2"/>
          <a:stretch/>
        </p:blipFill>
        <p:spPr>
          <a:xfrm>
            <a:off x="3786120" y="2286000"/>
            <a:ext cx="1903320" cy="28576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8" descr="290.png"/>
          <p:cNvPicPr/>
          <p:nvPr/>
        </p:nvPicPr>
        <p:blipFill>
          <a:blip r:embed="rId3"/>
          <a:stretch/>
        </p:blipFill>
        <p:spPr>
          <a:xfrm>
            <a:off x="6708600" y="2214720"/>
            <a:ext cx="1670400" cy="28573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357120" y="214200"/>
            <a:ext cx="842976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Поскольку книга стоила дорого, её берег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Для защиты от механических повреждений делали переплёт из двух досок, обтянутых кожей и имевших застёжку на боковом срез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4" descr="переплёты древних рукописных книг.jpg"/>
          <p:cNvPicPr/>
          <p:nvPr/>
        </p:nvPicPr>
        <p:blipFill>
          <a:blip r:embed="rId1"/>
          <a:stretch/>
        </p:blipFill>
        <p:spPr>
          <a:xfrm>
            <a:off x="357120" y="2000160"/>
            <a:ext cx="3714840" cy="252252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6" descr="rybuf.jpg"/>
          <p:cNvPicPr/>
          <p:nvPr/>
        </p:nvPicPr>
        <p:blipFill>
          <a:blip r:embed="rId2"/>
          <a:stretch/>
        </p:blipFill>
        <p:spPr>
          <a:xfrm>
            <a:off x="4786200" y="1928880"/>
            <a:ext cx="3953160" cy="259704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5" descr="b_stuart2.jpg"/>
          <p:cNvPicPr/>
          <p:nvPr/>
        </p:nvPicPr>
        <p:blipFill>
          <a:blip r:embed="rId3"/>
          <a:stretch/>
        </p:blipFill>
        <p:spPr>
          <a:xfrm>
            <a:off x="3286080" y="4786200"/>
            <a:ext cx="2865600" cy="18748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642960" y="357120"/>
            <a:ext cx="792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3" descr="05_clip_image022.jpg"/>
          <p:cNvPicPr/>
          <p:nvPr/>
        </p:nvPicPr>
        <p:blipFill>
          <a:blip r:embed="rId1"/>
          <a:stretch/>
        </p:blipFill>
        <p:spPr>
          <a:xfrm>
            <a:off x="4786200" y="1428840"/>
            <a:ext cx="4068720" cy="49845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48.jpg"/>
          <p:cNvPicPr/>
          <p:nvPr/>
        </p:nvPicPr>
        <p:blipFill>
          <a:blip r:embed="rId2"/>
          <a:stretch/>
        </p:blipFill>
        <p:spPr>
          <a:xfrm>
            <a:off x="428760" y="1500120"/>
            <a:ext cx="3890880" cy="500076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6"/>
          <p:cNvSpPr/>
          <p:nvPr/>
        </p:nvSpPr>
        <p:spPr>
          <a:xfrm>
            <a:off x="642960" y="214200"/>
            <a:ext cx="785808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Иногда переплёт оковывали золотом и серебром, украшали драгоценными камн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Такие металлические переплёты называют оклад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500040" y="357120"/>
            <a:ext cx="8286840" cy="131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Средневековые рукописные книги нарядно оформлялис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еред текстом обязательно делали заставку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небольшую орнаментальную композици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часто в форме рамки вокруг названия главы или разд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2" descr="ostr4.jpg"/>
          <p:cNvPicPr/>
          <p:nvPr/>
        </p:nvPicPr>
        <p:blipFill>
          <a:blip r:embed="rId1"/>
          <a:stretch/>
        </p:blipFill>
        <p:spPr>
          <a:xfrm>
            <a:off x="285840" y="1928880"/>
            <a:ext cx="4811760" cy="2357280"/>
          </a:xfrm>
          <a:prstGeom prst="rect">
            <a:avLst/>
          </a:prstGeom>
          <a:ln w="0">
            <a:noFill/>
          </a:ln>
        </p:spPr>
      </p:pic>
      <p:sp>
        <p:nvSpPr>
          <p:cNvPr id="120" name="TextBox 3"/>
          <p:cNvSpPr/>
          <p:nvPr/>
        </p:nvSpPr>
        <p:spPr>
          <a:xfrm>
            <a:off x="444960" y="4429080"/>
            <a:ext cx="438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ьшая заставка Остромирова Евангел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4" descr="Начало Евангелия от Иоанна..jpg"/>
          <p:cNvPicPr/>
          <p:nvPr/>
        </p:nvPicPr>
        <p:blipFill>
          <a:blip r:embed="rId2"/>
          <a:stretch/>
        </p:blipFill>
        <p:spPr>
          <a:xfrm>
            <a:off x="5286240" y="2000160"/>
            <a:ext cx="3589560" cy="431316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5" descr="oh10_11.gif"/>
          <p:cNvPicPr/>
          <p:nvPr/>
        </p:nvPicPr>
        <p:blipFill>
          <a:blip r:embed="rId3"/>
          <a:stretch/>
        </p:blipFill>
        <p:spPr>
          <a:xfrm>
            <a:off x="428760" y="5000760"/>
            <a:ext cx="4176720" cy="13572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428760" y="214200"/>
            <a:ext cx="8286480" cy="13744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ервую, заглавную букву в тексте – </a:t>
            </a:r>
            <a:r>
              <a:rPr b="1" lang="ru-RU" sz="2400" spc="-1" strike="noStrike">
                <a:solidFill>
                  <a:srgbClr val="0070c0"/>
                </a:solidFill>
                <a:latin typeface="Cambria"/>
              </a:rPr>
              <a:t>"инициал"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– писали крупнее и красивее остальных, украшали орнаментом, иногда в виде человечка, животного, птицы, фантастического сущ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714240" y="5643720"/>
            <a:ext cx="77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Обычно инициал был красны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 тех пор говорят – "писать с красной строки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3" descr="Инициал В.jpg"/>
          <p:cNvPicPr/>
          <p:nvPr/>
        </p:nvPicPr>
        <p:blipFill>
          <a:blip r:embed="rId1"/>
          <a:stretch/>
        </p:blipFill>
        <p:spPr>
          <a:xfrm>
            <a:off x="428760" y="1643040"/>
            <a:ext cx="2387520" cy="358452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4" descr="Инициал В с монстром. Остромирово евангелие. 1056-1057 гг..jpg"/>
          <p:cNvPicPr/>
          <p:nvPr/>
        </p:nvPicPr>
        <p:blipFill>
          <a:blip r:embed="rId2"/>
          <a:stretch/>
        </p:blipFill>
        <p:spPr>
          <a:xfrm>
            <a:off x="3357720" y="1643040"/>
            <a:ext cx="2403360" cy="36082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5" descr="Лист Остромирова евангелия. Заставка-разделитель, инициалы М и Р с личиной..jpg"/>
          <p:cNvPicPr/>
          <p:nvPr/>
        </p:nvPicPr>
        <p:blipFill>
          <a:blip r:embed="rId3"/>
          <a:stretch/>
        </p:blipFill>
        <p:spPr>
          <a:xfrm>
            <a:off x="6286680" y="1643040"/>
            <a:ext cx="2331720" cy="35006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1" descr="untitled.bmp"/>
          <p:cNvPicPr/>
          <p:nvPr/>
        </p:nvPicPr>
        <p:blipFill>
          <a:blip r:embed="rId1"/>
          <a:stretch/>
        </p:blipFill>
        <p:spPr>
          <a:xfrm>
            <a:off x="500040" y="357120"/>
            <a:ext cx="2587680" cy="405468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2" descr="e6df8a1717ff9ffb88cb7d91ba6f59db.jpg"/>
          <p:cNvPicPr/>
          <p:nvPr/>
        </p:nvPicPr>
        <p:blipFill>
          <a:blip r:embed="rId2"/>
          <a:stretch/>
        </p:blipFill>
        <p:spPr>
          <a:xfrm>
            <a:off x="3714840" y="500040"/>
            <a:ext cx="4736880" cy="176364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3" descr="hunterlog.jpg"/>
          <p:cNvPicPr/>
          <p:nvPr/>
        </p:nvPicPr>
        <p:blipFill>
          <a:blip r:embed="rId3"/>
          <a:stretch/>
        </p:blipFill>
        <p:spPr>
          <a:xfrm>
            <a:off x="3571920" y="2643120"/>
            <a:ext cx="2009880" cy="357192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4" descr="image5-1.png"/>
          <p:cNvPicPr/>
          <p:nvPr/>
        </p:nvPicPr>
        <p:blipFill>
          <a:blip r:embed="rId4"/>
          <a:stretch/>
        </p:blipFill>
        <p:spPr>
          <a:xfrm>
            <a:off x="5929200" y="2643120"/>
            <a:ext cx="2827440" cy="357192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5" descr="MS_1_1221.jpg"/>
          <p:cNvPicPr/>
          <p:nvPr/>
        </p:nvPicPr>
        <p:blipFill>
          <a:blip r:embed="rId5"/>
          <a:stretch/>
        </p:blipFill>
        <p:spPr>
          <a:xfrm>
            <a:off x="571680" y="4643280"/>
            <a:ext cx="2571480" cy="193536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"/>
          <p:cNvSpPr/>
          <p:nvPr/>
        </p:nvSpPr>
        <p:spPr>
          <a:xfrm>
            <a:off x="285840" y="285840"/>
            <a:ext cx="4572000" cy="253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Древние рукописи иллюстрировали и заботливо украшали. Их называли «цветоносными», так как для рисунков русские мастера использовали многие цвета, а в Европе в основном только красны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2"/>
          <p:cNvSpPr/>
          <p:nvPr/>
        </p:nvSpPr>
        <p:spPr>
          <a:xfrm>
            <a:off x="5643720" y="2928960"/>
            <a:ext cx="3286080" cy="375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ыполненные от руки иллюстрации (рисунки) называются миниатюрами — от латинского слова «миния», которым древние римляне обозначали красную краску. Делали миниатюры особые мастера — художники-миниатюрист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3" descr="rybuf.jpg"/>
          <p:cNvPicPr/>
          <p:nvPr/>
        </p:nvPicPr>
        <p:blipFill>
          <a:blip r:embed="rId1"/>
          <a:stretch/>
        </p:blipFill>
        <p:spPr>
          <a:xfrm>
            <a:off x="5000760" y="285840"/>
            <a:ext cx="3806640" cy="250020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6" descr="05_clip_image032.jpg"/>
          <p:cNvPicPr/>
          <p:nvPr/>
        </p:nvPicPr>
        <p:blipFill>
          <a:blip r:embed="rId2"/>
          <a:stretch/>
        </p:blipFill>
        <p:spPr>
          <a:xfrm>
            <a:off x="428760" y="2500200"/>
            <a:ext cx="2286000" cy="298152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7" descr="89.jpg"/>
          <p:cNvPicPr/>
          <p:nvPr/>
        </p:nvPicPr>
        <p:blipFill>
          <a:blip r:embed="rId3"/>
          <a:stretch/>
        </p:blipFill>
        <p:spPr>
          <a:xfrm>
            <a:off x="3071880" y="3357720"/>
            <a:ext cx="2244600" cy="312732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"/>
          <p:cNvSpPr/>
          <p:nvPr/>
        </p:nvSpPr>
        <p:spPr>
          <a:xfrm>
            <a:off x="357120" y="285840"/>
            <a:ext cx="82868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В Остромировом Евангелии — три большие иллюстрации, на которых изображены апостолы Марк, Иоанн и Лука (составители Евангел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2" descr="Евангелист Лука. Миниатюра..jpg"/>
          <p:cNvPicPr/>
          <p:nvPr/>
        </p:nvPicPr>
        <p:blipFill>
          <a:blip r:embed="rId1"/>
          <a:stretch/>
        </p:blipFill>
        <p:spPr>
          <a:xfrm>
            <a:off x="6286680" y="1785960"/>
            <a:ext cx="2473200" cy="371484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3" descr="Евангелист Марк. Миниатюра..jpg"/>
          <p:cNvPicPr/>
          <p:nvPr/>
        </p:nvPicPr>
        <p:blipFill>
          <a:blip r:embed="rId2"/>
          <a:stretch/>
        </p:blipFill>
        <p:spPr>
          <a:xfrm>
            <a:off x="357120" y="1785960"/>
            <a:ext cx="2643120" cy="314640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4" descr="Евангелист Иоанн с Прохором. Миниатюра..jpg"/>
          <p:cNvPicPr/>
          <p:nvPr/>
        </p:nvPicPr>
        <p:blipFill>
          <a:blip r:embed="rId3"/>
          <a:stretch/>
        </p:blipFill>
        <p:spPr>
          <a:xfrm>
            <a:off x="3357720" y="2714760"/>
            <a:ext cx="2614320" cy="3571920"/>
          </a:xfrm>
          <a:prstGeom prst="rect">
            <a:avLst/>
          </a:prstGeom>
          <a:ln w="0">
            <a:noFill/>
          </a:ln>
        </p:spPr>
      </p:pic>
      <p:sp>
        <p:nvSpPr>
          <p:cNvPr id="146" name="TextBox 5"/>
          <p:cNvSpPr/>
          <p:nvPr/>
        </p:nvSpPr>
        <p:spPr>
          <a:xfrm>
            <a:off x="3722400" y="628668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вангелист Иоан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6648120" y="564372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вангелист Л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721800" y="5072040"/>
            <a:ext cx="18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вангелист Мар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1"/>
          <p:cNvSpPr/>
          <p:nvPr/>
        </p:nvSpPr>
        <p:spPr>
          <a:xfrm>
            <a:off x="357120" y="285840"/>
            <a:ext cx="4214880" cy="6253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реди рукописных книг было много </a:t>
            </a:r>
            <a:r>
              <a:rPr b="1" lang="ru-RU" sz="2400" spc="-1" strike="noStrike">
                <a:solidFill>
                  <a:srgbClr val="0070c0"/>
                </a:solidFill>
                <a:latin typeface="Cambria"/>
              </a:rPr>
              <a:t>летописей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Текст летописи состоит из погодных (составленных по годам) запис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Каждая из них начинается словами: "в лето такое-то"... и сообщений о события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которые произошли в этом го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ообщения бывают и короткими, и длинны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иногда они даже включают пространные повести о важных событ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Но иногда летописец ограничивался кратким замечанием ти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" В лето 6752 (1244) не бысть ничтоже" (ничего не был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Рисунок 2" descr="image001.jpg"/>
          <p:cNvPicPr/>
          <p:nvPr/>
        </p:nvPicPr>
        <p:blipFill>
          <a:blip r:embed="rId1"/>
          <a:stretch/>
        </p:blipFill>
        <p:spPr>
          <a:xfrm>
            <a:off x="4929120" y="285840"/>
            <a:ext cx="3738600" cy="280332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pic>
        <p:nvPicPr>
          <p:cNvPr id="152" name="Рисунок 4" descr="311144.jpg"/>
          <p:cNvPicPr/>
          <p:nvPr/>
        </p:nvPicPr>
        <p:blipFill>
          <a:blip r:embed="rId2"/>
          <a:stretch/>
        </p:blipFill>
        <p:spPr>
          <a:xfrm>
            <a:off x="4929120" y="3500280"/>
            <a:ext cx="3760920" cy="235764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sp>
        <p:nvSpPr>
          <p:cNvPr id="153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3" descr="e1076c30d2a9.png"/>
          <p:cNvPicPr/>
          <p:nvPr/>
        </p:nvPicPr>
        <p:blipFill>
          <a:blip r:embed="rId1"/>
          <a:stretch/>
        </p:blipFill>
        <p:spPr>
          <a:xfrm>
            <a:off x="0" y="0"/>
            <a:ext cx="523404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857160" y="1571760"/>
            <a:ext cx="3571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РУКОПИСНАЯ КНИГА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– уникальная книг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 которой текст, иллюстрации и орнаментальное оформление воспроизведены от ру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5" descr="images.jpg"/>
          <p:cNvPicPr/>
          <p:nvPr/>
        </p:nvPicPr>
        <p:blipFill>
          <a:blip r:embed="rId2"/>
          <a:stretch/>
        </p:blipFill>
        <p:spPr>
          <a:xfrm>
            <a:off x="5500800" y="285840"/>
            <a:ext cx="3357360" cy="22827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7" descr="ruk.gif"/>
          <p:cNvPicPr/>
          <p:nvPr/>
        </p:nvPicPr>
        <p:blipFill>
          <a:blip r:embed="rId3"/>
          <a:stretch/>
        </p:blipFill>
        <p:spPr>
          <a:xfrm rot="596400">
            <a:off x="5997600" y="2941560"/>
            <a:ext cx="2143080" cy="34164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1"/>
          <p:cNvSpPr/>
          <p:nvPr/>
        </p:nvSpPr>
        <p:spPr>
          <a:xfrm>
            <a:off x="357120" y="285840"/>
            <a:ext cx="3571920" cy="710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Как настоящие историки, летописцы стремились как можно точнее рассказать обо всём, что происходило в стране. Чтобы составить краткий и точный рассказ, летописцам приходилось быть в самой гуще событий. Они сражались "подле стремени" своего князя, участвовали в походах и осадах городов, принимали участие в мирских дел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   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Но летописец должен был рассказывать и о тех событиях, свидетелем которых он не был, поэтому в летописи включались и рассказы других лиц, и даже легенды и пред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2" descr="f_letopis2_3.jpg"/>
          <p:cNvPicPr/>
          <p:nvPr/>
        </p:nvPicPr>
        <p:blipFill>
          <a:blip r:embed="rId1"/>
          <a:stretch/>
        </p:blipFill>
        <p:spPr>
          <a:xfrm>
            <a:off x="4429080" y="285840"/>
            <a:ext cx="4071960" cy="301788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pic>
        <p:nvPicPr>
          <p:cNvPr id="156" name="Рисунок 3" descr="osnova_03.jpg"/>
          <p:cNvPicPr/>
          <p:nvPr/>
        </p:nvPicPr>
        <p:blipFill>
          <a:blip r:embed="rId2"/>
          <a:stretch/>
        </p:blipFill>
        <p:spPr>
          <a:xfrm>
            <a:off x="4357800" y="3500280"/>
            <a:ext cx="4143240" cy="311328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sp>
        <p:nvSpPr>
          <p:cNvPr id="157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1"/>
          <p:cNvSpPr/>
          <p:nvPr/>
        </p:nvSpPr>
        <p:spPr>
          <a:xfrm>
            <a:off x="214200" y="214200"/>
            <a:ext cx="8715600" cy="289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mbria"/>
              </a:rPr>
              <a:t>«Повесть временных ле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амое знаменитое из летописных сочинений (12 в.), описывающее в основном историю восточных славян (повествование начинается от Всемирного потопа), исторические и полулегендарные события, происходившие в Древней Руси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Повесть временных лет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- труд нескольких монахов Киево-Печерской лавры, прежде всего </a:t>
            </a: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Нестора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(по-другому памятник называется Летопись Нестор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Рисунок 4" descr="15020233.jpg"/>
          <p:cNvPicPr/>
          <p:nvPr/>
        </p:nvPicPr>
        <p:blipFill>
          <a:blip r:embed="rId1"/>
          <a:stretch/>
        </p:blipFill>
        <p:spPr>
          <a:xfrm rot="21166800">
            <a:off x="1196640" y="3166560"/>
            <a:ext cx="2873520" cy="331308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5" descr="3213d4824c86a56ae80055d2ae4.jpg"/>
          <p:cNvPicPr/>
          <p:nvPr/>
        </p:nvPicPr>
        <p:blipFill>
          <a:blip r:embed="rId2"/>
          <a:stretch/>
        </p:blipFill>
        <p:spPr>
          <a:xfrm>
            <a:off x="5286240" y="2928960"/>
            <a:ext cx="2784600" cy="371484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1"/>
          <p:cNvSpPr/>
          <p:nvPr/>
        </p:nvSpPr>
        <p:spPr>
          <a:xfrm>
            <a:off x="857160" y="21420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mbria"/>
              </a:rPr>
              <a:t>«Реками, наполняющими Вселенную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mbria"/>
              </a:rPr>
              <a:t>назвал книги русский летописец XI 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mbria"/>
              </a:rPr>
              <a:t>Книги ценились на Руси, собирались в семьях несколькими поколениями, упоминались почти в каждой духовной грамоте (завещании) среди ценностей и родовых икон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Рисунок 2" descr="sv_nestor_letopiset.jpg"/>
          <p:cNvPicPr/>
          <p:nvPr/>
        </p:nvPicPr>
        <p:blipFill>
          <a:blip r:embed="rId1"/>
          <a:stretch/>
        </p:blipFill>
        <p:spPr>
          <a:xfrm>
            <a:off x="6000840" y="2714760"/>
            <a:ext cx="2614680" cy="380664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3" descr="book4.jpg"/>
          <p:cNvPicPr/>
          <p:nvPr/>
        </p:nvPicPr>
        <p:blipFill>
          <a:blip r:embed="rId2"/>
          <a:stretch/>
        </p:blipFill>
        <p:spPr>
          <a:xfrm>
            <a:off x="428760" y="2571840"/>
            <a:ext cx="1896840" cy="228600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4" descr="ba39d0be6251.jpg"/>
          <p:cNvPicPr/>
          <p:nvPr/>
        </p:nvPicPr>
        <p:blipFill>
          <a:blip r:embed="rId3"/>
          <a:stretch/>
        </p:blipFill>
        <p:spPr>
          <a:xfrm>
            <a:off x="2714760" y="2714760"/>
            <a:ext cx="3014640" cy="203832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5" descr="b_stuart2.jpg"/>
          <p:cNvPicPr/>
          <p:nvPr/>
        </p:nvPicPr>
        <p:blipFill>
          <a:blip r:embed="rId4"/>
          <a:stretch/>
        </p:blipFill>
        <p:spPr>
          <a:xfrm rot="704400">
            <a:off x="3116160" y="5124600"/>
            <a:ext cx="2052720" cy="134460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6" descr="rybuf.jpg"/>
          <p:cNvPicPr/>
          <p:nvPr/>
        </p:nvPicPr>
        <p:blipFill>
          <a:blip r:embed="rId5"/>
          <a:stretch/>
        </p:blipFill>
        <p:spPr>
          <a:xfrm rot="20983800">
            <a:off x="426600" y="5108400"/>
            <a:ext cx="1936800" cy="12718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Прямоугольник 1"/>
          <p:cNvSpPr/>
          <p:nvPr/>
        </p:nvSpPr>
        <p:spPr>
          <a:xfrm>
            <a:off x="285840" y="35712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са́дник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— глава города, «посаженый» (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назначенны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 князем в землях, входивших в состав Древнерусского государ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2"/>
          <p:cNvSpPr/>
          <p:nvPr/>
        </p:nvSpPr>
        <p:spPr>
          <a:xfrm>
            <a:off x="285840" y="107172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исе́ц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или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и́сар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 — человек, который профессионально занимается переписыванием книг и документов от ру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"/>
          <p:cNvSpPr/>
          <p:nvPr/>
        </p:nvSpPr>
        <p:spPr>
          <a:xfrm>
            <a:off x="357120" y="171468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укописная книг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— это книга, текст и иллюстрации к которой воспроизведены от руки, в отличие от печатной книги, воспроизведение которой осуществляется полиграфическим способом. Рукописная книга состоит из собственно книги — носителя текста и защитно-предохраняющих элементов (футляр, переплё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4"/>
          <p:cNvSpPr/>
          <p:nvPr/>
        </p:nvSpPr>
        <p:spPr>
          <a:xfrm>
            <a:off x="357120" y="3214800"/>
            <a:ext cx="821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насты́р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 —религиозная община монахов или монахинь, имеющая единый устав, а также единый комплекс богослужебных, жилых, хозяйственных построек, ей принадлежащ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5"/>
          <p:cNvSpPr/>
          <p:nvPr/>
        </p:nvSpPr>
        <p:spPr>
          <a:xfrm>
            <a:off x="357120" y="4214880"/>
            <a:ext cx="85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на́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— член религиозной общины, в соответствии с обетом (клятвой) ведущий жизнь либо в рамках монашеской общины, либо в одиночестве, отшельничестве. Монахи проживают в монастырях (обителях), пустынях, лав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6"/>
          <p:cNvSpPr/>
          <p:nvPr/>
        </p:nvSpPr>
        <p:spPr>
          <a:xfrm>
            <a:off x="357120" y="51436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рга́мен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в работах по истории обычно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ергамен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 — материал для письма из недублёной кожи животных (до изобретения бумаги). Также древняя рукопись на таком материа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7"/>
          <p:cNvSpPr/>
          <p:nvPr/>
        </p:nvSpPr>
        <p:spPr>
          <a:xfrm>
            <a:off x="357120" y="62118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е́топись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— погодово́й, более или менее подробный рассказ о событ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1"/>
          <p:cNvSpPr/>
          <p:nvPr/>
        </p:nvSpPr>
        <p:spPr>
          <a:xfrm>
            <a:off x="429120" y="642960"/>
            <a:ext cx="385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bibliotekar.ru/divo/35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2"/>
          <p:cNvSpPr/>
          <p:nvPr/>
        </p:nvSpPr>
        <p:spPr>
          <a:xfrm>
            <a:off x="357120" y="10000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home-edu.ru/pages/filippova/texts11/texts1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3"/>
          <p:cNvSpPr/>
          <p:nvPr/>
        </p:nvSpPr>
        <p:spPr>
          <a:xfrm>
            <a:off x="291600" y="2143080"/>
            <a:ext cx="361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icon-art.info/masterpiece.ph...d%3D13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4"/>
          <p:cNvSpPr/>
          <p:nvPr/>
        </p:nvSpPr>
        <p:spPr>
          <a:xfrm>
            <a:off x="509400" y="1785960"/>
            <a:ext cx="15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ллюстр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5"/>
          <p:cNvSpPr/>
          <p:nvPr/>
        </p:nvSpPr>
        <p:spPr>
          <a:xfrm>
            <a:off x="366120" y="2500200"/>
            <a:ext cx="252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vartist.narod.ru/text12/25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6"/>
          <p:cNvSpPr/>
          <p:nvPr/>
        </p:nvSpPr>
        <p:spPr>
          <a:xfrm>
            <a:off x="359640" y="2857680"/>
            <a:ext cx="28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pravoslavie.ru/jurnal/4506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7"/>
          <p:cNvSpPr/>
          <p:nvPr/>
        </p:nvSpPr>
        <p:spPr>
          <a:xfrm>
            <a:off x="284040" y="3143160"/>
            <a:ext cx="363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bankreceptov.ru/photo/photo-...44.s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8"/>
          <p:cNvSpPr/>
          <p:nvPr/>
        </p:nvSpPr>
        <p:spPr>
          <a:xfrm>
            <a:off x="363600" y="3500280"/>
            <a:ext cx="334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booksite.ru/enciklopedia/book/3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9"/>
          <p:cNvSpPr/>
          <p:nvPr/>
        </p:nvSpPr>
        <p:spPr>
          <a:xfrm>
            <a:off x="286920" y="3786120"/>
            <a:ext cx="355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nlr.ru/fonds/manuscripts/ru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0"/>
          <p:cNvSpPr/>
          <p:nvPr/>
        </p:nvSpPr>
        <p:spPr>
          <a:xfrm>
            <a:off x="292320" y="4143240"/>
            <a:ext cx="334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booksite.ru/enciklopedia/book/3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11"/>
          <p:cNvSpPr/>
          <p:nvPr/>
        </p:nvSpPr>
        <p:spPr>
          <a:xfrm>
            <a:off x="286200" y="4429080"/>
            <a:ext cx="343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uat.asia/story/neskolko-lyubopy...menn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12"/>
          <p:cNvSpPr/>
          <p:nvPr/>
        </p:nvSpPr>
        <p:spPr>
          <a:xfrm>
            <a:off x="285840" y="478620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home-edu.ru/user/uatml/00000...ok13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290880" y="5143680"/>
            <a:ext cx="332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ukr-print.net/contents/page-702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4"/>
          <p:cNvSpPr/>
          <p:nvPr/>
        </p:nvSpPr>
        <p:spPr>
          <a:xfrm>
            <a:off x="303840" y="5429160"/>
            <a:ext cx="34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ec-dejavu.net/h/history_paper_6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5"/>
          <p:cNvSpPr/>
          <p:nvPr/>
        </p:nvSpPr>
        <p:spPr>
          <a:xfrm>
            <a:off x="282600" y="600084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bibliotekar.ru/rusVyg/index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16"/>
          <p:cNvSpPr/>
          <p:nvPr/>
        </p:nvSpPr>
        <p:spPr>
          <a:xfrm>
            <a:off x="298440" y="6286680"/>
            <a:ext cx="25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ctionnaire.narod.ru/punct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17"/>
          <p:cNvSpPr/>
          <p:nvPr/>
        </p:nvSpPr>
        <p:spPr>
          <a:xfrm>
            <a:off x="214200" y="655020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nlr.ru/fonds/manuscripts/west1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18"/>
          <p:cNvSpPr/>
          <p:nvPr/>
        </p:nvSpPr>
        <p:spPr>
          <a:xfrm>
            <a:off x="4359600" y="2143080"/>
            <a:ext cx="346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lambethpalacelibrary.org/con...uscrip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19"/>
          <p:cNvSpPr/>
          <p:nvPr/>
        </p:nvSpPr>
        <p:spPr>
          <a:xfrm>
            <a:off x="4357800" y="250020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ru.wikipedia.org/wiki/%D0%9E%D1%81%D1%82%D1%80%D0%BE%D0%BC%D0%B8%D1%80%D0%BE%D0%B2%D0%BE_%D0%95%D0%B2%D0%B0%D0%BD%D0%B3%D0%B5%D0%BB%D0%B8%D0%B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20"/>
          <p:cNvSpPr/>
          <p:nvPr/>
        </p:nvSpPr>
        <p:spPr>
          <a:xfrm>
            <a:off x="285840" y="571500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i-u.ru/biblio/archive/janson_ist/05.asp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21"/>
          <p:cNvSpPr/>
          <p:nvPr/>
        </p:nvSpPr>
        <p:spPr>
          <a:xfrm>
            <a:off x="428760" y="135720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booksite.ru/ancient/reader/spirit_3_04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2"/>
          <p:cNvSpPr/>
          <p:nvPr/>
        </p:nvSpPr>
        <p:spPr>
          <a:xfrm>
            <a:off x="565560" y="28584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кс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23"/>
          <p:cNvSpPr/>
          <p:nvPr/>
        </p:nvSpPr>
        <p:spPr>
          <a:xfrm>
            <a:off x="4363200" y="3429000"/>
            <a:ext cx="26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bibliotekar.ru/bel2/47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24"/>
          <p:cNvSpPr/>
          <p:nvPr/>
        </p:nvSpPr>
        <p:spPr>
          <a:xfrm>
            <a:off x="4439160" y="3714840"/>
            <a:ext cx="206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storik.org/%3Fp%3D13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25"/>
          <p:cNvSpPr/>
          <p:nvPr/>
        </p:nvSpPr>
        <p:spPr>
          <a:xfrm>
            <a:off x="6507000" y="1285920"/>
            <a:ext cx="168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ru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2" descr="82-12-5.jpg"/>
          <p:cNvPicPr/>
          <p:nvPr/>
        </p:nvPicPr>
        <p:blipFill>
          <a:blip r:embed="rId1"/>
          <a:stretch/>
        </p:blipFill>
        <p:spPr>
          <a:xfrm>
            <a:off x="1071720" y="357120"/>
            <a:ext cx="2500200" cy="35719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svit.png"/>
          <p:cNvPicPr/>
          <p:nvPr/>
        </p:nvPicPr>
        <p:blipFill>
          <a:blip r:embed="rId2"/>
          <a:stretch/>
        </p:blipFill>
        <p:spPr>
          <a:xfrm>
            <a:off x="4343400" y="214200"/>
            <a:ext cx="4800600" cy="62150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4"/>
          <p:cNvSpPr/>
          <p:nvPr/>
        </p:nvSpPr>
        <p:spPr>
          <a:xfrm>
            <a:off x="5143680" y="1143000"/>
            <a:ext cx="3214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Рукописные книги многие века являлись объектом поклонения и восхищения, предметом роскоши и собиратель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Со временем большинство из них вошли в собрания знаменитых музеев и библиот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7" descr="manuscriptIntro.gif"/>
          <p:cNvPicPr/>
          <p:nvPr/>
        </p:nvPicPr>
        <p:blipFill>
          <a:blip r:embed="rId3"/>
          <a:stretch/>
        </p:blipFill>
        <p:spPr>
          <a:xfrm>
            <a:off x="500040" y="4286160"/>
            <a:ext cx="3357720" cy="201132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5" descr="e1076c30d2a9.png"/>
          <p:cNvPicPr/>
          <p:nvPr/>
        </p:nvPicPr>
        <p:blipFill>
          <a:blip r:embed="rId1"/>
          <a:stretch/>
        </p:blipFill>
        <p:spPr>
          <a:xfrm>
            <a:off x="0" y="0"/>
            <a:ext cx="523404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6"/>
          <p:cNvSpPr/>
          <p:nvPr/>
        </p:nvSpPr>
        <p:spPr>
          <a:xfrm>
            <a:off x="857160" y="714240"/>
            <a:ext cx="35719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Самая древняя русская рукописная книга </a:t>
            </a: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«Остромирово</a:t>
            </a:r>
            <a:r>
              <a:rPr b="1" lang="en-US" sz="2000" spc="-1" strike="noStrike">
                <a:solidFill>
                  <a:srgbClr val="0070c0"/>
                </a:solidFill>
                <a:latin typeface="Cambria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Евангелие»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написана в середине XI 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Более 900 лет назад мастер книжного дела </a:t>
            </a: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писец Григорий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ереписал это Евангелие для новгородского посадника Остроми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Сейчас книга хранится в Санкт-Петербурге, в Государственной публичной библиотеке име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М. Е. Салтыкова-Щедр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7" descr="Ostromirovo.jpg"/>
          <p:cNvPicPr/>
          <p:nvPr/>
        </p:nvPicPr>
        <p:blipFill>
          <a:blip r:embed="rId2"/>
          <a:stretch/>
        </p:blipFill>
        <p:spPr>
          <a:xfrm>
            <a:off x="5357880" y="285840"/>
            <a:ext cx="3585960" cy="24368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9" descr="Начало Евангелия от Иоанна..jpg"/>
          <p:cNvPicPr/>
          <p:nvPr/>
        </p:nvPicPr>
        <p:blipFill>
          <a:blip r:embed="rId3"/>
          <a:stretch/>
        </p:blipFill>
        <p:spPr>
          <a:xfrm>
            <a:off x="5572080" y="2928960"/>
            <a:ext cx="3090960" cy="371484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357120" y="214200"/>
            <a:ext cx="4572000" cy="161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исец Григорий писал Остромирово Евангелие почти семь месяце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За день он успевал написать не более 3 стран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"/>
          <p:cNvSpPr/>
          <p:nvPr/>
        </p:nvSpPr>
        <p:spPr>
          <a:xfrm>
            <a:off x="4286160" y="2000160"/>
            <a:ext cx="4572000" cy="22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оздание рукописи - это тяжёлый и изнурительный труд. Рабочий день длился летом от восхода и до заката солнца, зимой же захватывали и тёмную половину дня, когда писали при свечах или лучин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214200" y="4714920"/>
            <a:ext cx="4714920" cy="22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Успешное окончание книги было праздником. Радуясь, писец оставлял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конце книги, например,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такую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запис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«Яко же радуется жених о невесте, тако радуется писец, видя последний лист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4" descr="s_01.jpg"/>
          <p:cNvPicPr/>
          <p:nvPr/>
        </p:nvPicPr>
        <p:blipFill>
          <a:blip r:embed="rId1"/>
          <a:stretch/>
        </p:blipFill>
        <p:spPr>
          <a:xfrm>
            <a:off x="571680" y="1714680"/>
            <a:ext cx="3375000" cy="28573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6" descr="b_stuart2.jpg"/>
          <p:cNvPicPr/>
          <p:nvPr/>
        </p:nvPicPr>
        <p:blipFill>
          <a:blip r:embed="rId2"/>
          <a:stretch/>
        </p:blipFill>
        <p:spPr>
          <a:xfrm>
            <a:off x="5715000" y="142920"/>
            <a:ext cx="2514600" cy="16462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9" descr="переплёт книги.jpg"/>
          <p:cNvPicPr/>
          <p:nvPr/>
        </p:nvPicPr>
        <p:blipFill>
          <a:blip r:embed="rId3"/>
          <a:stretch/>
        </p:blipFill>
        <p:spPr>
          <a:xfrm>
            <a:off x="5143680" y="4143240"/>
            <a:ext cx="3641400" cy="235764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642960" y="214200"/>
            <a:ext cx="8001000" cy="253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Монастыри служили основными центр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книгописания в средние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монастырской книжной мастерской царила строгая дисципли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За ослушание, небрежность сажали на сухой паё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охранились древние миниатюры, изображающие монахов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ереписчиков книг за работой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2" descr="18768_p.jpg"/>
          <p:cNvPicPr/>
          <p:nvPr/>
        </p:nvPicPr>
        <p:blipFill>
          <a:blip r:embed="rId1"/>
          <a:stretch/>
        </p:blipFill>
        <p:spPr>
          <a:xfrm>
            <a:off x="285840" y="2428920"/>
            <a:ext cx="2458800" cy="32860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6" descr="89.jpg"/>
          <p:cNvPicPr/>
          <p:nvPr/>
        </p:nvPicPr>
        <p:blipFill>
          <a:blip r:embed="rId2"/>
          <a:stretch/>
        </p:blipFill>
        <p:spPr>
          <a:xfrm>
            <a:off x="3143160" y="2714760"/>
            <a:ext cx="2808360" cy="39132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8" descr="Escribano.jpg"/>
          <p:cNvPicPr/>
          <p:nvPr/>
        </p:nvPicPr>
        <p:blipFill>
          <a:blip r:embed="rId3"/>
          <a:stretch/>
        </p:blipFill>
        <p:spPr>
          <a:xfrm>
            <a:off x="4343400" y="3252960"/>
            <a:ext cx="457200" cy="3520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1" descr="image004.jpg"/>
          <p:cNvPicPr/>
          <p:nvPr/>
        </p:nvPicPr>
        <p:blipFill>
          <a:blip r:embed="rId4"/>
          <a:stretch/>
        </p:blipFill>
        <p:spPr>
          <a:xfrm>
            <a:off x="6215040" y="2357280"/>
            <a:ext cx="2514600" cy="35751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1"/>
          <p:cNvSpPr/>
          <p:nvPr/>
        </p:nvSpPr>
        <p:spPr>
          <a:xfrm>
            <a:off x="642960" y="428760"/>
            <a:ext cx="750096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Изготовление древних рукописных книг было делом дорогим и трудоёмк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3"/>
          <p:cNvSpPr/>
          <p:nvPr/>
        </p:nvSpPr>
        <p:spPr>
          <a:xfrm>
            <a:off x="0" y="1643040"/>
            <a:ext cx="9001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Материалом для них служил </a:t>
            </a:r>
            <a:r>
              <a:rPr b="1" lang="ru-RU" sz="2800" spc="-1" strike="noStrike">
                <a:solidFill>
                  <a:srgbClr val="0070c0"/>
                </a:solidFill>
                <a:latin typeface="Cambria"/>
              </a:rPr>
              <a:t>пергамен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(или пергамент)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кожа особой выдел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5" descr="1302.jpg"/>
          <p:cNvPicPr/>
          <p:nvPr/>
        </p:nvPicPr>
        <p:blipFill>
          <a:blip r:embed="rId1"/>
          <a:stretch/>
        </p:blipFill>
        <p:spPr>
          <a:xfrm>
            <a:off x="5643720" y="2928960"/>
            <a:ext cx="2857320" cy="319068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8"/>
          <p:cNvSpPr/>
          <p:nvPr/>
        </p:nvSpPr>
        <p:spPr>
          <a:xfrm>
            <a:off x="214200" y="3071880"/>
            <a:ext cx="5000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Лучший пергамен получался из мягкой, тонкой кож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ягнят и теля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Её очищали от шерсти и тщательно промыв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Затем натягивали на рамки, посыпали мелом и чистили пемз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214200" y="214200"/>
            <a:ext cx="8643960" cy="161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ыделанную кожу разрезали на прямоугольные куски и сшивали в тетради по восемь лис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шитые тетради собирали в книг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зависимости от формата и количества листов, на одну книгу требовалось от 10 до 30 шкур животных – целое стадо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"/>
          <p:cNvSpPr/>
          <p:nvPr/>
        </p:nvSpPr>
        <p:spPr>
          <a:xfrm>
            <a:off x="1000080" y="5357880"/>
            <a:ext cx="7286760" cy="161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о свидетельству одного из писцов, работавше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на рубеже XIV-XV вв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за кожу для книги было уплачено три руб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то время на эти деньги можно было купить три лошади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3" descr="44.jpg"/>
          <p:cNvPicPr/>
          <p:nvPr/>
        </p:nvPicPr>
        <p:blipFill>
          <a:blip r:embed="rId1"/>
          <a:stretch/>
        </p:blipFill>
        <p:spPr>
          <a:xfrm>
            <a:off x="357120" y="2000160"/>
            <a:ext cx="4525920" cy="32274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5" descr="переплёты древних рукописных книг.jpg"/>
          <p:cNvPicPr/>
          <p:nvPr/>
        </p:nvPicPr>
        <p:blipFill>
          <a:blip r:embed="rId2"/>
          <a:stretch/>
        </p:blipFill>
        <p:spPr>
          <a:xfrm>
            <a:off x="5143680" y="2286000"/>
            <a:ext cx="3703320" cy="251460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2" descr="ostr2.jpg"/>
          <p:cNvPicPr/>
          <p:nvPr/>
        </p:nvPicPr>
        <p:blipFill>
          <a:blip r:embed="rId1"/>
          <a:stretch/>
        </p:blipFill>
        <p:spPr>
          <a:xfrm>
            <a:off x="714240" y="357120"/>
            <a:ext cx="3444840" cy="207828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pic>
        <p:nvPicPr>
          <p:cNvPr id="92" name="Рисунок 3" descr="Начало Евангелия от Иоанна..jpg"/>
          <p:cNvPicPr/>
          <p:nvPr/>
        </p:nvPicPr>
        <p:blipFill>
          <a:blip r:embed="rId2"/>
          <a:stretch/>
        </p:blipFill>
        <p:spPr>
          <a:xfrm>
            <a:off x="785880" y="2714760"/>
            <a:ext cx="3143160" cy="377820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sp>
        <p:nvSpPr>
          <p:cNvPr id="93" name="Прямоугольник 5"/>
          <p:cNvSpPr/>
          <p:nvPr/>
        </p:nvSpPr>
        <p:spPr>
          <a:xfrm>
            <a:off x="4714920" y="214200"/>
            <a:ext cx="4000320" cy="2838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риступая к работе, писец брал стопу пергаменных листов и тщательно линовал их с помощью шильц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Рукописи большого формата писали в два столбц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каждом столбце по 18 стр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Так написано и Остромирово Евангел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7" descr="Escribano.jpg"/>
          <p:cNvPicPr/>
          <p:nvPr/>
        </p:nvPicPr>
        <p:blipFill>
          <a:blip r:embed="rId3"/>
          <a:stretch/>
        </p:blipFill>
        <p:spPr>
          <a:xfrm>
            <a:off x="4572000" y="3286080"/>
            <a:ext cx="4086360" cy="316080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5T08:49:01Z</dcterms:created>
  <dc:creator>Бойкова Оксана Владимировна</dc:creator>
  <dc:description/>
  <dc:language>en-US</dc:language>
  <cp:lastModifiedBy>LEGION</cp:lastModifiedBy>
  <dcterms:modified xsi:type="dcterms:W3CDTF">2015-01-15T12:43:50Z</dcterms:modified>
  <cp:revision>73</cp:revision>
  <dc:subject/>
  <dc:title>Рукописные книги  Древней Руси (литературное чтение, 3 класс, УМК «Школа России»)</dc:title>
</cp:coreProperties>
</file>