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0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7.jpeg" ContentType="image/jpeg"/>
  <Override PartName="/ppt/media/image43.png" ContentType="image/pn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8.jpeg" ContentType="image/jpeg"/>
  <Override PartName="/ppt/media/image59.jpeg" ContentType="image/jpeg"/>
  <Override PartName="/ppt/media/image36.png" ContentType="image/png"/>
  <Override PartName="/ppt/media/image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8.jpeg" ContentType="image/jpeg"/>
  <Override PartName="/ppt/media/image5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D70-7F9A-4242-AA96-5FEE8CAF0E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72B1-B965-4703-8338-D832E782D8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AE84-95CD-4ECB-A215-50578310FA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0C9F-84DC-4F04-B2CE-E40C28B971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CBE-E528-46EF-AFF4-9065CFE78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7799-1C6F-4720-8995-C0FA7A0AB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3F27-97D6-454E-BB11-8D27728CA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396-4CB9-4F3A-B9F2-DCF36474A5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38D-B1C4-4D61-8E1E-0D930CEB2F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CCA9-3F84-4271-B906-22DFE43BB4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326-77D8-4964-AACA-AF2C5A626A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ED28-8280-455A-AFEB-06C1AB40F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8D9-8138-4050-8FE5-9C0644B28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206-9698-4A5E-8511-F2ECE7F395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F27C-7744-4230-BAD3-AF12A3A2D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E8D-C45B-453F-8958-455BA0984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8868-F404-4D85-8C4A-5640C6BEA4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1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134B-DD32-4F5E-96AD-38FB94AFA5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69C9-EEC3-412E-8569-B2125BFB88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CA7A-A9FB-48FB-8955-7F8363A77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14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7835-20B3-4E12-B337-343A12443D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ACE-8E9A-4264-A234-ECC20B3B52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5063-008F-4D0C-9ED5-E59E070D1B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314-63DE-4CE0-9A6E-A63241BD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F11-0EF2-4271-8FC4-E3A4A5A5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AC5-14F4-473D-84E5-43D7FBFF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AE8-FF0E-42D6-84C0-C16EA88C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964-AEED-46F3-A63D-BB6A77F9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FE3-BEE3-46DA-B593-DED89079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929-F141-4C15-8A12-E51A349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F15-985C-4152-BA38-A97891A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141-78FD-4FB4-92B7-83719CA7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CCB-1602-4C70-B2A7-9069A8C7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FDB-5975-4A56-9A9F-9FE68C2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CAA-EB61-48D0-8A88-97167508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73EA-C3AD-483E-90E5-B6303B1914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1B1-B41B-4CED-B86B-1DA75BDA7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bliotekar.ru/divo/35.htm" TargetMode="External"/><Relationship Id="rId2" Type="http://schemas.openxmlformats.org/officeDocument/2006/relationships/hyperlink" Target="http://www.home-edu.ru/pages/filippova/texts11/texts11.htm" TargetMode="External"/><Relationship Id="rId3" Type="http://schemas.openxmlformats.org/officeDocument/2006/relationships/hyperlink" Target="http://www.booksite.ru/ancient/reader/spirit_3_04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2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151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Рукописные книг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mbria"/>
              </a:rPr>
              <a:t>Древней Руси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литературное чтение, 3класс, УМК«Школа Росс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1000440" y="6481800"/>
            <a:ext cx="116442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йкова О. В., учитель начальных классов МОУ СОШ №1 г. Конаково Тверской об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евангелие 11 век.jpg"/>
          <p:cNvPicPr/>
          <p:nvPr/>
        </p:nvPicPr>
        <p:blipFill>
          <a:blip r:embed="rId1"/>
          <a:stretch/>
        </p:blipFill>
        <p:spPr>
          <a:xfrm>
            <a:off x="571680" y="3214800"/>
            <a:ext cx="4673520" cy="3000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b_rus_57page2.jpg"/>
          <p:cNvPicPr/>
          <p:nvPr/>
        </p:nvPicPr>
        <p:blipFill>
          <a:blip r:embed="rId2"/>
          <a:stretch/>
        </p:blipFill>
        <p:spPr>
          <a:xfrm>
            <a:off x="6072120" y="3214800"/>
            <a:ext cx="2233800" cy="29289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214200"/>
            <a:ext cx="82152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исали книги обычно гусиным пером и чернил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ивилегию писать лебединым и даже павлинь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ом имел цар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00040" y="4714920"/>
            <a:ext cx="82152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звлекали перо непременно из левого крыла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чтобы изгиб был удобен для правой, пишущей,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о обезжиривали, втыкая в горячий пес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тем кончик наискось срез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сщепляли и затачивали специальным, перочинным, ножич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м же выскабливали ошибки в текст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120px-Feather_150_transparent.png"/>
          <p:cNvPicPr/>
          <p:nvPr/>
        </p:nvPicPr>
        <p:blipFill>
          <a:blip r:embed="rId1"/>
          <a:stretch/>
        </p:blipFill>
        <p:spPr>
          <a:xfrm>
            <a:off x="500040" y="1357200"/>
            <a:ext cx="190512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Walraversijde25.jpg"/>
          <p:cNvPicPr/>
          <p:nvPr/>
        </p:nvPicPr>
        <p:blipFill>
          <a:blip r:embed="rId2"/>
          <a:stretch/>
        </p:blipFill>
        <p:spPr>
          <a:xfrm>
            <a:off x="4714920" y="150012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art_2.jpg"/>
          <p:cNvPicPr/>
          <p:nvPr/>
        </p:nvPicPr>
        <p:blipFill>
          <a:blip r:embed="rId3"/>
          <a:stretch/>
        </p:blipFill>
        <p:spPr>
          <a:xfrm>
            <a:off x="2214720" y="2143080"/>
            <a:ext cx="1885680" cy="23464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28760" y="142920"/>
            <a:ext cx="821520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невековые чернила, в отличие от привычных для нас синих и чёрных, были бурого ц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как делались на основе железистых состав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а проще говоря, ржавч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воду опускали кусочки старого железа, которые, ржав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крашивали её в буры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357120" y="5380200"/>
            <a:ext cx="842976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Сохранились древние рецепты изготовления чернил. В качестве компонентов, помимо железа, использовали дубовую или ольховую кору, вишнёвый клей, квас, мёд и многие другие вещества, придававшие чернилам необходимую вязкость, цвет, устой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277847_2008-12-29_154513.jpg"/>
          <p:cNvPicPr/>
          <p:nvPr/>
        </p:nvPicPr>
        <p:blipFill>
          <a:blip r:embed="rId1"/>
          <a:stretch/>
        </p:blipFill>
        <p:spPr>
          <a:xfrm>
            <a:off x="785880" y="2286000"/>
            <a:ext cx="202716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Инициал В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786120" y="2286000"/>
            <a:ext cx="1903320" cy="28576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290.png"/>
          <p:cNvPicPr/>
          <p:nvPr/>
        </p:nvPicPr>
        <p:blipFill>
          <a:blip r:embed="rId3"/>
          <a:stretch/>
        </p:blipFill>
        <p:spPr>
          <a:xfrm>
            <a:off x="6708600" y="2214720"/>
            <a:ext cx="1670400" cy="2857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357120" y="214200"/>
            <a:ext cx="84297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Поскольку книга стоила дорого, её берег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ля защиты от механических повреждений делали переплёт из двух досок, обтянутых кожей и имевших застёжку на боковом сре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переплёты древних рукописных книг.jpg"/>
          <p:cNvPicPr/>
          <p:nvPr/>
        </p:nvPicPr>
        <p:blipFill>
          <a:blip r:embed="rId1"/>
          <a:stretch/>
        </p:blipFill>
        <p:spPr>
          <a:xfrm>
            <a:off x="357120" y="2000160"/>
            <a:ext cx="3714840" cy="25225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rybuf.jpg"/>
          <p:cNvPicPr/>
          <p:nvPr/>
        </p:nvPicPr>
        <p:blipFill>
          <a:blip r:embed="rId2"/>
          <a:stretch/>
        </p:blipFill>
        <p:spPr>
          <a:xfrm>
            <a:off x="4786200" y="1928880"/>
            <a:ext cx="3953160" cy="2597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b_stuart2.jpg"/>
          <p:cNvPicPr/>
          <p:nvPr/>
        </p:nvPicPr>
        <p:blipFill>
          <a:blip r:embed="rId3"/>
          <a:stretch/>
        </p:blipFill>
        <p:spPr>
          <a:xfrm>
            <a:off x="3286080" y="4786200"/>
            <a:ext cx="2865600" cy="1874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642960" y="35712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05_clip_image022.jpg"/>
          <p:cNvPicPr/>
          <p:nvPr/>
        </p:nvPicPr>
        <p:blipFill>
          <a:blip r:embed="rId1"/>
          <a:stretch/>
        </p:blipFill>
        <p:spPr>
          <a:xfrm>
            <a:off x="4786200" y="1428840"/>
            <a:ext cx="4068720" cy="4984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8.jpg"/>
          <p:cNvPicPr/>
          <p:nvPr/>
        </p:nvPicPr>
        <p:blipFill>
          <a:blip r:embed="rId2"/>
          <a:stretch/>
        </p:blipFill>
        <p:spPr>
          <a:xfrm>
            <a:off x="428760" y="1500120"/>
            <a:ext cx="3890880" cy="50007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42960" y="214200"/>
            <a:ext cx="785808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огда переплёт оковывали золотом и серебром, украшали драгоценными камн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кие металлические переплёты называют окла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00040" y="357120"/>
            <a:ext cx="828684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редневековые рукописные книги нарядно оформляли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д текстом обязательно делали заставк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большую орнаментальную компози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асто в форме рамки вокруг названия главы или раз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ostr4.jpg"/>
          <p:cNvPicPr/>
          <p:nvPr/>
        </p:nvPicPr>
        <p:blipFill>
          <a:blip r:embed="rId1"/>
          <a:stretch/>
        </p:blipFill>
        <p:spPr>
          <a:xfrm>
            <a:off x="285840" y="1928880"/>
            <a:ext cx="4811760" cy="2357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3"/>
          <p:cNvSpPr/>
          <p:nvPr/>
        </p:nvSpPr>
        <p:spPr>
          <a:xfrm>
            <a:off x="444960" y="4429080"/>
            <a:ext cx="43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ая заставка Остромирова Евангел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4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5286240" y="2000160"/>
            <a:ext cx="3589560" cy="4313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oh10_11.gif"/>
          <p:cNvPicPr/>
          <p:nvPr/>
        </p:nvPicPr>
        <p:blipFill>
          <a:blip r:embed="rId3"/>
          <a:stretch/>
        </p:blipFill>
        <p:spPr>
          <a:xfrm>
            <a:off x="428760" y="5000760"/>
            <a:ext cx="4176720" cy="1357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428760" y="214200"/>
            <a:ext cx="8286480" cy="13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вую, заглавную букву в тексте –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"инициал"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– писали крупнее и красивее остальных, украшали орнаментом, иногда в виде человечка, животного, птицы, фантастического су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714240" y="564372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ычно инициал был крас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тех пор говорят – "писать с красной строк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Инициал В.jpg"/>
          <p:cNvPicPr/>
          <p:nvPr/>
        </p:nvPicPr>
        <p:blipFill>
          <a:blip r:embed="rId1"/>
          <a:stretch/>
        </p:blipFill>
        <p:spPr>
          <a:xfrm>
            <a:off x="428760" y="1643040"/>
            <a:ext cx="2387520" cy="35845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Инициал В с монстром. Остромирово евангелие. 1056-1057 гг..jpg"/>
          <p:cNvPicPr/>
          <p:nvPr/>
        </p:nvPicPr>
        <p:blipFill>
          <a:blip r:embed="rId2"/>
          <a:stretch/>
        </p:blipFill>
        <p:spPr>
          <a:xfrm>
            <a:off x="3357720" y="1643040"/>
            <a:ext cx="2403360" cy="3608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Лист Остромирова евангелия. Заставка-разделитель, инициалы М и Р с личиной..jpg"/>
          <p:cNvPicPr/>
          <p:nvPr/>
        </p:nvPicPr>
        <p:blipFill>
          <a:blip r:embed="rId3"/>
          <a:stretch/>
        </p:blipFill>
        <p:spPr>
          <a:xfrm>
            <a:off x="6286680" y="1643040"/>
            <a:ext cx="2331720" cy="3500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1" descr="untitled.bmp"/>
          <p:cNvPicPr/>
          <p:nvPr/>
        </p:nvPicPr>
        <p:blipFill>
          <a:blip r:embed="rId1"/>
          <a:stretch/>
        </p:blipFill>
        <p:spPr>
          <a:xfrm>
            <a:off x="500040" y="357120"/>
            <a:ext cx="2587680" cy="40546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e6df8a1717ff9ffb88cb7d91ba6f59db.jpg"/>
          <p:cNvPicPr/>
          <p:nvPr/>
        </p:nvPicPr>
        <p:blipFill>
          <a:blip r:embed="rId2"/>
          <a:stretch/>
        </p:blipFill>
        <p:spPr>
          <a:xfrm>
            <a:off x="3714840" y="500040"/>
            <a:ext cx="4736880" cy="17636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hunterlog.jpg"/>
          <p:cNvPicPr/>
          <p:nvPr/>
        </p:nvPicPr>
        <p:blipFill>
          <a:blip r:embed="rId3"/>
          <a:stretch/>
        </p:blipFill>
        <p:spPr>
          <a:xfrm>
            <a:off x="3571920" y="2643120"/>
            <a:ext cx="2009880" cy="35719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image5-1.png"/>
          <p:cNvPicPr/>
          <p:nvPr/>
        </p:nvPicPr>
        <p:blipFill>
          <a:blip r:embed="rId4"/>
          <a:stretch/>
        </p:blipFill>
        <p:spPr>
          <a:xfrm>
            <a:off x="5929200" y="2643120"/>
            <a:ext cx="2827440" cy="35719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MS_1_1221.jpg"/>
          <p:cNvPicPr/>
          <p:nvPr/>
        </p:nvPicPr>
        <p:blipFill>
          <a:blip r:embed="rId5"/>
          <a:stretch/>
        </p:blipFill>
        <p:spPr>
          <a:xfrm>
            <a:off x="571680" y="4643280"/>
            <a:ext cx="2571480" cy="19353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85840" y="285840"/>
            <a:ext cx="4572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ревние рукописи иллюстрировали и заботливо украшали. Их называли «цветоносными», так как для рисунков русские мастера использовали многие цвета, а в Европе в основном только крас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5643720" y="2928960"/>
            <a:ext cx="328608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полненные от руки иллюстрации (рисунки) называются миниатюрами — от латинского слова «миния», которым древние римляне обозначали красную краску. Делали миниатюры особые мастера — художники-миниатюрис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rybuf.jpg"/>
          <p:cNvPicPr/>
          <p:nvPr/>
        </p:nvPicPr>
        <p:blipFill>
          <a:blip r:embed="rId1"/>
          <a:stretch/>
        </p:blipFill>
        <p:spPr>
          <a:xfrm>
            <a:off x="5000760" y="285840"/>
            <a:ext cx="380664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05_clip_image032.jpg"/>
          <p:cNvPicPr/>
          <p:nvPr/>
        </p:nvPicPr>
        <p:blipFill>
          <a:blip r:embed="rId2"/>
          <a:stretch/>
        </p:blipFill>
        <p:spPr>
          <a:xfrm>
            <a:off x="428760" y="2500200"/>
            <a:ext cx="2286000" cy="29815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89.jpg"/>
          <p:cNvPicPr/>
          <p:nvPr/>
        </p:nvPicPr>
        <p:blipFill>
          <a:blip r:embed="rId3"/>
          <a:stretch/>
        </p:blipFill>
        <p:spPr>
          <a:xfrm>
            <a:off x="3071880" y="3357720"/>
            <a:ext cx="2244600" cy="31273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57120" y="285840"/>
            <a:ext cx="82868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Остромировом Евангелии — три большие иллюстрации, на которых изображены апостолы Марк, Иоанн и Лука (составители Евангел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Евангелист Лука. Миниатюра..jpg"/>
          <p:cNvPicPr/>
          <p:nvPr/>
        </p:nvPicPr>
        <p:blipFill>
          <a:blip r:embed="rId1"/>
          <a:stretch/>
        </p:blipFill>
        <p:spPr>
          <a:xfrm>
            <a:off x="6286680" y="1785960"/>
            <a:ext cx="2473200" cy="3714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Евангелист Марк. Миниатюра..jpg"/>
          <p:cNvPicPr/>
          <p:nvPr/>
        </p:nvPicPr>
        <p:blipFill>
          <a:blip r:embed="rId2"/>
          <a:stretch/>
        </p:blipFill>
        <p:spPr>
          <a:xfrm>
            <a:off x="357120" y="1785960"/>
            <a:ext cx="2643120" cy="31464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Евангелист Иоанн с Прохором. Миниатюра..jpg"/>
          <p:cNvPicPr/>
          <p:nvPr/>
        </p:nvPicPr>
        <p:blipFill>
          <a:blip r:embed="rId3"/>
          <a:stretch/>
        </p:blipFill>
        <p:spPr>
          <a:xfrm>
            <a:off x="3357720" y="2714760"/>
            <a:ext cx="2614320" cy="3571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3722400" y="62866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Ио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6648120" y="56437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721800" y="50720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вангелист М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7120" y="285840"/>
            <a:ext cx="4214880" cy="625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реди рукописных книг было много </a:t>
            </a: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летописе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кст летописи состоит из погодных (составленных по годам) запис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ждая из них начинается словами: "в лето такое-то"... и сообщений о событ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торые произошли в этом г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общения бывают и короткими, и длинн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иногда они даже включают пространные повести о важных собы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иногда летописец ограничивался кратким замечанием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" В лето 6752 (1244) не бысть ничтоже" (ничего не был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2" descr="image001.jpg"/>
          <p:cNvPicPr/>
          <p:nvPr/>
        </p:nvPicPr>
        <p:blipFill>
          <a:blip r:embed="rId1"/>
          <a:stretch/>
        </p:blipFill>
        <p:spPr>
          <a:xfrm>
            <a:off x="4929120" y="285840"/>
            <a:ext cx="3738600" cy="28033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2" name="Рисунок 4" descr="311144.jpg"/>
          <p:cNvPicPr/>
          <p:nvPr/>
        </p:nvPicPr>
        <p:blipFill>
          <a:blip r:embed="rId2"/>
          <a:stretch/>
        </p:blipFill>
        <p:spPr>
          <a:xfrm>
            <a:off x="4929120" y="3500280"/>
            <a:ext cx="3760920" cy="23576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57160" y="1571760"/>
            <a:ext cx="357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РУКОПИСНАЯ КНИ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уникальная книг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ой текст, иллюстрации и орнаментальное оформление воспроизведены от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5" descr="images.jpg"/>
          <p:cNvPicPr/>
          <p:nvPr/>
        </p:nvPicPr>
        <p:blipFill>
          <a:blip r:embed="rId2"/>
          <a:stretch/>
        </p:blipFill>
        <p:spPr>
          <a:xfrm>
            <a:off x="5500800" y="285840"/>
            <a:ext cx="3357360" cy="2282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ruk.gif"/>
          <p:cNvPicPr/>
          <p:nvPr/>
        </p:nvPicPr>
        <p:blipFill>
          <a:blip r:embed="rId3"/>
          <a:stretch/>
        </p:blipFill>
        <p:spPr>
          <a:xfrm rot="596400">
            <a:off x="5997600" y="2941560"/>
            <a:ext cx="214308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357120" y="285840"/>
            <a:ext cx="3571920" cy="71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ак настоящие историки, летописцы стремились как можно точнее рассказать обо всём, что происходило в стране. Чтобы составить краткий и точный рассказ, летописцам приходилось быть в самой гуще событий. Они сражались "подле стремени" своего князя, участвовали в походах и осадах городов, принимали участие в мирских де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о летописец должен был рассказывать и о тех событиях, свидетелем которых он не был, поэтому в летописи включались и рассказы других лиц, и даже легенды и пре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" descr="f_letopis2_3.jpg"/>
          <p:cNvPicPr/>
          <p:nvPr/>
        </p:nvPicPr>
        <p:blipFill>
          <a:blip r:embed="rId1"/>
          <a:stretch/>
        </p:blipFill>
        <p:spPr>
          <a:xfrm>
            <a:off x="4429080" y="285840"/>
            <a:ext cx="4071960" cy="30178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56" name="Рисунок 3" descr="osnova_03.jpg"/>
          <p:cNvPicPr/>
          <p:nvPr/>
        </p:nvPicPr>
        <p:blipFill>
          <a:blip r:embed="rId2"/>
          <a:stretch/>
        </p:blipFill>
        <p:spPr>
          <a:xfrm>
            <a:off x="4357800" y="3500280"/>
            <a:ext cx="4143240" cy="3113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157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214200" y="214200"/>
            <a:ext cx="8715600" cy="289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mbria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мое знаменитое из летописных сочинений (12 в.), описывающее в основном историю восточных славян (повествование начинается от Всемирного потопа), исторические и полулегендарные события, происходившие в Древней Руси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Повесть временных лет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- труд нескольких монахов Киево-Печерской лавры, прежде всего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Нестор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(по-другому памятник называется Летопись Несто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15020233.jpg"/>
          <p:cNvPicPr/>
          <p:nvPr/>
        </p:nvPicPr>
        <p:blipFill>
          <a:blip r:embed="rId1"/>
          <a:stretch/>
        </p:blipFill>
        <p:spPr>
          <a:xfrm rot="21166800">
            <a:off x="1196640" y="3166560"/>
            <a:ext cx="2873520" cy="33130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3213d4824c86a56ae80055d2ae4.jpg"/>
          <p:cNvPicPr/>
          <p:nvPr/>
        </p:nvPicPr>
        <p:blipFill>
          <a:blip r:embed="rId2"/>
          <a:stretch/>
        </p:blipFill>
        <p:spPr>
          <a:xfrm>
            <a:off x="5286240" y="2928960"/>
            <a:ext cx="2784600" cy="3714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57160" y="21420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«Реками, наполняющими Вселенну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назвал книги русский летописец XI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mbria"/>
              </a:rPr>
              <a:t>Книги ценились на Руси, собирались в семьях несколькими поколениями, упоминались почти в каждой духовной грамоте (завещании) среди ценностей и родовых ик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2" descr="sv_nestor_letopiset.jpg"/>
          <p:cNvPicPr/>
          <p:nvPr/>
        </p:nvPicPr>
        <p:blipFill>
          <a:blip r:embed="rId1"/>
          <a:stretch/>
        </p:blipFill>
        <p:spPr>
          <a:xfrm>
            <a:off x="6000840" y="2714760"/>
            <a:ext cx="2614680" cy="3806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book4.jpg"/>
          <p:cNvPicPr/>
          <p:nvPr/>
        </p:nvPicPr>
        <p:blipFill>
          <a:blip r:embed="rId2"/>
          <a:stretch/>
        </p:blipFill>
        <p:spPr>
          <a:xfrm>
            <a:off x="428760" y="2571840"/>
            <a:ext cx="189684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ba39d0be6251.jpg"/>
          <p:cNvPicPr/>
          <p:nvPr/>
        </p:nvPicPr>
        <p:blipFill>
          <a:blip r:embed="rId3"/>
          <a:stretch/>
        </p:blipFill>
        <p:spPr>
          <a:xfrm>
            <a:off x="2714760" y="2714760"/>
            <a:ext cx="3014640" cy="20383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b_stuart2.jpg"/>
          <p:cNvPicPr/>
          <p:nvPr/>
        </p:nvPicPr>
        <p:blipFill>
          <a:blip r:embed="rId4"/>
          <a:stretch/>
        </p:blipFill>
        <p:spPr>
          <a:xfrm rot="704400">
            <a:off x="3116160" y="5124600"/>
            <a:ext cx="2052720" cy="134460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rybuf.jpg"/>
          <p:cNvPicPr/>
          <p:nvPr/>
        </p:nvPicPr>
        <p:blipFill>
          <a:blip r:embed="rId5"/>
          <a:stretch/>
        </p:blipFill>
        <p:spPr>
          <a:xfrm rot="20983800">
            <a:off x="426600" y="5108400"/>
            <a:ext cx="1936800" cy="1271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85840" y="357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а́д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глава города, «посаженый» (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значенны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князем в землях, входивших в состав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285840" y="1071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е́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́са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человек, который профессионально занимается переписыванием книг и документов от ру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357120" y="1714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укопис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это книга, текст и иллюстрации к которой воспроизведены от руки, в отличие от печатной книги, воспроизведение которой осуществляется полиграфическим способом. Рукописная книга состоит из собственно книги — носителя текста и защитно-предохраняющих элементов (футляр, переплё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57120" y="3214800"/>
            <a:ext cx="821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сты́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религиозная община монахов или монахинь, имеющая единый устав, а также единый комплекс богослужебных, жилых, хозяйственных построек, ей принадлежа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5"/>
          <p:cNvSpPr/>
          <p:nvPr/>
        </p:nvSpPr>
        <p:spPr>
          <a:xfrm>
            <a:off x="357120" y="421488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на́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— член религиозной общины, в соответствии с обетом (клятвой) ведущий жизнь либо в рамках монашеской общины, либо в одиночестве, отшельничестве. Монахи проживают в монастырях (обителях), пустынях, лав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357120" y="51436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га́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в работах по истории обычно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ергаме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 — материал для письма из недублёной кожи животных (до изобретения бумаги). Также древняя рукопись на таком матери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57120" y="62118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́топис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 погодово́й, более или менее подробный рассказ о собы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"/>
          <p:cNvSpPr/>
          <p:nvPr/>
        </p:nvSpPr>
        <p:spPr>
          <a:xfrm>
            <a:off x="429120" y="64296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ibliotekar.ru/divo/3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35712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ome-edu.ru/pages/filippova/texts11/texts1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91600" y="214308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icon-art.info/masterpiece.ph...d%3D13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509400" y="178596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366120" y="2500200"/>
            <a:ext cx="25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artist.narod.ru/text12/25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359640" y="2857680"/>
            <a:ext cx="28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pravoslavie.ru/jurnal/4506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284040" y="3143160"/>
            <a:ext cx="36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ankreceptov.ru/photo/photo-...44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363600" y="350028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>
            <a:off x="286920" y="3786120"/>
            <a:ext cx="355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ru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>
            <a:off x="292320" y="4143240"/>
            <a:ext cx="33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ooksite.ru/enciklopedia/book/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286200" y="4429080"/>
            <a:ext cx="343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uat.asia/story/neskolko-lyubopy...men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>
            <a:off x="285840" y="47862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home-edu.ru/user/uatml/00000...ok13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290880" y="5143680"/>
            <a:ext cx="33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ukr-print.net/contents/page-7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303840" y="542916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c-dejavu.net/h/history_paper_6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>
            <a:off x="282600" y="60008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bibliotekar.ru/rusVy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6"/>
          <p:cNvSpPr/>
          <p:nvPr/>
        </p:nvSpPr>
        <p:spPr>
          <a:xfrm>
            <a:off x="298440" y="6286680"/>
            <a:ext cx="25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ctionnaire.narod.ru/punc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7"/>
          <p:cNvSpPr/>
          <p:nvPr/>
        </p:nvSpPr>
        <p:spPr>
          <a:xfrm>
            <a:off x="214200" y="65502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lr.ru/fonds/manuscripts/west1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359600" y="214308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lambethpalacelibrary.org/con...u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4357800" y="250020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ru.wikipedia.org/wiki/%D0%9E%D1%81%D1%82%D1%80%D0%BE%D0%BC%D0%B8%D1%80%D0%BE%D0%B2%D0%BE_%D0%95%D0%B2%D0%B0%D0%BD%D0%B3%D0%B5%D0%BB%D0%B8%D0%B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285840" y="57150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i-u.ru/biblio/archive/janson_ist/05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1"/>
          <p:cNvSpPr/>
          <p:nvPr/>
        </p:nvSpPr>
        <p:spPr>
          <a:xfrm>
            <a:off x="428760" y="1357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ooksite.ru/ancient/reader/spirit_3_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565560" y="2858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к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3"/>
          <p:cNvSpPr/>
          <p:nvPr/>
        </p:nvSpPr>
        <p:spPr>
          <a:xfrm>
            <a:off x="4363200" y="3429000"/>
            <a:ext cx="26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bibliotekar.ru/bel2/47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4"/>
          <p:cNvSpPr/>
          <p:nvPr/>
        </p:nvSpPr>
        <p:spPr>
          <a:xfrm>
            <a:off x="4439160" y="37148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storik.org/%3Fp%3D13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5"/>
          <p:cNvSpPr/>
          <p:nvPr/>
        </p:nvSpPr>
        <p:spPr>
          <a:xfrm>
            <a:off x="6507000" y="128592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82-12-5.jpg"/>
          <p:cNvPicPr/>
          <p:nvPr/>
        </p:nvPicPr>
        <p:blipFill>
          <a:blip r:embed="rId1"/>
          <a:stretch/>
        </p:blipFill>
        <p:spPr>
          <a:xfrm>
            <a:off x="1071720" y="357120"/>
            <a:ext cx="2500200" cy="357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svit.png"/>
          <p:cNvPicPr/>
          <p:nvPr/>
        </p:nvPicPr>
        <p:blipFill>
          <a:blip r:embed="rId2"/>
          <a:stretch/>
        </p:blipFill>
        <p:spPr>
          <a:xfrm>
            <a:off x="4343400" y="214200"/>
            <a:ext cx="4800600" cy="62150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5143680" y="1143000"/>
            <a:ext cx="3214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Рукописные книги многие века являлись объектом поклонения и восхищения, предметом роскоши и собир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о временем большинство из них вошли в собрания знаменитых музеев и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manuscriptIntro.gif"/>
          <p:cNvPicPr/>
          <p:nvPr/>
        </p:nvPicPr>
        <p:blipFill>
          <a:blip r:embed="rId3"/>
          <a:stretch/>
        </p:blipFill>
        <p:spPr>
          <a:xfrm>
            <a:off x="500040" y="4286160"/>
            <a:ext cx="3357720" cy="2011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e1076c30d2a9.png"/>
          <p:cNvPicPr/>
          <p:nvPr/>
        </p:nvPicPr>
        <p:blipFill>
          <a:blip r:embed="rId1"/>
          <a:stretch/>
        </p:blipFill>
        <p:spPr>
          <a:xfrm>
            <a:off x="0" y="0"/>
            <a:ext cx="52340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857160" y="714240"/>
            <a:ext cx="3571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амая древняя русская рукописная книг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«Остромирово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Евангелие»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писана в середине XI 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Более 900 лет назад мастер книжного дела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исец Григорий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ереписал это Евангелие для новгородского посадника Остроми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ейчас книга хранится в Санкт-Петербурге, в Государственной публичной библиотеке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. Е. Салтыкова-Щед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7" descr="Ostromirovo.jpg"/>
          <p:cNvPicPr/>
          <p:nvPr/>
        </p:nvPicPr>
        <p:blipFill>
          <a:blip r:embed="rId2"/>
          <a:stretch/>
        </p:blipFill>
        <p:spPr>
          <a:xfrm>
            <a:off x="5357880" y="285840"/>
            <a:ext cx="3585960" cy="2436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Начало Евангелия от Иоанна..jpg"/>
          <p:cNvPicPr/>
          <p:nvPr/>
        </p:nvPicPr>
        <p:blipFill>
          <a:blip r:embed="rId3"/>
          <a:stretch/>
        </p:blipFill>
        <p:spPr>
          <a:xfrm>
            <a:off x="5572080" y="2928960"/>
            <a:ext cx="3090960" cy="3714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14200"/>
            <a:ext cx="457200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исец Григорий писал Остромирово Евангелие почти семь меся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день он успевал написать не более 3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4286160" y="2000160"/>
            <a:ext cx="4572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здание рукописи - это тяжёлый и изнурительный труд. Рабочий день длился летом от восхода и до заката солнца, зимой же захватывали и тёмную половину дня, когда писали при свечах или луч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14200" y="4714920"/>
            <a:ext cx="471492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спешное окончание книги было праздником. Радуясь, писец оставля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онце книги, например,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ую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п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«Яко же радуется жених о невесте, тако радуется писец, видя последний лис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s_01.jpg"/>
          <p:cNvPicPr/>
          <p:nvPr/>
        </p:nvPicPr>
        <p:blipFill>
          <a:blip r:embed="rId1"/>
          <a:stretch/>
        </p:blipFill>
        <p:spPr>
          <a:xfrm>
            <a:off x="571680" y="1714680"/>
            <a:ext cx="3375000" cy="2857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b_stuart2.jpg"/>
          <p:cNvPicPr/>
          <p:nvPr/>
        </p:nvPicPr>
        <p:blipFill>
          <a:blip r:embed="rId2"/>
          <a:stretch/>
        </p:blipFill>
        <p:spPr>
          <a:xfrm>
            <a:off x="5715000" y="142920"/>
            <a:ext cx="2514600" cy="164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переплёт книги.jpg"/>
          <p:cNvPicPr/>
          <p:nvPr/>
        </p:nvPicPr>
        <p:blipFill>
          <a:blip r:embed="rId3"/>
          <a:stretch/>
        </p:blipFill>
        <p:spPr>
          <a:xfrm>
            <a:off x="5143680" y="4143240"/>
            <a:ext cx="3641400" cy="2357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42960" y="214200"/>
            <a:ext cx="8001000" cy="25333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онастыри служили основными центр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нигописания в средние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монастырской книжной мастерской царила строгая дисципл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ослушание, небрежность сажали на сухой па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хранились древние миниатюры, изображающие монахов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писчиков книг за работой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18768_p.jpg"/>
          <p:cNvPicPr/>
          <p:nvPr/>
        </p:nvPicPr>
        <p:blipFill>
          <a:blip r:embed="rId1"/>
          <a:stretch/>
        </p:blipFill>
        <p:spPr>
          <a:xfrm>
            <a:off x="285840" y="2428920"/>
            <a:ext cx="2458800" cy="3286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89.jpg"/>
          <p:cNvPicPr/>
          <p:nvPr/>
        </p:nvPicPr>
        <p:blipFill>
          <a:blip r:embed="rId2"/>
          <a:stretch/>
        </p:blipFill>
        <p:spPr>
          <a:xfrm>
            <a:off x="3143160" y="2714760"/>
            <a:ext cx="2808360" cy="3913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Escribano.jpg"/>
          <p:cNvPicPr/>
          <p:nvPr/>
        </p:nvPicPr>
        <p:blipFill>
          <a:blip r:embed="rId3"/>
          <a:stretch/>
        </p:blipFill>
        <p:spPr>
          <a:xfrm>
            <a:off x="4343400" y="3252960"/>
            <a:ext cx="457200" cy="352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1" descr="image004.jpg"/>
          <p:cNvPicPr/>
          <p:nvPr/>
        </p:nvPicPr>
        <p:blipFill>
          <a:blip r:embed="rId4"/>
          <a:stretch/>
        </p:blipFill>
        <p:spPr>
          <a:xfrm>
            <a:off x="6215040" y="2357280"/>
            <a:ext cx="2514600" cy="3575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642960" y="428760"/>
            <a:ext cx="75009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Изготовление древних рукописных книг было делом дорогим и трудоём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0" y="1643040"/>
            <a:ext cx="900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атериалом для них служил </a:t>
            </a:r>
            <a:r>
              <a:rPr b="1" lang="ru-RU" sz="2800" spc="-1" strike="noStrike">
                <a:solidFill>
                  <a:srgbClr val="0070c0"/>
                </a:solidFill>
                <a:latin typeface="Cambria"/>
              </a:rPr>
              <a:t>пергамен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или пергамент)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жа особой вы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1302.jpg"/>
          <p:cNvPicPr/>
          <p:nvPr/>
        </p:nvPicPr>
        <p:blipFill>
          <a:blip r:embed="rId1"/>
          <a:stretch/>
        </p:blipFill>
        <p:spPr>
          <a:xfrm>
            <a:off x="5643720" y="2928960"/>
            <a:ext cx="2857320" cy="31906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214200" y="3071880"/>
            <a:ext cx="5000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учший пергамен получался из мягкой, тонкой ко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ягнят и тел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Её очищали от шерсти и тщательно пром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тем натягивали на рамки, посыпали мелом и чистили пемз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14200" y="214200"/>
            <a:ext cx="86439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ыделанную кожу разрезали на прямоугольные куски и сшивали в тетради по восемь л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шитые тетради собирали в кни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зависимости от формата и количества листов, на одну книгу требовалось от 10 до 30 шкур животных – целое стадо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1000080" y="5357880"/>
            <a:ext cx="728676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о свидетельству одного из писцов, работавш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рубеже XIV-XV в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 кожу для книги было уплачено три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то время на эти деньги можно было купить три лошад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44.jpg"/>
          <p:cNvPicPr/>
          <p:nvPr/>
        </p:nvPicPr>
        <p:blipFill>
          <a:blip r:embed="rId1"/>
          <a:stretch/>
        </p:blipFill>
        <p:spPr>
          <a:xfrm>
            <a:off x="357120" y="2000160"/>
            <a:ext cx="4525920" cy="3227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переплёты древних рукописных книг.jpg"/>
          <p:cNvPicPr/>
          <p:nvPr/>
        </p:nvPicPr>
        <p:blipFill>
          <a:blip r:embed="rId2"/>
          <a:stretch/>
        </p:blipFill>
        <p:spPr>
          <a:xfrm>
            <a:off x="5143680" y="2286000"/>
            <a:ext cx="3703320" cy="25146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ostr2.jpg"/>
          <p:cNvPicPr/>
          <p:nvPr/>
        </p:nvPicPr>
        <p:blipFill>
          <a:blip r:embed="rId1"/>
          <a:stretch/>
        </p:blipFill>
        <p:spPr>
          <a:xfrm>
            <a:off x="714240" y="357120"/>
            <a:ext cx="3444840" cy="20782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92" name="Рисунок 3" descr="Начало Евангелия от Иоанна..jpg"/>
          <p:cNvPicPr/>
          <p:nvPr/>
        </p:nvPicPr>
        <p:blipFill>
          <a:blip r:embed="rId2"/>
          <a:stretch/>
        </p:blipFill>
        <p:spPr>
          <a:xfrm>
            <a:off x="785880" y="2714760"/>
            <a:ext cx="3143160" cy="3778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3" name="Прямоугольник 5"/>
          <p:cNvSpPr/>
          <p:nvPr/>
        </p:nvSpPr>
        <p:spPr>
          <a:xfrm>
            <a:off x="4714920" y="214200"/>
            <a:ext cx="4000320" cy="283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ступая к работе, писец брал стопу пергаменных листов и тщательно линовал их с помощью шиль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укописи большого формата писали в два столб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аждом столбце по 18 ст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ак написано и Остромирово Евангел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7" descr="Escribano.jpg"/>
          <p:cNvPicPr/>
          <p:nvPr/>
        </p:nvPicPr>
        <p:blipFill>
          <a:blip r:embed="rId3"/>
          <a:stretch/>
        </p:blipFill>
        <p:spPr>
          <a:xfrm>
            <a:off x="4572000" y="3286080"/>
            <a:ext cx="4086360" cy="31608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08:49:01Z</dcterms:created>
  <dc:creator>Бойкова Оксана Владимировна</dc:creator>
  <dc:description/>
  <dc:language>en-US</dc:language>
  <cp:lastModifiedBy>LEGION</cp:lastModifiedBy>
  <dcterms:modified xsi:type="dcterms:W3CDTF">2015-01-15T12:43:50Z</dcterms:modified>
  <cp:revision>73</cp:revision>
  <dc:subject/>
  <dc:title>Рукописные книги  Древней Руси (литературное чтение, 3 класс, УМК «Школа России»)</dc:title>
</cp:coreProperties>
</file>