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6E21-3F04-45F3-A0FE-8569ACF527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зычество восточны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9531-7662-4211-A3E9-321DDEDB117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ри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2116-9EA5-409B-8613-3E9774F7152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9FA4-D308-4E9B-BC60-80E9124A8A1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8862-17D0-4D58-97E9-5F7912098C6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дол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лхвами, кудес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9DA9-4BB0-4577-91E9-4C0BEE6935A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ые и добрые ду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ухи - упы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обрыми духами, оберегающими человека, являлись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гин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4ED9-8F71-4C87-9A2B-F92010A8FA6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у обита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 и баба-я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 воды жи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усал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74D1-4B4F-485A-8CF5-899D566551E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1E26-8210-4FED-8CDB-7CF07FE1677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A9B0-8087-4747-9D93-D162B57B0B6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считали, что каждый дом находится под покровительством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ов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F81D-2453-4D38-8773-D6A80D9D402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улеты, обере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34E1-ACAD-4ADC-A347-2CB20A63109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ли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уществовавшая у разных народов до принятия ими христианства или ислама,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зывается язычест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EDC7-55DB-4E10-8425-D80F7A67DF2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B3FC-F30B-4DD5-BA36-E49E9653738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6D5F-844E-4CD5-BE8E-CE59941DFEE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E39-9922-4DE0-83F6-24DC308C686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ин 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A849-25AE-4A6D-B4AC-5C1C5CEF124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Куп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1775-3588-457D-8A35-F496D621603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я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7834-BDEF-4ED4-B0BC-9C2F4BACE4C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7CBF-4AE9-4CE1-8376-057DCBEF2A0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789B-21A8-40F3-B5FF-764AB26ECED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 и боги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2AB5-F00C-48CF-84DA-04DE1B0C90E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икий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ыновья -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1CFC-0AFA-4599-AD37-DA7D9F164B5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солнц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F8C1-FCF5-4B36-91FB-178D46E70EB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ились славян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ду и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9CF0-3CA8-4A7D-ACDE-5E64478AF66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9798-EF93-470B-A30E-D294B85D802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три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их понятиям, повелевал ветрами, как древнегреческий Э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D394-74B1-4417-A468-98F016DF2ED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37F-EEE4-49F7-9F91-ECB2EEF6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C22-077C-4AE6-8DD4-43B696A1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C96-9D3A-4EC6-B717-F60EBB25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768-9925-4A25-A480-E66A56D6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E7C3-3FD8-4226-842A-1EE09789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C49A-3581-4815-9596-088565ED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4035-C97F-44DF-B267-F2ED28B5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924E-81C6-4760-8793-A4683B05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D558-586B-4706-A171-1304A27B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00C4-DA07-4D8A-8CD8-13EA9882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250E-CBD4-4AE1-8B3D-79A103ED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1E7-7E1A-48F9-9754-597EED61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8B16-B55C-4195-A74E-80C085B5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2958-F80B-4226-95F2-6AD5653B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C2EE-C928-4BB5-BC7F-374C32EA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DB93-A730-4BE3-85BD-309272B8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5721-9845-4834-8E94-B65F738A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419-1DE1-4DE6-B924-D9BEB0FA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F70-FD0E-4D35-9821-EC35A06E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3B04-4EB7-4449-8372-649EC4DC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0AF-2835-4D61-973E-4D2D634B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161-DC27-4D9F-BD90-99B0C361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9AF-F975-4A8A-92F1-E9130480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389-E938-4F87-BDB4-91E025AF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F8D3-4863-4B96-81E1-C0F61D7B9F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2E8F-9F5D-40CD-9C83-2206CE6D571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.rodolad.ru/portfolio/bogy/bogra_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4/eugenio19.1a/0_1d3eb_6c53be2b_X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41.radikal.ru/i094/0910/90/c3a1b08939c8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46280264116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project68.narod.ru/Integ/2/682/perun.gif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lumos.narod.ru/alhimia/l4_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1/e7/748cc826af96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godsbay.ru/slavs/images/slav17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8/lenuschkam.71/0_2616e_1adea0b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7148_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yfhology.narod.ru/monsters/vodyanik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081.radikal.ru/0911/5a/7b58017ebcd3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dreamsilver-taro.narod.ru/libr/metod/amulet/slav/06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ghtreiki.org/_nw/4/s34706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runes.ucoz.ru/3215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siti.net.ru/books/image/250001092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50.radikal.ru/i128/0904/e2/95cf4e5d84f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dolsk.ru/images/138822_image_large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g-fotki.yandex.ru/get/2709/lenuschkam.187/0_2a759_ed61a0f0_XL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39.photobucket.com/albums/q295/psycolorena/r9_2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.meta.ua/files/pic/0/21/119/zNivxBDWq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rely-peruna.ucoz.ru/_ph/1/2/3753769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reamworlds.ru/uploads/posts/2008-07/thumbs/1215804087_slav03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zzle.ru/spec/bogi/svarog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dless.at.ua/_ph/3/2/12995205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avyans.narod.ru/panteon/dagbog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ycu4u.clan.su/_ph/1/2/94161002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ono.ru/statii/2008/vele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11/thumbs/1225574106_stribog.a.-mazi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00080" y="1428480"/>
            <a:ext cx="56404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9af7d"/>
                </a:solidFill>
                <a:latin typeface="Arial"/>
              </a:rPr>
              <a:t>Язычество восточных славян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Ярило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5" descr="Картинка 2 из 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2619360" cy="381024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енным крупным женским божеством у славян был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Макош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Картинка 2 из 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708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Перун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5" descr="Картинка 43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429000"/>
            <a:ext cx="2212920" cy="312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Картинка 6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357720"/>
            <a:ext cx="2686320" cy="33620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идолы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лхвами, кудесникам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Картинка 118 из 7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997360"/>
            <a:ext cx="4019400" cy="37335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лые и добрые ду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ухи - упы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 добрыми духами, оберегающими человека, являлись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берегини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4" descr="Картинка 2 из 34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048120"/>
            <a:ext cx="2303280" cy="3090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1 из 3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2997360"/>
            <a:ext cx="5076720" cy="36954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лесу обита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 и баба-яга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у воды жи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усалки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7" descr="Картинка 7 из 7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68640"/>
            <a:ext cx="3868560" cy="33782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Картинка 3 из 104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2288880" cy="32335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2 из 825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97360"/>
            <a:ext cx="3149640" cy="36306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считали, что каждый дом находится под покровительством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омов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4" descr="Картинка 1 из 194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852640"/>
            <a:ext cx="2838600" cy="3810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Картинка 15 из 4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076640"/>
            <a:ext cx="2789280" cy="26258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мулеты, оберег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399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5" descr="Картинка 1 из 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284640"/>
            <a:ext cx="316692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Картинка 9 из 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3860640"/>
            <a:ext cx="4056120" cy="2853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Религия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существовавшая у разных народов до принятия ими христианства или ислама,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называется язычеством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Картинка 8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2428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5" descr="Картинка 2 из 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781360"/>
            <a:ext cx="5076720" cy="33526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аздники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5" descr="Картинка 6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4422600" cy="292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Картинка 49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437000"/>
            <a:ext cx="3289320" cy="2314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слен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9" name="Picture 5" descr="Картинка 11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997360"/>
            <a:ext cx="5076720" cy="368604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вин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Картинка 28 из 53"/>
          <p:cNvPicPr/>
          <p:nvPr/>
        </p:nvPicPr>
        <p:blipFill>
          <a:blip r:embed="rId1"/>
          <a:stretch/>
        </p:blipFill>
        <p:spPr>
          <a:xfrm>
            <a:off x="611280" y="2637000"/>
            <a:ext cx="2874960" cy="2874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Картинка 47 из 629"/>
          <p:cNvPicPr/>
          <p:nvPr/>
        </p:nvPicPr>
        <p:blipFill>
          <a:blip r:embed="rId2"/>
          <a:stretch/>
        </p:blipFill>
        <p:spPr>
          <a:xfrm>
            <a:off x="4356000" y="4221000"/>
            <a:ext cx="3156120" cy="24051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ван Куп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8" name="Picture 9" descr="Картинка 12 из 2243"/>
          <p:cNvPicPr/>
          <p:nvPr/>
        </p:nvPicPr>
        <p:blipFill>
          <a:blip r:embed="rId1"/>
          <a:stretch/>
        </p:blipFill>
        <p:spPr>
          <a:xfrm>
            <a:off x="1476360" y="3500280"/>
            <a:ext cx="5076720" cy="324828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Картинка 3 из 2243"/>
          <p:cNvPicPr/>
          <p:nvPr/>
        </p:nvPicPr>
        <p:blipFill>
          <a:blip r:embed="rId1"/>
          <a:stretch/>
        </p:blipFill>
        <p:spPr>
          <a:xfrm>
            <a:off x="324000" y="476280"/>
            <a:ext cx="3289320" cy="2381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Картинка 27 из 2243"/>
          <p:cNvPicPr/>
          <p:nvPr/>
        </p:nvPicPr>
        <p:blipFill>
          <a:blip r:embed="rId2"/>
          <a:stretch/>
        </p:blipFill>
        <p:spPr>
          <a:xfrm>
            <a:off x="2340000" y="3357720"/>
            <a:ext cx="5076720" cy="273348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бря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Picture 5" descr="Картинка 4 из 30"/>
          <p:cNvPicPr/>
          <p:nvPr/>
        </p:nvPicPr>
        <p:blipFill>
          <a:blip r:embed="rId1"/>
          <a:stretch/>
        </p:blipFill>
        <p:spPr>
          <a:xfrm>
            <a:off x="324000" y="3573360"/>
            <a:ext cx="3911400" cy="282420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4" descr="Картинка 8 из 637"/>
          <p:cNvPicPr/>
          <p:nvPr/>
        </p:nvPicPr>
        <p:blipFill>
          <a:blip r:embed="rId1"/>
          <a:stretch/>
        </p:blipFill>
        <p:spPr>
          <a:xfrm>
            <a:off x="1692360" y="2708280"/>
            <a:ext cx="5076720" cy="3105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исхождение славя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399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5" descr="Картинка 11 из 2410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481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оги и боги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326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5" descr="Картинка 13 из 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3029040" cy="3810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Картинка 8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3459240" cy="27669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еликий Сварог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сыновья - Сварожичи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5" descr="Картинка 10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24280"/>
            <a:ext cx="2857320" cy="318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2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705040" cy="38098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солнц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аждь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Картинка 15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284640"/>
            <a:ext cx="3228840" cy="25336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Молились славяне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оду и роженицам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5" descr="Картинка 1 из 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85264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Велес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Картинка 2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78136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Стри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по их понятиям, повелевал ветрами, как древнегреческий Эо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5" descr="Картинка 2 из 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565360"/>
            <a:ext cx="458172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07:58Z</dcterms:created>
  <dc:creator>домашний</dc:creator>
  <dc:description/>
  <dc:language>en-US</dc:language>
  <cp:lastModifiedBy>LEGION</cp:lastModifiedBy>
  <dcterms:modified xsi:type="dcterms:W3CDTF">2015-01-15T12:32:08Z</dcterms:modified>
  <cp:revision>21</cp:revision>
  <dc:subject/>
  <dc:title>Слайд 1</dc:title>
</cp:coreProperties>
</file>