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53F4-6D4F-400E-8706-59171E2F6E0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Николая Васильевич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Овчинникова В. 9-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ла: Праушкина Л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070F-1741-4AF9-B99C-AA923C9C92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A488-0D37-47B6-B986-B752718021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CDB9-FE2B-4A2E-801D-B37B120EEBF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A176-C49D-4878-8100-AB49714B914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116C-D9AF-4342-B215-A432915989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46FB-4421-4C67-8BDD-04FADA4F427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над «Мертвыми душам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77CD-C069-48FF-B361-0CB11D496DE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5D0B-6A11-4E28-A8DE-411F682F6D2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9258-0786-44EE-930E-0EAE8DA342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17B-0371-4C5B-BA13-2A9F6311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D82-BD87-4AF7-BBAF-D9E8F583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FEE-F571-4D23-AEB8-8FF12447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F24-D85A-4CEA-9842-B00E74F6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350-5FBD-4BB0-91BD-21E4CEA2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CF49-2201-45A1-AF43-3EBFE677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9C74-642C-4E66-9633-E4B069CD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B3F5-B153-44F2-AD4A-848E5213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696-06B9-4F4A-BDAC-66E999A0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025-953C-4582-B530-C353FD3D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7950-6E61-4F76-B6FE-138C8F37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6162-E588-4646-AE51-ED05069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7F22-A26A-4884-8433-E052924377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ворчество Николая Васильевича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Овчинникова В. 9-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а: Праушкина Л. 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Гоголь"/>
          <p:cNvPicPr/>
          <p:nvPr/>
        </p:nvPicPr>
        <p:blipFill>
          <a:blip r:embed="rId1"/>
          <a:stretch/>
        </p:blipFill>
        <p:spPr>
          <a:xfrm>
            <a:off x="3286080" y="1785960"/>
            <a:ext cx="2460600" cy="315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ограф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гоголь 1"/>
          <p:cNvPicPr/>
          <p:nvPr/>
        </p:nvPicPr>
        <p:blipFill>
          <a:blip r:embed="rId1"/>
          <a:stretch/>
        </p:blipFill>
        <p:spPr>
          <a:xfrm>
            <a:off x="5003640" y="2060640"/>
            <a:ext cx="2833920" cy="38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29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Гоголь"/>
          <p:cNvPicPr/>
          <p:nvPr/>
        </p:nvPicPr>
        <p:blipFill>
          <a:blip r:embed="rId1"/>
          <a:stretch/>
        </p:blipFill>
        <p:spPr>
          <a:xfrm>
            <a:off x="5076720" y="2133720"/>
            <a:ext cx="3313080" cy="424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14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гоголь 3"/>
          <p:cNvPicPr/>
          <p:nvPr/>
        </p:nvPicPr>
        <p:blipFill>
          <a:blip r:embed="rId1"/>
          <a:stretch/>
        </p:blipFill>
        <p:spPr>
          <a:xfrm>
            <a:off x="5003640" y="692280"/>
            <a:ext cx="3916440" cy="535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бота над «Мертвыми душам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7880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гоголь 5"/>
          <p:cNvPicPr/>
          <p:nvPr/>
        </p:nvPicPr>
        <p:blipFill>
          <a:blip r:embed="rId1"/>
          <a:stretch/>
        </p:blipFill>
        <p:spPr>
          <a:xfrm>
            <a:off x="5003640" y="476280"/>
            <a:ext cx="308772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60280"/>
            <a:ext cx="464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ь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гоголь 7"/>
          <p:cNvPicPr/>
          <p:nvPr/>
        </p:nvPicPr>
        <p:blipFill>
          <a:blip r:embed="rId1"/>
          <a:stretch/>
        </p:blipFill>
        <p:spPr>
          <a:xfrm>
            <a:off x="4859280" y="1413000"/>
            <a:ext cx="318312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23:50Z</dcterms:created>
  <dc:creator>с</dc:creator>
  <dc:description/>
  <dc:language>en-US</dc:language>
  <cp:lastModifiedBy>LEGION</cp:lastModifiedBy>
  <dcterms:modified xsi:type="dcterms:W3CDTF">2015-01-20T07:56:43Z</dcterms:modified>
  <cp:revision>7</cp:revision>
  <dc:subject/>
  <dc:title>Творчество Николая Васильевича Гоголя</dc:title>
</cp:coreProperties>
</file>