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1D8C-FDE6-43DA-AEB5-C2CB58F02B3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Николая Васильевич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Овчинникова В. 9-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ла: Праушкина Л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584A-A2C7-489D-8E3B-D8A08DC399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B5D4-71E8-478A-9861-A5D4B30E37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33E4-DB37-4C33-B7F4-E0B1745627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5A07-0C39-4FC9-96C1-4CFCDFF937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A72B-EBD1-44FF-A051-36DBB61EA8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F14F-1DF6-4784-B228-E5A88275AD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над «Мертвыми душам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502B-615E-405D-BC6B-BB0D75A5C2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29D8-2988-4E1F-A57E-2A4FFDAA74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CC2-297A-4B98-B929-02726804DF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CD7-D27A-4FA4-9478-99593995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FFD-57E7-43D5-BB0E-4093B09D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394-A04C-4B88-947B-42BB487D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2E9-D0E0-45CE-9374-690B4E94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A90-7003-4914-8EEB-E148C0CA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6F3-A520-47ED-80A4-112073C5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105-DFF4-4096-A88B-B8558C04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2B9-86ED-4D1B-A7A5-1A8CA945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1FA-C8AF-4FA7-818B-38A58992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E85-9CB7-496A-8539-02C1054B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A65-91DA-4340-868F-CA12C183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409-C0C1-4722-B29F-4467AC9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20BA-DE25-4A2D-9FCC-B4293C3360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ворчество Николая Васильевича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Овчинникова В. 9-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Праушкина Л.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Гоголь"/>
          <p:cNvPicPr/>
          <p:nvPr/>
        </p:nvPicPr>
        <p:blipFill>
          <a:blip r:embed="rId1"/>
          <a:stretch/>
        </p:blipFill>
        <p:spPr>
          <a:xfrm>
            <a:off x="3286080" y="1785960"/>
            <a:ext cx="2460600" cy="315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гоголь 1"/>
          <p:cNvPicPr/>
          <p:nvPr/>
        </p:nvPicPr>
        <p:blipFill>
          <a:blip r:embed="rId1"/>
          <a:stretch/>
        </p:blipFill>
        <p:spPr>
          <a:xfrm>
            <a:off x="5003640" y="2060640"/>
            <a:ext cx="2833920" cy="38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29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Гоголь"/>
          <p:cNvPicPr/>
          <p:nvPr/>
        </p:nvPicPr>
        <p:blipFill>
          <a:blip r:embed="rId1"/>
          <a:stretch/>
        </p:blipFill>
        <p:spPr>
          <a:xfrm>
            <a:off x="5076720" y="2133720"/>
            <a:ext cx="3313080" cy="424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14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гоголь 3"/>
          <p:cNvPicPr/>
          <p:nvPr/>
        </p:nvPicPr>
        <p:blipFill>
          <a:blip r:embed="rId1"/>
          <a:stretch/>
        </p:blipFill>
        <p:spPr>
          <a:xfrm>
            <a:off x="5003640" y="692280"/>
            <a:ext cx="3916440" cy="535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бота над «Мертвыми душам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788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гоголь 5"/>
          <p:cNvPicPr/>
          <p:nvPr/>
        </p:nvPicPr>
        <p:blipFill>
          <a:blip r:embed="rId1"/>
          <a:stretch/>
        </p:blipFill>
        <p:spPr>
          <a:xfrm>
            <a:off x="5003640" y="476280"/>
            <a:ext cx="308772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60280"/>
            <a:ext cx="464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ь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гоголь 7"/>
          <p:cNvPicPr/>
          <p:nvPr/>
        </p:nvPicPr>
        <p:blipFill>
          <a:blip r:embed="rId1"/>
          <a:stretch/>
        </p:blipFill>
        <p:spPr>
          <a:xfrm>
            <a:off x="4859280" y="1413000"/>
            <a:ext cx="31831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23:50Z</dcterms:created>
  <dc:creator>с</dc:creator>
  <dc:description/>
  <dc:language>en-US</dc:language>
  <cp:lastModifiedBy>LEGION</cp:lastModifiedBy>
  <dcterms:modified xsi:type="dcterms:W3CDTF">2015-01-20T07:56:43Z</dcterms:modified>
  <cp:revision>7</cp:revision>
  <dc:subject/>
  <dc:title>Творчество Николая Васильевича Гоголя</dc:title>
</cp:coreProperties>
</file>