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5B71-8BFE-4D73-998D-81F3E3EE15C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Николая Васильевич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Овчинникова В. 9-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ла: Праушкина Л.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712C-813E-41C9-821F-258BF4120FC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15C4-D435-4EE8-A502-73B2377DF6C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F303-10C9-488E-9CF5-888ED7793E1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B3D0-B8E4-43BA-B342-61488BDD66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E8D8-A434-4776-8FEB-28E2660CCB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C802-72B8-4BF8-9AD9-AEEF2409707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над «Мертвыми душам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5A5C-2A70-4777-A0E0-DEFC7A2F6C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2706-5432-4B81-A2C4-22E4B3EB508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718A-0BC0-4076-B541-76B768B6BA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0F7-75D1-4708-9048-86F5C66A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981-488A-45F8-B200-B7309647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46D-A7EE-4F7F-9DF2-3C3AFBB3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A9DB-E98A-405C-9DBA-69992E96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A77-3308-44F1-91A2-66F4BE99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6AA5-AC76-4541-BD42-6810FC66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F5E-1717-4DC0-8C59-54FAD9B9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C7D-8769-4FA4-93B2-DA4EB2B4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105-8FB0-4444-9831-5FD44F8F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2D8-7165-4F01-8F2D-14D9761D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DA5-2056-40CE-B6D8-AA532702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3419-9D98-4866-9779-7F97F07B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839D-3CF8-4325-84CF-CD1F28AF85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ворчество Николая Васильевича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: Овчинникова В. 9-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ила: Праушкина Л. 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7" descr="Гоголь"/>
          <p:cNvPicPr/>
          <p:nvPr/>
        </p:nvPicPr>
        <p:blipFill>
          <a:blip r:embed="rId1"/>
          <a:stretch/>
        </p:blipFill>
        <p:spPr>
          <a:xfrm>
            <a:off x="3286080" y="1785960"/>
            <a:ext cx="2460600" cy="3154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ограф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гоголь 1"/>
          <p:cNvPicPr/>
          <p:nvPr/>
        </p:nvPicPr>
        <p:blipFill>
          <a:blip r:embed="rId1"/>
          <a:stretch/>
        </p:blipFill>
        <p:spPr>
          <a:xfrm>
            <a:off x="5003640" y="2060640"/>
            <a:ext cx="2833920" cy="38163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ем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разо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29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7" descr="Гоголь"/>
          <p:cNvPicPr/>
          <p:nvPr/>
        </p:nvPicPr>
        <p:blipFill>
          <a:blip r:embed="rId1"/>
          <a:stretch/>
        </p:blipFill>
        <p:spPr>
          <a:xfrm>
            <a:off x="5076720" y="2133720"/>
            <a:ext cx="3313080" cy="424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5148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7" descr="гоголь 3"/>
          <p:cNvPicPr/>
          <p:nvPr/>
        </p:nvPicPr>
        <p:blipFill>
          <a:blip r:embed="rId1"/>
          <a:stretch/>
        </p:blipFill>
        <p:spPr>
          <a:xfrm>
            <a:off x="5003640" y="692280"/>
            <a:ext cx="3916440" cy="5351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абота над «Мертвыми душами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7880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7" descr="гоголь 5"/>
          <p:cNvPicPr/>
          <p:nvPr/>
        </p:nvPicPr>
        <p:blipFill>
          <a:blip r:embed="rId1"/>
          <a:stretch/>
        </p:blipFill>
        <p:spPr>
          <a:xfrm>
            <a:off x="5003640" y="476280"/>
            <a:ext cx="3087720" cy="48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0720" y="260280"/>
            <a:ext cx="4643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мерть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44956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7" descr="гоголь 7"/>
          <p:cNvPicPr/>
          <p:nvPr/>
        </p:nvPicPr>
        <p:blipFill>
          <a:blip r:embed="rId1"/>
          <a:stretch/>
        </p:blipFill>
        <p:spPr>
          <a:xfrm>
            <a:off x="4859280" y="1413000"/>
            <a:ext cx="3183120" cy="468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23:50Z</dcterms:created>
  <dc:creator>с</dc:creator>
  <dc:description/>
  <dc:language>en-US</dc:language>
  <cp:lastModifiedBy>LEGION</cp:lastModifiedBy>
  <dcterms:modified xsi:type="dcterms:W3CDTF">2015-01-20T07:56:43Z</dcterms:modified>
  <cp:revision>7</cp:revision>
  <dc:subject/>
  <dc:title>Творчество Николая Васильевича Гоголя</dc:title>
</cp:coreProperties>
</file>