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084C-5C3C-43BC-A2AC-590536C4F7F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Николая Васильевича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а: Овчинникова В. 9-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ила: Праушкина Л.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7C70-FE5D-4856-8D1B-472B176F3D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гра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9CA3-E147-4FCF-B93B-CAED6103E6A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EA61-77EC-4738-B5E0-05EFD3399A4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170D-8771-4A90-92F7-73A5EEEBD5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BB28-FE97-4D58-AE12-91F9B5B7ACC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526A-C417-4FBF-AF8B-830659513F4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бота над «Мертвыми душам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3D4F-AC23-4FA5-AE1E-1D352C222CD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403-AB70-4463-B097-6A2134B81F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382B-23D6-4538-AC67-555177D44D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1ED7-AD09-416C-82E3-7B4E7DCD1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620-F61A-4664-8E9C-331F8A18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AC4-4AF8-48AD-939F-49B69ABC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76D8-7572-492E-9D75-D23C07C5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8646-09E2-4CFE-B8E7-459D4545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8A4-67F3-4940-89AD-9A66FCFB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8AC-E0AC-4155-946E-BFCB5C14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154-FF04-457E-B539-A8F42895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74A-6301-4603-8A86-964CB42D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CEE-FF16-4E12-99FB-DF9CEAFD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9BA-0DFA-4FC9-9677-361CD64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29A-824C-4A98-992F-0BA98A51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8A9F-5FBC-4439-9725-C68A2703A1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ворчество Николая Васильевича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28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а: Овчинникова В. 9-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ерила: Праушкина Л. 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7" descr="Гоголь"/>
          <p:cNvPicPr/>
          <p:nvPr/>
        </p:nvPicPr>
        <p:blipFill>
          <a:blip r:embed="rId1"/>
          <a:stretch/>
        </p:blipFill>
        <p:spPr>
          <a:xfrm>
            <a:off x="3286080" y="1785960"/>
            <a:ext cx="2460600" cy="3154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иограф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оголь Николай Васильевич родился 20 марта (1 апреля) 1809, происходил из помещичьей семьи среднего достатка: у Гоголей было около 400 душ крепостных и свыше 1000 десятин земл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7" descr="гоголь 1"/>
          <p:cNvPicPr/>
          <p:nvPr/>
        </p:nvPicPr>
        <p:blipFill>
          <a:blip r:embed="rId1"/>
          <a:stretch/>
        </p:blipFill>
        <p:spPr>
          <a:xfrm>
            <a:off x="5003640" y="2060640"/>
            <a:ext cx="2833920" cy="381636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емь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ец, Василий Афанасьевич, служил при Малороссийском почтамте. Мать, Марья Ивановна, происходившая из помещичьей семьи Косяровских, была первой красавицей на Полтавщине В семье, помимо Николая, было еще пятеро детей. Детские годы будущий писатель провел в родном имении Васильевке (другое название Яновщина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бразо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529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начале Гоголь учился в Полтавском уездном училище, потом брал частные уроки у полтавского учителя Гавриила Сорочинского, проживая у него на квартире, а в мае 1821 поступил в только что основанную Нежинскую гимназию высших наук. Учился Гоголь довольно средне, зато отличался в гимназическом театре как актер и декоратор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7" descr="Гоголь"/>
          <p:cNvPicPr/>
          <p:nvPr/>
        </p:nvPicPr>
        <p:blipFill>
          <a:blip r:embed="rId1"/>
          <a:stretch/>
        </p:blipFill>
        <p:spPr>
          <a:xfrm>
            <a:off x="5076720" y="2133720"/>
            <a:ext cx="3313080" cy="424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енью 1831 года выходит 1-я часть сборника повестей из украинской жизни "Вечера на хуторе близ Диканьки" восторженно встреченная  Пушкиным. Вместе с тем "веселость" гоголевской книги обнаруживала различные оттенки от беззаботного подтрунивания до мрачного комизма, близкого к черному юмору. При всей полноте и искренности чувств гоголевских персонажей мир, в котором они живут, трагически конфликтен: происходит расторжение природных и родственных связей, в естественный порядок вещей вторгаются таинственные ирреальные силы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514836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835 год необычаен по творческой интенсивности и широте гоголевских замыслов. В этот год выходят следующие два сборника прозаических произведений "Арабески" и "Миргород" (оба в двух частях); начата работа над поэмой "Мертвые души", закончена в основном комедия "Ревизор", написана первая редакция комедии "Женихи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7" descr="гоголь 3"/>
          <p:cNvPicPr/>
          <p:nvPr/>
        </p:nvPicPr>
        <p:blipFill>
          <a:blip r:embed="rId1"/>
          <a:stretch/>
        </p:blipFill>
        <p:spPr>
          <a:xfrm>
            <a:off x="5003640" y="692280"/>
            <a:ext cx="3916440" cy="5351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абота над «Мертвыми душами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тель жил в Германии, Швейцарии, Франции, Австрии, Чехии, но дольше всего в Италии, продолжая работу над "Мертвыми душами", сюжет которых был подсказан ему Пушкиным. Свойственная Гоголю обобщенность масштаба получала теперь пространственное выражение: по мере развития чичиковской аферы (покупка "ревизских душ" умерших людей) русская жизнь должна была раскрыться многообразно не только со стороны "низменных рядов ее", но и в более высоких, значительных проявлениях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47880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выхода первого тома (1842) работа над вторым томом (начатым еще в 1840) протекала особенно напряженно и мучительно. Летом 1845 в тяжелом душевном состоянии Гоголь сжигает рукопись этого тома, объясняя позднее свое решение тем, что "пути и дороги" к идеалу, возрождению человеческого духа не получили достаточно убедительного выраж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7" descr="гоголь 5"/>
          <p:cNvPicPr/>
          <p:nvPr/>
        </p:nvPicPr>
        <p:blipFill>
          <a:blip r:embed="rId1"/>
          <a:stretch/>
        </p:blipFill>
        <p:spPr>
          <a:xfrm>
            <a:off x="5003640" y="476280"/>
            <a:ext cx="3087720" cy="48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00720" y="260280"/>
            <a:ext cx="464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мерть Гогол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44956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ние дни жизни Гоголь проводит в чрезвычайно строгом посте и молитве. 21 февраля утром 1852 умирает в своей последней московской квартире в доме Талызи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мерть Гоголя вызвала в русском обществе глубокое потрясение. От университетского домового храма Св. мученицы Татианы, где отпевали писателя, до места погребения гроб несли профессора и студенты университе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7" descr="гоголь 7"/>
          <p:cNvPicPr/>
          <p:nvPr/>
        </p:nvPicPr>
        <p:blipFill>
          <a:blip r:embed="rId1"/>
          <a:stretch/>
        </p:blipFill>
        <p:spPr>
          <a:xfrm>
            <a:off x="4859280" y="1413000"/>
            <a:ext cx="3183120" cy="468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3:23:50Z</dcterms:created>
  <dc:creator>с</dc:creator>
  <dc:description/>
  <dc:language>en-US</dc:language>
  <cp:lastModifiedBy>LEGION</cp:lastModifiedBy>
  <dcterms:modified xsi:type="dcterms:W3CDTF">2015-01-20T07:56:43Z</dcterms:modified>
  <cp:revision>7</cp:revision>
  <dc:subject/>
  <dc:title>Творчество Николая Васильевича Гоголя</dc:title>
</cp:coreProperties>
</file>