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B23E-C2C4-44B3-97F2-A3C03BC0B73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Николая Васильевич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Овчинникова В. 9-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ла: Праушкина Л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2E65-693D-4477-BCCC-6219594BF5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883B-ACEA-48B1-9AE9-89B6D30CD4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6B90-5280-46C5-A564-72F682307D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C31F-D59C-444E-8AEB-789FC56B4E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1FEA-3DAB-4C8D-BE8A-1DD000AB2B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C0BF-4F44-45C9-B5BD-F5C1320F0B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над «Мертвыми душам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8030-4808-4294-B554-E839977C3A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39F0-3DAD-40AC-959F-2E29D385CD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A720-5168-4B4F-872D-E4708900B8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647-0651-44DB-8E35-A06CC7F7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FCF-57BC-48F5-8E3E-7DBFB201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281-4288-4058-8EB8-F82D695A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77D-D8BD-4165-A30F-796E05D5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485-2A30-494C-AA75-C9BDA42E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081-E976-452D-B651-B336E474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94E-6D23-40DA-AAD0-5848D545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F2E-227E-4894-A0C3-C512EED5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7EC-B6DC-46CD-AE32-31B54256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A11-2F90-4989-BB62-8B76C58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CA2-607F-4E06-8113-0C0785EE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CE5-D6F3-4A61-81F0-53742DE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7463-37AB-4443-ACF2-54E3052E35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ворчество Николая Васильевича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Овчинникова В. 9-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Праушкина Л.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Гоголь"/>
          <p:cNvPicPr/>
          <p:nvPr/>
        </p:nvPicPr>
        <p:blipFill>
          <a:blip r:embed="rId1"/>
          <a:stretch/>
        </p:blipFill>
        <p:spPr>
          <a:xfrm>
            <a:off x="3286080" y="1785960"/>
            <a:ext cx="2460600" cy="315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гоголь 1"/>
          <p:cNvPicPr/>
          <p:nvPr/>
        </p:nvPicPr>
        <p:blipFill>
          <a:blip r:embed="rId1"/>
          <a:stretch/>
        </p:blipFill>
        <p:spPr>
          <a:xfrm>
            <a:off x="5003640" y="2060640"/>
            <a:ext cx="2833920" cy="38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29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Гоголь"/>
          <p:cNvPicPr/>
          <p:nvPr/>
        </p:nvPicPr>
        <p:blipFill>
          <a:blip r:embed="rId1"/>
          <a:stretch/>
        </p:blipFill>
        <p:spPr>
          <a:xfrm>
            <a:off x="5076720" y="2133720"/>
            <a:ext cx="3313080" cy="424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14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гоголь 3"/>
          <p:cNvPicPr/>
          <p:nvPr/>
        </p:nvPicPr>
        <p:blipFill>
          <a:blip r:embed="rId1"/>
          <a:stretch/>
        </p:blipFill>
        <p:spPr>
          <a:xfrm>
            <a:off x="5003640" y="692280"/>
            <a:ext cx="3916440" cy="535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бота над «Мертвыми душам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788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гоголь 5"/>
          <p:cNvPicPr/>
          <p:nvPr/>
        </p:nvPicPr>
        <p:blipFill>
          <a:blip r:embed="rId1"/>
          <a:stretch/>
        </p:blipFill>
        <p:spPr>
          <a:xfrm>
            <a:off x="5003640" y="476280"/>
            <a:ext cx="308772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60280"/>
            <a:ext cx="464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ь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гоголь 7"/>
          <p:cNvPicPr/>
          <p:nvPr/>
        </p:nvPicPr>
        <p:blipFill>
          <a:blip r:embed="rId1"/>
          <a:stretch/>
        </p:blipFill>
        <p:spPr>
          <a:xfrm>
            <a:off x="4859280" y="1413000"/>
            <a:ext cx="31831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23:50Z</dcterms:created>
  <dc:creator>с</dc:creator>
  <dc:description/>
  <dc:language>en-US</dc:language>
  <cp:lastModifiedBy>LEGION</cp:lastModifiedBy>
  <dcterms:modified xsi:type="dcterms:W3CDTF">2015-01-20T07:56:43Z</dcterms:modified>
  <cp:revision>7</cp:revision>
  <dc:subject/>
  <dc:title>Творчество Николая Васильевича Гоголя</dc:title>
</cp:coreProperties>
</file>