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946F7-F2F8-4EFE-A2B0-B880CC877326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ворчество Николая Васильевича Гого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олнила: Овчинникова В. 9-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рила: Праушкина Л. 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A1CBE-B08A-4E5E-847E-14BC78CE9DDB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ограф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голь Николай Васильевич родился 20 марта (1 апреля) 1809, происходил из помещичьей семьи среднего достатка: у Гоголей было около 400 душ крепостных и свыше 1000 десятин земл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A1081-95E9-4CEE-A750-944064E86629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м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ец, Василий Афанасьевич, служил при Малороссийском почтамте. Мать, Марья Ивановна, происходившая из помещичьей семьи Косяровских, была первой красавицей на Полтавщине В семье, помимо Николая, было еще пятеро детей. Детские годы будущий писатель провел в родном имении Васильевке (другое название Яновщина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D7F47-DB10-4D16-8215-C16A119A18BA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з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ачале Гоголь учился в Полтавском уездном училище, потом брал частные уроки у полтавского учителя Гавриила Сорочинского, проживая у него на квартире, а в мае 1821 поступил в только что основанную Нежинскую гимназию высших наук. Учился Гоголь довольно средне, зато отличался в гимназическом театре как актер и декоратор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F12BA-4AED-427D-8A99-5C9572D4F0E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енью 1831 года выходит 1-я часть сборника повестей из украинской жизни "Вечера на хуторе близ Диканьки" восторженно встреченная  Пушкиным. Вместе с тем "веселость" гоголевской книги обнаруживала различные оттенки от беззаботного подтрунивания до мрачного комизма, близкого к черному юмору. При всей полноте и искренности чувств гоголевских персонажей мир, в котором они живут, трагически конфликтен: происходит расторжение природных и родственных связей, в естественный порядок вещей вторгаются таинственные ирреальные сил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E85D3-9B98-4786-BCAD-AFB2DD803359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835 год необычаен по творческой интенсивности и широте гоголевских замыслов. В этот год выходят следующие два сборника прозаических произведений "Арабески" и "Миргород" (оба в двух частях); начата работа над поэмой "Мертвые души", закончена в основном комедия "Ревизор", написана первая редакция комедии "Женихи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D1529-7E93-4E6F-90A5-540CAF4A180E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бота над «Мертвыми душами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исатель жил в Германии, Швейцарии, Франции, Австрии, Чехии, но дольше всего в Италии, продолжая работу над "Мертвыми душами", сюжет которых был подсказан ему Пушкиным. Свойственная Гоголю обобщенность масштаба получала теперь пространственное выражение: по мере развития чичиковской аферы (покупка "ревизских душ" умерших людей) русская жизнь должна была раскрыться многообразно не только со стороны "низменных рядов ее", но и в более высоких, значительных проявления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41B2A-7A09-4F65-B8B5-CF41D2A4439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 выхода первого тома (1842) работа над вторым томом (начатым еще в 1840) протекала особенно напряженно и мучительно. Летом 1845 в тяжелом душевном состоянии Гоголь сжигает рукопись этого тома, объясняя позднее свое решение тем, что "пути и дороги" к идеалу, возрождению человеческого духа не получили достаточно убедительного выраж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42836-D78F-44E4-BB76-E84A9C3DBB94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мерть Гого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дние дни жизни Гоголь проводит в чрезвычайно строгом посте и молитве. 21 февраля утром 1852 умирает в своей последней московской квартире в доме Талызин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мерть Гоголя вызвала в русском обществе глубокое потрясение. От университетского домового храма Св. мученицы Татианы, где отпевали писателя, до места погребения гроб несли профессора и студенты университе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4A3B2-50D8-4E09-91DC-5FCE81B862D4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D706-8F1A-4DD9-940D-6100EBA1A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0FD4-E741-4149-9A0A-F3E50C5D6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4600-D452-4806-A708-E75319599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77F0-5E4E-4A94-87DE-88422E951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00A7-43CC-4704-A646-FF6214E87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9DD3-3322-41E6-A50F-5303F2514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E501-2D29-44F5-8FB7-CF775FF65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BD85-59DB-4E38-B2D3-97167512F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D8B2-7F56-40EA-9778-66DD31EC4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DA03-063C-4F22-86EA-E07956FE3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7804-A881-4A6A-B03C-895B2080D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3A8A-2EBE-490D-8B16-E5F497E88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D176E-12C8-4A8E-A6C8-7E1A05F99BF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2960" y="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Творчество Николая Васильевича Гогол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2884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ыполнила: Овчинникова В. 9-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оверила: Праушкина Л. 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0" name="Picture 7" descr="Гоголь"/>
          <p:cNvPicPr/>
          <p:nvPr/>
        </p:nvPicPr>
        <p:blipFill>
          <a:blip r:embed="rId1"/>
          <a:stretch/>
        </p:blipFill>
        <p:spPr>
          <a:xfrm>
            <a:off x="3286080" y="1785960"/>
            <a:ext cx="2460600" cy="31543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Биографи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оголь Николай Васильевич родился 20 марта (1 апреля) 1809, происходил из помещичьей семьи среднего достатка: у Гоголей было около 400 душ крепостных и свыше 1000 десятин земл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3" name="Picture 7" descr="гоголь 1"/>
          <p:cNvPicPr/>
          <p:nvPr/>
        </p:nvPicPr>
        <p:blipFill>
          <a:blip r:embed="rId1"/>
          <a:stretch/>
        </p:blipFill>
        <p:spPr>
          <a:xfrm>
            <a:off x="5003640" y="2060640"/>
            <a:ext cx="2833920" cy="3816360"/>
          </a:xfrm>
          <a:prstGeom prst="rect">
            <a:avLst/>
          </a:prstGeom>
          <a:ln w="57240">
            <a:solidFill>
              <a:srgbClr val="00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Семь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тец, Василий Афанасьевич, служил при Малороссийском почтамте. Мать, Марья Ивановна, происходившая из помещичьей семьи Косяровских, была первой красавицей на Полтавщине В семье, помимо Николая, было еще пятеро детей. Детские годы будущий писатель провел в родном имении Васильевке (другое название Яновщина)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Образование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5292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начале Гоголь учился в Полтавском уездном училище, потом брал частные уроки у полтавского учителя Гавриила Сорочинского, проживая у него на квартире, а в мае 1821 поступил в только что основанную Нежинскую гимназию высших наук. Учился Гоголь довольно средне, зато отличался в гимназическом театре как актер и декоратор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8" name="Picture 7" descr="Гоголь"/>
          <p:cNvPicPr/>
          <p:nvPr/>
        </p:nvPicPr>
        <p:blipFill>
          <a:blip r:embed="rId1"/>
          <a:stretch/>
        </p:blipFill>
        <p:spPr>
          <a:xfrm>
            <a:off x="5076720" y="2133720"/>
            <a:ext cx="3313080" cy="4248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сенью 1831 года выходит 1-я часть сборника повестей из украинской жизни "Вечера на хуторе близ Диканьки" восторженно встреченная  Пушкиным. Вместе с тем "веселость" гоголевской книги обнаруживала различные оттенки от беззаботного подтрунивания до мрачного комизма, близкого к черному юмору. При всей полноте и искренности чувств гоголевских персонажей мир, в котором они живут, трагически конфликтен: происходит расторжение природных и родственных связей, в естественный порядок вещей вторгаются таинственные ирреальные силы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-360" y="259920"/>
            <a:ext cx="514836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835 год необычаен по творческой интенсивности и широте гоголевских замыслов. В этот год выходят следующие два сборника прозаических произведений "Арабески" и "Миргород" (оба в двух частях); начата работа над поэмой "Мертвые души", закончена в основном комедия "Ревизор", написана первая редакция комедии "Женихи"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1" name="Picture 7" descr="гоголь 3"/>
          <p:cNvPicPr/>
          <p:nvPr/>
        </p:nvPicPr>
        <p:blipFill>
          <a:blip r:embed="rId1"/>
          <a:stretch/>
        </p:blipFill>
        <p:spPr>
          <a:xfrm>
            <a:off x="5003640" y="692280"/>
            <a:ext cx="3916440" cy="53514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Работа над «Мертвыми душами»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исатель жил в Германии, Швейцарии, Франции, Австрии, Чехии, но дольше всего в Италии, продолжая работу над "Мертвыми душами", сюжет которых был подсказан ему Пушкиным. Свойственная Гоголю обобщенность масштаба получала теперь пространственное выражение: по мере развития чичиковской аферы (покупка "ревизских душ" умерших людей) русская жизнь должна была раскрыться многообразно не только со стороны "низменных рядов ее", но и в более высоких, значительных проявлениях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0" y="260280"/>
            <a:ext cx="4788000" cy="585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сле выхода первого тома (1842) работа над вторым томом (начатым еще в 1840) протекала особенно напряженно и мучительно. Летом 1845 в тяжелом душевном состоянии Гоголь сжигает рукопись этого тома, объясняя позднее свое решение тем, что "пути и дороги" к идеалу, возрождению человеческого духа не получили достаточно убедительного выражения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5" name="Picture 7" descr="гоголь 5"/>
          <p:cNvPicPr/>
          <p:nvPr/>
        </p:nvPicPr>
        <p:blipFill>
          <a:blip r:embed="rId1"/>
          <a:stretch/>
        </p:blipFill>
        <p:spPr>
          <a:xfrm>
            <a:off x="5003640" y="476280"/>
            <a:ext cx="3087720" cy="48243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00720" y="260280"/>
            <a:ext cx="46432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Смерть Гогол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0"/>
            <a:ext cx="4495680" cy="645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следние дни жизни Гоголь проводит в чрезвычайно строгом посте и молитве. 21 февраля утром 1852 умирает в своей последней московской квартире в доме Талызин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мерть Гоголя вызвала в русском обществе глубокое потрясение. От университетского домового храма Св. мученицы Татианы, где отпевали писателя, до места погребения гроб несли профессора и студенты университет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8" name="Picture 7" descr="гоголь 7"/>
          <p:cNvPicPr/>
          <p:nvPr/>
        </p:nvPicPr>
        <p:blipFill>
          <a:blip r:embed="rId1"/>
          <a:stretch/>
        </p:blipFill>
        <p:spPr>
          <a:xfrm>
            <a:off x="4859280" y="1413000"/>
            <a:ext cx="3183120" cy="4680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0T13:23:50Z</dcterms:created>
  <dc:creator>с</dc:creator>
  <dc:description/>
  <dc:language>en-US</dc:language>
  <cp:lastModifiedBy>LEGION</cp:lastModifiedBy>
  <dcterms:modified xsi:type="dcterms:W3CDTF">2015-01-20T07:56:43Z</dcterms:modified>
  <cp:revision>7</cp:revision>
  <dc:subject/>
  <dc:title>Творчество Николая Васильевича Гоголя</dc:title>
</cp:coreProperties>
</file>