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7BEBF-B0D8-4D6C-AF65-FDAE1D0C16A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Aurora Script"/>
              </a:rPr>
              <a:t>Марк</a:t>
            </a:r>
            <a:br>
              <a:rPr sz="1200"/>
            </a:br>
            <a:r>
              <a:rPr b="1" lang="ru-RU" sz="1200" spc="-1" strike="noStrike">
                <a:solidFill>
                  <a:srgbClr val="c0504d"/>
                </a:solidFill>
                <a:latin typeface="Aurora Script"/>
              </a:rPr>
              <a:t>Тв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C9C8F-1985-406E-8804-C905899B4EB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к Твен (настоящее имя Сэмюэл Лэнгхорн Клеменс (англ. Samuel Langhorne Clemens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лся 30 ноября 1835 в посёлок Флорида (штат Миссури) - выдающийся американский писатель, журналист и общественный деятель. Его творчество охватывает множество жанров - реализм, романтизм, юмор, сатира, философская фантастика, публицистика и др., и во всех этих жанрах он неизменно занимает позицию гуманиста и демокр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ике карьеры он был, вероятно, самой популярной фигурой в Америке. Уильям Фолкнер писал, что он был «первым по-настоящему американским писателем, и все мы с тех пор - его наследники», а Эрнест Хемингуэй писал, что «вся современная американская литература вышла из одной книги Марка Твена, которая называется „Приключения Гекльберри Финна“». Из русских писателей о Марке Твене особенно тепло отзывались Максим Горький и Александр Купр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D2E77-AF1A-43CD-ABE3-42DE33E9564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99"/>
                </a:solidFill>
                <a:latin typeface="Calibri"/>
              </a:rPr>
              <a:t>Клеменс утверждал, что псевдоним «Марк Твен» (англ. Mark Twain) был взят им в юности из терминов речной навигации. Тогда он был помощником лоцмана на Миссисипи, а термином «марк твен» («mark twain», дословно — «отметь две сажени») называли минимальную глубину, пригодную для прохождения речных судов. Кроме «Марка Твена», Клеменс один раз в 1896 году подписался как «сэр Луи де Конт», под этим именем он издал свой роман «Личные воспоминания о Жанне д’Арк сэра Луи де Конта, ее пажа и секретар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7173B-B3F2-44E1-B1F0-1494D670735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Детство провел в городке Ханнибал на реке Миссури. Когда его отец умер, он оставил школу и стал работать наборщиком в местных газетах. С 18 до 22 лет скитался по стране, затем стал лоцманом на Миссисипи. В 1861 г. Твен уехал на Дальний Запад, где был старателем на серебряных рудниках Невады и золотоискателем в Калифорнии. В это же время он попробовал себя в роли репортера газеты в Вирджиния-Сити, где опубликовал ряд юмористических очерков и рассказов. В 1865 г. он отправился на пароходе в Европу и Палестину, посылая с дороги юмористические репортажи. Широкую известность получил рассказ Твена на фольклорный сюжет «Знаменитая скачущая лягушка из Калавераса» (1865). Посетив Францию, Италию, Грецию, Турцию, Крым и Святую Землю, возвратился в США. В 1869 г. издал сборник путевых очерков «Простаки за границей», который имел громадный успех</a:t>
            </a:r>
            <a:r>
              <a:rPr b="0" lang="ru-RU" sz="1200" spc="-1" strike="noStrike">
                <a:solidFill>
                  <a:srgbClr val="ffff99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В 1872 г. вышла автобиографическая книга «Закаленные» о людях и нравах Дикого Запада. Через три года Твен выпустил сборник своих лучших рассказов </a:t>
            </a: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 «Старые и новые очерки», после чего его популярность еще более возросла. В 1876 г. он опубликовал «Приключения Тома Сойера», и т.к. книга имела грандиозный успех, в 1885 г. он издал продолжение: «Приключения Гекльберри Финна». Между двумя этими романами Твен выпустил еще одну автобиографическую книгу </a:t>
            </a: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 «Жизнь на Миссисипи» (1883).</a:t>
            </a: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D43C7-D892-4E3C-98E4-9CC4BFAAD40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Самым большим вкладом Твена в американскую и мировую литературу считается роман «Приключения Гекльберри Финна». Многие считают это вообще лучшим литературным произведением, когда-либо созданным в США. Также очень популярны «Приключения Тома Сойера», «Янки из Коннектикута при дворе короля Артура» и сборник документальных очерков «Жизнь на Миссисипи». Марк Твен начинал свою карьеру с юмористических куплетов, а заканчивал жуткими и почти вульгарными хрониками человеческого тщеславия, лицемерия и даже уби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523B0-82D1-47D4-9608-50B60D87B3B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В последние годы успехи Марка Твена плавно начали угасать. До своей смерти в 1910 году он пережил потерю троих из четырёх детей, умерла и любимая жена Оливия. Материальное положение Твена также пошатнулось: его издательская компания разорилась; плагиаторы украли права на несколько его кни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Сам Твен умер 21 апреля 1910 года от грудной жабы (стенокардии). За год до смерти он сказал: «Я пришёл в 1835 году с Кометой Галлея, через год она снова прилетает, и я рассчитываю уйти вместе с ней». Так оно и случило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В городе Ганнибал, штат Миссури, сохранился дом, в котором мальчишкой играл Сэм Клеменс, и пещеры, которые он исследовал в детстве, и которые потом были описаны в знаменитых «Приключениях Тома Сойера», туда теперь приходят туристы. Дом Марка Твена в Хартфорде превращён в его личный музей и объявлен в США национальным историческим достоя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65A89-DF5D-4294-938E-08864E75C8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Flibustier"/>
              </a:rPr>
              <a:t>Ко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6F36F-2101-453D-8E06-5BAE1E2E3AA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B8F1-8D29-4DC7-998D-244681B47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F212-16B9-41EC-9DF8-9AC7DADB9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A480-158A-4C17-9D94-ABCE557A0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9DFB-3044-4F88-9284-815317C23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FF67-7BB6-4CB7-A9F7-47B09DBF0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0281-7552-44F3-8461-8719F9B0C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CA3A-E4AC-4E24-98AB-AB07781C5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C99E-9BFD-429B-882F-A275376E6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0AC2-237F-4E01-9FBB-E19D77D14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7EC3-445A-420A-8144-11D529B2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65CE-84E4-4493-AC67-BEDDC258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0B9B-6A32-49D8-898B-478A4BD3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5E0B-C288-4F81-8162-FEC6D867AB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image" Target="../media/image15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32000" y="1557000"/>
            <a:ext cx="421164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500" spc="-1" strike="noStrike">
                <a:solidFill>
                  <a:srgbClr val="333399"/>
                </a:solidFill>
                <a:latin typeface="Aurora Script"/>
              </a:rPr>
              <a:t>Марк</a:t>
            </a:r>
            <a:br>
              <a:rPr sz="9500"/>
            </a:br>
            <a:r>
              <a:rPr b="1" lang="ru-RU" sz="9500" spc="-1" strike="noStrike">
                <a:solidFill>
                  <a:srgbClr val="333399"/>
                </a:solidFill>
                <a:latin typeface="Aurora Script"/>
              </a:rPr>
              <a:t>Твен</a:t>
            </a: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32000" y="4869000"/>
            <a:ext cx="4211640" cy="62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ell MT"/>
              </a:rPr>
              <a:t>30.11.1835 – 21.04.1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Mark_Twain_Cigar"/>
          <p:cNvPicPr/>
          <p:nvPr/>
        </p:nvPicPr>
        <p:blipFill>
          <a:blip r:embed="rId2"/>
          <a:srcRect l="0" t="0" r="0" b="1690"/>
          <a:stretch/>
        </p:blipFill>
        <p:spPr>
          <a:xfrm>
            <a:off x="0" y="0"/>
            <a:ext cx="50022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08"/>
          <p:cNvPicPr/>
          <p:nvPr/>
        </p:nvPicPr>
        <p:blipFill>
          <a:blip r:embed="rId2"/>
          <a:stretch/>
        </p:blipFill>
        <p:spPr>
          <a:xfrm>
            <a:off x="600120" y="2098800"/>
            <a:ext cx="7950240" cy="4593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07"/>
          <p:cNvPicPr/>
          <p:nvPr/>
        </p:nvPicPr>
        <p:blipFill>
          <a:blip r:embed="rId3"/>
          <a:stretch/>
        </p:blipFill>
        <p:spPr>
          <a:xfrm>
            <a:off x="590400" y="2092320"/>
            <a:ext cx="7969320" cy="4606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06"/>
          <p:cNvPicPr/>
          <p:nvPr/>
        </p:nvPicPr>
        <p:blipFill>
          <a:blip r:embed="rId4"/>
          <a:stretch/>
        </p:blipFill>
        <p:spPr>
          <a:xfrm>
            <a:off x="603360" y="2093760"/>
            <a:ext cx="7943760" cy="4604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041"/>
          <p:cNvPicPr/>
          <p:nvPr/>
        </p:nvPicPr>
        <p:blipFill>
          <a:blip r:embed="rId5"/>
          <a:stretch/>
        </p:blipFill>
        <p:spPr>
          <a:xfrm>
            <a:off x="611280" y="2090880"/>
            <a:ext cx="7924680" cy="4609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05"/>
          <p:cNvPicPr/>
          <p:nvPr/>
        </p:nvPicPr>
        <p:blipFill>
          <a:blip r:embed="rId6"/>
          <a:stretch/>
        </p:blipFill>
        <p:spPr>
          <a:xfrm>
            <a:off x="598320" y="2098800"/>
            <a:ext cx="7950240" cy="4593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03"/>
          <p:cNvPicPr/>
          <p:nvPr/>
        </p:nvPicPr>
        <p:blipFill>
          <a:blip r:embed="rId7"/>
          <a:stretch/>
        </p:blipFill>
        <p:spPr>
          <a:xfrm>
            <a:off x="608040" y="2097000"/>
            <a:ext cx="7931160" cy="4594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04"/>
          <p:cNvPicPr/>
          <p:nvPr/>
        </p:nvPicPr>
        <p:blipFill>
          <a:blip r:embed="rId8"/>
          <a:stretch/>
        </p:blipFill>
        <p:spPr>
          <a:xfrm>
            <a:off x="608040" y="2098800"/>
            <a:ext cx="7931160" cy="4593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02"/>
          <p:cNvPicPr/>
          <p:nvPr/>
        </p:nvPicPr>
        <p:blipFill>
          <a:blip r:embed="rId9"/>
          <a:stretch/>
        </p:blipFill>
        <p:spPr>
          <a:xfrm>
            <a:off x="601560" y="2084400"/>
            <a:ext cx="7944120" cy="4619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01"/>
          <p:cNvPicPr/>
          <p:nvPr/>
        </p:nvPicPr>
        <p:blipFill>
          <a:blip r:embed="rId10"/>
          <a:stretch/>
        </p:blipFill>
        <p:spPr>
          <a:xfrm>
            <a:off x="630360" y="2101680"/>
            <a:ext cx="7886520" cy="4584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00"/>
          <p:cNvPicPr/>
          <p:nvPr/>
        </p:nvPicPr>
        <p:blipFill>
          <a:blip r:embed="rId11"/>
          <a:stretch/>
        </p:blipFill>
        <p:spPr>
          <a:xfrm>
            <a:off x="611280" y="2097000"/>
            <a:ext cx="7924680" cy="4594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07"/>
          <p:cNvPicPr/>
          <p:nvPr/>
        </p:nvPicPr>
        <p:blipFill>
          <a:blip r:embed="rId12"/>
          <a:stretch/>
        </p:blipFill>
        <p:spPr>
          <a:xfrm>
            <a:off x="2379600" y="800280"/>
            <a:ext cx="4384800" cy="58687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3"/>
          <p:cNvSpPr/>
          <p:nvPr/>
        </p:nvSpPr>
        <p:spPr>
          <a:xfrm>
            <a:off x="177840" y="333360"/>
            <a:ext cx="87883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рк Твен (настоящее имя Сэмюэл Лэнгхорн Клеменс (англ. Samuel Langhorne Clemen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дился 30 ноября 1835 в посёлок Флорида (штат Миссури) - выдающийся американский писатель, журналист и общественный деятель. Его творчество охватывает множество жанров - реализм, романтизм, юмор, сатира, философская фантастика, публицистика и др., и во всех этих жанрах он неизменно занимает позицию гуманиста и демокра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пике карьеры он был, вероятно, самой популярной фигурой в Америке. Уильям Фолкнер писал, что он был «первым по-настоящему американским писателем, и все мы с тех пор - его наследники», а Эрнест Хемингуэй писал, что «вся современная американская литература вышла из одной книги Марка Твена, которая называется „Приключения Гекльберри Финна“». Из русских писателей о Марке Твене особенно тепло отзывались Максим Горький и Александр Купр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4" descr="slc_birthplace791x509"/>
          <p:cNvPicPr/>
          <p:nvPr/>
        </p:nvPicPr>
        <p:blipFill>
          <a:blip r:embed="rId13"/>
          <a:stretch/>
        </p:blipFill>
        <p:spPr>
          <a:xfrm>
            <a:off x="2057400" y="3595680"/>
            <a:ext cx="4854600" cy="3121200"/>
          </a:xfrm>
          <a:prstGeom prst="rect">
            <a:avLst/>
          </a:prstGeom>
          <a:ln w="0">
            <a:noFill/>
          </a:ln>
        </p:spPr>
      </p:pic>
    </p:spTree>
  </p:cSld>
  <p:transition spd="med" advTm="67000">
    <p:split dir="in" orient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xit" presetID="16" presetSubtype="26">
                                  <p:stCondLst>
                                    <p:cond delay="300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0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8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8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96" nodeType="after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1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324000" y="1160640"/>
            <a:ext cx="8496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Arial"/>
              </a:rPr>
              <a:t>Клеменс утверждал, что псевдоним «Марк Твен» (англ. Mark Twain) был взят им в юности из терминов речной навигации. Тогда он был помощником лоцмана на Миссисипи, а термином «марк твен» («mark twain», дословно — «отметь две сажени») называли минимальную глубину, пригодную для прохождения речных судов. Кроме «Марка Твена», Клеменс один раз в 1896 году подписался как «сэр Луи де Конт», под этим именем он издал свой роман «Личные воспоминания о Жанне д’Арк сэра Луи де Конта, ее пажа и секретаря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2970360" y="353880"/>
            <a:ext cx="32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Flibustier"/>
              </a:rPr>
              <a:t>Псевдон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214"/>
          <p:cNvPicPr/>
          <p:nvPr/>
        </p:nvPicPr>
        <p:blipFill>
          <a:blip r:embed="rId2"/>
          <a:stretch/>
        </p:blipFill>
        <p:spPr>
          <a:xfrm>
            <a:off x="1781280" y="3068640"/>
            <a:ext cx="5580000" cy="3716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post-21822-1204106574"/>
          <p:cNvPicPr/>
          <p:nvPr/>
        </p:nvPicPr>
        <p:blipFill>
          <a:blip r:embed="rId3"/>
          <a:stretch/>
        </p:blipFill>
        <p:spPr>
          <a:xfrm>
            <a:off x="1835280" y="3000240"/>
            <a:ext cx="5473440" cy="3857760"/>
          </a:xfrm>
          <a:prstGeom prst="rect">
            <a:avLst/>
          </a:prstGeom>
          <a:ln w="0">
            <a:noFill/>
          </a:ln>
        </p:spPr>
      </p:pic>
    </p:spTree>
  </p:cSld>
  <p:transition spd="med" advTm="39000">
    <p:split dir="in" orient="horz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xit" presetID="23" presetSubtype="32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324000" y="1233360"/>
            <a:ext cx="84960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Детство провел в городке Ханнибал на реке Миссури. Когда его отец умер, он оставил школу и стал работать наборщиком в местных газетах. С 18 до 22 лет скитался по стране, затем стал лоцманом на Миссисипи. В 1861 г. Твен уехал на Дальний Запад, где был старателем на серебряных рудниках Невады и золотоискателем в Калифорнии. В это же время он попробовал себя в роли репортера газеты в Вирджиния-Сити, где опубликовал ряд юмористических очерков и рассказов. В 1865 г. он отправился на пароходе в Европу и Палестину, посылая с дороги юмористические репортажи. Широкую известность получил рассказ Твена на фольклорный сюжет «Знаменитая скачущая лягушка из Калавераса» (1865). Посетив Францию, Италию, Грецию, Турцию, Крым и Святую Землю, возвратился в США. В 1869 г. издал сборник путевых очерков «Простаки за границей», который имел громадный успех</a:t>
            </a:r>
            <a:r>
              <a:rPr b="0" lang="ru-RU" sz="16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В 1872 г. вышла автобиографическая книга «Закаленные» о людях и нравах Дикого Запада. Через три года Твен выпустил сборник своих лучших рассказов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«Старые и новые очерки», после чего его популярность еще более возросла. В 1876 г. он опубликовал «Приключения Тома Сойера», и т.к. книга имела грандиозный успех, в 1885 г. он издал продолжение: «Приключения Гекльберри Финна». Между двумя этими романами Твен выпустил еще одну автобиографическую книгу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«Жизнь на Миссисипи» (1883).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3162240" y="333360"/>
            <a:ext cx="284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Flibustier"/>
              </a:rPr>
              <a:t>Биограф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17000">
    <p:split dir="in" orient="horz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2"/>
          <p:cNvSpPr/>
          <p:nvPr/>
        </p:nvSpPr>
        <p:spPr>
          <a:xfrm>
            <a:off x="71280" y="692280"/>
            <a:ext cx="9001440" cy="273672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503280" y="1160640"/>
            <a:ext cx="84963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Самым большим вкладом Твена в американскую и мировую литературу считается роман «Приключения Гекльберри Финна». Многие считают это вообще лучшим литературным произведением, когда-либо созданным в США. Также очень популярны «Приключения Тома Сойера», «Янки из Коннектикута при дворе короля Артура» и сборник документальных очерков «Жизнь на Миссисипи». Марк Твен начинал свою карьеру с юмористических куплетов, а заканчивал жуткими и почти вульгарными хрониками человеческого тщеславия, лицемерия и даже убий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503280" y="260280"/>
            <a:ext cx="788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Flibustier"/>
              </a:rPr>
              <a:t>Творческая карье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Yankee_in_KAC_book"/>
          <p:cNvPicPr/>
          <p:nvPr/>
        </p:nvPicPr>
        <p:blipFill>
          <a:blip r:embed="rId3"/>
          <a:stretch/>
        </p:blipFill>
        <p:spPr>
          <a:xfrm>
            <a:off x="4502160" y="3645000"/>
            <a:ext cx="2398680" cy="2984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Huckleberry_Finn_book"/>
          <p:cNvPicPr/>
          <p:nvPr/>
        </p:nvPicPr>
        <p:blipFill>
          <a:blip r:embed="rId4"/>
          <a:srcRect l="0" t="0" r="0" b="-70"/>
          <a:stretch/>
        </p:blipFill>
        <p:spPr>
          <a:xfrm>
            <a:off x="179280" y="3679920"/>
            <a:ext cx="2319480" cy="2916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177855_The_Adventures_of_Tom_Sawyer_-_Mark_Twain"/>
          <p:cNvPicPr/>
          <p:nvPr/>
        </p:nvPicPr>
        <p:blipFill>
          <a:blip r:embed="rId5"/>
          <a:stretch/>
        </p:blipFill>
        <p:spPr>
          <a:xfrm>
            <a:off x="2581200" y="3679920"/>
            <a:ext cx="1836720" cy="29210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twainmaretext95lmiss12"/>
          <p:cNvPicPr/>
          <p:nvPr/>
        </p:nvPicPr>
        <p:blipFill>
          <a:blip r:embed="rId6"/>
          <a:stretch/>
        </p:blipFill>
        <p:spPr>
          <a:xfrm>
            <a:off x="6985080" y="3716280"/>
            <a:ext cx="1963800" cy="2906640"/>
          </a:xfrm>
          <a:prstGeom prst="rect">
            <a:avLst/>
          </a:prstGeom>
          <a:ln w="0">
            <a:noFill/>
          </a:ln>
        </p:spPr>
      </p:pic>
    </p:spTree>
  </p:cSld>
  <p:transition spd="med" advTm="40000">
    <p:split dir="in" orient="horz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1" nodeType="afterEffect" fill="hold" presetClass="entr" presetID="23" presetSubtype="16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9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9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8400"/>
                            </p:stCondLst>
                            <p:childTnLst>
                              <p:par>
                                <p:cTn id="176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2400"/>
                            </p:stCondLst>
                            <p:childTnLst>
                              <p:par>
                                <p:cTn id="181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324000" y="907920"/>
            <a:ext cx="84960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В последние годы успехи Марка Твена плавно начали угасать. До своей смерти в 1910 году он пережил потерю троих из четырёх детей, умерла и любимая жена Оливия. Материальное положение Твена также пошатнулось: его издательская компания разорилась; плагиаторы украли права на несколько его кни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Сам Твен умер 21 апреля 1910 года от грудной жабы (стенокардии). За год до смерти он сказал: «Я пришёл в 1835 году с Кометой Галлея, через год она снова прилетает, и я рассчитываю уйти вместе с ней». Так оно и случилос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В городе Ганнибал, штат Миссури, сохранился дом, в котором мальчишкой играл Сэм Клеменс, и пещеры, которые он исследовал в детстве, и которые потом были описаны в знаменитых «Приключениях Тома Сойера», туда теперь приходят туристы. Дом Марка Твена в Хартфорде превращён в его личный музей и объявлен в США национальным историческим достояни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647640" y="260280"/>
            <a:ext cx="788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Flibustier"/>
              </a:rPr>
              <a:t>Поздние го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08"/>
          <p:cNvPicPr/>
          <p:nvPr/>
        </p:nvPicPr>
        <p:blipFill>
          <a:blip r:embed="rId2"/>
          <a:stretch/>
        </p:blipFill>
        <p:spPr>
          <a:xfrm>
            <a:off x="395280" y="3933720"/>
            <a:ext cx="3557520" cy="2668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09"/>
          <p:cNvPicPr/>
          <p:nvPr/>
        </p:nvPicPr>
        <p:blipFill>
          <a:blip r:embed="rId3"/>
          <a:srcRect l="0" t="0" r="0" b="-88"/>
          <a:stretch/>
        </p:blipFill>
        <p:spPr>
          <a:xfrm>
            <a:off x="5003640" y="3968640"/>
            <a:ext cx="3708720" cy="2692440"/>
          </a:xfrm>
          <a:prstGeom prst="rect">
            <a:avLst/>
          </a:prstGeom>
          <a:ln w="0">
            <a:noFill/>
          </a:ln>
        </p:spPr>
      </p:pic>
    </p:spTree>
  </p:cSld>
  <p:transition spd="med" advTm="71000">
    <p:split dir="in" orient="horz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5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04" nodeType="afterEffect" fill="hold" presetClass="entr" presetID="55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02"/>
          <p:cNvPicPr/>
          <p:nvPr/>
        </p:nvPicPr>
        <p:blipFill>
          <a:blip r:embed="rId2"/>
          <a:stretch/>
        </p:blipFill>
        <p:spPr>
          <a:xfrm>
            <a:off x="3094200" y="189000"/>
            <a:ext cx="2619360" cy="3636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04"/>
          <p:cNvPicPr/>
          <p:nvPr/>
        </p:nvPicPr>
        <p:blipFill>
          <a:blip r:embed="rId3"/>
          <a:stretch/>
        </p:blipFill>
        <p:spPr>
          <a:xfrm>
            <a:off x="6264360" y="189000"/>
            <a:ext cx="2663640" cy="3635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mtprint05"/>
          <p:cNvPicPr/>
          <p:nvPr/>
        </p:nvPicPr>
        <p:blipFill>
          <a:blip r:embed="rId4"/>
          <a:stretch/>
        </p:blipFill>
        <p:spPr>
          <a:xfrm>
            <a:off x="216000" y="189000"/>
            <a:ext cx="2327040" cy="3635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prints01146"/>
          <p:cNvPicPr/>
          <p:nvPr/>
        </p:nvPicPr>
        <p:blipFill>
          <a:blip r:embed="rId5"/>
          <a:stretch/>
        </p:blipFill>
        <p:spPr>
          <a:xfrm>
            <a:off x="291960" y="4052880"/>
            <a:ext cx="1828800" cy="2270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mtprint14"/>
          <p:cNvPicPr/>
          <p:nvPr/>
        </p:nvPicPr>
        <p:blipFill>
          <a:blip r:embed="rId6"/>
          <a:stretch/>
        </p:blipFill>
        <p:spPr>
          <a:xfrm>
            <a:off x="2808360" y="4059360"/>
            <a:ext cx="3527280" cy="2257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prints01141"/>
          <p:cNvPicPr/>
          <p:nvPr/>
        </p:nvPicPr>
        <p:blipFill>
          <a:blip r:embed="rId7"/>
          <a:srcRect l="0" t="0" r="0" b="-15"/>
          <a:stretch/>
        </p:blipFill>
        <p:spPr>
          <a:xfrm>
            <a:off x="7024680" y="4071960"/>
            <a:ext cx="1828800" cy="2232000"/>
          </a:xfrm>
          <a:prstGeom prst="rect">
            <a:avLst/>
          </a:prstGeom>
          <a:ln w="0">
            <a:noFill/>
          </a:ln>
        </p:spPr>
      </p:pic>
    </p:spTree>
  </p:cSld>
  <p:transition spd="med" advTm="22000">
    <p:split dir="in" orient="horz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6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6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6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6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6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6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6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6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6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6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6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6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6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6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6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6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6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6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6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6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6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6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6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7" nodeType="afterEffect" fill="hold" presetClass="exit" presetID="37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37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37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37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37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37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647640" y="2889360"/>
            <a:ext cx="788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Flibustier"/>
              </a:rPr>
              <a:t>Коне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1371600" y="6993000"/>
            <a:ext cx="64008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mic"/>
              </a:rPr>
              <a:t>Презентацию выполн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mic"/>
              </a:rPr>
              <a:t>Ученик 6а кла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u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4.81481E-006 L -0.00781 -1.16783 E">
                                      <p:cBhvr>
                                        <p:cTn id="308" dur="10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6T17:35:18Z</dcterms:created>
  <dc:creator>uoker</dc:creator>
  <dc:description/>
  <dc:language>en-US</dc:language>
  <cp:lastModifiedBy>LEGION</cp:lastModifiedBy>
  <dcterms:modified xsi:type="dcterms:W3CDTF">2015-01-20T07:57:21Z</dcterms:modified>
  <cp:revision>30</cp:revision>
  <dc:subject/>
  <dc:title>Марк Тве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418000000000001023620</vt:lpwstr>
  </property>
</Properties>
</file>