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114A-7D93-4E9C-A660-CB63916A9A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urora Script"/>
              </a:rPr>
              <a:t>Марк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urora Script"/>
              </a:rPr>
              <a:t>Т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1CA2-AFA6-4DC4-A231-52AF0E6A4D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 Твен (настоящее имя Сэмюэл Лэнгхорн Клеменс (англ. Samuel Langhorne Clemens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30 ноября 1835 в посёлок Флорида (штат Миссури) - выдающийся американский писатель, журналист и общественный деятель. Его творчество охватывает множество жанров - реализм, романтизм, юмор, сатира, философская фантастика, публицистика и др., и во всех этих жанрах он неизменно занимает позицию гуманиста и демок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ике карьеры он был, вероятно, самой популярной фигурой в Америке. Уильям Фолкнер писал, что он был «первым по-настоящему американским писателем, и все мы с тех пор - его наследники», а Эрнест Хемингуэй писал, что «вся современная американская литература вышла из одной книги Марка Твена, которая называется „Приключения Гекльберри Финна“». Из русских писателей о Марке Твене особенно тепло отзывались Максим Горький и Александр Купр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B855-67CE-4AC7-B2CC-A048C5D665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Клеменс утверждал, что псевдоним «Марк Твен» (англ. Mark Twain) был взят им в юности из терминов речной навигации. Тогда он был помощником лоцмана на Миссисипи, а термином «марк твен» («mark twain», дословно — «отметь две сажени») называли минимальную глубину, пригодную для прохождения речных судов. Кроме «Марка Твена», Клеменс один раз в 1896 году подписался как «сэр Луи де Конт», под этим именем он издал свой роман «Личные воспоминания о Жанне д’Арк сэра Луи де Конта, ее пажа и секретар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517C-463F-4541-92AB-F49050ABAD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Детство провел в городке Ханнибал на реке Миссури. Когда его отец умер, он оставил школу и стал работать наборщиком в местных газетах. С 18 до 22 лет скитался по стране, затем стал лоцманом на Миссисипи. В 1861 г. Твен уехал на Дальний Запад, где был старателем на серебряных рудниках Невады и золотоискателем в Калифорнии. В это же время он попробовал себя в роли репортера газеты в Вирджиния-Сити, где опубликовал ряд юмористических очерков и рассказов. В 1865 г. он отправился на пароходе в Европу и Палестину, посылая с дороги юмористические репортажи. Широкую известность получил рассказ Твена на фольклорный сюжет «Знаменитая скачущая лягушка из Калавераса» (1865). Посетив Францию, Италию, Грецию, Турцию, Крым и Святую Землю, возвратился в США. В 1869 г. издал сборник путевых очерков «Простаки за границей», который имел громадный успех</a:t>
            </a: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1872 г. вышла автобиографическая книга «Закаленные» о людях и нравах Дикого Запада. Через три года Твен выпустил сборник своих лучших рассказов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 «Старые и новые очерки», после чего его популярность еще более возросла. В 1876 г. он опубликовал «Приключения Тома Сойера», и т.к. книга имела грандиозный успех, в 1885 г. он издал продолжение: «Приключения Гекльберри Финна». Между двумя этими романами Твен выпустил еще одну автобиографическую книгу 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 «Жизнь на Миссисипи» (1883).</a:t>
            </a: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F853-1854-4E01-BF96-1EF717F132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амым большим вкладом Твена в американскую и мировую литературу считается роман «Приключения Гекльберри Финна». Многие считают это вообще лучшим литературным произведением, когда-либо созданным в США. Также очень популярны «Приключения Тома Сойера», «Янки из Коннектикута при дворе короля Артура» и сборник документальных очерков «Жизнь на Миссисипи». Марк Твен начинал свою карьеру с юмористических куплетов, а заканчивал жуткими и почти вульгарными хрониками человеческого тщеславия, лицемерия и даже уби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F2ED-BD66-4CB2-AC35-DA2A0C7D7D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последние годы успехи Марка Твена плавно начали угасать. До своей смерти в 1910 году он пережил потерю троих из четырёх детей, умерла и любимая жена Оливия. Материальное положение Твена также пошатнулось: его издательская компания разорилась; плагиаторы украли права на несколько его кни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ам Твен умер 21 апреля 1910 года от грудной жабы (стенокардии). За год до смерти он сказал: «Я пришёл в 1835 году с Кометой Галлея, через год она снова прилетает, и я рассчитываю уйти вместе с ней». Так оно и случ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В городе Ганнибал, штат Миссури, сохранился дом, в котором мальчишкой играл Сэм Клеменс, и пещеры, которые он исследовал в детстве, и которые потом были описаны в знаменитых «Приключениях Тома Сойера», туда теперь приходят туристы. Дом Марка Твена в Хартфорде превращён в его личный музей и объявлен в США национальным историческим достоя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4657-FF78-4853-8E8D-3A662F131B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Flibustier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3D0F-21BE-44C8-89C1-735AC34E59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FCE-D141-417E-9387-287D77A6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9E4-A8CD-4FE6-AF9F-D7683165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7F4B-C9F6-49AF-A094-8168DD61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253-9002-48C5-ABE9-2DCD01A0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B23-8F65-4EAE-B81C-B8628ADB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7BA-DC1E-416F-A528-7129C2D7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314-4D64-408C-957B-CFC66062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4B7-6F62-4995-A207-B17B9CAD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5C2-83F3-47B2-9753-95428DC5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491-11FD-4307-981D-855296B6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09F-F725-411B-AD65-86B7F7FB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9B7-0DD3-4700-9735-479AABFB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2DF4-9D71-462B-B401-3AA9494E3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000" y="1557000"/>
            <a:ext cx="421164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500" spc="-1" strike="noStrike">
                <a:solidFill>
                  <a:srgbClr val="333399"/>
                </a:solidFill>
                <a:latin typeface="Aurora Script"/>
              </a:rPr>
              <a:t>Марк</a:t>
            </a:r>
            <a:br>
              <a:rPr sz="9500"/>
            </a:br>
            <a:r>
              <a:rPr b="1" lang="ru-RU" sz="9500" spc="-1" strike="noStrike">
                <a:solidFill>
                  <a:srgbClr val="333399"/>
                </a:solidFill>
                <a:latin typeface="Aurora Script"/>
              </a:rPr>
              <a:t>Твен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32000" y="4869000"/>
            <a:ext cx="421164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ll MT"/>
              </a:rPr>
              <a:t>30.11.1835 – 21.04.1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ark_Twain_Cigar"/>
          <p:cNvPicPr/>
          <p:nvPr/>
        </p:nvPicPr>
        <p:blipFill>
          <a:blip r:embed="rId2"/>
          <a:srcRect l="0" t="0" r="0" b="1690"/>
          <a:stretch/>
        </p:blipFill>
        <p:spPr>
          <a:xfrm>
            <a:off x="0" y="0"/>
            <a:ext cx="5002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8"/>
          <p:cNvPicPr/>
          <p:nvPr/>
        </p:nvPicPr>
        <p:blipFill>
          <a:blip r:embed="rId2"/>
          <a:stretch/>
        </p:blipFill>
        <p:spPr>
          <a:xfrm>
            <a:off x="600120" y="2098800"/>
            <a:ext cx="7950240" cy="459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07"/>
          <p:cNvPicPr/>
          <p:nvPr/>
        </p:nvPicPr>
        <p:blipFill>
          <a:blip r:embed="rId3"/>
          <a:stretch/>
        </p:blipFill>
        <p:spPr>
          <a:xfrm>
            <a:off x="590400" y="2092320"/>
            <a:ext cx="7969320" cy="460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06"/>
          <p:cNvPicPr/>
          <p:nvPr/>
        </p:nvPicPr>
        <p:blipFill>
          <a:blip r:embed="rId4"/>
          <a:stretch/>
        </p:blipFill>
        <p:spPr>
          <a:xfrm>
            <a:off x="603360" y="2093760"/>
            <a:ext cx="7943760" cy="4604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041"/>
          <p:cNvPicPr/>
          <p:nvPr/>
        </p:nvPicPr>
        <p:blipFill>
          <a:blip r:embed="rId5"/>
          <a:stretch/>
        </p:blipFill>
        <p:spPr>
          <a:xfrm>
            <a:off x="611280" y="2090880"/>
            <a:ext cx="7924680" cy="46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05"/>
          <p:cNvPicPr/>
          <p:nvPr/>
        </p:nvPicPr>
        <p:blipFill>
          <a:blip r:embed="rId6"/>
          <a:stretch/>
        </p:blipFill>
        <p:spPr>
          <a:xfrm>
            <a:off x="598320" y="2098800"/>
            <a:ext cx="7950240" cy="459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03"/>
          <p:cNvPicPr/>
          <p:nvPr/>
        </p:nvPicPr>
        <p:blipFill>
          <a:blip r:embed="rId7"/>
          <a:stretch/>
        </p:blipFill>
        <p:spPr>
          <a:xfrm>
            <a:off x="608040" y="2097000"/>
            <a:ext cx="7931160" cy="459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04"/>
          <p:cNvPicPr/>
          <p:nvPr/>
        </p:nvPicPr>
        <p:blipFill>
          <a:blip r:embed="rId8"/>
          <a:stretch/>
        </p:blipFill>
        <p:spPr>
          <a:xfrm>
            <a:off x="608040" y="2098800"/>
            <a:ext cx="7931160" cy="4593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02"/>
          <p:cNvPicPr/>
          <p:nvPr/>
        </p:nvPicPr>
        <p:blipFill>
          <a:blip r:embed="rId9"/>
          <a:stretch/>
        </p:blipFill>
        <p:spPr>
          <a:xfrm>
            <a:off x="601560" y="2084400"/>
            <a:ext cx="7944120" cy="46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01"/>
          <p:cNvPicPr/>
          <p:nvPr/>
        </p:nvPicPr>
        <p:blipFill>
          <a:blip r:embed="rId10"/>
          <a:stretch/>
        </p:blipFill>
        <p:spPr>
          <a:xfrm>
            <a:off x="630360" y="2101680"/>
            <a:ext cx="7886520" cy="458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00"/>
          <p:cNvPicPr/>
          <p:nvPr/>
        </p:nvPicPr>
        <p:blipFill>
          <a:blip r:embed="rId11"/>
          <a:stretch/>
        </p:blipFill>
        <p:spPr>
          <a:xfrm>
            <a:off x="611280" y="2097000"/>
            <a:ext cx="7924680" cy="459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07"/>
          <p:cNvPicPr/>
          <p:nvPr/>
        </p:nvPicPr>
        <p:blipFill>
          <a:blip r:embed="rId12"/>
          <a:stretch/>
        </p:blipFill>
        <p:spPr>
          <a:xfrm>
            <a:off x="2379600" y="800280"/>
            <a:ext cx="4384800" cy="5868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177840" y="333360"/>
            <a:ext cx="8788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 Твен (настоящее имя Сэмюэл Лэнгхорн Клеменс (англ. Samuel Langhorne Cleme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лся 30 ноября 1835 в посёлок Флорида (штат Миссури) - выдающийся американский писатель, журналист и общественный деятель. Его творчество охватывает множество жанров - реализм, романтизм, юмор, сатира, философская фантастика, публицистика и др., и во всех этих жанрах он неизменно занимает позицию гуманиста и демокр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ике карьеры он был, вероятно, самой популярной фигурой в Америке. Уильям Фолкнер писал, что он был «первым по-настоящему американским писателем, и все мы с тех пор - его наследники», а Эрнест Хемингуэй писал, что «вся современная американская литература вышла из одной книги Марка Твена, которая называется „Приключения Гекльберри Финна“». Из русских писателей о Марке Твене особенно тепло отзывались Максим Горький и Александр Куп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slc_birthplace791x509"/>
          <p:cNvPicPr/>
          <p:nvPr/>
        </p:nvPicPr>
        <p:blipFill>
          <a:blip r:embed="rId13"/>
          <a:stretch/>
        </p:blipFill>
        <p:spPr>
          <a:xfrm>
            <a:off x="2057400" y="3595680"/>
            <a:ext cx="4854600" cy="3121200"/>
          </a:xfrm>
          <a:prstGeom prst="rect">
            <a:avLst/>
          </a:prstGeom>
          <a:ln w="0">
            <a:noFill/>
          </a:ln>
        </p:spPr>
      </p:pic>
    </p:spTree>
  </p:cSld>
  <p:transition spd="med" advTm="67000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xit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24000" y="116064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Клеменс утверждал, что псевдоним «Марк Твен» (англ. Mark Twain) был взят им в юности из терминов речной навигации. Тогда он был помощником лоцмана на Миссисипи, а термином «марк твен» («mark twain», дословно — «отметь две сажени») называли минимальную глубину, пригодную для прохождения речных судов. Кроме «Марка Твена», Клеменс один раз в 1896 году подписался как «сэр Луи де Конт», под этим именем он издал свой роман «Личные воспоминания о Жанне д’Арк сэра Луи де Конта, ее пажа и секретаря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970360" y="353880"/>
            <a:ext cx="32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Flibustier"/>
              </a:rPr>
              <a:t>Псевдон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14"/>
          <p:cNvPicPr/>
          <p:nvPr/>
        </p:nvPicPr>
        <p:blipFill>
          <a:blip r:embed="rId2"/>
          <a:stretch/>
        </p:blipFill>
        <p:spPr>
          <a:xfrm>
            <a:off x="1781280" y="3068640"/>
            <a:ext cx="5580000" cy="371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ost-21822-1204106574"/>
          <p:cNvPicPr/>
          <p:nvPr/>
        </p:nvPicPr>
        <p:blipFill>
          <a:blip r:embed="rId3"/>
          <a:stretch/>
        </p:blipFill>
        <p:spPr>
          <a:xfrm>
            <a:off x="1835280" y="3000240"/>
            <a:ext cx="5473440" cy="3857760"/>
          </a:xfrm>
          <a:prstGeom prst="rect">
            <a:avLst/>
          </a:prstGeom>
          <a:ln w="0">
            <a:noFill/>
          </a:ln>
        </p:spPr>
      </p:pic>
    </p:spTree>
  </p:cSld>
  <p:transition spd="med" advTm="39000">
    <p:split dir="in" orient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xit" presetID="23" presetSubtype="32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24000" y="123336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етство провел в городке Ханнибал на реке Миссури. Когда его отец умер, он оставил школу и стал работать наборщиком в местных газетах. С 18 до 22 лет скитался по стране, затем стал лоцманом на Миссисипи. В 1861 г. Твен уехал на Дальний Запад, где был старателем на серебряных рудниках Невады и золотоискателем в Калифорнии. В это же время он попробовал себя в роли репортера газеты в Вирджиния-Сити, где опубликовал ряд юмористических очерков и рассказов. В 1865 г. он отправился на пароходе в Европу и Палестину, посылая с дороги юмористические репортажи. Широкую известность получил рассказ Твена на фольклорный сюжет «Знаменитая скачущая лягушка из Калавераса» (1865). Посетив Францию, Италию, Грецию, Турцию, Крым и Святую Землю, возвратился в США. В 1869 г. издал сборник путевых очерков «Простаки за границей», который имел громадный успех</a:t>
            </a: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1872 г. вышла автобиографическая книга «Закаленные» о людях и нравах Дикого Запада. Через три года Твен выпустил сборник своих лучших рассказов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«Старые и новые очерки», после чего его популярность еще более возросла. В 1876 г. он опубликовал «Приключения Тома Сойера», и т.к. книга имела грандиозный успех, в 1885 г. он издал продолжение: «Приключения Гекльберри Финна». Между двумя этими романами Твен выпустил еще одну автобиографическую книгу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«Жизнь на Миссисипи» (1883)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62240" y="333360"/>
            <a:ext cx="28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Би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7000">
    <p:split dir="in" orient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71280" y="692280"/>
            <a:ext cx="9001440" cy="273672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03280" y="1160640"/>
            <a:ext cx="849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амым большим вкладом Твена в американскую и мировую литературу считается роман «Приключения Гекльберри Финна». Многие считают это вообще лучшим литературным произведением, когда-либо созданным в США. Также очень популярны «Приключения Тома Сойера», «Янки из Коннектикута при дворе короля Артура» и сборник документальных очерков «Жизнь на Миссисипи». Марк Твен начинал свою карьеру с юмористических куплетов, а заканчивал жуткими и почти вульгарными хрониками человеческого тщеславия, лицемерия и даже убий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03280" y="26028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Творческая карь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Yankee_in_KAC_book"/>
          <p:cNvPicPr/>
          <p:nvPr/>
        </p:nvPicPr>
        <p:blipFill>
          <a:blip r:embed="rId3"/>
          <a:stretch/>
        </p:blipFill>
        <p:spPr>
          <a:xfrm>
            <a:off x="4502160" y="3645000"/>
            <a:ext cx="2398680" cy="298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uckleberry_Finn_book"/>
          <p:cNvPicPr/>
          <p:nvPr/>
        </p:nvPicPr>
        <p:blipFill>
          <a:blip r:embed="rId4"/>
          <a:srcRect l="0" t="0" r="0" b="-70"/>
          <a:stretch/>
        </p:blipFill>
        <p:spPr>
          <a:xfrm>
            <a:off x="179280" y="3679920"/>
            <a:ext cx="2319480" cy="291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77855_The_Adventures_of_Tom_Sawyer_-_Mark_Twain"/>
          <p:cNvPicPr/>
          <p:nvPr/>
        </p:nvPicPr>
        <p:blipFill>
          <a:blip r:embed="rId5"/>
          <a:stretch/>
        </p:blipFill>
        <p:spPr>
          <a:xfrm>
            <a:off x="2581200" y="3679920"/>
            <a:ext cx="1836720" cy="2921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twainmaretext95lmiss12"/>
          <p:cNvPicPr/>
          <p:nvPr/>
        </p:nvPicPr>
        <p:blipFill>
          <a:blip r:embed="rId6"/>
          <a:stretch/>
        </p:blipFill>
        <p:spPr>
          <a:xfrm>
            <a:off x="6985080" y="3716280"/>
            <a:ext cx="1963800" cy="2906640"/>
          </a:xfrm>
          <a:prstGeom prst="rect">
            <a:avLst/>
          </a:prstGeom>
          <a:ln w="0">
            <a:noFill/>
          </a:ln>
        </p:spPr>
      </p:pic>
    </p:spTree>
  </p:cSld>
  <p:transition spd="med" advTm="40000">
    <p:split dir="in" orient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4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24000" y="907920"/>
            <a:ext cx="8496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последние годы успехи Марка Твена плавно начали угасать. До своей смерти в 1910 году он пережил потерю троих из четырёх детей, умерла и любимая жена Оливия. Материальное положение Твена также пошатнулось: его издательская компания разорилась; плагиаторы украли права на несколько его кни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ам Твен умер 21 апреля 1910 года от грудной жабы (стенокардии). За год до смерти он сказал: «Я пришёл в 1835 году с Кометой Галлея, через год она снова прилетает, и я рассчитываю уйти вместе с ней». Так оно и случило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городе Ганнибал, штат Миссури, сохранился дом, в котором мальчишкой играл Сэм Клеменс, и пещеры, которые он исследовал в детстве, и которые потом были описаны в знаменитых «Приключениях Тома Сойера», туда теперь приходят туристы. Дом Марка Твена в Хартфорде превращён в его личный музей и объявлен в США национальным историческим достоя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47640" y="26028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Поздние г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8"/>
          <p:cNvPicPr/>
          <p:nvPr/>
        </p:nvPicPr>
        <p:blipFill>
          <a:blip r:embed="rId2"/>
          <a:stretch/>
        </p:blipFill>
        <p:spPr>
          <a:xfrm>
            <a:off x="395280" y="3933720"/>
            <a:ext cx="3557520" cy="266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09"/>
          <p:cNvPicPr/>
          <p:nvPr/>
        </p:nvPicPr>
        <p:blipFill>
          <a:blip r:embed="rId3"/>
          <a:srcRect l="0" t="0" r="0" b="-88"/>
          <a:stretch/>
        </p:blipFill>
        <p:spPr>
          <a:xfrm>
            <a:off x="5003640" y="3968640"/>
            <a:ext cx="3708720" cy="2692440"/>
          </a:xfrm>
          <a:prstGeom prst="rect">
            <a:avLst/>
          </a:prstGeom>
          <a:ln w="0">
            <a:noFill/>
          </a:ln>
        </p:spPr>
      </p:pic>
    </p:spTree>
  </p:cSld>
  <p:transition spd="med" advTm="71000">
    <p:split dir="in" orient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55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2"/>
          <p:cNvPicPr/>
          <p:nvPr/>
        </p:nvPicPr>
        <p:blipFill>
          <a:blip r:embed="rId2"/>
          <a:stretch/>
        </p:blipFill>
        <p:spPr>
          <a:xfrm>
            <a:off x="3094200" y="189000"/>
            <a:ext cx="2619360" cy="363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04"/>
          <p:cNvPicPr/>
          <p:nvPr/>
        </p:nvPicPr>
        <p:blipFill>
          <a:blip r:embed="rId3"/>
          <a:stretch/>
        </p:blipFill>
        <p:spPr>
          <a:xfrm>
            <a:off x="6264360" y="189000"/>
            <a:ext cx="2663640" cy="363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mtprint05"/>
          <p:cNvPicPr/>
          <p:nvPr/>
        </p:nvPicPr>
        <p:blipFill>
          <a:blip r:embed="rId4"/>
          <a:stretch/>
        </p:blipFill>
        <p:spPr>
          <a:xfrm>
            <a:off x="216000" y="189000"/>
            <a:ext cx="2327040" cy="363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rints01146"/>
          <p:cNvPicPr/>
          <p:nvPr/>
        </p:nvPicPr>
        <p:blipFill>
          <a:blip r:embed="rId5"/>
          <a:stretch/>
        </p:blipFill>
        <p:spPr>
          <a:xfrm>
            <a:off x="291960" y="4052880"/>
            <a:ext cx="1828800" cy="227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tprint14"/>
          <p:cNvPicPr/>
          <p:nvPr/>
        </p:nvPicPr>
        <p:blipFill>
          <a:blip r:embed="rId6"/>
          <a:stretch/>
        </p:blipFill>
        <p:spPr>
          <a:xfrm>
            <a:off x="2808360" y="4059360"/>
            <a:ext cx="3527280" cy="2257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prints01141"/>
          <p:cNvPicPr/>
          <p:nvPr/>
        </p:nvPicPr>
        <p:blipFill>
          <a:blip r:embed="rId7"/>
          <a:srcRect l="0" t="0" r="0" b="-15"/>
          <a:stretch/>
        </p:blipFill>
        <p:spPr>
          <a:xfrm>
            <a:off x="7024680" y="4071960"/>
            <a:ext cx="1828800" cy="223200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split dir="in" orient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6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6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6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6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6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7" nodeType="after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37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47640" y="2889360"/>
            <a:ext cx="78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Flibustier"/>
              </a:rPr>
              <a:t>Ко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371600" y="6993000"/>
            <a:ext cx="6400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"/>
              </a:rPr>
              <a:t>Презентацию выполн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"/>
              </a:rPr>
              <a:t>Ученик 6а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4.81481E-006 L -0.00781 -1.16783 E">
                                      <p:cBhvr>
                                        <p:cTn id="308" dur="10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7:35:18Z</dcterms:created>
  <dc:creator>uoker</dc:creator>
  <dc:description/>
  <dc:language>en-US</dc:language>
  <cp:lastModifiedBy>LEGION</cp:lastModifiedBy>
  <dcterms:modified xsi:type="dcterms:W3CDTF">2015-01-20T07:57:21Z</dcterms:modified>
  <cp:revision>30</cp:revision>
  <dc:subject/>
  <dc:title>Марк Тве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18000000000001023620</vt:lpwstr>
  </property>
</Properties>
</file>