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B343-40A7-4181-BF1C-74CB2199BE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Марк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Т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F943-BEC6-4E3E-8165-7D553A108E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 (настоящее имя Сэмюэл Лэнгхорн Клеменс (англ. Samuel Langhorne Clemens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89B2-F05C-4101-871E-D687714BFA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E760-8FB9-4912-8743-D99D0464C8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Жизнь на Миссисипи» (1883).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ED56-1F7A-4A66-A16A-A632FB426B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9E65-CC7E-4074-A9C5-177D9F01E7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213D-EDC8-452A-8C4A-5E7457552E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Flibustier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C941-8B89-43F6-B216-6FD680E98C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868-440F-4105-9705-DEE5B04C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B2BA-9B31-4979-9071-11CE4A32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E67-1131-4D49-8E41-B6ADD9A0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EFE-59D9-429D-A035-6D1244E2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2D6-0A62-4C2C-A816-78C5E207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91D-0D2D-4870-91E2-20B93FA5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CC6-AF54-4472-9B68-DB9A2B24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650-BD8C-44BA-9253-0C484474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3D7-623B-4BC9-ACBE-6FC15AD7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8D0-7BE7-4149-BEB7-CAAB39B9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583-88BF-42F9-886B-5AFE935B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7DD-F474-4261-A68F-4880BDA5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4546-42C0-4BF0-B321-519ED3645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0" y="1557000"/>
            <a:ext cx="42116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Марк</a:t>
            </a:r>
            <a:br>
              <a:rPr sz="9500"/>
            </a:b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Твен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32000" y="4869000"/>
            <a:ext cx="421164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30.11.1835 – 21.04.1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ark_Twain_Cigar"/>
          <p:cNvPicPr/>
          <p:nvPr/>
        </p:nvPicPr>
        <p:blipFill>
          <a:blip r:embed="rId2"/>
          <a:srcRect l="0" t="0" r="0" b="1690"/>
          <a:stretch/>
        </p:blipFill>
        <p:spPr>
          <a:xfrm>
            <a:off x="0" y="0"/>
            <a:ext cx="5002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8"/>
          <p:cNvPicPr/>
          <p:nvPr/>
        </p:nvPicPr>
        <p:blipFill>
          <a:blip r:embed="rId2"/>
          <a:stretch/>
        </p:blipFill>
        <p:spPr>
          <a:xfrm>
            <a:off x="6001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07"/>
          <p:cNvPicPr/>
          <p:nvPr/>
        </p:nvPicPr>
        <p:blipFill>
          <a:blip r:embed="rId3"/>
          <a:stretch/>
        </p:blipFill>
        <p:spPr>
          <a:xfrm>
            <a:off x="590400" y="2092320"/>
            <a:ext cx="7969320" cy="460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06"/>
          <p:cNvPicPr/>
          <p:nvPr/>
        </p:nvPicPr>
        <p:blipFill>
          <a:blip r:embed="rId4"/>
          <a:stretch/>
        </p:blipFill>
        <p:spPr>
          <a:xfrm>
            <a:off x="603360" y="2093760"/>
            <a:ext cx="7943760" cy="4604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041"/>
          <p:cNvPicPr/>
          <p:nvPr/>
        </p:nvPicPr>
        <p:blipFill>
          <a:blip r:embed="rId5"/>
          <a:stretch/>
        </p:blipFill>
        <p:spPr>
          <a:xfrm>
            <a:off x="611280" y="2090880"/>
            <a:ext cx="7924680" cy="46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05"/>
          <p:cNvPicPr/>
          <p:nvPr/>
        </p:nvPicPr>
        <p:blipFill>
          <a:blip r:embed="rId6"/>
          <a:stretch/>
        </p:blipFill>
        <p:spPr>
          <a:xfrm>
            <a:off x="5983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03"/>
          <p:cNvPicPr/>
          <p:nvPr/>
        </p:nvPicPr>
        <p:blipFill>
          <a:blip r:embed="rId7"/>
          <a:stretch/>
        </p:blipFill>
        <p:spPr>
          <a:xfrm>
            <a:off x="608040" y="2097000"/>
            <a:ext cx="7931160" cy="459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4"/>
          <p:cNvPicPr/>
          <p:nvPr/>
        </p:nvPicPr>
        <p:blipFill>
          <a:blip r:embed="rId8"/>
          <a:stretch/>
        </p:blipFill>
        <p:spPr>
          <a:xfrm>
            <a:off x="608040" y="2098800"/>
            <a:ext cx="7931160" cy="4593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02"/>
          <p:cNvPicPr/>
          <p:nvPr/>
        </p:nvPicPr>
        <p:blipFill>
          <a:blip r:embed="rId9"/>
          <a:stretch/>
        </p:blipFill>
        <p:spPr>
          <a:xfrm>
            <a:off x="601560" y="2084400"/>
            <a:ext cx="7944120" cy="46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01"/>
          <p:cNvPicPr/>
          <p:nvPr/>
        </p:nvPicPr>
        <p:blipFill>
          <a:blip r:embed="rId10"/>
          <a:stretch/>
        </p:blipFill>
        <p:spPr>
          <a:xfrm>
            <a:off x="630360" y="2101680"/>
            <a:ext cx="7886520" cy="458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00"/>
          <p:cNvPicPr/>
          <p:nvPr/>
        </p:nvPicPr>
        <p:blipFill>
          <a:blip r:embed="rId11"/>
          <a:stretch/>
        </p:blipFill>
        <p:spPr>
          <a:xfrm>
            <a:off x="611280" y="2097000"/>
            <a:ext cx="7924680" cy="459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07"/>
          <p:cNvPicPr/>
          <p:nvPr/>
        </p:nvPicPr>
        <p:blipFill>
          <a:blip r:embed="rId12"/>
          <a:stretch/>
        </p:blipFill>
        <p:spPr>
          <a:xfrm>
            <a:off x="2379600" y="800280"/>
            <a:ext cx="4384800" cy="5868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177840" y="333360"/>
            <a:ext cx="8788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 Твен (настоящее имя Сэмюэл Лэнгхорн Клеменс (англ. Samuel Langhorne Cleme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slc_birthplace791x509"/>
          <p:cNvPicPr/>
          <p:nvPr/>
        </p:nvPicPr>
        <p:blipFill>
          <a:blip r:embed="rId13"/>
          <a:stretch/>
        </p:blipFill>
        <p:spPr>
          <a:xfrm>
            <a:off x="2057400" y="3595680"/>
            <a:ext cx="4854600" cy="3121200"/>
          </a:xfrm>
          <a:prstGeom prst="rect">
            <a:avLst/>
          </a:prstGeom>
          <a:ln w="0">
            <a:noFill/>
          </a:ln>
        </p:spPr>
      </p:pic>
    </p:spTree>
  </p:cSld>
  <p:transition spd="med" advTm="67000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24000" y="116064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970360" y="353880"/>
            <a:ext cx="32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Flibustier"/>
              </a:rPr>
              <a:t>Псевдон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14"/>
          <p:cNvPicPr/>
          <p:nvPr/>
        </p:nvPicPr>
        <p:blipFill>
          <a:blip r:embed="rId2"/>
          <a:stretch/>
        </p:blipFill>
        <p:spPr>
          <a:xfrm>
            <a:off x="1781280" y="3068640"/>
            <a:ext cx="5580000" cy="371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ost-21822-1204106574"/>
          <p:cNvPicPr/>
          <p:nvPr/>
        </p:nvPicPr>
        <p:blipFill>
          <a:blip r:embed="rId3"/>
          <a:stretch/>
        </p:blipFill>
        <p:spPr>
          <a:xfrm>
            <a:off x="1835280" y="3000240"/>
            <a:ext cx="5473440" cy="3857760"/>
          </a:xfrm>
          <a:prstGeom prst="rect">
            <a:avLst/>
          </a:prstGeom>
          <a:ln w="0">
            <a:noFill/>
          </a:ln>
        </p:spPr>
      </p:pic>
    </p:spTree>
  </p:cSld>
  <p:transition spd="med" advTm="39000">
    <p:split dir="in" orient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xit" presetID="23" presetSubtype="3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24000" y="123336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Жизнь на Миссисипи» (1883)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62240" y="333360"/>
            <a:ext cx="28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Би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7000">
    <p:split dir="in" orient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71280" y="692280"/>
            <a:ext cx="9001440" cy="27367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03280" y="1160640"/>
            <a:ext cx="849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0328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Творческая карь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Yankee_in_KAC_book"/>
          <p:cNvPicPr/>
          <p:nvPr/>
        </p:nvPicPr>
        <p:blipFill>
          <a:blip r:embed="rId3"/>
          <a:stretch/>
        </p:blipFill>
        <p:spPr>
          <a:xfrm>
            <a:off x="4502160" y="3645000"/>
            <a:ext cx="2398680" cy="298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uckleberry_Finn_book"/>
          <p:cNvPicPr/>
          <p:nvPr/>
        </p:nvPicPr>
        <p:blipFill>
          <a:blip r:embed="rId4"/>
          <a:srcRect l="0" t="0" r="0" b="-70"/>
          <a:stretch/>
        </p:blipFill>
        <p:spPr>
          <a:xfrm>
            <a:off x="179280" y="3679920"/>
            <a:ext cx="2319480" cy="291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77855_The_Adventures_of_Tom_Sawyer_-_Mark_Twain"/>
          <p:cNvPicPr/>
          <p:nvPr/>
        </p:nvPicPr>
        <p:blipFill>
          <a:blip r:embed="rId5"/>
          <a:stretch/>
        </p:blipFill>
        <p:spPr>
          <a:xfrm>
            <a:off x="2581200" y="3679920"/>
            <a:ext cx="1836720" cy="2921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twainmaretext95lmiss12"/>
          <p:cNvPicPr/>
          <p:nvPr/>
        </p:nvPicPr>
        <p:blipFill>
          <a:blip r:embed="rId6"/>
          <a:stretch/>
        </p:blipFill>
        <p:spPr>
          <a:xfrm>
            <a:off x="6985080" y="3716280"/>
            <a:ext cx="1963800" cy="2906640"/>
          </a:xfrm>
          <a:prstGeom prst="rect">
            <a:avLst/>
          </a:prstGeom>
          <a:ln w="0">
            <a:noFill/>
          </a:ln>
        </p:spPr>
      </p:pic>
    </p:spTree>
  </p:cSld>
  <p:transition spd="med" advTm="40000">
    <p:split dir="in" orient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4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4000" y="907920"/>
            <a:ext cx="849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4764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Поздние 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8"/>
          <p:cNvPicPr/>
          <p:nvPr/>
        </p:nvPicPr>
        <p:blipFill>
          <a:blip r:embed="rId2"/>
          <a:stretch/>
        </p:blipFill>
        <p:spPr>
          <a:xfrm>
            <a:off x="395280" y="393372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09"/>
          <p:cNvPicPr/>
          <p:nvPr/>
        </p:nvPicPr>
        <p:blipFill>
          <a:blip r:embed="rId3"/>
          <a:srcRect l="0" t="0" r="0" b="-88"/>
          <a:stretch/>
        </p:blipFill>
        <p:spPr>
          <a:xfrm>
            <a:off x="5003640" y="3968640"/>
            <a:ext cx="3708720" cy="2692440"/>
          </a:xfrm>
          <a:prstGeom prst="rect">
            <a:avLst/>
          </a:prstGeom>
          <a:ln w="0">
            <a:noFill/>
          </a:ln>
        </p:spPr>
      </p:pic>
    </p:spTree>
  </p:cSld>
  <p:transition spd="med" advTm="71000">
    <p:split dir="in" orient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2"/>
          <p:cNvPicPr/>
          <p:nvPr/>
        </p:nvPicPr>
        <p:blipFill>
          <a:blip r:embed="rId2"/>
          <a:stretch/>
        </p:blipFill>
        <p:spPr>
          <a:xfrm>
            <a:off x="3094200" y="189000"/>
            <a:ext cx="2619360" cy="36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04"/>
          <p:cNvPicPr/>
          <p:nvPr/>
        </p:nvPicPr>
        <p:blipFill>
          <a:blip r:embed="rId3"/>
          <a:stretch/>
        </p:blipFill>
        <p:spPr>
          <a:xfrm>
            <a:off x="6264360" y="189000"/>
            <a:ext cx="2663640" cy="363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mtprint05"/>
          <p:cNvPicPr/>
          <p:nvPr/>
        </p:nvPicPr>
        <p:blipFill>
          <a:blip r:embed="rId4"/>
          <a:stretch/>
        </p:blipFill>
        <p:spPr>
          <a:xfrm>
            <a:off x="216000" y="189000"/>
            <a:ext cx="2327040" cy="363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rints01146"/>
          <p:cNvPicPr/>
          <p:nvPr/>
        </p:nvPicPr>
        <p:blipFill>
          <a:blip r:embed="rId5"/>
          <a:stretch/>
        </p:blipFill>
        <p:spPr>
          <a:xfrm>
            <a:off x="291960" y="4052880"/>
            <a:ext cx="1828800" cy="227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tprint14"/>
          <p:cNvPicPr/>
          <p:nvPr/>
        </p:nvPicPr>
        <p:blipFill>
          <a:blip r:embed="rId6"/>
          <a:stretch/>
        </p:blipFill>
        <p:spPr>
          <a:xfrm>
            <a:off x="2808360" y="4059360"/>
            <a:ext cx="3527280" cy="22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prints01141"/>
          <p:cNvPicPr/>
          <p:nvPr/>
        </p:nvPicPr>
        <p:blipFill>
          <a:blip r:embed="rId7"/>
          <a:srcRect l="0" t="0" r="0" b="-15"/>
          <a:stretch/>
        </p:blipFill>
        <p:spPr>
          <a:xfrm>
            <a:off x="7024680" y="4071960"/>
            <a:ext cx="1828800" cy="223200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split dir="in" orient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6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6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6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6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6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7" nodeType="after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47640" y="288936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Ко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71600" y="6993000"/>
            <a:ext cx="6400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Презентацию выпол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Ученик 6а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4.81481E-006 L -0.00781 -1.16783 E">
                                      <p:cBhvr>
                                        <p:cTn id="308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35:18Z</dcterms:created>
  <dc:creator>uoker</dc:creator>
  <dc:description/>
  <dc:language>en-US</dc:language>
  <cp:lastModifiedBy>LEGION</cp:lastModifiedBy>
  <dcterms:modified xsi:type="dcterms:W3CDTF">2015-01-20T07:57:21Z</dcterms:modified>
  <cp:revision>30</cp:revision>
  <dc:subject/>
  <dc:title>Марк Тв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18000000000001023620</vt:lpwstr>
  </property>
</Properties>
</file>