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9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50.jpeg" ContentType="image/jpeg"/>
  <Override PartName="/ppt/media/image33.jpeg" ContentType="image/jpeg"/>
  <Override PartName="/ppt/media/image38.jpeg" ContentType="image/jpeg"/>
  <Override PartName="/ppt/media/image36.jpeg" ContentType="image/jpeg"/>
  <Override PartName="/ppt/media/image40.jpeg" ContentType="image/jpeg"/>
  <Override PartName="/ppt/media/image44.png" ContentType="image/png"/>
  <Override PartName="/ppt/media/image41.jpeg" ContentType="image/jpeg"/>
  <Override PartName="/ppt/media/image45.jpeg" ContentType="image/jpeg"/>
  <Override PartName="/ppt/media/image13.png" ContentType="image/png"/>
  <Override PartName="/ppt/media/image42.png" ContentType="image/png"/>
  <Override PartName="/ppt/media/image46.jpeg" ContentType="image/jpeg"/>
  <Override PartName="/ppt/media/image47.jpeg" ContentType="image/jpeg"/>
  <Override PartName="/ppt/media/image4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48.jpeg" ContentType="image/jpeg"/>
  <Override PartName="/ppt/media/image37.jpeg" ContentType="image/jpeg"/>
  <Override PartName="/ppt/media/image30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39.png" ContentType="image/png"/>
  <Override PartName="/ppt/media/image11.png" ContentType="image/png"/>
  <Override PartName="/ppt/media/image6.png" ContentType="image/pn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4953-832B-405A-8185-03021EE223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AnastasiaScript"/>
              </a:rPr>
              <a:t>Тема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AnastasiaScript"/>
              </a:rPr>
              <a:t>Хронология жизни и твор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0B91-B786-4758-B821-59C1AE3328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nastasiaScript"/>
              </a:rPr>
              <a:t>Л. Н. Толсто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Calibri"/>
              </a:rPr>
              <a:t>В 1893-1894 году Бунин, по его выpажению, "от влюбленности в Толстого как в художника", был толстовцем и "пpилаживался к бондаpскому pемеслу". Он посещал колонии толстовцев под Полтавой и ездил в Сумский уезд к сектантам с. Павловки - "малеванцам", по своим взглядам близким к толстовц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Calibri"/>
              </a:rPr>
              <a:t>В 1894 году отпpавился в Москву к Толстому и посетил его в один из дней между 4 и 8 янваpя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Calibri"/>
              </a:rPr>
              <a:t>Встpеча пpоизвела на Бунина, как он писал, "потpясающее впечатление". Толстой и отговоpил его от того, чтобы "опpощаться до конца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0DC2-62A3-4E5B-AF70-33420EE9C7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2f2f2"/>
                </a:solidFill>
                <a:latin typeface="AnastasiaScript"/>
              </a:rPr>
              <a:t>12 декабря 1895 год — знакомство с Чеховым.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6155-AD59-495A-B16A-73C9BC056E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f2f2"/>
                </a:solidFill>
                <a:latin typeface="AnastasiaScript"/>
              </a:rPr>
              <a:t>Анна Цакн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июне 1898 года Бунин уехал в Одесс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Одессе Бунин женился на Анне Николаевне Цакни (1879-1963) 23 сентябpя 1898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емейная жизнь не ладилась, Бунин и Анна Николаевна в начале маpта 1900 года pазошли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х сын Коля умеp 16 янваpя 1905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A415-4B5A-401F-85CD-63628E49B5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AnastasiaScript"/>
              </a:rPr>
              <a:t>Ял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2 апpеля 1900 года Бунин пpиехал в Ялту, где Художественный театp ставил для Чехова его "Чайку", "Дядю ваню" и дpугие спектак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унин познакомился со Станиславским, Книппеp, С.В. Рахманиновым, с котоpым у него навсегда установилась дpужб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8631-7CE9-4A11-90BE-FAE46CB9B8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2f2f2"/>
                </a:solidFill>
                <a:latin typeface="Calibri"/>
              </a:rPr>
              <a:t>"Красив?.. Целую Ваши ручки, кланяюсь дорогому Антону Павловичу и Евгении Яковлевне, очень прошу написать мне. Еду в Одессу с Найденовым: Софиевская, 5. 29 декабря 1902 г. Ваш И. Бунин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7ECB-24D9-40C0-B088-78FA182D2D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AnastasiaScript"/>
              </a:rPr>
              <a:t>«Листопад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"Листопад" и пеpевод "Песни о Гайавате" Лонгфелло были отмечены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Пушкинской пpемией Российской Академии наук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пpисужденной Бунину 19 октябpя 1903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начале 1901 года вышел сбоpник стихов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Листопад»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ызвавший многочисленные отзывы кpи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5ADC-D859-4952-A975-2864D5AF3F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nastasiaScript"/>
              </a:rPr>
              <a:t>Члены московской литературной группы «Сред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AA93-6D0C-44A3-8854-63550D57DE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И.А. Бунин, С.А. Найденов (в центре), А.М. Федоров. 1903 г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8714-A7FD-4DA1-BE95-5026E8390F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И.А. Бунин. Портрет работы Л.В. Туржанского. 1905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2A27-BB53-45A5-B5E4-F88F6B036E5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AnastasiaScript"/>
              </a:rPr>
              <a:t>Вера Муромце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4 ноябpя 1906 года Бунин познакомился в Москве, в доме Б.К. Зайцева, с Веpой Николаевной Муpомце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0 апpеля 1907 года Бунин и Веpа Николаевна отпpавились из Москвы в стpаны Востока - Египет, Сиpию, Палестин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2 мая, совеpшив свое "пеpвое дальнее стpанствие", в Одессе сошли на беpе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 этого путешаствия началась их совместная жи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F0E8-AC90-4AFB-9456-184514F1FE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2f2f2"/>
                </a:solidFill>
                <a:latin typeface="AnastasiaScript"/>
              </a:rPr>
              <a:t>Визит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Дата рождения: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0 (22) октября 18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Место рождения: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оронеж, Российская имп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Дата смерти: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8 ноября 1953(1953-11-08) (83 год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Место смерти: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ариж, Фран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Род деятельности: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эт, пис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60C0-CB71-4DF2-B0A9-9902D0C986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Надпись Бунина: "Весна 1907 г. Первое путешествие в Сирию, Палестину." 1907 г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776C-2ECD-4711-BDDE-5408A3210A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«Его пленяет Восток, "светоносные стpаны", пpо котоpые он с необычной кpаотою лиpического слова вспоминает тепеpь... Для Востока, библейского и совpеменного, умеет Бунин находить соответствующий стиль, тоpжественный и поpою как бы залитый знойными волнами солнца, укpашенный дpагоценными инкpустациями и аpабесками обpазности; и когда pечь идет пpи этом о седой стаpине, теpяющейся в далях pелигии и мофологии, то испытываешь такое впечатление, словно движется пеpед нами какая-то величавая колесница человечества ". 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Ю.И. Айхенваль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EE7D-36A8-4B39-8C46-EDE7F1EE8E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AnastasiaScript"/>
              </a:rPr>
              <a:t>Наград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кадемия наук пpисудила Бунину в 1909 году втоpую Пушкинскую пpемию за стихи и пеpеводы Байpона; тpетью - тоже за стих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том же году Бунин был избpан почетным академ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7DF6-E620-46A2-9AD3-B66FC8D038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AnastasiaScript"/>
              </a:rPr>
              <a:t>В рассказах и повестях показал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скудение дворянских усадеб («Антоновские яблоки», 1900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Жестокий лик деревни («Деревня», 1910, «Суходол», 1911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Гибельное забвение нравственных основ жизни («Господин из Сан-Франциско», 1915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езкое неприятие Октябрьской революции и большевистского режима в дневниковой книге «Окаянные дни» (1918, опубликована в 1925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автобиографическом романе «Жизнь Арсеньева»(1930) — воссоздание прошлого России, детства и юности писателя. Трагичность человеческого существования в повести «Митина любовь» 1925, сборнике рассказов «Тёмные аллеи» 1943, а также в других произведениях, замечательных образцах русской малой про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9628-8263-4B25-BB9D-6AC32EB7EA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**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Как дымкой даль полей закрыв на полчаса,</a:t>
            </a:r>
            <a:br>
              <a:rPr sz="1200"/>
            </a:b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Прошел внезапный дождь косыми полосами —</a:t>
            </a:r>
            <a:br>
              <a:rPr sz="1200"/>
            </a:b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И снова глубоко синеют небес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Над освеженными лесами. Тепло и влажный блеск. Запахли медом ржи,</a:t>
            </a:r>
            <a:br>
              <a:rPr sz="1200"/>
            </a:b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На солнце бархатом пшеницы отливают,</a:t>
            </a:r>
            <a:br>
              <a:rPr sz="1200"/>
            </a:b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И в зелени ветвей, в березах у межи,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Беспечно иволги болтают. И весел звучный лес, и ветер меж берез</a:t>
            </a:r>
            <a:br>
              <a:rPr sz="1200"/>
            </a:b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Уж веет ласково, а белые березы</a:t>
            </a:r>
            <a:br>
              <a:rPr sz="1200"/>
            </a:b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Роняют тихий дождь своих алмазных слез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И улыбаются сквозь слез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11F9-223A-4D70-9B3B-9DB79D499D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Ив. Бунин, М. Горький, его приемный сын (Зиновий), В. Муромцева (моя жена), М.Ф. Андреева, О.А. Каменская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6730-C712-4F63-8E83-4462F9AD78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Кабинет Горького. Капри, 191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4E2F-F4A4-4C1F-BBFF-30C373AB93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Бунин. 1910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ED70-3A71-43FB-948C-6DA476DF3A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И.А. Бунин. Одесса, 191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87D2-5D7C-4C23-8283-507822ADB3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«Чаша жизни»  (1915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FFC2-8579-4618-B3C1-9BF44F4A8C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f2f2"/>
                </a:solidFill>
                <a:latin typeface="AnastasiaScript"/>
              </a:rPr>
              <a:t>Семья. Отец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тец, Алексей Николаевич, помещик Орловской и Тульской губернии был вспыльчивый, азартный, более всего любящий охоту и пение под гитару старинных романсов. В конце концов он, из-за пристрастия к вину и картам, растратил не только собственное наследство, но и состояние же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о несмотря на эти пороки, его все очень любили за веселый нрав, щедрость, художественную одар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A9F1-0E65-472F-908E-0BB1E04911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AnastasiaScript"/>
              </a:rPr>
              <a:t>Эмигр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Летом 1918 года Бунин перебирается из большевистской Москвы в занятую германскими войсками Одесс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 приближением в апреле 1919 года к городу Красной армии не эмигрирует, а остаётся в Одесс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ветствует взятие города Добровольческой армией в августе 1919 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ктивно сотрудничает с ОСВАГ (пропагандистско-информационный орга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феврале 1920 при подходе большевиков покидает Росс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Эмигрирует во Францию. В течение этих лет ведёт дневник «Окаянные дни», частично утерянный, поразивший современников точностью языка и страстной ненавистью к большеви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B567-AD9B-4B64-84B7-42BCC74BFB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AnastasiaScript"/>
              </a:rPr>
              <a:t>Эмигр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эмиграции вёл активную общественно-политическую деятельность: выступал с лекциями, сотрудничал с русскими политическими партиями, регулярно печатал публицистические стать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1933 году получил Нобелевскую премию по литерату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торую мировую войну провёл на съёмной вилле «Жаннет» в Гра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E419-A400-4CF8-958B-CC6FA266B5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Возвращение в Пари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pи немцах Бунин ничего не печатал, хотя жил в большом безденежье и голод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 завоевателям относился с ненавистью, pадовался победам советских и союзных войс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1945 году он навсегда pапpощался с Гpассом и пеpвого мая возвpатился в Паpаж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следние годы он много болел. Все же написал книгу воспоминаний и pаботал на книгой "О Чехове", котоpую он закончить на усп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сего в эмигpации Бунин написал десять новых кни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3552-1E4D-429E-B9E1-50CBBD8E76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эмиграции Бунин создает свои лучшие вещ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Митина любовь»</a:t>
            </a:r>
            <a:r>
              <a:rPr b="0" lang="ru-RU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(1924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Солнечный удар» (1925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Дело корнета Елагина» (192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Жизнь Арсеньева»</a:t>
            </a:r>
            <a:r>
              <a:rPr b="0" lang="ru-RU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(1927—1929, 193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3DE9-B355-488E-A281-996B051132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nastasiaScript"/>
              </a:rPr>
              <a:t>Иван Алексеевич Бунин скончался в ночь на 8 ноябpя 1953 года на pуках своей жены в стpашной нищи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7FC2-299F-48CA-83B6-7DC1068167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nastasiaScript"/>
              </a:rPr>
              <a:t>**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ы мысль, ты сон. Сквозь дымную мете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егут кpесты - pаскинутые pу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Я слушаю задумчивую ель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евучий звон... Все - только мысль и звуки 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о, что лежит в могиле, pазве ты 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азлуками, печалью был отмеч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вой тpудный путь. Тепеpь их нет. Кpес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Хpанят лишь пpах. Тепеpь ты мысл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ы веч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70E6-1558-4479-8891-B7CF547B2D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nastasiaScript"/>
              </a:rPr>
              <a:t>Увековечивание и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Москве есть улица Бунинская аллея, рядом расположена одноимённая станция метр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городах Липецк, Ельц и Одесса есть улица Буни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Воронеже библиотека № 22 названа его именем; на доме, в котором родился писатель, установлена мемориальная таблич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Ефремове в доме, в котором в 1909—1910 гг. жил Бунин, открыт его муз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городе Москва на Поварской улице, недалеко от дома, в котором жил писатель, ему установлен памят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9F0F-5451-4F8A-BAD4-47B2BAE00F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мятник Ивану Бунину в г. Ор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A3F7-0A99-49B3-9DFB-063D1D106F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AnastasiaScript"/>
              </a:rPr>
              <a:t>Семья. Ма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ать Ивана Бунина была полной противоположностью мужу: кроткой, нежной и чувствительной натурой, воспитанной на лирике Пушкина и Жуковского и занималась, в первую очередь, воспитанием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75E5-8913-465B-BA8F-2DAA01660A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ладимир и Людмила Путины возложили цветы к могиле Ивана Бунина на русском кладбище в Сент-Женевьев-де-Буа под Париж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9B5E-5451-4C11-8755-D1010F391B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AnastasiaScript"/>
              </a:rPr>
              <a:t>Семья. Бр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Юлий поступил в университет, кончил курс, затем перешел еще на юридический, закончил гимназию с отличием. Ему прочили научную карьеру, но он увлекся другим: без конца читал Чернышевского и Добролюбова, сошелся с молодой оппозицией, вступил в революционно-демократическое движение, "ушел в народ" . Был арестован, отсидел некоторый срок, затем сослан в родные мес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7A7E-ABEB-4272-AF3F-54AA14D3DE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AnastasiaScript"/>
              </a:rPr>
              <a:t>Обу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85 – возвращение домой и продолжение обучения под руководством старшего брата Юл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5688-4E94-4D2D-B5EF-605C003803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2f2f2"/>
                </a:solidFill>
                <a:latin typeface="Calibri"/>
                <a:ea typeface="Andalus"/>
              </a:rPr>
              <a:t>Литературный дебю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1887 — «Нищий», «Над могилой С.Я Надсона» в журнале «Родин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 1889 г. идёт работать корректором в местную газету «Орловский вестни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4A9A-4AF8-499F-ACAF-B684633400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2f2f2"/>
                </a:solidFill>
                <a:latin typeface="AnastasiaScript"/>
              </a:rPr>
              <a:t>Варвара Пащенк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редакции Бунин познакомился с Ваpваpой Владимиpовной Пащенко, дочерью елецкого врача, работавшей коppектоp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Его страстная любовь к ней временами омрачалась ссор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1891 году она вышла замуж , но брак их не был узаконен, жили они не венчаясь, отец и мать не хотели выдавать дочь за нищего поэ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Юношеский роман Бунина составил сюжетную основу пятой книги "Жизни Аpсеньева", выходившей отдельно под названием "Лика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0B9E-FFDD-498D-8E84-011DDF0A2C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91 – сборник «Стихотворения» (Орё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98 - «Под открытым небо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1 - «Листопад» (Пушкинская прем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6CCA-E761-4F83-8DBF-E9341B36E2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EB3D-A7DA-4202-85E5-41A592C9F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9B49-0996-4E63-BBA5-E98D837B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33E2-8E59-4FA1-8370-6D2649CEE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57E9-4324-4E82-A39F-DE269C66D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0BF6-CEDB-4994-ABD1-1B713B06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D0EC-0D84-4E92-8311-01F5ECDC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24C0-4E7C-4F75-BFEC-5ADFE81C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8C64-D5E4-433E-AB3E-2B14BDC7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9C83-5B35-401B-A297-819A25F1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E95B-6FA1-44C7-9ADE-834E971C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E9BC-FE5B-428B-8AA2-FD58FDD3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74EA-6533-4953-99FF-85D896B1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276D-3DA6-410B-878D-3539129F48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628560" y="642960"/>
            <a:ext cx="8515440" cy="1493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785960" y="4785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nastasiaScript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nastasiaScript"/>
              </a:rPr>
              <a:t>Хронология жизни и творче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Прямоугольник 3"/>
          <p:cNvGrpSpPr/>
          <p:nvPr/>
        </p:nvGrpSpPr>
        <p:grpSpPr>
          <a:xfrm>
            <a:off x="268200" y="6413400"/>
            <a:ext cx="669960" cy="169920"/>
            <a:chOff x="268200" y="6413400"/>
            <a:chExt cx="669960" cy="169920"/>
          </a:xfrm>
        </p:grpSpPr>
        <p:pic>
          <p:nvPicPr>
            <p:cNvPr id="51" name="Прямоугольник 3" descr="">
              <a:hlinkClick r:id="" action="ppaction://hlinkshowjump?jump=endshow"/>
            </p:cNvPr>
            <p:cNvPicPr/>
            <p:nvPr/>
          </p:nvPicPr>
          <p:blipFill>
            <a:blip r:embed="rId2"/>
            <a:stretch/>
          </p:blipFill>
          <p:spPr>
            <a:xfrm>
              <a:off x="26820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5"/>
            <p:cNvSpPr/>
            <p:nvPr/>
          </p:nvSpPr>
          <p:spPr>
            <a:xfrm>
              <a:off x="28584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оугольник 4"/>
          <p:cNvGrpSpPr/>
          <p:nvPr/>
        </p:nvGrpSpPr>
        <p:grpSpPr>
          <a:xfrm>
            <a:off x="7480440" y="6413400"/>
            <a:ext cx="676080" cy="169920"/>
            <a:chOff x="7480440" y="6413400"/>
            <a:chExt cx="676080" cy="169920"/>
          </a:xfrm>
        </p:grpSpPr>
        <p:pic>
          <p:nvPicPr>
            <p:cNvPr id="54" name="Прямоугольник 4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7480440" y="6413400"/>
              <a:ext cx="67608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8"/>
            <p:cNvSpPr/>
            <p:nvPr/>
          </p:nvSpPr>
          <p:spPr>
            <a:xfrm>
              <a:off x="750096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оугольник 5"/>
          <p:cNvGrpSpPr/>
          <p:nvPr/>
        </p:nvGrpSpPr>
        <p:grpSpPr>
          <a:xfrm>
            <a:off x="8265960" y="6413400"/>
            <a:ext cx="676440" cy="169920"/>
            <a:chOff x="8265960" y="6413400"/>
            <a:chExt cx="676440" cy="169920"/>
          </a:xfrm>
        </p:grpSpPr>
        <p:pic>
          <p:nvPicPr>
            <p:cNvPr id="57" name="Прямоугольник 5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8265960" y="6413400"/>
              <a:ext cx="67644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1"/>
            <p:cNvSpPr/>
            <p:nvPr/>
          </p:nvSpPr>
          <p:spPr>
            <a:xfrm>
              <a:off x="828684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оугольник 6"/>
          <p:cNvGrpSpPr/>
          <p:nvPr/>
        </p:nvGrpSpPr>
        <p:grpSpPr>
          <a:xfrm>
            <a:off x="5913360" y="6413400"/>
            <a:ext cx="669960" cy="169920"/>
            <a:chOff x="5913360" y="6413400"/>
            <a:chExt cx="669960" cy="169920"/>
          </a:xfrm>
        </p:grpSpPr>
        <p:pic>
          <p:nvPicPr>
            <p:cNvPr id="60" name="Прямоугольник 6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591336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4"/>
            <p:cNvSpPr/>
            <p:nvPr/>
          </p:nvSpPr>
          <p:spPr>
            <a:xfrm>
              <a:off x="592920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Содержимое 11" descr="bunin_09.jpg"/>
          <p:cNvPicPr/>
          <p:nvPr/>
        </p:nvPicPr>
        <p:blipFill>
          <a:blip r:embed="rId6"/>
          <a:stretch/>
        </p:blipFill>
        <p:spPr>
          <a:xfrm>
            <a:off x="3889440" y="2286000"/>
            <a:ext cx="2062080" cy="2571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nastasiaScript"/>
              </a:rPr>
              <a:t>Л. Н. Толстой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8760" y="121392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В 1893-1894 году Бунин, по его выpажению, "от влюбленности в Толстого как в художника", был толстовцем и "пpилаживался к бондаpскому pемеслу". Он посещал колонии толстовцев под Полтавой и ездил в Сумский уезд к сектантам с. Павловки - "малеванцам", по своим взглядам близким к толстовца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В 1894 году отпpавился в Москву к Толстому и посетил его в один из дней между 4 и 8 янваpя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Встpеча пpоизвела на Бунина, как он писал, "потpясающее впечатление". Толстой и отговоpил его от того, чтобы "опpощаться до конца"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Содержимое 4" descr="24694933_tolstoy.jpg"/>
          <p:cNvPicPr/>
          <p:nvPr/>
        </p:nvPicPr>
        <p:blipFill>
          <a:blip r:embed="rId1"/>
          <a:stretch/>
        </p:blipFill>
        <p:spPr>
          <a:xfrm>
            <a:off x="4645080" y="1517760"/>
            <a:ext cx="3986280" cy="9246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1439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2f2f2"/>
                </a:solidFill>
                <a:latin typeface="AnastasiaScript"/>
              </a:rPr>
              <a:t>12 декабря 1895 год — знакомство с Чеховым.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Содержимое 4" descr="0000000168.jpg"/>
          <p:cNvPicPr/>
          <p:nvPr/>
        </p:nvPicPr>
        <p:blipFill>
          <a:blip r:embed="rId1"/>
          <a:stretch/>
        </p:blipFill>
        <p:spPr>
          <a:xfrm>
            <a:off x="6715080" y="3357720"/>
            <a:ext cx="2170080" cy="3214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D:\Бунин\bunin.jpg"/>
          <p:cNvPicPr/>
          <p:nvPr/>
        </p:nvPicPr>
        <p:blipFill>
          <a:blip r:embed="rId2"/>
          <a:stretch/>
        </p:blipFill>
        <p:spPr>
          <a:xfrm>
            <a:off x="214200" y="1000080"/>
            <a:ext cx="2071800" cy="3143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D:\Бунин\chehov.jpg"/>
          <p:cNvPicPr/>
          <p:nvPr/>
        </p:nvPicPr>
        <p:blipFill>
          <a:blip r:embed="rId3"/>
          <a:stretch/>
        </p:blipFill>
        <p:spPr>
          <a:xfrm>
            <a:off x="2714760" y="785880"/>
            <a:ext cx="3643200" cy="564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2f2f2"/>
                </a:solidFill>
                <a:latin typeface="AnastasiaScript"/>
              </a:rPr>
              <a:t>Анна Цакн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В июне 1898 года Бунин уехал в Одесс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В Одессе Бунин женился на Анне Николаевне Цакни (1879-1963) 23 сентябpя 1898 год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Семейная жизнь не ладилась, Бунин и Анна Николаевна в начале маpта 1900 года pазошлись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Их сын Коля умеp 16 янваpя 1905 год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Содержимое 4" descr="%C0.%CD.%D6%E0%EA%ED%E8.%20%CE%E4%E5%F1%F1%E0,%201898.JPG"/>
          <p:cNvPicPr/>
          <p:nvPr/>
        </p:nvPicPr>
        <p:blipFill>
          <a:blip r:embed="rId1"/>
          <a:stretch/>
        </p:blipFill>
        <p:spPr>
          <a:xfrm>
            <a:off x="4853160" y="1279440"/>
            <a:ext cx="3657600" cy="482292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5"/>
          <p:cNvSpPr/>
          <p:nvPr/>
        </p:nvSpPr>
        <p:spPr>
          <a:xfrm>
            <a:off x="5286240" y="607212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nastasiaScript"/>
              </a:rPr>
              <a:t>Дочь революционера-народ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2f2f2"/>
                </a:solidFill>
                <a:latin typeface="AnastasiaScript"/>
              </a:rPr>
              <a:t>Ял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12 апpеля 1900 года Бунин пpиехал в Ялту, где Художественный театp ставил для Чехова его "Чайку", "Дядю ваню" и дpугие спектакл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Бунин познакомился со Станиславским, Книппеp, С.В. Рахманиновым, с котоpым у него навсегда установилась дpужб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Содержимое 5" descr="bunin_04.jpg"/>
          <p:cNvPicPr/>
          <p:nvPr/>
        </p:nvPicPr>
        <p:blipFill>
          <a:blip r:embed="rId1"/>
          <a:stretch/>
        </p:blipFill>
        <p:spPr>
          <a:xfrm>
            <a:off x="4138560" y="1901880"/>
            <a:ext cx="5005440" cy="351792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6"/>
          <p:cNvSpPr/>
          <p:nvPr/>
        </p:nvSpPr>
        <p:spPr>
          <a:xfrm>
            <a:off x="4357800" y="5500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2f2f2"/>
                </a:solidFill>
                <a:latin typeface="Calibri"/>
              </a:rPr>
              <a:t>И.А. Бунин, М.П. Чехова (в центре), С.Ф. Лаврова. Ялта, 1900-1902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56760" y="1356840"/>
            <a:ext cx="442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2f2f2"/>
                </a:solidFill>
                <a:latin typeface="Calibri"/>
              </a:rPr>
              <a:t>"Красив?.. Целую Ваши ручки, кланяюсь дорогому Антону Павловичу и Евгении Яковлевне, очень прошу написать мне. Еду в Одессу с Найденовым: Софиевская, 5. 29 декабря 1902 г. Ваш И. Бунин"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Содержимое 4" descr="аипа.jpg"/>
          <p:cNvPicPr/>
          <p:nvPr/>
        </p:nvPicPr>
        <p:blipFill>
          <a:blip r:embed="rId1"/>
          <a:stretch/>
        </p:blipFill>
        <p:spPr>
          <a:xfrm>
            <a:off x="5000760" y="1571760"/>
            <a:ext cx="3336840" cy="490824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5"/>
          <p:cNvSpPr/>
          <p:nvPr/>
        </p:nvSpPr>
        <p:spPr>
          <a:xfrm>
            <a:off x="4643280" y="428760"/>
            <a:ext cx="421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И.А. Бунин. 23 декабря 19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Фотография с текстом письма к М.П. Чехов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2f2f2"/>
                </a:solidFill>
                <a:latin typeface="AnastasiaScript"/>
              </a:rPr>
              <a:t>«Листопад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"Листопад" и пеpевод "Песни о Гайавате" Лонгфелло были отмечены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Пушкинской пpемией Российской Академии наук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, пpисужденной Бунину 19 октябpя 1903 год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42920" y="17146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 начале 1901 года вышел сбоpник стихов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«Листопад»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ызвавший многочисленные отзывы кpити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nastasiaScript"/>
              </a:rPr>
              <a:t>Члены московской литературной группы «Среды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Содержимое 6" descr="bunin_63.jpg"/>
          <p:cNvPicPr/>
          <p:nvPr/>
        </p:nvPicPr>
        <p:blipFill>
          <a:blip r:embed="rId1"/>
          <a:stretch/>
        </p:blipFill>
        <p:spPr>
          <a:xfrm>
            <a:off x="1285920" y="1643040"/>
            <a:ext cx="6786360" cy="429264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7"/>
          <p:cNvSpPr/>
          <p:nvPr/>
        </p:nvSpPr>
        <p:spPr>
          <a:xfrm>
            <a:off x="285840" y="6072120"/>
            <a:ext cx="885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2f2f2"/>
                </a:solidFill>
                <a:latin typeface="Calibri"/>
              </a:rPr>
              <a:t>М. Горький, И. Бунин, Ф. Шаляпин. Скиталец (С. Петров), Н. Телешов, Л. Андреев, Е. Чири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f2f2"/>
                </a:solidFill>
                <a:latin typeface="AnastasiaScript"/>
              </a:rPr>
              <a:t>И.А. Бунин, С.А. Найденов (в центре), А.М. Федоров. 1903 год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Содержимое 3" descr="bunin_06.jpg"/>
          <p:cNvPicPr/>
          <p:nvPr/>
        </p:nvPicPr>
        <p:blipFill>
          <a:blip r:embed="rId1"/>
          <a:stretch/>
        </p:blipFill>
        <p:spPr>
          <a:xfrm>
            <a:off x="2928960" y="1500120"/>
            <a:ext cx="3286080" cy="4827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2f2f2"/>
                </a:solidFill>
                <a:latin typeface="AnastasiaScript"/>
              </a:rPr>
              <a:t>И.А. Бунин. Портрет работы Л.В. Туржанского. 1905г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Содержимое 3" descr="bunin_34.jpg"/>
          <p:cNvPicPr/>
          <p:nvPr/>
        </p:nvPicPr>
        <p:blipFill>
          <a:blip r:embed="rId1"/>
          <a:stretch/>
        </p:blipFill>
        <p:spPr>
          <a:xfrm>
            <a:off x="2432160" y="1584360"/>
            <a:ext cx="4279680" cy="977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2f2f2"/>
                </a:solidFill>
                <a:latin typeface="AnastasiaScript"/>
              </a:rPr>
              <a:t>Вера Муромцев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28760" y="1285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4 ноябpя 1906 года Бунин познакомился в Москве, в доме Б.К. Зайцева, с Веpой Николаевной Муpомцев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0 апpеля 1907 года Бунин и Веpа Николаевна отпpавились из Москвы в стpаны Востока - Египет, Сиpию, Палестин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2 мая, совеpшив свое "пеpвое дальнее стpанствие", в Одессе сошли на беpе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 этого путешаствия началась их совместная жизн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Содержимое 6" descr="muromtseva-3.jpg"/>
          <p:cNvPicPr/>
          <p:nvPr/>
        </p:nvPicPr>
        <p:blipFill>
          <a:blip r:embed="rId1"/>
          <a:stretch/>
        </p:blipFill>
        <p:spPr>
          <a:xfrm>
            <a:off x="5214960" y="1214280"/>
            <a:ext cx="3214800" cy="423072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7"/>
          <p:cNvSpPr/>
          <p:nvPr/>
        </p:nvSpPr>
        <p:spPr>
          <a:xfrm>
            <a:off x="4429080" y="55720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2f2f2"/>
                </a:solidFill>
                <a:latin typeface="Calibri"/>
              </a:rPr>
              <a:t>Дочь члена Московской гоpодской упpавы и племянница пpедседателя Пеpвой Госудаpственной Думы С.А. Муpомце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2f2f2"/>
                </a:solidFill>
                <a:latin typeface="AnastasiaScript"/>
              </a:rPr>
              <a:t>Визитк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Дата рождения: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0 (22) октября 187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Место рождения: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оронеж, Российская импе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Дата смерти: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8 ноября 1953(1953-11-08) (83 год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Место смерти: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ариж, Фран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Род деятельности: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эт, писате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11" descr="bunin_09.jpg"/>
          <p:cNvPicPr/>
          <p:nvPr/>
        </p:nvPicPr>
        <p:blipFill>
          <a:blip r:embed="rId1"/>
          <a:stretch/>
        </p:blipFill>
        <p:spPr>
          <a:xfrm>
            <a:off x="4906800" y="1474920"/>
            <a:ext cx="3902400" cy="4865400"/>
          </a:xfrm>
          <a:prstGeom prst="rect">
            <a:avLst/>
          </a:prstGeom>
          <a:ln w="0">
            <a:noFill/>
          </a:ln>
        </p:spPr>
      </p:pic>
      <p:grpSp>
        <p:nvGrpSpPr>
          <p:cNvPr id="66" name="Прямоугольник 6"/>
          <p:cNvGrpSpPr/>
          <p:nvPr/>
        </p:nvGrpSpPr>
        <p:grpSpPr>
          <a:xfrm>
            <a:off x="268200" y="6413400"/>
            <a:ext cx="669960" cy="169920"/>
            <a:chOff x="268200" y="6413400"/>
            <a:chExt cx="669960" cy="169920"/>
          </a:xfrm>
        </p:grpSpPr>
        <p:pic>
          <p:nvPicPr>
            <p:cNvPr id="67" name="Прямоугольник 6" descr="">
              <a:hlinkClick r:id="" action="ppaction://hlinkshowjump?jump=endshow"/>
            </p:cNvPr>
            <p:cNvPicPr/>
            <p:nvPr/>
          </p:nvPicPr>
          <p:blipFill>
            <a:blip r:embed="rId2"/>
            <a:stretch/>
          </p:blipFill>
          <p:spPr>
            <a:xfrm>
              <a:off x="26820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6"/>
            <p:cNvSpPr/>
            <p:nvPr/>
          </p:nvSpPr>
          <p:spPr>
            <a:xfrm>
              <a:off x="28584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Прямоугольник 7"/>
          <p:cNvGrpSpPr/>
          <p:nvPr/>
        </p:nvGrpSpPr>
        <p:grpSpPr>
          <a:xfrm>
            <a:off x="7480440" y="6413400"/>
            <a:ext cx="676080" cy="169920"/>
            <a:chOff x="7480440" y="6413400"/>
            <a:chExt cx="676080" cy="169920"/>
          </a:xfrm>
        </p:grpSpPr>
        <p:pic>
          <p:nvPicPr>
            <p:cNvPr id="70" name="Прямоугольник 7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7480440" y="6413400"/>
              <a:ext cx="67608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9"/>
            <p:cNvSpPr/>
            <p:nvPr/>
          </p:nvSpPr>
          <p:spPr>
            <a:xfrm>
              <a:off x="750096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Прямоугольник 8"/>
          <p:cNvGrpSpPr/>
          <p:nvPr/>
        </p:nvGrpSpPr>
        <p:grpSpPr>
          <a:xfrm>
            <a:off x="8265960" y="6413400"/>
            <a:ext cx="676440" cy="169920"/>
            <a:chOff x="8265960" y="6413400"/>
            <a:chExt cx="676440" cy="169920"/>
          </a:xfrm>
        </p:grpSpPr>
        <p:pic>
          <p:nvPicPr>
            <p:cNvPr id="73" name="Прямоугольник 8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8265960" y="6413400"/>
              <a:ext cx="67644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2"/>
            <p:cNvSpPr/>
            <p:nvPr/>
          </p:nvSpPr>
          <p:spPr>
            <a:xfrm>
              <a:off x="828684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Прямоугольник 9"/>
          <p:cNvGrpSpPr/>
          <p:nvPr/>
        </p:nvGrpSpPr>
        <p:grpSpPr>
          <a:xfrm>
            <a:off x="5913360" y="6413400"/>
            <a:ext cx="669960" cy="169920"/>
            <a:chOff x="5913360" y="6413400"/>
            <a:chExt cx="669960" cy="169920"/>
          </a:xfrm>
        </p:grpSpPr>
        <p:pic>
          <p:nvPicPr>
            <p:cNvPr id="76" name="Прямоугольник 9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591336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5"/>
            <p:cNvSpPr/>
            <p:nvPr/>
          </p:nvSpPr>
          <p:spPr>
            <a:xfrm>
              <a:off x="592920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AnastasiaScript"/>
              </a:rPr>
              <a:t>Надпись Бунина: "Весна 1907 г. Первое путешествие в Сирию, Палестину." 1907 год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Содержимое 6" descr="bunin_07.jpg"/>
          <p:cNvPicPr/>
          <p:nvPr/>
        </p:nvPicPr>
        <p:blipFill>
          <a:blip r:embed="rId1"/>
          <a:stretch/>
        </p:blipFill>
        <p:spPr>
          <a:xfrm>
            <a:off x="2928960" y="1500120"/>
            <a:ext cx="3214800" cy="481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Горизонтальный свиток 4"/>
          <p:cNvSpPr/>
          <p:nvPr/>
        </p:nvSpPr>
        <p:spPr>
          <a:xfrm>
            <a:off x="428760" y="142920"/>
            <a:ext cx="8358120" cy="6357960"/>
          </a:xfrm>
          <a:prstGeom prst="horizontalScroll">
            <a:avLst>
              <a:gd name="adj" fmla="val 12500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Monotype Corsiva"/>
              </a:rPr>
              <a:t>«Его пленяет Восток, "светоносные стpаны", пpо котоpые он с необычной кpаотою лиpического слова вспоминает тепеpь... Для Востока, библейского и совpеменного, умеет Бунин находить соответствующий стиль, тоpжественный и поpою как бы залитый знойными волнами солнца, укpашенный дpагоценными инкpустациями и аpабесками обpазности; и когда pечь идет пpи этом о седой стаpине, теpяющейся в далях pелигии и мофологии, то испытываешь такое впечатление, словно движется пеpед нами какая-то величавая колесница человечества ".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Ю.И. Айхенваль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2f2f2"/>
                </a:solidFill>
                <a:latin typeface="AnastasiaScript"/>
              </a:rPr>
              <a:t>Награды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Академия наук пpисудила Бунину в 1909 году втоpую Пушкинскую пpемию за стихи и пеpеводы Байpона; тpетью - тоже за стих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В том же году Бунин был избpан почетным академиком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D:\Бунин\422px-1990_CPA_6256.jpg"/>
          <p:cNvPicPr/>
          <p:nvPr/>
        </p:nvPicPr>
        <p:blipFill>
          <a:blip r:embed="rId1"/>
          <a:stretch/>
        </p:blipFill>
        <p:spPr>
          <a:xfrm>
            <a:off x="5072040" y="1428840"/>
            <a:ext cx="3500640" cy="4978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2f2f2"/>
                </a:solidFill>
                <a:latin typeface="AnastasiaScript"/>
              </a:rPr>
              <a:t>В рассказах и повестях показал: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Оскудение дворянских усадеб («Антоновские яблоки», 1900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Жестокий лик деревни («Деревня», 1910, «Суходол», 1911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Гибельное забвение нравственных основ жизни («Господин из Сан-Франциско», 1915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Резкое неприятие Октябрьской революции и большевистского режима в дневниковой книге «Окаянные дни» (1918, опубликована в 1925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В автобиографическом романе «Жизнь Арсеньева»(1930) — воссоздание прошлого России, детства и юности писателя. Трагичность человеческого существования в повести «Митина любовь» 1925, сборнике рассказов «Тёмные аллеи» 1943, а также в других произведениях, замечательных образцах русской малой проз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85840" y="1143000"/>
            <a:ext cx="41860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**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Как дымкой даль полей закрыв на полчаса,</a:t>
            </a:r>
            <a:br>
              <a:rPr sz="2000"/>
            </a:b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Прошел внезапный дождь косыми полосами —</a:t>
            </a:r>
            <a:br>
              <a:rPr sz="2000"/>
            </a:b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И снова глубоко синеют небес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Над освеженными лесами. Тепло и влажный блеск. Запахли медом ржи,</a:t>
            </a:r>
            <a:br>
              <a:rPr sz="2000"/>
            </a:b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На солнце бархатом пшеницы отливают,</a:t>
            </a:r>
            <a:br>
              <a:rPr sz="2000"/>
            </a:b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И в зелени ветвей, в березах у межи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Беспечно иволги болтают. И весел звучный лес, и ветер меж берез</a:t>
            </a:r>
            <a:br>
              <a:rPr sz="2000"/>
            </a:b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Уж веет ласково, а белые березы</a:t>
            </a:r>
            <a:br>
              <a:rPr sz="2000"/>
            </a:b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Роняют тихий дождь своих алмазных слез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И улыбаются сквозь слез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Выноска-облако 4"/>
          <p:cNvSpPr/>
          <p:nvPr/>
        </p:nvSpPr>
        <p:spPr>
          <a:xfrm>
            <a:off x="4714920" y="214200"/>
            <a:ext cx="4429080" cy="27860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Стихотворения Бунина насыщены красками, льются, переливно и легко запоминаются, и передают суть сказанного так, что создается впечатление, что видишь все описываемое своими глаз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AnastasiaScript"/>
              </a:rPr>
              <a:t>Ив. Бунин, М. Горький, его приемный сын (Зиновий), В. Муромцева (моя жена), М.Ф. Андреева, О.А. Каменская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Содержимое 3" descr="bunin_10.jpg"/>
          <p:cNvPicPr/>
          <p:nvPr/>
        </p:nvPicPr>
        <p:blipFill>
          <a:blip r:embed="rId1"/>
          <a:stretch/>
        </p:blipFill>
        <p:spPr>
          <a:xfrm>
            <a:off x="785880" y="1571760"/>
            <a:ext cx="7929360" cy="485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AnastasiaScript"/>
              </a:rPr>
              <a:t>Кабинет Горького. Капри, 1913 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Содержимое 3" descr="bunin_11.jpg"/>
          <p:cNvPicPr/>
          <p:nvPr/>
        </p:nvPicPr>
        <p:blipFill>
          <a:blip r:embed="rId1"/>
          <a:stretch/>
        </p:blipFill>
        <p:spPr>
          <a:xfrm>
            <a:off x="571680" y="1714680"/>
            <a:ext cx="8001000" cy="473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2f2f2"/>
                </a:solidFill>
                <a:latin typeface="AnastasiaScript"/>
              </a:rPr>
              <a:t>Бунин. 1910 го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Содержимое 3" descr="bunin_65.jpg"/>
          <p:cNvPicPr/>
          <p:nvPr/>
        </p:nvPicPr>
        <p:blipFill>
          <a:blip r:embed="rId1"/>
          <a:stretch/>
        </p:blipFill>
        <p:spPr>
          <a:xfrm>
            <a:off x="3000240" y="1500120"/>
            <a:ext cx="3000600" cy="4845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AnastasiaScript"/>
              </a:rPr>
              <a:t>И.А. Бунин. Одесса, 1913 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Содержимое 3" descr="bunin_45.jpg"/>
          <p:cNvPicPr/>
          <p:nvPr/>
        </p:nvPicPr>
        <p:blipFill>
          <a:blip r:embed="rId1"/>
          <a:stretch/>
        </p:blipFill>
        <p:spPr>
          <a:xfrm>
            <a:off x="571680" y="1285920"/>
            <a:ext cx="4000320" cy="498780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4"/>
          <p:cNvSpPr/>
          <p:nvPr/>
        </p:nvSpPr>
        <p:spPr>
          <a:xfrm>
            <a:off x="5286240" y="1857240"/>
            <a:ext cx="3143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невник 1911 года "Воды многие", опубликованный почти без изменений в 1925-1926 годы, -высокий обpазец новой и для Бунина, и для pусской литеpатуpы лиpической пpоз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68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f2f2"/>
                </a:solidFill>
                <a:latin typeface="AnastasiaScript"/>
              </a:rPr>
              <a:t>«Чаша жизни»  (1915 год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Содержимое 3" descr="bunin_13.jpg"/>
          <p:cNvPicPr/>
          <p:nvPr/>
        </p:nvPicPr>
        <p:blipFill>
          <a:blip r:embed="rId1"/>
          <a:stretch/>
        </p:blipFill>
        <p:spPr>
          <a:xfrm>
            <a:off x="642960" y="1643040"/>
            <a:ext cx="3429000" cy="4562640"/>
          </a:xfrm>
          <a:prstGeom prst="rect">
            <a:avLst/>
          </a:prstGeom>
          <a:ln w="0">
            <a:noFill/>
          </a:ln>
        </p:spPr>
      </p:pic>
      <p:grpSp>
        <p:nvGrpSpPr>
          <p:cNvPr id="183" name="Прямоугольник 4"/>
          <p:cNvGrpSpPr/>
          <p:nvPr/>
        </p:nvGrpSpPr>
        <p:grpSpPr>
          <a:xfrm>
            <a:off x="4237200" y="1938240"/>
            <a:ext cx="4846320" cy="4729680"/>
            <a:chOff x="4237200" y="1938240"/>
            <a:chExt cx="4846320" cy="4729680"/>
          </a:xfrm>
        </p:grpSpPr>
        <p:pic>
          <p:nvPicPr>
            <p:cNvPr id="184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4237200" y="1938240"/>
              <a:ext cx="4846320" cy="391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5"/>
            <p:cNvSpPr/>
            <p:nvPr/>
          </p:nvSpPr>
          <p:spPr>
            <a:xfrm>
              <a:off x="4357800" y="2000160"/>
              <a:ext cx="4572000" cy="46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Monotype Corsiva"/>
                </a:rPr>
                <a:t>« Как все сложно психологически ! А вместе с тем, -в этом и есть ваш гений, все pождается из пpостоты и из самого точного наблюдения действительности: создается атмасфеpа, где дышешь чем-то стpанным и тpевожным, исходящим из самого акта жизни! У вас все есть излучение жизни, полной сил, и тpевожит именно своими силами, силами пеpвобытными, где под видимым единством таится сложность, нечто неизбывное, наpушающее пpевычную на ясную ноpму»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Прямоугольник 5"/>
          <p:cNvSpPr/>
          <p:nvPr/>
        </p:nvSpPr>
        <p:spPr>
          <a:xfrm>
            <a:off x="4286160" y="8571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Фpанцузский писатель, поэт и литеpатуpный кpитик Рене Гиль писал Бунину в 1921 году об озданной по-фpанцузски "Чаше жизни"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2f2f2"/>
                </a:solidFill>
                <a:latin typeface="AnastasiaScript"/>
              </a:rPr>
              <a:t>Семья. Отец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14" descr="bunin_a_n.jpg"/>
          <p:cNvPicPr/>
          <p:nvPr/>
        </p:nvPicPr>
        <p:blipFill>
          <a:blip r:embed="rId1"/>
          <a:stretch/>
        </p:blipFill>
        <p:spPr>
          <a:xfrm>
            <a:off x="738360" y="1523880"/>
            <a:ext cx="3625560" cy="49928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642920" y="17859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тец, Алексей Николаевич, помещик Орловской и Тульской губернии был вспыльчивый, азартный, более всего любящий охоту и пение под гитару старинных романсов. В конце концов он, из-за пристрастия к вину и картам, растратил не только собственное наследство, но и состояние жен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Но несмотря на эти пороки, его все очень любили за веселый нрав, щедрость, художественную одарен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Прямоугольник 6"/>
          <p:cNvGrpSpPr/>
          <p:nvPr/>
        </p:nvGrpSpPr>
        <p:grpSpPr>
          <a:xfrm>
            <a:off x="268200" y="6413400"/>
            <a:ext cx="669960" cy="169920"/>
            <a:chOff x="268200" y="6413400"/>
            <a:chExt cx="669960" cy="169920"/>
          </a:xfrm>
        </p:grpSpPr>
        <p:pic>
          <p:nvPicPr>
            <p:cNvPr id="82" name="Прямоугольник 6" descr="">
              <a:hlinkClick r:id="" action="ppaction://hlinkshowjump?jump=endshow"/>
            </p:cNvPr>
            <p:cNvPicPr/>
            <p:nvPr/>
          </p:nvPicPr>
          <p:blipFill>
            <a:blip r:embed="rId2"/>
            <a:stretch/>
          </p:blipFill>
          <p:spPr>
            <a:xfrm>
              <a:off x="26820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6"/>
            <p:cNvSpPr/>
            <p:nvPr/>
          </p:nvSpPr>
          <p:spPr>
            <a:xfrm>
              <a:off x="28584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Прямоугольник 7"/>
          <p:cNvGrpSpPr/>
          <p:nvPr/>
        </p:nvGrpSpPr>
        <p:grpSpPr>
          <a:xfrm>
            <a:off x="7480440" y="6413400"/>
            <a:ext cx="676080" cy="169920"/>
            <a:chOff x="7480440" y="6413400"/>
            <a:chExt cx="676080" cy="169920"/>
          </a:xfrm>
        </p:grpSpPr>
        <p:pic>
          <p:nvPicPr>
            <p:cNvPr id="85" name="Прямоугольник 7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7480440" y="6413400"/>
              <a:ext cx="67608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9"/>
            <p:cNvSpPr/>
            <p:nvPr/>
          </p:nvSpPr>
          <p:spPr>
            <a:xfrm>
              <a:off x="750096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Прямоугольник 8"/>
          <p:cNvGrpSpPr/>
          <p:nvPr/>
        </p:nvGrpSpPr>
        <p:grpSpPr>
          <a:xfrm>
            <a:off x="8265960" y="6413400"/>
            <a:ext cx="676440" cy="169920"/>
            <a:chOff x="8265960" y="6413400"/>
            <a:chExt cx="676440" cy="169920"/>
          </a:xfrm>
        </p:grpSpPr>
        <p:pic>
          <p:nvPicPr>
            <p:cNvPr id="88" name="Прямоугольник 8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8265960" y="6413400"/>
              <a:ext cx="67644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2"/>
            <p:cNvSpPr/>
            <p:nvPr/>
          </p:nvSpPr>
          <p:spPr>
            <a:xfrm>
              <a:off x="828684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Прямоугольник 9"/>
          <p:cNvGrpSpPr/>
          <p:nvPr/>
        </p:nvGrpSpPr>
        <p:grpSpPr>
          <a:xfrm>
            <a:off x="5913360" y="6413400"/>
            <a:ext cx="669960" cy="169920"/>
            <a:chOff x="5913360" y="6413400"/>
            <a:chExt cx="669960" cy="169920"/>
          </a:xfrm>
        </p:grpSpPr>
        <p:pic>
          <p:nvPicPr>
            <p:cNvPr id="91" name="Прямоугольник 9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591336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5"/>
            <p:cNvSpPr/>
            <p:nvPr/>
          </p:nvSpPr>
          <p:spPr>
            <a:xfrm>
              <a:off x="592920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Picture 2" descr="D:\Бунин\gerb.jpg"/>
          <p:cNvPicPr/>
          <p:nvPr/>
        </p:nvPicPr>
        <p:blipFill>
          <a:blip r:embed="rId6"/>
          <a:stretch/>
        </p:blipFill>
        <p:spPr>
          <a:xfrm>
            <a:off x="7407360" y="208080"/>
            <a:ext cx="1474560" cy="2668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2f2f2"/>
                </a:solidFill>
                <a:latin typeface="AnastasiaScript"/>
              </a:rPr>
              <a:t>Эмиграци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Летом 1918 года Бунин перебирается из большевистской Москвы в занятую германскими войсками Одессу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С приближением в апреле 1919 года к городу Красной армии не эмигрирует, а остаётся в Одессе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Приветствует взятие города Добровольческой армией в августе 1919 год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Активно сотрудничает с ОСВАГ (пропагандистско-информационный орган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В феврале 1920 при подходе большевиков покидает Россию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Эмигрирует во Францию. В течение этих лет ведёт дневник «Окаянные дни», частично утерянный, поразивший современников точностью языка и страстной ненавистью к большевика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2f2f2"/>
                </a:solidFill>
                <a:latin typeface="AnastasiaScript"/>
              </a:rPr>
              <a:t>Эмиграци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7120" y="1357200"/>
            <a:ext cx="3214800" cy="50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эмиграции вёл активную общественно-политическую деятельность: выступал с лекциями, сотрудничал с русскими политическими партиями, регулярно печатал публицистические стать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1933 году получил Нобелевскую премию по литератур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торую мировую войну провёл на съёмной вилле «Жаннет» в Грас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3" descr="D:\Бунин\bunin_40.jpg"/>
          <p:cNvPicPr/>
          <p:nvPr/>
        </p:nvPicPr>
        <p:blipFill>
          <a:blip r:embed="rId1"/>
          <a:stretch/>
        </p:blipFill>
        <p:spPr>
          <a:xfrm>
            <a:off x="3786120" y="1857240"/>
            <a:ext cx="4978440" cy="3357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AnastasiaScript"/>
              </a:rPr>
              <a:t>Возвращение в Пари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99680" y="1714680"/>
            <a:ext cx="442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pи немцах Бунин ничего не печатал, хотя жил в большом безденежье и голод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К завоевателям относился с ненавистью, pадовался победам советских и союзных войс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1945 году он навсегда pапpощался с Гpассом и пеpвого мая возвpатился в Паpаж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оследние годы он много болел. Все же написал книгу воспоминаний и pаботал на книгой "О Чехове", котоpую он закончить на успе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сего в эмигpации Бунин написал десять новых кни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2" descr="D:\Бунин\bunin_29.jpg"/>
          <p:cNvPicPr/>
          <p:nvPr/>
        </p:nvPicPr>
        <p:blipFill>
          <a:blip r:embed="rId1"/>
          <a:stretch/>
        </p:blipFill>
        <p:spPr>
          <a:xfrm>
            <a:off x="5357880" y="1643040"/>
            <a:ext cx="3357360" cy="479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642600"/>
            <a:ext cx="482904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 эмиграции Бунин создает свои лучшие вещи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«Митина любовь»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(1924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«Солнечный удар» (1925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«Дело корнета Елагина» (192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«Жизнь Арсеньева»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(1927—1929, 193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2" descr="D:\Бунин\204271.jpg"/>
          <p:cNvPicPr/>
          <p:nvPr/>
        </p:nvPicPr>
        <p:blipFill>
          <a:blip r:embed="rId1"/>
          <a:stretch/>
        </p:blipFill>
        <p:spPr>
          <a:xfrm>
            <a:off x="5261040" y="1139760"/>
            <a:ext cx="3181320" cy="8553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0" y="213840"/>
            <a:ext cx="8215200" cy="16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nastasiaScript"/>
              </a:rPr>
              <a:t>Иван Алексеевич Бунин скончался в ночь на 8 ноябpя 1953 года на pуках своей жены в стpашной нищи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Прямоугольник 4"/>
          <p:cNvSpPr/>
          <p:nvPr/>
        </p:nvSpPr>
        <p:spPr>
          <a:xfrm>
            <a:off x="214200" y="5288040"/>
            <a:ext cx="6000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nastasiaScript"/>
              </a:rPr>
              <a:t>Похоpонен Бунин на кладбище Сент-Женевьев-де-Буа под Паpижем, в склепе, в цинковом гpоб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85480" y="785880"/>
            <a:ext cx="60008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nastasiaScript"/>
              </a:rPr>
              <a:t>**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ы мысль, ты сон. Сквозь дымную метел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Бегут кpесты - pаскинутые pу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Я слушаю задумчивую ель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евучий звон... Все - только мысль и звуки 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о, что лежит в могиле, pазве ты 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Разлуками, печалью был отмече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вой тpудный путь. Тепеpь их нет. Кpест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Хpанят лишь пpах. Тепеpь ты мысл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ы вече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2" descr="D:\Бунин\mogila-paris_h250.jpg"/>
          <p:cNvPicPr/>
          <p:nvPr/>
        </p:nvPicPr>
        <p:blipFill>
          <a:blip r:embed="rId1"/>
          <a:stretch/>
        </p:blipFill>
        <p:spPr>
          <a:xfrm>
            <a:off x="6211800" y="1706400"/>
            <a:ext cx="2584440" cy="3945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nastasiaScript"/>
              </a:rPr>
              <a:t>Увековечивание име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В Москве есть улица Бунинская аллея, рядом расположена одноимённая станция метро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В городах Липецк, Ельц и Одесса есть улица Бунин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В Воронеже библиотека № 22 названа его именем; на доме, в котором родился писатель, установлена мемориальная табличк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В Ефремове в доме, в котором в 1909—1910 гг. жил Бунин, открыт его музей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В городе Москва на Поварской улице, недалеко от дома, в котором жил писатель, ему установлен памятник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Содержимое 3" descr="Памятник_Бунину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4"/>
          <p:cNvSpPr/>
          <p:nvPr/>
        </p:nvSpPr>
        <p:spPr>
          <a:xfrm>
            <a:off x="6037560" y="6357960"/>
            <a:ext cx="31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амятник Бунину в Вороне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Содержимое 3" descr="450px-IvanBunin.JPG"/>
          <p:cNvPicPr/>
          <p:nvPr/>
        </p:nvPicPr>
        <p:blipFill>
          <a:blip r:embed="rId1"/>
          <a:stretch/>
        </p:blipFill>
        <p:spPr>
          <a:xfrm>
            <a:off x="1928880" y="214200"/>
            <a:ext cx="4722840" cy="628668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5"/>
          <p:cNvSpPr/>
          <p:nvPr/>
        </p:nvSpPr>
        <p:spPr>
          <a:xfrm>
            <a:off x="6858000" y="28584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мятник Ивану Бунину в г. Ор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Содержимое 3" descr="86408031.jpg"/>
          <p:cNvPicPr/>
          <p:nvPr/>
        </p:nvPicPr>
        <p:blipFill>
          <a:blip r:embed="rId1"/>
          <a:stretch/>
        </p:blipFill>
        <p:spPr>
          <a:xfrm>
            <a:off x="0" y="0"/>
            <a:ext cx="4643280" cy="6869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D:\Бунин\70353879.jpg"/>
          <p:cNvPicPr/>
          <p:nvPr/>
        </p:nvPicPr>
        <p:blipFill>
          <a:blip r:embed="rId2"/>
          <a:stretch/>
        </p:blipFill>
        <p:spPr>
          <a:xfrm>
            <a:off x="4643280" y="0"/>
            <a:ext cx="45054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428400"/>
            <a:ext cx="4614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f2f2f2"/>
                </a:solidFill>
                <a:latin typeface="AnastasiaScript"/>
              </a:rPr>
              <a:t>Семья. Мать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00080" y="1714680"/>
            <a:ext cx="4038480" cy="43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Мать Ивана Бунина была полной противоположностью мужу: кроткой, нежной и чувствительной натурой, воспитанной на лирике Пушкина и Жуковского и занималась, в первую очередь, воспитанием дете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Содержимое 16" descr="bunina_l_a.jpg"/>
          <p:cNvPicPr/>
          <p:nvPr/>
        </p:nvPicPr>
        <p:blipFill>
          <a:blip r:embed="rId1"/>
          <a:stretch/>
        </p:blipFill>
        <p:spPr>
          <a:xfrm>
            <a:off x="5310360" y="378000"/>
            <a:ext cx="3741480" cy="5041800"/>
          </a:xfrm>
          <a:prstGeom prst="rect">
            <a:avLst/>
          </a:prstGeom>
          <a:ln w="0">
            <a:noFill/>
          </a:ln>
        </p:spPr>
      </p:pic>
      <p:grpSp>
        <p:nvGrpSpPr>
          <p:cNvPr id="97" name="Прямоугольник 6"/>
          <p:cNvGrpSpPr/>
          <p:nvPr/>
        </p:nvGrpSpPr>
        <p:grpSpPr>
          <a:xfrm>
            <a:off x="268200" y="6413400"/>
            <a:ext cx="669960" cy="169920"/>
            <a:chOff x="268200" y="6413400"/>
            <a:chExt cx="669960" cy="169920"/>
          </a:xfrm>
        </p:grpSpPr>
        <p:pic>
          <p:nvPicPr>
            <p:cNvPr id="98" name="Прямоугольник 6" descr="">
              <a:hlinkClick r:id="" action="ppaction://hlinkshowjump?jump=endshow"/>
            </p:cNvPr>
            <p:cNvPicPr/>
            <p:nvPr/>
          </p:nvPicPr>
          <p:blipFill>
            <a:blip r:embed="rId2"/>
            <a:stretch/>
          </p:blipFill>
          <p:spPr>
            <a:xfrm>
              <a:off x="26820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6"/>
            <p:cNvSpPr/>
            <p:nvPr/>
          </p:nvSpPr>
          <p:spPr>
            <a:xfrm>
              <a:off x="28584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оугольник 7"/>
          <p:cNvGrpSpPr/>
          <p:nvPr/>
        </p:nvGrpSpPr>
        <p:grpSpPr>
          <a:xfrm>
            <a:off x="3340080" y="6413400"/>
            <a:ext cx="671400" cy="169920"/>
            <a:chOff x="3340080" y="6413400"/>
            <a:chExt cx="671400" cy="169920"/>
          </a:xfrm>
        </p:grpSpPr>
        <p:pic>
          <p:nvPicPr>
            <p:cNvPr id="101" name="Прямоугольник 7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340080" y="6413400"/>
              <a:ext cx="67140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9"/>
            <p:cNvSpPr/>
            <p:nvPr/>
          </p:nvSpPr>
          <p:spPr>
            <a:xfrm>
              <a:off x="335772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Прямоугольник 8"/>
          <p:cNvGrpSpPr/>
          <p:nvPr/>
        </p:nvGrpSpPr>
        <p:grpSpPr>
          <a:xfrm>
            <a:off x="2627280" y="6413400"/>
            <a:ext cx="669960" cy="169920"/>
            <a:chOff x="2627280" y="6413400"/>
            <a:chExt cx="669960" cy="169920"/>
          </a:xfrm>
        </p:grpSpPr>
        <p:pic>
          <p:nvPicPr>
            <p:cNvPr id="104" name="Прямоугольник 8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262728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2"/>
            <p:cNvSpPr/>
            <p:nvPr/>
          </p:nvSpPr>
          <p:spPr>
            <a:xfrm>
              <a:off x="264312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оугольник 9"/>
          <p:cNvGrpSpPr/>
          <p:nvPr/>
        </p:nvGrpSpPr>
        <p:grpSpPr>
          <a:xfrm>
            <a:off x="4479840" y="6413400"/>
            <a:ext cx="677880" cy="169920"/>
            <a:chOff x="4479840" y="6413400"/>
            <a:chExt cx="677880" cy="169920"/>
          </a:xfrm>
        </p:grpSpPr>
        <p:pic>
          <p:nvPicPr>
            <p:cNvPr id="107" name="Прямоугольник 9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4479840" y="6413400"/>
              <a:ext cx="67788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5"/>
            <p:cNvSpPr/>
            <p:nvPr/>
          </p:nvSpPr>
          <p:spPr>
            <a:xfrm>
              <a:off x="450072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оугольник 17"/>
          <p:cNvGrpSpPr/>
          <p:nvPr/>
        </p:nvGrpSpPr>
        <p:grpSpPr>
          <a:xfrm>
            <a:off x="5297400" y="5224320"/>
            <a:ext cx="3402000" cy="1335240"/>
            <a:chOff x="5297400" y="5224320"/>
            <a:chExt cx="3402000" cy="1335240"/>
          </a:xfrm>
        </p:grpSpPr>
        <p:pic>
          <p:nvPicPr>
            <p:cNvPr id="110" name="Прямоугольник 17" descr=""/>
            <p:cNvPicPr/>
            <p:nvPr/>
          </p:nvPicPr>
          <p:blipFill>
            <a:blip r:embed="rId6"/>
            <a:stretch/>
          </p:blipFill>
          <p:spPr>
            <a:xfrm>
              <a:off x="5297400" y="5224320"/>
              <a:ext cx="340200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8"/>
            <p:cNvSpPr/>
            <p:nvPr/>
          </p:nvSpPr>
          <p:spPr>
            <a:xfrm>
              <a:off x="5357880" y="5286240"/>
              <a:ext cx="3286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Calibri"/>
                </a:rPr>
                <a:t>Мать, Людмила Александровна Бунина </a:t>
              </a:r>
              <a:br>
                <a:rPr sz="1800"/>
              </a:br>
              <a:r>
                <a:rPr b="0" i="1" lang="ru-RU" sz="1800" spc="-1" strike="noStrike">
                  <a:solidFill>
                    <a:srgbClr val="ffffff"/>
                  </a:solidFill>
                  <a:latin typeface="Calibri"/>
                </a:rPr>
                <a:t>урожденная Чубарова (1835-1910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6"/>
          <p:cNvSpPr/>
          <p:nvPr/>
        </p:nvSpPr>
        <p:spPr>
          <a:xfrm>
            <a:off x="5736960" y="6488280"/>
            <a:ext cx="33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мятник Ивану Бунину в г. Ел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214880" y="5572080"/>
            <a:ext cx="521496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ладимир и Людмила Путины возложили цветы к могиле Ивана Бунина на русском кладбище в Сент-Женевьев-де-Буа под Париж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428720" y="571680"/>
            <a:ext cx="4543560" cy="65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2f2f2"/>
                </a:solidFill>
                <a:latin typeface="AnastasiaScript"/>
              </a:rPr>
              <a:t>Семья. Брат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Содержимое 7" descr="bunin_yuliy-1.jpg"/>
          <p:cNvPicPr/>
          <p:nvPr/>
        </p:nvPicPr>
        <p:blipFill>
          <a:blip r:embed="rId1"/>
          <a:stretch/>
        </p:blipFill>
        <p:spPr>
          <a:xfrm>
            <a:off x="665280" y="523800"/>
            <a:ext cx="3809880" cy="4670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714920" y="18572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Юлий поступил в университет, кончил курс, затем перешел еще на юридический, закончил гимназию с отличием. Ему прочили научную карьеру, но он увлекся другим: без конца читал Чернышевского и Добролюбова, сошелся с молодой оппозицией, вступил в революционно-демократическое движение, "ушел в народ" . Был арестован, отсидел некоторый срок, затем сослан в родные мест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8"/>
          <p:cNvSpPr/>
          <p:nvPr/>
        </p:nvSpPr>
        <p:spPr>
          <a:xfrm>
            <a:off x="285840" y="5143680"/>
            <a:ext cx="4572000" cy="11912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Старший брат Бунина - Юлий Алексеевич оказал большое влияние на формирование писателя. Он был для брата как бы домашним учител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2f2f2"/>
                </a:solidFill>
                <a:latin typeface="AnastasiaScript"/>
              </a:rPr>
              <a:t>Обучение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6760" y="1357200"/>
            <a:ext cx="335772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885 – возвращение домой и продолжение обучения под руководством старшего брата Юл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Содержимое 4" descr="gimnaziya.jpg"/>
          <p:cNvPicPr/>
          <p:nvPr/>
        </p:nvPicPr>
        <p:blipFill>
          <a:blip r:embed="rId1"/>
          <a:stretch/>
        </p:blipFill>
        <p:spPr>
          <a:xfrm>
            <a:off x="3718080" y="2517840"/>
            <a:ext cx="5213160" cy="649296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5"/>
          <p:cNvSpPr/>
          <p:nvPr/>
        </p:nvSpPr>
        <p:spPr>
          <a:xfrm>
            <a:off x="4286160" y="1500120"/>
            <a:ext cx="407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1881 – поступление в Елецкую гимназ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D:\Бунин\dscn0831z.jpg"/>
          <p:cNvPicPr/>
          <p:nvPr/>
        </p:nvPicPr>
        <p:blipFill>
          <a:blip r:embed="rId2"/>
          <a:stretch/>
        </p:blipFill>
        <p:spPr>
          <a:xfrm>
            <a:off x="420840" y="4065480"/>
            <a:ext cx="3035160" cy="227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2f2f2"/>
                </a:solidFill>
                <a:latin typeface="Calibri"/>
                <a:ea typeface="Andalus"/>
              </a:rPr>
              <a:t>Литературный дебю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1680" y="1571400"/>
            <a:ext cx="403848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1887 — «Нищий», «Над могилой С.Я Надсона» в журнале «Родина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В 1889 г. идёт работать корректором в местную газету «Орловский вестник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Содержимое 6" descr="bunin_49.jpg"/>
          <p:cNvPicPr/>
          <p:nvPr/>
        </p:nvPicPr>
        <p:blipFill>
          <a:blip r:embed="rId1"/>
          <a:stretch/>
        </p:blipFill>
        <p:spPr>
          <a:xfrm>
            <a:off x="4834080" y="1420920"/>
            <a:ext cx="3462120" cy="9094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2f2f2"/>
                </a:solidFill>
                <a:latin typeface="AnastasiaScript"/>
              </a:rPr>
              <a:t>Варвара Пащенко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 редакции Бунин познакомился с Ваpваpой Владимиpовной Пащенко, дочерью елецкого врача, работавшей коppектоpо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Его страстная любовь к ней временами омрачалась ссора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 1891 году она вышла замуж , но брак их не был узаконен, жили они не венчаясь, отец и мать не хотели выдавать дочь за нищего поэт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Юношеский роман Бунина составил сюжетную основу пятой книги "Жизни Аpсеньева", выходившей отдельно под названием "Лика"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Содержимое 6" descr="bunin_03.jpg"/>
          <p:cNvPicPr/>
          <p:nvPr/>
        </p:nvPicPr>
        <p:blipFill>
          <a:blip r:embed="rId1"/>
          <a:stretch/>
        </p:blipFill>
        <p:spPr>
          <a:xfrm>
            <a:off x="4705200" y="1279440"/>
            <a:ext cx="4078440" cy="5102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891 – сборник «Стихотворения» (Орё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898 - «Под открытым небом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901 - «Листопад» (Пушкинская премия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Содержимое 9" descr="bunin_61.jpg"/>
          <p:cNvPicPr/>
          <p:nvPr/>
        </p:nvPicPr>
        <p:blipFill>
          <a:blip r:embed="rId1"/>
          <a:stretch/>
        </p:blipFill>
        <p:spPr>
          <a:xfrm>
            <a:off x="4572000" y="1071720"/>
            <a:ext cx="4143240" cy="5233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9" name="Прямоугольник 8"/>
          <p:cNvSpPr/>
          <p:nvPr/>
        </p:nvSpPr>
        <p:spPr>
          <a:xfrm>
            <a:off x="500040" y="428760"/>
            <a:ext cx="835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2f2f2"/>
                </a:solidFill>
                <a:latin typeface="AnastasiaScript"/>
              </a:rPr>
              <a:t>«Никто так убого не начинал, как я…» И.А. Бун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6:53:38Z</dcterms:created>
  <dc:creator>Назарова Малика</dc:creator>
  <dc:description>http://ppt.3dn.ru</dc:description>
  <dc:language>en-US</dc:language>
  <cp:lastModifiedBy>LEGION</cp:lastModifiedBy>
  <dcterms:modified xsi:type="dcterms:W3CDTF">2015-01-20T07:59:10Z</dcterms:modified>
  <cp:revision>27</cp:revision>
  <dc:subject/>
  <dc:title>Иван Алексеевич Буни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1241297</vt:lpwstr>
  </property>
  <property fmtid="{D5CDD505-2E9C-101B-9397-08002B2CF9AE}" pid="3" name="NXPowerLiteVersion">
    <vt:lpwstr>D3.6.2</vt:lpwstr>
  </property>
  <property fmtid="{D5CDD505-2E9C-101B-9397-08002B2CF9AE}" pid="4" name="NXTAG2">
    <vt:lpwstr>000800e24c000000000001023620</vt:lpwstr>
  </property>
  <property fmtid="{D5CDD505-2E9C-101B-9397-08002B2CF9AE}" pid="5" name="_TemplateID">
    <vt:lpwstr>TC300095321049</vt:lpwstr>
  </property>
</Properties>
</file>