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42.png" ContentType="image/png"/>
  <Override PartName="/ppt/media/image46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8.jpeg" ContentType="image/jpeg"/>
  <Override PartName="/ppt/media/image37.jpeg" ContentType="image/jpeg"/>
  <Override PartName="/ppt/media/image30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5804-2FC9-486C-9F64-262E834D18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ED00-068A-4907-B5C5-D66F416E06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AD82-2C66-4989-8979-81DFB1B20E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6E7E-165C-445E-8E19-8A93F7A210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364A-072B-4A8F-A3F9-37C07181DB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26AD-8E3C-4096-B739-6A4DAD947E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A8DA-BB1B-4D08-8F08-5EA2851A18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E5E2-C9D1-4AD1-9314-5C29A3E0F4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311F-9003-476B-A283-C2A5414D7B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95C5-D5A2-460B-873E-AB766033D0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537B-882E-4D99-A1A4-590AFC9467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FE2D-884C-41EF-9E19-99E097D49B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3B6B-DE86-4874-94FC-E66F4BCC66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BA6A-6395-40D4-B893-D45EC6EB93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Ю.И. Айхенваль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F260-0533-4503-847A-487FA58DE9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406A-7CD9-4E95-93B7-4AF77C550B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43B0-CAA5-41EB-8EF9-488ABAC123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BED8-78C3-4ECC-8920-587008B612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D518-991A-4377-8435-98DC1D4E15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4EE9-EBD8-4CB6-9FF0-D13EACF462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9049-1D83-4596-AFB0-B8A4A72265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7E78-1149-46A4-A01C-54128886F9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01B7-58C6-42D3-B3EB-20200003AD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1577-A9FF-4674-BA18-2C426D44B6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23F0-C590-496D-AA90-F17A5B19AB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7002-E48E-4289-B594-7C5DE36B30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3ED0-BCEA-4E5F-AB6E-AAAA5E0F0C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FC19-8694-47AD-8972-BBFC2EDC28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22B7-0541-4E5F-B7E0-9CCD771615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0D02-9D9A-4874-A934-6C6C5F108E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6972-833E-4051-B584-F3E4045FCD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742B-FB92-4A03-9E3D-82D6D039E9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0C20-E652-4C39-B1B6-B4899B4C59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85E8-EA93-444A-AEB9-BFC740B270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F928-038B-42FB-82AB-80407B4A98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2563-994D-4079-A959-6170515EB3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8B5A-E8AA-4BDC-AB50-3BB4C257DE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D67C-4BD7-4398-82BF-83B57F006B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16A7-BF62-401E-BD21-DB5C735404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096-5EA2-4D7C-A149-C6005D55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6CA-461A-4A2C-8DD4-9DDA2070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6B3-4ACC-4410-BAA1-F85A693D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D4B-6519-4CC8-87D7-A47EF577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27C-056E-4000-AE27-82362BC2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978-62E6-4BF4-BBC0-5E1C3C74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EBF-5CC7-4968-B012-CF9D8837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5AB-1181-472E-B473-499E3F0F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A0E-3AA7-4CCF-AECD-72EF38FC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470-0CFA-485C-B184-D732B7ED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3FD-4C30-46B8-9E37-78B8560A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CAC-F586-4F3C-97CE-BBBF51CF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1988-4548-4667-A20C-BEE7F68800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28560" y="642960"/>
            <a:ext cx="8515440" cy="149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596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Прямоугольник 3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51" name="Прямоугольник 3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4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54" name="Прямоугольник 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8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5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57" name="Прямоугольник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1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6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60" name="Прямоугольник 6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4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Содержимое 11" descr="bunin_09.jpg"/>
          <p:cNvPicPr/>
          <p:nvPr/>
        </p:nvPicPr>
        <p:blipFill>
          <a:blip r:embed="rId6"/>
          <a:stretch/>
        </p:blipFill>
        <p:spPr>
          <a:xfrm>
            <a:off x="3889440" y="2286000"/>
            <a:ext cx="206208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4" descr="24694933_tolstoy.jpg"/>
          <p:cNvPicPr/>
          <p:nvPr/>
        </p:nvPicPr>
        <p:blipFill>
          <a:blip r:embed="rId1"/>
          <a:stretch/>
        </p:blipFill>
        <p:spPr>
          <a:xfrm>
            <a:off x="4645080" y="1517760"/>
            <a:ext cx="3986280" cy="924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439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4" descr="0000000168.jpg"/>
          <p:cNvPicPr/>
          <p:nvPr/>
        </p:nvPicPr>
        <p:blipFill>
          <a:blip r:embed="rId1"/>
          <a:stretch/>
        </p:blipFill>
        <p:spPr>
          <a:xfrm>
            <a:off x="6715080" y="3357720"/>
            <a:ext cx="2170080" cy="32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Бунин\bunin.jpg"/>
          <p:cNvPicPr/>
          <p:nvPr/>
        </p:nvPicPr>
        <p:blipFill>
          <a:blip r:embed="rId2"/>
          <a:stretch/>
        </p:blipFill>
        <p:spPr>
          <a:xfrm>
            <a:off x="214200" y="1000080"/>
            <a:ext cx="2071800" cy="314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D:\Бунин\chehov.jpg"/>
          <p:cNvPicPr/>
          <p:nvPr/>
        </p:nvPicPr>
        <p:blipFill>
          <a:blip r:embed="rId3"/>
          <a:stretch/>
        </p:blipFill>
        <p:spPr>
          <a:xfrm>
            <a:off x="2714760" y="785880"/>
            <a:ext cx="364320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4" descr="%C0.%CD.%D6%E0%EA%ED%E8.%20%CE%E4%E5%F1%F1%E0,%201898.JPG"/>
          <p:cNvPicPr/>
          <p:nvPr/>
        </p:nvPicPr>
        <p:blipFill>
          <a:blip r:embed="rId1"/>
          <a:stretch/>
        </p:blipFill>
        <p:spPr>
          <a:xfrm>
            <a:off x="4853160" y="1279440"/>
            <a:ext cx="3657600" cy="4822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5286240" y="6072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nastasiaScript"/>
              </a:rPr>
              <a:t>Дочь революционера-наро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5" descr="bunin_04.jpg"/>
          <p:cNvPicPr/>
          <p:nvPr/>
        </p:nvPicPr>
        <p:blipFill>
          <a:blip r:embed="rId1"/>
          <a:stretch/>
        </p:blipFill>
        <p:spPr>
          <a:xfrm>
            <a:off x="4138560" y="1901880"/>
            <a:ext cx="5005440" cy="3517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4357800" y="550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f2f2"/>
                </a:solidFill>
                <a:latin typeface="Calibri"/>
              </a:rPr>
              <a:t>И.А. Бунин, М.П. Чехова (в центре), С.Ф. Лаврова. Ялта, 1900-190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356840"/>
            <a:ext cx="442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4" descr="аипа.jpg"/>
          <p:cNvPicPr/>
          <p:nvPr/>
        </p:nvPicPr>
        <p:blipFill>
          <a:blip r:embed="rId1"/>
          <a:stretch/>
        </p:blipFill>
        <p:spPr>
          <a:xfrm>
            <a:off x="5000760" y="1571760"/>
            <a:ext cx="3336840" cy="49082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4643280" y="428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И.А. Бунин. 23 декабря 19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Фотография с текстом письма к М.П. Чех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2920" y="1714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6" descr="bunin_63.jpg"/>
          <p:cNvPicPr/>
          <p:nvPr/>
        </p:nvPicPr>
        <p:blipFill>
          <a:blip r:embed="rId1"/>
          <a:stretch/>
        </p:blipFill>
        <p:spPr>
          <a:xfrm>
            <a:off x="1285920" y="1643040"/>
            <a:ext cx="6786360" cy="42926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7"/>
          <p:cNvSpPr/>
          <p:nvPr/>
        </p:nvSpPr>
        <p:spPr>
          <a:xfrm>
            <a:off x="285840" y="6072120"/>
            <a:ext cx="88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2f2f2"/>
                </a:solidFill>
                <a:latin typeface="Calibri"/>
              </a:rPr>
              <a:t>М. Горький, И. Бунин, Ф. Шаляпин. Скиталец (С. Петров), Н. Телешов, Л. Андреев, Е. Чир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3" descr="bunin_06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86080" cy="48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3" descr="bunin_34.jpg"/>
          <p:cNvPicPr/>
          <p:nvPr/>
        </p:nvPicPr>
        <p:blipFill>
          <a:blip r:embed="rId1"/>
          <a:stretch/>
        </p:blipFill>
        <p:spPr>
          <a:xfrm>
            <a:off x="2432160" y="1584360"/>
            <a:ext cx="4279680" cy="977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6" descr="muromtseva-3.jpg"/>
          <p:cNvPicPr/>
          <p:nvPr/>
        </p:nvPicPr>
        <p:blipFill>
          <a:blip r:embed="rId1"/>
          <a:stretch/>
        </p:blipFill>
        <p:spPr>
          <a:xfrm>
            <a:off x="5214960" y="1214280"/>
            <a:ext cx="3214800" cy="42307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7"/>
          <p:cNvSpPr/>
          <p:nvPr/>
        </p:nvSpPr>
        <p:spPr>
          <a:xfrm>
            <a:off x="4429080" y="5572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2f2f2"/>
                </a:solidFill>
                <a:latin typeface="Calibri"/>
              </a:rPr>
              <a:t>Дочь члена Московской гоpодской упpавы и племянница пpедседателя Пеpвой Госудаpственной Думы С.А. Муpомц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1" descr="bunin_09.jpg"/>
          <p:cNvPicPr/>
          <p:nvPr/>
        </p:nvPicPr>
        <p:blipFill>
          <a:blip r:embed="rId1"/>
          <a:stretch/>
        </p:blipFill>
        <p:spPr>
          <a:xfrm>
            <a:off x="4906800" y="1474920"/>
            <a:ext cx="3902400" cy="4865400"/>
          </a:xfrm>
          <a:prstGeom prst="rect">
            <a:avLst/>
          </a:prstGeom>
          <a:ln w="0">
            <a:noFill/>
          </a:ln>
        </p:spPr>
      </p:pic>
      <p:grpSp>
        <p:nvGrpSpPr>
          <p:cNvPr id="66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67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70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73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76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одержимое 6" descr="bunin_07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14800" cy="48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Горизонтальный свиток 4"/>
          <p:cNvSpPr/>
          <p:nvPr/>
        </p:nvSpPr>
        <p:spPr>
          <a:xfrm>
            <a:off x="428760" y="142920"/>
            <a:ext cx="8358120" cy="635796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Ю.И. Айхенваль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D:\Бунин\422px-1990_CPA_6256.jpg"/>
          <p:cNvPicPr/>
          <p:nvPr/>
        </p:nvPicPr>
        <p:blipFill>
          <a:blip r:embed="rId1"/>
          <a:stretch/>
        </p:blipFill>
        <p:spPr>
          <a:xfrm>
            <a:off x="5072040" y="1428840"/>
            <a:ext cx="3500640" cy="497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85840" y="1143000"/>
            <a:ext cx="4186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Выноска-облако 4"/>
          <p:cNvSpPr/>
          <p:nvPr/>
        </p:nvSpPr>
        <p:spPr>
          <a:xfrm>
            <a:off x="4714920" y="214200"/>
            <a:ext cx="4429080" cy="2786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Стихотворения Бунина насыщены красками, льются, переливно и легко запоминаются, и передают суть сказанного так, что создается впечатление, что видишь все описываемое своими глаз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3" descr="bunin_10.jpg"/>
          <p:cNvPicPr/>
          <p:nvPr/>
        </p:nvPicPr>
        <p:blipFill>
          <a:blip r:embed="rId1"/>
          <a:stretch/>
        </p:blipFill>
        <p:spPr>
          <a:xfrm>
            <a:off x="785880" y="1571760"/>
            <a:ext cx="7929360" cy="48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Содержимое 3" descr="bunin_11.jpg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7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Содержимое 3" descr="bunin_65.jpg"/>
          <p:cNvPicPr/>
          <p:nvPr/>
        </p:nvPicPr>
        <p:blipFill>
          <a:blip r:embed="rId1"/>
          <a:stretch/>
        </p:blipFill>
        <p:spPr>
          <a:xfrm>
            <a:off x="3000240" y="1500120"/>
            <a:ext cx="3000600" cy="48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одержимое 3" descr="bunin_45.jpg"/>
          <p:cNvPicPr/>
          <p:nvPr/>
        </p:nvPicPr>
        <p:blipFill>
          <a:blip r:embed="rId1"/>
          <a:stretch/>
        </p:blipFill>
        <p:spPr>
          <a:xfrm>
            <a:off x="571680" y="1285920"/>
            <a:ext cx="4000320" cy="49878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5286240" y="1857240"/>
            <a:ext cx="3143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невник 1911 года "Воды многие", опубликованный почти без изменений в 1925-1926 годы, -высокий обpазец новой и для Бунина, и для pусской литеpатуpы лиpической пp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3" descr="bunin_13.jpg"/>
          <p:cNvPicPr/>
          <p:nvPr/>
        </p:nvPicPr>
        <p:blipFill>
          <a:blip r:embed="rId1"/>
          <a:stretch/>
        </p:blipFill>
        <p:spPr>
          <a:xfrm>
            <a:off x="642960" y="1643040"/>
            <a:ext cx="3429000" cy="4562640"/>
          </a:xfrm>
          <a:prstGeom prst="rect">
            <a:avLst/>
          </a:prstGeom>
          <a:ln w="0">
            <a:noFill/>
          </a:ln>
        </p:spPr>
      </p:pic>
      <p:grpSp>
        <p:nvGrpSpPr>
          <p:cNvPr id="183" name="Прямоугольник 4"/>
          <p:cNvGrpSpPr/>
          <p:nvPr/>
        </p:nvGrpSpPr>
        <p:grpSpPr>
          <a:xfrm>
            <a:off x="4237200" y="1938240"/>
            <a:ext cx="4846320" cy="4729680"/>
            <a:chOff x="4237200" y="1938240"/>
            <a:chExt cx="4846320" cy="4729680"/>
          </a:xfrm>
        </p:grpSpPr>
        <p:pic>
          <p:nvPicPr>
            <p:cNvPr id="1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237200" y="1938240"/>
              <a:ext cx="4846320" cy="39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4357800" y="2000160"/>
              <a:ext cx="45720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Monotype Corsiva"/>
                </a:rPr>
                <a:t>« Как все сложно психологически ! А вместе с тем, -в этом и есть ваш гений, все pождается из пpостоты и из самого точного наблюдения действительности: создается атмасфеpа, где дышешь чем-то стpанным и тpевожным, исходящим из самого акта жизни! У вас все есть излучение жизни, полной сил, и тpевожит именно своими силами, силами пеpвобытными, где под видимым единством таится сложность, нечто неизбывное, наpушающее пpевычную на ясную ноpму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Прямоугольник 5"/>
          <p:cNvSpPr/>
          <p:nvPr/>
        </p:nvSpPr>
        <p:spPr>
          <a:xfrm>
            <a:off x="4286160" y="857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Фpанцузский писатель, поэт и литеpатуpный кpитик Рене Гиль писал Бунину в 1921 году об озданной по-фpанцузски "Чаше жизни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14" descr="bunin_a_n.jpg"/>
          <p:cNvPicPr/>
          <p:nvPr/>
        </p:nvPicPr>
        <p:blipFill>
          <a:blip r:embed="rId1"/>
          <a:stretch/>
        </p:blipFill>
        <p:spPr>
          <a:xfrm>
            <a:off x="738360" y="1523880"/>
            <a:ext cx="3625560" cy="4992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2920" y="17859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82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85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88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91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" descr="D:\Бунин\gerb.jpg"/>
          <p:cNvPicPr/>
          <p:nvPr/>
        </p:nvPicPr>
        <p:blipFill>
          <a:blip r:embed="rId6"/>
          <a:stretch/>
        </p:blipFill>
        <p:spPr>
          <a:xfrm>
            <a:off x="7407360" y="208080"/>
            <a:ext cx="1474560" cy="266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7120" y="1357200"/>
            <a:ext cx="3214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D:\Бунин\bunin_40.jpg"/>
          <p:cNvPicPr/>
          <p:nvPr/>
        </p:nvPicPr>
        <p:blipFill>
          <a:blip r:embed="rId1"/>
          <a:stretch/>
        </p:blipFill>
        <p:spPr>
          <a:xfrm>
            <a:off x="3786120" y="1857240"/>
            <a:ext cx="497844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99680" y="171468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D:\Бунин\bunin_29.jpg"/>
          <p:cNvPicPr/>
          <p:nvPr/>
        </p:nvPicPr>
        <p:blipFill>
          <a:blip r:embed="rId1"/>
          <a:stretch/>
        </p:blipFill>
        <p:spPr>
          <a:xfrm>
            <a:off x="5357880" y="1643040"/>
            <a:ext cx="3357360" cy="479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642600"/>
            <a:ext cx="4829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D:\Бунин\204271.jpg"/>
          <p:cNvPicPr/>
          <p:nvPr/>
        </p:nvPicPr>
        <p:blipFill>
          <a:blip r:embed="rId1"/>
          <a:stretch/>
        </p:blipFill>
        <p:spPr>
          <a:xfrm>
            <a:off x="5261040" y="1139760"/>
            <a:ext cx="3181320" cy="855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213840"/>
            <a:ext cx="82152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14200" y="528804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Похоpонен Бунин на кладбище Сент-Женевьев-де-Буа под Паpижем, в склепе, в цинковом гpо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85480" y="785880"/>
            <a:ext cx="6000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D:\Бунин\mogila-paris_h250.jpg"/>
          <p:cNvPicPr/>
          <p:nvPr/>
        </p:nvPicPr>
        <p:blipFill>
          <a:blip r:embed="rId1"/>
          <a:stretch/>
        </p:blipFill>
        <p:spPr>
          <a:xfrm>
            <a:off x="6211800" y="1706400"/>
            <a:ext cx="2584440" cy="39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3" descr="Памятник_Бунину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6037560" y="635796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Бунину в Ворон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450px-IvanBunin.JPG"/>
          <p:cNvPicPr/>
          <p:nvPr/>
        </p:nvPicPr>
        <p:blipFill>
          <a:blip r:embed="rId1"/>
          <a:stretch/>
        </p:blipFill>
        <p:spPr>
          <a:xfrm>
            <a:off x="1928880" y="214200"/>
            <a:ext cx="4722840" cy="62866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6858000" y="285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86408031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6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D:\Бунин\70353879.jpg"/>
          <p:cNvPicPr/>
          <p:nvPr/>
        </p:nvPicPr>
        <p:blipFill>
          <a:blip r:embed="rId2"/>
          <a:stretch/>
        </p:blipFill>
        <p:spPr>
          <a:xfrm>
            <a:off x="4643280" y="0"/>
            <a:ext cx="4505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00080" y="1714680"/>
            <a:ext cx="40384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16" descr="bunina_l_a.jpg"/>
          <p:cNvPicPr/>
          <p:nvPr/>
        </p:nvPicPr>
        <p:blipFill>
          <a:blip r:embed="rId1"/>
          <a:stretch/>
        </p:blipFill>
        <p:spPr>
          <a:xfrm>
            <a:off x="5310360" y="378000"/>
            <a:ext cx="3741480" cy="50418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98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7"/>
          <p:cNvGrpSpPr/>
          <p:nvPr/>
        </p:nvGrpSpPr>
        <p:grpSpPr>
          <a:xfrm>
            <a:off x="3340080" y="6413400"/>
            <a:ext cx="671400" cy="169920"/>
            <a:chOff x="3340080" y="6413400"/>
            <a:chExt cx="671400" cy="169920"/>
          </a:xfrm>
        </p:grpSpPr>
        <p:pic>
          <p:nvPicPr>
            <p:cNvPr id="101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340080" y="6413400"/>
              <a:ext cx="67140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3357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8"/>
          <p:cNvGrpSpPr/>
          <p:nvPr/>
        </p:nvGrpSpPr>
        <p:grpSpPr>
          <a:xfrm>
            <a:off x="2627280" y="6413400"/>
            <a:ext cx="669960" cy="169920"/>
            <a:chOff x="2627280" y="6413400"/>
            <a:chExt cx="669960" cy="169920"/>
          </a:xfrm>
        </p:grpSpPr>
        <p:pic>
          <p:nvPicPr>
            <p:cNvPr id="104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262728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2"/>
            <p:cNvSpPr/>
            <p:nvPr/>
          </p:nvSpPr>
          <p:spPr>
            <a:xfrm>
              <a:off x="26431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оугольник 9"/>
          <p:cNvGrpSpPr/>
          <p:nvPr/>
        </p:nvGrpSpPr>
        <p:grpSpPr>
          <a:xfrm>
            <a:off x="4479840" y="6413400"/>
            <a:ext cx="677880" cy="169920"/>
            <a:chOff x="4479840" y="6413400"/>
            <a:chExt cx="677880" cy="169920"/>
          </a:xfrm>
        </p:grpSpPr>
        <p:pic>
          <p:nvPicPr>
            <p:cNvPr id="107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4479840" y="6413400"/>
              <a:ext cx="6778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5"/>
            <p:cNvSpPr/>
            <p:nvPr/>
          </p:nvSpPr>
          <p:spPr>
            <a:xfrm>
              <a:off x="4500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оугольник 17"/>
          <p:cNvGrpSpPr/>
          <p:nvPr/>
        </p:nvGrpSpPr>
        <p:grpSpPr>
          <a:xfrm>
            <a:off x="5297400" y="5224320"/>
            <a:ext cx="3402000" cy="1335240"/>
            <a:chOff x="5297400" y="5224320"/>
            <a:chExt cx="3402000" cy="1335240"/>
          </a:xfrm>
        </p:grpSpPr>
        <p:pic>
          <p:nvPicPr>
            <p:cNvPr id="110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5297400" y="5224320"/>
              <a:ext cx="3402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8"/>
            <p:cNvSpPr/>
            <p:nvPr/>
          </p:nvSpPr>
          <p:spPr>
            <a:xfrm>
              <a:off x="5357880" y="5286240"/>
              <a:ext cx="328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Мать, Людмила Александровна Бунина 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урожденная Чубарова (1835-1910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6"/>
          <p:cNvSpPr/>
          <p:nvPr/>
        </p:nvSpPr>
        <p:spPr>
          <a:xfrm>
            <a:off x="5736960" y="6488280"/>
            <a:ext cx="33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Е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214880" y="5572080"/>
            <a:ext cx="5214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720" y="571680"/>
            <a:ext cx="454356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7" descr="bunin_yuliy-1.jpg"/>
          <p:cNvPicPr/>
          <p:nvPr/>
        </p:nvPicPr>
        <p:blipFill>
          <a:blip r:embed="rId1"/>
          <a:stretch/>
        </p:blipFill>
        <p:spPr>
          <a:xfrm>
            <a:off x="665280" y="523800"/>
            <a:ext cx="3809880" cy="4670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714920" y="1857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285840" y="5143680"/>
            <a:ext cx="4572000" cy="1191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тарший брат Бунина - Юлий Алексеевич оказал большое влияние на формирование писателя. Он был для брата как бы домашним учи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1357200"/>
            <a:ext cx="3357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4" descr="gimnaziya.jpg"/>
          <p:cNvPicPr/>
          <p:nvPr/>
        </p:nvPicPr>
        <p:blipFill>
          <a:blip r:embed="rId1"/>
          <a:stretch/>
        </p:blipFill>
        <p:spPr>
          <a:xfrm>
            <a:off x="3718080" y="2517840"/>
            <a:ext cx="5213160" cy="64929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4286160" y="15001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1881 – поступление в Елецкую гимна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D:\Бунин\dscn0831z.jpg"/>
          <p:cNvPicPr/>
          <p:nvPr/>
        </p:nvPicPr>
        <p:blipFill>
          <a:blip r:embed="rId2"/>
          <a:stretch/>
        </p:blipFill>
        <p:spPr>
          <a:xfrm>
            <a:off x="420840" y="4065480"/>
            <a:ext cx="3035160" cy="22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680" y="1571400"/>
            <a:ext cx="4038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6" descr="bunin_49.jpg"/>
          <p:cNvPicPr/>
          <p:nvPr/>
        </p:nvPicPr>
        <p:blipFill>
          <a:blip r:embed="rId1"/>
          <a:stretch/>
        </p:blipFill>
        <p:spPr>
          <a:xfrm>
            <a:off x="4834080" y="1420920"/>
            <a:ext cx="3462120" cy="909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6" descr="bunin_03.jpg"/>
          <p:cNvPicPr/>
          <p:nvPr/>
        </p:nvPicPr>
        <p:blipFill>
          <a:blip r:embed="rId1"/>
          <a:stretch/>
        </p:blipFill>
        <p:spPr>
          <a:xfrm>
            <a:off x="4705200" y="1279440"/>
            <a:ext cx="4078440" cy="51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9" descr="bunin_6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143240" cy="52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8"/>
          <p:cNvSpPr/>
          <p:nvPr/>
        </p:nvSpPr>
        <p:spPr>
          <a:xfrm>
            <a:off x="500040" y="428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AnastasiaScript"/>
              </a:rPr>
              <a:t>«Никто так убого не начинал, как я…» И.А.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53:38Z</dcterms:created>
  <dc:creator>Назарова Малика</dc:creator>
  <dc:description>http://ppt.3dn.ru</dc:description>
  <dc:language>en-US</dc:language>
  <cp:lastModifiedBy>LEGION</cp:lastModifiedBy>
  <dcterms:modified xsi:type="dcterms:W3CDTF">2015-01-20T07:59:10Z</dcterms:modified>
  <cp:revision>27</cp:revision>
  <dc:subject/>
  <dc:title>Иван Алексеевич Бун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241297</vt:lpwstr>
  </property>
  <property fmtid="{D5CDD505-2E9C-101B-9397-08002B2CF9AE}" pid="3" name="NXPowerLiteVersion">
    <vt:lpwstr>D3.6.2</vt:lpwstr>
  </property>
  <property fmtid="{D5CDD505-2E9C-101B-9397-08002B2CF9AE}" pid="4" name="NXTAG2">
    <vt:lpwstr>000800e24c000000000001023620</vt:lpwstr>
  </property>
  <property fmtid="{D5CDD505-2E9C-101B-9397-08002B2CF9AE}" pid="5" name="_TemplateID">
    <vt:lpwstr>TC300095321049</vt:lpwstr>
  </property>
</Properties>
</file>