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E251-24BB-43DA-AF51-3C5EDD677E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Юрьевич Лермо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Мцыр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0152-D45D-4F92-8209-1113139823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9. Один из видов лиро –эпического жан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3E19-69AA-4A9A-BDE0-0AF1372900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Дайте определение литературному направлению, выделенному в кроссвор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9AF6-E161-4C2C-A10C-342DDA3E81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ма «Мцыри»  - романтическое произ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торим  основные признаки романт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4280-AC6A-4729-93CE-DFBDC03785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Возникновение замысла поэмы «Мцыри» биограф Лермонтова П.А. Висковатов связывает с путешествием поэта по старой Военно-Грузинской дороге. Лермонтов посетил древнюю столицу Грузии, город Мцхета, расположенную в месте слияния рек Арагвы и Куры. При посещении собора Светицховели  поэт встретил одинокого монаха, который рассказал ему свою ис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EC68-11B6-4DF8-96D8-A646C532A4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Пятигорска. Акварель М.Ю. Лермон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EA16-7FF6-4C6D-8053-DC935F6452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cript MT Bold"/>
              </a:rPr>
              <a:t>«Синие горы Кавказа, приветствую вас! Вы взлелеяли детство моё, - вы носили меня на своих одичалых руках, облаками меня  одевали,  вы к небу меня приучили, и с той поры всё мечтаю об вас да о неб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cript MT Bold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Script MT Bold"/>
              </a:rPr>
              <a:t>М.Ю. Лермонтов. 1832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FC04-F861-4B06-A10D-212756BDDC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ебе,  Кавказ, суровый царь земл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Я посвящаю снова стих небрежны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Ещё ребёнком робкими ш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збирался я на гордые скал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витые туманными чалм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ак головы поклонников 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ам ветер машет вольными крыл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ам ночевать слетаются ор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Я в гости к ним летал мечтой послушн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8564-4D33-4398-86C6-AB5B7E41BE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за огненная душа, что за могучий дух, что за исполинская натура у этого Мцыри! Это любимый идеал нашего поэта, это отражение в поэзии тени его собственной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Г. Белин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Я знал одной лишь думы вла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дну – но пламенную стра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на, как червь, во мне ж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Изгрызла душу и сож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на мечты мои зв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т келий душных и моли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В тот чудный мир тревог и битв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                             </a:t>
            </a:r>
            <a:r>
              <a:rPr b="1" i="1" lang="ru-RU" sz="1200" spc="-1" strike="noStrike">
                <a:solidFill>
                  <a:srgbClr val="ffffff"/>
                </a:solidFill>
                <a:latin typeface="Blackadder ITC"/>
              </a:rPr>
              <a:t>М.Ю. Лермонтов «Мцыр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946F-6D22-4706-A161-CC4D0EA42B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Times New Roman"/>
              </a:rPr>
              <a:t>Образ в литерату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удожественное обобщение, выраженное в частном. Показ общих качеств в индивидуаль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«…И через всю жизнь проносим мы в душе образ этого человека – грустного, строгого, нежного, властного, скромного, смелого, благородного, язвительного, мечтательного, насмешливого, застенчивого, наделённого могучими страстями и волей и проницательным и беспощадным умом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. Андро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0A9C-4D5F-4C7A-8E37-06C49035A7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Эпиграф к поэме М.Ю. Лермонтова взят 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ревнерусских летопис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Библ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ыл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тихотворения Го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2. В чем заключается смысл эпигра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осстание против судьбы, против Бог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раскаяние, смир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защита права человека на своб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7C6F-12B0-45AD-A586-767E9934AC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1. Основной мотив в стихах этого поэта - одино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F711-C115-4072-923F-6C825228C7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3. Определите жанр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алла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элег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оэма-исповед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прит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4. Выделите черты романтизма в поэ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урная неистовая при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гибель геро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ерой одинок и не понят ми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введение сна героя в сюжет поэ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мотив борьбы, мяте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5. Определите стихотворный размер, использованный Лермонтовым в поэ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 анапес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дакти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амфибрах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я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ACC0-9994-4181-BA6F-F809FF9CFC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6. Какой эпизод в сюжете  поэмы является централь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бег из монастыр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стреча с грузинк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ой с барс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гибель Мцы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7. В исповеди Мцыри зву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егод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мирение, покая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тверждение своей право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отказ от бесплодной борь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8. В чём заключается основная идея произвед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трицание религиозной морали аскетизма и сми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оска по в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тверждение идеи верности идеалам перед лицом смер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призыв к борьбе с любым проявлением деспо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B6C5-EE61-4CB0-99A3-7B0326FAA7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2. Стихотворение в четырнадцать строк из двух четверостиший и двух трехсти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F14F-4C74-4E7A-927E-95B186F2A5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3. Представитель сентиментализма   в русской литературе 18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8ADB-1320-41FC-8D94-BE07127A703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4. В своих сонетах он воспевал прекрасную Лау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F48D-A0BE-4D39-BB7A-3ACDC9F242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5. Противоборство, столкновение в литературном произведении, воплощенное в сюж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0A57-1612-4C2C-9851-6D83C2EF45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6. Вид тропа, переносное значение слова, основанное на уподоблении одного предмета или явления другому по сходству или контрас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EA82-3078-41B5-B591-B2B8D3F11B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7. Противопо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3DA8-A2E6-47CE-AF46-9919E140AC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8. Построение, расположение и взаимосвязь всех частей, эпизодов, сцен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5729-70B1-4786-88BD-7F301CE867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0EE-61B5-4CE6-8B74-D5E84C92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EFE-5CE4-403D-ABA8-7DEB6D70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435-F71B-4135-9227-5FD802D4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6CF4-DAFD-499F-87A2-1542421A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AEA28-7D45-4E96-8D28-A67092AD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481F3-8025-4B2D-8562-24613C63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83CA4-557E-462B-9790-9ED2E3FB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1C695-EDF1-4268-BCDF-27A9F72F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3F8F0-518F-4689-B885-9946EE95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6E082-5D41-4395-9E9E-92AD1EBD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64ABD-EB99-41DC-A047-7A01710F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78A-16E0-4692-B084-BF307222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1A0A0-F547-4DF0-9226-EE1449C3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CDCCF-B9DA-4312-A172-D01AC475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D9F43-AA38-411B-B45C-F59F3CC6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5EAE4-161A-434A-8932-EC8A1DA4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DA250-EF20-4875-883C-11EA1913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00A8-7914-4E89-9A53-179B9FD2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A53-351F-4EA2-91CE-2565C497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B6B-479D-4608-8028-E7DA196E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C682-DFFD-4002-8DE3-B3CC843B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DAFE-3BEF-4E57-9E71-9AEE8DDA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E48-8F38-474D-8FE7-CABDA9E7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5022-ACE0-4F43-89A9-2111F4C2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EC1F-70DA-4611-9021-EE94BCAE4D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A17B-B88F-480B-A41F-6FC3113518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6"/>
          <p:cNvSpPr txBox="1"/>
          <p:nvPr/>
        </p:nvSpPr>
        <p:spPr>
          <a:xfrm>
            <a:off x="324000" y="1341360"/>
            <a:ext cx="8640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>
                    <a:alpha val="25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ихаил Юрьевич Лермонтов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>
                  <a:alpha val="25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>
                    <a:alpha val="25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Мцыри"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>
                  <a:alpha val="25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0" name="Picture 53" descr="Лермонтов"/>
          <p:cNvPicPr/>
          <p:nvPr/>
        </p:nvPicPr>
        <p:blipFill>
          <a:blip r:embed="rId1"/>
          <a:stretch/>
        </p:blipFill>
        <p:spPr>
          <a:xfrm>
            <a:off x="6548400" y="2643120"/>
            <a:ext cx="2595600" cy="337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Голова Мцыри"/>
          <p:cNvPicPr/>
          <p:nvPr/>
        </p:nvPicPr>
        <p:blipFill>
          <a:blip r:embed="rId2"/>
          <a:stretch/>
        </p:blipFill>
        <p:spPr>
          <a:xfrm>
            <a:off x="428760" y="2928960"/>
            <a:ext cx="239076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55"/>
          <p:cNvSpPr/>
          <p:nvPr/>
        </p:nvSpPr>
        <p:spPr>
          <a:xfrm>
            <a:off x="2340000" y="4581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 н  т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т  е   з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56"/>
          <p:cNvSpPr/>
          <p:nvPr/>
        </p:nvSpPr>
        <p:spPr>
          <a:xfrm>
            <a:off x="1187280" y="501336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о  м   п  о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и  ц  и  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57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58"/>
          <p:cNvSpPr/>
          <p:nvPr/>
        </p:nvSpPr>
        <p:spPr>
          <a:xfrm>
            <a:off x="53964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9. Один из видов лиро –эпического жан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59"/>
          <p:cNvSpPr/>
          <p:nvPr/>
        </p:nvSpPr>
        <p:spPr>
          <a:xfrm>
            <a:off x="2340000" y="56833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Picture 60" descr="Карамзин"/>
          <p:cNvPicPr/>
          <p:nvPr/>
        </p:nvPicPr>
        <p:blipFill>
          <a:blip r:embed="rId1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1" descr="Лермонтов"/>
          <p:cNvPicPr/>
          <p:nvPr/>
        </p:nvPicPr>
        <p:blipFill>
          <a:blip r:embed="rId2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2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3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55"/>
          <p:cNvSpPr/>
          <p:nvPr/>
        </p:nvSpPr>
        <p:spPr>
          <a:xfrm>
            <a:off x="2340000" y="4581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 н  т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т  е   з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56"/>
          <p:cNvSpPr/>
          <p:nvPr/>
        </p:nvSpPr>
        <p:spPr>
          <a:xfrm>
            <a:off x="1187280" y="501336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о  м   п  о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и  ц  и  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57"/>
          <p:cNvSpPr/>
          <p:nvPr/>
        </p:nvSpPr>
        <p:spPr>
          <a:xfrm>
            <a:off x="2340000" y="5589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о   э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58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59"/>
          <p:cNvSpPr/>
          <p:nvPr/>
        </p:nvSpPr>
        <p:spPr>
          <a:xfrm>
            <a:off x="324000" y="476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Дайте определение литературному направлению, выделенному в кроссвор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60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1" descr="Бафрон"/>
          <p:cNvPicPr/>
          <p:nvPr/>
        </p:nvPicPr>
        <p:blipFill>
          <a:blip r:embed="rId2"/>
          <a:stretch/>
        </p:blipFill>
        <p:spPr>
          <a:xfrm>
            <a:off x="6877080" y="5084640"/>
            <a:ext cx="1278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7" name="Object 4"/>
          <p:cNvGraphicFramePr/>
          <p:nvPr/>
        </p:nvGraphicFramePr>
        <p:xfrm>
          <a:off x="2987640" y="3573360"/>
          <a:ext cx="5867280" cy="23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573360"/>
                    <a:ext cx="58672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Text Box 5"/>
          <p:cNvSpPr/>
          <p:nvPr/>
        </p:nvSpPr>
        <p:spPr>
          <a:xfrm>
            <a:off x="250920" y="1413000"/>
            <a:ext cx="849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эма «Мцыри»  - романтическое произвед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торим  основные признаки романтиз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4" descr="Военногруз дорога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5"/>
          <p:cNvSpPr/>
          <p:nvPr/>
        </p:nvSpPr>
        <p:spPr>
          <a:xfrm>
            <a:off x="1116000" y="18900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Возникновение замысла поэмы «Мцыри» биограф Лермонтова П.А. Висковатов связывает с путешествием поэта по старой Военно-Грузинской дороге. Лермонтов посетил древнюю столицу Грузии, город Мцхета, расположенную в месте слияния рек Арагвы и Куры. При посещении собора Светицховели  поэт встретил одинокого монаха, который рассказал ему свою истор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5003640" y="621648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енно-Грузинская дорога близ Мцхета. Рисунок М.Ю. Лермонт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4" descr="Вид Пятигорска"/>
          <p:cNvPicPr/>
          <p:nvPr/>
        </p:nvPicPr>
        <p:blipFill>
          <a:blip r:embed="rId1"/>
          <a:stretch/>
        </p:blipFill>
        <p:spPr>
          <a:xfrm>
            <a:off x="-181080" y="0"/>
            <a:ext cx="9577440" cy="702936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5"/>
          <p:cNvSpPr/>
          <p:nvPr/>
        </p:nvSpPr>
        <p:spPr>
          <a:xfrm>
            <a:off x="4140360" y="6453360"/>
            <a:ext cx="50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д Пятигорска. Акварель М.Ю. Лермонт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4" descr="Портрет Лерм"/>
          <p:cNvPicPr/>
          <p:nvPr/>
        </p:nvPicPr>
        <p:blipFill>
          <a:blip r:embed="rId1"/>
          <a:stretch/>
        </p:blipFill>
        <p:spPr>
          <a:xfrm>
            <a:off x="250920" y="907920"/>
            <a:ext cx="3600360" cy="439272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5"/>
          <p:cNvSpPr/>
          <p:nvPr/>
        </p:nvSpPr>
        <p:spPr>
          <a:xfrm>
            <a:off x="4067280" y="1268280"/>
            <a:ext cx="5076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cript MT Bold"/>
              </a:rPr>
              <a:t>«Синие горы Кавказа, приветствую вас! Вы взлелеяли детство моё, - вы носили меня на своих одичалых руках, облаками меня  одевали,  вы к небу меня приучили, и с той поры всё мечтаю об вас да о неб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cript MT Bold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Script MT Bold"/>
              </a:rPr>
              <a:t>М.Ю. Лермонтов. 1832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" descr="Автопортрет"/>
          <p:cNvPicPr/>
          <p:nvPr/>
        </p:nvPicPr>
        <p:blipFill>
          <a:blip r:embed="rId1"/>
          <a:stretch/>
        </p:blipFill>
        <p:spPr>
          <a:xfrm>
            <a:off x="5292720" y="1052640"/>
            <a:ext cx="3313080" cy="4232160"/>
          </a:xfrm>
          <a:prstGeom prst="rect">
            <a:avLst/>
          </a:prstGeom>
          <a:ln w="0">
            <a:noFill/>
          </a:ln>
        </p:spPr>
      </p:pic>
      <p:sp>
        <p:nvSpPr>
          <p:cNvPr id="718" name="Text Box 5"/>
          <p:cNvSpPr/>
          <p:nvPr/>
        </p:nvSpPr>
        <p:spPr>
          <a:xfrm>
            <a:off x="468360" y="765000"/>
            <a:ext cx="50385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ебе,  Кавказ, суровый царь зем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Я посвящаю снова стих небрежный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Ещё ребёнком робкими шаг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збирался я на гордые скал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Увитые туманными чалм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ак головы поклонников 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ам ветер машет вольными крыл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ам ночевать слетаются орл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Я в гости к ним летал мечтой послушной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4" descr="Голова Мцыри"/>
          <p:cNvPicPr/>
          <p:nvPr/>
        </p:nvPicPr>
        <p:blipFill>
          <a:blip r:embed="rId1"/>
          <a:stretch/>
        </p:blipFill>
        <p:spPr>
          <a:xfrm>
            <a:off x="0" y="1125360"/>
            <a:ext cx="4248000" cy="573264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6"/>
          <p:cNvSpPr/>
          <p:nvPr/>
        </p:nvSpPr>
        <p:spPr>
          <a:xfrm>
            <a:off x="179280" y="0"/>
            <a:ext cx="8964720" cy="14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то за огненная душа, что за могучий дух, что за исполинская натура у этого Мцыри! Это любимый идеал нашего поэта, это отражение в поэзии тени его собственной лич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Г. Белинск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7"/>
          <p:cNvSpPr/>
          <p:nvPr/>
        </p:nvSpPr>
        <p:spPr>
          <a:xfrm>
            <a:off x="4572000" y="2133720"/>
            <a:ext cx="432108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Я знал одной лишь думы влас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дну – но пламенную страст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на, как червь, во мне ж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Изгрызла душу и сожг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на мечты мои зв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т келий душных и моли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В тот чудный мир тревог и битв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М.Ю. Лермонтов «Мцыр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0" y="6524640"/>
            <a:ext cx="421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Мцыри. Рисунок Ф.Д. Константи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0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500" fill="hold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5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5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8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4"/>
          <p:cNvSpPr/>
          <p:nvPr/>
        </p:nvSpPr>
        <p:spPr>
          <a:xfrm>
            <a:off x="4067280" y="260280"/>
            <a:ext cx="4392360" cy="1008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обобщение, выраженное в частном. Показ общих качеств в индивидуальн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611280" y="1916280"/>
            <a:ext cx="806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«…И через всю жизнь проносим мы в душе образ этого человека – грустного, строгого, нежного, властного, скромного, смелого, благородного, язвительного, мечтательного, насмешливого, застенчивого, наделённого могучими страстями и волей и проницательным и беспощадным умом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. Андрон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395280" y="260280"/>
            <a:ext cx="36720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Образ в литерат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77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770" fill="hold"/>
                                        <p:tgtEl>
                                          <p:spTgt spid="7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4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4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4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4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256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3132000" y="189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0" y="90792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Эпиграф к поэме М.Ю. Лермонтова взят 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древнерусских летописе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Библ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были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стихотворения Гор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0" y="4005360"/>
            <a:ext cx="9144000" cy="1620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. В чем заключается смысл эпиграф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восстание против судьбы, против Бог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раскаяние, смир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защита права человека на своб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1" dur="2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664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0" dur="20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8"/>
          <p:cNvSpPr/>
          <p:nvPr/>
        </p:nvSpPr>
        <p:spPr>
          <a:xfrm>
            <a:off x="447840" y="476280"/>
            <a:ext cx="62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2556000" y="83664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755640" y="549360"/>
            <a:ext cx="592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1. Основной мотив в стихах этого поэта - одино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306072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3" descr="Лермонтов"/>
          <p:cNvPicPr/>
          <p:nvPr/>
        </p:nvPicPr>
        <p:blipFill>
          <a:blip r:embed="rId1"/>
          <a:stretch/>
        </p:blipFill>
        <p:spPr>
          <a:xfrm>
            <a:off x="2771640" y="1844640"/>
            <a:ext cx="332604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9"/>
          <p:cNvSpPr/>
          <p:nvPr/>
        </p:nvSpPr>
        <p:spPr>
          <a:xfrm>
            <a:off x="0" y="18900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. Определите жанр произве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аллад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элег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оэма-исповед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ритч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11"/>
          <p:cNvSpPr/>
          <p:nvPr/>
        </p:nvSpPr>
        <p:spPr>
          <a:xfrm>
            <a:off x="0" y="2492280"/>
            <a:ext cx="9144000" cy="2454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. Выделите черты романтизма в поэ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урная неистовая прир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гибель геро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герой одинок и не понят мир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введение сна героя в сюжет поэм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мотив борьбы, мятеж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Rectangle 12"/>
          <p:cNvSpPr/>
          <p:nvPr/>
        </p:nvSpPr>
        <p:spPr>
          <a:xfrm>
            <a:off x="0" y="5157720"/>
            <a:ext cx="9144000" cy="1465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. Определите стихотворный размер, использованный Лермонтовым в поэ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 анапест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дактиль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амфибрах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ям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8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8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8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8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8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8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4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8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4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425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8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4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800" fill="hold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439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8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3280"/>
                            </p:stCondLst>
                            <p:childTnLst>
                              <p:par>
                                <p:cTn id="4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800" fill="hold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5280"/>
                            </p:stCondLst>
                            <p:childTnLst>
                              <p:par>
                                <p:cTn id="45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800" fill="hold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2" dur="5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4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8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4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8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4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8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4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8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5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800" fill="hold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507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8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6" dur="20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5"/>
          <p:cNvSpPr/>
          <p:nvPr/>
        </p:nvSpPr>
        <p:spPr>
          <a:xfrm>
            <a:off x="0" y="18900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6. Какой эпизод в сюжете  поэмы является центральны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обег из монастыр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встреча с грузинко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бой с барс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гибель Мцы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0" y="249228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7. В исповеди Мцыри звуч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негодова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мирение, покаяни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утверждение своей правот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отказ от бесплодной борь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7"/>
          <p:cNvSpPr/>
          <p:nvPr/>
        </p:nvSpPr>
        <p:spPr>
          <a:xfrm>
            <a:off x="0" y="465300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8. В чём заключается основная идея произвед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отрицание религиозной морали аскетизма и смир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тоска по вол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утверждение идеи верности идеалам перед лицом смер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ризыв к борьбе с любым проявлением деспотиз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8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8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8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8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8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8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5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740"/>
                            </p:stCondLst>
                            <p:childTnLst>
                              <p:par>
                                <p:cTn id="5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8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740"/>
                            </p:stCondLst>
                            <p:childTnLst>
                              <p:par>
                                <p:cTn id="5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8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5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8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5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8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8740"/>
                            </p:stCondLst>
                            <p:childTnLst>
                              <p:par>
                                <p:cTn id="595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8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740"/>
                            </p:stCondLst>
                            <p:childTnLst>
                              <p:par>
                                <p:cTn id="6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8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8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8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8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8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1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8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8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7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8"/>
          <p:cNvSpPr/>
          <p:nvPr/>
        </p:nvSpPr>
        <p:spPr>
          <a:xfrm>
            <a:off x="2987640" y="1700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 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м  о   н  т   о   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9"/>
          <p:cNvSpPr/>
          <p:nvPr/>
        </p:nvSpPr>
        <p:spPr>
          <a:xfrm>
            <a:off x="17928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2. Стихотворение в четырнадцать строк из двух четверостиший и двух трехстиш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3492360" y="2297160"/>
            <a:ext cx="5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1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2" descr="Шекспир"/>
          <p:cNvPicPr/>
          <p:nvPr/>
        </p:nvPicPr>
        <p:blipFill>
          <a:blip r:embed="rId2"/>
          <a:stretch/>
        </p:blipFill>
        <p:spPr>
          <a:xfrm>
            <a:off x="2700360" y="1700280"/>
            <a:ext cx="29764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8"/>
          <p:cNvSpPr/>
          <p:nvPr/>
        </p:nvSpPr>
        <p:spPr>
          <a:xfrm>
            <a:off x="395280" y="3333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3. Представитель сентиментализма   в русской литературе 18 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49"/>
          <p:cNvSpPr/>
          <p:nvPr/>
        </p:nvSpPr>
        <p:spPr>
          <a:xfrm>
            <a:off x="2916360" y="170028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м  о  н  т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50"/>
          <p:cNvSpPr/>
          <p:nvPr/>
        </p:nvSpPr>
        <p:spPr>
          <a:xfrm>
            <a:off x="3687840" y="2298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51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52"/>
          <p:cNvSpPr/>
          <p:nvPr/>
        </p:nvSpPr>
        <p:spPr>
          <a:xfrm>
            <a:off x="1979640" y="278136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53" descr="Карамзин"/>
          <p:cNvPicPr/>
          <p:nvPr/>
        </p:nvPicPr>
        <p:blipFill>
          <a:blip r:embed="rId1"/>
          <a:stretch/>
        </p:blipFill>
        <p:spPr>
          <a:xfrm>
            <a:off x="2411280" y="1773360"/>
            <a:ext cx="3703680" cy="4327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4" descr="Шекспир"/>
          <p:cNvPicPr/>
          <p:nvPr/>
        </p:nvPicPr>
        <p:blipFill>
          <a:blip r:embed="rId2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5" descr="Лермонтов"/>
          <p:cNvPicPr/>
          <p:nvPr/>
        </p:nvPicPr>
        <p:blipFill>
          <a:blip r:embed="rId3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51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52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53"/>
          <p:cNvSpPr/>
          <p:nvPr/>
        </p:nvSpPr>
        <p:spPr>
          <a:xfrm>
            <a:off x="468360" y="476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4. В своих сонетах он воспевал прекрасную Лау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54"/>
          <p:cNvSpPr/>
          <p:nvPr/>
        </p:nvSpPr>
        <p:spPr>
          <a:xfrm>
            <a:off x="1816200" y="328464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55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6" descr="Карамзин"/>
          <p:cNvPicPr/>
          <p:nvPr/>
        </p:nvPicPr>
        <p:blipFill>
          <a:blip r:embed="rId2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7" descr="p_222i"/>
          <p:cNvPicPr/>
          <p:nvPr/>
        </p:nvPicPr>
        <p:blipFill>
          <a:blip r:embed="rId3"/>
          <a:stretch/>
        </p:blipFill>
        <p:spPr>
          <a:xfrm>
            <a:off x="2411280" y="1916280"/>
            <a:ext cx="3905280" cy="4346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8" descr="Шекспир"/>
          <p:cNvPicPr/>
          <p:nvPr/>
        </p:nvPicPr>
        <p:blipFill>
          <a:blip r:embed="rId4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52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53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54"/>
          <p:cNvSpPr/>
          <p:nvPr/>
        </p:nvSpPr>
        <p:spPr>
          <a:xfrm>
            <a:off x="179280" y="18900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5. Противоборство, столкновение в литературном произведении, воплощенное в сюже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55"/>
          <p:cNvSpPr/>
          <p:nvPr/>
        </p:nvSpPr>
        <p:spPr>
          <a:xfrm>
            <a:off x="2987640" y="378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56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7" descr="Карамзин"/>
          <p:cNvPicPr/>
          <p:nvPr/>
        </p:nvPicPr>
        <p:blipFill>
          <a:blip r:embed="rId2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8" descr="p_222i"/>
          <p:cNvPicPr/>
          <p:nvPr/>
        </p:nvPicPr>
        <p:blipFill>
          <a:blip r:embed="rId3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9" descr="Шекспир"/>
          <p:cNvPicPr/>
          <p:nvPr/>
        </p:nvPicPr>
        <p:blipFill>
          <a:blip r:embed="rId4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54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55"/>
          <p:cNvSpPr/>
          <p:nvPr/>
        </p:nvSpPr>
        <p:spPr>
          <a:xfrm>
            <a:off x="298764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56"/>
          <p:cNvSpPr/>
          <p:nvPr/>
        </p:nvSpPr>
        <p:spPr>
          <a:xfrm>
            <a:off x="179280" y="18900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imes New Roman"/>
              </a:rPr>
              <a:t>6. Вид тропа, переносное значение слова, основанное на уподоблении одного предмета или явления другому по сходству или контрас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Picture 57" descr="Карамзин"/>
          <p:cNvPicPr/>
          <p:nvPr/>
        </p:nvPicPr>
        <p:blipFill>
          <a:blip r:embed="rId1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8" descr="Лермонтов"/>
          <p:cNvPicPr/>
          <p:nvPr/>
        </p:nvPicPr>
        <p:blipFill>
          <a:blip r:embed="rId2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9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0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55"/>
          <p:cNvSpPr/>
          <p:nvPr/>
        </p:nvSpPr>
        <p:spPr>
          <a:xfrm>
            <a:off x="1187280" y="5013360"/>
            <a:ext cx="554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57"/>
          <p:cNvSpPr/>
          <p:nvPr/>
        </p:nvSpPr>
        <p:spPr>
          <a:xfrm>
            <a:off x="468360" y="62064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7. Противопост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58"/>
          <p:cNvSpPr/>
          <p:nvPr/>
        </p:nvSpPr>
        <p:spPr>
          <a:xfrm>
            <a:off x="2340000" y="4724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59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60" descr="Карамзин"/>
          <p:cNvPicPr/>
          <p:nvPr/>
        </p:nvPicPr>
        <p:blipFill>
          <a:blip r:embed="rId2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1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2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55"/>
          <p:cNvSpPr/>
          <p:nvPr/>
        </p:nvSpPr>
        <p:spPr>
          <a:xfrm>
            <a:off x="2340000" y="4581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 н  т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т  е   з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56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57"/>
          <p:cNvSpPr/>
          <p:nvPr/>
        </p:nvSpPr>
        <p:spPr>
          <a:xfrm>
            <a:off x="179280" y="404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8. Построение, расположение и взаимосвязь всех частей, эпизодов, сцен произвед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58"/>
          <p:cNvSpPr/>
          <p:nvPr/>
        </p:nvSpPr>
        <p:spPr>
          <a:xfrm>
            <a:off x="1258920" y="522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Picture 59" descr="Карамзин"/>
          <p:cNvPicPr/>
          <p:nvPr/>
        </p:nvPicPr>
        <p:blipFill>
          <a:blip r:embed="rId1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0" descr="Лермонтов"/>
          <p:cNvPicPr/>
          <p:nvPr/>
        </p:nvPicPr>
        <p:blipFill>
          <a:blip r:embed="rId2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1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62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12:29:01Z</dcterms:created>
  <dc:creator>Genya</dc:creator>
  <dc:description/>
  <dc:language>en-US</dc:language>
  <cp:lastModifiedBy>LEGION</cp:lastModifiedBy>
  <dcterms:modified xsi:type="dcterms:W3CDTF">2015-01-20T08:00:55Z</dcterms:modified>
  <cp:revision>33</cp:revision>
  <dc:subject/>
  <dc:title>Слайд 1</dc:title>
</cp:coreProperties>
</file>