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B10-3D5D-45AB-A8B3-502844F763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цыр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9956-6426-482D-9B2D-3B9282CF61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2242-4AA8-4595-866D-734957640B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A616-9A9C-467F-9970-EFA79574A5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торим  основные признаки романт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A87C-DFE3-46FF-B7F4-7E6BC8A85A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4071-847D-475E-AB27-C09C4426EB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Пятигорска. Акварель М.Ю. Лермон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FF95-89DB-48CA-8D92-5805512455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М.Ю. Лермонтов. 183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AAD3-4EDF-43D2-BD65-A3F7FAE9D0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бе,  Кавказ, суровый царь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посвящаю снова стих небрежн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щё ребёнком робкими ш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збирался я на гордые ска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витые туманными чалм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к головы поклонников 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ветер машет вольными крыл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ночевать слетаются ор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в гости к ним летал мечтой послушн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4A2E-B093-4C5B-B86B-E624BED406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Г. Бели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1C97-D065-4DC3-8C8A-93DDEEF882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Анд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B3E-A32A-4159-931F-5326328A8F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пиграф к поэме М.Ю. Лермонтова взят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ревнерусских летопис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ибл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ы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тихотворения Го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2. В чем заключается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стание против судьбы, против Бог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скаяние, смир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щита права человека на своб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B298-2DED-433D-A2DF-F0880BA87D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6C37-3167-4270-89F8-65A35ABAC5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3. Определите жанр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алл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элег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эма-исповед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т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4. Выделите черты романтизма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урная неистовая при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гибель геро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ерой одинок и не понят ми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ведение сна героя в сюжет поэ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мотив борьбы, мяте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5. Определите стихотворный размер, использованный Лермонтовым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 анапе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акти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мфибрах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я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9604-998D-4E07-A16F-2BEDF74F9D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6. Какой эпизод в сюжете  поэмы является централь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бег из монастыр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стреча с грузинк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й с барс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гибель Мц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7. В исповеди Мцыри зву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егод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мирение, покая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своей прав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отказ от бесплодной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8. В чём заключается основная идея произве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рицание религиозной морали аскетизма и сми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ска по в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идеи верности идеалам перед лицом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зыв к борьбе с любым проявлением деспо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18C-3FD2-49C5-A90A-C8C07332CB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2299-210E-4BC4-97BC-C712E9B978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486F-97BD-41EA-A581-ADF7DE952D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7553-7A2C-4C16-972F-A61CC2FAAD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F0B-5577-4247-9692-95586A10F4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FE55-3D02-4599-9AB6-1231F576D0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1F4A-5ABC-4F2B-B6EF-2BD7A266A1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2AC9-EEE5-4B91-A888-5C4D96DA01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29F-4965-47C9-8EA8-3F82EAB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98C-398C-4B90-8E75-8D970B73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103-5967-4DF0-BBCA-B035735F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136-9BBC-4FCA-9875-842F7857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A1CC3-D9D6-47F9-BE90-A4823117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E8D45-4E12-42D6-AE6F-ABFEE032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5B29A-550E-41A0-86A4-517EFD39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A8D61-7D04-453F-804E-76ADB00A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4333D-5093-4937-8BDB-B5D783B2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A8DCD-DB43-4872-8CE5-DF5D6280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D3605-8B6E-490E-BC4C-F2C94852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9DC-42E4-4C30-8605-BC9B6084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A4A1A-6974-4EBE-83F0-BBDD7012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8902A-E38B-4C18-A1A7-3B3EFD4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541FE-C86F-472B-9238-4F6DE71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6FBD6-54A4-4A1D-A0C7-688B2439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C55E-3663-498D-9835-CBFA0AEA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406-D609-42C0-AD8D-5FAA0F16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752-06C9-4A4E-AD93-5BF8447A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2AB-B169-4F85-8E87-23B1DA7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7AC-470F-4958-8581-5A3672F5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1D9-6E7E-4464-B57E-81CE8C2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14A-1A5E-40C5-B188-D541E10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62E-9F06-4E5A-9640-41E79E32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E9B4-2992-4833-B4C7-21FF7642E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FDEC-E815-4DCB-8BFF-E26C5EE510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324000" y="1341360"/>
            <a:ext cx="86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хаил Юрьевич Лермонтов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цыри"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3" descr="Лермонтов"/>
          <p:cNvPicPr/>
          <p:nvPr/>
        </p:nvPicPr>
        <p:blipFill>
          <a:blip r:embed="rId1"/>
          <a:stretch/>
        </p:blipFill>
        <p:spPr>
          <a:xfrm>
            <a:off x="6548400" y="2643120"/>
            <a:ext cx="259560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Голова Мцыри"/>
          <p:cNvPicPr/>
          <p:nvPr/>
        </p:nvPicPr>
        <p:blipFill>
          <a:blip r:embed="rId2"/>
          <a:stretch/>
        </p:blipFill>
        <p:spPr>
          <a:xfrm>
            <a:off x="428760" y="2928960"/>
            <a:ext cx="23907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8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34000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60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2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3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7"/>
          <p:cNvSpPr/>
          <p:nvPr/>
        </p:nvSpPr>
        <p:spPr>
          <a:xfrm>
            <a:off x="2340000" y="5589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о   э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58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0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1" descr="Бафрон"/>
          <p:cNvPicPr/>
          <p:nvPr/>
        </p:nvPicPr>
        <p:blipFill>
          <a:blip r:embed="rId2"/>
          <a:stretch/>
        </p:blipFill>
        <p:spPr>
          <a:xfrm>
            <a:off x="6877080" y="5084640"/>
            <a:ext cx="127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Object 4"/>
          <p:cNvGraphicFramePr/>
          <p:nvPr/>
        </p:nvGraphicFramePr>
        <p:xfrm>
          <a:off x="2987640" y="3573360"/>
          <a:ext cx="58672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573360"/>
                    <a:ext cx="58672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5"/>
          <p:cNvSpPr/>
          <p:nvPr/>
        </p:nvSpPr>
        <p:spPr>
          <a:xfrm>
            <a:off x="250920" y="1413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м  основные признаки роман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Военногруз дорога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5"/>
          <p:cNvSpPr/>
          <p:nvPr/>
        </p:nvSpPr>
        <p:spPr>
          <a:xfrm>
            <a:off x="1116000" y="189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5003640" y="621648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о-Грузинская дорога близ Мцхета. Рисунок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Вид Пятигорска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4140360" y="645336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Пятигорска. Акварель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Портрет Лерм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4067280" y="1268280"/>
            <a:ext cx="50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М.Ю. Лермонтов. 183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Автопортрет"/>
          <p:cNvPicPr/>
          <p:nvPr/>
        </p:nvPicPr>
        <p:blipFill>
          <a:blip r:embed="rId1"/>
          <a:stretch/>
        </p:blipFill>
        <p:spPr>
          <a:xfrm>
            <a:off x="5292720" y="1052640"/>
            <a:ext cx="3313080" cy="42321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5"/>
          <p:cNvSpPr/>
          <p:nvPr/>
        </p:nvSpPr>
        <p:spPr>
          <a:xfrm>
            <a:off x="468360" y="765000"/>
            <a:ext cx="5038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бе,  Кавказ, суровый царь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посвящаю снова стих небрежн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щё ребёнком робкими ш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збирался я на гордые ска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витые туманными чалм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головы поклонников 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ветер машет вольными кры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ночевать слетаются ор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в гости к ним летал мечтой послушн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Голова Мцыри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7326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6"/>
          <p:cNvSpPr/>
          <p:nvPr/>
        </p:nvSpPr>
        <p:spPr>
          <a:xfrm>
            <a:off x="179280" y="0"/>
            <a:ext cx="89647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Г. Бел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572000" y="2133720"/>
            <a:ext cx="432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цыри. Рисунок Ф.Д. Константи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067280" y="260280"/>
            <a:ext cx="43923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611280" y="191628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 Андрон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95280" y="26028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132000" y="1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90792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Эпиграф к поэме М.Ю. Лермонтова взят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ревнерусских летопис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Библ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тихотворения Го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4005360"/>
            <a:ext cx="9144000" cy="162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 чем заключается смысл эпиграф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осстание против судьбы, против Б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раскаяние, сми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защита права человека н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47840" y="47628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2556000" y="836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55640" y="549360"/>
            <a:ext cx="59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0607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3" descr="Лермонтов"/>
          <p:cNvPicPr/>
          <p:nvPr/>
        </p:nvPicPr>
        <p:blipFill>
          <a:blip r:embed="rId1"/>
          <a:stretch/>
        </p:blipFill>
        <p:spPr>
          <a:xfrm>
            <a:off x="2771640" y="1844640"/>
            <a:ext cx="3326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9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Определите жанр произ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алла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элег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эма-исповед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т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0" y="2492280"/>
            <a:ext cx="9144000" cy="245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Выделите черты романтизма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урная неистовая при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гибель геро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герой одинок и не понят ми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ведение сна героя в сюжет поэ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отив борьбы, мяте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0" y="5157720"/>
            <a:ext cx="9144000" cy="146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ределите стихотворный размер, использованный Лермонтовым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анапес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акти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амфибрах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8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8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28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8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8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8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5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 Какой эпизод в сюжете  поэмы является центра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бег из монастыр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стреча с грузинк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ой с бар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ибель 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 В исповеди Мцыри зву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го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ирение, покая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своей прав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тказ от бесплодной бор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0" y="4653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. В чём заключается основная идея произ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рицание религиозной морали аскетизма и смир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тоска по в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идеи верности идеалам перед лицом смер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зыв к борьбе с любым проявлением деспо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8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8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8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8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8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59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8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74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8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8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2987640" y="17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м  о   н  т   о  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492360" y="229716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1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Шекспир"/>
          <p:cNvPicPr/>
          <p:nvPr/>
        </p:nvPicPr>
        <p:blipFill>
          <a:blip r:embed="rId2"/>
          <a:stretch/>
        </p:blipFill>
        <p:spPr>
          <a:xfrm>
            <a:off x="2700360" y="1700280"/>
            <a:ext cx="297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916360" y="170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м  о  н  т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3687840" y="229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979640" y="278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Карамзин"/>
          <p:cNvPicPr/>
          <p:nvPr/>
        </p:nvPicPr>
        <p:blipFill>
          <a:blip r:embed="rId1"/>
          <a:stretch/>
        </p:blipFill>
        <p:spPr>
          <a:xfrm>
            <a:off x="2411280" y="1773360"/>
            <a:ext cx="3703680" cy="432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4" descr="Шекспир"/>
          <p:cNvPicPr/>
          <p:nvPr/>
        </p:nvPicPr>
        <p:blipFill>
          <a:blip r:embed="rId2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5" descr="Лермонтов"/>
          <p:cNvPicPr/>
          <p:nvPr/>
        </p:nvPicPr>
        <p:blipFill>
          <a:blip r:embed="rId3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3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1816200" y="3284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55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7" descr="p_222i"/>
          <p:cNvPicPr/>
          <p:nvPr/>
        </p:nvPicPr>
        <p:blipFill>
          <a:blip r:embed="rId3"/>
          <a:stretch/>
        </p:blipFill>
        <p:spPr>
          <a:xfrm>
            <a:off x="2411280" y="1916280"/>
            <a:ext cx="3905280" cy="434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8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2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3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5"/>
          <p:cNvSpPr/>
          <p:nvPr/>
        </p:nvSpPr>
        <p:spPr>
          <a:xfrm>
            <a:off x="2987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56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7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8" descr="p_222i"/>
          <p:cNvPicPr/>
          <p:nvPr/>
        </p:nvPicPr>
        <p:blipFill>
          <a:blip r:embed="rId3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9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987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57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5"/>
          <p:cNvSpPr/>
          <p:nvPr/>
        </p:nvSpPr>
        <p:spPr>
          <a:xfrm>
            <a:off x="1187280" y="5013360"/>
            <a:ext cx="55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468360" y="62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3400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9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0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79280" y="404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1258920" y="522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59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0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2:29:01Z</dcterms:created>
  <dc:creator>Genya</dc:creator>
  <dc:description/>
  <dc:language>en-US</dc:language>
  <cp:lastModifiedBy>LEGION</cp:lastModifiedBy>
  <dcterms:modified xsi:type="dcterms:W3CDTF">2015-01-20T08:00:55Z</dcterms:modified>
  <cp:revision>33</cp:revision>
  <dc:subject/>
  <dc:title>Слайд 1</dc:title>
</cp:coreProperties>
</file>