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C492-3F68-4F7D-8A9F-E4EA38AC9F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Михаил Александрович Шолох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953735"/>
                </a:solidFill>
                <a:latin typeface="Calibri"/>
              </a:rPr>
              <a:t>«Тихий Дон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4065-2CD7-484A-A8F3-1DEB7EDCED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, но и сами делают жертвами других (Наталь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DAC2-244F-4F37-A5B6-7E958F49D6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роль играет противопоставление двух героинь романа – Натальи и Аксинь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AB9E-BA5C-4300-923C-9CBB386B59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талья – воплощение идеи дома, семьи. Её цельность, чистота, верность, преданность описаны Шолоховым с любовью и сочувствием к своей героине. Чувство Натальи переносится на детей, на родню. У Аксиньи нет ни детей, ни родни: </a:t>
            </a:r>
            <a:r>
              <a:rPr b="0" i="1" lang="ru-RU" sz="1200" spc="-1" strike="noStrike">
                <a:solidFill>
                  <a:srgbClr val="984807"/>
                </a:solidFill>
                <a:latin typeface="Calibri"/>
              </a:rPr>
              <a:t>«У тебя хоть дети есть, а он у меня, - голос Аксиньи дрогнул и стал глуше и ниже, - один на всём белом свете! Первый и последний…»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вь Аксиньи в беспредельном самопожертвовании, в перенесении центра своей жизни в другого человека, это глубокое, страстное чув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2554-1545-4D1F-A90B-D016E2F3BC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Наталью, И Аксинью Григорий любит. Наталья поражала его «какой-то чистой внутренней красотой». Она вся в стихии дома, семьи, она самоотверженная и ласковая мать. Любовь к Аксинье сильнее самого Григория. Её «порочная», «вызывающая» красота неумолимо притягивает его. Любовь Григория к Аксинье часто описана грубыми красками: </a:t>
            </a:r>
            <a:r>
              <a:rPr b="0" i="1" lang="ru-RU" sz="1200" spc="-1" strike="noStrike">
                <a:solidFill>
                  <a:srgbClr val="984807"/>
                </a:solidFill>
                <a:latin typeface="Calibri"/>
              </a:rPr>
              <a:t>«Рывком кинул Григорий её на руки – так кидает волк к себе на хребтину зарезанную овц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291C-DE77-44B4-ABDC-7E52FA19DA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же эта любовь вызывает сочувствие? (У Достоевского Митя Карамазов говорит: «Красота есть не только страшная, но и таинственная вещь. Тут дьявол с Богом борется, а поле битвы – сердца людей»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91B8-6AD3-4BF5-BDE4-21B8FCC506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характере Аксиньи соединены земное и идеальное. К концу романа Аксинья уже не соперница, не любовница, чувствующая власть своей красоты. Она живёт молитвой за Григория, она ласкает осиротевших его дете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частливая личная жизнь героев, гибель Аксиньи, когда Григорий, «мертвея от ужаса, понял, что всё кончено, что самое страшное, что только могло случиться в его жизни, - уже случилось», трагичны. Но жизнь продолжается. Последняя сцена: Григорий стоит «у ворот родного дома», держит на руках сына. Здесь, в отчем доме, на родной земле, все начала и все концы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E8FE5-0083-44F1-BDB5-96EA6D8F07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ю подготовила учитель русского языка и литературы МОУ СОШ №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Болот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касова Лариса Александ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9DCB-F0B6-49B9-951E-28A5B16904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84807"/>
                </a:solidFill>
                <a:latin typeface="Calibri"/>
              </a:rPr>
              <a:t>Григорий</a:t>
            </a:r>
            <a:br>
              <a:rPr sz="1200"/>
            </a:br>
            <a:r>
              <a:rPr b="1" i="1" lang="ru-RU" sz="1200" spc="-1" strike="noStrike">
                <a:solidFill>
                  <a:srgbClr val="984807"/>
                </a:solidFill>
                <a:latin typeface="Calibri"/>
              </a:rPr>
              <a:t>и</a:t>
            </a:r>
            <a:br>
              <a:rPr sz="1200"/>
            </a:br>
            <a:r>
              <a:rPr b="1" i="1" lang="ru-RU" sz="1200" spc="-1" strike="noStrike">
                <a:solidFill>
                  <a:srgbClr val="984807"/>
                </a:solidFill>
                <a:latin typeface="Calibri"/>
              </a:rPr>
              <a:t>Аксин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325C-1BC3-44EF-8048-DC88504CAD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ихий Дон» - повествование о грандиозной Революции, о катаклизме, пережитом Россией. Но и повествование о драматической, трагической любви. Эта любовь трагична не только для Григория и Аксиньи, но и для их сем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7968-CB6D-4D8F-9A1F-BD8DF5CCF6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тносятся жители хутора к любви Григория и Аксинь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отношения – любовь или «беззаконная» страсть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3C14-18B1-4252-84A3-3D110A0496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любовь удивляет и пугает жителей хутора, которые стыдились смотреть в глаза Григорию и Аксинье. Вспомним «Анну Каренину» Толстого. </a:t>
            </a: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«Если б Григорий ходил к жалмерке Аксинье, делая вид, что скрывается от людей, если б жалмерка Аксинья жила с Григорием, блюдя это в относительной тайне, и в то же время не отказывала бы другим, то в этом не было бы ничего необычного, хлещущего по глазам. Хутор поговорил бы и перестал. Но они жили, почти не таясь, вязало их что-то большое, непохожее на короткую связь, и поэтому в хуторе решили, что это – преступно, безнравственно, и хутор прижух в поганеньком выжиданьице: придёт Степан – узелок развяже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0D0F-AA9A-401F-B8CB-CFEFF89595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из ряда вон выходящее чувство (сравним с любовью Натальи, Дарьи, Дуняши, Листницкого). Причём отношения героев почти лишены романтики, в привычном понимании: </a:t>
            </a:r>
            <a:br>
              <a:rPr sz="1200"/>
            </a:br>
            <a:r>
              <a:rPr b="0" i="1" lang="ru-RU" sz="1200" spc="-1" strike="noStrike">
                <a:solidFill>
                  <a:srgbClr val="984807"/>
                </a:solidFill>
                <a:latin typeface="Calibri"/>
              </a:rPr>
              <a:t>«Не лазоревым алым цветом, а собачьей бесилой, дурнопьяном придорожным цветёт поздняя бабья любовь. С лугового покоса переродилась Аксинья. Будто кто отметину сделал на лице, тавро выжег. Бабы при встрече с неё ехидно  ощерялись, качали головами вслед, девки завидовали, а она гордо и высоко несла свою счастливую, но срамную голов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FBD7-2B60-4F44-80D9-58CA268EC9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ли революция фоном, на котором развивается любовь героев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ли любовь средством «очеловечить», сделать интереснее и ближе роман о революции и гражданской вой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33DE-3E2A-47A2-8DE8-6C5EEDC392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Кожинов считает, что Любовь есть воплощение революции. Любовь изменяет, преобразует и самих героев, и окружающую их жизнь. Рождение этой любви отмечено страшной грозой, потрясшей Дон. Однако буквальное отождествление Любви и революции недопустимо. Речь идёт о том, что переворот совершается и здесь, и там; начинается именно с истории люб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91B5-AB41-42B9-B540-936EC7CE4D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ются ли Григорий и Аксинья жертвами своей любви-стра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F29F-E1FB-475C-96BF-E0A67009D3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ACC4-DD62-46CF-A6E2-3C7DAB533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D2DA-6480-4400-B925-D4190D5D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DC1E-B34D-4982-AF08-DFE64D47A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965A-A839-4CC9-9AF4-510512DCB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E713-05CC-4D32-94CC-BEB84582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B9D2-E1B3-4037-AB79-469F77C4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C2AF-DDFC-45E8-92B3-079D44F5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B03D-BE9A-4FA8-9AC8-1C6948E7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FB13-32AE-4EFD-A43F-8F2BE6AD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636F-5B49-4EBD-BD4A-09CA3D56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B964-DF03-49F8-A580-6A2B2833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74BE-AC22-4BDD-8599-FE3E7C2D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92EA-2D1C-411F-82C6-21FBA358B54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33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376092"/>
                </a:solidFill>
                <a:latin typeface="Calibri"/>
              </a:rPr>
              <a:t>Михаил Александрович Шолохов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928960" y="3857760"/>
            <a:ext cx="484344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53735"/>
                </a:solidFill>
                <a:latin typeface="Calibri"/>
              </a:rPr>
              <a:t>«Тихий Дон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643800" y="1571760"/>
            <a:ext cx="1714320" cy="2428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714240" y="2571840"/>
            <a:ext cx="27147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642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, но и сами делают жертвами других (Наталья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4714920" y="3571920"/>
            <a:ext cx="3971880" cy="3119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285840" y="142920"/>
            <a:ext cx="39290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кую роль играет противопоставление двух героинь романа – Натальи и Аксинь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4714920" y="3000240"/>
            <a:ext cx="3333600" cy="2714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1214280" y="2857680"/>
            <a:ext cx="271476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28560" y="356760"/>
            <a:ext cx="6357960" cy="60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аталья – воплощение идеи дома, семьи. Её цельность, чистота, верность, преданность описаны Шолоховым с любовью и сочувствием к своей героине. Чувство Натальи переносится на детей, на родню. У Аксиньи нет ни детей, ни родни: </a:t>
            </a:r>
            <a:r>
              <a:rPr b="0" i="1" lang="ru-RU" sz="2500" spc="-1" strike="noStrike">
                <a:solidFill>
                  <a:srgbClr val="984807"/>
                </a:solidFill>
                <a:latin typeface="Calibri"/>
              </a:rPr>
              <a:t>«У тебя хоть дети есть, а он у меня, - голос Аксиньи дрогнул и стал глуше и ниже, - один на всём белом свете! Первый и последний…».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Любовь Аксиньи в беспредельном самопожертвовании, в перенесении центра своей жизни в другого человека, это глубокое, страстное чувство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500040" y="642960"/>
            <a:ext cx="17146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Наталью, И Аксинью Григорий любит. Наталья поражала его «какой-то чистой внутренней красотой». Она вся в стихии дома, семьи, она самоотверженная и ласковая мать. Любовь к Аксинье сильнее самого Григория. Её «порочная», «вызывающая» красота неумолимо притягивает его. Любовь Григория к Аксинье часто описана грубыми красками: </a:t>
            </a:r>
            <a:r>
              <a:rPr b="0" i="1" lang="ru-RU" sz="2800" spc="-1" strike="noStrike">
                <a:solidFill>
                  <a:srgbClr val="984807"/>
                </a:solidFill>
                <a:latin typeface="Calibri"/>
              </a:rPr>
              <a:t>«Рывком кинул Григорий её на руки – так кидает волк к себе на хребтину зарезанную овцу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чему же эта любовь вызывает сочувствие? (У Достоевского Митя Карамазов говорит: «Красота есть не только страшная, но и таинственная вещь. Тут дьявол с Богом борется, а поле битвы – сердца людей»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8258040" cy="61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характере Аксиньи соединены земное и идеальное. К концу романа Аксинья уже не соперница, не любовница, чувствующая власть своей красоты. Она живёт молитвой за Григория, она ласкает осиротевших его дете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счастливая личная жизнь героев, гибель Аксиньи, когда Григорий, «мертвея от ужаса, понял, что всё кончено, что самое страшное, что только могло случиться в его жизни, - уже случилось», трагичны. Но жизнь продолжается. Последняя сцена: Григорий стоит «у ворот родного дома», держит на руках сына. Здесь, в отчем доме, на родной земле, все начала и все концы жиз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785880" y="500040"/>
            <a:ext cx="4000320" cy="5572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5429160" y="1285920"/>
            <a:ext cx="3000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зентацию подготовила учитель русского языка и литературы МОУ СОШ №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. Болотног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ркасова Лариса Александр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28480" y="285480"/>
            <a:ext cx="6143400" cy="494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984807"/>
                </a:solidFill>
                <a:latin typeface="Calibri"/>
              </a:rPr>
              <a:t>Григорий</a:t>
            </a:r>
            <a:br>
              <a:rPr sz="6600"/>
            </a:br>
            <a:r>
              <a:rPr b="1" i="1" lang="ru-RU" sz="6600" spc="-1" strike="noStrike">
                <a:solidFill>
                  <a:srgbClr val="984807"/>
                </a:solidFill>
                <a:latin typeface="Calibri"/>
              </a:rPr>
              <a:t>и</a:t>
            </a:r>
            <a:br>
              <a:rPr sz="6600"/>
            </a:br>
            <a:r>
              <a:rPr b="1" i="1" lang="ru-RU" sz="6600" spc="-1" strike="noStrike">
                <a:solidFill>
                  <a:srgbClr val="984807"/>
                </a:solidFill>
                <a:latin typeface="Calibri"/>
              </a:rPr>
              <a:t>Аксинья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2682720" cy="4249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6000840" y="3000240"/>
            <a:ext cx="292572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Тихий Дон» - повествование о грандиозной Революции, о катаклизме, пережитом Россией. Но и повествование о драматической, трагической любви. Эта любовь трагична не только для Григория и Аксиньи, но и для их сем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143080" y="3357720"/>
            <a:ext cx="47624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ак относятся жители хутора к любви Григория и Аксиньи?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Их отношения – любовь или «беззаконная» страсть?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3071880" y="2643120"/>
            <a:ext cx="27334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Эта любовь удивляет и пугает жителей хутора, которые стыдились смотреть в глаза Григорию и Аксинье. Вспомним «Анну Каренину» Толстого. </a:t>
            </a:r>
            <a:r>
              <a:rPr b="0" i="1" lang="ru-RU" sz="2500" spc="-1" strike="noStrike">
                <a:solidFill>
                  <a:srgbClr val="376092"/>
                </a:solidFill>
                <a:latin typeface="Calibri"/>
              </a:rPr>
              <a:t>«Если б Григорий ходил к жалмерке Аксинье, делая вид, что скрывается от людей, если б жалмерка Аксинья жила с Григорием, блюдя это в относительной тайне, и в то же время не отказывала бы другим, то в этом не было бы ничего необычного, хлещущего по глазам. Хутор поговорил бы и перестал. Но они жили, почти не таясь, вязало их что-то большое, непохожее на короткую связь, и поэтому в хуторе решили, что это – преступно, безнравственно, и хутор прижух в поганеньком выжиданьице: придёт Степан – узелок развяжет»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5715000" cy="642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из ряда вон выходящее чувство (сравним с любовью Натальи, Дарьи, Дуняши, Листницкого). Причём отношения героев почти лишены романтики, в привычном понимании: </a:t>
            </a:r>
            <a:br>
              <a:rPr sz="2400"/>
            </a:br>
            <a:r>
              <a:rPr b="0" i="1" lang="ru-RU" sz="2400" spc="-1" strike="noStrike">
                <a:solidFill>
                  <a:srgbClr val="984807"/>
                </a:solidFill>
                <a:latin typeface="Calibri"/>
              </a:rPr>
              <a:t>«Не лазоревым алым цветом, а собачьей бесилой, дурнопьяном придорожным цветёт поздняя бабья любовь. С лугового покоса переродилась Аксинья. Будто кто отметину сделал на лице, тавро выжег. Бабы при встрече с неё ехидно  ощерялись, качали головами вслед, девки завидовали, а она гордо и высоко несла свою счастливую, но срамную голову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6143760" y="1857240"/>
            <a:ext cx="27144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вляется ли революция фоном, на котором развивается любовь героев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вляется ли любовь средством «очеловечить», сделать интереснее и ближе роман о революции и гражданской войн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2143080" y="3429000"/>
            <a:ext cx="47862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. Кожинов считает, что Любовь есть воплощение революции. Любовь изменяет, преобразует и самих героев, и окружающую их жизнь. Рождение этой любви отмечено страшной грозой, потрясшей Дон. Однако буквальное отождествление Любви и революции недопустимо. Речь идёт о том, что переворот совершается и здесь, и там; начинается именно с истории любв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2571840" y="3714840"/>
            <a:ext cx="408132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Являются ли Григорий и Аксинья жертвами своей любви-страст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2357280" y="2500200"/>
            <a:ext cx="43578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4T04:42:23Z</dcterms:created>
  <dc:creator>Катька</dc:creator>
  <dc:description/>
  <dc:language>en-US</dc:language>
  <cp:lastModifiedBy>LEGION</cp:lastModifiedBy>
  <dcterms:modified xsi:type="dcterms:W3CDTF">2015-01-20T08:01:48Z</dcterms:modified>
  <cp:revision>27</cp:revision>
  <dc:subject/>
  <dc:title>Михаил Александрович Шолохов </dc:title>
</cp:coreProperties>
</file>