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84136-D4C5-4369-B33A-A1775ED0ECA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76092"/>
                </a:solidFill>
                <a:latin typeface="Calibri"/>
              </a:rPr>
              <a:t>Михаил Александрович Шолох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953735"/>
                </a:solidFill>
                <a:latin typeface="Calibri"/>
              </a:rPr>
              <a:t>«Тихий Дон»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F134A-3689-4E5F-92A7-41710D264F9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, но и сами делают жертвами других (Наталь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0972F-9B96-4A05-B57B-5903D7F66CA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ую роль играет противопоставление двух героинь романа – Натальи и Аксинь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320E0-0C8F-42F3-BE63-0D4532D68FF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талья – воплощение идеи дома, семьи. Её цельность, чистота, верность, преданность описаны Шолоховым с любовью и сочувствием к своей героине. Чувство Натальи переносится на детей, на родню. У Аксиньи нет ни детей, ни родни: </a:t>
            </a:r>
            <a:r>
              <a:rPr b="0" i="1" lang="ru-RU" sz="1200" spc="-1" strike="noStrike">
                <a:solidFill>
                  <a:srgbClr val="984807"/>
                </a:solidFill>
                <a:latin typeface="Calibri"/>
              </a:rPr>
              <a:t>«У тебя хоть дети есть, а он у меня, - голос Аксиньи дрогнул и стал глуше и ниже, - один на всём белом свете! Первый и последний…»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овь Аксиньи в беспредельном самопожертвовании, в перенесении центра своей жизни в другого человека, это глубокое, страстное чувст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751EE-5B8C-47D7-B31E-67CE890084E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Наталью, И Аксинью Григорий любит. Наталья поражала его «какой-то чистой внутренней красотой». Она вся в стихии дома, семьи, она самоотверженная и ласковая мать. Любовь к Аксинье сильнее самого Григория. Её «порочная», «вызывающая» красота неумолимо притягивает его. Любовь Григория к Аксинье часто описана грубыми красками: </a:t>
            </a:r>
            <a:r>
              <a:rPr b="0" i="1" lang="ru-RU" sz="1200" spc="-1" strike="noStrike">
                <a:solidFill>
                  <a:srgbClr val="984807"/>
                </a:solidFill>
                <a:latin typeface="Calibri"/>
              </a:rPr>
              <a:t>«Рывком кинул Григорий её на руки – так кидает волк к себе на хребтину зарезанную овцу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7A242-92D8-4263-A227-F4EB48C834F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же эта любовь вызывает сочувствие? (У Достоевского Митя Карамазов говорит: «Красота есть не только страшная, но и таинственная вещь. Тут дьявол с Богом борется, а поле битвы – сердца людей»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F372E-7DD4-4E38-9D6D-0D36C1F3DA5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характере Аксиньи соединены земное и идеальное. К концу романа Аксинья уже не соперница, не любовница, чувствующая власть своей красоты. Она живёт молитвой за Григория, она ласкает осиротевших его дете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частливая личная жизнь героев, гибель Аксиньи, когда Григорий, «мертвея от ужаса, понял, что всё кончено, что самое страшное, что только могло случиться в его жизни, - уже случилось», трагичны. Но жизнь продолжается. Последняя сцена: Григорий стоит «у ворот родного дома», держит на руках сына. Здесь, в отчем доме, на родной земле, все начала и все концы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88C54-974F-4147-92B6-92AAD78125F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ю подготовила учитель русского языка и литературы МОУ СОШ №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 Болотн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касова Лариса Александр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B01B-22E9-467E-AE72-910CE9A5FE2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84807"/>
                </a:solidFill>
                <a:latin typeface="Calibri"/>
              </a:rPr>
              <a:t>Григорий</a:t>
            </a:r>
            <a:br>
              <a:rPr sz="1200"/>
            </a:br>
            <a:r>
              <a:rPr b="1" i="1" lang="ru-RU" sz="1200" spc="-1" strike="noStrike">
                <a:solidFill>
                  <a:srgbClr val="984807"/>
                </a:solidFill>
                <a:latin typeface="Calibri"/>
              </a:rPr>
              <a:t>и</a:t>
            </a:r>
            <a:br>
              <a:rPr sz="1200"/>
            </a:br>
            <a:r>
              <a:rPr b="1" i="1" lang="ru-RU" sz="1200" spc="-1" strike="noStrike">
                <a:solidFill>
                  <a:srgbClr val="984807"/>
                </a:solidFill>
                <a:latin typeface="Calibri"/>
              </a:rPr>
              <a:t>Аксин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DB0F-A722-4C8F-9D5E-C133F36D299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ихий Дон» - повествование о грандиозной Революции, о катаклизме, пережитом Россией. Но и повествование о драматической, трагической любви. Эта любовь трагична не только для Григория и Аксиньи, но и для их сем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477AB-C75F-4AD2-9D70-6CAC775BAD6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тносятся жители хутора к любви Григория и Аксиньи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отношения – любовь или «беззаконная» страсть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D327-4151-4AE6-BD7F-EEF6AFAE213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 любовь удивляет и пугает жителей хутора, которые стыдились смотреть в глаза Григорию и Аксинье. Вспомним «Анну Каренину» Толстого. </a:t>
            </a:r>
            <a:r>
              <a:rPr b="0" i="1" lang="ru-RU" sz="1200" spc="-1" strike="noStrike">
                <a:solidFill>
                  <a:srgbClr val="376092"/>
                </a:solidFill>
                <a:latin typeface="Calibri"/>
              </a:rPr>
              <a:t>«Если б Григорий ходил к жалмерке Аксинье, делая вид, что скрывается от людей, если б жалмерка Аксинья жила с Григорием, блюдя это в относительной тайне, и в то же время не отказывала бы другим, то в этом не было бы ничего необычного, хлещущего по глазам. Хутор поговорил бы и перестал. Но они жили, почти не таясь, вязало их что-то большое, непохожее на короткую связь, и поэтому в хуторе решили, что это – преступно, безнравственно, и хутор прижух в поганеньком выжиданьице: придёт Степан – узелок развяжет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92A45-AEB5-40A5-AEE4-F82B5F1FB9E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из ряда вон выходящее чувство (сравним с любовью Натальи, Дарьи, Дуняши, Листницкого). Причём отношения героев почти лишены романтики, в привычном понимании: </a:t>
            </a:r>
            <a:br>
              <a:rPr sz="1200"/>
            </a:br>
            <a:r>
              <a:rPr b="0" i="1" lang="ru-RU" sz="1200" spc="-1" strike="noStrike">
                <a:solidFill>
                  <a:srgbClr val="984807"/>
                </a:solidFill>
                <a:latin typeface="Calibri"/>
              </a:rPr>
              <a:t>«Не лазоревым алым цветом, а собачьей бесилой, дурнопьяном придорожным цветёт поздняя бабья любовь. С лугового покоса переродилась Аксинья. Будто кто отметину сделал на лице, тавро выжег. Бабы при встрече с неё ехидно  ощерялись, качали головами вслед, девки завидовали, а она гордо и высоко несла свою счастливую, но срамную голову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D18EF-356A-49C3-B81D-28614B888D4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ется ли революция фоном, на котором развивается любовь героев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ется ли любовь средством «очеловечить», сделать интереснее и ближе роман о революции и гражданской войн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7F99E-E03C-4A34-AEF0-301EEC623C7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Кожинов считает, что Любовь есть воплощение революции. Любовь изменяет, преобразует и самих героев, и окружающую их жизнь. Рождение этой любви отмечено страшной грозой, потрясшей Дон. Однако буквальное отождествление Любви и революции недопустимо. Речь идёт о том, что переворот совершается и здесь, и там; начинается именно с истории люб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E5F44-769E-497F-AD81-18132CB0E8C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ются ли Григорий и Аксинья жертвами своей любви-страс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2AB19-56CD-4F5A-9C64-73DC6F658FC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75E4-1281-491A-8B73-00871ECBD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3923-0DED-4953-83F5-E93E5F511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E6F5-02D2-463E-9B77-C3F2FC1C3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4D08-B141-4751-8DDD-2945755AC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8CAF-995B-43A1-8ECE-8FC6A9439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8EE9-07CC-4425-A536-0119FA6B2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6DAE-9419-4556-A5D1-CB568508D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621F-909D-48F5-8A74-6EB6C3C9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3BEB-4BEF-4D4F-BD49-90B98D87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3C8C-59A3-4DF9-B494-920AC9B5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2680-8574-4185-8525-9C409A6D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CA93-FF53-490C-87C0-D4EFA4D8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132F6-F342-4F9D-8CEB-24D13894162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33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376092"/>
                </a:solidFill>
                <a:latin typeface="Calibri"/>
              </a:rPr>
              <a:t>Михаил Александрович Шолохов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928960" y="3857760"/>
            <a:ext cx="484344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53735"/>
                </a:solidFill>
                <a:latin typeface="Calibri"/>
              </a:rPr>
              <a:t>«Тихий Дон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643800" y="1571760"/>
            <a:ext cx="1714320" cy="2428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714240" y="2571840"/>
            <a:ext cx="271476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642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, но и сами делают жертвами других (Наталья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4714920" y="3571920"/>
            <a:ext cx="3971880" cy="3119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285840" y="142920"/>
            <a:ext cx="39290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5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акую роль играет противопоставление двух героинь романа – Натальи и Аксинь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4714920" y="3000240"/>
            <a:ext cx="3333600" cy="2714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"/>
          <p:cNvPicPr/>
          <p:nvPr/>
        </p:nvPicPr>
        <p:blipFill>
          <a:blip r:embed="rId2"/>
          <a:stretch/>
        </p:blipFill>
        <p:spPr>
          <a:xfrm>
            <a:off x="1214280" y="2857680"/>
            <a:ext cx="271476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28560" y="356760"/>
            <a:ext cx="6357960" cy="607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аталья – воплощение идеи дома, семьи. Её цельность, чистота, верность, преданность описаны Шолоховым с любовью и сочувствием к своей героине. Чувство Натальи переносится на детей, на родню. У Аксиньи нет ни детей, ни родни: </a:t>
            </a:r>
            <a:r>
              <a:rPr b="0" i="1" lang="ru-RU" sz="2500" spc="-1" strike="noStrike">
                <a:solidFill>
                  <a:srgbClr val="984807"/>
                </a:solidFill>
                <a:latin typeface="Calibri"/>
              </a:rPr>
              <a:t>«У тебя хоть дети есть, а он у меня, - голос Аксиньи дрогнул и стал глуше и ниже, - один на всём белом свете! Первый и последний…».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Любовь Аксиньи в беспредельном самопожертвовании, в перенесении центра своей жизни в другого человека, это глубокое, страстное чувство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500040" y="642960"/>
            <a:ext cx="17146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Наталью, И Аксинью Григорий любит. Наталья поражала его «какой-то чистой внутренней красотой». Она вся в стихии дома, семьи, она самоотверженная и ласковая мать. Любовь к Аксинье сильнее самого Григория. Её «порочная», «вызывающая» красота неумолимо притягивает его. Любовь Григория к Аксинье часто описана грубыми красками: </a:t>
            </a:r>
            <a:r>
              <a:rPr b="0" i="1" lang="ru-RU" sz="2800" spc="-1" strike="noStrike">
                <a:solidFill>
                  <a:srgbClr val="984807"/>
                </a:solidFill>
                <a:latin typeface="Calibri"/>
              </a:rPr>
              <a:t>«Рывком кинул Григорий её на руки – так кидает волк к себе на хребтину зарезанную овцу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чему же эта любовь вызывает сочувствие? (У Достоевского Митя Карамазов говорит: «Красота есть не только страшная, но и таинственная вещь. Тут дьявол с Богом борется, а поле битвы – сердца людей»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85480"/>
            <a:ext cx="8258040" cy="61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характере Аксиньи соединены земное и идеальное. К концу романа Аксинья уже не соперница, не любовница, чувствующая власть своей красоты. Она живёт молитвой за Григория, она ласкает осиротевших его детей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счастливая личная жизнь героев, гибель Аксиньи, когда Григорий, «мертвея от ужаса, понял, что всё кончено, что самое страшное, что только могло случиться в его жизни, - уже случилось», трагичны. Но жизнь продолжается. Последняя сцена: Григорий стоит «у ворот родного дома», держит на руках сына. Здесь, в отчем доме, на родной земле, все начала и все концы жиз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785880" y="500040"/>
            <a:ext cx="4000320" cy="5572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5429160" y="1285920"/>
            <a:ext cx="3000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зентацию подготовила учитель русского языка и литературы МОУ СОШ №4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. Болотног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ркасова Лариса Александро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28480" y="285480"/>
            <a:ext cx="6143400" cy="494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984807"/>
                </a:solidFill>
                <a:latin typeface="Calibri"/>
              </a:rPr>
              <a:t>Григорий</a:t>
            </a:r>
            <a:br>
              <a:rPr sz="6600"/>
            </a:br>
            <a:r>
              <a:rPr b="1" i="1" lang="ru-RU" sz="6600" spc="-1" strike="noStrike">
                <a:solidFill>
                  <a:srgbClr val="984807"/>
                </a:solidFill>
                <a:latin typeface="Calibri"/>
              </a:rPr>
              <a:t>и</a:t>
            </a:r>
            <a:br>
              <a:rPr sz="6600"/>
            </a:br>
            <a:r>
              <a:rPr b="1" i="1" lang="ru-RU" sz="6600" spc="-1" strike="noStrike">
                <a:solidFill>
                  <a:srgbClr val="984807"/>
                </a:solidFill>
                <a:latin typeface="Calibri"/>
              </a:rPr>
              <a:t>Аксинья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142920" y="285840"/>
            <a:ext cx="2682720" cy="4249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/>
          <p:cNvPicPr/>
          <p:nvPr/>
        </p:nvPicPr>
        <p:blipFill>
          <a:blip r:embed="rId2"/>
          <a:stretch/>
        </p:blipFill>
        <p:spPr>
          <a:xfrm>
            <a:off x="6000840" y="3000240"/>
            <a:ext cx="292572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Тихий Дон» - повествование о грандиозной Революции, о катаклизме, пережитом Россией. Но и повествование о драматической, трагической любви. Эта любовь трагична не только для Григория и Аксиньи, но и для их сем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143080" y="3357720"/>
            <a:ext cx="476244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5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ак относятся жители хутора к любви Григория и Аксиньи?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Их отношения – любовь или «беззаконная» страсть?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3071880" y="2643120"/>
            <a:ext cx="27334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Эта любовь удивляет и пугает жителей хутора, которые стыдились смотреть в глаза Григорию и Аксинье. Вспомним «Анну Каренину» Толстого. </a:t>
            </a:r>
            <a:r>
              <a:rPr b="0" i="1" lang="ru-RU" sz="2500" spc="-1" strike="noStrike">
                <a:solidFill>
                  <a:srgbClr val="376092"/>
                </a:solidFill>
                <a:latin typeface="Calibri"/>
              </a:rPr>
              <a:t>«Если б Григорий ходил к жалмерке Аксинье, делая вид, что скрывается от людей, если б жалмерка Аксинья жила с Григорием, блюдя это в относительной тайне, и в то же время не отказывала бы другим, то в этом не было бы ничего необычного, хлещущего по глазам. Хутор поговорил бы и перестал. Но они жили, почти не таясь, вязало их что-то большое, непохожее на короткую связь, и поэтому в хуторе решили, что это – преступно, безнравственно, и хутор прижух в поганеньком выжиданьице: придёт Степан – узелок развяжет»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56760" y="142560"/>
            <a:ext cx="5715000" cy="642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из ряда вон выходящее чувство (сравним с любовью Натальи, Дарьи, Дуняши, Листницкого). Причём отношения героев почти лишены романтики, в привычном понимании: </a:t>
            </a:r>
            <a:br>
              <a:rPr sz="2400"/>
            </a:br>
            <a:r>
              <a:rPr b="0" i="1" lang="ru-RU" sz="2400" spc="-1" strike="noStrike">
                <a:solidFill>
                  <a:srgbClr val="984807"/>
                </a:solidFill>
                <a:latin typeface="Calibri"/>
              </a:rPr>
              <a:t>«Не лазоревым алым цветом, а собачьей бесилой, дурнопьяном придорожным цветёт поздняя бабья любовь. С лугового покоса переродилась Аксинья. Будто кто отметину сделал на лице, тавро выжег. Бабы при встрече с неё ехидно  ощерялись, качали головами вслед, девки завидовали, а она гордо и высоко несла свою счастливую, но срамную голову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6143760" y="1857240"/>
            <a:ext cx="27144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33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вляется ли революция фоном, на котором развивается любовь героев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вляется ли любовь средством «очеловечить», сделать интереснее и ближе роман о революции и гражданской войн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2143080" y="3429000"/>
            <a:ext cx="47862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371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. Кожинов считает, что Любовь есть воплощение революции. Любовь изменяет, преобразует и самих героев, и окружающую их жизнь. Рождение этой любви отмечено страшной грозой, потрясшей Дон. Однако буквальное отождествление Любви и революции недопустимо. Речь идёт о том, что переворот совершается и здесь, и там; начинается именно с истории любв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2571840" y="3714840"/>
            <a:ext cx="408132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Являются ли Григорий и Аксинья жертвами своей любви-страст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2357280" y="2500200"/>
            <a:ext cx="435780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4T04:42:23Z</dcterms:created>
  <dc:creator>Катька</dc:creator>
  <dc:description/>
  <dc:language>en-US</dc:language>
  <cp:lastModifiedBy>LEGION</cp:lastModifiedBy>
  <dcterms:modified xsi:type="dcterms:W3CDTF">2015-01-20T08:01:48Z</dcterms:modified>
  <cp:revision>27</cp:revision>
  <dc:subject/>
  <dc:title>Михаил Александрович Шолохов </dc:title>
</cp:coreProperties>
</file>