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CF7E-1A28-456F-94E8-96E8154152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2913-97D9-4BF4-ADE1-6004A41BF6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3533-BFDD-4CE1-94DC-3FC1FE2D40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BE37-1917-4AB4-A176-682D05EE38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CE70-1760-4C6E-AF47-7AE6D13B80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4EAB-D3A4-4386-AD51-D29DBE6FFC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47F9-DB2B-4252-BAC9-AC29FA259E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67F2-E4C4-4BE5-9A87-0F281B6DB2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2F4A-1E90-40F8-BD73-F77459F9CF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0D28-E1EA-4B44-BE65-A2709DCD2D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3D2C-5DAB-4836-B97D-0759260F2F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71B4-F7F0-4069-83D0-4F566C1C1A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B984-9842-4A7A-8AA9-1B540F2BD6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1200"/>
            </a:b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AFF8-4467-4CF3-BFB7-432947FDE2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2376-85E3-4808-99A2-D77AF1134E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1775-99A0-4606-B56A-6CD86E64B1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C9FF-5A3F-4226-9B40-DA92960FA1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C94-B242-4014-A8A0-AE4B34FA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5A7-2ACC-4507-B6B5-D32B79D6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0E1-666C-412B-B262-CE1D4EF2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BB3-CAF7-4151-9DB3-09AF1D7F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EFA-5AD3-41AC-B343-73C57DA5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1A0-1FEF-4B94-BC40-C3976E14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CD8-22E1-489B-8C56-E6D305E0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D27-2BDE-4102-9539-6E18B249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479-D83A-44BB-B88C-345E18D2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296-748F-46A1-9E8B-1A497D8B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BAE-9117-44FC-9C63-FA36A059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72B-698E-4A7C-9A0A-7845E95E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CB53-ACCB-4F08-B0A0-25C83CF91AC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28960" y="3857760"/>
            <a:ext cx="48434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643800" y="157176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3971880" cy="311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714920" y="3000240"/>
            <a:ext cx="3333600" cy="271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2714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28560" y="356760"/>
            <a:ext cx="6357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25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7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4000320" cy="557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0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1434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682720" cy="424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2925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3080" y="3357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71880" y="2643120"/>
            <a:ext cx="2733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25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571500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2400"/>
            </a:b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43760" y="185724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4081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357280" y="2500200"/>
            <a:ext cx="435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4:42:23Z</dcterms:created>
  <dc:creator>Катька</dc:creator>
  <dc:description/>
  <dc:language>en-US</dc:language>
  <cp:lastModifiedBy>LEGION</cp:lastModifiedBy>
  <dcterms:modified xsi:type="dcterms:W3CDTF">2015-01-20T08:01:48Z</dcterms:modified>
  <cp:revision>27</cp:revision>
  <dc:subject/>
  <dc:title>Михаил Александрович Шолохов </dc:title>
</cp:coreProperties>
</file>