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61DF-6844-4FD2-8031-0918E7E9EA9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www.consultant.ru/online/base/?req=doc;base=LAW;n=116687#p28" TargetMode="External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8;&#1077;&#1079;&#1080;&#1076;&#1077;&#1085;&#1090;_&#1056;&#1060;" TargetMode="External"/><Relationship Id="rId2" Type="http://schemas.openxmlformats.org/officeDocument/2006/relationships/hyperlink" Target="http://ru.wikipedia.org/wiki/&#1052;&#1077;&#1076;&#1074;&#1077;&#1076;&#1077;&#1074;,_&#1044;&#1084;&#1080;&#1090;&#1088;&#1080;&#1081;_&#1040;&#1085;&#1072;&#1090;&#1086;&#1083;&#1100;&#1077;&#1074;&#1080;&#1095;" TargetMode="External"/><Relationship Id="rId3" Type="http://schemas.openxmlformats.org/officeDocument/2006/relationships/slide" Target="../slides/slide22.xml"/><Relationship Id="rId4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3;&#1072;&#1094;&#1080;&#1086;&#1085;&#1072;&#1083;&#1100;&#1085;&#1099;&#1081;_&#1087;&#1083;&#1072;&#1085;_&#1087;&#1088;&#1086;&#1090;&#1080;&#1074;&#1086;&#1076;&#1077;&#1081;&#1089;&#1090;&#1074;&#1080;&#1103;_&#1082;&#1086;&#1088;&#1088;&#1091;&#1087;&#1094;&#1080;&#1080;#.D0.A0.D0.B0.D0.B7.D0.B4.D0.B5.D0.BB_I._.D0.9C.D0.B5.D1.80.D1.8B_.D0.BF.D0.BE_.D0.B7.D0.B0.D0.BA.D0.BE.D0.BD.D0.BE.D0.B4.D0.B0.D1.82.D0.B5.D0.BB.D1.8C.D0.BD.D0.BE.D0.BC.D1.83_.D0.BE.D0.B1.D0.B5.D1.81.D0.BF.D0.B5.D1.87.D0.B5.D0.BD.D0.B8.D1.8E_.D0.BF.D1.80.D0.BE.D1.82.D0.B8.D0.B2.D0.BE.D0.B4.D0.B5.D0.B9.D1.81.D1.82.D0.B2.D0.B8.D1.8F_.D0.BA.D0.BE.D1.80.D1.80.D1.83.D0.BF.D1.86.D0.B8.D0.B8" TargetMode="External"/><Relationship Id="rId2" Type="http://schemas.openxmlformats.org/officeDocument/2006/relationships/hyperlink" Target="http://ru.wikipedia.org/wiki/&#1053;&#1072;&#1094;&#1080;&#1086;&#1085;&#1072;&#1083;&#1100;&#1085;&#1099;&#1081;_&#1087;&#1083;&#1072;&#1085;_&#1087;&#1088;&#1086;&#1090;&#1080;&#1074;&#1086;&#1076;&#1077;&#1081;&#1089;&#1090;&#1074;&#1080;&#1103;_&#1082;&#1086;&#1088;&#1088;&#1091;&#1087;&#1094;&#1080;&#1080;#.D0.A0.D0.B0.D0.B7.D0.B4.D0.B5.D0.BB_II._.D0.9C.D0.B5.D1.80.D1.8B_.D0.BF.D0.BE_.D1.81.D0.BE.D0.B2.D0.B5.D1.80.D1.88.D0.B5.D0.BD.D1.81.D1.82.D0.B2.D0.BE.D0.B2.D0.B0.D0.BD.D0.B8.D1.8E_.D0.B3.D0.BE.D1.81.D1.83.D0.B4.D0.B0.D1.80.D1.81.D1.82.D0.B2.D0.B5.D0.BD.D0.BD.D0.BE.D0.B3.D0.BE_.D1.83.D0.BF.D1.80.D0.B0.D0.B2.D0.BB.D0.B5.D0.BD.D0.B8.D1.8F_.D0.B2_.D1.86.D0.B5.D0.BB.D1.8F.D1.85_.D0.BF.D1.80.D0.B5.D0.B4.D1.83.D0.BF.D1.80.D0.B5.D0.B6.D0.B4.D0.B5.D0.BD.D0.B8.D1.8F_.D0.BA.D0.BE.D1.80.D1.80.D1.83.D0.BF.D1.86.D0.B8.D0.B8" TargetMode="External"/><Relationship Id="rId3" Type="http://schemas.openxmlformats.org/officeDocument/2006/relationships/slide" Target="../slides/slide23.xml"/><Relationship Id="rId4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коррупц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C214-A23E-4065-9B4C-DCE1097B3B7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 сферам деятельности, которые в наибольшей степени подвержены коррупции в России, относятся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оженные служб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ие организ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инспек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ые орган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е орган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хранительные орган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нзирование и регистрация предпринимательской деятель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ача разрешений на размещение и проведение банковских операций с бюджетными средств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кредит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экспортных кво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ы на закупку товаров/услуг за счёт бюджетных средст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тельство и ремонт за счёт бюджетных средст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тариальное удостоверение сделок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за соблюдением условий лицензиров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зор за соблюдением правил охоты и рыболов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вобождение от призыва на военную службу в вооружённые сил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упление в государственные высшие учебные завед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регистрация, аттестация и аккредитация негосударственных высших учебных завед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 на службу, позволяющую иметь значительный незаконный доход от должности в государственных и муниципальных учреждени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партийных избирательных спис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7A09-9F9E-44C0-881C-E255F8C3445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ов вред от корруп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C0DA-0DA1-45D1-BAF3-11C436F42F1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ред от корруп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эффективное распределение и расходование государственных средств и ресурс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эффективность коррупционных финансовых потоков с точки зрения экономики стран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тери налогов, когда налоговые органы присваивают себе часть налог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тери времени из-за чинимых препятствий, снижение эффективности работы государственного аппарата в цело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орение частных предпринимател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нижение инвестиций в производство, замедление экономического рос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нижение качества общественного серви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целевое использование международной помощи развивающимся странам, что резко снижает её эффектив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эффективное использование способностей индивидов: вместо производства материальных благ люди тратят время на непродуктивный поиск рент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ост социального неравен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силение организованной преступности — банды превращаются в мафи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щерб политической легитимности вла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нижение общественной мора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0402-B9C9-44DE-A366-FE8BDDD433E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противодействие корруп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A8D9-67CF-4518-9BDE-593DAD378A5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тиводействие коррупции- эт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еятельность федеральных органов государственной власти, органов государственной власти субъектов Российской Федерации, органов местного самоуправления, институтов гражданского общества, организаций и физических лиц в пределах их полномоч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) по предупреждению коррупции, в том числе по выявлению и последующему устранению причин коррупции (профилактика коррупци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) по выявлению, предупреждению, пресечению, раскрытию и расследованию коррупционных правонарушений (борьба с коррупцие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) по минимизации и (или) ликвидации последствий коррупционных правонару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6F85-FFE5-437D-8278-697243E44FB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инципы противодействия коррупции в Российской Федерации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) признание, обеспечение и защита основных прав и свобод человека и граждани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) закон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) публичность и открытость деятельности государственных органов и органов местного самоупра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) неотвратимость ответственности за совершение коррупционных правонаруш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) комплексное использование политических, организационных, информационно-пропагандистских, социально-экономических, правовых, специальных и иных ме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) приоритетное применение мер по предупреждению корруп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) сотрудничество государства с институтами гражданского общества, международными организациями и физическими лиц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004C-8AD2-44E7-8408-502F63B0995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ункции органов государственной власти в области борьбы с коррупцией распределяются следующим образом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зидент Российской Федер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) определяет основные направления государственной политики в области противодействия корруп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) устанавливает компетенцию федеральных органов исполнительной власти, руководство деятельностью которых он осуществляет, в области противодействия корруп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2ACE-22C2-44C9-A4E6-2DE8E3386F3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едеральное Собрание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еспечивает разработку и принятие федеральных законов по вопросам противодействия коррупции, а также контролирует деятельность органов исполнительной власти в пределах своих полномочий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B0F2-B583-41D2-858F-F9B798D93FB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авительство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яет функции между федеральными органами исполнительной власти, руководство деятельностью которых оно осуществляет, по противодействию корруп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3B64-4CD8-493B-A2A0-E51E60F9BE5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енеральный прокурор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одчиненные ему прокуроры в пределах своих полномочий координируют деятельность органов внутренних дел Российской Федерации, органов федеральной службы безопасности, таможенных органов Российской Федерации и других правоохранительных органов по борьбе с коррупцией и реализуют иные полномочия в области противодействия коррупции, установленные федеральными зако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57C0-6077-48ED-9B24-40944304E37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 ПРОТИВОДЕЙСТВИИ КОРРУПЦИ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5 декабря 2008 года №273-Ф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ррупц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) злоупотребление служебным положением, дача взятки, получение взятки, злоупотребление полномочиями, коммерческий подкуп либо иное незаконное использование физическим лицом своего должностного положения вопреки законным интересам общества и государства в целях получения выгоды в виде денег, ценностей, иного имущества или услуг имущественного характера, иных имущественных прав для себя или для третьих лиц либо незаконное предоставление такой выгоды указанному лицу другими физическими лиц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) совершение деяний, указанных в 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подпункте "а"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настоящего пункта, от имени или в интересах юридического ли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CF52E-94CA-4D03-A959-556F56231A0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четная палата Российской Федерац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еделах своих полномочий обеспечивает противодействие корруп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ые полномочия Счетной палаты распространяются на все государственные органы (в том числе их аппараты) и учреждения в Российской Федерации, на федеральные внебюджетные фонды, государственные корпорации и государственные компа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419B-69CF-4049-A095-57CB72436A4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деральные органы государственной власти, органы государственной власти субъектов Российской Федерации и органы местного самоуправления осуществляют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тиводействие коррупци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 пределах своих полномочий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8F20-1DFB-49C1-8733-75F2EC22444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ациональный план противодействия коррупци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 программного характера, утверждённый 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Президентом РФ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Д. А. Медведевы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31 июля 2008 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E5F1-BA97-4ECB-8C1B-A94B07DAB42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ЦИОНАЛЬНЫЙ ПЛАН включае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I. Меры по законодательному обеспечению противодействия корруп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I. Меры по совершенствованию государственного управления в целях предупреждения корруп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I. Меры по повышению профессионального уровня юридических кадров и правовому просвещ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D671-42E9-44B0-AC78-E5059C5EE09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f81bd"/>
                </a:solidFill>
                <a:latin typeface="Calibri"/>
              </a:rPr>
              <a:t>Антикоррупционное законодательство Ульяновской обла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ряжение Губернатора Ульяновской области от 25.05.2011 № 210-р «О дополнительных мерах по противодействию коррупции в Ульяновской области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новление Правительства Ульяновской области № 36-325-П от 06.10.2010 "О внесении изменений в постановление Правительства Ульяновской области от 22.07.2008 № 14/329-П"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новление Губернатора Ульяновской области от 13 июля 2009 г. № 49 "Об утверждении Правил подготовки и издания правовых актов Губернатора и Правительства Ульяновской области"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новление Законодательного Собрания Ульяновской области от 28 мая 2009 г. N 348/28-4 «О назначении на должность уполномоченного по противодействию коррупции в Ульяновской области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новление Губернатора Ульяновской области от 23 апреля 2009 г. № 31 «Об утверждении Порядка проведения антикоррупционной экспертизы законов, иных нормативных правовых актов Ульяновской области и их проектов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новление Правительства Ульяновской области от 22 июля 2008 г. № 14/329-П «Об утверждении областной целевой программы «Противодействие коррупции в Ульяновской области» на 2008 – 2010 год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Ульяновской области от 5 июня 2007 г. N 77-ЗО «О противодействии коррупции в Ульяновской области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новление Губернатора Ульяновской области от 19 апреля 2007 г. N 28 «О координационном совете по реализации антикоррупционной политики в Ульяновской обла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EC0A-3C98-4032-9583-D151AE9944B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Четырехкратный эффект корруп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и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новники государственных учреждений и органов преступают закон,  когда используют служебное положение для личной выгоды. Наибольший вред коррупция наносит странам с развивающейся демократ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национального богатства. Размещение дефицитных государственных средств в неэкономичные проекты. Удерживание инвести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ствен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рывает доверие граждан к власти. Крушение надежд и общая апатия в разочарованном обществе приводят к его гражданской слаб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брежное использование природных ресурсов. Неудовлетворительная система регул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E2464-756C-429A-B05D-1C445A487D4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Рабочее определение «коррупции» -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ожно ли определить цену корруп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ак коррупция влияет на человеческую жизн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риведите п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имеры корруп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ррупция процветает там, где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F88A-CB25-4475-BFF1-26E49180E22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бочее определение коррупции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«Злоупотребление служебным положением </a:t>
            </a:r>
            <a:r>
              <a:rPr b="1" i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 целью получения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личной выгод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D0CC-991F-4CD7-A257-85A4C8FE305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жно ли определить цену коррупции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ча взяток не фиксируется, и они не всегда имеют денежную форму: одолжения, подарки и т.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ще сложнее дать коррупции количественное определение в социальном аспекте: цена крушения иллюзий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74A6-21B3-4C22-8CC6-FEE347B8BD3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ак коррупция влияет на человеческую жизнь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0E48-A4E4-4E93-ADA1-7433B15AD11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меры коррупции</a:t>
            </a:r>
            <a:r>
              <a:rPr b="0" lang="da-DK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6B9E-1C6D-4FE3-A6EC-37D746C71F5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ррупция процветает там, где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66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</a:t>
            </a:r>
            <a:r>
              <a:rPr b="0" lang="da-DK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блазн сосуществует с вседозволенность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66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</a:t>
            </a:r>
            <a:r>
              <a:rPr b="0" lang="en-ZA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 проводятся проверки в учреждения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66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</a:t>
            </a:r>
            <a:r>
              <a:rPr b="0" lang="en-ZA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оцесс принятия важных решений проходит в закрытом поряд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66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актически отсутствует гражданское обще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66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громное неравенство в распределении богатства обрекает людей на нище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D804-C57F-4DDE-876A-DCA37CAEBE3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A18A-DB4D-4260-91E9-05DC72C5E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8179-0D6A-4C18-BC3E-8AEDA6D9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D2E1-677D-4D41-AE26-688F04EA8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1E95-5837-4D92-96D9-D9A656922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592D-9B5E-46C4-979C-BB4E3D044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5B31-570E-442F-8A51-39A1A8BD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D404-627E-4542-95AF-10D58900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03ACD-5B10-4BFB-9BE9-BFEB6E88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7C3DF-E6B2-4C25-84FC-1D52B2B5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1F65-685B-495C-BE20-F56CAD46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82CF-110F-44B1-B09B-2A57A5A1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E6F3-6254-4AB5-BBD0-97B0B899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1AFE5-2016-49E7-8E63-A4347701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3B2F-8483-4B67-8D82-2157DE88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705F6-9269-4E25-8E77-20892C67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B59A-16E3-4706-80D7-A61F93E61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4D26C-9580-4B24-840A-ACC077640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C21F-407A-4F23-B43F-D8D33ADD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6E45-9C97-4637-87CE-6429C26A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1B42-7950-4D33-B80B-209BB8A1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5D48-1BA0-4FE0-A1F1-D2542AD0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6F9E-95F2-477C-B5A4-1E9CB8A4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801A-F884-4FCE-958F-6AEA2824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3E6F-4446-473F-98DD-CF01889C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961E-1515-4D5F-A4CF-14805530440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5FD5-990A-4BE0-B694-E96BD2AF1EB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onsultant.ru/online/base/?req=doc;base=LAW;n=116687#p28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8;&#1077;&#1079;&#1080;&#1076;&#1077;&#1085;&#1090;_&#1056;&#1060;" TargetMode="External"/><Relationship Id="rId2" Type="http://schemas.openxmlformats.org/officeDocument/2006/relationships/hyperlink" Target="http://ru.wikipedia.org/wiki/&#1052;&#1077;&#1076;&#1074;&#1077;&#1076;&#1077;&#1074;,_&#1044;&#1084;&#1080;&#1090;&#1088;&#1080;&#1081;_&#1040;&#1085;&#1072;&#1090;&#1086;&#1083;&#1100;&#1077;&#1074;&#1080;&#1095;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3;&#1072;&#1094;&#1080;&#1086;&#1085;&#1072;&#1083;&#1100;&#1085;&#1099;&#1081;_&#1087;&#1083;&#1072;&#1085;_&#1087;&#1088;&#1086;&#1090;&#1080;&#1074;&#1086;&#1076;&#1077;&#1081;&#1089;&#1090;&#1074;&#1080;&#1103;_&#1082;&#1086;&#1088;&#1088;&#1091;&#1087;&#1094;&#1080;&#1080;#.D0.A0.D0.B0.D0.B7.D0.B4.D0.B5.D0.BB_I._.D0.9C.D0.B5.D1.80.D1.8B_.D0.BF.D0.BE_.D0.B7.D0.B0.D0.BA.D0.BE.D0.BD.D0.BE.D0.B4.D0.B0.D1.82.D0.B5.D0.BB.D1.8C.D0.BD.D0.BE.D0.BC.D1.83_.D0.BE.D0.B1.D0.B5.D1.81.D0.BF.D0.B5.D1.87.D0.B5.D0.BD.D0.B8.D1.8E_.D0.BF.D1.80.D0.BE.D1.82.D0.B8.D0.B2.D0.BE.D0.B4.D0.B5.D0.B9.D1.81.D1.82.D0.B2.D0.B8.D1.8F_.D0.BA.D0.BE.D1.80.D1.80.D1.83.D0.BF.D1.86.D0.B8.D0.B8" TargetMode="External"/><Relationship Id="rId2" Type="http://schemas.openxmlformats.org/officeDocument/2006/relationships/hyperlink" Target="http://ru.wikipedia.org/wiki/&#1053;&#1072;&#1094;&#1080;&#1086;&#1085;&#1072;&#1083;&#1100;&#1085;&#1099;&#1081;_&#1087;&#1083;&#1072;&#1085;_&#1087;&#1088;&#1086;&#1090;&#1080;&#1074;&#1086;&#1076;&#1077;&#1081;&#1089;&#1090;&#1074;&#1080;&#1103;_&#1082;&#1086;&#1088;&#1088;&#1091;&#1087;&#1094;&#1080;&#1080;#.D0.A0.D0.B0.D0.B7.D0.B4.D0.B5.D0.BB_II._.D0.9C.D0.B5.D1.80.D1.8B_.D0.BF.D0.BE_.D1.81.D0.BE.D0.B2.D0.B5.D1.80.D1.88.D0.B5.D0.BD.D1.81.D1.82.D0.B2.D0.BE.D0.B2.D0.B0.D0.BD.D0.B8.D1.8E_.D0.B3.D0.BE.D1.81.D1.83.D0.B4.D0.B0.D1.80.D1.81.D1.82.D0.B2.D0.B5.D0.BD.D0.BD.D0.BE.D0.B3.D0.BE_.D1.83.D0.BF.D1.80.D0.B0.D0.B2.D0.BB.D0.B5.D0.BD.D0.B8.D1.8F_.D0.B2_.D1.86.D0.B5.D0.BB.D1.8F.D1.85_.D0.BF.D1.80.D0.B5.D0.B4.D1.83.D0.BF.D1.80.D0.B5.D0.B6.D0.B4.D0.B5.D0.BD.D0.B8.D1.8F_.D0.BA.D0.BE.D1.80.D1.80.D1.83.D0.BF.D1.86.D0.B8.D0.B8" TargetMode="External"/><Relationship Id="rId3" Type="http://schemas.openxmlformats.org/officeDocument/2006/relationships/hyperlink" Target="http://ru.wikipedia.org/wiki/&#1053;&#1072;&#1094;&#1080;&#1086;&#1085;&#1072;&#1083;&#1100;&#1085;&#1099;&#1081;_&#1087;&#1083;&#1072;&#1085;_&#1087;&#1088;&#1086;&#1090;&#1080;&#1074;&#1086;&#1076;&#1077;&#1081;&#1089;&#1090;&#1074;&#1080;&#1103;_&#1082;&#1086;&#1088;&#1088;&#1091;&#1087;&#1094;&#1080;&#1080;#.D0.A0.D0.B0.D0.B7.D0.B4.D0.B5.D0.BB_III._.D0.9C.D0.B5.D1.80.D1.8B_.D0.BF.D0.BE_.D0.BF.D0.BE.D0.B2.D1.8B.D1.88.D0.B5.D0.BD.D0.B8.D1.8E_.D0.BF.D1.80.D0.BE.D1.84.D0.B5.D1.81.D1.81.D0.B8.D0.BE.D0.BD.D0.B0.D0.BB.D1.8C.D0.BD.D0.BE.D0.B3.D0.BE_.D1.83.D1.80.D0.BE.D0.B2.D0.BD.D1.8F_.D1.8E.D1.80.D0.B8.D0.B4.D0.B8.D1.87.D0.B5.D1.81.D0.BA.D0.B8.D1.85_.D0.BA.D0.B0.D0.B4.D1.80.D0.BE.D0.B2_.D0.B8_.D0.BF.D1.80.D0.B0.D0.B2.D0.BE.D0.B2.D0.BE.D0.BC.D1.83_.D0.BF.D1.80.D0.BE.D1.81.D0.B2.D0.B5.D1.89.D0.B5.D0.BD.D0.B8.D1.8E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anticorrupt-ul.ru/laws/regional/210r.html" TargetMode="External"/><Relationship Id="rId2" Type="http://schemas.openxmlformats.org/officeDocument/2006/relationships/hyperlink" Target="http://anticorrupt-ul.ru/laws/regional/izm_ocp_protivod_corrupcii_2008-2012.html" TargetMode="External"/><Relationship Id="rId3" Type="http://schemas.openxmlformats.org/officeDocument/2006/relationships/hyperlink" Target="http://anticorrupt-ul.ru/laws/regional/proect_npa.html" TargetMode="External"/><Relationship Id="rId4" Type="http://schemas.openxmlformats.org/officeDocument/2006/relationships/hyperlink" Target="http://anticorrupt-ul.ru/laws/regional/post_zso_nazn_upolnom.html" TargetMode="External"/><Relationship Id="rId5" Type="http://schemas.openxmlformats.org/officeDocument/2006/relationships/hyperlink" Target="http://anticorrupt-ul.ru/laws/regional/pravila_expertizy.html" TargetMode="External"/><Relationship Id="rId6" Type="http://schemas.openxmlformats.org/officeDocument/2006/relationships/hyperlink" Target="http://anticorrupt-ul.ru/laws/regional/programma2008-2010.html" TargetMode="External"/><Relationship Id="rId7" Type="http://schemas.openxmlformats.org/officeDocument/2006/relationships/hyperlink" Target="http://anticorrupt-ul.ru/laws/regional/zuo_o_prot_corrupcii.html" TargetMode="External"/><Relationship Id="rId8" Type="http://schemas.openxmlformats.org/officeDocument/2006/relationships/hyperlink" Target="http://anticorrupt-ul.ru/laws/regional/post_guo_ob_anticor_sovete.html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Что такое коррупция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482760" y="1341360"/>
            <a:ext cx="8207280" cy="478152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bbd71"/>
                </a:solidFill>
                <a:latin typeface="Arial"/>
              </a:rPr>
              <a:t>К сферам деятельности, которые в наибольшей степени подвержены коррупции в России, относятся:</a:t>
            </a:r>
            <a:br>
              <a:rPr sz="2400"/>
            </a:b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аможенные службы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дицинские организации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втоинспекции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удебные органы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логовые органы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авоохранительные органы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лицензирование и регистрация предпринимательской деятельности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ыдача разрешений на размещение и проведение банковских операций с бюджетными средствами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лучение кредитов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лучение экспортных квот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нкурсы на закупку товаров/услуг за счёт бюджетных средств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троительство и ремонт за счёт бюджетных средств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отариальное удостоверение сделок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нтроль за соблюдением условий лицензирования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дзор за соблюдением правил охоты и рыболовства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свобождение от призыва на военную службу в вооружённые силы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ступление в государственные высшие учебные заведения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государственная регистрация, аттестация и аккредитация негосударственных высших учебных заведений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ием на службу, позволяющую иметь значительный незаконный доход от должности в государственных и муниципальных учреждениях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формирование партийных избирательных списко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Каков вред от коррупции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7201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5" descr="ANd9GcTu9zv0_k0gB6vIeP-e5ltdHNB2UZJfoKphdZWdHlsUanOJdHMB"/>
          <p:cNvPicPr/>
          <p:nvPr/>
        </p:nvPicPr>
        <p:blipFill>
          <a:blip r:embed="rId1"/>
          <a:stretch/>
        </p:blipFill>
        <p:spPr>
          <a:xfrm>
            <a:off x="900000" y="1700280"/>
            <a:ext cx="7056720" cy="408456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Вред от коррупц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неэффективное распределение и расходование государственных средств и ресурсов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неэффективность коррупционных финансовых потоков с точки зрения экономики страны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потери налогов, когда налоговые органы присваивают себе часть налогов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потери времени из-за чинимых препятствий, снижение эффективности работы государственного аппарата в целом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разорение частных предпринимателей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снижение инвестиций в производство, замедление экономического роста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понижение качества общественного сервиса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нецелевое использование международной помощи развивающимся странам, что резко снижает её эффективность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неэффективное использование способностей индивидов: вместо производства материальных благ люди тратят время на непродуктивный поиск ренты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рост социального неравенства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усиление организованной преступности — банды превращаются в мафию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ущерб политической легитимности власти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снижение общественной морал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3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Что такое противодействие коррупции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6920" y="2923920"/>
            <a:ext cx="6480360" cy="31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Picture 5" descr="ANd9GcRHNpqcNRnAkb-2YXdVmKrrLnR_3GE3cC9_P5P-mUnxXLmc4QjB1Q"/>
          <p:cNvPicPr/>
          <p:nvPr/>
        </p:nvPicPr>
        <p:blipFill>
          <a:blip r:embed="rId1"/>
          <a:stretch/>
        </p:blipFill>
        <p:spPr>
          <a:xfrm>
            <a:off x="1187280" y="2997360"/>
            <a:ext cx="6409080" cy="307944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ротиводействие коррупции- это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деятельность федеральных органов государственной власти, органов государственной власти субъектов Российской Федерации, органов местного самоуправления, институтов гражданского общества, организаций и физических лиц в пределах их полномочий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) по предупреждению коррупции, в том числе по выявлению и последующему устранению причин коррупции (профилактика коррупции)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б) по выявлению, предупреждению, пресечению, раскрытию и расследованию коррупционных правонарушений (борьба с коррупцией)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) по минимизации и (или) ликвидации последствий коррупционных правонарушени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Принципы противодействия коррупции в Российской Федерации:</a:t>
            </a:r>
            <a:br>
              <a:rPr sz="2800"/>
            </a:b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1) признание, обеспечение и защита основных прав и свобод человека и гражданина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2) законность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3) публичность и открытость деятельности государственных органов и органов местного самоуправления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4) неотвратимость ответственности за совершение коррупционных правонарушений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5) комплексное использование политических, организационных, информационно-пропагандистских, социально-экономических, правовых, специальных и иных мер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6) приоритетное применение мер по предупреждению коррупции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7) сотрудничество государства с институтами гражданского общества, международными организациями и физическими лицами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Функции органов государственной власти в области борьбы с коррупцией распределяются следующим образом: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762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езидент Российской Федераци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определяет основные направления государственной политики в области противодействия коррупци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 устанавливает компетенцию федеральных органов исполнительной власти, руководство деятельностью которых он осуществляет, в области противодействия корруп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5292720" y="1557360"/>
            <a:ext cx="3397320" cy="475128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Times New Roman"/>
              </a:rPr>
              <a:t>Федеральное Собрание Российской Федерац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еспечивает разработку и принятие федеральных законов по вопросам противодействия коррупции, а также контролирует деятельность органов исполнительной власти в пределах своих полномочий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0" name="Picture 8" descr="ANd9GcST5ZS8lkkwYHT5cqlSuxA2PKy3gsOrrARoJoAY-cOy5qcON1L6"/>
          <p:cNvPicPr/>
          <p:nvPr/>
        </p:nvPicPr>
        <p:blipFill>
          <a:blip r:embed="rId1"/>
          <a:stretch/>
        </p:blipFill>
        <p:spPr>
          <a:xfrm>
            <a:off x="4788000" y="1700280"/>
            <a:ext cx="3456000" cy="33843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равительство Российской Федерац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пределяет функции между федеральными органами исполнительной власти, руководство деятельностью которых оно осуществляет, по противодействию коррупц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5" name="Picture 6" descr="ANd9GcTRrx9cE96PpjXZAmgCq_oxAz2ZhBPtiYnsfiqB9OEkakbYsz6g"/>
          <p:cNvPicPr/>
          <p:nvPr/>
        </p:nvPicPr>
        <p:blipFill>
          <a:blip r:embed="rId1"/>
          <a:stretch/>
        </p:blipFill>
        <p:spPr>
          <a:xfrm>
            <a:off x="4716360" y="1628640"/>
            <a:ext cx="3959280" cy="439272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Генеральный прокурор Российской Федерац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подчиненные ему прокуроры в пределах своих полномочий координируют деятельность органов внутренних дел Российской Федерации, органов федеральной службы безопасности, таможенных органов Российской Федерации и других правоохранительных органов по борьбе с коррупцией и реализуют иные полномочия в области противодействия коррупции, установленные федеральными закон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" name="Picture 6" descr=""/>
          <p:cNvPicPr/>
          <p:nvPr/>
        </p:nvPicPr>
        <p:blipFill>
          <a:blip r:embed="rId1"/>
          <a:stretch/>
        </p:blipFill>
        <p:spPr>
          <a:xfrm>
            <a:off x="4932360" y="1989000"/>
            <a:ext cx="3789360" cy="403236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bd71"/>
                </a:solidFill>
                <a:latin typeface="Arial"/>
              </a:rPr>
              <a:t>ФЕДЕРАЛЬНЫЙ ЗАКОН </a:t>
            </a:r>
            <a:br>
              <a:rPr sz="2400"/>
            </a:br>
            <a:r>
              <a:rPr b="1" lang="ru-RU" sz="2400" spc="-1" strike="noStrike">
                <a:solidFill>
                  <a:srgbClr val="dbbd71"/>
                </a:solidFill>
                <a:latin typeface="Arial"/>
              </a:rPr>
              <a:t>О ПРОТИВОДЕЙСТВИИ КОРРУПЦИИ</a:t>
            </a:r>
            <a:br>
              <a:rPr sz="2400"/>
            </a:br>
            <a:r>
              <a:rPr b="1" lang="ru-RU" sz="2400" spc="-1" strike="noStrike">
                <a:solidFill>
                  <a:srgbClr val="dbbd71"/>
                </a:solidFill>
                <a:latin typeface="Arial"/>
              </a:rPr>
              <a:t>25 декабря 2008 года №273-ФЗ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ррупци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 злоупотребление служебным положением, дача взятки, получение взятки, злоупотребление полномочиями, коммерческий подкуп либо иное незаконное использование физическим лицом своего должностного положения вопреки законным интересам общества и государства в целях получения выгоды в виде денег, ценностей, иного имущества или услуг имущественного характера, иных имущественных прав для себя или для третьих лиц либо незаконное предоставление такой выгоды указанному лицу другими физическими лица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) совершение деяний, указанных в </a:t>
            </a:r>
            <a:r>
              <a:rPr b="0" lang="ru-RU" sz="2400" spc="-1" strike="noStrike" u="sng">
                <a:solidFill>
                  <a:srgbClr val="ffcc66"/>
                </a:solidFill>
                <a:uFillTx/>
                <a:latin typeface="Times New Roman"/>
                <a:hlinkClick r:id="rId1"/>
              </a:rPr>
              <a:t>подпункте "а"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настоящего пункта, от имени или в интересах юридического лиц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Счетная палата Российской Федерации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пределах своих полномочий обеспечивает противодействие коррупци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нтрольные полномочия Счетной палаты распространяются на все государственные органы (в том числе их аппараты) и учреждения в Российской Федерации, на федеральные внебюджетные фонды, государственные корпорации и государственные компани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AutoShape 6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AutoShape 8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AutoShape 10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Picture 12" descr="ANd9GcSovK36d-mTrcOZ7NRGZVqjgyaD1ruvrF8Sn4nJUjZTuCyh_uc9vA"/>
          <p:cNvPicPr/>
          <p:nvPr/>
        </p:nvPicPr>
        <p:blipFill>
          <a:blip r:embed="rId1"/>
          <a:stretch/>
        </p:blipFill>
        <p:spPr>
          <a:xfrm>
            <a:off x="4716360" y="1628640"/>
            <a:ext cx="3981600" cy="38163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bd71"/>
                </a:solidFill>
                <a:latin typeface="Arial"/>
              </a:rPr>
              <a:t>Федеральные органы государственной власти, органы государственной власти субъектов Российской Федерации и органы местного самоуправления осуществляют </a:t>
            </a:r>
            <a:br>
              <a:rPr sz="2400"/>
            </a:br>
            <a:r>
              <a:rPr b="1" lang="ru-RU" sz="2400" spc="-1" strike="noStrike">
                <a:solidFill>
                  <a:srgbClr val="dbbd71"/>
                </a:solidFill>
                <a:latin typeface="Arial"/>
              </a:rPr>
              <a:t>противодействие коррупции</a:t>
            </a:r>
            <a:br>
              <a:rPr sz="2400"/>
            </a:br>
            <a:r>
              <a:rPr b="1" lang="ru-RU" sz="2400" spc="-1" strike="noStrike">
                <a:solidFill>
                  <a:srgbClr val="dbbd71"/>
                </a:solidFill>
                <a:latin typeface="Arial"/>
              </a:rPr>
              <a:t> в пределах своих полномочий.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923920"/>
            <a:ext cx="8229600" cy="32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Picture 5" descr="ANd9GcTQMwfPYpLxhdlq4bU9H6eVIYJMZo8BB4AEQjkWbkX4tRILxBtQ"/>
          <p:cNvPicPr/>
          <p:nvPr/>
        </p:nvPicPr>
        <p:blipFill>
          <a:blip r:embed="rId1"/>
          <a:stretch/>
        </p:blipFill>
        <p:spPr>
          <a:xfrm>
            <a:off x="611280" y="2997360"/>
            <a:ext cx="8064360" cy="3095640"/>
          </a:xfrm>
          <a:prstGeom prst="rect">
            <a:avLst/>
          </a:prstGeom>
          <a:ln w="0">
            <a:noFill/>
          </a:ln>
        </p:spPr>
      </p:pic>
      <p:sp>
        <p:nvSpPr>
          <p:cNvPr id="24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Национальный план противодействия коррупции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кумент программного характера, утверждённый 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Президентом РФ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Д. А. Медведевы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31 июля 2008 г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Picture 5" descr="ANd9GcToqjVQugu__wywjTjxfLPHFbjyuJJ2thpwP2inWuVm8nkOmP1e"/>
          <p:cNvPicPr/>
          <p:nvPr/>
        </p:nvPicPr>
        <p:blipFill>
          <a:blip r:embed="rId3"/>
          <a:stretch/>
        </p:blipFill>
        <p:spPr>
          <a:xfrm>
            <a:off x="2195640" y="3284640"/>
            <a:ext cx="4319640" cy="316872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НАЦИОНАЛЬНЫЙ ПЛАН включает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I. Меры по законодательному обеспечению противодействия корруп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II. Меры по совершенствованию государственного управления в целях предупреждения корруп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III. Меры по повышению профессионального уровня юридических кадров и правовому просвещени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49780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a500"/>
                </a:solidFill>
                <a:latin typeface="Arial"/>
              </a:rPr>
              <a:t>Антикоррупционное законодательство Ульяновской области</a:t>
            </a: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79280" y="620640"/>
            <a:ext cx="87854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  <a:hlinkClick r:id="rId1"/>
              </a:rPr>
              <a:t>Распоряжение Губернатора Ульяновской области от 25.05.2011 № 210-р «О дополнительных мерах по противодействию коррупции в Ульяновской области»</a:t>
            </a:r>
            <a:br>
              <a:rPr sz="1600"/>
            </a:b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  <a:hlinkClick r:id="rId2"/>
              </a:rPr>
              <a:t>Постановление Правительства Ульяновской области № 36-325-П от 06.10.2010 "О внесении изменений в постановление Правительства Ульяновской области от 22.07.2008 № 14/329-П"</a:t>
            </a:r>
            <a:br>
              <a:rPr sz="1600"/>
            </a:b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  <a:hlinkClick r:id="rId3"/>
              </a:rPr>
              <a:t>Постановление Губернатора Ульяновской области от 13 июля 2009 г. № 49 "Об утверждении Правил подготовки и издания правовых актов Губернатора и Правительства Ульяновской области"</a:t>
            </a:r>
            <a:br>
              <a:rPr sz="1600"/>
            </a:b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  <a:hlinkClick r:id="rId4"/>
              </a:rPr>
              <a:t>Постановление Законодательного Собрания Ульяновской области от 28 мая 2009 г. N 348/28-4 «О назначении на должность уполномоченного по противодействию коррупции в Ульяновской области»</a:t>
            </a:r>
            <a:br>
              <a:rPr sz="1600"/>
            </a:b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  <a:hlinkClick r:id="rId5"/>
              </a:rPr>
              <a:t>Постановление Губернатора Ульяновской области от 23 апреля 2009 г. № 31 «Об утверждении Порядка проведения антикоррупционной экспертизы законов, иных нормативных правовых актов Ульяновской области и их проектов»</a:t>
            </a:r>
            <a:br>
              <a:rPr sz="1600"/>
            </a:b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  <a:hlinkClick r:id="rId6"/>
              </a:rPr>
              <a:t>Постановление Правительства Ульяновской области от 22 июля 2008 г. № 14/329-П «Об утверждении областной целевой программы «Противодействие коррупции в Ульяновской области» на 2008 – 2010 годы</a:t>
            </a:r>
            <a:br>
              <a:rPr sz="1600"/>
            </a:b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  <a:hlinkClick r:id="rId7"/>
              </a:rPr>
              <a:t>Закон Ульяновской области от 5 июня 2007 г. N 77-ЗО «О противодействии коррупции в Ульяновской области»</a:t>
            </a:r>
            <a:br>
              <a:rPr sz="1600"/>
            </a:b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  <a:hlinkClick r:id="rId8"/>
              </a:rPr>
              <a:t>Постановление Губернатора Ульяновской области от 19 апреля 2007 г. N 28 «О координационном совете по реализации антикоррупционной политики в Ульяновской области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Четырехкратный эффект коррупции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литическ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иновники государственных учреждений и органов преступают закон,  когда используют служебное положение для личной выгоды. Наибольший вред коррупция наносит странам с развивающейся демократи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кономическ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кращение национального богатства. Размещение дефицитных государственных средств в неэкономичные проекты. Удерживание инвестици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бщественны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дрывает доверие граждан к власти. Крушение надежд и общая апатия в разочарованном обществе приводят к его гражданской слабост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кологическ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брежное использование природных ресурсов. Неудовлетворительная система регулирова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bd71"/>
                </a:solidFill>
                <a:latin typeface="Arial"/>
              </a:rPr>
              <a:t>ЗАДАНИЕ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Рабочее определение «коррупции» -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ru-RU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Можно ли определить цену коррупц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Как коррупция влияет на человеческую жизн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Приведите п</a:t>
            </a:r>
            <a:r>
              <a:rPr b="0" lang="ru-RU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римеры корруп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ru-RU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Коррупция процветает там, где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 Unicode MS"/>
                <a:ea typeface="Arial Unicode MS"/>
              </a:rPr>
              <a:t>Рабочее определение коррупции</a:t>
            </a:r>
            <a:br>
              <a:rPr sz="2800"/>
            </a:b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9152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GB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«Злоупотребление служебным положением </a:t>
            </a:r>
            <a:r>
              <a:rPr b="1" i="1" lang="ru-RU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с целью получения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GB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личной выгоды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9" descr="1_1381"/>
          <p:cNvPicPr/>
          <p:nvPr/>
        </p:nvPicPr>
        <p:blipFill>
          <a:blip r:embed="rId1"/>
          <a:stretch/>
        </p:blipFill>
        <p:spPr>
          <a:xfrm>
            <a:off x="826920" y="2997360"/>
            <a:ext cx="7561440" cy="358272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bd71"/>
                </a:solidFill>
                <a:latin typeface="Arial"/>
              </a:rPr>
              <a:t>Можно ли определить цену коррупции?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ача взяток не фиксируется, и они не всегда имеют денежную форму: одолжения, подарки и т.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ще сложнее дать коррупции количественное определение в социальном аспекте: цена крушения иллюзий…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 Unicode MS"/>
                <a:ea typeface="Arial Unicode MS"/>
              </a:rPr>
              <a:t>Как коррупция влияет на человеческую жизнь?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0" name="Picture 3" descr="C:\Documents and Settings\mikkel\Desktop\Corruption pictures\free\corrup1.jpg"/>
          <p:cNvPicPr/>
          <p:nvPr/>
        </p:nvPicPr>
        <p:blipFill>
          <a:blip r:embed="rId1"/>
          <a:stretch/>
        </p:blipFill>
        <p:spPr>
          <a:xfrm>
            <a:off x="5219640" y="4221000"/>
            <a:ext cx="2468520" cy="2273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0001r97w"/>
          <p:cNvPicPr/>
          <p:nvPr/>
        </p:nvPicPr>
        <p:blipFill>
          <a:blip r:embed="rId2"/>
          <a:stretch/>
        </p:blipFill>
        <p:spPr>
          <a:xfrm>
            <a:off x="4788000" y="1197000"/>
            <a:ext cx="3352680" cy="2685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korrupziya2"/>
          <p:cNvPicPr/>
          <p:nvPr/>
        </p:nvPicPr>
        <p:blipFill>
          <a:blip r:embed="rId3"/>
          <a:stretch/>
        </p:blipFill>
        <p:spPr>
          <a:xfrm>
            <a:off x="1332000" y="1557360"/>
            <a:ext cx="2857320" cy="426708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 Unicode MS"/>
                <a:ea typeface="Arial Unicode MS"/>
              </a:rPr>
              <a:t>Примеры коррупции</a:t>
            </a:r>
            <a:r>
              <a:rPr b="0" lang="da-DK" sz="4000" spc="-1" strike="noStrike">
                <a:solidFill>
                  <a:srgbClr val="dbbd71"/>
                </a:solidFill>
                <a:latin typeface="Arial Unicode MS"/>
                <a:ea typeface="Arial Unicode MS"/>
              </a:rPr>
              <a:t>: 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Picture 3" descr="C:\Documents and Settings\mikkel\Desktop\Corruption pictures\free\policecorruption.jpg"/>
          <p:cNvPicPr/>
          <p:nvPr/>
        </p:nvPicPr>
        <p:blipFill>
          <a:blip r:embed="rId1"/>
          <a:stretch/>
        </p:blipFill>
        <p:spPr>
          <a:xfrm>
            <a:off x="4932360" y="1700280"/>
            <a:ext cx="3960720" cy="3313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C:\Documents and Settings\mikkel\Desktop\Corruption pictures\free\corrup8.jpg"/>
          <p:cNvPicPr/>
          <p:nvPr/>
        </p:nvPicPr>
        <p:blipFill>
          <a:blip r:embed="rId2"/>
          <a:stretch/>
        </p:blipFill>
        <p:spPr>
          <a:xfrm>
            <a:off x="324000" y="3716280"/>
            <a:ext cx="3960720" cy="2979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C:\Documents and Settings\mikkel\Desktop\Corruption pictures\Cleared\newbribe.jpg"/>
          <p:cNvPicPr/>
          <p:nvPr/>
        </p:nvPicPr>
        <p:blipFill>
          <a:blip r:embed="rId3"/>
          <a:stretch/>
        </p:blipFill>
        <p:spPr>
          <a:xfrm>
            <a:off x="900000" y="1484280"/>
            <a:ext cx="2808360" cy="190332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 Unicode MS"/>
                <a:ea typeface="Arial Unicode MS"/>
              </a:rPr>
              <a:t>Коррупция процветает там, где…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С</a:t>
            </a:r>
            <a:r>
              <a:rPr b="0" lang="da-DK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облазн сосуществует с вседозволенность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Н</a:t>
            </a:r>
            <a:r>
              <a:rPr b="0" lang="en-ZA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е проводятся проверки в учреждения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П</a:t>
            </a:r>
            <a:r>
              <a:rPr b="0" lang="en-ZA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роцесс принятия важных решений проходит в закрытом поряд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Практически отсутствует гражданское общес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О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громное неравенство в распределении богатства обрекает людей на нищет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16:34:17Z</dcterms:created>
  <dc:creator>Диво</dc:creator>
  <dc:description/>
  <dc:language>en-US</dc:language>
  <cp:lastModifiedBy>LEGION</cp:lastModifiedBy>
  <dcterms:modified xsi:type="dcterms:W3CDTF">2014-11-10T08:14:57Z</dcterms:modified>
  <cp:revision>16</cp:revision>
  <dc:subject/>
  <dc:title>Меры по противодействию коррупции в федеральных органах государственной власти и органах исполнительной власти Ульяновской области</dc:title>
</cp:coreProperties>
</file>