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9B6D-9F85-41F5-8C60-8169030D768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рруп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D613-BDE7-4E07-B517-F488BBC4C9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служб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орган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инспе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рование и регистрация предпринимательск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креди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кспортных кво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ы на закупку товаров/услуг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и ремонт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риальное удостоверение сделок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ловий лиценз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соблюдением правил охоты и рыболов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от призыва на военную службу в вооружённые си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е в государственные высшие учебные заве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артийных избирательных сп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0C7F-12F0-4607-B894-8D24CFFA62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вред от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B73F-91E2-428D-A132-54526FB5E7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 от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распределение и расходование государственных средств и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ррупционных финансовых потоков с точки зрения экономики стр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налогов, когда налоговые органы присваивают себе часть налог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рение частных предпринима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инвестиций в производство, замедл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е качества общественного серви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ост социального нераве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иление организованной преступности — банды превращаются в маф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щерб политической легитимности вла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общественной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D6ED-5022-499E-A5DF-9E0A03668D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отиводействие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DA49-3562-447C-AC4D-130ACAFD9C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действие коррупции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23D5-8B37-41F8-A43E-1CF6235F11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ипы противодействия коррупции в Российской Федераци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зако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4984-CA9B-4035-8544-96433CEB5C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зидент Российской Фед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A444-B4D9-44EF-8B0C-0F244BFC1E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9653-B806-4EB7-8916-44125CD6BF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F67-8D76-4664-90C0-952EE4D108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ральный прокурор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802C-9660-4D00-8509-F85CE6DDC2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ОТИВОДЕЙСТВИИ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 декабря 2008 года №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руп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DB26-5379-400B-A918-21906FE53B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етная пала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елах своих полномочий обеспечивает противодействие корруп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0549-D327-4C43-B557-5AB7AC791C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иводействие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еделах своих полномоч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1386-C57D-441A-9F6D-271F29254C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циональный план противодействия коррупц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программного характера, утверждённый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зидентом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. А. Медведе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31 июля 2008 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0D3-8354-4DD0-AC57-94C204C430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Й ПЛАН включ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4E14-4C27-4FF2-A160-B83B7445A2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Антикоррупционное законодательство Улья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9E27-58EC-4932-B734-D86277788A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0650-2A15-4ECE-9B86-C03D7304A9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чее определение «коррупции»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ведите п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345F-85FA-4F9B-B6E0-1514C88FFA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8FEE-4A48-44AF-8E15-FA44DB82C1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99BF-6A72-4630-A37B-9AC2343366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830E-1919-4BE7-8295-934C53724F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E85B-615B-4FD8-B2F5-3323215108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348B-DAFF-4467-BD74-44502D89EA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050-F725-4A50-BF7D-C059ECF6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FA0-B014-4139-8A72-0E34EE73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023-DDBB-4362-A918-83035092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8FC-8BF8-4B42-A8D0-09D6CC92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A9A9-8341-443D-8F69-8B772467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EA01-BF5D-4608-9F50-59F6B866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14EA-AEDE-416A-9075-72F93011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EA17-5695-40E5-8875-EE6A1455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AA24-DEB1-45B4-B04E-31B2FD88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531E-0756-4F95-B251-955CC9FE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F16C-4E01-48C8-BD6E-7F454A4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AE5-3AC0-4C6E-B956-E8A33AA1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45B0-EEC4-4B85-B8C1-6CF27E30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AC32-FFEB-4F4A-AE2D-A093CA05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EA29-BA01-4E9B-9438-40C53595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6F7F-9415-4E45-89B7-DB31742A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8447-8815-4D8A-BF84-9E03C73F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D0F-58EA-4E3D-9D39-975BCA5D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A0E-FBF2-4565-B0D8-79521E07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ACC-F3D5-46D9-9A15-7A16F16B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40C-2D97-4FB5-B96E-6C26AD85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462-E096-4208-A39B-2CF229E3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5B3-70AF-4A43-B82A-C2733C0A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D65-FEB1-44BB-AF3F-DCF3BE3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8E5E-8EA9-4650-AA51-ACE40E6F5D7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D787-C300-4ECC-A157-B2C1D3EBA0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I._.D0.9C.D0.B5.D1.80.D1.8B_.D0.BF.D0.BE_.D0.BF.D0.BE.D0.B2.D1.8B.D1.88.D0.B5.D0.BD.D0.B8.D1.8E_.D0.BF.D1.80.D0.BE.D1.84.D0.B5.D1.81.D1.81.D0.B8.D0.BE.D0.BD.D0.B0.D0.BB.D1.8C.D0.BD.D0.BE.D0.B3.D0.BE_.D1.83.D1.80.D0.BE.D0.B2.D0.BD.D1.8F_.D1.8E.D1.80.D0.B8.D0.B4.D0.B8.D1.87.D0.B5.D1.81.D0.BA.D0.B8.D1.85_.D0.BA.D0.B0.D0.B4.D1.80.D0.BE.D0.B2_.D0.B8_.D0.BF.D1.80.D0.B0.D0.B2.D0.BE.D0.B2.D0.BE.D0.BC.D1.83_.D0.BF.D1.80.D0.BE.D1.81.D0.B2.D0.B5.D1.89.D0.B5.D0.BD.D0.B8.D1.8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ticorrupt-ul.ru/laws/regional/210r.html" TargetMode="External"/><Relationship Id="rId2" Type="http://schemas.openxmlformats.org/officeDocument/2006/relationships/hyperlink" Target="http://anticorrupt-ul.ru/laws/regional/izm_ocp_protivod_corrupcii_2008-2012.html" TargetMode="External"/><Relationship Id="rId3" Type="http://schemas.openxmlformats.org/officeDocument/2006/relationships/hyperlink" Target="http://anticorrupt-ul.ru/laws/regional/proect_npa.html" TargetMode="External"/><Relationship Id="rId4" Type="http://schemas.openxmlformats.org/officeDocument/2006/relationships/hyperlink" Target="http://anticorrupt-ul.ru/laws/regional/post_zso_nazn_upolnom.html" TargetMode="External"/><Relationship Id="rId5" Type="http://schemas.openxmlformats.org/officeDocument/2006/relationships/hyperlink" Target="http://anticorrupt-ul.ru/laws/regional/pravila_expertizy.html" TargetMode="External"/><Relationship Id="rId6" Type="http://schemas.openxmlformats.org/officeDocument/2006/relationships/hyperlink" Target="http://anticorrupt-ul.ru/laws/regional/programma2008-2010.html" TargetMode="External"/><Relationship Id="rId7" Type="http://schemas.openxmlformats.org/officeDocument/2006/relationships/hyperlink" Target="http://anticorrupt-ul.ru/laws/regional/zuo_o_prot_corrupcii.html" TargetMode="External"/><Relationship Id="rId8" Type="http://schemas.openxmlformats.org/officeDocument/2006/relationships/hyperlink" Target="http://anticorrupt-ul.ru/laws/regional/post_guo_ob_anticor_sovete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коррупция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82760" y="1341360"/>
            <a:ext cx="8207280" cy="4781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моженные служб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дицинские организа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инспек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деб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огов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оохранитель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цензирование и регистрация предпринимательской деятельно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кредит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экспортных квот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сы на закупку товаров/услуг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тельство и ремонт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тариальное удостоверение сделок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троль за соблюдением условий лицензирова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дзор за соблюдением правил охоты и рыболов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вобождение от призыва на военную службу в вооружённые сил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упление в государственные высшие учебные заведе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ирование партийных избирательных спис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ов вред от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20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ANd9GcTu9zv0_k0gB6vIeP-e5ltdHNB2UZJfoKphdZWdHlsUanOJdHMB"/>
          <p:cNvPicPr/>
          <p:nvPr/>
        </p:nvPicPr>
        <p:blipFill>
          <a:blip r:embed="rId1"/>
          <a:stretch/>
        </p:blipFill>
        <p:spPr>
          <a:xfrm>
            <a:off x="900000" y="1700280"/>
            <a:ext cx="705672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ред от корруп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распределение и расходование государственных средств и ресурс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сть коррупционных финансовых потоков с точки зрения экономики стр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налогов, когда налоговые органы присваивают себе часть налог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зорение частных предпринимателе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инвестиций в производство, замедление экономического рост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нижение качества общественного сервис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ост социального неравен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иление организованной преступности — банды превращаются в мафию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щерб политической легитимности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общественной морал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противодействие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6920" y="2923920"/>
            <a:ext cx="648036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ANd9GcRHNpqcNRnAkb-2YXdVmKrrLnR_3GE3cC9_P5P-mUnxXLmc4QjB1Q"/>
          <p:cNvPicPr/>
          <p:nvPr/>
        </p:nvPicPr>
        <p:blipFill>
          <a:blip r:embed="rId1"/>
          <a:stretch/>
        </p:blipFill>
        <p:spPr>
          <a:xfrm>
            <a:off x="1187280" y="2997360"/>
            <a:ext cx="6409080" cy="3079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действие коррупции- эт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нципы противодействия коррупции в Российской Федерации: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) закон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зидент Российской Феде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732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8" descr="ANd9GcST5ZS8lkkwYHT5cqlSuxA2PKy3gsOrrARoJoAY-cOy5qcON1L6"/>
          <p:cNvPicPr/>
          <p:nvPr/>
        </p:nvPicPr>
        <p:blipFill>
          <a:blip r:embed="rId1"/>
          <a:stretch/>
        </p:blipFill>
        <p:spPr>
          <a:xfrm>
            <a:off x="4788000" y="170028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авительство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ANd9GcTRrx9cE96PpjXZAmgCq_oxAz2ZhBPtiYnsfiqB9OEkakbYsz6g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4392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ральный прокурор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78936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О ПРОТИВОДЕЙСТВИИ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25 декабря 2008 года №273-ФЗ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рупц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четная палата Российской Федерац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еделах своих полномочий обеспечивает противодействие корруп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ANd9GcSovK36d-mTrcOZ7NRGZVqjgyaD1ruvrF8Sn4nJUjZTuCyh_uc9vA"/>
          <p:cNvPicPr/>
          <p:nvPr/>
        </p:nvPicPr>
        <p:blipFill>
          <a:blip r:embed="rId1"/>
          <a:stretch/>
        </p:blipFill>
        <p:spPr>
          <a:xfrm>
            <a:off x="4716360" y="1628640"/>
            <a:ext cx="398160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противодействие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в пределах своих полномочий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ANd9GcTQMwfPYpLxhdlq4bU9H6eVIYJMZo8BB4AEQjkWbkX4tRILxBtQ"/>
          <p:cNvPicPr/>
          <p:nvPr/>
        </p:nvPicPr>
        <p:blipFill>
          <a:blip r:embed="rId1"/>
          <a:stretch/>
        </p:blipFill>
        <p:spPr>
          <a:xfrm>
            <a:off x="611280" y="2997360"/>
            <a:ext cx="806436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циональный план противодействия коррупции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умент программного характера, утверждённый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ентом Р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. А. Медведев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31 июля 2008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5" descr="ANd9GcToqjVQugu__wywjTjxfLPHFbjyuJJ2thpwP2inWuVm8nkOmP1e"/>
          <p:cNvPicPr/>
          <p:nvPr/>
        </p:nvPicPr>
        <p:blipFill>
          <a:blip r:embed="rId3"/>
          <a:stretch/>
        </p:blipFill>
        <p:spPr>
          <a:xfrm>
            <a:off x="2195640" y="3284640"/>
            <a:ext cx="4319640" cy="31687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АЦИОНАЛЬНЫЙ ПЛАН включ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a500"/>
                </a:solidFill>
                <a:latin typeface="Arial"/>
              </a:rPr>
              <a:t>Антикоррупционное законодательство Ульяновской област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и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ном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ествен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абочее определение «коррупции»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иведите п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1_1381"/>
          <p:cNvPicPr/>
          <p:nvPr/>
        </p:nvPicPr>
        <p:blipFill>
          <a:blip r:embed="rId1"/>
          <a:stretch/>
        </p:blipFill>
        <p:spPr>
          <a:xfrm>
            <a:off x="826920" y="2997360"/>
            <a:ext cx="7561440" cy="35827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C:\Documents and Settings\mikkel\Desktop\Corruption pictures\free\corrup1.jpg"/>
          <p:cNvPicPr/>
          <p:nvPr/>
        </p:nvPicPr>
        <p:blipFill>
          <a:blip r:embed="rId1"/>
          <a:stretch/>
        </p:blipFill>
        <p:spPr>
          <a:xfrm>
            <a:off x="5219640" y="4221000"/>
            <a:ext cx="2468520" cy="227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001r97w"/>
          <p:cNvPicPr/>
          <p:nvPr/>
        </p:nvPicPr>
        <p:blipFill>
          <a:blip r:embed="rId2"/>
          <a:stretch/>
        </p:blipFill>
        <p:spPr>
          <a:xfrm>
            <a:off x="4788000" y="1197000"/>
            <a:ext cx="3352680" cy="2685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korrupziya2"/>
          <p:cNvPicPr/>
          <p:nvPr/>
        </p:nvPicPr>
        <p:blipFill>
          <a:blip r:embed="rId3"/>
          <a:stretch/>
        </p:blipFill>
        <p:spPr>
          <a:xfrm>
            <a:off x="1332000" y="1557360"/>
            <a:ext cx="285732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C:\Documents and Settings\mikkel\Desktop\Corruption pictures\free\policecorruption.jpg"/>
          <p:cNvPicPr/>
          <p:nvPr/>
        </p:nvPicPr>
        <p:blipFill>
          <a:blip r:embed="rId1"/>
          <a:stretch/>
        </p:blipFill>
        <p:spPr>
          <a:xfrm>
            <a:off x="4932360" y="1700280"/>
            <a:ext cx="3960720" cy="33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mikkel\Desktop\Corruption pictures\free\corrup8.jpg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97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mikkel\Desktop\Corruption pictures\Cleared\newbribe.jpg"/>
          <p:cNvPicPr/>
          <p:nvPr/>
        </p:nvPicPr>
        <p:blipFill>
          <a:blip r:embed="rId3"/>
          <a:stretch/>
        </p:blipFill>
        <p:spPr>
          <a:xfrm>
            <a:off x="900000" y="1484280"/>
            <a:ext cx="2808360" cy="1903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34:17Z</dcterms:created>
  <dc:creator>Диво</dc:creator>
  <dc:description/>
  <dc:language>en-US</dc:language>
  <cp:lastModifiedBy>LEGION</cp:lastModifiedBy>
  <dcterms:modified xsi:type="dcterms:W3CDTF">2014-11-10T08:14:57Z</dcterms:modified>
  <cp:revision>16</cp:revision>
  <dc:subject/>
  <dc:title>Меры по противодействию коррупции в федеральных органах государственной власти и органах исполнительной власти Ульяновской области</dc:title>
</cp:coreProperties>
</file>