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37E8-88D5-4125-8D6B-7C97885F882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ды Михаила Васильевича Ломо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8D73-DB35-4190-9A68-44A4AD4409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Calibri"/>
              </a:rPr>
              <a:t>Ода 1750 г. посвящена точным нау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йдите землю и пуч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тепи, и глубокий лес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нутр Рифейский, и верш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аму высоту небе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езде исследуйте всеч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то есть велико и прекр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го еще не видел свет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22CA-17DC-4359-9A0F-C0E361B489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ое количество од Ломоносов посвятил Елизавете Петровн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акую радость ощущаю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я ныне восхищен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у пищу я вкушаю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ерьх Олимпа вознесен!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0DDD-8D09-433A-B939-6E9E2E081D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1"/>
                </a:solidFill>
                <a:latin typeface="Calibri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гда божественны науки  чрез горы, реки и моря  в Россию простирали руки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ли я ныне позабылась  и с одного пути склонилась,  которым прежде я текла?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5713-6FFD-486A-96BA-747AFDA5DE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EB88-0BD0-4C1F-BB78-C25295902A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духовных од лаконичен и лишен всякого рода "украшений"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8A02-543A-4273-9669-8B55F3F08B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икто не уповай вовеки на тщетну     власть князей зем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B4C5-BB63-4D43-83C5-CB98EDC0C0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581C-E8F8-49CE-92A1-E166A7C179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О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лирический жанр, пришедший в европейскую литературу из античн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бедно-патриот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хв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лософ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ухо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накреонтическ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E141-758E-4440-89B0-B014F041D5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ода Ломоносова – «Ода на взятие Хот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2B4D-E36E-4CE2-B861-5977A41ABA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01"/>
                </a:solidFill>
                <a:latin typeface="Calibri"/>
              </a:rPr>
              <a:t>В оде Ломоносова выделяется три основные части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вое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авление побе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2BB0-8C54-4D6B-B91F-F315141A68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Calibri"/>
              </a:rPr>
              <a:t>О подвиге безымянного героя Ломоносов пишет с восхищением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репит отечества любов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ынов российских дух и руку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Желает всяк пролить всю кров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От грозного бодрится звуку…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6B12-245D-4691-BE11-BA6F898881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е Иоанн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анну Антонович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е Петров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у II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е 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76AC-5154-4786-9390-7D1F1EEB86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124D-B1BB-48F0-AB02-8BC45491A15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ы Ломоносова отражают многие события то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F44C-3A4D-46A7-8313-6712A2BD2B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DA78-247E-4EAA-9241-AB731B1D2C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82F2-4E24-46C6-AEE4-4F60CF38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451E-7BB1-40C2-8A1F-5B74446B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C6EA-6EE5-4DB8-A08F-DDA702F1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6E60-02CC-44F6-8AC5-ED9A6BB5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F741-99F8-45C4-8750-8A4106B3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0F59-C3F3-4F6A-A1A4-9B44A233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A8C7-1815-4B82-9164-077EDFC0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855F-DE63-4AC4-ABE4-37215FE9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796A-DD22-43FB-B18B-5A1C8703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9E78-1EAD-424A-8578-88B818FB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B56C-EC0D-450B-8501-18AE532A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B83A-A44E-4DDC-A926-F00AC82B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B975-022C-4442-8EF8-EF58B5E7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5C02-2812-49EF-8233-E333FFB8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363C-C587-42EE-8976-55646C6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3F98-8B47-4A75-BCFB-34DACB2A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CEEA-65E6-4E37-845E-290E5B7C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65F9-DA97-4286-8688-5035FC57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B2B98-470C-4694-A685-954D7DA7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C8F8-9B19-4E3F-95F4-00DA1C00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33DB-B081-4B73-B89F-3596EBF1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E14A-962A-481F-A74B-AA4E3A30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9E20-5740-4E54-88C4-9BE80C98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74BE-710B-4CDC-91E6-B05792B5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CF0D-BFFD-487B-ADEB-2DE472F91E0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21BA-1316-40DF-9C85-26C0F483BCD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LEGION</cp:lastModifiedBy>
  <dcterms:modified xsi:type="dcterms:W3CDTF">2015-01-20T10:11:09Z</dcterms:modified>
  <cp:revision>5</cp:revision>
  <dc:subject/>
  <dc:title>Оды Михаила Васильевича Ломоносова</dc:title>
</cp:coreProperties>
</file>