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26E1-1537-495B-B053-0EA911D390F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ды Михаила Васильевича Ломонос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4979-BD36-4980-9B84-8CD7540CB3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Calibri"/>
              </a:rPr>
              <a:t>Ода 1750 г. посвящена точным наук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йдите землю и пуч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тепи, и глубокий лес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нутр Рифейский, и верш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аму высоту небе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езде исследуйте всеч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то есть велико и прекр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го еще не видел свет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9DA2-60B8-4D67-82C9-DDE06D7E17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ое количество од Ломоносов посвятил Елизавете Петровн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акую радость ощущаю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я ныне восхищен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у пищу я вкушаю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ерьх Олимпа вознесен!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60C3-3DA2-4047-B837-35F1424D15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1"/>
                </a:solidFill>
                <a:latin typeface="Calibri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гда божественны науки  чрез горы, реки и моря  в Россию простирали руки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ли я ныне позабылась  и с одного пути склонилась,  которым прежде я текла?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AE89-9D30-4710-9AA8-F62E5E8F8D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AA02-B46A-4E09-8A4D-763FCB4E179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духовных од лаконичен и лишен всякого рода "украшений"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4A3E-496D-4F72-829E-36D2711ABC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икто не уповай вовеки на тщетну     власть князей зем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40DE-7F3E-4366-B0EC-944B67E36A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8C06-7972-4B28-9EC4-15E14C8458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О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лирический жанр, пришедший в европейскую литературу из античной поэ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бедно-патриот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хв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лософ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ухо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накреонтическ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E01A-3E4A-4466-BE12-44B6E05FD9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ода Ломоносова – «Ода на взятие Хот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4F11-370C-48BF-8700-F4C583B9AE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ffff01"/>
                </a:solidFill>
                <a:latin typeface="Calibri"/>
              </a:rPr>
              <a:t>В оде Ломоносова выделяется три основные части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вое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авление побе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CF46-E1AD-42A1-9047-DE5D2E3363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Calibri"/>
              </a:rPr>
              <a:t>О подвиге безымянного героя Ломоносов пишет с восхищением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репит отечества любов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ынов российских дух и руку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Желает всяк пролить всю кров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От грозного бодрится звуку…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36E6-DFF6-4EF7-A4F3-EBCF450515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е Иоанн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анну Антонович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е Петров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у III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е 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BAC8-BE30-400A-84F2-3987028068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2812-4614-49CD-A7E4-D1046B5DBF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ы Ломоносова отражают многие события то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487C-18D3-4C5D-9564-9B71337982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C0EC-7B7F-4BFA-913C-0246DB6554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2A1B-C7AA-4BCF-A83D-71B6E070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B3728-58AD-4F99-BA68-C6DD7EC5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8C9C-6E53-437E-A4C3-73A0FEFC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B966-922A-4A81-81F8-C1EDA783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2D73-7D04-4E8A-A3C4-1F68BCF1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5B77-00E7-4879-80E5-F0858CB6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6792-8FC1-4A7A-943B-D1F220DA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EC3F-80C1-4B74-8A32-0FA7515A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D1CE-F6A8-47CB-8DDC-AFF40E9D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DD9C-C67A-4B38-8C49-76D1FF37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A9D2-707C-4264-BA4C-09F822A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C9D2-45AC-466E-9E55-591FC37F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C178-05BA-4AAF-BBBE-5ABE35B0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5D9A-B329-42CC-92BD-67D7B6C0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3759-F85A-45EF-BA71-92D57AE5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8F88-702A-4BF7-9870-7AD0F82D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A4AB-2DCC-4BD6-BEB2-2B51FAD2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46BAE-1E5E-4565-AAA4-FD998561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880F-CDB6-4BDA-9F5D-9816BB54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2A87-2EC7-4164-81A2-0302D4E3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03AA-5F6D-47F1-8BBE-918D0616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74F7-B630-4865-8DA7-0C4526DA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E090-835A-462C-9F18-881F852B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CAE2-6C45-4B96-9C0A-1387E321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E184-A85D-416D-89BD-59EF64B6658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9EE1-A12E-46F3-AD0E-D5A8586F658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127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ahoma"/>
              </a:rPr>
              <a:t>Оды Михаила Васильевича Ломонос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38322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1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ломоносов"/>
          <p:cNvPicPr/>
          <p:nvPr/>
        </p:nvPicPr>
        <p:blipFill>
          <a:blip r:embed="rId1"/>
          <a:stretch/>
        </p:blipFill>
        <p:spPr>
          <a:xfrm>
            <a:off x="2916360" y="2387520"/>
            <a:ext cx="3173400" cy="4084560"/>
          </a:xfrm>
          <a:prstGeom prst="rect">
            <a:avLst/>
          </a:prstGeom>
          <a:ln w="0">
            <a:noFill/>
          </a:ln>
        </p:spPr>
      </p:pic>
      <p:sp>
        <p:nvSpPr>
          <p:cNvPr id="136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ff33"/>
                </a:solidFill>
                <a:latin typeface="Tahoma"/>
              </a:rPr>
              <a:t>Ода 1750 г. посвящена точным наукам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йдите землю и пуч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тепи, и глубокий лес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нутр Рифейский, и верш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аму высоту небес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езде исследуйте всеч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то есть велико и прекр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его еще не видел свет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ольшое количество од Ломоносов посвятил Елизавете Петровне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Какую радость ощущаю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я ныне восхищен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есну пищу я вкуша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ерьх Олимпа вознесен!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9" descr="петровна"/>
          <p:cNvPicPr/>
          <p:nvPr/>
        </p:nvPicPr>
        <p:blipFill>
          <a:blip r:embed="rId1"/>
          <a:stretch/>
        </p:blipFill>
        <p:spPr>
          <a:xfrm>
            <a:off x="4932360" y="1700280"/>
            <a:ext cx="3649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1"/>
                </a:solidFill>
                <a:latin typeface="Tahoma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огда божественны науки  чрез горы, реки и моря  в Россию простирали рук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ли я ныне позабылась  и с одного пути склонилась,  которым прежде я текла?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9" descr="тр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16000" y="1700280"/>
            <a:ext cx="2336760" cy="254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сум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700280"/>
            <a:ext cx="23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дерjpg"/>
          <p:cNvPicPr/>
          <p:nvPr/>
        </p:nvPicPr>
        <p:blipFill>
          <a:blip r:embed="rId3"/>
          <a:stretch/>
        </p:blipFill>
        <p:spPr>
          <a:xfrm>
            <a:off x="1835280" y="3860640"/>
            <a:ext cx="2079360" cy="262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херасковjpg"/>
          <p:cNvPicPr/>
          <p:nvPr/>
        </p:nvPicPr>
        <p:blipFill>
          <a:blip r:embed="rId4"/>
          <a:stretch/>
        </p:blipFill>
        <p:spPr>
          <a:xfrm>
            <a:off x="4716360" y="3860640"/>
            <a:ext cx="223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духовных од лаконичен и лишен всякого рода "украшений"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Никто не уповай вовеки на тщетну     власть князей земных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98984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1"/>
                </a:solidFill>
                <a:latin typeface="Tahoma"/>
              </a:rPr>
              <a:t>О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лирический жанр, пришедший в европейскую литературу из античной поэ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бедно-патриотиче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хва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философ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ухов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анакреонт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вая ода Ломоносова – «Ода на взятие Хотин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5" descr="хотинj"/>
          <p:cNvPicPr/>
          <p:nvPr/>
        </p:nvPicPr>
        <p:blipFill>
          <a:blip r:embed="rId1"/>
          <a:stretch/>
        </p:blipFill>
        <p:spPr>
          <a:xfrm>
            <a:off x="1692360" y="1708200"/>
            <a:ext cx="58420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01"/>
                </a:solidFill>
                <a:latin typeface="Tahoma"/>
              </a:rPr>
              <a:t>В оде Ломоносова выделяется три основные части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уп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ение военных действ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ление побе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18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ff"/>
                </a:solidFill>
                <a:latin typeface="Tahoma"/>
              </a:rPr>
              <a:t>О подвиге безымянного героя Ломоносов пишет с восхищением: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Крепит отечества любов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ынов российских дух и руку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Желает всяк пролить всю кровь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От грозного бодрится звуку…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е Иоаннов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у Антонович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лизавете Петровн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у II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е 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255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vgjpg"/>
          <p:cNvPicPr/>
          <p:nvPr/>
        </p:nvPicPr>
        <p:blipFill>
          <a:blip r:embed="rId1"/>
          <a:stretch/>
        </p:blipFill>
        <p:spPr>
          <a:xfrm>
            <a:off x="4932360" y="1052640"/>
            <a:ext cx="357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ды Ломоносова отражают многие события того време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11" descr="война1jpg"/>
          <p:cNvPicPr/>
          <p:nvPr/>
        </p:nvPicPr>
        <p:blipFill>
          <a:blip r:embed="rId1"/>
          <a:stretch/>
        </p:blipFill>
        <p:spPr>
          <a:xfrm>
            <a:off x="468360" y="1557360"/>
            <a:ext cx="395748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война2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6" descr="наука"/>
          <p:cNvPicPr/>
          <p:nvPr/>
        </p:nvPicPr>
        <p:blipFill>
          <a:blip r:embed="rId1"/>
          <a:stretch/>
        </p:blipFill>
        <p:spPr>
          <a:xfrm>
            <a:off x="2484360" y="2637000"/>
            <a:ext cx="37591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4:42Z</dcterms:created>
  <dc:creator>BenQ CUSTOMER</dc:creator>
  <dc:description/>
  <dc:language>en-US</dc:language>
  <cp:lastModifiedBy>LEGION</cp:lastModifiedBy>
  <dcterms:modified xsi:type="dcterms:W3CDTF">2015-01-20T10:11:09Z</dcterms:modified>
  <cp:revision>5</cp:revision>
  <dc:subject/>
  <dc:title>Оды Михаила Васильевича Ломоносова</dc:title>
</cp:coreProperties>
</file>