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9F85-78CE-4960-9BA5-DA0CA486B2F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Calibri"/>
              </a:rPr>
              <a:t>Оды Михаила Васильевича Ломонос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1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5253-33E3-41CD-B742-0F6B56F5EC5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Calibri"/>
              </a:rPr>
              <a:t>Ода 1750 г. посвящена точным наук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йдите землю и пучин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степи, и глубокий лес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нутр Рифейский, и вершин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саму высоту небе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Везде исследуйте всечасн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то есть велико и прекрасн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его еще не видел свет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3C4F-E411-4055-80F3-313C034F78A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ое количество од Ломоносов посвятил Елизавете Петровн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Какую радость ощущаю?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я ныне восхищен?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есну пищу я вкушаю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ерьх Олимпа вознесен!»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A8CE-7045-48C5-B93C-D969263EC6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1"/>
                </a:solidFill>
                <a:latin typeface="Calibri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огда божественны науки  чрез горы, реки и моря  в Россию простирали руки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ли я ныне позабылась  и с одного пути склонилась,  которым прежде я текла?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854A-ABC5-4B1B-8E71-26C45901901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5B2F-2C09-4E37-B4EA-FE1812373EA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 духовных од лаконичен и лишен всякого рода "украшений"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D417-722F-4278-9764-F40000B57A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икто не уповай вовеки на тщетну     власть князей земных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3D6A-1E19-4461-AEAE-1CAC63F87C5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C1F1-D0C3-47BD-BB74-561820E3093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1"/>
                </a:solidFill>
                <a:latin typeface="Calibri"/>
              </a:rPr>
              <a:t>О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лирический жанр, пришедший в европейскую литературу из античной поэ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бедно-патриот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хваль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лософ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ухов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накреонтическ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2A7F-9E19-4088-A03E-DAF16928AA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ая ода Ломоносова – «Ода на взятие Хот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DF58-199D-4151-9769-9C4A7E3A8B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ffff01"/>
                </a:solidFill>
                <a:latin typeface="Calibri"/>
              </a:rPr>
              <a:t>В оде Ломоносова выделяется три основные части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воен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авление побе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8C7F-34A8-4D18-A1F3-1694F0AF29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Calibri"/>
              </a:rPr>
              <a:t>О подвиге безымянного героя Ломоносов пишет с восхищением: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Крепит отечества любов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ынов российских дух и руку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Желает всяк пролить всю кров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От грозного бодрится звуку…»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1673-915C-4C9D-A92E-92131245335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е Иоаннов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анну Антонович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е Петров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у III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е 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7493-9789-4F53-8D54-EF5E7DD1675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9ABC-5DBA-4614-BA9E-E1FA2824B3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ы Ломоносова отражают многие события тог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46DE-42FE-4D88-BE53-578331A0F5A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2DA3-953D-482B-8183-3817400ABB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23880-59A1-4DDC-881A-254822CB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D5ACF-BEBE-4E30-AA05-61C092F0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0014-6313-4864-A358-9536EC40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7EA7E-7685-4B7A-960C-F6CF083C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6A58-1BD4-4667-98E2-75248955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1133-0562-4231-AA16-C17B981B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E351-0E8A-47A9-A420-47DE73DE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3EF0-1942-44FE-A038-5737CFF6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2483-53B7-45D0-AE5F-584281C0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6834-ED2E-4B13-B43E-E38A527B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36A8-797A-4E05-A731-EE645663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157F5-FBC8-411C-9972-2C2B6A01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B7E0-06A0-4D39-8FCB-EB688763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1D23-DC6A-40B3-9076-F0959314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A7DA-B000-4516-B5E1-B8AD46DD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3722-8B0D-4458-8B73-C6D34751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F4E1-DAC2-4894-83C5-F67D7DED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8B6B8-83D4-4598-A80F-2EEE4263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25626-A5AA-445D-8DD7-33C73614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87F7-5973-41FD-ACD7-66F5F0F7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2B2EA-6561-42C0-9B0D-FBD3C058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9F09-EFE3-45A4-9504-101C259C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48024-0A3D-4CCB-9CCD-7DE7ECA1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72C5A-0001-4125-A0A5-9A7E1E26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79C6-9506-4B13-8DCD-A9158FBC2CB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CA7A-0668-4DBC-895A-5D8F12442A2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61272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Tahoma"/>
              </a:rPr>
              <a:t>Оды Михаила Васильевича Ломоносов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383220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1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9" descr="ломоносов"/>
          <p:cNvPicPr/>
          <p:nvPr/>
        </p:nvPicPr>
        <p:blipFill>
          <a:blip r:embed="rId1"/>
          <a:stretch/>
        </p:blipFill>
        <p:spPr>
          <a:xfrm>
            <a:off x="2916360" y="2387520"/>
            <a:ext cx="3173400" cy="4084560"/>
          </a:xfrm>
          <a:prstGeom prst="rect">
            <a:avLst/>
          </a:prstGeom>
          <a:ln w="0">
            <a:noFill/>
          </a:ln>
        </p:spPr>
      </p:pic>
      <p:sp>
        <p:nvSpPr>
          <p:cNvPr id="136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ff33"/>
                </a:solidFill>
                <a:latin typeface="Tahoma"/>
              </a:rPr>
              <a:t>Ода 1750 г. посвящена точным наукам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ройдите землю и пуч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тепи, и глубокий лес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нутр Рифейский, и верш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аму высоту небес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Везде исследуйте всеч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то есть велико и прекр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его еще не видел свет…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Большое количество од Ломоносов посвятил Елизавете Петровне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…Какую радость ощущаю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да я ныне восхищен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есну пищу я вкушаю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верьх Олимпа вознесен!»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9" descr="петровна"/>
          <p:cNvPicPr/>
          <p:nvPr/>
        </p:nvPicPr>
        <p:blipFill>
          <a:blip r:embed="rId1"/>
          <a:stretch/>
        </p:blipFill>
        <p:spPr>
          <a:xfrm>
            <a:off x="4932360" y="1700280"/>
            <a:ext cx="36496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01"/>
                </a:solidFill>
                <a:latin typeface="Tahoma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Тогда божественны науки  чрез горы, реки и моря  в Россию простирали руки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Или я ныне позабылась  и с одного пути склонилась,  которым прежде я текла?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Picture 9" descr="тре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16000" y="1700280"/>
            <a:ext cx="2336760" cy="2549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сум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1700280"/>
            <a:ext cx="231480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дерjpg"/>
          <p:cNvPicPr/>
          <p:nvPr/>
        </p:nvPicPr>
        <p:blipFill>
          <a:blip r:embed="rId3"/>
          <a:stretch/>
        </p:blipFill>
        <p:spPr>
          <a:xfrm>
            <a:off x="1835280" y="3860640"/>
            <a:ext cx="2079360" cy="2621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херасковjpg"/>
          <p:cNvPicPr/>
          <p:nvPr/>
        </p:nvPicPr>
        <p:blipFill>
          <a:blip r:embed="rId4"/>
          <a:stretch/>
        </p:blipFill>
        <p:spPr>
          <a:xfrm>
            <a:off x="4716360" y="3860640"/>
            <a:ext cx="22305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зык духовных од лаконичен и лишен всякого рода "украшений"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Никто не уповай вовеки на тщетну     власть князей земных"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989840" cy="28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ff"/>
                </a:solidFill>
                <a:latin typeface="Tahoma"/>
              </a:rPr>
              <a:t>Спасибо за внимание!!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1"/>
                </a:solidFill>
                <a:latin typeface="Tahoma"/>
              </a:rPr>
              <a:t>Од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лирический жанр, пришедший в европейскую литературу из античной поэ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ccff"/>
                </a:solidFill>
                <a:latin typeface="Tahoma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бедно-патриотиче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хваль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философ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духовн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анакреонтическ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Первая ода Ломоносова – «Ода на взятие Хотина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5" descr="хотинj"/>
          <p:cNvPicPr/>
          <p:nvPr/>
        </p:nvPicPr>
        <p:blipFill>
          <a:blip r:embed="rId1"/>
          <a:stretch/>
        </p:blipFill>
        <p:spPr>
          <a:xfrm>
            <a:off x="1692360" y="1708200"/>
            <a:ext cx="584208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01"/>
                </a:solidFill>
                <a:latin typeface="Tahoma"/>
              </a:rPr>
              <a:t>В оде Ломоносова выделяется три основные части: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тупл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бражение военных действ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славление победител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2184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cff"/>
                </a:solidFill>
                <a:latin typeface="Tahoma"/>
              </a:rPr>
              <a:t>О подвиге безымянного героя Ломоносов пишет с восхищением: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…Крепит отечества любовь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ынов российских дух и руку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Желает всяк пролить всю кровь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От грозного бодрится звуку…»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не Иоанновн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оанну Антоновичу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лизавете Петровн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ру III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атерине I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25592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9" descr="vgjpg"/>
          <p:cNvPicPr/>
          <p:nvPr/>
        </p:nvPicPr>
        <p:blipFill>
          <a:blip r:embed="rId1"/>
          <a:stretch/>
        </p:blipFill>
        <p:spPr>
          <a:xfrm>
            <a:off x="4932360" y="1052640"/>
            <a:ext cx="3573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Оды Ломоносова отражают многие события того времен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11" descr="война1jpg"/>
          <p:cNvPicPr/>
          <p:nvPr/>
        </p:nvPicPr>
        <p:blipFill>
          <a:blip r:embed="rId1"/>
          <a:stretch/>
        </p:blipFill>
        <p:spPr>
          <a:xfrm>
            <a:off x="468360" y="1557360"/>
            <a:ext cx="3957480" cy="453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война2"/>
          <p:cNvPicPr/>
          <p:nvPr/>
        </p:nvPicPr>
        <p:blipFill>
          <a:blip r:embed="rId2"/>
          <a:stretch/>
        </p:blipFill>
        <p:spPr>
          <a:xfrm>
            <a:off x="4643280" y="1557360"/>
            <a:ext cx="4038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6" descr="наука"/>
          <p:cNvPicPr/>
          <p:nvPr/>
        </p:nvPicPr>
        <p:blipFill>
          <a:blip r:embed="rId1"/>
          <a:stretch/>
        </p:blipFill>
        <p:spPr>
          <a:xfrm>
            <a:off x="2484360" y="2637000"/>
            <a:ext cx="37591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7:14:42Z</dcterms:created>
  <dc:creator>BenQ CUSTOMER</dc:creator>
  <dc:description/>
  <dc:language>en-US</dc:language>
  <cp:lastModifiedBy>LEGION</cp:lastModifiedBy>
  <dcterms:modified xsi:type="dcterms:W3CDTF">2015-01-20T10:11:09Z</dcterms:modified>
  <cp:revision>5</cp:revision>
  <dc:subject/>
  <dc:title>Оды Михаила Васильевича Ломоносова</dc:title>
</cp:coreProperties>
</file>