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2DC7-B7BC-46F6-8EF9-93FAD8A9ED6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Calibri"/>
              </a:rPr>
              <a:t>Оды Михаила Васильевича Ломонос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2385-0DDA-4CD0-AE63-F53329D25DE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ff33"/>
                </a:solidFill>
                <a:latin typeface="Calibri"/>
              </a:rPr>
              <a:t>Ода 1750 г. посвящена точным наука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йдите землю и пуч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тепи, и глубокий лес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нутр Рифейский, и вершину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саму высоту небес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Везде исследуйте всеч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то есть велико и прекрасно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Чего еще не видел свет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9361-C192-41C0-B461-136FFD10FC0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ое количество од Ломоносов посвятил Елизавете Петровн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акую радость ощущаю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да я ныне восхищен?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бесну пищу я вкушаю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ерьх Олимпа вознесен!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13B9-58DA-4FB8-9909-6482F2CF1F3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1"/>
                </a:solidFill>
                <a:latin typeface="Calibri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гда божественны науки  чрез горы, реки и моря  в Россию простирали руки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ли я ныне позабылась  и с одного пути склонилась,  которым прежде я текла?»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360A-C79A-4494-8A47-E23F8059771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FDF5-CCD3-414E-B639-62DD83634D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 духовных од лаконичен и лишен всякого рода "украшений"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7EB9-09A1-4F6A-B492-4707EAEF9B4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Никто не уповай вовеки на тщетну     власть князей зем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24ED-35F4-4574-BEF6-754F8C80104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9026-8B36-46FE-AE15-A460AF3F758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01"/>
                </a:solidFill>
                <a:latin typeface="Calibri"/>
              </a:rPr>
              <a:t>Од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лирический жанр, пришедший в европейскую литературу из античной поэ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fccff"/>
                </a:solidFill>
                <a:latin typeface="Calibri"/>
              </a:rPr>
              <a:t>Ви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бедно-патриот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хваль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илософ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ухов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накреонтическа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48C4-B5A5-486D-910C-0E5BC8ECCC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ая ода Ломоносова – «Ода на взятие Хотин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6DD4-5F10-454C-AF0F-04A996320A9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ffff01"/>
                </a:solidFill>
                <a:latin typeface="Calibri"/>
              </a:rPr>
              <a:t>В оде Ломоносова выделяется три основные части: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военных действ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лавление побе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1C5E-BDC6-4CA3-97D1-05F161D376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Calibri"/>
              </a:rPr>
              <a:t>О подвиге безымянного героя Ломоносов пишет с восхищением: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…Крепит отечества любовь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ынов российских дух и руку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Желает всяк пролить всю кровь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От грозного бодрится звуку…»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C28A8-49A6-4B66-BCFB-8B595C3478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е Иоаннов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оанну Антонович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лизавете Петровн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тру III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катерине II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BCAE-0CB9-4F98-9106-B3247F2E70A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C6AF-7D52-4747-AE34-46C424ED7A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ы Ломоносова отражают многие события тог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B823-A493-4CCC-91D4-82137DC51B7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F82-83B0-4A1A-98C5-B6351FD13E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5C5D5-2C1C-4C36-8E15-C188303A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F93A1-4566-4C0B-A5CD-1B788619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535F9-8744-4526-B621-C0A91106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F7509-08FE-48DA-90D0-6C812023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2CD7-A8D1-436E-B989-2CE3B071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D72FE-F728-433C-9F2C-B590C4C1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FFFD-ADA6-446F-9C1A-5D69EE10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D66E-32E0-4F43-A2CC-A4C8E303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9AD1-1A16-4C71-8A62-0C2E83DD1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BA06-1942-4F92-B94D-ACE92015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0BEDA-8E12-44AA-B23B-D1F0691C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0B86-6104-4049-B68F-A3F40F125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FC2E1-4881-4B5B-B907-62AA78E2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EFF6-E7D4-4825-B53E-ACD2904B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37E3-1F86-43D4-A3AA-55200527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EAFC-390B-4C8F-9DBC-1CDAE8C8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EB5C-A354-44A4-855B-560BCBFD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70934-77E0-4226-BFE3-2C32DEA9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91F68-28D9-4225-A3FF-75D1B44E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BB96-EA23-484F-B069-B0DF7F6A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BF000-63BE-4442-8A02-2B200BCB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1C7FA-81FD-418C-8E21-F5160E3B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3ACA4-A259-4DDF-9889-5CEC9E50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DBA9-57A8-42BF-A7FA-D429B71A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F76-ED97-4406-9A87-0E23D4D0D8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E5A2-F05C-4260-A79A-33FD6FA6A226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612720"/>
            <a:ext cx="8229600" cy="1123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ffff"/>
                </a:solidFill>
                <a:latin typeface="Tahoma"/>
              </a:rPr>
              <a:t>Оды Михаила Васильевича Ломоносова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832200"/>
            <a:ext cx="64008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1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Picture 9" descr="ломоносов"/>
          <p:cNvPicPr/>
          <p:nvPr/>
        </p:nvPicPr>
        <p:blipFill>
          <a:blip r:embed="rId1"/>
          <a:stretch/>
        </p:blipFill>
        <p:spPr>
          <a:xfrm>
            <a:off x="2916360" y="2387520"/>
            <a:ext cx="3173400" cy="4084560"/>
          </a:xfrm>
          <a:prstGeom prst="rect">
            <a:avLst/>
          </a:prstGeom>
          <a:ln w="0">
            <a:noFill/>
          </a:ln>
        </p:spPr>
      </p:pic>
      <p:sp>
        <p:nvSpPr>
          <p:cNvPr id="136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66ff33"/>
                </a:solidFill>
                <a:latin typeface="Tahoma"/>
              </a:rPr>
              <a:t>Ода 1750 г. посвящена точным наукам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Пройдите землю и пуч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тепи, и глубокий лес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нутр Рифейский, и вершину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И саму высоту небес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Везде исследуйте всеч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то есть велико и прекрасно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Чего еще не видел свет…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ольшое количество од Ломоносов посвятил Елизавете Петровне: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93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…Какую радость ощущаю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уда я ныне восхищен?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есну пищу я вкушаю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верьх Олимпа вознесен!»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9" descr="петровна"/>
          <p:cNvPicPr/>
          <p:nvPr/>
        </p:nvPicPr>
        <p:blipFill>
          <a:blip r:embed="rId1"/>
          <a:stretch/>
        </p:blipFill>
        <p:spPr>
          <a:xfrm>
            <a:off x="4932360" y="1700280"/>
            <a:ext cx="364968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01"/>
                </a:solidFill>
                <a:latin typeface="Tahoma"/>
              </a:rPr>
              <a:t>Важное место отводит поэт так называемым украшениям: олицетворениям, метафорам, аллегориям и гиперболам: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Тогда божественны науки  чрез горы, реки и моря  в Россию простирали руки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Или я ныне позабылась  и с одного пути склонилась,  которым прежде я текла?»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В полях кровавых Марс страшился, свой меч в Петровых зря руках,  и с трепетом Нептун чудился,  взирая на российский флаг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 XVIII в. кроме Ломоносова духовные оды писали Тредиаковский, Сумароков,Державин, Херасков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63" name="Picture 9" descr="тре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116000" y="1700280"/>
            <a:ext cx="2336760" cy="254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сумjpg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643280" y="1700280"/>
            <a:ext cx="2314800" cy="244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дерjpg"/>
          <p:cNvPicPr/>
          <p:nvPr/>
        </p:nvPicPr>
        <p:blipFill>
          <a:blip r:embed="rId3"/>
          <a:stretch/>
        </p:blipFill>
        <p:spPr>
          <a:xfrm>
            <a:off x="1835280" y="3860640"/>
            <a:ext cx="2079360" cy="2621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2" descr="херасковjpg"/>
          <p:cNvPicPr/>
          <p:nvPr/>
        </p:nvPicPr>
        <p:blipFill>
          <a:blip r:embed="rId4"/>
          <a:stretch/>
        </p:blipFill>
        <p:spPr>
          <a:xfrm>
            <a:off x="4716360" y="3860640"/>
            <a:ext cx="223056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духовных одах  Ломоносова отчетливо прослеживаются две темы: восхищение гармонией, красотой мироздания и гневное обличение гонителей, недоброжелателей поэта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зык духовных од лаконичен и лишен всякого рода "украшений".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которые из духовных од Ломоносова стали «кантами».Особенно был известен 145-й псалом, начинавшийся словами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"Никто не уповай вовеки на тщетну     власть князей земных"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989840" cy="28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cff"/>
                </a:solidFill>
                <a:latin typeface="Tahoma"/>
              </a:rPr>
              <a:t>Спасибо за внимание!!!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1"/>
                </a:solidFill>
                <a:latin typeface="Tahoma"/>
              </a:rPr>
              <a:t>Ода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– лирический жанр, пришедший в европейскую литературу из античной поэз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ccff"/>
                </a:solidFill>
                <a:latin typeface="Tahoma"/>
              </a:rPr>
              <a:t>Виды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бедно-патриотиче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похвальная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философск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духовна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анакреонтическа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Первая ода Ломоносова – «Ода на взятие Хотина»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0" name="Picture 5" descr="хотинj"/>
          <p:cNvPicPr/>
          <p:nvPr/>
        </p:nvPicPr>
        <p:blipFill>
          <a:blip r:embed="rId1"/>
          <a:stretch/>
        </p:blipFill>
        <p:spPr>
          <a:xfrm>
            <a:off x="1692360" y="1708200"/>
            <a:ext cx="584208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600" spc="-1" strike="noStrike">
                <a:solidFill>
                  <a:srgbClr val="ffff01"/>
                </a:solidFill>
                <a:latin typeface="Tahoma"/>
              </a:rPr>
              <a:t>В оде Ломоносова выделяется три основные части: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ступлени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ображение военных действ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славление победител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77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9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1267920"/>
            <a:ext cx="821844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ccff"/>
                </a:solidFill>
                <a:latin typeface="Tahoma"/>
              </a:rPr>
              <a:t>О подвиге безымянного героя Ломоносов пишет с восхищением: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…Крепит отечества любовь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ынов российских дух и руку: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Желает всяк пролить всю кровь,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От грозного бодрится звуку…»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9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ebf25a"/>
                </a:solidFill>
                <a:latin typeface="Tahoma"/>
              </a:rPr>
              <a:t>Большая часть од Ломоносова была написана по случаю дней восшествия на престол монархов: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не Иоанновн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оанну Антоновичу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лизавете Петровн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тру III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катерине II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4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255920" cy="54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ставниками и помощниками царей должны быть не льстивые царедворцы, а люди, бескорыстно служащие истине, - ученые и писател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9" descr="vgjpg"/>
          <p:cNvPicPr/>
          <p:nvPr/>
        </p:nvPicPr>
        <p:blipFill>
          <a:blip r:embed="rId1"/>
          <a:stretch/>
        </p:blipFill>
        <p:spPr>
          <a:xfrm>
            <a:off x="4932360" y="1052640"/>
            <a:ext cx="357336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Оды Ломоносова отражают многие события того времен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Picture 11" descr="война1jpg"/>
          <p:cNvPicPr/>
          <p:nvPr/>
        </p:nvPicPr>
        <p:blipFill>
          <a:blip r:embed="rId1"/>
          <a:stretch/>
        </p:blipFill>
        <p:spPr>
          <a:xfrm>
            <a:off x="468360" y="1557360"/>
            <a:ext cx="3957480" cy="4530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2" descr="война2"/>
          <p:cNvPicPr/>
          <p:nvPr/>
        </p:nvPicPr>
        <p:blipFill>
          <a:blip r:embed="rId2"/>
          <a:stretch/>
        </p:blipFill>
        <p:spPr>
          <a:xfrm>
            <a:off x="4643280" y="1557360"/>
            <a:ext cx="4038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141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вной задачей Ломоносов считал распространение наук, которые помогут овладеть природным богатством Росси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4" name="Picture 6" descr="наука"/>
          <p:cNvPicPr/>
          <p:nvPr/>
        </p:nvPicPr>
        <p:blipFill>
          <a:blip r:embed="rId1"/>
          <a:stretch/>
        </p:blipFill>
        <p:spPr>
          <a:xfrm>
            <a:off x="2484360" y="2637000"/>
            <a:ext cx="37591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7:14:42Z</dcterms:created>
  <dc:creator>BenQ CUSTOMER</dc:creator>
  <dc:description/>
  <dc:language>en-US</dc:language>
  <cp:lastModifiedBy>LEGION</cp:lastModifiedBy>
  <dcterms:modified xsi:type="dcterms:W3CDTF">2015-01-20T10:11:09Z</dcterms:modified>
  <cp:revision>5</cp:revision>
  <dc:subject/>
  <dc:title>Оды Михаила Васильевича Ломоносова</dc:title>
</cp:coreProperties>
</file>