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49B-F5A8-4C06-828C-65E89A7B7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48F8-2C6A-44E8-BAF8-9AAFCE3CFF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561B-6261-43CF-B3DC-C07890630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1F63-F112-4AEF-AE84-F76E09FDE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5BE6-FA9A-4D52-BA8E-1DA744F25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7216-5842-4AAF-B854-19FB49503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AF81-E9CC-4011-B19A-4D8A4B66A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BB9B-72BD-466F-BB86-45C9E5633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7073-2213-46A6-ABDB-01074AFDD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A83-A7C5-4E4C-808D-EE5C5746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29B-4B08-4569-9E47-25FD45CB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C5F-6BAA-4781-B2CF-2EE0C277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49D-D4C9-494B-AAD6-1922C559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670-BAED-4EF4-85FD-E66F8415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473-0AB3-4187-BCE3-42A4C066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829-2147-4DB9-858E-D4583D34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7D1-600E-4889-9439-05755768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DAD-6C82-4631-92FF-F2704A12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BB9-48C1-4CE7-99C8-6311569B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390-1AF1-45CA-AEE6-BD44409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565-21E0-49CD-8BE9-192140AA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9AC9-A0EE-4F45-93CD-5595572BF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b9e_f9b4b9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48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356000" y="952560"/>
            <a:ext cx="463068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9280" y="4437000"/>
            <a:ext cx="38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Выполнила: ученица 8 класс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редней школы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Г. Ку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отник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0800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9280" y="3500280"/>
            <a:ext cx="8713800" cy="31687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00720" y="115920"/>
            <a:ext cx="253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21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"/>
          <p:cNvPicPr/>
          <p:nvPr/>
        </p:nvPicPr>
        <p:blipFill>
          <a:blip r:embed="rId2"/>
          <a:stretch/>
        </p:blipFill>
        <p:spPr>
          <a:xfrm>
            <a:off x="6419880" y="0"/>
            <a:ext cx="2549520" cy="321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0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88000" y="3213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леонора Петер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9145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_62248_2bd0ee89_XL"/>
          <p:cNvPicPr/>
          <p:nvPr/>
        </p:nvPicPr>
        <p:blipFill>
          <a:blip r:embed="rId2"/>
          <a:stretch/>
        </p:blipFill>
        <p:spPr>
          <a:xfrm>
            <a:off x="6443640" y="189000"/>
            <a:ext cx="2557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55164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рнестина Дё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08000" y="188640"/>
            <a:ext cx="925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4"/>
          <p:cNvPicPr/>
          <p:nvPr/>
        </p:nvPicPr>
        <p:blipFill>
          <a:blip r:embed="rId2"/>
          <a:stretch/>
        </p:blipFill>
        <p:spPr>
          <a:xfrm>
            <a:off x="6964200" y="0"/>
            <a:ext cx="2179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470-6-b"/>
          <p:cNvPicPr/>
          <p:nvPr/>
        </p:nvPicPr>
        <p:blipFill>
          <a:blip r:embed="rId3"/>
          <a:stretch/>
        </p:blipFill>
        <p:spPr>
          <a:xfrm>
            <a:off x="6851520" y="4149720"/>
            <a:ext cx="2292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879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925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627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askerville Old Face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307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5:39Z</dcterms:created>
  <dc:creator>1</dc:creator>
  <dc:description/>
  <dc:language>en-US</dc:language>
  <cp:lastModifiedBy>LEGION</cp:lastModifiedBy>
  <dcterms:modified xsi:type="dcterms:W3CDTF">2015-01-20T08:16:53Z</dcterms:modified>
  <cp:revision>4</cp:revision>
  <dc:subject/>
  <dc:title>Слайд 1</dc:title>
</cp:coreProperties>
</file>