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BFDE-779F-49B0-BBE5-65C67ABF9F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изнь и творче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Baskerville Old Face"/>
              </a:rPr>
              <a:t>Фёдора   Иванович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5300-67E8-4E07-8E72-214D64F18C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Би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Фёд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Тютчев Иванович (1803 — 1873) — известный поэт, один из самых выдающихся представителей философской и политической лир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Родился 23 ноября ( 5 декабря н.с.)  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усадьбе  Овстуг Орловской губернии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тародворянской      среднепомест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емье. Детские годы прошли в Овстуг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юношеские — связаны с Москв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326C-8357-43B2-AB5F-013B4172D3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Домашним образованием руководи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молодой   поэт-переводчик    С. Раич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знакомивший ученика с творе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этов  и  поощрявший  его  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тихотворные опыты. В 12 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Тютчев уже успешно переводил Го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19 поступил на словесное отделение Московского университета и сразу принял живое участие в его литературной жизни. Окончив университет в 1821 со степенью кандидата словесных наук, в начале 1822 Тютчев поступил на службу в Государственную коллегию иностранных дел. Через несколько месяцев был назначен чиновником при Русской дипломатической миссии в Мюнхене. С этого времени его связь с русской литературной жизнью надолго прерыв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46BD-9CFD-4DBD-919F-455A1C6D2C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 чужбине Тютчев провел двадцать д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года, из них двадцать — в Мюнхене. Здесь о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енился,  здесь  познакомился  с философ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Шеллингом  и  подружился  с Г. Гейне, 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ервым переводчиком его стихов на рус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29 — 1830 в журнале Раича "Галатея" были опубликованы стихотворения Тютчева, свидетельствовавшие о зрелости его поэтического таланта ("Летний вечер", "Видение", "Бессонница", "Сны"), но не принесшие известности авт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стоящее признание поэзия Тютчева впервые получила в 1836, когда в пушкинском "Современнике" появились его 16 стихотвор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9638-C180-4D5E-B831-56825670BC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37 Тютчев был назначен перв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екретарем Русской миссии в Турине, гд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ережил первую тяжелую утрату: умер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ена.  В  1839  он  вступил  в новый бра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лужебный проступок Тютчева (отъезд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Швейцарию для венчания с Э. Дернберг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ложил конец его дипломатической служб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дал в отставку и поселился в Мюнхене, где провел еще пять лет, не имея никакого официального положения. Настойчиво искал пути возвращения на служ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44 переехал с семьей в Россию, а через полгода вновь был принят на службу в Министерство иностранных д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5770-7AD7-4184-8963-7BF7B97CD5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1843 — 1850 выступил с политическими статьями "Россия и Германия", "Россия и Революция", "Папство и римский вопрос", делая вывод о неизбежности столкновения между Россией и Западом и конечного торжества "России будущего", которая представлялась ему "всеславянской" импе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48 — 1849, захваченный событиями политической жизни, он создал такие прекрасные стихотворения, как "Неохотно и несмело...", "Когда в кругу убийственных забот...", "Русской женщине" и др., но не стремился напечатать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чалом поэтической известности Тютчева и толчком к его активному творчеству стала статья Некрасова "Русские второстепенные поэты" в журнале "Современник", в которой говорилось о таланте этого поэта, не замеченного критикой, и публикация 24 стихотворений Тютчева. К поэту пришло настоящее призн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0D4A-0389-439A-8703-6E7EF12053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54 вышел первый сборник стихотвор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этом же году был напечатан цикл стихов 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любви,    посвященных    Елене    Денисьев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"Беззаконные"   в   глазах   света  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емолодого  поэта  с  ровесницей  его  дочер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родолжались в течение четырнадцати лет и были очень драматичны (Тютчев был жена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58 он был назначен председателем Комитета иностранной цензуры, не раз выступая заступником преследуемых изд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 1864 Тютчев несет одну потерю за друго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умирает от чахотки Денисьева, через год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двое их детей, его м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FD5D-38C2-4B26-BEFC-6702A89906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творчестве Тютчева 1860? преобладают политические стихотворения и мелкие. — "на случаи" ("Когда дряхлеющие силы...", 1866, "Славянам", 1867,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следние годы жизни  тоже омрачены тяжелыми утратами: умирают его старший сын, брат, дочь Мария. Жизнь поэта угасает. 15 июля (27 н.с.) 1873 в Царском Селе Тютчев скончал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4BAC-C248-4701-B7BE-B7F3C4557C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90F-0731-4453-A745-71849B8F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039-B419-4E83-8908-82358520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5159-FEB3-40C8-8577-4049BAB3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32D-76C1-435A-8F75-6C8D437F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5CA-1F15-4B29-B816-95207CC8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A41-1FDB-4ECD-BCB0-7EE747DD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622-3CCE-45F5-9FF7-8FC84B04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AC26-0F31-4240-8B55-C3E38095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6000-4306-4533-BDF4-EBC00EBF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75E-3901-4188-AE54-D8F52EA5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F18-101B-455F-AB36-E16E60AB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B85-7EB9-4AAC-9EFA-80930231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EFAD-D58C-4139-9CF1-3045226372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0_9b9e_f9b4b96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6481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askerville Old Face"/>
              </a:rPr>
              <a:t>Жизнь и творчество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4356000" y="952560"/>
            <a:ext cx="4630680" cy="5905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8920" y="1267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Фёдора   Иванови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971640" y="1989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Тютч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79280" y="4437000"/>
            <a:ext cx="3816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Выполнила: ученица 8 класса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Средней школы №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Г. Ку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Сотников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3857760" y="6357960"/>
            <a:ext cx="2286000" cy="500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Биограф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108000" y="112500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Фёд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Тютчев Иванович (1803 — 1873) — известный поэт, один из самых выдающихся представителей философской и политической ли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Родился 23 ноября ( 5 декабря н.с.)  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усадьбе  Овстуг Орловской губерни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тародворянской      среднепомес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емье. Детские годы прошли в Овстуг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юношеские — связаны с Моск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5796000" y="2133720"/>
            <a:ext cx="3200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179280" y="3500280"/>
            <a:ext cx="8713800" cy="316872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18108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Домашним образованием руково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молодой   поэт-переводчик    С. Раич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знакомивший ученика с твор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этов  и  поощрявший  его  пер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тихотворные опыты. В 12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Тютчев уже успешно переводил Гор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19 поступил на словесное отделение Московского университета и сразу принял живое участие в его литературной жизни. Окончив университет в 1821 со степенью кандидата словесных наук, в начале 1822 Тютчев поступил на службу в Государственную коллегию иностранных дел. Через несколько месяцев был назначен чиновником при Русской дипломатической миссии в Мюнхене. С этого времени его связь с русской литературной жизнью надолго прер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6300720" y="115920"/>
            <a:ext cx="2538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181440" y="-360"/>
            <a:ext cx="9217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 чужбине Тютчев провел двадцать д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года, из них двадцать — в Мюнхене. Здесь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женился,  здесь  познакомился  с философ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Шеллингом  и  подружился  с Г. Гейне, 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ервым переводчиком его стихов на рус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29 — 1830 в журнале Раича "Галатея" были опубликованы стихотворения Тютчева, свидетельствовавшие о зрелости его поэтического таланта ("Летний вечер", "Видение", "Бессонница", "Сны"), но не принесшие известности авт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стоящее признание поэзия Тютчева впервые получила в 1836, когда в пушкинском "Современнике" появились его 16 стихотво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i"/>
          <p:cNvPicPr/>
          <p:nvPr/>
        </p:nvPicPr>
        <p:blipFill>
          <a:blip r:embed="rId2"/>
          <a:stretch/>
        </p:blipFill>
        <p:spPr>
          <a:xfrm>
            <a:off x="6419880" y="0"/>
            <a:ext cx="2549520" cy="321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6804000" y="3213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588000" y="32130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askerville Old Face"/>
              </a:rPr>
              <a:t>Элеонора Петерс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181440" y="188640"/>
            <a:ext cx="9145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37 Тютчев был назначен перв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екретарем Русской миссии в Турине, 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ережил первую тяжелую утрату: умер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жена.  В  1839  он  вступил  в новый бр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лужебный проступок Тютчева (отъезд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Швейцарию для венчания с Э. Дернберг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ложил конец его дипломатической служ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дал в отставку и поселился в Мюнхене, где провел еще пять лет, не имея никакого официального положения. Настойчиво искал пути возвращения на служ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44 переехал с семьей в Россию, а через полгода вновь был принят на службу в Министерство иностранных д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0_62248_2bd0ee89_XL"/>
          <p:cNvPicPr/>
          <p:nvPr/>
        </p:nvPicPr>
        <p:blipFill>
          <a:blip r:embed="rId2"/>
          <a:stretch/>
        </p:blipFill>
        <p:spPr>
          <a:xfrm>
            <a:off x="6443640" y="189000"/>
            <a:ext cx="2557440" cy="309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6551640" y="3357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askerville Old Face"/>
              </a:rPr>
              <a:t>Эрнестина Дёр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932508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1843 — 1850 выступил с политическими статьями "Россия и Германия", "Россия и Революция", "Папство и римский вопрос", делая вывод о неизбежности столкновения между Россией и Западом и конечного торжества "России будущего", которая представлялась ему "всеславянской" импе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48 — 1849, захваченный событиями политической жизни, он создал такие прекрасные стихотворения, как "Неохотно и несмело...", "Когда в кругу убийственных забот...", "Русской женщине" и др., но не стремился напечата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чалом поэтической известности Тютчева и толчком к его активному творчеству стала статья Некрасова "Русские второстепенные поэты" в журнале "Современник", в которой говорилось о таланте этого поэта, не замеченного критикой, и публикация 24 стихотворений Тютчева. К поэту пришло настоящее приз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108000" y="188640"/>
            <a:ext cx="925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54 вышел первый сборник стихотвор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этом же году был напечатан цикл стихов 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любви,    посвященных    Елене    Денисье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"Беззаконные"   в   глазах   света  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емолодого  поэта  с  ровесницей  его  доч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родолжались в течение четырнадцати лет и были очень драматичны (Тютчев был жена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58 он был назначен председателем Комитета иностранной цензуры, не раз выступая заступником преследуемых из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 1864 Тютчев несет одну потерю за друг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умирает от чахотки Денисьева, через год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двое их детей, его 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mg4"/>
          <p:cNvPicPr/>
          <p:nvPr/>
        </p:nvPicPr>
        <p:blipFill>
          <a:blip r:embed="rId2"/>
          <a:stretch/>
        </p:blipFill>
        <p:spPr>
          <a:xfrm>
            <a:off x="6964200" y="0"/>
            <a:ext cx="2179800" cy="2565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1470-6-b"/>
          <p:cNvPicPr/>
          <p:nvPr/>
        </p:nvPicPr>
        <p:blipFill>
          <a:blip r:embed="rId3"/>
          <a:stretch/>
        </p:blipFill>
        <p:spPr>
          <a:xfrm>
            <a:off x="6851520" y="4149720"/>
            <a:ext cx="2292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252360" y="260280"/>
            <a:ext cx="8794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творчестве Тютчева 1860? преобладают политические стихотворения и мелкие. — "на случаи" ("Когда дряхлеющие силы...", 1866, "Славянам", 1867,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следние годы жизни  тоже омрачены тяжелыми утратами: умирают его старший сын, брат, дочь Мария. Жизнь поэта угасает. 15 июля (27 н.с.) 1873 в Царском Селе Тютчев сконч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3924360" y="3141720"/>
            <a:ext cx="50925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627280" y="404640"/>
            <a:ext cx="38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Baskerville Old Face"/>
              </a:rPr>
              <a:t>Спасиб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3830760" cy="468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3514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8:05:39Z</dcterms:created>
  <dc:creator>1</dc:creator>
  <dc:description/>
  <dc:language>en-US</dc:language>
  <cp:lastModifiedBy>LEGION</cp:lastModifiedBy>
  <dcterms:modified xsi:type="dcterms:W3CDTF">2015-01-20T08:16:53Z</dcterms:modified>
  <cp:revision>4</cp:revision>
  <dc:subject/>
  <dc:title>Слайд 1</dc:title>
</cp:coreProperties>
</file>