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9621-9D61-4ED1-BD09-71EB1BDF64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slide" Target="../slides/slide18.xml"/><Relationship Id="rId3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" Target="../slides/slide19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Федор 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Иванович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Тютч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м не дано предугад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ше слово отзовется,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нам сочувствие д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м дается благода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B4EA-59BB-4505-8B12-F216CCC73538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третил вас – и все бы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жившем сердце ожил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помнил время золотое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-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рдцу стало так тепл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 июля 1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юбленная Ф.И.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аботы И. Штиллера 1830-е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83A0-53F9-4F16-B63B-32F8DBF140CB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Элеонора Петерсон -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ервая жена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2F97-BBA5-4503-93F5-269A45648715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Эрнестина Тютчева, вторая 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4390-D1A9-43BA-A0E5-0434B57CF084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е знаю я, коснется ль благо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оей души болезненно-грехов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Удастся ль ей воскреснуть и восст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о если бы душа мог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не благодатью ты б была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Ты, ты, мое земное  провиденье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AE23-56EC-4870-AE92-97E6A5413F22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Не рассуждай, не хлопочи!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Безумство ищет, глупость суд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невные раны сном леч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А завтра быть чему, то бу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Живя, умей все переж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Печаль, и радость, и трево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Чего желать? О чем туж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ень пережит - и слава богу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амятник поэту в Овсту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D16B-94AD-45FA-925D-C60E97AE338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Памятник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в Брян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7 июля 2003 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-лети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7567-C887-4293-9EF3-E2E9DDE1530B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.Н.Толсто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8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Без него жить нельз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F0E8-7A0A-4F6B-8822-79F31D2385D6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 Пушк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90EA-C93B-4ACE-AD0C-CD8D91A918E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и периода творчества Тютче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и традиции европейского романт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сятилетие 40-х годов  Тютчев почти не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пишет стих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«денисьевский цикл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4BDC-82E6-4342-8574-5F770C1502B6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. А. Тютче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ь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 Antiqua"/>
              </a:rPr>
              <a:t>1776-186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A7B4-B1B7-45CB-B5C7-4EF1F6BDE048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м.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ские взгляды, восприятие ис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наиз. стих-я (к понед. 14 де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45E7-734F-4217-B946-7D46CEC01FFB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тчев в дет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9B18-2B8E-40D0-A6D8-40C1EF381479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Усадьба Овстуг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Брянского уезда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Орловской губер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26CD-DE79-409E-AB40-B1026BDD13A9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Городская усадьба Тютчевых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в Армянском переулке в Москв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1128-AE15-4A69-973D-1F66AC5AF266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3DDA-3C7F-4D2F-AF7D-1D44F5EB6324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С 1822 г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коллегии иностранных дел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Германии, Итали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A594-C56E-4A13-8AE1-656BBB179B8E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4E4-68C1-486E-AB4A-A9DA2BED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67D-BE6F-4577-BE40-A8A37AFE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ED1-F2B8-4239-B4A3-79FEE2DC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590-B5EA-487A-9354-46ADE27A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D88B-A769-4959-9D5E-01984DF9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DE77-D2C0-4C9F-B581-28DA6289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00BA-659A-40E6-971F-D7D625FC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019C-461F-4653-A297-8B92891F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2DDF-5EE3-4B99-9A21-754E61A8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CC7E-B4CC-4A6D-8A98-52C87FD9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29A9-0EB8-4588-8D1B-A0DABE95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932-07E8-434B-9B63-56BF1502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A93F-8957-43B2-B595-F26897A9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F0CC-41DC-4C3C-99E4-2CB10910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0F38-7701-4DE0-A875-112CBBC1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AB46-3047-435E-B7BA-31E254A5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01E4-121F-4256-949B-7573A1C1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CAF-F533-4B73-84E5-422CBCC9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3BD-F844-4667-A00D-096FF15D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514-824B-4102-8D8D-375F1C82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059-A6E9-44FC-A1EA-892C3DE0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599-B0B8-418E-A941-C7F56D16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27C-BB8F-4815-A7A9-38D3B099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174-ED8E-47CA-B115-5075CEFB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F4BC-203C-431F-AAB2-90E5BD64910C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E172-3641-48B5-A0FE-6B21BB855B69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632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Федор 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Иванович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Тютч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3716280"/>
            <a:ext cx="58752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Нам не дано предугада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ше слово отзовется, -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И нам сочувствие дается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м дается благодать…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Рисунок 8" descr="Tut_big.jpg"/>
          <p:cNvPicPr/>
          <p:nvPr/>
        </p:nvPicPr>
        <p:blipFill>
          <a:blip r:embed="rId1"/>
          <a:srcRect l="3026" t="0" r="0" b="8646"/>
          <a:stretch/>
        </p:blipFill>
        <p:spPr>
          <a:xfrm>
            <a:off x="5857920" y="428760"/>
            <a:ext cx="2738520" cy="35240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5229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076720" y="1052640"/>
            <a:ext cx="35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6" name="Picture 4" descr="image051"/>
          <p:cNvPicPr/>
          <p:nvPr/>
        </p:nvPicPr>
        <p:blipFill>
          <a:blip r:embed="rId1"/>
          <a:stretch/>
        </p:blipFill>
        <p:spPr>
          <a:xfrm>
            <a:off x="539640" y="1628640"/>
            <a:ext cx="2952720" cy="381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47" name="Text Box 5"/>
          <p:cNvSpPr/>
          <p:nvPr/>
        </p:nvSpPr>
        <p:spPr>
          <a:xfrm>
            <a:off x="539640" y="5734080"/>
            <a:ext cx="605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Возлюбленная Ф.И.Тютчева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трет работы И. Штиллера 1830-е гг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851280" y="2708280"/>
            <a:ext cx="489600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К. Б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третил вас – и все было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 отжившем сердце ожило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помнил время золотое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--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И сердцу стало так тепло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26 июля 197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27960" y="333360"/>
            <a:ext cx="80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imes New Roman"/>
              </a:rPr>
              <a:t>Женщины в жизни  Ф.И.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Элеонора Петерсон -</a:t>
            </a:r>
            <a:r>
              <a:rPr b="0" lang="ru-RU" sz="32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первая жена поэ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foto3_s"/>
          <p:cNvPicPr/>
          <p:nvPr/>
        </p:nvPicPr>
        <p:blipFill>
          <a:blip r:embed="rId1"/>
          <a:stretch/>
        </p:blipFill>
        <p:spPr>
          <a:xfrm>
            <a:off x="5435640" y="1916280"/>
            <a:ext cx="2720880" cy="3384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52" name="Picture 4" descr="eleonora"/>
          <p:cNvPicPr/>
          <p:nvPr/>
        </p:nvPicPr>
        <p:blipFill>
          <a:blip r:embed="rId2"/>
          <a:stretch/>
        </p:blipFill>
        <p:spPr>
          <a:xfrm>
            <a:off x="826920" y="1628640"/>
            <a:ext cx="3362400" cy="4465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Tahoma"/>
              </a:rPr>
              <a:t>Эрнестина Тютчева, вторая же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3_4_03b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41162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55" name="Text Box 5"/>
          <p:cNvSpPr/>
          <p:nvPr/>
        </p:nvSpPr>
        <p:spPr>
          <a:xfrm>
            <a:off x="4140360" y="981000"/>
            <a:ext cx="47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вдовев, поэт женился в 1839 г. на Эрнестине Дернберг, урожденной баронессе Пфеффель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6" name="Picture 9" descr="ernestina2"/>
          <p:cNvPicPr/>
          <p:nvPr/>
        </p:nvPicPr>
        <p:blipFill>
          <a:blip r:embed="rId2"/>
          <a:stretch/>
        </p:blipFill>
        <p:spPr>
          <a:xfrm>
            <a:off x="5357880" y="2857680"/>
            <a:ext cx="2722320" cy="3644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2" descr="foto6_s"/>
          <p:cNvPicPr/>
          <p:nvPr/>
        </p:nvPicPr>
        <p:blipFill>
          <a:blip r:embed="rId1"/>
          <a:stretch/>
        </p:blipFill>
        <p:spPr>
          <a:xfrm>
            <a:off x="900000" y="1700280"/>
            <a:ext cx="3443400" cy="4249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58" name="Rectangle 15"/>
          <p:cNvSpPr/>
          <p:nvPr/>
        </p:nvSpPr>
        <p:spPr>
          <a:xfrm>
            <a:off x="250920" y="272160"/>
            <a:ext cx="8748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Елена Александровна Денисьева</a:t>
            </a: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(1826-1864) - "последняя любовь поэта"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1403280" y="476280"/>
            <a:ext cx="727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0" name="Picture 12" descr="deniseva_0"/>
          <p:cNvPicPr/>
          <p:nvPr/>
        </p:nvPicPr>
        <p:blipFill>
          <a:blip r:embed="rId2">
            <a:grayscl/>
          </a:blip>
          <a:stretch/>
        </p:blipFill>
        <p:spPr>
          <a:xfrm>
            <a:off x="5003640" y="1700280"/>
            <a:ext cx="3238560" cy="4092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е знаю я, коснется ль благодать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оей души болезненно-греховной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Удастся ль ей воскреснуть и восстать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Пройдет ли обморок духовный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о если бы душа могла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Здесь, на земле, найти успокоенье,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не благодатью ты б была —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Ты, ты, мое земное  провиденье!.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1400"/>
                            </p:stCondLst>
                            <p:childTnLst>
                              <p:par>
                                <p:cTn id="2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2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80px-Ovstug3"/>
          <p:cNvPicPr/>
          <p:nvPr/>
        </p:nvPicPr>
        <p:blipFill>
          <a:blip r:embed="rId1"/>
          <a:srcRect l="0" t="0" r="0" b="15367"/>
          <a:stretch/>
        </p:blipFill>
        <p:spPr>
          <a:xfrm>
            <a:off x="5148360" y="549360"/>
            <a:ext cx="3457440" cy="439236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3" name="Rectangle 7"/>
          <p:cNvSpPr/>
          <p:nvPr/>
        </p:nvSpPr>
        <p:spPr>
          <a:xfrm>
            <a:off x="4716360" y="5084640"/>
            <a:ext cx="39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амятник поэту в Овстуге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395280" y="1047960"/>
            <a:ext cx="460836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Не рассуждай, не хлопочи!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Безумство ищет, глупость судит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невные раны сном лечи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А завтра быть чему, то будет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Живя, умей все пережить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Печаль, и радость, и тревогу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Чего желать? О чем тужи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ень пережит - и слава богу!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76720" y="4042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Памятник </a:t>
            </a:r>
            <a:br>
              <a:rPr sz="4000"/>
            </a:b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в Брянс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3" descr="памятник"/>
          <p:cNvPicPr/>
          <p:nvPr/>
        </p:nvPicPr>
        <p:blipFill>
          <a:blip r:embed="rId1"/>
          <a:stretch/>
        </p:blipFill>
        <p:spPr>
          <a:xfrm>
            <a:off x="755640" y="692280"/>
            <a:ext cx="4103640" cy="53290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5076720" y="2205000"/>
            <a:ext cx="38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Откры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7 июля 2003 г.,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свящ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00-летию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эт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44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.Н.Толс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800"/>
            </a:b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«Без него жить нельзя»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tutchev1_0"/>
          <p:cNvPicPr/>
          <p:nvPr/>
        </p:nvPicPr>
        <p:blipFill>
          <a:blip r:embed="rId1"/>
          <a:stretch/>
        </p:blipFill>
        <p:spPr>
          <a:xfrm>
            <a:off x="1116000" y="2060640"/>
            <a:ext cx="2741760" cy="40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О Пушкин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PC110196_0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6360" y="1125360"/>
            <a:ext cx="3735360" cy="450864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172" name="Picture 6" descr="tutchev3_0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26920" y="1557360"/>
            <a:ext cx="2870280" cy="38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aphicFrame>
        <p:nvGraphicFramePr>
          <p:cNvPr id="173" name="Object 7"/>
          <p:cNvGraphicFramePr/>
          <p:nvPr/>
        </p:nvGraphicFramePr>
        <p:xfrm>
          <a:off x="3419640" y="5734080"/>
          <a:ext cx="125712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5734080"/>
                    <a:ext cx="1257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ahoma"/>
              </a:rPr>
              <a:t>Три периода творчества Тютчева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314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1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2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2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ека и традиции европейского романтизм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В десятилетие 40-х годов  Тютчев почти не </a:t>
            </a:r>
            <a:r>
              <a:rPr b="0" i="1" lang="ru-RU" sz="2400" spc="-1" strike="noStrike">
                <a:solidFill>
                  <a:srgbClr val="cc9900"/>
                </a:solidFill>
                <a:latin typeface="Tahoma"/>
              </a:rPr>
              <a:t>пишет стих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3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2400" spc="-1" strike="noStrike">
                <a:solidFill>
                  <a:srgbClr val="cc9900"/>
                </a:solidFill>
                <a:latin typeface="Tahoma"/>
              </a:rPr>
              <a:t>«денисьевский цикл»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tutfatt"/>
          <p:cNvPicPr/>
          <p:nvPr/>
        </p:nvPicPr>
        <p:blipFill>
          <a:blip r:embed="rId1"/>
          <a:stretch/>
        </p:blipFill>
        <p:spPr>
          <a:xfrm>
            <a:off x="971640" y="3500280"/>
            <a:ext cx="2254320" cy="280836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0" name="Picture 3" descr="tutmott"/>
          <p:cNvPicPr/>
          <p:nvPr/>
        </p:nvPicPr>
        <p:blipFill>
          <a:blip r:embed="rId2"/>
          <a:stretch/>
        </p:blipFill>
        <p:spPr>
          <a:xfrm>
            <a:off x="611280" y="836640"/>
            <a:ext cx="2219400" cy="244800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1" name="Picture 4" descr="7"/>
          <p:cNvPicPr/>
          <p:nvPr/>
        </p:nvPicPr>
        <p:blipFill>
          <a:blip r:embed="rId3"/>
          <a:stretch/>
        </p:blipFill>
        <p:spPr>
          <a:xfrm>
            <a:off x="6084720" y="3716280"/>
            <a:ext cx="242748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8"/>
          <p:cNvPicPr/>
          <p:nvPr/>
        </p:nvPicPr>
        <p:blipFill>
          <a:blip r:embed="rId4"/>
          <a:stretch/>
        </p:blipFill>
        <p:spPr>
          <a:xfrm>
            <a:off x="6372360" y="765000"/>
            <a:ext cx="229680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68360" y="404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7164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203640" y="1484280"/>
            <a:ext cx="2448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Е. А. Тютчева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мать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76-186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635280" y="4149720"/>
            <a:ext cx="223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И. Н. Тютчев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отец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68-184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Дом. Задани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Биография Тютчева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Философские взгляды, восприятие истории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Учить наиз. стих-я (к понед. 14 дек.)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ютчев в детств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003640" y="1557360"/>
            <a:ext cx="3267360" cy="408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29" name="Picture 5" descr="12"/>
          <p:cNvPicPr/>
          <p:nvPr/>
        </p:nvPicPr>
        <p:blipFill>
          <a:blip r:embed="rId2"/>
          <a:stretch/>
        </p:blipFill>
        <p:spPr>
          <a:xfrm>
            <a:off x="684360" y="1484280"/>
            <a:ext cx="3448080" cy="415944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380520"/>
            <a:ext cx="8964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Усадьба Овстуг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Брянского уезда 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 Орловской губер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mtut5s"/>
          <p:cNvPicPr/>
          <p:nvPr/>
        </p:nvPicPr>
        <p:blipFill>
          <a:blip r:embed="rId1"/>
          <a:stretch/>
        </p:blipFill>
        <p:spPr>
          <a:xfrm>
            <a:off x="395280" y="2565360"/>
            <a:ext cx="4248000" cy="2879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132" name="Picture 6" descr="OSOBN"/>
          <p:cNvPicPr/>
          <p:nvPr/>
        </p:nvPicPr>
        <p:blipFill>
          <a:blip r:embed="rId2"/>
          <a:stretch/>
        </p:blipFill>
        <p:spPr>
          <a:xfrm>
            <a:off x="4859280" y="2492280"/>
            <a:ext cx="3770280" cy="36226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1191614"/>
          <p:cNvPicPr/>
          <p:nvPr/>
        </p:nvPicPr>
        <p:blipFill>
          <a:blip r:embed="rId1"/>
          <a:stretch/>
        </p:blipFill>
        <p:spPr>
          <a:xfrm>
            <a:off x="1116000" y="549360"/>
            <a:ext cx="6912000" cy="49244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34" name="Text Box 6"/>
          <p:cNvSpPr/>
          <p:nvPr/>
        </p:nvSpPr>
        <p:spPr>
          <a:xfrm>
            <a:off x="468360" y="56833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Усадьба была разрушена в 1914г., восстановлена в 1986 г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Городская усадьба Тютчевых в Москве"/>
          <p:cNvPicPr/>
          <p:nvPr/>
        </p:nvPicPr>
        <p:blipFill>
          <a:blip r:embed="rId1"/>
          <a:srcRect l="0" t="22123" r="0" b="0"/>
          <a:stretch/>
        </p:blipFill>
        <p:spPr>
          <a:xfrm>
            <a:off x="900000" y="1628640"/>
            <a:ext cx="7417080" cy="4713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Городская усадьба Тютчевых</a:t>
            </a:r>
            <a:br>
              <a:rPr sz="4000"/>
            </a:b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 в Армянском переулке в Москв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Памятник Тютчеву в Москве"/>
          <p:cNvPicPr/>
          <p:nvPr/>
        </p:nvPicPr>
        <p:blipFill>
          <a:blip r:embed="rId1"/>
          <a:stretch/>
        </p:blipFill>
        <p:spPr>
          <a:xfrm>
            <a:off x="1619280" y="476280"/>
            <a:ext cx="6048360" cy="582912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58920" y="404280"/>
            <a:ext cx="38163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Образ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tutchev6_0"/>
          <p:cNvPicPr/>
          <p:nvPr/>
        </p:nvPicPr>
        <p:blipFill>
          <a:blip r:embed="rId1"/>
          <a:stretch/>
        </p:blipFill>
        <p:spPr>
          <a:xfrm>
            <a:off x="755640" y="1341360"/>
            <a:ext cx="3666960" cy="468000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40" name="Заголовок 1"/>
          <p:cNvSpPr/>
          <p:nvPr/>
        </p:nvSpPr>
        <p:spPr>
          <a:xfrm>
            <a:off x="4932360" y="1700280"/>
            <a:ext cx="364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651280" y="333360"/>
            <a:ext cx="2966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Служб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tutchev4_0"/>
          <p:cNvPicPr/>
          <p:nvPr/>
        </p:nvPicPr>
        <p:blipFill>
          <a:blip r:embed="rId1"/>
          <a:srcRect l="4124" t="7850" r="2379" b="5520"/>
          <a:stretch/>
        </p:blipFill>
        <p:spPr>
          <a:xfrm>
            <a:off x="684360" y="1125360"/>
            <a:ext cx="360036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427640" y="1268280"/>
            <a:ext cx="4716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 1822 г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оллегии иностранных дел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Германии, Италии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1:20:24Z</dcterms:created>
  <dc:creator>user</dc:creator>
  <dc:description/>
  <dc:language>en-US</dc:language>
  <cp:lastModifiedBy>LEGION</cp:lastModifiedBy>
  <dcterms:modified xsi:type="dcterms:W3CDTF">2015-01-20T08:18:02Z</dcterms:modified>
  <cp:revision>23</cp:revision>
  <dc:subject/>
  <dc:title>Слайд 1</dc:title>
</cp:coreProperties>
</file>