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B670-555E-4431-A3C3-A9F4131016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7670-38B1-4A4B-BC0F-8EA2967567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6A04-3277-4C67-BF74-706B1B17A0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7D17-65A8-4601-98E8-3A3084B1B3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7A0C-151C-4271-951B-C169CF592B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C01A-62D3-49E1-9F4B-044DF46140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F626-58FE-40FE-99A8-7E72CFBD22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F33A-C59F-4C78-958C-6862875A97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31D0-D3F0-46E5-9404-36FB470810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F57A-6EEE-4284-92F9-90D4783F39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1069-84DF-4763-AAC5-3A38ACB1FC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D12B-9294-4821-9463-2392988893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62A6-3FCA-4653-A827-6C15660AAC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3C79-C792-4EF5-AF29-951C209F4C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524D-D543-45C0-BE62-06C7F681A2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0BF5-5ADD-4AA4-AAEE-CCCBA07588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3D69-AAB4-49C6-88F4-61E1180739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28BD-81B0-4F06-A3EB-84EE9D9D28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16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5102-491D-464C-9596-045FF0F612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B1AF-31F5-4AFB-A84C-F552138260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CE28-A2E5-4046-9481-4C17E4B05B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7748-FB04-40BC-BFD8-D5E183899C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A809-3C95-4077-9E11-15939858A4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A448-A70B-4310-BC72-7FBF9C2393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4C1D-392F-4A09-8A22-CCF84469F4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35E5-4EF3-4F8D-BA19-AF9F87F1C7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8F46-D25F-45D4-952F-F55DA7AB01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7B91-08C0-46DA-A49E-C9C6F4CCA5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800"/>
            </a:b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DE9C-244B-48F7-A3EB-BD78363B9D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0DC5-A951-40D3-B5B1-C9A1A05FAD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8A6-D952-4265-B4E8-01670960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F63-446A-4637-8213-92BC126E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211-81F8-4775-9414-D266906C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378-8891-48F1-9375-C8FA8A09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6606-9483-4F05-9D9D-0E7913B4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B8D-C424-4DB4-AB2B-CD10BC45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43E-C356-4006-8557-F3899AC6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E3E-498F-4D4E-AD4D-2635368E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E47-131D-4020-B167-E6AF1940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2F7-FBF3-4AFF-94B6-D9296309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62E-256A-4E49-A99F-38B29E69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ACC-4EEE-404E-88D4-3A48319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D0BE-2149-4C2C-BD04-717F33133A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248760"/>
            <a:ext cx="36432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71960" y="357120"/>
            <a:ext cx="48196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365440" y="607212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Художник М. Решет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021_V.S.O. - With You I'm Born Again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96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00680" y="6215040"/>
            <a:ext cx="4714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3500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10876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57400" y="5929200"/>
            <a:ext cx="50720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840" y="285840"/>
            <a:ext cx="36435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000680" y="285840"/>
            <a:ext cx="493380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00720" y="1213920"/>
            <a:ext cx="4643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432432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8760" y="5500440"/>
            <a:ext cx="3643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4429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9909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214960" cy="5214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13880" y="5643720"/>
            <a:ext cx="7572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1640" y="6071760"/>
            <a:ext cx="4143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285480"/>
            <a:ext cx="4143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398772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85840" y="600084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43844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285840" y="642960"/>
            <a:ext cx="4071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аз ты слышала признанье: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Не стою я любви твоей".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кай мое она созда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как я беден перед ней… Перед любовию тво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больно вспомнить о себ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ю, молчу, благогов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клоняюся тебе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, порой, так умиленно,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такою верой и мольбой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ольно клонишь ты колено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колыбелью дорог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спит она - твое рожде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й безымянный херувим,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йми ж и ты мое смиренье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сердцем любящим твои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6160" y="6214680"/>
            <a:ext cx="4500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6760" y="500040"/>
            <a:ext cx="3714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214880" y="285840"/>
            <a:ext cx="455616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292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0760" y="571680"/>
            <a:ext cx="38574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57800" y="5214600"/>
            <a:ext cx="4000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71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786120" y="1214280"/>
            <a:ext cx="5111640" cy="3808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00680" y="6143760"/>
            <a:ext cx="47145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4200" y="142920"/>
            <a:ext cx="3786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071960" y="285840"/>
            <a:ext cx="485784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0440" y="471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572080" y="514440"/>
            <a:ext cx="3214800" cy="426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13840" y="285840"/>
            <a:ext cx="535788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85840"/>
            <a:ext cx="4038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643280" y="50004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3686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500360" cy="6143760"/>
          </a:xfrm>
          <a:prstGeom prst="rect">
            <a:avLst/>
          </a:prstGeom>
          <a:ln w="0">
            <a:noFill/>
          </a:ln>
        </p:spPr>
      </p:pic>
      <p:pic>
        <p:nvPicPr>
          <p:cNvPr id="111" name="kb_romans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884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4200" y="1214280"/>
            <a:ext cx="3857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200480" y="357120"/>
            <a:ext cx="4756320" cy="5500800"/>
          </a:xfrm>
          <a:prstGeom prst="rect">
            <a:avLst/>
          </a:prstGeom>
          <a:ln w="0">
            <a:noFill/>
          </a:ln>
        </p:spPr>
      </p:pic>
      <p:pic>
        <p:nvPicPr>
          <p:cNvPr id="114" name="025_Dinu Radu - Einsame Hirte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731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388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6920" y="4941720"/>
            <a:ext cx="4608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L375905"/>
          <p:cNvPicPr/>
          <p:nvPr/>
        </p:nvPicPr>
        <p:blipFill>
          <a:blip r:embed="rId1"/>
          <a:stretch/>
        </p:blipFill>
        <p:spPr>
          <a:xfrm>
            <a:off x="1116000" y="1700280"/>
            <a:ext cx="2160720" cy="41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2306"/>
          <p:cNvPicPr/>
          <p:nvPr/>
        </p:nvPicPr>
        <p:blipFill>
          <a:blip r:embed="rId2"/>
          <a:stretch/>
        </p:blipFill>
        <p:spPr>
          <a:xfrm>
            <a:off x="5867280" y="333360"/>
            <a:ext cx="21812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7800" y="6143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00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464184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7960" y="213840"/>
            <a:ext cx="4352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038840" cy="50594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285840" y="592920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48320" y="285840"/>
            <a:ext cx="42098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6892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214200" y="55008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42920" y="6072120"/>
            <a:ext cx="3929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43280" y="142920"/>
            <a:ext cx="401328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14960" y="6072120"/>
            <a:ext cx="3286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78144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8:18:47Z</dcterms:created>
  <dc:creator>Илья</dc:creator>
  <dc:description>rusedu.ru</dc:description>
  <dc:language>en-US</dc:language>
  <cp:lastModifiedBy>LEGION</cp:lastModifiedBy>
  <dcterms:modified xsi:type="dcterms:W3CDTF">2015-01-20T08:19:02Z</dcterms:modified>
  <cp:revision>155</cp:revision>
  <dc:subject/>
  <dc:title>Биография Тютчева</dc:title>
</cp:coreProperties>
</file>