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D6BE-4D63-4AC5-B6A9-EDED201626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E77E-5DB8-4FC2-A5AE-2B26F5186A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3305-EDCF-4296-B9D7-079D221E0F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4729-8CFC-4123-AA39-282FF7FE17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47A7-3067-434C-971C-82093F907E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AF44-005F-42E4-B475-79496CB797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26FB-6D89-4517-A6AB-4F0237605E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BF8D-FD23-427B-A845-E6946019B8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9FEC-5086-447E-AB0A-FD8DB3FD3B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D139-8041-476F-8875-8798793671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2880-57B8-42B7-822E-60A5F72C5F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3E82-DEAD-4D24-A278-F44B624CD7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257A-EF78-4937-9C51-B5C00BB0F8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CBF9-659D-4077-A650-9947688FBA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3D2-F0BF-48C6-ABEF-BFBCAA33F6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CB92-74E0-492E-BFEB-A460ED9112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AC03-A20A-491E-B2A8-916D49F4D3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4DC5-467B-4694-B2DA-7B1B385D80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16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B458-8964-4B64-B998-49B0E5D4F2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6741-44F5-4133-BBC7-6907D5166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564A-FEE1-44A2-9B89-8AAA3FAD69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D56A-0611-47E0-B80D-DE9F3D43B0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2115-FC78-4417-AC5D-D52DA5D255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ABB6-3DD7-42BF-A000-1EB18212DA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A037-BF64-4AF7-A2D3-71BE2E479D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77B-DDFD-4DBC-AE58-2ABDE9B876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2193-7DF6-4CD3-88F4-2FF2A0E271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1C58-D266-49F4-9A54-1410EE5E5B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04A-E669-4D43-8B60-B9DF357B62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4CA-6A1C-4AA4-AB70-4DF17E87D6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907-DC45-4F7D-9FCC-FB2C436C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F20-63CE-4422-A03B-B7C084B7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62C-3022-4D8D-9B5B-A915E3D9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CD0-E564-40C5-8C52-CD40976F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B61-6873-4EB9-AE06-681DF2E2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1BA-44CE-43BD-BE71-9AFB5D1A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022-048D-44DD-8F0F-87F61AFD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817-3775-46F2-9E0E-58025E25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948-5823-4C41-9941-51B9DF68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424-DF6C-4B80-B14B-45A261EA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FCA-C407-49CC-8843-EEFCDC23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555-29D5-4BCB-BE53-9422DCB9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0C69-140C-4754-A7BB-9424B9C43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48760"/>
            <a:ext cx="36432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11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4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LEGION</cp:lastModifiedBy>
  <dcterms:modified xsi:type="dcterms:W3CDTF">2015-01-20T08:19:02Z</dcterms:modified>
  <cp:revision>155</cp:revision>
  <dc:subject/>
  <dc:title>Биография Тютчева</dc:title>
</cp:coreProperties>
</file>