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7863-99FA-467F-83A7-782DE45173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BFE4-FA21-4D9D-998F-705B4F8972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0FA3-7C16-40DD-A772-B39817F8D9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FE9C-DBF9-4293-842E-7D592F187E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661-A030-4B55-A397-3AC4CB90EB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C734-31BA-4584-A4BF-74BE259C98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B11A-7CB9-4862-82D6-7F4D182D56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FE8B-703B-4BFF-85FE-4315CB80DD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2FD2-6AD2-4F22-A428-5C6A008DFA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C16-5607-4AA2-A0E6-E0E764895D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B0F4-07A3-4F0A-A97B-946F03A4AE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F6C-B53E-4831-8C9B-6278834051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27D2-68B9-42E7-A2E6-15BFF313A9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4B38-1C47-47A0-BA97-2005816C52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9CFD-73B8-4DF4-8534-56A9DF5073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947E-8771-4444-99AB-0524D48AC9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8C27-8CF7-4E18-921B-C8F2F8AC8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0512-090B-44BF-A504-C23776B65C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16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1010-FF63-4026-95BB-7355703410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EC52-52DC-4172-9936-79AFBF2160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0CD-7615-47D8-8DC9-1EECC3A00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03D4-BE45-4149-A348-1B39871AEE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605F-FC3E-490D-808F-13D688C7BA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08AB-F2D0-4A1D-AB28-7091378418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752C-9CC4-4283-A8F3-63211DFD7A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C7F1-49B1-41D0-AF54-E4DCC892C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38AC-1C4A-4FE4-A450-7744B9C093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3531-145F-4F63-A3AE-D26F60BB67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C0DB-EB28-4E45-96DC-D4E5E502F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16F0-F379-4B27-923F-9C6534FF84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CBC-8C1F-4733-8430-303CF6DC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66E-DCE1-4752-A0AA-40205AC3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472-778B-4A33-B966-DB3A2A16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BB7-2F41-4B21-B670-E95A841D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58C-D1C2-450C-9FFA-7F756A6E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F4F-B6A4-4D2A-9011-17EF181B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E08-9D09-4DAF-9FBB-F67E107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E6B-0EF0-4558-B16C-44365E66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489-E883-499F-84BC-BA5CA000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BA0-2522-4A1B-A986-3F5C5C88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8A9-E6BA-4105-B0FC-DAD7D315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163-6491-4A32-8588-CE8E3309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D360-68F1-4405-AEDC-84AA9A73F2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48760"/>
            <a:ext cx="36432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11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4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LEGION</cp:lastModifiedBy>
  <dcterms:modified xsi:type="dcterms:W3CDTF">2015-01-20T08:19:02Z</dcterms:modified>
  <cp:revision>155</cp:revision>
  <dc:subject/>
  <dc:title>Биография Тютчева</dc:title>
</cp:coreProperties>
</file>