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4174-046A-400B-9F69-4441DEB92F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Александр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08CF-3E64-4915-AD08-E6589FC9C3F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3 в «Новом мире» опубликовал 3 рассказа: «Матренин двор»(1959</a:t>
            </a:r>
            <a:r>
              <a:rPr b="1" lang="en-US" sz="1200" spc="-1" strike="noStrike">
                <a:solidFill>
                  <a:srgbClr val="262699"/>
                </a:solidFill>
                <a:latin typeface="宋体"/>
              </a:rPr>
              <a:t>)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; «Случай на станции Кочетовка» (1962) и «Для пользы дела» (1963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ябре 1969 Солженицына исключили из Союза писателей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5E4F-9561-4D82-932B-975524906F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12A3-0A4D-412D-A199-AA2AA483962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97 избран действительным членом Академии наук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7C0D-F9FC-47D8-894E-E94A851850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BD95-40BC-4DEA-8485-91425B70513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чь с 3 на 4 августа 2008 года Солженицын скончался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DDBB-D984-48D2-A8C0-8BCBFAF1098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Пир победителей" (сатирическая пьеса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Один день Ивана Денисовича" (195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атренин двор" (1959-1960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Случай на станции Кречетовк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ля пользы дел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Захар-Калита" (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В круге первом" (1955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аковый корпус" (1963-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вгуст 1914" (1971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Красное Колесо: Повествованье в отмеренных сроках в четырёх узлах" (1971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рхипелаг ГУЛАГ" (1958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Ленин в Цюрихе" (197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Бодался телёнок с дубом" (1975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Эго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 краях"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олодняк" (1995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стенька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брикосовое варенье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Угодило зёрнышко промеж двух жерновов" (1998-200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оссия в обвале" (199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вести лет вместе" (1975-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Желябугские выселки" (1999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длиг Швенкиттен " (199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7839-264C-4E29-A6A7-0A93716B7E5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Мать – Таисия Захаровна Щербак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из семьи богатого землевладельца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. Отец – Исаакий Семенович Солженицын во время Первой Мировой войны пошел на фронт добровольцем и служил офицером. Он погиб до рождения сына, 15 июня 1918 года, уже после демобилизации (в результате несчастного случая на охоте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Исаакий Семенович Солженицын изображен под именем Сани Лаженицына в эпопее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C3A4-676E-483C-B54D-1A09EE12E3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886D-73EC-4C84-B255-5D87C0E8EC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0A8E-8FF0-4459-B483-E83A184807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7D4F-F4B5-442C-9995-DC19671C752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оизведен в капитан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62F3-C8F7-4EEE-B171-DADC5EEAC9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7481-4440-443C-9BF4-69C2F5CF29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F6D2-6642-4845-9AB6-8DA2EA7BDC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EA6E-2510-42A7-B292-97347547EDC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3DDC-8A77-44E5-A397-79F0EBEE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2C3-8011-431A-B642-63E4B0EC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2F2-187B-4F7B-9A02-FA3A688D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067-18AF-42AE-ADE6-6C94D32A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CFD2-9144-4FBA-949E-EF2E4177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0D98-FD57-4B47-8F67-A29D9288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024B-83AF-421E-B3D6-2560A381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EED4-7744-4CCE-80B9-937528AD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AA4B-2FA1-4552-86E0-C8567BD3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1647-FBB7-44E2-A921-6CBF2E2B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4352-ED01-4729-8415-48A70C5B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A42-A989-411B-BFB6-A49ECF3B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7252-348E-449D-AE50-D4C71AFA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4042-ED84-4893-BF84-E51EDBFA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DC1A-A086-4A8B-B620-546E272C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FFEE-0AD0-405A-9E8D-F35F5D21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CF9D-667A-4D3C-B580-D5876923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7E7-D687-41EA-8375-B8174925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474-8022-4163-A267-D6AAFCCE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AF1-E637-45A4-99D1-32DC9029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35B-A0F6-4771-8435-BA1ED6B8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CE7-9B05-4E7D-A689-27B8C197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A5F-8245-4886-9E4F-F25737DF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FF3-27EF-435C-ABBC-BBD3FB8B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3409-708E-41BE-9498-AA213A15AE2E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2A85-906E-43D8-AA00-B922A615816E}" type="slidenum">
              <a:rPr b="0" lang="zh-CN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46432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Александр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5840" y="5214960"/>
            <a:ext cx="421488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20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043640" y="2071800"/>
            <a:ext cx="253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Иса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0720" y="3571920"/>
            <a:ext cx="37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Солжениц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jzl-116.jpg"/>
          <p:cNvPicPr/>
          <p:nvPr/>
        </p:nvPicPr>
        <p:blipFill>
          <a:blip r:embed="rId1"/>
          <a:stretch/>
        </p:blipFill>
        <p:spPr>
          <a:xfrm>
            <a:off x="4643280" y="500040"/>
            <a:ext cx="4329360" cy="578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0" y="1429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3 в «Новом мире» опубликовал 3 рассказа: «Матренин двор»(1959</a:t>
            </a:r>
            <a:r>
              <a:rPr b="1" lang="en-US" sz="1800" spc="-1" strike="noStrike">
                <a:solidFill>
                  <a:srgbClr val="dd7e0e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; «Случай на станции Кочетовка» (1962) и «Для пользы дела» (196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ябре 1969 Солженицына исключили из Союза пис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42920" y="142920"/>
            <a:ext cx="40003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7e0e"/>
                </a:solidFill>
                <a:latin typeface="Arial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Рисунок6.jpg"/>
          <p:cNvPicPr/>
          <p:nvPr/>
        </p:nvPicPr>
        <p:blipFill>
          <a:blip r:embed="rId1"/>
          <a:stretch/>
        </p:blipFill>
        <p:spPr>
          <a:xfrm>
            <a:off x="4554360" y="214200"/>
            <a:ext cx="428004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71680" y="4287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27 мая 1994 Солженицын вернулся в Россию. После своего приезда Солженицын поселился под Москвой, в выделенном ему владении в деревне Троице-Лыково, где продолжил заниматься литературным т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" descr="Рисунок7.jpg"/>
          <p:cNvPicPr/>
          <p:nvPr/>
        </p:nvPicPr>
        <p:blipFill>
          <a:blip r:embed="rId1"/>
          <a:stretch/>
        </p:blipFill>
        <p:spPr>
          <a:xfrm>
            <a:off x="142920" y="1714680"/>
            <a:ext cx="4572000" cy="29001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jzl-103.jpg"/>
          <p:cNvPicPr/>
          <p:nvPr/>
        </p:nvPicPr>
        <p:blipFill>
          <a:blip r:embed="rId2"/>
          <a:stretch/>
        </p:blipFill>
        <p:spPr>
          <a:xfrm>
            <a:off x="4071960" y="3000240"/>
            <a:ext cx="4662360" cy="3571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214200" y="500076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97 избран действительным членом Академии наук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357120" y="357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jzl-090.jpg"/>
          <p:cNvPicPr/>
          <p:nvPr/>
        </p:nvPicPr>
        <p:blipFill>
          <a:blip r:embed="rId1"/>
          <a:stretch/>
        </p:blipFill>
        <p:spPr>
          <a:xfrm>
            <a:off x="2357280" y="3429000"/>
            <a:ext cx="4588200" cy="3000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jzl-076.jpg"/>
          <p:cNvPicPr/>
          <p:nvPr/>
        </p:nvPicPr>
        <p:blipFill>
          <a:blip r:embed="rId2"/>
          <a:stretch/>
        </p:blipFill>
        <p:spPr>
          <a:xfrm>
            <a:off x="4789440" y="214200"/>
            <a:ext cx="42274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642960" y="214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чь с 3 на 4 августа 2008 года Солженицын сконч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857160" y="60008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Его похоронили 6 августа, в центральной части старого кладбища на территории Донского 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" descr="jzl-121.jpg"/>
          <p:cNvPicPr/>
          <p:nvPr/>
        </p:nvPicPr>
        <p:blipFill>
          <a:blip r:embed="rId1"/>
          <a:stretch/>
        </p:blipFill>
        <p:spPr>
          <a:xfrm>
            <a:off x="1357200" y="642960"/>
            <a:ext cx="6048360" cy="5262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7e0e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14200" y="785880"/>
            <a:ext cx="8715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Пир победителей" (сатирическая пье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Один день Ивана Денисовича" (19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атренин двор" (1959-196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Случай на станции Кречетовк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ля пользы дел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Захар-Калита" (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В круге первом" (1955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аковый корпус" (1963-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вгуст 1914" (19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Красное Колесо: Повествованье в отмеренных сроках в четырёх узлах" (1971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рхипелаг ГУЛАГ" (1958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Ленин в Цюрихе" (19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Бодался телёнок с дубом" (1975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Эго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 краях"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олодняк" (199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стенька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брикосовое варенье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Угодило зёрнышко промеж двух жерновов" (1998-200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оссия в обвале" (199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вести лет вместе" (1975-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Желябугские выселки" (199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длиг Швенкиттен " (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7" descr=""/>
          <p:cNvPicPr/>
          <p:nvPr/>
        </p:nvPicPr>
        <p:blipFill>
          <a:blip r:embed="rId1"/>
          <a:stretch/>
        </p:blipFill>
        <p:spPr>
          <a:xfrm>
            <a:off x="6095880" y="-30240"/>
            <a:ext cx="3017880" cy="6527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родители1.jpg"/>
          <p:cNvPicPr/>
          <p:nvPr/>
        </p:nvPicPr>
        <p:blipFill>
          <a:blip r:embed="rId2"/>
          <a:stretch/>
        </p:blipFill>
        <p:spPr>
          <a:xfrm>
            <a:off x="2306520" y="233280"/>
            <a:ext cx="3908520" cy="2481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0"/>
          <p:cNvSpPr/>
          <p:nvPr/>
        </p:nvSpPr>
        <p:spPr>
          <a:xfrm>
            <a:off x="0" y="428760"/>
            <a:ext cx="214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11" descr="дом в Кисловодске1.jpg"/>
          <p:cNvPicPr/>
          <p:nvPr/>
        </p:nvPicPr>
        <p:blipFill>
          <a:blip r:embed="rId3"/>
          <a:stretch/>
        </p:blipFill>
        <p:spPr>
          <a:xfrm>
            <a:off x="142920" y="3551400"/>
            <a:ext cx="3571920" cy="2377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Рисунок1.jpg"/>
          <p:cNvPicPr/>
          <p:nvPr/>
        </p:nvPicPr>
        <p:blipFill>
          <a:blip r:embed="rId4"/>
          <a:stretch/>
        </p:blipFill>
        <p:spPr>
          <a:xfrm>
            <a:off x="3857760" y="2928960"/>
            <a:ext cx="22748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2920" y="214200"/>
            <a:ext cx="46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1924 году - Ростов - на - Дону.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младших классах подвергался насмешкам за ношение крестика и нежелание вступать в пионеры.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Несмотря на постоянные материальные и жилищные трудности, Солженицын в 1936, закончив среднюю школу, поступил на физико-математический факультет Ростовского универс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школа.jpg"/>
          <p:cNvPicPr/>
          <p:nvPr/>
        </p:nvPicPr>
        <p:blipFill>
          <a:blip r:embed="rId1"/>
          <a:stretch/>
        </p:blipFill>
        <p:spPr>
          <a:xfrm>
            <a:off x="4929120" y="142920"/>
            <a:ext cx="401652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2500200" y="3286080"/>
            <a:ext cx="242892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dd7e0e"/>
                </a:solidFill>
                <a:latin typeface="Arial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jzl-021.jpg"/>
          <p:cNvPicPr/>
          <p:nvPr/>
        </p:nvPicPr>
        <p:blipFill>
          <a:blip r:embed="rId2"/>
          <a:stretch/>
        </p:blipFill>
        <p:spPr>
          <a:xfrm>
            <a:off x="5000760" y="3071880"/>
            <a:ext cx="3929040" cy="3521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Рисунок2.jpg"/>
          <p:cNvPicPr/>
          <p:nvPr/>
        </p:nvPicPr>
        <p:blipFill>
          <a:blip r:embed="rId3"/>
          <a:stretch/>
        </p:blipFill>
        <p:spPr>
          <a:xfrm>
            <a:off x="142920" y="3143160"/>
            <a:ext cx="2335320" cy="347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"/>
          <p:cNvSpPr/>
          <p:nvPr/>
        </p:nvSpPr>
        <p:spPr>
          <a:xfrm>
            <a:off x="285840" y="301680"/>
            <a:ext cx="5000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9" descr="Рисунок3.jpg"/>
          <p:cNvPicPr/>
          <p:nvPr/>
        </p:nvPicPr>
        <p:blipFill>
          <a:blip r:embed="rId1"/>
          <a:stretch/>
        </p:blipFill>
        <p:spPr>
          <a:xfrm>
            <a:off x="5429160" y="714240"/>
            <a:ext cx="3540240" cy="5150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357800" y="35712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jzl-024.jpg"/>
          <p:cNvPicPr/>
          <p:nvPr/>
        </p:nvPicPr>
        <p:blipFill>
          <a:blip r:embed="rId1"/>
          <a:stretch/>
        </p:blipFill>
        <p:spPr>
          <a:xfrm>
            <a:off x="428760" y="785880"/>
            <a:ext cx="369252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85840" y="357120"/>
            <a:ext cx="3500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Произведен в капит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jzl-025.jpg"/>
          <p:cNvPicPr/>
          <p:nvPr/>
        </p:nvPicPr>
        <p:blipFill>
          <a:blip r:embed="rId1"/>
          <a:stretch/>
        </p:blipFill>
        <p:spPr>
          <a:xfrm>
            <a:off x="4394160" y="571680"/>
            <a:ext cx="407988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5"/>
          <p:cNvSpPr/>
          <p:nvPr/>
        </p:nvSpPr>
        <p:spPr>
          <a:xfrm>
            <a:off x="285840" y="142920"/>
            <a:ext cx="371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857760"/>
            <a:ext cx="45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Рисунок4.jpg"/>
          <p:cNvPicPr/>
          <p:nvPr/>
        </p:nvPicPr>
        <p:blipFill>
          <a:blip r:embed="rId1"/>
          <a:stretch/>
        </p:blipFill>
        <p:spPr>
          <a:xfrm>
            <a:off x="5357880" y="214200"/>
            <a:ext cx="2423880" cy="3340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шарашка.jpg"/>
          <p:cNvPicPr/>
          <p:nvPr/>
        </p:nvPicPr>
        <p:blipFill>
          <a:blip r:embed="rId2"/>
          <a:stretch/>
        </p:blipFill>
        <p:spPr>
          <a:xfrm>
            <a:off x="428760" y="3714840"/>
            <a:ext cx="375444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14200" y="407196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кок-терек.jpg"/>
          <p:cNvPicPr/>
          <p:nvPr/>
        </p:nvPicPr>
        <p:blipFill>
          <a:blip r:embed="rId1"/>
          <a:stretch/>
        </p:blipFill>
        <p:spPr>
          <a:xfrm>
            <a:off x="4143240" y="500040"/>
            <a:ext cx="4653000" cy="32576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Рисунок5.jpg"/>
          <p:cNvPicPr/>
          <p:nvPr/>
        </p:nvPicPr>
        <p:blipFill>
          <a:blip r:embed="rId2"/>
          <a:stretch/>
        </p:blipFill>
        <p:spPr>
          <a:xfrm>
            <a:off x="571680" y="214200"/>
            <a:ext cx="2500200" cy="3656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786200" y="42876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52 год – реабилитация и сельская школа недалеко от Рязани, где он учительствует и снимает с женой комнату  у Матрены Захаровой, ставшей прототипом знаменитой  хозяйки «Матрениного дво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Матренина изба.jpg"/>
          <p:cNvPicPr/>
          <p:nvPr/>
        </p:nvPicPr>
        <p:blipFill>
          <a:blip r:embed="rId1"/>
          <a:stretch/>
        </p:blipFill>
        <p:spPr>
          <a:xfrm>
            <a:off x="428760" y="428760"/>
            <a:ext cx="3857400" cy="23763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929120" y="3000240"/>
            <a:ext cx="350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1960-е.jpg"/>
          <p:cNvPicPr/>
          <p:nvPr/>
        </p:nvPicPr>
        <p:blipFill>
          <a:blip r:embed="rId2"/>
          <a:stretch/>
        </p:blipFill>
        <p:spPr>
          <a:xfrm>
            <a:off x="857160" y="3000240"/>
            <a:ext cx="2714760" cy="354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2:34:37Z</dcterms:created>
  <dc:creator>echo</dc:creator>
  <dc:description/>
  <cp:keywords/>
  <dc:language>en-US</dc:language>
  <cp:lastModifiedBy>LEGION</cp:lastModifiedBy>
  <dcterms:modified xsi:type="dcterms:W3CDTF">2015-01-20T08:20:10Z</dcterms:modified>
  <cp:revision>38</cp:revision>
  <dc:subject/>
  <dc:title>培训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c0000000000010243100207f6000400038000</vt:lpwstr>
  </property>
  <property fmtid="{D5CDD505-2E9C-101B-9397-08002B2CF9AE}" pid="3" name="_TemplateID">
    <vt:lpwstr>TC062561682052</vt:lpwstr>
  </property>
</Properties>
</file>