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2758-319F-4089-9BC5-06EC1E7BA4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Александр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A2A2-9A67-442E-93B8-744916F8F6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3 в «Новом мире» опубликовал 3 рассказа: «Матренин двор»(1959</a:t>
            </a:r>
            <a:r>
              <a:rPr b="1" lang="en-US" sz="1200" spc="-1" strike="noStrike">
                <a:solidFill>
                  <a:srgbClr val="262699"/>
                </a:solidFill>
                <a:latin typeface="宋体"/>
              </a:rPr>
              <a:t>)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; «Случай на станции Кочетовка» (1962) и «Для пользы дела» (1963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ябре 1969 Солженицына исключили из Союза писателей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025F-7CBA-4BDA-945E-12713B98CB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17DC-8AF0-49B7-BCC0-CE65F2045A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97 избран действительным членом Академии наук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BCB0-4E11-4A12-882C-C5150312C5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A7EA-59D6-4B1C-81D9-5A1E0485A68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чь с 3 на 4 августа 2008 года Солженицын скончался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8218-B93D-4B30-A873-B75B16E40E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Пир победителей" (сатирическая пьеса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Один день Ивана Денисовича" (195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атренин двор" (1959-1960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Случай на станции Кречетовк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ля пользы дел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Захар-Калита" (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В круге первом" (1955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аковый корпус" (1963-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вгуст 1914" (1971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Красное Колесо: Повествованье в отмеренных сроках в четырёх узлах" (1971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рхипелаг ГУЛАГ" (1958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Ленин в Цюрихе" (197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Бодался телёнок с дубом" (1975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Эго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 краях"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олодняк" (1995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стенька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брикосовое варенье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Угодило зёрнышко промеж двух жерновов" (1998-200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оссия в обвале" (199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вести лет вместе" (1975-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Желябугские выселки" (1999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длиг Швенкиттен " (199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F418-C346-4B37-A30F-68384121504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Мать – Таисия Захаровна Щербак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из семьи богатого землевладельца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. Отец – Исаакий Семенович Солженицын во время Первой Мировой войны пошел на фронт добровольцем и служил офицером. Он погиб до рождения сына, 15 июня 1918 года, уже после демобилизации (в результате несчастного случая на охоте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Исаакий Семенович Солженицын изображен под именем Сани Лаженицына в эпопее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F139-309D-4597-99B4-4CBDA2D004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8E12-15E1-4183-AB38-7856ABE7D13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18F9-8C79-4C5E-80E7-EB492BE332F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4377-8E4C-465A-BFFF-9EF1115F733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оизведен в капитан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BBEA-636E-4F64-868D-F1C98D9B1F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1957-9052-44DD-AD8B-B50EDBE417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CDCF-D44C-412B-8050-D486F80B96A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5BAA-A3B8-42E8-9F39-FD913BD3B5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599-EC26-4AEE-A21F-87431442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5B3-C825-448E-8B9B-878DB2DF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2B2-D11B-4D88-BBE1-ED1A846C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412-36C0-4595-BAB5-DF0611DC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AAC7-829B-4218-8C31-4D72E659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D617-A1E5-4BEC-881A-A856F9B6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B05A-7B10-4AE1-980C-BA336B53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2E99-8C49-471E-81FB-80E6F48E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BC6D-B4BF-42CF-821A-4D67509D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BDF5-B3D1-45E8-BB15-3B33C90D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84DD-673B-40E7-BE30-EF632CF7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F32-7987-4570-A1E7-E3EF37A1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655D-7349-4A2B-B460-A9D66F38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1145-B862-43FD-AD6B-859399E7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E62D-6CE7-4BA7-B378-2C9CAF1B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3453-A359-402A-B9D2-6B7A363E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3AF3-D19F-48E0-BA2B-EFEF5DDA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F2C-CF4E-4458-874A-39368AF9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45B-594A-4E89-A761-2C040E4B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59A-4B00-45EF-AF51-1F09267B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5E9-B535-43ED-93B6-FFDAAC59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5D1-FF49-40B4-8402-0F4842EB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277-1604-41CB-B85B-9FB996B5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11F-9F3E-491E-AF54-20F6E966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5579-F473-49AC-B3BA-7742B1A8C546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B4B5-4DB9-4BF1-B3FD-E172E998661A}" type="slidenum">
              <a:rPr b="0" lang="zh-CN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46432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Александр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5840" y="5214960"/>
            <a:ext cx="421488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20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043640" y="2071800"/>
            <a:ext cx="253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Иса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0720" y="3571920"/>
            <a:ext cx="37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Солжениц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jzl-116.jpg"/>
          <p:cNvPicPr/>
          <p:nvPr/>
        </p:nvPicPr>
        <p:blipFill>
          <a:blip r:embed="rId1"/>
          <a:stretch/>
        </p:blipFill>
        <p:spPr>
          <a:xfrm>
            <a:off x="4643280" y="500040"/>
            <a:ext cx="4329360" cy="578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0" y="1429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3 в «Новом мире» опубликовал 3 рассказа: «Матренин двор»(1959</a:t>
            </a:r>
            <a:r>
              <a:rPr b="1" lang="en-US" sz="1800" spc="-1" strike="noStrike">
                <a:solidFill>
                  <a:srgbClr val="dd7e0e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; «Случай на станции Кочетовка» (1962) и «Для пользы дела» (196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ябре 1969 Солженицына исключили из Союза пис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42920" y="142920"/>
            <a:ext cx="40003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7e0e"/>
                </a:solidFill>
                <a:latin typeface="Arial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Рисунок6.jpg"/>
          <p:cNvPicPr/>
          <p:nvPr/>
        </p:nvPicPr>
        <p:blipFill>
          <a:blip r:embed="rId1"/>
          <a:stretch/>
        </p:blipFill>
        <p:spPr>
          <a:xfrm>
            <a:off x="4554360" y="214200"/>
            <a:ext cx="428004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71680" y="4287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27 мая 1994 Солженицын вернулся в Россию. После своего приезда Солженицын поселился под Москвой, в выделенном ему владении в деревне Троице-Лыково, где продолжил заниматься литературным т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" descr="Рисунок7.jpg"/>
          <p:cNvPicPr/>
          <p:nvPr/>
        </p:nvPicPr>
        <p:blipFill>
          <a:blip r:embed="rId1"/>
          <a:stretch/>
        </p:blipFill>
        <p:spPr>
          <a:xfrm>
            <a:off x="142920" y="1714680"/>
            <a:ext cx="4572000" cy="29001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jzl-103.jpg"/>
          <p:cNvPicPr/>
          <p:nvPr/>
        </p:nvPicPr>
        <p:blipFill>
          <a:blip r:embed="rId2"/>
          <a:stretch/>
        </p:blipFill>
        <p:spPr>
          <a:xfrm>
            <a:off x="4071960" y="3000240"/>
            <a:ext cx="4662360" cy="3571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214200" y="500076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97 избран действительным членом Академии наук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357120" y="357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jzl-090.jpg"/>
          <p:cNvPicPr/>
          <p:nvPr/>
        </p:nvPicPr>
        <p:blipFill>
          <a:blip r:embed="rId1"/>
          <a:stretch/>
        </p:blipFill>
        <p:spPr>
          <a:xfrm>
            <a:off x="2357280" y="3429000"/>
            <a:ext cx="4588200" cy="3000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jzl-076.jpg"/>
          <p:cNvPicPr/>
          <p:nvPr/>
        </p:nvPicPr>
        <p:blipFill>
          <a:blip r:embed="rId2"/>
          <a:stretch/>
        </p:blipFill>
        <p:spPr>
          <a:xfrm>
            <a:off x="4789440" y="214200"/>
            <a:ext cx="42274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642960" y="214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чь с 3 на 4 августа 2008 года Солженицын сконч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857160" y="60008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Его похоронили 6 августа, в центральной части старого кладбища на территории Донского 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" descr="jzl-121.jpg"/>
          <p:cNvPicPr/>
          <p:nvPr/>
        </p:nvPicPr>
        <p:blipFill>
          <a:blip r:embed="rId1"/>
          <a:stretch/>
        </p:blipFill>
        <p:spPr>
          <a:xfrm>
            <a:off x="1357200" y="642960"/>
            <a:ext cx="6048360" cy="5262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7e0e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14200" y="785880"/>
            <a:ext cx="8715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Пир победителей" (сатирическая пье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Один день Ивана Денисовича" (19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атренин двор" (1959-196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Случай на станции Кречетовк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ля пользы дел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Захар-Калита" (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В круге первом" (1955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аковый корпус" (1963-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вгуст 1914" (19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Красное Колесо: Повествованье в отмеренных сроках в четырёх узлах" (1971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рхипелаг ГУЛАГ" (1958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Ленин в Цюрихе" (19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Бодался телёнок с дубом" (1975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Эго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 краях"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олодняк" (199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стенька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брикосовое варенье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Угодило зёрнышко промеж двух жерновов" (1998-200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оссия в обвале" (199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вести лет вместе" (1975-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Желябугские выселки" (199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длиг Швенкиттен " (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7" descr=""/>
          <p:cNvPicPr/>
          <p:nvPr/>
        </p:nvPicPr>
        <p:blipFill>
          <a:blip r:embed="rId1"/>
          <a:stretch/>
        </p:blipFill>
        <p:spPr>
          <a:xfrm>
            <a:off x="6095880" y="-30240"/>
            <a:ext cx="3017880" cy="6527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родители1.jpg"/>
          <p:cNvPicPr/>
          <p:nvPr/>
        </p:nvPicPr>
        <p:blipFill>
          <a:blip r:embed="rId2"/>
          <a:stretch/>
        </p:blipFill>
        <p:spPr>
          <a:xfrm>
            <a:off x="2306520" y="233280"/>
            <a:ext cx="3908520" cy="2481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0"/>
          <p:cNvSpPr/>
          <p:nvPr/>
        </p:nvSpPr>
        <p:spPr>
          <a:xfrm>
            <a:off x="0" y="428760"/>
            <a:ext cx="214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11" descr="дом в Кисловодске1.jpg"/>
          <p:cNvPicPr/>
          <p:nvPr/>
        </p:nvPicPr>
        <p:blipFill>
          <a:blip r:embed="rId3"/>
          <a:stretch/>
        </p:blipFill>
        <p:spPr>
          <a:xfrm>
            <a:off x="142920" y="3551400"/>
            <a:ext cx="3571920" cy="2377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Рисунок1.jpg"/>
          <p:cNvPicPr/>
          <p:nvPr/>
        </p:nvPicPr>
        <p:blipFill>
          <a:blip r:embed="rId4"/>
          <a:stretch/>
        </p:blipFill>
        <p:spPr>
          <a:xfrm>
            <a:off x="3857760" y="2928960"/>
            <a:ext cx="22748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2920" y="214200"/>
            <a:ext cx="46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1924 году - Ростов - на - Дону.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младших классах подвергался насмешкам за ношение крестика и нежелание вступать в пионеры.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Несмотря на постоянные материальные и жилищные трудности, Солженицын в 1936, закончив среднюю школу, поступил на физико-математический факультет Ростовского универс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школа.jpg"/>
          <p:cNvPicPr/>
          <p:nvPr/>
        </p:nvPicPr>
        <p:blipFill>
          <a:blip r:embed="rId1"/>
          <a:stretch/>
        </p:blipFill>
        <p:spPr>
          <a:xfrm>
            <a:off x="4929120" y="142920"/>
            <a:ext cx="401652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2500200" y="3286080"/>
            <a:ext cx="242892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dd7e0e"/>
                </a:solidFill>
                <a:latin typeface="Arial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jzl-021.jpg"/>
          <p:cNvPicPr/>
          <p:nvPr/>
        </p:nvPicPr>
        <p:blipFill>
          <a:blip r:embed="rId2"/>
          <a:stretch/>
        </p:blipFill>
        <p:spPr>
          <a:xfrm>
            <a:off x="5000760" y="3071880"/>
            <a:ext cx="3929040" cy="3521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Рисунок2.jpg"/>
          <p:cNvPicPr/>
          <p:nvPr/>
        </p:nvPicPr>
        <p:blipFill>
          <a:blip r:embed="rId3"/>
          <a:stretch/>
        </p:blipFill>
        <p:spPr>
          <a:xfrm>
            <a:off x="142920" y="3143160"/>
            <a:ext cx="2335320" cy="347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"/>
          <p:cNvSpPr/>
          <p:nvPr/>
        </p:nvSpPr>
        <p:spPr>
          <a:xfrm>
            <a:off x="285840" y="301680"/>
            <a:ext cx="5000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9" descr="Рисунок3.jpg"/>
          <p:cNvPicPr/>
          <p:nvPr/>
        </p:nvPicPr>
        <p:blipFill>
          <a:blip r:embed="rId1"/>
          <a:stretch/>
        </p:blipFill>
        <p:spPr>
          <a:xfrm>
            <a:off x="5429160" y="714240"/>
            <a:ext cx="3540240" cy="5150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357800" y="35712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jzl-024.jpg"/>
          <p:cNvPicPr/>
          <p:nvPr/>
        </p:nvPicPr>
        <p:blipFill>
          <a:blip r:embed="rId1"/>
          <a:stretch/>
        </p:blipFill>
        <p:spPr>
          <a:xfrm>
            <a:off x="428760" y="785880"/>
            <a:ext cx="369252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85840" y="357120"/>
            <a:ext cx="3500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Произведен в капит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jzl-025.jpg"/>
          <p:cNvPicPr/>
          <p:nvPr/>
        </p:nvPicPr>
        <p:blipFill>
          <a:blip r:embed="rId1"/>
          <a:stretch/>
        </p:blipFill>
        <p:spPr>
          <a:xfrm>
            <a:off x="4394160" y="571680"/>
            <a:ext cx="407988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5"/>
          <p:cNvSpPr/>
          <p:nvPr/>
        </p:nvSpPr>
        <p:spPr>
          <a:xfrm>
            <a:off x="285840" y="142920"/>
            <a:ext cx="371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857760"/>
            <a:ext cx="45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Рисунок4.jpg"/>
          <p:cNvPicPr/>
          <p:nvPr/>
        </p:nvPicPr>
        <p:blipFill>
          <a:blip r:embed="rId1"/>
          <a:stretch/>
        </p:blipFill>
        <p:spPr>
          <a:xfrm>
            <a:off x="5357880" y="214200"/>
            <a:ext cx="2423880" cy="3340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шарашка.jpg"/>
          <p:cNvPicPr/>
          <p:nvPr/>
        </p:nvPicPr>
        <p:blipFill>
          <a:blip r:embed="rId2"/>
          <a:stretch/>
        </p:blipFill>
        <p:spPr>
          <a:xfrm>
            <a:off x="428760" y="3714840"/>
            <a:ext cx="375444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14200" y="407196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кок-терек.jpg"/>
          <p:cNvPicPr/>
          <p:nvPr/>
        </p:nvPicPr>
        <p:blipFill>
          <a:blip r:embed="rId1"/>
          <a:stretch/>
        </p:blipFill>
        <p:spPr>
          <a:xfrm>
            <a:off x="4143240" y="500040"/>
            <a:ext cx="4653000" cy="32576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Рисунок5.jpg"/>
          <p:cNvPicPr/>
          <p:nvPr/>
        </p:nvPicPr>
        <p:blipFill>
          <a:blip r:embed="rId2"/>
          <a:stretch/>
        </p:blipFill>
        <p:spPr>
          <a:xfrm>
            <a:off x="571680" y="214200"/>
            <a:ext cx="2500200" cy="3656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786200" y="42876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52 год – реабилитация и сельская школа недалеко от Рязани, где он учительствует и снимает с женой комнату  у Матрены Захаровой, ставшей прототипом знаменитой  хозяйки «Матрениного дво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Матренина изба.jpg"/>
          <p:cNvPicPr/>
          <p:nvPr/>
        </p:nvPicPr>
        <p:blipFill>
          <a:blip r:embed="rId1"/>
          <a:stretch/>
        </p:blipFill>
        <p:spPr>
          <a:xfrm>
            <a:off x="428760" y="428760"/>
            <a:ext cx="3857400" cy="23763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929120" y="3000240"/>
            <a:ext cx="350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1960-е.jpg"/>
          <p:cNvPicPr/>
          <p:nvPr/>
        </p:nvPicPr>
        <p:blipFill>
          <a:blip r:embed="rId2"/>
          <a:stretch/>
        </p:blipFill>
        <p:spPr>
          <a:xfrm>
            <a:off x="857160" y="3000240"/>
            <a:ext cx="2714760" cy="354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2:34:37Z</dcterms:created>
  <dc:creator>echo</dc:creator>
  <dc:description/>
  <cp:keywords/>
  <dc:language>en-US</dc:language>
  <cp:lastModifiedBy>LEGION</cp:lastModifiedBy>
  <dcterms:modified xsi:type="dcterms:W3CDTF">2015-01-20T08:20:10Z</dcterms:modified>
  <cp:revision>38</cp:revision>
  <dc:subject/>
  <dc:title>培训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c0000000000010243100207f6000400038000</vt:lpwstr>
  </property>
  <property fmtid="{D5CDD505-2E9C-101B-9397-08002B2CF9AE}" pid="3" name="_TemplateID">
    <vt:lpwstr>TC062561682052</vt:lpwstr>
  </property>
</Properties>
</file>