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70F3-2259-4809-88FC-AF919649FAD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уло Коэль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47 г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B55B-C37F-48CB-AFB1-6C474BF918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ло Коэльо получили  множество престижных международных наград. Критики отмечают его реалистичный, полный поэзии и философии стиль. Язык символов в романах Коэльо говорит напрямую с сердцами читателей и это делает его романы популярными во всём мире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B289-F3CE-4CF2-91C0-CB9CC7B052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итатели Коэльо высоко ценят его духовность, честность, мудрость, а также его интерес к общемировым проблемам и открытость к общению с людьми в независимости от их происхождения и материального по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A889-EDA9-41E8-8D97-0B3EA1E7F8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ло Коэльо является Почётным советником в программе ЮНЕСКО « Межкультурные и межрелигиозные диалоги». В 2007 году ему было присвоено звание Посла доброй воли ООН, что способствовало его работе в области межкультурного диалога и защите прав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94CA-2060-4F14-A989-C30AC58FEF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6124-BE97-4A07-8606-CF3369960A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родился в Рио-де-Жанейро, Бразилия, 24 августа 1947 в семье инженера. Его родители хотели, чтобы мальчик пошёл по стопам отца, но уже в юности Пауло Коэльо решил, что хочет стать писателем. Его нежелание следовать воле родителей привело к тому, что в возрасте 17 лет Пауло был определён в психиатрическую больницу (1966), где проходил лечение электрошо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BF21-8114-4379-8AB1-D69DE02024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выпущен из больницы через три года, совершив три попытки побега. Коэльо позже признался, что его родители приняли решение поместить его в лечебницу потому, что хотели защитить его и не знали, что с ним делать. Опыт и переживания, которые он получил за эти тяжёлые три года Коэльо мастерски изложил в романе «Вероника решает умереть». В юности он также отбыл тюремное заключение за выступления против правящего диктаторского режима в Бразилии (в тюрьме он не раз подвергался пытка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CD28-5AC2-4EAE-ABCA-0715220720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упив желанию родителей, Коэльо поступает на юридический факультет, но уже через год он бросает учёбу, присоединяется движению хиппи и путешествует по Америке и Европе. В это же время он становится композитором и пишет песни для многих знаменитых бразильских исполн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EB80-4D28-48C0-91B3-B556B25EB0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же Пауло объединил силы с рок-звездой Раулем Сейхасом… Вместе они написали 120 песен (между 1973 и 1982), который революционизировали бразильскую рок-музыку; некоторые из этих песен — хиты и сегодня. Эрика Мармо описал тот период его жизни в своей книге «Песнь Волшебника: Музыкальная Карьера Пауло Коэльо», изданной в 2007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99E8-01B4-4E9B-A335-6AFEBEACA6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EFD1-CE67-4D8D-9C8F-8FFAD70677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совершил паломничество в 1986 году. Именно там он повторно обратился к христианству и снова обрёл веру, в которой его воспитывали отцы-иезуиты в школьные годы. Позже он описал этот опыт в своей первой книге «Дневник Мага», изданной в 1987 году. В следующем году вышла его вторая, и самая популярная книга «Алхимик». Этот роман не только принёс Коэльо мировую известность, но и обрел статус современной классики. Это история вне времени, которая не перестанет очаровывать и вдохновлять целые поколения будущих чит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7104-AB87-40EB-808C-79DF3F03B6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ующими книгами бы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рида» (199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ькирии (1992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ктуб» (1994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 берегу Рио Пьедра села я и заплакала» (1994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ятая гора» (1996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нига Воина света» (199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роника решает умереть» (199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«Дьявол и сеньорита Прим» (2000)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30F3-C891-433F-8E25-CA1FDB8BDA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оследние рабо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диннадцать минут» — бестселлер 2003 года-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ир» (2005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едьма с Портобелло» (2006)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бедитель остаётся один» (200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леф (201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рте 2011 года издательство АСТ впервые на русском языке выпустило роман «Валькирии», а в конце 2011 года готовится к изданию новый роман автора «Алеф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0D0B-7243-4296-B6EB-A812171C21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1EA-C290-4328-9911-3AFAEA48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E57-770E-4CE9-873B-1EC1325D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B6DA-C215-454C-9F46-FF1BD527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CD46-5445-4812-8A34-EF7F2327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F022-06C6-4064-83D9-FD9630BD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ACA4-6A81-48D3-B876-3037C6B1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2446-07F4-4EC7-B965-6DB6A10A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5A79-31D9-473E-AFB0-F80F0241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A172-D2F5-4063-8D45-8F60B754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4DB0-C379-4B3F-9EC9-4A09207A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1F23-AE17-431E-82C4-4722C5E4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42D7-393A-469C-BC38-7120F37D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6C2B-5F44-4DE3-B8B5-61B9B377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7384-5948-4F83-9707-D80C7E86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B88B-640A-421D-A9E8-A6CC34AA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C9DF-3836-4C70-9264-B0FF1A5F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0EF4-2362-4E32-A73B-772BC6E6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1159F1-181C-4001-B543-F2AA4A70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ABB3A-B852-4A84-B4B7-8CC4E9AD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997F4F-B6F8-4412-A4EE-C9428759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7851A-3D95-4630-8219-D648C707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14835-D149-4970-914C-E8E0AD28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6969-1EB1-4FA1-847D-FC76C7D1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CE6426-CBBB-4D24-8DFF-43B25376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CC2BC-F0D6-4380-BCAE-1968F0A9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092E2-C843-4CD8-A11D-4E7D91A2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10866-2D75-4F48-999C-CF885C61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12B44-C2AF-437D-BB5A-BE83C06F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4DE38-8F41-4776-BEA8-D9CAA2A7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3AC68E-1EF1-445E-A879-048782D4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0AAF09-1B84-47EE-BF6E-B18D327D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89735-5E65-4CA4-BE27-9A7902F0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3DEB22-9306-4DA1-854F-8EE063F6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F46-8233-4D87-8990-4518AA4E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4D6C75-6532-4C10-8114-BD714D67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BC05C0-EC82-4BA2-9F6A-B9B89254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516987-EF5E-4980-A044-C842CA5F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0A2780-AC6D-482B-9C17-48FDB5C8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78D475-C470-4803-902D-9EE83E78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AD7FA6-5F78-4A4F-8F25-472C1E6C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99F131-ECA2-4F45-9FBD-73D24BD2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231FE6-4D3E-4B23-B796-A4810A66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55CE41-CD23-4C99-A78D-C5F14B1F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83A5D5-9A76-42DC-8E75-AE313358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FD1-BA8E-4A33-B19A-A4D4FA14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BEF4A-E454-44AF-9FE5-038A54A3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0A0A0D-3FC5-4DAD-8635-5E86B68B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A64D6A-7298-48FA-A8B4-7BBC24B6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28487B-B541-4532-90A1-56997419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5908DF-54F9-40A4-B9D3-119FC87B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185517-1736-41A5-B951-17CB3D48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245D5A-DF2E-4D8B-94F7-62D1FA2B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BCA34-D62C-4122-B50E-F2810A28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C786C-5198-465C-A116-55578E17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396660-5926-481B-9C1D-33FC32CE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995D-E59C-464A-BF9E-65C741C7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C0B1E-08E6-4594-8C5A-C280273B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CF77D-A80B-4FE1-B03C-C57C7924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46C6A-BAF1-424C-B057-1A37C2D6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0D456-9F6D-48F2-B9E2-0313312A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2C008-18FA-4D88-87E4-2A7AEF45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993D5-62A1-46FC-A149-CDB9FEC7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A7862-8623-4AA0-8E54-33DAFFDC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D0012-98E0-4675-9469-313DC571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20354-F60E-4A9D-B963-D27EA4B8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E7F85-F224-4148-A324-C80991C0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2C6-54FE-4459-BEF3-DB9071B9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B2295-BFB7-4234-855C-E3B15E87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50C85-EA45-4139-9F57-BAB1B3B8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46B67-79A3-4E24-BB09-2CCE908D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3F6F06-A448-4FC2-9144-F489C111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C65263-C565-42CC-AE80-4A3D14AB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912BE9-D5E3-444D-821B-3C38362C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25EF84-523D-48F9-B08E-CB8816D9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EFCCBA-29BD-44DF-8B2E-EC2DB00C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582C8-F8BC-49C3-8E10-7AD78A15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955B6C-D622-439B-8678-587FA4D1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E7B-9C58-401A-A755-688887E1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A53877-A504-4B07-89A8-4B461CE0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CCC1A-6174-446C-8227-88FEB996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BA0403-5136-42D4-9401-FC223B85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4186BA-4CA8-4439-9F11-115D1A40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DD82D6-DF12-4DEB-8153-C52A4153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93AED-1CB4-4984-9A65-E71D708F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21D0E-66B6-44E4-BD03-34A831E6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034CE-BAD8-4BB5-9801-FCB4CBC5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40C92-CE3F-4C65-AC75-7AD8158B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25F9B-9940-4CBF-A12E-A8E1CAED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93B4-1715-45F4-8D86-ED9D3C44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609057-970A-4CC0-9B2E-43D9B02D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C00A3-72A5-4475-8194-39B6BC50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58934B-00F7-405F-95F5-E7C23545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8CBD5-BD03-47C9-B129-6F6DE367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D11A4-76B8-4549-A453-26C78782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7A4C1-F859-4BF3-B488-7C51DEF2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3122B-EC2E-40B3-A0C7-D5F9F4FA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DAA7-7F9E-4CC2-955C-4B2D848DC18C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D5CC-1CB9-456B-B7AE-1F2C3BC0A396}" type="slidenum">
              <a:rPr b="1" lang="ru-RU" sz="1400" spc="-1" strike="noStrike">
                <a:solidFill>
                  <a:srgbClr val="ebddc3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9443-97D4-4E70-8D8C-61FDA349BAB1}" type="slidenum">
              <a:rPr b="1" lang="ru-RU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AE86-5E7D-4638-B7A1-34DA34FECE4D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4DCA-8116-4BE6-9796-462986206881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B6AF-3B0E-4FB5-9C7A-461408EE2804}" type="slidenum">
              <a:rPr b="1" lang="ru-RU" sz="1400" spc="-1" strike="noStrike">
                <a:solidFill>
                  <a:srgbClr val="775f55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CCD5-9CB0-439C-AB1C-B29091A2F684}" type="slidenum">
              <a:rPr b="1" lang="ru-RU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FDA2-BD56-4A50-8BA7-A710F024833A}" type="slidenum">
              <a:rPr b="1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0560" y="1915920"/>
            <a:ext cx="46450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</a:t>
            </a:r>
            <a:endParaRPr b="0" lang="en-US" sz="5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7 г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4" name="Picture 2" descr="Файл:PAULO COELHO.jpg"/>
          <p:cNvPicPr/>
          <p:nvPr/>
        </p:nvPicPr>
        <p:blipFill>
          <a:blip r:embed="rId1"/>
          <a:stretch/>
        </p:blipFill>
        <p:spPr>
          <a:xfrm>
            <a:off x="5559480" y="1700280"/>
            <a:ext cx="3255840" cy="866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ауло Коэльо получили  множество престижных международных наград. Критики отмечают его реалистичный, полный поэзии и философии стиль. Язык символов в романах Коэльо говорит напрямую с сердцами читателей и это делает его романы популярными во всём мире.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" descr="F:\п. коэльо\тии.jpg"/>
          <p:cNvPicPr/>
          <p:nvPr/>
        </p:nvPicPr>
        <p:blipFill>
          <a:blip r:embed="rId1"/>
          <a:stretch/>
        </p:blipFill>
        <p:spPr>
          <a:xfrm>
            <a:off x="6786720" y="0"/>
            <a:ext cx="2357280" cy="16066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F:\п. коэльо\хз.jpg"/>
          <p:cNvPicPr/>
          <p:nvPr/>
        </p:nvPicPr>
        <p:blipFill>
          <a:blip r:embed="rId2"/>
          <a:stretch/>
        </p:blipFill>
        <p:spPr>
          <a:xfrm>
            <a:off x="0" y="4394160"/>
            <a:ext cx="16430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читатели Коэльо высоко ценят его духовность, честность, мудрость, а также его интерес к общемировым проблемам и открытость к общению с людьми в независимости от их происхождения и материального положения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2" descr="F:\п. коэльо\ьтт.jpg"/>
          <p:cNvPicPr/>
          <p:nvPr/>
        </p:nvPicPr>
        <p:blipFill>
          <a:blip r:embed="rId1"/>
          <a:stretch/>
        </p:blipFill>
        <p:spPr>
          <a:xfrm>
            <a:off x="6215040" y="3984480"/>
            <a:ext cx="2513160" cy="2529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F:\п. коэльо\ти.jpg"/>
          <p:cNvPicPr/>
          <p:nvPr/>
        </p:nvPicPr>
        <p:blipFill>
          <a:blip r:embed="rId2"/>
          <a:stretch/>
        </p:blipFill>
        <p:spPr>
          <a:xfrm>
            <a:off x="357120" y="4497480"/>
            <a:ext cx="257184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ауло Коэльо является Почётным советником в программе ЮНЕСКО « Межкультурные и межрелигиозные диалоги». В 2007 году ему было присвоено звание Посла доброй воли ООН, что способствовало его работе в области межкультурного диалога и защите прав дете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2" descr="F:\п. коэльо\имм.jpg"/>
          <p:cNvPicPr/>
          <p:nvPr/>
        </p:nvPicPr>
        <p:blipFill>
          <a:blip r:embed="rId1"/>
          <a:stretch/>
        </p:blipFill>
        <p:spPr>
          <a:xfrm>
            <a:off x="7215120" y="4357800"/>
            <a:ext cx="1524240" cy="2286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F:\п. коэльо\i.jpg"/>
          <p:cNvPicPr/>
          <p:nvPr/>
        </p:nvPicPr>
        <p:blipFill>
          <a:blip r:embed="rId2"/>
          <a:stretch/>
        </p:blipFill>
        <p:spPr>
          <a:xfrm>
            <a:off x="500040" y="4572000"/>
            <a:ext cx="200016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4" descr="F:\п. коэльо\хз.jpg"/>
          <p:cNvPicPr/>
          <p:nvPr/>
        </p:nvPicPr>
        <p:blipFill>
          <a:blip r:embed="rId1"/>
          <a:stretch/>
        </p:blipFill>
        <p:spPr>
          <a:xfrm>
            <a:off x="2286000" y="285840"/>
            <a:ext cx="414504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0" y="15573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родился в Рио-де-Жанейро, Бразилия, 24 августа 1947 в семье инженера. Его родители хотели, чтобы мальчик пошёл по стопам отца, но уже в юности Пауло Коэльо решил, что хочет стать писателем. Его нежелание следовать воле родителей привело к тому, что в возрасте 17 лет Пауло был определён в психиатрическую больницу (1966), где проходил лечение электрошоком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2" descr="F:\п. коэльо\i.jpg"/>
          <p:cNvPicPr/>
          <p:nvPr/>
        </p:nvPicPr>
        <p:blipFill>
          <a:blip r:embed="rId1"/>
          <a:stretch/>
        </p:blipFill>
        <p:spPr>
          <a:xfrm>
            <a:off x="6772320" y="0"/>
            <a:ext cx="23716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90720" y="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выпущен из больницы через три года, совершив три попытки побега. Коэльо позже признался, что его родители приняли решение поместить его в лечебницу потому, что хотели защитить его и не знали, что с ним делать. Опыт и переживания, которые он получил за эти тяжёлые три года Коэльо мастерски изложил в романе «Вероника решает умереть». В юности он также отбыл тюремное заключение за выступления против правящего диктаторского режима в Бразилии (в тюрьме он не раз подвергался пыткам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2" descr="F:\п. коэльо\е.jpg"/>
          <p:cNvPicPr/>
          <p:nvPr/>
        </p:nvPicPr>
        <p:blipFill>
          <a:blip r:embed="rId1"/>
          <a:stretch/>
        </p:blipFill>
        <p:spPr>
          <a:xfrm>
            <a:off x="0" y="3790800"/>
            <a:ext cx="2189160" cy="30672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F:\п. коэльо\ти.jpg"/>
          <p:cNvPicPr/>
          <p:nvPr/>
        </p:nvPicPr>
        <p:blipFill>
          <a:blip r:embed="rId2"/>
          <a:stretch/>
        </p:blipFill>
        <p:spPr>
          <a:xfrm>
            <a:off x="3492360" y="4145040"/>
            <a:ext cx="359748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14842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упив желанию родителей, Коэльо поступает на юридический факультет, но уже через год он бросает учёбу, присоединяется движению хиппи и путешествует по Америке и Европе. В это же время он становится композитором и пишет песни для многих знаменитых бразильских исполнителей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F:\п. коэльо\имм.jpg"/>
          <p:cNvPicPr/>
          <p:nvPr/>
        </p:nvPicPr>
        <p:blipFill>
          <a:blip r:embed="rId1"/>
          <a:stretch/>
        </p:blipFill>
        <p:spPr>
          <a:xfrm>
            <a:off x="6950160" y="3565440"/>
            <a:ext cx="2193840" cy="3292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F:\п. коэльо\г.jpg"/>
          <p:cNvPicPr/>
          <p:nvPr/>
        </p:nvPicPr>
        <p:blipFill>
          <a:blip r:embed="rId2"/>
          <a:stretch/>
        </p:blipFill>
        <p:spPr>
          <a:xfrm>
            <a:off x="2871720" y="4127400"/>
            <a:ext cx="37483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15573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же Пауло объединил силы с рок-звездой Раулем Сейхасом… Вместе они написали 120 песен (между 1973 и 1982), который революционизировали бразильскую рок-музыку; некоторые из этих песен — хиты и сегодня. Эрика Мармо описал тот период его жизни в своей книге «Песнь Волшебника: Музыкальная Карьера Пауло Коэльо», изданной в 2007 год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2" descr="F:\п. коэльо\ти.jpg"/>
          <p:cNvPicPr/>
          <p:nvPr/>
        </p:nvPicPr>
        <p:blipFill>
          <a:blip r:embed="rId1"/>
          <a:stretch/>
        </p:blipFill>
        <p:spPr>
          <a:xfrm>
            <a:off x="5870520" y="4535640"/>
            <a:ext cx="3084480" cy="2322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F:\п. коэльо\ло.jpg"/>
          <p:cNvPicPr/>
          <p:nvPr/>
        </p:nvPicPr>
        <p:blipFill>
          <a:blip r:embed="rId2"/>
          <a:stretch/>
        </p:blipFill>
        <p:spPr>
          <a:xfrm>
            <a:off x="890640" y="4821120"/>
            <a:ext cx="213840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162828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9 году Пауло Коэльо попал в Книгу Рекордов Гиннеса как автор самого переводимого в мире романа (Алхимик). Более того, на Франкфуртской Книжной Ярмарке в 2003 году, он за одну автограф сессию подписал  наибольшее количество разноязычных изданий романа Алхимик (книги на 53 языках), за что также попал в Книгу Рекордов Гиннеса.  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2" descr="F:\п. коэльо\тии.jpg"/>
          <p:cNvPicPr/>
          <p:nvPr/>
        </p:nvPicPr>
        <p:blipFill>
          <a:blip r:embed="rId1"/>
          <a:stretch/>
        </p:blipFill>
        <p:spPr>
          <a:xfrm>
            <a:off x="6297480" y="4919760"/>
            <a:ext cx="2846520" cy="1938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F:\п. коэльо\ъ.jpg"/>
          <p:cNvPicPr/>
          <p:nvPr/>
        </p:nvPicPr>
        <p:blipFill>
          <a:blip r:embed="rId2"/>
          <a:stretch/>
        </p:blipFill>
        <p:spPr>
          <a:xfrm>
            <a:off x="0" y="0"/>
            <a:ext cx="2749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ло Коэльо совершил паломничество в 1986 году. Именно там он повторно обратился к христианству и снова обрёл веру, в которой его воспитывали отцы-иезуиты в школьные годы. Позже он описал этот опыт в своей первой книге «Дневник Мага», изданной в 1987 году. В следующем году вышла его вторая, и самая популярная книга «Алхимик». Этот роман не только принёс Коэльо мировую известность, но и обрел статус современной классики. Это история вне времени, которая не перестанет очаровывать и вдохновлять целые поколения будущих читател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2" descr="F:\п. коэльо\х.jpg"/>
          <p:cNvPicPr/>
          <p:nvPr/>
        </p:nvPicPr>
        <p:blipFill>
          <a:blip r:embed="rId1"/>
          <a:stretch/>
        </p:blipFill>
        <p:spPr>
          <a:xfrm>
            <a:off x="7093080" y="26028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F:\п. коэльо\ьтт.jpg"/>
          <p:cNvPicPr/>
          <p:nvPr/>
        </p:nvPicPr>
        <p:blipFill>
          <a:blip r:embed="rId2"/>
          <a:stretch/>
        </p:blipFill>
        <p:spPr>
          <a:xfrm>
            <a:off x="324000" y="5229360"/>
            <a:ext cx="1419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ледующими книгами был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Брида» (1990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алькирии (1992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Мактуб» (1994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На берегу Рио Пьедра села я и заплакала» (1994)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Пятая гора» (1996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Книга Воина света» (1997)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Вероника решает умереть» (1998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 «Дьявол и сеньорита Прим» (2000). 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2" descr="F:\п. коэльо\ш.jpg"/>
          <p:cNvPicPr/>
          <p:nvPr/>
        </p:nvPicPr>
        <p:blipFill>
          <a:blip r:embed="rId1"/>
          <a:stretch/>
        </p:blipFill>
        <p:spPr>
          <a:xfrm>
            <a:off x="6786720" y="3571920"/>
            <a:ext cx="200016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90720" y="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го последние работы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Одиннадцать минут» — бестселлер 2003 года-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Заир» (2005)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Ведьма с Портобелло» (2006) 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Победитель остаётся один» (2008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Алеф (2010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марте 2011 года издательство АСТ впервые на русском языке выпустило роман «Валькирии», а в конце 2011 года готовится к изданию новый роман автора «Алеф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2" descr="F:\п. коэльо\хз.jpg"/>
          <p:cNvPicPr/>
          <p:nvPr/>
        </p:nvPicPr>
        <p:blipFill>
          <a:blip r:embed="rId1"/>
          <a:stretch/>
        </p:blipFill>
        <p:spPr>
          <a:xfrm>
            <a:off x="214200" y="4286160"/>
            <a:ext cx="16066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2:38:38Z</dcterms:created>
  <dc:creator>Женя</dc:creator>
  <dc:description/>
  <dc:language>en-US</dc:language>
  <cp:lastModifiedBy>LEGION</cp:lastModifiedBy>
  <dcterms:modified xsi:type="dcterms:W3CDTF">2015-01-20T08:20:44Z</dcterms:modified>
  <cp:revision>9</cp:revision>
  <dc:subject/>
  <dc:title>Пауло Коэльо</dc:title>
</cp:coreProperties>
</file>