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34FE-3B56-4E17-B9DB-7E670AD969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7 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0CD2-E1B8-4DDC-82B5-427726C8D0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5BE-63C9-4003-BAC1-7AAB1D7D6C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EB2B-FF4E-4E0E-89BD-E555E5A797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05C7-80D8-42CE-ADFA-21FDEDD4AA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67FC-F83B-41EC-AFC3-611F4BE5FB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7D8A-253D-4322-B55A-AD551CE99F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DFEB-ACB4-4B95-B091-878A5961E3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F549-81EA-4BF5-8E0D-50AE4A0122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C4EA-343D-4166-8628-D2BD2FE55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D4B5-AC04-484C-B659-DB5DDFA0E7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0525-23B5-4FCB-901E-FAF7D509B5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11FE-8445-4651-B22E-24820F8F86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808B-57E6-494F-9A65-C6A81488CB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9C2-FD46-42F5-BDC1-F10B49FA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764-63FA-44BF-A9E8-DDCF3DBA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AC4-4174-4451-A545-FA2C5106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CB5-1D48-4EEA-ADDB-D646C3C8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3EE0-67E2-47BD-B12A-8117D598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4614-0A1F-424E-932D-9DA7FC4D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911E-9C2B-4A04-B8B0-BBAEDED8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3046-B8F1-4832-A01E-EFFC6335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8180-E1FF-4EA9-A5F5-6E2F9EF6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416C-8EE7-4EA7-8297-A863E270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DAF1-CD86-4C8C-BB27-4B9A45F2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C54-E134-46B6-A8EA-6D03BDB9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F8D5-EC88-45C6-A00B-5F5AA377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EAA2-7CAB-4149-9ECD-435E6DFB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5EF9-5820-4F9A-A88B-08FB81D1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C0DE-ED87-4A35-87DA-9F7A7EB5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1359-F878-4592-B79D-43C80165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BA704-9E59-483D-9164-59BAC35A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F3BB9-C432-4C6F-BEBB-500FC916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DEC92-1520-4056-BA69-74296EE9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04075-BF39-4159-ACF8-0C4B0570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2D76D-7616-4F8D-97B3-10A291C7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B9D-1430-4DFD-A62E-D45A82FF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39E50-BFE0-4AC2-AAA1-EFABBCEF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20547A-A706-4E9D-8737-C17A67DC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AD96C-0BDC-4533-8C84-E8E2E0B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20268-ECD9-4998-8FA9-6900AC97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E744D-8382-4063-BA3A-04D2B0B3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0CDF2-1D47-47BA-B16F-7675F6BB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82A7D-9B0F-418D-BF43-4D5E5A20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F6E115-C1D8-4381-8DBD-7B789011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318EB-B51D-477D-A87A-2228BC65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6C592-720F-4D27-BDE6-D27966C1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509-C9A5-40E7-A30E-4F93C0EC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62578-87E4-4DAD-8B0E-2E0DFD50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921F6-06E2-4B0A-969A-CD5A3C35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574BF-EB2F-4ECA-9776-C00ABE95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98967-B4A2-4C11-81FC-8C9679A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E21FE7-18D0-4565-8497-391C233B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D6969-8CE0-4EF8-8C69-64C33C7A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74D70-20FA-485E-A235-A7F1DCA9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F1F02-9759-42C7-93E3-DAC8B301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CB92C-6961-48FB-8CF2-79348405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154B1-44EC-4D5F-86A8-A7345D36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52F-F989-4D64-BAAD-AF3035C8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0502D-AF8B-41EC-B462-875B9AAB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63020-E46D-4F62-A984-9C6822A5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50C03-ED54-4C7E-8165-90EFDFD7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FFC3F-A051-451B-86E9-C5489584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D5D1F-0672-4AAE-AE25-3209EE4E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87877-D54B-4FED-8352-69DF3AA9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AF9C7-0070-4880-9B90-EB406925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85C4D-DE5E-4BDB-B0DF-7844171B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8EBA4-87A2-4337-9795-0FC87BE3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D85F5-2611-45B5-B468-D4E4D4FC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2E6-4466-468F-BC11-0E8ACBCE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2694F-5EAD-4F32-8031-D4B0D54C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911B4-AA0D-4EE2-BF26-EEE9BBD9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DD464-DAC0-4472-BBCE-6ACC192E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591EB-4073-46F4-983B-F7360306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3E76A-0696-4878-92B3-7A39E557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45BA8-0726-486D-A86F-7D84706E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0C584-25BA-4392-BC5B-F100AE7E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41795-6293-4C83-98DD-302C3FF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54E2C-E39D-42D6-AFDA-D36E9C71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BA6D7-48E3-4D84-918E-1FE246AB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A01-7F97-4258-AA86-1A3FE5A4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051E-CF70-480D-A1D2-9FA0BD0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16C4E-8A86-454C-8E77-3DF281D2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CD346-8670-494F-9CE0-A76F82D7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E13F4-60EE-48B0-8676-29822753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2612A-BC75-4370-95D7-F14C5843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4C9CE9-B55F-48BD-B05A-F015F031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38017-1C35-49D7-B8A0-2388A8F6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8AE546-9D88-4693-A535-1B072C7E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F2DEF-45BF-4219-95FA-38332785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B562F-85D4-4017-8501-F077AB12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9D0-E0D2-4D93-A97E-0C3B880B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8E9BD-2080-43F1-A586-BC4B690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DD665-CCD0-43F7-B39C-81D87F9E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EC06E-D9A3-4504-B0BB-49FBE8ED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89CB20-64EE-4A1C-81E7-BE3460BA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549F6F-8820-45F8-A866-955B1D6D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4F32-45D1-4C55-8EF0-CC36881A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F823C-FB2B-4644-86B9-6C227383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8C8BE-F3A1-46A0-B2CD-2D362BBB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2A97F-F1E5-4033-BC44-E88F7AE7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62D89-2F75-47B4-92A3-18627FB3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25B-D103-4C91-B332-ACBA00E0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E814A-8CB6-4864-A342-D1AFF0FD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388F2-653D-4DE8-97B8-4E6433FC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5E461-C3F0-403E-BA4D-8A21CD41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3CD7C-7A8E-4D00-B03A-33AC0BCD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5C7C8-7B60-4267-AD60-F6319D68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90955-8841-4929-A562-075ED682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9857D-C081-4291-9FB2-AECEFF56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3761-F8F3-4005-8EE1-373843172F7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A88D-EA14-4531-ACD3-E16920B3E71E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7295-9E7E-40F9-9E2C-7F6B462FF15D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D975-5151-4CF9-A9D3-46932B4872CE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8440-58A3-49E4-82F5-24A849937FC2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AB06-3972-45B9-848A-E8E261D58C5F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A83E-3D14-4BBE-8440-4DF254B20DFD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BA3D-8AFB-4220-BED9-7F65706C751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464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4" name="Picture 2" descr="Файл:PAULO COELHO.jpg"/>
          <p:cNvPicPr/>
          <p:nvPr/>
        </p:nvPicPr>
        <p:blipFill>
          <a:blip r:embed="rId1"/>
          <a:stretch/>
        </p:blipFill>
        <p:spPr>
          <a:xfrm>
            <a:off x="5559480" y="1700280"/>
            <a:ext cx="3255840" cy="86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786720" y="0"/>
            <a:ext cx="2357280" cy="1606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F:\п. коэльо\хз.jpg"/>
          <p:cNvPicPr/>
          <p:nvPr/>
        </p:nvPicPr>
        <p:blipFill>
          <a:blip r:embed="rId2"/>
          <a:stretch/>
        </p:blipFill>
        <p:spPr>
          <a:xfrm>
            <a:off x="0" y="4394160"/>
            <a:ext cx="1643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F:\п. коэльо\ьтт.jpg"/>
          <p:cNvPicPr/>
          <p:nvPr/>
        </p:nvPicPr>
        <p:blipFill>
          <a:blip r:embed="rId1"/>
          <a:stretch/>
        </p:blipFill>
        <p:spPr>
          <a:xfrm>
            <a:off x="6215040" y="3984480"/>
            <a:ext cx="2513160" cy="25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57120" y="4497480"/>
            <a:ext cx="25718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7215120" y="435780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F:\п. коэльо\i.jpg"/>
          <p:cNvPicPr/>
          <p:nvPr/>
        </p:nvPicPr>
        <p:blipFill>
          <a:blip r:embed="rId2"/>
          <a:stretch/>
        </p:blipFill>
        <p:spPr>
          <a:xfrm>
            <a:off x="500040" y="4572000"/>
            <a:ext cx="20001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F:\п. коэльо\хз.jpg"/>
          <p:cNvPicPr/>
          <p:nvPr/>
        </p:nvPicPr>
        <p:blipFill>
          <a:blip r:embed="rId1"/>
          <a:stretch/>
        </p:blipFill>
        <p:spPr>
          <a:xfrm>
            <a:off x="2286000" y="285840"/>
            <a:ext cx="41450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F:\п. коэльо\i.jpg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F:\п. коэльо\е.jpg"/>
          <p:cNvPicPr/>
          <p:nvPr/>
        </p:nvPicPr>
        <p:blipFill>
          <a:blip r:embed="rId1"/>
          <a:stretch/>
        </p:blipFill>
        <p:spPr>
          <a:xfrm>
            <a:off x="0" y="3790800"/>
            <a:ext cx="2189160" cy="3067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492360" y="4145040"/>
            <a:ext cx="3597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4842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6950160" y="3565440"/>
            <a:ext cx="2193840" cy="329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F:\п. коэльо\г.jpg"/>
          <p:cNvPicPr/>
          <p:nvPr/>
        </p:nvPicPr>
        <p:blipFill>
          <a:blip r:embed="rId2"/>
          <a:stretch/>
        </p:blipFill>
        <p:spPr>
          <a:xfrm>
            <a:off x="2871720" y="4127400"/>
            <a:ext cx="37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F:\п. коэльо\ти.jpg"/>
          <p:cNvPicPr/>
          <p:nvPr/>
        </p:nvPicPr>
        <p:blipFill>
          <a:blip r:embed="rId1"/>
          <a:stretch/>
        </p:blipFill>
        <p:spPr>
          <a:xfrm>
            <a:off x="5870520" y="4535640"/>
            <a:ext cx="3084480" cy="2322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F:\п. коэльо\ло.jpg"/>
          <p:cNvPicPr/>
          <p:nvPr/>
        </p:nvPicPr>
        <p:blipFill>
          <a:blip r:embed="rId2"/>
          <a:stretch/>
        </p:blipFill>
        <p:spPr>
          <a:xfrm>
            <a:off x="890640" y="4821120"/>
            <a:ext cx="21384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297480" y="4919760"/>
            <a:ext cx="2846520" cy="1938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F:\п. коэльо\ъ.jpg"/>
          <p:cNvPicPr/>
          <p:nvPr/>
        </p:nvPicPr>
        <p:blipFill>
          <a:blip r:embed="rId2"/>
          <a:stretch/>
        </p:blipFill>
        <p:spPr>
          <a:xfrm>
            <a:off x="0" y="0"/>
            <a:ext cx="2749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F:\п. коэльо\х.jpg"/>
          <p:cNvPicPr/>
          <p:nvPr/>
        </p:nvPicPr>
        <p:blipFill>
          <a:blip r:embed="rId1"/>
          <a:stretch/>
        </p:blipFill>
        <p:spPr>
          <a:xfrm>
            <a:off x="7093080" y="260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:\п. коэльо\ьтт.jpg"/>
          <p:cNvPicPr/>
          <p:nvPr/>
        </p:nvPicPr>
        <p:blipFill>
          <a:blip r:embed="rId2"/>
          <a:stretch/>
        </p:blipFill>
        <p:spPr>
          <a:xfrm>
            <a:off x="324000" y="5229360"/>
            <a:ext cx="1419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F:\п. коэльо\ш.jpg"/>
          <p:cNvPicPr/>
          <p:nvPr/>
        </p:nvPicPr>
        <p:blipFill>
          <a:blip r:embed="rId1"/>
          <a:stretch/>
        </p:blipFill>
        <p:spPr>
          <a:xfrm>
            <a:off x="6786720" y="3571920"/>
            <a:ext cx="20001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F:\п. коэльо\хз.jpg"/>
          <p:cNvPicPr/>
          <p:nvPr/>
        </p:nvPicPr>
        <p:blipFill>
          <a:blip r:embed="rId1"/>
          <a:stretch/>
        </p:blipFill>
        <p:spPr>
          <a:xfrm>
            <a:off x="214200" y="4286160"/>
            <a:ext cx="1606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38:38Z</dcterms:created>
  <dc:creator>Женя</dc:creator>
  <dc:description/>
  <dc:language>en-US</dc:language>
  <cp:lastModifiedBy>LEGION</cp:lastModifiedBy>
  <dcterms:modified xsi:type="dcterms:W3CDTF">2015-01-20T08:20:44Z</dcterms:modified>
  <cp:revision>9</cp:revision>
  <dc:subject/>
  <dc:title>Пауло Коэльо</dc:title>
</cp:coreProperties>
</file>