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152B-36D1-42A6-91B7-E23C221FE9F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уло Коэль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47 г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5598-77F9-478D-9D19-48B0155E05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ло Коэльо получили  множество престижных международных наград. Критики отмечают его реалистичный, полный поэзии и философии стиль. Язык символов в романах Коэльо говорит напрямую с сердцами читателей и это делает его романы популярными во всём мире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7987-C6CE-482B-BDCE-FC968A6B18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итатели Коэльо высоко ценят его духовность, честность, мудрость, а также его интерес к общемировым проблемам и открытость к общению с людьми в независимости от их происхождения и материального пол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124C-B9D7-47D4-ACD3-A04D048A6B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ло Коэльо является Почётным советником в программе ЮНЕСКО « Межкультурные и межрелигиозные диалоги». В 2007 году ему было присвоено звание Посла доброй воли ООН, что способствовало его работе в области межкультурного диалога и защите прав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98AC-DE64-482A-B4D3-5A392E3C6C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2009 году Пауло Коэльо попал в Книгу Рекордов Гиннеса как автор самого переводимого в мире романа (Алхимик). Более того, на Франкфуртской Книжной Ярмарке в 2003 году, он за одну автограф сессию подписал  наибольшее количество разноязычных изданий романа Алхимик (книги на 53 языках), за что также попал в Книгу Рекордов Гиннеса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56C7-2124-4C49-A14A-FEF41BC166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 родился в Рио-де-Жанейро, Бразилия, 24 августа 1947 в семье инженера. Его родители хотели, чтобы мальчик пошёл по стопам отца, но уже в юности Пауло Коэльо решил, что хочет стать писателем. Его нежелание следовать воле родителей привело к тому, что в возрасте 17 лет Пауло был определён в психиатрическую больницу (1966), где проходил лечение электрошо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12E3-2D55-403A-B012-3F57E2E4A4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был выпущен из больницы через три года, совершив три попытки побега. Коэльо позже признался, что его родители приняли решение поместить его в лечебницу потому, что хотели защитить его и не знали, что с ним делать. Опыт и переживания, которые он получил за эти тяжёлые три года Коэльо мастерски изложил в романе «Вероника решает умереть». В юности он также отбыл тюремное заключение за выступления против правящего диктаторского режима в Бразилии (в тюрьме он не раз подвергался пытка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957D-7AA9-46DC-B3C2-DD495D148E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упив желанию родителей, Коэльо поступает на юридический факультет, но уже через год он бросает учёбу, присоединяется движению хиппи и путешествует по Америке и Европе. В это же время он становится композитором и пишет песни для многих знаменитых бразильских исполн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E1E2-7A14-455E-BF09-8147E351F6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же Пауло объединил силы с рок-звездой Раулем Сейхасом… Вместе они написали 120 песен (между 1973 и 1982), который революционизировали бразильскую рок-музыку; некоторые из этих песен — хиты и сегодня. Эрика Мармо описал тот период его жизни в своей книге «Песнь Волшебника: Музыкальная Карьера Пауло Коэльо», изданной в 2007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3CE0-253F-492A-BD14-46D2598FB1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09 году Пауло Коэльо попал в Книгу Рекордов Гиннеса как автор самого переводимого в мире романа (Алхимик). Более того, на Франкфуртской Книжной Ярмарке в 2003 году, он за одну автограф сессию подписал  наибольшее количество разноязычных изданий романа Алхимик (книги на 53 языках), за что также попал в Книгу Рекордов Гиннеса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49A1-551A-4A20-85C4-75221355E7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 совершил паломничество в 1986 году. Именно там он повторно обратился к христианству и снова обрёл веру, в которой его воспитывали отцы-иезуиты в школьные годы. Позже он описал этот опыт в своей первой книге «Дневник Мага», изданной в 1987 году. В следующем году вышла его вторая, и самая популярная книга «Алхимик». Этот роман не только принёс Коэльо мировую известность, но и обрел статус современной классики. Это история вне времени, которая не перестанет очаровывать и вдохновлять целые поколения будущих чит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7399-7345-49E8-B81B-8F4239372D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ующими книгами бы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рида» (1990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ькирии (1992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актуб» (1994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 берегу Рио Пьедра села я и заплакала» (1994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ятая гора» (1996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нига Воина света» (1997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ероника решает умереть» (199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«Дьявол и сеньорита Прим» (2000)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C606-362A-4A4C-803F-DB07968335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оследние работ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диннадцать минут» — бестселлер 2003 года-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ир» (2005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едьма с Портобелло» (2006) 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бедитель остаётся один» (200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Алеф (2010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рте 2011 года издательство АСТ впервые на русском языке выпустило роман «Валькирии», а в конце 2011 года готовится к изданию новый роман автора «Алеф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FED6-537F-466C-A1DD-863C9B3879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4BB7-A217-48C8-A463-6C4948A17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7AF3-EFDA-4DA3-AF19-07EBC05A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2932-0BFC-4FDD-92D1-E4FA901E3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C71A-2D83-4E76-BD39-FEF1E9E51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BED9-7142-403C-BE5B-1193B711E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DD5C-4159-4FA6-A1C6-45EE1DAB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01D0-8F68-47EF-A9BE-82DB361C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B26A-A36F-483F-AA33-709C26C7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8815-66B9-49C3-899C-40691C8E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DA0C-AA7F-4C1D-A379-AA144290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A06E-39E8-4946-9B0F-659F43F0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C406-9547-4487-B676-2D1972FE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A4BF-04CF-4DD3-A0BD-4A5114C8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9D0E-43C8-4028-AAEA-B772A558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906F-EB3F-45F2-B257-268BD66D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6E2B-FD57-4734-9B00-2807676E1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B562-C542-4EC2-8CC4-0D50656DC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ABBECE-25F6-49DD-AC2C-35EA105C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882AD7-B6F1-4483-9050-37CEDBDC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C30C1A-B272-4A7F-813D-872073C9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B88343-4F3F-4C7E-AEC1-0F84BCF2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DB80C3-A1E7-4337-AC1A-3DF1AD14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260D-A144-45DE-8396-73D76298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3E571B-4C17-454C-B618-AA9CB4CE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953421-253C-4044-8E4D-575F943A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407AB9-B47A-4302-9706-E9A8C559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7EBF96-DA36-48D6-B12A-684C4A60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B3E7E7-A01F-4F0C-9C43-12D16D87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7B0E6C-E340-43FE-9B78-9638416C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AAF19A-E337-4086-B2BB-0C7FAEE37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E8DB7A-1D18-44B7-8A84-B7A0051EF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7C1D88-124A-4CCB-ACE0-523BD26B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A19731-8499-4010-894E-64D8CDF5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2845-94E6-4410-B157-15AC897F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1D5E02-E58E-4183-BB98-4ED172B9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A4D0FE-E09C-4AF8-8D92-EED93ED2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F1EF64-FE83-4822-A896-CE6F9EB1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9DEA4A-6C73-4CC3-B25F-E83FDAB3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9FAB8D-C503-4FD7-AE60-76C3123F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738AD1-90DC-4575-8B8D-EEA0A56B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9D3B9B-6464-4511-B724-48CA8191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317FDF-CA94-4B61-8CC5-B990A00D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C2FAEB-A4EC-4EA5-93A4-5B059006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F68308-E21A-4273-9FBA-6FA16D038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F495-8F24-4DA8-9349-2FFC346A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293FEA-B5D2-49B3-9DC3-E31EA373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248950-6F45-4529-96A3-FCD37B78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CE50AD-7237-45DB-8C67-6E98BFE0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45E939-3662-4BEF-B470-F6C6E290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2321B3-20B5-44F1-83DA-D1A1EB8E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7EBF85-75A6-4F3C-B1E0-C7CFEA56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3F28F0-D578-449C-9B56-E26FF2B7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0EBA44-A4A3-482B-A68C-29C503EF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372211-38A3-4624-BFEE-5018ECD3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819AA9-3082-4380-BBD2-BA1D6321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D6E0-1732-4693-AEC8-06E7FF4E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F93015-1152-4137-A6EF-E443523A5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E6819-4FA3-4B22-9DD4-88088B6A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B6D78-1DA2-467D-A0EA-34070D5D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E4E32-4C7B-4FB9-82B4-6B917CAD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F71AC-3FDB-4B14-ABB9-03ABCBE1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7B1B0-1611-4C13-A8DA-1BA72F49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A9E4B-545A-4777-9729-3E224CBC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BAA49-5720-4626-86F6-36016AD9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F1440-4308-4293-A4FF-EB5A53F3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74663-D436-4FAD-B2B3-F1202B1E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6280-A685-402E-982F-31DE554B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63D2F-5EE1-4D3A-825C-9A73C46E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DB37B-8B19-4546-BB2D-48322139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DF153-7E5E-4ED4-BB97-69248AFA5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6CB180-691A-4DF1-BB1A-0F7D23965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951993-27E6-4D07-9B09-6387AEDE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D63A3C-E31E-461C-AD8B-D6441CDE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99D312-64AE-4D80-93E4-9A19FBF8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7A5E28-7E5C-4032-9B10-D8A85C2F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F95C9E-0AB3-4AB9-BD47-D50D25F7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7A3B27-FA47-4B4E-A448-97BE7471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84F3-9717-4122-BEC2-4560CE86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DF29C0-0346-4A34-8239-DAC6464A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86C077-A256-4CB1-A2D0-8960A06C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7E3737-3D59-4662-AFE5-F6AA06A5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30653B-CEC4-476E-B07F-F3A1C070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27B18D-E895-400D-9D07-3FD2A41D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7D48F-9A80-4D52-B7AE-A224A9C2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A0B15-75E3-4749-BC75-EDA32901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4DDDA-5853-4FC6-84BB-78B2B243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2F63F-4848-4BD9-91AD-2011E275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682C6-4031-43C0-832A-F02E9FD5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091F-7BC5-4624-86CB-7D944684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87BC5-9658-4F0C-AECF-958CBE08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C365E-ACFE-40A3-90E2-04A0988D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CB1DA-2339-4F85-B8C3-80D4011D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0FD3E-177B-4A9B-A216-96921B63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19045-BB19-450A-800B-49C704ED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DABF4-571A-4F1B-A044-A0CE2A71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49C9C-1F27-4475-91C2-70D9BBAC3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065C-DA74-47B3-A9C0-B11F2026A17D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0234-76A3-4927-B9DC-E892DE476BB2}" type="slidenum">
              <a:rPr b="1" lang="ru-RU" sz="1400" spc="-1" strike="noStrike">
                <a:solidFill>
                  <a:srgbClr val="ebddc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A3AE-36AB-44F1-B438-F4FAB88AB724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0C89-A66F-4521-9EFE-8D0E8E390057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FE15-7162-4816-91F8-58E8EC235B08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C7EC-7685-49A4-AF10-97403FF04B8B}" type="slidenum">
              <a:rPr b="1" lang="ru-RU" sz="1400" spc="-1" strike="noStrike">
                <a:solidFill>
                  <a:srgbClr val="775f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31B8-ECA1-4BB4-B0F0-9B2A94A69249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D8BD-B132-4DD3-8897-5F83FBFD6082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0560" y="1915920"/>
            <a:ext cx="464508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</a:t>
            </a:r>
            <a:endParaRPr b="0" lang="en-US" sz="5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33200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47 г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4" name="Picture 2" descr="Файл:PAULO COELHO.jpg"/>
          <p:cNvPicPr/>
          <p:nvPr/>
        </p:nvPicPr>
        <p:blipFill>
          <a:blip r:embed="rId1"/>
          <a:stretch/>
        </p:blipFill>
        <p:spPr>
          <a:xfrm>
            <a:off x="5559480" y="1700280"/>
            <a:ext cx="3255840" cy="866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ауло Коэльо получили  множество престижных международных наград. Критики отмечают его реалистичный, полный поэзии и философии стиль. Язык символов в романах Коэльо говорит напрямую с сердцами читателей и это делает его романы популярными во всём мире. 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4" name="Picture 2" descr="F:\п. коэльо\тии.jpg"/>
          <p:cNvPicPr/>
          <p:nvPr/>
        </p:nvPicPr>
        <p:blipFill>
          <a:blip r:embed="rId1"/>
          <a:stretch/>
        </p:blipFill>
        <p:spPr>
          <a:xfrm>
            <a:off x="6786720" y="0"/>
            <a:ext cx="2357280" cy="16066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F:\п. коэльо\хз.jpg"/>
          <p:cNvPicPr/>
          <p:nvPr/>
        </p:nvPicPr>
        <p:blipFill>
          <a:blip r:embed="rId2"/>
          <a:stretch/>
        </p:blipFill>
        <p:spPr>
          <a:xfrm>
            <a:off x="0" y="4394160"/>
            <a:ext cx="164304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читатели Коэльо высоко ценят его духовность, честность, мудрость, а также его интерес к общемировым проблемам и открытость к общению с людьми в независимости от их происхождения и материального положения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Picture 2" descr="F:\п. коэльо\ьтт.jpg"/>
          <p:cNvPicPr/>
          <p:nvPr/>
        </p:nvPicPr>
        <p:blipFill>
          <a:blip r:embed="rId1"/>
          <a:stretch/>
        </p:blipFill>
        <p:spPr>
          <a:xfrm>
            <a:off x="6215040" y="3984480"/>
            <a:ext cx="2513160" cy="2529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F:\п. коэльо\ти.jpg"/>
          <p:cNvPicPr/>
          <p:nvPr/>
        </p:nvPicPr>
        <p:blipFill>
          <a:blip r:embed="rId2"/>
          <a:stretch/>
        </p:blipFill>
        <p:spPr>
          <a:xfrm>
            <a:off x="357120" y="4497480"/>
            <a:ext cx="257184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ауло Коэльо является Почётным советником в программе ЮНЕСКО « Межкультурные и межрелигиозные диалоги». В 2007 году ему было присвоено звание Посла доброй воли ООН, что способствовало его работе в области межкультурного диалога и защите прав дете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2" name="Picture 2" descr="F:\п. коэльо\имм.jpg"/>
          <p:cNvPicPr/>
          <p:nvPr/>
        </p:nvPicPr>
        <p:blipFill>
          <a:blip r:embed="rId1"/>
          <a:stretch/>
        </p:blipFill>
        <p:spPr>
          <a:xfrm>
            <a:off x="7215120" y="4357800"/>
            <a:ext cx="1524240" cy="2286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F:\п. коэльо\i.jpg"/>
          <p:cNvPicPr/>
          <p:nvPr/>
        </p:nvPicPr>
        <p:blipFill>
          <a:blip r:embed="rId2"/>
          <a:stretch/>
        </p:blipFill>
        <p:spPr>
          <a:xfrm>
            <a:off x="500040" y="4572000"/>
            <a:ext cx="200016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2009 году Пауло Коэльо попал в Книгу Рекордов Гиннеса как автор самого переводимого в мире романа (Алхимик). Более того, на Франкфуртской Книжной Ярмарке в 2003 году, он за одну автограф сессию подписал  наибольшее количество разноязычных изданий романа Алхимик (книги на 53 языках), за что также попал в Книгу Рекордов Гиннеса.  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4" descr="F:\п. коэльо\хз.jpg"/>
          <p:cNvPicPr/>
          <p:nvPr/>
        </p:nvPicPr>
        <p:blipFill>
          <a:blip r:embed="rId1"/>
          <a:stretch/>
        </p:blipFill>
        <p:spPr>
          <a:xfrm>
            <a:off x="2286000" y="285840"/>
            <a:ext cx="414504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0" y="15573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 родился в Рио-де-Жанейро, Бразилия, 24 августа 1947 в семье инженера. Его родители хотели, чтобы мальчик пошёл по стопам отца, но уже в юности Пауло Коэльо решил, что хочет стать писателем. Его нежелание следовать воле родителей привело к тому, что в возрасте 17 лет Пауло был определён в психиатрическую больницу (1966), где проходил лечение электрошоком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2" descr="F:\п. коэльо\i.jpg"/>
          <p:cNvPicPr/>
          <p:nvPr/>
        </p:nvPicPr>
        <p:blipFill>
          <a:blip r:embed="rId1"/>
          <a:stretch/>
        </p:blipFill>
        <p:spPr>
          <a:xfrm>
            <a:off x="6772320" y="0"/>
            <a:ext cx="237168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990720" y="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был выпущен из больницы через три года, совершив три попытки побега. Коэльо позже признался, что его родители приняли решение поместить его в лечебницу потому, что хотели защитить его и не знали, что с ним делать. Опыт и переживания, которые он получил за эти тяжёлые три года Коэльо мастерски изложил в романе «Вероника решает умереть». В юности он также отбыл тюремное заключение за выступления против правящего диктаторского режима в Бразилии (в тюрьме он не раз подвергался пыткам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2" descr="F:\п. коэльо\е.jpg"/>
          <p:cNvPicPr/>
          <p:nvPr/>
        </p:nvPicPr>
        <p:blipFill>
          <a:blip r:embed="rId1"/>
          <a:stretch/>
        </p:blipFill>
        <p:spPr>
          <a:xfrm>
            <a:off x="0" y="3790800"/>
            <a:ext cx="2189160" cy="30672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F:\п. коэльо\ти.jpg"/>
          <p:cNvPicPr/>
          <p:nvPr/>
        </p:nvPicPr>
        <p:blipFill>
          <a:blip r:embed="rId2"/>
          <a:stretch/>
        </p:blipFill>
        <p:spPr>
          <a:xfrm>
            <a:off x="3492360" y="4145040"/>
            <a:ext cx="359748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0" y="148428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упив желанию родителей, Коэльо поступает на юридический факультет, но уже через год он бросает учёбу, присоединяется движению хиппи и путешествует по Америке и Европе. В это же время он становится композитором и пишет песни для многих знаменитых бразильских исполнителей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2" descr="F:\п. коэльо\имм.jpg"/>
          <p:cNvPicPr/>
          <p:nvPr/>
        </p:nvPicPr>
        <p:blipFill>
          <a:blip r:embed="rId1"/>
          <a:stretch/>
        </p:blipFill>
        <p:spPr>
          <a:xfrm>
            <a:off x="6950160" y="3565440"/>
            <a:ext cx="2193840" cy="32925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F:\п. коэльо\г.jpg"/>
          <p:cNvPicPr/>
          <p:nvPr/>
        </p:nvPicPr>
        <p:blipFill>
          <a:blip r:embed="rId2"/>
          <a:stretch/>
        </p:blipFill>
        <p:spPr>
          <a:xfrm>
            <a:off x="2871720" y="4127400"/>
            <a:ext cx="37483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0" y="15573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же Пауло объединил силы с рок-звездой Раулем Сейхасом… Вместе они написали 120 песен (между 1973 и 1982), который революционизировали бразильскую рок-музыку; некоторые из этих песен — хиты и сегодня. Эрика Мармо описал тот период его жизни в своей книге «Песнь Волшебника: Музыкальная Карьера Пауло Коэльо», изданной в 2007 год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Picture 2" descr="F:\п. коэльо\ти.jpg"/>
          <p:cNvPicPr/>
          <p:nvPr/>
        </p:nvPicPr>
        <p:blipFill>
          <a:blip r:embed="rId1"/>
          <a:stretch/>
        </p:blipFill>
        <p:spPr>
          <a:xfrm>
            <a:off x="5870520" y="4535640"/>
            <a:ext cx="3084480" cy="23223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F:\п. коэльо\ло.jpg"/>
          <p:cNvPicPr/>
          <p:nvPr/>
        </p:nvPicPr>
        <p:blipFill>
          <a:blip r:embed="rId2"/>
          <a:stretch/>
        </p:blipFill>
        <p:spPr>
          <a:xfrm>
            <a:off x="890640" y="4821120"/>
            <a:ext cx="213840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0" y="162828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09 году Пауло Коэльо попал в Книгу Рекордов Гиннеса как автор самого переводимого в мире романа (Алхимик). Более того, на Франкфуртской Книжной Ярмарке в 2003 году, он за одну автограф сессию подписал  наибольшее количество разноязычных изданий романа Алхимик (книги на 53 языках), за что также попал в Книгу Рекордов Гиннеса.  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Picture 2" descr="F:\п. коэльо\тии.jpg"/>
          <p:cNvPicPr/>
          <p:nvPr/>
        </p:nvPicPr>
        <p:blipFill>
          <a:blip r:embed="rId1"/>
          <a:stretch/>
        </p:blipFill>
        <p:spPr>
          <a:xfrm>
            <a:off x="6297480" y="4919760"/>
            <a:ext cx="2846520" cy="1938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F:\п. коэльо\ъ.jpg"/>
          <p:cNvPicPr/>
          <p:nvPr/>
        </p:nvPicPr>
        <p:blipFill>
          <a:blip r:embed="rId2"/>
          <a:stretch/>
        </p:blipFill>
        <p:spPr>
          <a:xfrm>
            <a:off x="0" y="0"/>
            <a:ext cx="27496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 совершил паломничество в 1986 году. Именно там он повторно обратился к христианству и снова обрёл веру, в которой его воспитывали отцы-иезуиты в школьные годы. Позже он описал этот опыт в своей первой книге «Дневник Мага», изданной в 1987 году. В следующем году вышла его вторая, и самая популярная книга «Алхимик». Этот роман не только принёс Коэльо мировую известность, но и обрел статус современной классики. Это история вне времени, которая не перестанет очаровывать и вдохновлять целые поколения будущих читателе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2" descr="F:\п. коэльо\х.jpg"/>
          <p:cNvPicPr/>
          <p:nvPr/>
        </p:nvPicPr>
        <p:blipFill>
          <a:blip r:embed="rId1"/>
          <a:stretch/>
        </p:blipFill>
        <p:spPr>
          <a:xfrm>
            <a:off x="7093080" y="260280"/>
            <a:ext cx="1428480" cy="10670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F:\п. коэльо\ьтт.jpg"/>
          <p:cNvPicPr/>
          <p:nvPr/>
        </p:nvPicPr>
        <p:blipFill>
          <a:blip r:embed="rId2"/>
          <a:stretch/>
        </p:blipFill>
        <p:spPr>
          <a:xfrm>
            <a:off x="324000" y="5229360"/>
            <a:ext cx="1419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следующими книгами был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Брида» (1990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алькирии (1992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Мактуб» (1994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На берегу Рио Пьедра села я и заплакала» (1994)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Пятая гора» (1996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Книга Воина света» (1997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Вероника решает умереть» (1998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 «Дьявол и сеньорита Прим» (2000). 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8" name="Picture 2" descr="F:\п. коэльо\ш.jpg"/>
          <p:cNvPicPr/>
          <p:nvPr/>
        </p:nvPicPr>
        <p:blipFill>
          <a:blip r:embed="rId1"/>
          <a:stretch/>
        </p:blipFill>
        <p:spPr>
          <a:xfrm>
            <a:off x="6786720" y="3571920"/>
            <a:ext cx="200016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90720" y="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го последние работы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Одиннадцать минут» — бестселлер 2003 года-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Заир» (2005)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Ведьма с Портобелло» (2006) 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Победитель остаётся один» (2008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Алеф (2010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марте 2011 года издательство АСТ впервые на русском языке выпустило роман «Валькирии», а в конце 2011 года готовится к изданию новый роман автора «Алеф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Picture 2" descr="F:\п. коэльо\хз.jpg"/>
          <p:cNvPicPr/>
          <p:nvPr/>
        </p:nvPicPr>
        <p:blipFill>
          <a:blip r:embed="rId1"/>
          <a:stretch/>
        </p:blipFill>
        <p:spPr>
          <a:xfrm>
            <a:off x="214200" y="4286160"/>
            <a:ext cx="16066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2:38:38Z</dcterms:created>
  <dc:creator>Женя</dc:creator>
  <dc:description/>
  <dc:language>en-US</dc:language>
  <cp:lastModifiedBy>LEGION</cp:lastModifiedBy>
  <dcterms:modified xsi:type="dcterms:W3CDTF">2015-01-20T08:20:44Z</dcterms:modified>
  <cp:revision>9</cp:revision>
  <dc:subject/>
  <dc:title>Пауло Коэльо</dc:title>
</cp:coreProperties>
</file>