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2.jpeg" ContentType="image/jpeg"/>
  <Override PartName="/ppt/media/image19.png" ContentType="image/png"/>
  <Override PartName="/ppt/media/image1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ABF6F-035F-4366-979A-58EA568DBB8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ауло Коэль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947 г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E0D48-2B23-4C38-8F4E-6B006B97F86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уло Коэльо получили  множество престижных международных наград. Критики отмечают его реалистичный, полный поэзии и философии стиль. Язык символов в романах Коэльо говорит напрямую с сердцами читателей и это делает его романы популярными во всём мире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E2A5B-88F6-420C-9391-E3A9167C31F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итатели Коэльо высоко ценят его духовность, честность, мудрость, а также его интерес к общемировым проблемам и открытость к общению с людьми в независимости от их происхождения и материального полож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8B3FB-B9C2-4483-8D41-862BDE79282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уло Коэльо является Почётным советником в программе ЮНЕСКО « Межкультурные и межрелигиозные диалоги». В 2007 году ему было присвоено звание Посла доброй воли ООН, что способствовало его работе в области межкультурного диалога и защите прав де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6463E-C3BC-4D9F-92F4-30465185296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2009 году Пауло Коэльо попал в Книгу Рекордов Гиннеса как автор самого переводимого в мире романа (Алхимик). Более того, на Франкфуртской Книжной Ярмарке в 2003 году, он за одну автограф сессию подписал  наибольшее количество разноязычных изданий романа Алхимик (книги на 53 языках), за что также попал в Книгу Рекордов Гиннеса. 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BF2CB-EBE2-4602-ACB0-967933EE5AE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уло Коэльо родился в Рио-де-Жанейро, Бразилия, 24 августа 1947 в семье инженера. Его родители хотели, чтобы мальчик пошёл по стопам отца, но уже в юности Пауло Коэльо решил, что хочет стать писателем. Его нежелание следовать воле родителей привело к тому, что в возрасте 17 лет Пауло был определён в психиатрическую больницу (1966), где проходил лечение электрошок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B2BDD-A109-49B1-B13B-998C21EE69F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был выпущен из больницы через три года, совершив три попытки побега. Коэльо позже признался, что его родители приняли решение поместить его в лечебницу потому, что хотели защитить его и не знали, что с ним делать. Опыт и переживания, которые он получил за эти тяжёлые три года Коэльо мастерски изложил в романе «Вероника решает умереть». В юности он также отбыл тюремное заключение за выступления против правящего диктаторского режима в Бразилии (в тюрьме он не раз подвергался пыткам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1EA20-7A95-4A89-A982-DAFA3E60091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упив желанию родителей, Коэльо поступает на юридический факультет, но уже через год он бросает учёбу, присоединяется движению хиппи и путешествует по Америке и Европе. В это же время он становится композитором и пишет песни для многих знаменитых бразильских исполнител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36634-9E6C-45CB-A95E-9C720B8A62A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же Пауло объединил силы с рок-звездой Раулем Сейхасом… Вместе они написали 120 песен (между 1973 и 1982), который революционизировали бразильскую рок-музыку; некоторые из этих песен — хиты и сегодня. Эрика Мармо описал тот период его жизни в своей книге «Песнь Волшебника: Музыкальная Карьера Пауло Коэльо», изданной в 2007 год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3537C-1D24-43FD-89CB-C02092D9C3A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2009 году Пауло Коэльо попал в Книгу Рекордов Гиннеса как автор самого переводимого в мире романа (Алхимик). Более того, на Франкфуртской Книжной Ярмарке в 2003 году, он за одну автограф сессию подписал  наибольшее количество разноязычных изданий романа Алхимик (книги на 53 языках), за что также попал в Книгу Рекордов Гиннеса. 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8C8EA-E088-4054-ACEA-2D437A88955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орче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уло Коэльо совершил паломничество в 1986 году. Именно там он повторно обратился к христианству и снова обрёл веру, в которой его воспитывали отцы-иезуиты в школьные годы. Позже он описал этот опыт в своей первой книге «Дневник Мага», изданной в 1987 году. В следующем году вышла его вторая, и самая популярная книга «Алхимик». Этот роман не только принёс Коэльо мировую известность, но и обрел статус современной классики. Это история вне времени, которая не перестанет очаровывать и вдохновлять целые поколения будущих читател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548F5-6F58-4FBC-8284-1A8C4DB9DE4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дующими книгами был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Брида» (1990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ькирии (1992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Мактуб» (1994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На берегу Рио Пьедра села я и заплакала» (1994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Пятая гора» (1996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Книга Воина света» (1997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ероника решает умереть» (1998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«Дьявол и сеньорита Прим» (2000). 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3B109-461B-486C-8162-B673DAC5533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го последние работы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Одиннадцать минут» — бестселлер 2003 года-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Заир» (2005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едьма с Портобелло» (2006) 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Победитель остаётся один» (2008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Алеф (2010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марте 2011 года издательство АСТ впервые на русском языке выпустило роман «Валькирии», а в конце 2011 года готовится к изданию новый роман автора «Алеф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B134E-CE64-4E6B-B3F8-D16AD0AE85C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B610-BCC9-41CD-8C1B-FA8A9D6B9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37EB-B259-478A-B4E4-1727A6A2E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D8C7-C902-4520-B521-68F139E86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F497-4564-4E95-94F0-903F289CC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74D74-B65C-4EDB-8697-D14918642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EECFE-B825-475A-BC2A-7B0BCCAB8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817EA-51B5-46EC-BFA3-F277AF7E1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69ED6-7928-4AEF-979E-814DB55BF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FC185-6CA5-4EE1-8786-A945D2907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92976-7F49-43FE-947E-97A66CED2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27B74-7234-4BDB-8262-274054819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CC5E-6BA2-48D1-AAC8-727FFB9DF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7E8C2-9B31-4160-A723-B26D08522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5D739-A31E-4FB5-980C-1B7A69D93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2393D-8F72-4D11-BFD2-42715EF07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939A2-F85E-4E66-B66F-C01385A39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2C62F-DEAB-4D08-A196-9E9381C73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7F4B45-611B-47E3-BCC8-7F5820B4D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0598B0-567E-4B27-B0D9-BD6DAD034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074B1E-964F-487E-86B0-43237F012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FF75A9-07C2-4A89-BAC3-200B40050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DB5D99-596E-45B1-B86B-264B75B6C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4109-5A92-4549-8E9C-E16E0C5A8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CDC6FB-BC8B-4D35-BBCE-036290CC7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22D492-ED77-48C7-A5E2-28B462164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9C19AA-A57E-446A-91E5-9F9F4DEB5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3DC614-7B27-4946-9A6D-79E9695EA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AA28C4-001B-408A-B4B0-D053C39C2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719187-00DF-4DCB-BBC7-05F18A368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F4A823-2AB2-442D-A5C6-5F11B5FC5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2323855-617D-4970-A694-44B9898B0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2628EF1-4E2D-4DE3-9815-A8F68B8C9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E2EF3B9-8F19-4EAD-8914-CEA8BEB8F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9B8B-FC36-4440-941E-402F45766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8A3A47F-76C9-46AF-B45D-7F496A264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5B7AD1C-075B-4BB2-8BEA-7418AFFBB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B80685C-F32C-4252-BD4D-87434ABD2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8334A29-D0A7-4136-8E68-CE4140BD7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D6A0179-E1C0-483B-82C8-166036278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633D0F5-CE4D-4214-85F6-7C61835A9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A4003A2-0FC7-4C81-9D94-70ECEC930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099A170-D8E9-4A77-834C-5C4E1058B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D6B6F76-E20F-4036-9C2B-CC1A38658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08F8A1-4238-4238-8F87-028E7B29C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2FEC-F2EA-4A32-8324-BBB566B77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4953FF-C4B0-41E3-8405-7005F2091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C90B2A1-84E6-4C25-926D-38D2ABF43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9EDCAB-9A2B-4047-BED6-A44D6830E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EFE7B8-FFB0-4E88-8B6B-E8C23A18E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520072-26E8-4064-B7EF-E369857AD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5E6CDD-49FA-4A23-8174-80D077FD3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74B952-E273-49F2-82DD-B1A344FE9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60D7F1-8DA7-4957-8B98-98B148CB1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6F5223-65D9-4FB4-BD64-3336A38D6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4DF26A-2FDD-4FB7-B454-8926BC523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971C-DCE3-4A92-A5A1-5F0F5178C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5BB3B1-E41B-4717-8B61-3E73EA91D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6EFB95-23BA-45F5-9E69-D6F12F4C3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285FDC-4954-4054-9842-956796BE5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E9F4BE-60AF-4420-B20A-DA7E13837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7C6675-D079-4AEB-A892-3899B31B1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6A9732-E226-4DAF-B1D6-B60A3DDA3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56048A-B85E-424C-8442-F9830B3DA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6F962B-E96A-4C95-8DB7-E9CAE9FD2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9FC306-7402-432D-A479-1F47D00BD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449DD7-6118-416B-B701-44C990002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80D3-4AED-4530-B976-E9F8AFB74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EFFE54-4159-43CC-8B20-F3C9BE5FD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073130-1C3F-4540-8B3E-93C5D8264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AED690-28B3-4F8B-AD04-1E390355A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FE07512-B94F-4B89-A5A7-2A188D7BA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5E4A776-F560-4583-A08E-4650B49BD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652A6D9-0286-429F-B309-84318842D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0989140-C1AA-4D1E-8C03-6FBDE3AB8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67B6CBF-0560-463D-B28F-05CDF7C8D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4C3FB62-F597-4E5C-9125-21E38A31F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02A0165-676C-47D1-A932-6B7EB816A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AC3F-DD29-492E-9B6D-5BE82A330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D28B5AE-CEBF-4E14-86B7-9BB5F5C7D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CC5E3C0-4945-4D56-B10F-0A76E65C4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386CAC5-06BA-4A19-8D87-B97E6BC37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7C2E5B4-E4C9-4678-B401-97654D40C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31F9819-873E-46DD-A093-51F7831E7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25F83A-4918-45E0-A317-58F9F8E42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7A21C2-0852-4316-9FAA-A75D80D08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D2A369-0DDC-4772-A76B-9F23BC7E3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15BA81-223F-4083-B062-F1B61828E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247515-8502-4E2C-B198-8DAD4998B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2A2E-2B75-43C3-8935-A41211286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FF8F73-1B05-495C-BC1B-A8DB1A1C4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39B854-8803-4FEC-AB83-879F24B77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6A6C86-00C6-44E3-A75B-410B73879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4177FB-D80A-447C-873C-E5C8E1A68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D97265-7525-4DC1-96AB-358D3F14E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BB96E2-03CC-446E-AD93-0E38B65E0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BCC09D-74AA-4210-87C9-C67FEBB7B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BDA33-32D4-4133-B025-47D428137721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ebddc3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5F20A-5F4A-4514-A7ED-A62B4BE7F0F9}" type="slidenum">
              <a:rPr b="1" lang="ru-RU" sz="1400" spc="-1" strike="noStrike">
                <a:solidFill>
                  <a:srgbClr val="ebddc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5F837-FC88-4192-8CC1-3885B68F119A}" type="slidenum">
              <a:rPr b="1" lang="ru-RU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13B9B-DBE4-44E1-B989-68DB00468448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1118F-A673-46E0-AFD6-277F323724AC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6841A-F297-40F6-BA67-1DC96EDB45AD}" type="slidenum">
              <a:rPr b="1" lang="ru-RU" sz="1400" spc="-1" strike="noStrike">
                <a:solidFill>
                  <a:srgbClr val="775f55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Прямоугольник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Прямоугольник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Прямоугольник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Прямоугольник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BB946-2602-40BA-9B5D-4C6D48F9154E}" type="slidenum">
              <a:rPr b="1" lang="ru-RU" sz="2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Прямоугольник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рямоугольник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Прямоугольник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C317D-E265-4A4B-B31F-D1E36783C730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50560" y="1915920"/>
            <a:ext cx="464508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УЛО КОЭЛЬО</a:t>
            </a:r>
            <a:endParaRPr b="0" lang="en-US" sz="5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1332000" y="2852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47 г.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74" name="Picture 2" descr="Файл:PAULO COELHO.jpg"/>
          <p:cNvPicPr/>
          <p:nvPr/>
        </p:nvPicPr>
        <p:blipFill>
          <a:blip r:embed="rId1"/>
          <a:stretch/>
        </p:blipFill>
        <p:spPr>
          <a:xfrm>
            <a:off x="5559480" y="1700280"/>
            <a:ext cx="3255840" cy="866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Пауло Коэльо получили  множество престижных международных наград. Критики отмечают его реалистичный, полный поэзии и философии стиль. Язык символов в романах Коэльо говорит напрямую с сердцами читателей и это делает его романы популярными во всём мире. 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4" name="Picture 2" descr="F:\п. коэльо\тии.jpg"/>
          <p:cNvPicPr/>
          <p:nvPr/>
        </p:nvPicPr>
        <p:blipFill>
          <a:blip r:embed="rId1"/>
          <a:stretch/>
        </p:blipFill>
        <p:spPr>
          <a:xfrm>
            <a:off x="6786720" y="0"/>
            <a:ext cx="2357280" cy="160668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4" descr="F:\п. коэльо\хз.jpg"/>
          <p:cNvPicPr/>
          <p:nvPr/>
        </p:nvPicPr>
        <p:blipFill>
          <a:blip r:embed="rId2"/>
          <a:stretch/>
        </p:blipFill>
        <p:spPr>
          <a:xfrm>
            <a:off x="0" y="4394160"/>
            <a:ext cx="1643040" cy="24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Почитатели Коэльо высоко ценят его духовность, честность, мудрость, а также его интерес к общемировым проблемам и открытость к общению с людьми в независимости от их происхождения и материального положения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8" name="Picture 2" descr="F:\п. коэльо\ьтт.jpg"/>
          <p:cNvPicPr/>
          <p:nvPr/>
        </p:nvPicPr>
        <p:blipFill>
          <a:blip r:embed="rId1"/>
          <a:stretch/>
        </p:blipFill>
        <p:spPr>
          <a:xfrm>
            <a:off x="6215040" y="3984480"/>
            <a:ext cx="2513160" cy="252900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3" descr="F:\п. коэльо\ти.jpg"/>
          <p:cNvPicPr/>
          <p:nvPr/>
        </p:nvPicPr>
        <p:blipFill>
          <a:blip r:embed="rId2"/>
          <a:stretch/>
        </p:blipFill>
        <p:spPr>
          <a:xfrm>
            <a:off x="357120" y="4497480"/>
            <a:ext cx="2571840" cy="19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Пауло Коэльо является Почётным советником в программе ЮНЕСКО « Межкультурные и межрелигиозные диалоги». В 2007 году ему было присвоено звание Посла доброй воли ООН, что способствовало его работе в области межкультурного диалога и защите прав детей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2" name="Picture 2" descr="F:\п. коэльо\имм.jpg"/>
          <p:cNvPicPr/>
          <p:nvPr/>
        </p:nvPicPr>
        <p:blipFill>
          <a:blip r:embed="rId1"/>
          <a:stretch/>
        </p:blipFill>
        <p:spPr>
          <a:xfrm>
            <a:off x="7215120" y="4357800"/>
            <a:ext cx="1524240" cy="228600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3" descr="F:\п. коэльо\i.jpg"/>
          <p:cNvPicPr/>
          <p:nvPr/>
        </p:nvPicPr>
        <p:blipFill>
          <a:blip r:embed="rId2"/>
          <a:stretch/>
        </p:blipFill>
        <p:spPr>
          <a:xfrm>
            <a:off x="500040" y="4572000"/>
            <a:ext cx="2000160" cy="20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В 2009 году Пауло Коэльо попал в Книгу Рекордов Гиннеса как автор самого переводимого в мире романа (Алхимик). Более того, на Франкфуртской Книжной Ярмарке в 2003 году, он за одну автограф сессию подписал  наибольшее количество разноязычных изданий романа Алхимик (книги на 53 языках), за что также попал в Книгу Рекордов Гиннеса.  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Picture 4" descr="F:\п. коэльо\хз.jpg"/>
          <p:cNvPicPr/>
          <p:nvPr/>
        </p:nvPicPr>
        <p:blipFill>
          <a:blip r:embed="rId1"/>
          <a:stretch/>
        </p:blipFill>
        <p:spPr>
          <a:xfrm>
            <a:off x="2286000" y="285840"/>
            <a:ext cx="4145040" cy="62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0" y="155736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уло Коэльо родился в Рио-де-Жанейро, Бразилия, 24 августа 1947 в семье инженера. Его родители хотели, чтобы мальчик пошёл по стопам отца, но уже в юности Пауло Коэльо решил, что хочет стать писателем. Его нежелание следовать воле родителей привело к тому, что в возрасте 17 лет Пауло был определён в психиатрическую больницу (1966), где проходил лечение электрошоком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6" name="Picture 2" descr="F:\п. коэльо\i.jpg"/>
          <p:cNvPicPr/>
          <p:nvPr/>
        </p:nvPicPr>
        <p:blipFill>
          <a:blip r:embed="rId1"/>
          <a:stretch/>
        </p:blipFill>
        <p:spPr>
          <a:xfrm>
            <a:off x="6772320" y="0"/>
            <a:ext cx="2371680" cy="24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990720" y="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был выпущен из больницы через три года, совершив три попытки побега. Коэльо позже признался, что его родители приняли решение поместить его в лечебницу потому, что хотели защитить его и не знали, что с ним делать. Опыт и переживания, которые он получил за эти тяжёлые три года Коэльо мастерски изложил в романе «Вероника решает умереть». В юности он также отбыл тюремное заключение за выступления против правящего диктаторского режима в Бразилии (в тюрьме он не раз подвергался пыткам)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8" name="Picture 2" descr="F:\п. коэльо\е.jpg"/>
          <p:cNvPicPr/>
          <p:nvPr/>
        </p:nvPicPr>
        <p:blipFill>
          <a:blip r:embed="rId1"/>
          <a:stretch/>
        </p:blipFill>
        <p:spPr>
          <a:xfrm>
            <a:off x="0" y="3790800"/>
            <a:ext cx="2189160" cy="306720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3" descr="F:\п. коэльо\ти.jpg"/>
          <p:cNvPicPr/>
          <p:nvPr/>
        </p:nvPicPr>
        <p:blipFill>
          <a:blip r:embed="rId2"/>
          <a:stretch/>
        </p:blipFill>
        <p:spPr>
          <a:xfrm>
            <a:off x="3492360" y="4145040"/>
            <a:ext cx="3597480" cy="27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0" y="148428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упив желанию родителей, Коэльо поступает на юридический факультет, но уже через год он бросает учёбу, присоединяется движению хиппи и путешествует по Америке и Европе. В это же время он становится композитором и пишет песни для многих знаменитых бразильских исполнителей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2" name="Picture 2" descr="F:\п. коэльо\имм.jpg"/>
          <p:cNvPicPr/>
          <p:nvPr/>
        </p:nvPicPr>
        <p:blipFill>
          <a:blip r:embed="rId1"/>
          <a:stretch/>
        </p:blipFill>
        <p:spPr>
          <a:xfrm>
            <a:off x="6950160" y="3565440"/>
            <a:ext cx="2193840" cy="329256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3" descr="F:\п. коэльо\г.jpg"/>
          <p:cNvPicPr/>
          <p:nvPr/>
        </p:nvPicPr>
        <p:blipFill>
          <a:blip r:embed="rId2"/>
          <a:stretch/>
        </p:blipFill>
        <p:spPr>
          <a:xfrm>
            <a:off x="2871720" y="4127400"/>
            <a:ext cx="374832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0" y="155736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же Пауло объединил силы с рок-звездой Раулем Сейхасом… Вместе они написали 120 песен (между 1973 и 1982), который революционизировали бразильскую рок-музыку; некоторые из этих песен — хиты и сегодня. Эрика Мармо описал тот период его жизни в своей книге «Песнь Волшебника: Музыкальная Карьера Пауло Коэльо», изданной в 2007 году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6" name="Picture 2" descr="F:\п. коэльо\ти.jpg"/>
          <p:cNvPicPr/>
          <p:nvPr/>
        </p:nvPicPr>
        <p:blipFill>
          <a:blip r:embed="rId1"/>
          <a:stretch/>
        </p:blipFill>
        <p:spPr>
          <a:xfrm>
            <a:off x="5870520" y="4535640"/>
            <a:ext cx="3084480" cy="232236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3" descr="F:\п. коэльо\ло.jpg"/>
          <p:cNvPicPr/>
          <p:nvPr/>
        </p:nvPicPr>
        <p:blipFill>
          <a:blip r:embed="rId2"/>
          <a:stretch/>
        </p:blipFill>
        <p:spPr>
          <a:xfrm>
            <a:off x="890640" y="4821120"/>
            <a:ext cx="2138400" cy="37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0" y="1628280"/>
            <a:ext cx="81532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2009 году Пауло Коэльо попал в Книгу Рекордов Гиннеса как автор самого переводимого в мире романа (Алхимик). Более того, на Франкфуртской Книжной Ярмарке в 2003 году, он за одну автограф сессию подписал  наибольшее количество разноязычных изданий романа Алхимик (книги на 53 языках), за что также попал в Книгу Рекордов Гиннеса.  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0" name="Picture 2" descr="F:\п. коэльо\тии.jpg"/>
          <p:cNvPicPr/>
          <p:nvPr/>
        </p:nvPicPr>
        <p:blipFill>
          <a:blip r:embed="rId1"/>
          <a:stretch/>
        </p:blipFill>
        <p:spPr>
          <a:xfrm>
            <a:off x="6297480" y="4919760"/>
            <a:ext cx="2846520" cy="193824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3" descr="F:\п. коэльо\ъ.jpg"/>
          <p:cNvPicPr/>
          <p:nvPr/>
        </p:nvPicPr>
        <p:blipFill>
          <a:blip r:embed="rId2"/>
          <a:stretch/>
        </p:blipFill>
        <p:spPr>
          <a:xfrm>
            <a:off x="0" y="0"/>
            <a:ext cx="274968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орчество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уло Коэльо совершил паломничество в 1986 году. Именно там он повторно обратился к христианству и снова обрёл веру, в которой его воспитывали отцы-иезуиты в школьные годы. Позже он описал этот опыт в своей первой книге «Дневник Мага», изданной в 1987 году. В следующем году вышла его вторая, и самая популярная книга «Алхимик». Этот роман не только принёс Коэльо мировую известность, но и обрел статус современной классики. Это история вне времени, которая не перестанет очаровывать и вдохновлять целые поколения будущих читателей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4" name="Picture 2" descr="F:\п. коэльо\х.jpg"/>
          <p:cNvPicPr/>
          <p:nvPr/>
        </p:nvPicPr>
        <p:blipFill>
          <a:blip r:embed="rId1"/>
          <a:stretch/>
        </p:blipFill>
        <p:spPr>
          <a:xfrm>
            <a:off x="7093080" y="260280"/>
            <a:ext cx="1428480" cy="106704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3" descr="F:\п. коэльо\ьтт.jpg"/>
          <p:cNvPicPr/>
          <p:nvPr/>
        </p:nvPicPr>
        <p:blipFill>
          <a:blip r:embed="rId2"/>
          <a:stretch/>
        </p:blipFill>
        <p:spPr>
          <a:xfrm>
            <a:off x="324000" y="5229360"/>
            <a:ext cx="141912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оследующими книгами были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«Брида» (1990),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Валькирии (1992),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«Мактуб» (1994),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«На берегу Рио Пьедра села я и заплакала» (1994),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«Пятая гора» (1996),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«Книга Воина света» (1997),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«Вероника решает умереть» (1998)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и «Дьявол и сеньорита Прим» (2000).  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8" name="Picture 2" descr="F:\п. коэльо\ш.jpg"/>
          <p:cNvPicPr/>
          <p:nvPr/>
        </p:nvPicPr>
        <p:blipFill>
          <a:blip r:embed="rId1"/>
          <a:stretch/>
        </p:blipFill>
        <p:spPr>
          <a:xfrm>
            <a:off x="6786720" y="3571920"/>
            <a:ext cx="2000160" cy="30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990720" y="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Его последние работы: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«Одиннадцать минут» — бестселлер 2003 года-,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«Заир» (2005),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«Ведьма с Портобелло» (2006) ,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«Победитель остаётся один» (2008)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и Алеф (2010)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В марте 2011 года издательство АСТ впервые на русском языке выпустило роман «Валькирии», а в конце 2011 года готовится к изданию новый роман автора «Алеф»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1" name="Picture 2" descr="F:\п. коэльо\хз.jpg"/>
          <p:cNvPicPr/>
          <p:nvPr/>
        </p:nvPicPr>
        <p:blipFill>
          <a:blip r:embed="rId1"/>
          <a:stretch/>
        </p:blipFill>
        <p:spPr>
          <a:xfrm>
            <a:off x="214200" y="4286160"/>
            <a:ext cx="1606680" cy="24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4T12:38:38Z</dcterms:created>
  <dc:creator>Женя</dc:creator>
  <dc:description/>
  <dc:language>en-US</dc:language>
  <cp:lastModifiedBy>LEGION</cp:lastModifiedBy>
  <dcterms:modified xsi:type="dcterms:W3CDTF">2015-01-20T08:20:44Z</dcterms:modified>
  <cp:revision>9</cp:revision>
  <dc:subject/>
  <dc:title>Пауло Коэльо</dc:title>
</cp:coreProperties>
</file>