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5749-ACE4-4365-931F-EFC30B6AAE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Сочетание реалистического и мист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в повести Н.В.Гоголя «В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Учитель русского языка и литературы Соловьева Т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МОУ « Лебяжьевская  средняя общеобразовате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1964-C3A6-4F9E-BFD7-A9A1E7BF42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Первый раз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Хома видит её такой :  «Перед ним лежала красавица, с растрепанною косою, с длинными, как стрелы , ресницами. Бесчувственно отбросила она на обе стороны белые нагие руки и  стонала, возведя кверху очи, полные сле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511D-B7F9-4566-A214-2E9111F214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о второй раз</a:t>
            </a:r>
            <a:r>
              <a:rPr b="0" lang="ru-RU" sz="11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он</a:t>
            </a:r>
            <a:r>
              <a:rPr b="0" lang="ru-RU" sz="11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идит её в доме сот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ebb"/>
                </a:solidFill>
                <a:latin typeface="Calibri"/>
              </a:rPr>
              <a:t>«Она лежала как живая. Чело прекрасное, нежное, как снег, как серебро, казалось мыслило; брови  - ночь среди солнечного дня, тонкие, ровные, горделиво приподнялись над закрытыми глазами,  а ресницы, упавшие стрелами на щеки, пылавшие жаром тайных желаний; уста - рубины, готовые усмехнуться...</a:t>
            </a:r>
            <a:r>
              <a:rPr b="0" lang="ru-RU" sz="1000" spc="-1" strike="noStrike">
                <a:solidFill>
                  <a:srgbClr val="003ebb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Он чувствовал , что душа его начинала как-то болезненно ны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-Ведьма!- вскрикнул он не своим голосо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Это была та самая ведьма, которую он убил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58D0-3D0E-4927-AACF-D19C56EDDF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 церкви Хома глядит на усопшую в третий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Гоголь нагнетает ужас, портрет становится ещё </a:t>
            </a:r>
            <a:r>
              <a:rPr b="0" i="1" lang="ru-RU" sz="1200" spc="-1" strike="noStrike">
                <a:solidFill>
                  <a:srgbClr val="000000"/>
                </a:solidFill>
                <a:latin typeface="Cambria"/>
              </a:rPr>
              <a:t>более мистическим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: на щеке умершей Хома видит показавшуюся ему слезой каплю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же красота панночки была страш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, глядя на неё, Хома сразу все вспомнил и понял, что это ведь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в её красоте не было тепла , а  было что-то «страшно пронзительное», нечеловечес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Он подошел ко гробу, с робостию посмотрел в лицо умершей и не мог зажмурить, несколько вздрогнувши, своих глаз : такая страшная, сверкающая красота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4F0A-10B4-486B-A1EE-A296E12966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Интересно то , как Гоголь подводит читателя к  сценам  в церкви . Не только портрет панночки , но и описание  самой церкви подготавливает читателя к тому, что произойдё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«Церковь деревянная, почерневшая, убранная зеленым мохом, с тремя конусообразными куполами, уныло стояла на краю села. Заметно было, что в ней давно уже не отправлялось никакого служения... Небольшой дворик, за которым не было ни дерева и открывалось одно пустое поле да поглощенные ночным мраком луга... Высокий старинный иконостас уже показывал глубокую ветхость 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d050"/>
                </a:solidFill>
                <a:latin typeface="Cambria"/>
              </a:rPr>
              <a:t>Какие художественные средства использует автор в описа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36A3-35F2-4222-9000-D0B59B9146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Проследим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, как от эпизода к эпизоду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Гоголь усиливает ощущение мистического ужаса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, ожидание страшной развязк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mbria"/>
              </a:rPr>
              <a:t>Ночь первая</a:t>
            </a: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-покойница поднимает голову , садится в гробу , идет по церкви, пытается поймать Хому , гроб летает по церкви , позеленевший труп поднимается из него, раздается крик петух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EDAD-5E78-4561-894E-F6A8D915DD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Ночь вторая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- Хома видит труп на самой черте, покойница творит заклинания , нечистая сила ломится в церковь  , но не может попасть в неё, раздается крик петух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5EC3-1BEF-40DE-B8DC-266481F6B3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mbria"/>
              </a:rPr>
              <a:t>Ночь  третья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- мертвец встает из гроба, творит заклинания , падают иконы, бьются стёкла в окнах,  нечистая сила врывается в церковь, приводят Вия,  Хома не выдерживает и смотрит на него, Хома погибает,  петух кричит во второй раз, нечисть застревает в окнах и дверях церк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0D0A-9A25-450F-BEDF-3A1D2F45F0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mbria"/>
              </a:rPr>
              <a:t>Кто такой Ви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mbria"/>
              </a:rPr>
              <a:t>Почему повесть названа «Вий», хотя сам он появляется в самом конц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Может быть ,Вий -  это та страшная сила, которая все-таки погубила Хому за его жестокость(за избиение ведьмы поленом), вызвала в его душе суеверный страх , заставивший его взглянуть в глаза чудовищу, «не выдержать»в последний мо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В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У древних славян- существо, насылающее ночные  кошмары, видения  и привидения. Вся сила его была в глазах, которые очень сильно заросли бровями и ресницами и совсем затемнили з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Малороссийский Вий –   мифическое существо , у которого веки опускаются до самой земли , но если поднять их вилами, уже ничто не укроется от его взора . Слово  «вии» означает рес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2266-D574-4768-BA01-A64A5BAA16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мешным или страшным показалось вам это произве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Докажите, что в повести удачно сочетается  реалистическое и мистичес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В повести, действительно, необыкновенно удачно сплетаются два начала : реалистическое и мистическое. Одно от другого неотделимо в художественном мире Г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Талантливый писатель соединил народные предания и свою авторскую фантаз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3C27-0384-46FE-BB9C-6244A4EDE8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mbria"/>
              </a:rPr>
              <a:t>Цель урока-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нализ тех сцен повести «Вий» , в которых преобладает мистическое  начало. Знакомство с теми эпизодами повести, которые представляют  бытовую, реалистическую стор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повести необыкновенно удачно сплетаются два начала:    реалистическое и мисти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mbria"/>
              </a:rPr>
              <a:t>Реалистическо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ие хутора, хлева,  где  философ « толкнул ногою в морду   просунувшуюся из другого хлева любопытную свинь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3B8B-51EE-4DA1-B46C-67DBBB7FE3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а дальнейшая судьба двух приятелей Хо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Гоголь вводит в повесть двух друзей Хомы, чтобы расширить бытовое полотно , изобразить как можно больше колоритных фигур. Имена героев  представляют комическое сочетание  древнеримского  «Тиберий» и украинского «Горобец» (вороб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Эти сочетания особенно выразительны, когда к ним добавляются важные слова «философ», «ритор». Смысл прозвища  богослова Халявы - он всегда готов позавтракать, пообедать и поужинать тем, что плохо леж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E0F5-4E07-4D17-92A8-908603441A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Богослов был рослый, плечистый мужчина и имел чрезвычайно странный нрав: всё , что ни лежало, бывало, возле него, он непременно украд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Ритор Тиберий Горобець еще не имел права носить усов…и поэтому характер его в то время  ещё  мало развивался; но, судя по  большим шишкам на лбу, с которыми он часто являлся в класс, можно было предположить, что из него будет хороший вои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5716-D7B1-4D46-86F7-8541A744D2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«Философ Хома Брут был нрава веселого. Любил очень лежать и курить люльку. Он часто пробовал крупного гороху, но совершенно с философическим равнодушием , -говоря , что чему быть, того не минова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5F8B-4F2B-4C1F-94D3-BD8B42824A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 быт сотника, обряды , обычаи , традиции, в том числе в связи с погребением  (оплакивание  отцом умершей дочери , чтение над покойником святого  писания , прикладывание рук к горячей печи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Знание народных обычаев и традиций – одна из черт творчества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91BA-DEB7-41B5-A951-17969F596F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Cambria"/>
              </a:rPr>
              <a:t>Мистическо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нализ сцены, когда Хома , оказавшись в роли коня у ведьм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верху смотрит на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истика- это раздел фантастики, связанный с изображением  потустороннего мира, нечистой силы, необъяснимых яв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Как изменяется привычный мир в глазах  Хомы , соприкоснувшегося с потусторонней сил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В каком состоянии находится сам  Хо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BBEA-C05B-4C32-96A6-5D95774657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Луга, леса ,долины-всё ,казалось, как будто спало с открытыми глазами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ир преображается: он наполняется сказочными существами, незнакомыми прелестными звуками, запахами , кра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A161-33BE-4244-A183-C37ABE2B90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Герой Гоголя не может понять,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сон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это или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явь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. Когда он начинает творить заклятья , всё вокруг становится привычным: «Густая трава  касалась его, и он  уже  не видел в ней ничего необыкновенног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 вот ведьма превращается в красав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Зачем Гоголю понадобилось преображать ведь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Зачем он делает её столь прекрасной и несколько раз на протяжении повести рисует её портр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Что поражает в этом портр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DBD5-DF7A-4EB7-998F-2C612C6157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61B5-55D2-446A-9A2C-29342732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78A9-BA45-4B62-9F68-E7D48944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9511D1-484D-403F-ACC3-4C6EE267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69F931-7FA5-4582-BF4E-E52557DD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8E5F48-8360-415D-97B1-E52250D1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1E2C96-E3DF-4E21-842A-7A3DB356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2224C0-6CAF-4A9B-BF0B-B7E8B465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68A09E-BA7D-4112-81C0-CCA7D3FC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28A837-202D-47E5-B52A-C046DDE7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A17596-8ACE-4496-9D73-F0EA0C4B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EF2D58-B5C4-472F-A68A-1FC3B1DC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D040-701F-4742-8F74-13D433CC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817-53FC-41B4-8D9C-60B2F239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1ECCB-7F95-4F41-B3ED-C7321AA3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CC786-AA25-42FB-B53C-ABCF4822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8AC67-028F-4F27-8770-213CB74E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59BDA-2E44-4883-8FCC-CC5426ED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745F3-F68D-4DA2-B05A-BBF87AF0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ABFF3-C97F-4755-949E-2316EED8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FB531-D40D-4B86-A45C-0041924E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ADF-30FA-4BB2-912A-13235971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16EA5-ABE8-43AA-B79C-BF784360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2C20D-4B0E-4443-9540-033BEE60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4B601-0387-41C5-840C-D0B90690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4C448-731E-4E27-BA04-307031C3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ED6A1-2F0F-4BEE-BD04-541ACD49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46F13-1F9E-4B57-9EDC-0C9DF671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33EBF-2838-4308-949F-E29F8345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DBE21-364F-459A-99CD-A527FE85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C482A-64F8-4B87-B0A9-F5BC9E0A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4707D-E2F1-4536-B920-90BE263F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7E91-B1D0-4C07-822B-2D9F7149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6CF3E-51F1-4508-8BB0-5699581D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04341-7B3C-47DB-BC23-B022642F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4716D-611E-4666-BBA4-18B8015A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03EAC-4F27-4A8B-BB36-8E94480B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08C6B-99B2-4C15-990B-617B9081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109DD-F196-4A2B-8A15-8E3E66B4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080F8-7CD8-494F-9165-595B74A6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C516DE-1BBE-48E3-90F6-EAC38552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083C31-1C8B-4404-94D2-6B836634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0156C5-CDDC-45DB-B151-B5575C24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631-F6BD-48A5-B921-6671FC88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35BB17-DF0E-49A7-BADC-577D5E82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516E91-98A0-477C-B0EE-2BC059AC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C1E3C2-2D13-4C3C-B78B-28C8E741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50D5FD-0D2E-42EA-8E32-0D740287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CA8532-65A4-417D-9D00-2B65AE82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52C3A4-E0AE-4E5B-9FE9-5B7FF9D8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B667EA-12DB-4767-9A6C-9E43FC6E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A162F1-7B53-49D0-A531-FDF1A22C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052A9A-BCEE-4E02-81CC-8DC524F2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5EB91-98D0-45B7-8057-E736D677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D60D-0532-4B55-BD23-409C6462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6E405-DF7D-4201-90EE-0AF410B8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15E1A-59D5-4066-A35A-B5CF5F06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4EBDB-AD2D-43ED-881B-C8E2BBA4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5F69E-01D5-43E8-98F0-8D2854C0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B8D69-9CBB-44D8-B129-B1C75504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1F131-DC57-48E9-A730-C406A51D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FB25A-F4EA-48C1-BD96-4BF8DE8F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DB33A-4BB4-4480-A05C-7E5F96AF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0361C-A512-4466-88CC-E77DA462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44029-CEC0-4A67-80BC-45B7E778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CEC8-810D-431D-93A4-5D788AC7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50B7A-D6E7-4302-B9C4-3F8267ED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5D739-865E-4D0C-9C2B-B9865492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4E2DC-B825-499A-AFFA-1662908B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A2002-68D6-4349-A7FF-CEE2C540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F442D-EB20-4671-A43A-4A5B6ABD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813EA-32AE-466F-BAFF-B2950073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A6917-2B3A-46B8-BE54-44B110BE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FD3E3-4A30-4D07-AB48-662C81D0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76610-7283-44F3-9326-3B7C4531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1EBAE-4053-473E-BC65-39CA8147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FCA4-ED9B-4769-8E9E-51377C5F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5B361-7E26-4F90-A5A4-B81C1756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8F457-C72F-4D64-B1B7-CAAE6327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13611-0173-4207-B1F6-7C51216A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81884-1BF6-4512-9CFB-A3B4081C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A7964-42EA-4CA8-95D3-6D2D6E48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01719-FD7E-4CA4-A9E0-65A1A05C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A2127-E504-4CE0-9D01-C11EF832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FF412-0B3B-47AE-8C8D-4E30C934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22A82-E8BE-4688-AA05-6A7EB65F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2B76D-04F0-4DCA-9F0D-A0689687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4408-158F-404D-93F2-A9B06AE1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C52AB-66F6-4841-9325-8A430A58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2554A-B492-473D-95B9-79E393D0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77CAF-195E-413D-9484-70606724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2ADC5-2DED-465E-B5AB-6F6D37C1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1D1E9-3F3C-4DD2-B593-0E3E2418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C93A9D-DDB9-4B38-871E-6736AC82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3A382A-EADB-49A0-9A28-520AE230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D493A1-A9FC-4886-B9A4-6C11936E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80CF3D-8611-4C34-84E0-3CB9F820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6D5603-F30D-4374-AC2A-44D94901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0C83-D6F5-46B8-B4C1-53C86CF0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7B030A-7309-4EF1-920F-444756FF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EE23B3-7018-49DB-AEDB-FABB5206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58B861-F7D8-432B-864E-0EC75983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92AC2A-4974-4708-8A6D-23E97212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383F58-D404-499B-9C7F-F966BD5D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96CC8D-BFA9-4F62-8699-D577F454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0EEF66-8A63-4AD1-80E2-BBD0D70D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D6FB98-E5C4-4C58-BAFD-500829B7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91192E-7A99-4E6F-87C4-4DDBB7AB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31E3C0-7353-48E3-8BAE-92F35719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71C4-5086-4971-888F-693AC6D5693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759A-28B1-47C5-BD44-6926A3286DD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BF31-90A3-46CD-9717-BD5312C9188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42E1-E971-489B-A0DA-6443FE57B76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D32A-DABC-41AF-97A6-097EA9BD74F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15E3-8E85-4603-8876-BBA86A1D98E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659D-68B9-49D9-954F-D0CF076BE8E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8020-0FE1-482C-821A-B4617A490D6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F3EC-6A3C-4C78-B209-1C7D78D93E7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3786120" y="71280"/>
            <a:ext cx="52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рок литературы в 6 кл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-428760" y="285840"/>
            <a:ext cx="992988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Сочетание реалистического и мистическ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в повести Н.В.Гоголя «В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2" descr="C:\Users\1\Desktop\viewer[2].png"/>
          <p:cNvPicPr/>
          <p:nvPr/>
        </p:nvPicPr>
        <p:blipFill>
          <a:blip r:embed="rId1"/>
          <a:stretch/>
        </p:blipFill>
        <p:spPr>
          <a:xfrm>
            <a:off x="1500120" y="1785960"/>
            <a:ext cx="5929560" cy="407196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1000080" y="592920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Учитель русского языка и литературы Соловьева Т.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МОУ « Лебяжьевская  средняя общеобразовательная школ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5" descr="Film_shot00002"/>
          <p:cNvPicPr/>
          <p:nvPr/>
        </p:nvPicPr>
        <p:blipFill>
          <a:blip r:embed="rId1">
            <a:lum bright="6000"/>
          </a:blip>
          <a:srcRect l="0" t="0" r="0" b="159"/>
          <a:stretch/>
        </p:blipFill>
        <p:spPr>
          <a:xfrm>
            <a:off x="857160" y="285840"/>
            <a:ext cx="7429680" cy="4608360"/>
          </a:xfrm>
          <a:prstGeom prst="rect">
            <a:avLst/>
          </a:prstGeom>
          <a:ln w="0">
            <a:noFill/>
          </a:ln>
        </p:spPr>
      </p:pic>
      <p:sp>
        <p:nvSpPr>
          <p:cNvPr id="443" name="TextBox 2"/>
          <p:cNvSpPr/>
          <p:nvPr/>
        </p:nvSpPr>
        <p:spPr>
          <a:xfrm>
            <a:off x="500040" y="50007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ервый раз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Хома видит её такой :  «Перед ним лежала красавица, с растрепанною косою, с длинными, как стрелы , ресницами. Бесчувственно отбросила она на обе стороны белые нагие руки и  стонала, возведя кверху очи, полные слез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1"/>
          <p:cNvSpPr/>
          <p:nvPr/>
        </p:nvSpPr>
        <p:spPr>
          <a:xfrm>
            <a:off x="571680" y="571680"/>
            <a:ext cx="76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5" descr="10cfeddb"/>
          <p:cNvPicPr/>
          <p:nvPr/>
        </p:nvPicPr>
        <p:blipFill>
          <a:blip r:embed="rId1"/>
          <a:stretch/>
        </p:blipFill>
        <p:spPr>
          <a:xfrm>
            <a:off x="357120" y="1714680"/>
            <a:ext cx="5357880" cy="33573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0" y="500040"/>
            <a:ext cx="837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eacb"/>
                </a:solidFill>
                <a:latin typeface="Cambria"/>
              </a:rPr>
              <a:t>«Она лежала как живая. Чело прекрасное, нежное, как снег, как серебро, казалось мыслило; брови  - ночь среди солнечного дня, тонкие, ровные, горделиво приподнялись над закрытыми глазами,  а ресницы, упавшие стрелами на щеки, пылавшие жаром тайных желаний; уста - рубины, готовые усмехнуться...</a:t>
            </a:r>
            <a:r>
              <a:rPr b="0" lang="ru-RU" sz="1800" spc="-1" strike="noStrike">
                <a:solidFill>
                  <a:srgbClr val="e7eacb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4"/>
          <p:cNvSpPr/>
          <p:nvPr/>
        </p:nvSpPr>
        <p:spPr>
          <a:xfrm>
            <a:off x="428760" y="21420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о второй раз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н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идит её в доме сотн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500040" y="53578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Он чувствовал , что душа его начинала как-то болезненно ныть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-Ведьма!- вскрикнул он не своим голосом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Это была та самая ведьма, которую он убил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2"/>
          <p:cNvSpPr/>
          <p:nvPr/>
        </p:nvSpPr>
        <p:spPr>
          <a:xfrm>
            <a:off x="428760" y="71280"/>
            <a:ext cx="8215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церкви Хома глядит на усопшую в третий р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Гоголь нагнетает ужас, портрет становится ещё </a:t>
            </a:r>
            <a:r>
              <a:rPr b="0" i="1" lang="ru-RU" sz="2000" spc="-1" strike="noStrike">
                <a:solidFill>
                  <a:srgbClr val="ffffff"/>
                </a:solidFill>
                <a:latin typeface="Cambria"/>
              </a:rPr>
              <a:t>более мистическим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: на щеке умершей Хома видит показавшуюся ему слезой каплю кров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же красота панночки была страшно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, глядя на неё, Хома сразу все вспомнил и понял, что это ведьм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в её красоте не было тепла , а  было что-то «страшно пронзительное», нечеловеческо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Месяц 3"/>
          <p:cNvSpPr/>
          <p:nvPr/>
        </p:nvSpPr>
        <p:spPr>
          <a:xfrm>
            <a:off x="142920" y="1357200"/>
            <a:ext cx="35712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Овальная выноска 4"/>
          <p:cNvSpPr/>
          <p:nvPr/>
        </p:nvSpPr>
        <p:spPr>
          <a:xfrm>
            <a:off x="5143680" y="2928960"/>
            <a:ext cx="3643200" cy="3214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Box 5"/>
          <p:cNvSpPr/>
          <p:nvPr/>
        </p:nvSpPr>
        <p:spPr>
          <a:xfrm>
            <a:off x="5429160" y="3643200"/>
            <a:ext cx="342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Он подошел ко гробу, с робостию посмотрел в лицо умершей и не мог зажмурить, несколько вздрогнувши, своих глаз : такая страшная, сверкающая красота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1" descr="C:\Users\1\Desktop\kinopoisk.ru-Viy-1308255[1].jpg"/>
          <p:cNvPicPr/>
          <p:nvPr/>
        </p:nvPicPr>
        <p:blipFill>
          <a:blip r:embed="rId1"/>
          <a:stretch/>
        </p:blipFill>
        <p:spPr>
          <a:xfrm>
            <a:off x="285840" y="2857680"/>
            <a:ext cx="4857840" cy="367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5" descr="derevyannaya-cerkov-v-Sedneve"/>
          <p:cNvPicPr/>
          <p:nvPr/>
        </p:nvPicPr>
        <p:blipFill>
          <a:blip r:embed="rId1"/>
          <a:stretch/>
        </p:blipFill>
        <p:spPr>
          <a:xfrm>
            <a:off x="214200" y="142920"/>
            <a:ext cx="4095720" cy="6143760"/>
          </a:xfrm>
          <a:prstGeom prst="rect">
            <a:avLst/>
          </a:prstGeom>
          <a:ln w="0">
            <a:noFill/>
          </a:ln>
        </p:spPr>
      </p:pic>
      <p:sp>
        <p:nvSpPr>
          <p:cNvPr id="455" name="Прямоугольник 2"/>
          <p:cNvSpPr/>
          <p:nvPr/>
        </p:nvSpPr>
        <p:spPr>
          <a:xfrm>
            <a:off x="4357800" y="2286000"/>
            <a:ext cx="4643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Церковь деревянная, почерневшая, убранная зеленым мохом, с тремя конусообразными куполами, уныло стояла на краю села. Заметно было, что в ней давно уже не отправлялось никакого служения... Небольшой дворик, за которым не было ни дерева и открывалось одно пустое поле да поглощенные ночным мраком луга... Высокий старинный иконостас уже показывал глубокую ветхость 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Box 3"/>
          <p:cNvSpPr/>
          <p:nvPr/>
        </p:nvSpPr>
        <p:spPr>
          <a:xfrm>
            <a:off x="4500720" y="214200"/>
            <a:ext cx="3929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нтересно то , как Гоголь подводит читателя к  сценам  в церкви . Не только портрет панночки , но и описание  самой церкви подготавливает читателя к тому, что произойдё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Выноска-облако 4"/>
          <p:cNvSpPr/>
          <p:nvPr/>
        </p:nvSpPr>
        <p:spPr>
          <a:xfrm>
            <a:off x="214200" y="214200"/>
            <a:ext cx="2000520" cy="2071800"/>
          </a:xfrm>
          <a:prstGeom prst="cloudCallout">
            <a:avLst>
              <a:gd name="adj1" fmla="val -19629"/>
              <a:gd name="adj2" fmla="val 49722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Box 5"/>
          <p:cNvSpPr/>
          <p:nvPr/>
        </p:nvSpPr>
        <p:spPr>
          <a:xfrm>
            <a:off x="500040" y="7858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Что такое описани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Box 6"/>
          <p:cNvSpPr/>
          <p:nvPr/>
        </p:nvSpPr>
        <p:spPr>
          <a:xfrm>
            <a:off x="357120" y="6215040"/>
            <a:ext cx="821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Cambria"/>
              </a:rPr>
              <a:t>Какие художественные средства использует автор в описан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1"/>
          <p:cNvSpPr/>
          <p:nvPr/>
        </p:nvSpPr>
        <p:spPr>
          <a:xfrm>
            <a:off x="642960" y="214200"/>
            <a:ext cx="77868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Проследим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, как от эпизода к эпизоду </a:t>
            </a:r>
            <a:r>
              <a:rPr b="1" i="1" lang="ru-RU" sz="1800" spc="-1" strike="noStrike">
                <a:solidFill>
                  <a:srgbClr val="ffffff"/>
                </a:solidFill>
                <a:latin typeface="Cambria"/>
              </a:rPr>
              <a:t>Гоголь усиливает ощущение мистического ужаса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, ожидание страшной развязки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Ночь первая</a:t>
            </a: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-покойница поднимает голову , садится в гробу , идет по церкви, пытается поймать Хому , гроб летает по церкви , позеленевший труп поднимается из него, раздается крик петух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1" descr="C:\Users\1\Desktop\kinopoisk.ru-Viy-1308254[1].jpg"/>
          <p:cNvPicPr/>
          <p:nvPr/>
        </p:nvPicPr>
        <p:blipFill>
          <a:blip r:embed="rId1"/>
          <a:stretch/>
        </p:blipFill>
        <p:spPr>
          <a:xfrm>
            <a:off x="928800" y="2071800"/>
            <a:ext cx="671508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Box 2"/>
          <p:cNvSpPr/>
          <p:nvPr/>
        </p:nvSpPr>
        <p:spPr>
          <a:xfrm>
            <a:off x="428760" y="28584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Ночь вторая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Хома видит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труп на самой черте, покойница творит заклинания , нечистая сила ломится в церковь  , но не может попасть в неё, раздается крик петух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Picture 2" descr="C:\Users\1\Desktop\Новая папка (2)\10658_original[1].jpg"/>
          <p:cNvPicPr/>
          <p:nvPr/>
        </p:nvPicPr>
        <p:blipFill>
          <a:blip r:embed="rId1"/>
          <a:stretch/>
        </p:blipFill>
        <p:spPr>
          <a:xfrm>
            <a:off x="714240" y="2000160"/>
            <a:ext cx="3429000" cy="4229280"/>
          </a:xfrm>
          <a:prstGeom prst="rect">
            <a:avLst/>
          </a:prstGeom>
          <a:ln w="0">
            <a:noFill/>
          </a:ln>
        </p:spPr>
      </p:pic>
      <p:sp>
        <p:nvSpPr>
          <p:cNvPr id="464" name="4-конечная звезда 6"/>
          <p:cNvSpPr/>
          <p:nvPr/>
        </p:nvSpPr>
        <p:spPr>
          <a:xfrm>
            <a:off x="3357720" y="1357200"/>
            <a:ext cx="714240" cy="928800"/>
          </a:xfrm>
          <a:custGeom>
            <a:avLst/>
            <a:gdLst>
              <a:gd name="textAreaLeft" fmla="*/ 294120 w 714240"/>
              <a:gd name="textAreaRight" fmla="*/ 420120 w 714240"/>
              <a:gd name="textAreaTop" fmla="*/ 382680 h 928800"/>
              <a:gd name="textAreaBottom" fmla="*/ 54612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1" descr="C:\Users\1\Desktop\kinopoisk.ru-Viy-1135653[1].jpg"/>
          <p:cNvPicPr/>
          <p:nvPr/>
        </p:nvPicPr>
        <p:blipFill>
          <a:blip r:embed="rId2"/>
          <a:stretch/>
        </p:blipFill>
        <p:spPr>
          <a:xfrm>
            <a:off x="4143240" y="1571760"/>
            <a:ext cx="4643640" cy="4618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1"/>
          <p:cNvSpPr/>
          <p:nvPr/>
        </p:nvSpPr>
        <p:spPr>
          <a:xfrm>
            <a:off x="357120" y="428760"/>
            <a:ext cx="8501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Ночь  третья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- мертвец встает из гроба, творит заклинания , падают иконы, бьются стёкла в окнах,  нечистая сила врывается в церковь, приводят Вия,  Хома не выдерживает и смотрит на него, Хома погибает,  петух кричит во второй раз, нечисть застревает в окнах и дверях церк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7" descr="40f23dbff6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85840" y="2071800"/>
            <a:ext cx="5500440" cy="44290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C:\Users\1\Desktop\Новая папка (2)\filejIgFcX[1].gif"/>
          <p:cNvPicPr/>
          <p:nvPr/>
        </p:nvPicPr>
        <p:blipFill>
          <a:blip r:embed="rId2"/>
          <a:stretch/>
        </p:blipFill>
        <p:spPr>
          <a:xfrm>
            <a:off x="5715000" y="3214800"/>
            <a:ext cx="3286080" cy="3429000"/>
          </a:xfrm>
          <a:prstGeom prst="rect">
            <a:avLst/>
          </a:prstGeom>
          <a:ln w="0">
            <a:noFill/>
          </a:ln>
        </p:spPr>
      </p:pic>
      <p:sp>
        <p:nvSpPr>
          <p:cNvPr id="469" name="4-конечная звезда 4"/>
          <p:cNvSpPr/>
          <p:nvPr/>
        </p:nvSpPr>
        <p:spPr>
          <a:xfrm>
            <a:off x="5286240" y="2714760"/>
            <a:ext cx="1000440" cy="1214280"/>
          </a:xfrm>
          <a:custGeom>
            <a:avLst/>
            <a:gdLst>
              <a:gd name="textAreaLeft" fmla="*/ 412200 w 1000440"/>
              <a:gd name="textAreaRight" fmla="*/ 588240 w 1000440"/>
              <a:gd name="textAreaTop" fmla="*/ 500400 h 1214280"/>
              <a:gd name="textAreaBottom" fmla="*/ 71388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C:\Users\1\Desktop\Новая папка (2)\45798633_viy_big[1].jpg"/>
          <p:cNvPicPr/>
          <p:nvPr/>
        </p:nvPicPr>
        <p:blipFill>
          <a:blip r:embed="rId1"/>
          <a:stretch/>
        </p:blipFill>
        <p:spPr>
          <a:xfrm>
            <a:off x="5286240" y="2286000"/>
            <a:ext cx="3357720" cy="43578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2"/>
          <p:cNvSpPr/>
          <p:nvPr/>
        </p:nvSpPr>
        <p:spPr>
          <a:xfrm>
            <a:off x="571680" y="214200"/>
            <a:ext cx="735804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Кто такой Ви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очему повесть названа «Вий», хотя сам он появляется в самом конц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Может быть ,Вий -  это та страшная сила, которая все-таки погубила Хому за его жестокость(за избиение ведьмы поленом), вызвала в его душе суеверный страх , заставивший его взглянуть в глаза чудовищу, «не выдержать»в последний мо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357120" y="2500200"/>
            <a:ext cx="4429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У древних славян- существо, насылающее ночные  кошмары, видения  и привидения. Вся сила его была в глазах, которые очень сильно заросли бровями и ресницами и совсем затемнили зр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алороссийский Вий –   мифическое существо , у которого веки опускаются до самой земли , но если поднять их вилами, уже ничто не укроется от его взора . Слово  «вии» означает ресни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Месяц 5"/>
          <p:cNvSpPr/>
          <p:nvPr/>
        </p:nvSpPr>
        <p:spPr>
          <a:xfrm>
            <a:off x="214200" y="357120"/>
            <a:ext cx="35748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1"/>
          <p:cNvSpPr/>
          <p:nvPr/>
        </p:nvSpPr>
        <p:spPr>
          <a:xfrm>
            <a:off x="785880" y="142920"/>
            <a:ext cx="8072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Смешным или страшным показалось вам это произведени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окажите, что в повести удачно сочетается  реалистическое и мистическо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Вертикальный свиток 2"/>
          <p:cNvSpPr/>
          <p:nvPr/>
        </p:nvSpPr>
        <p:spPr>
          <a:xfrm>
            <a:off x="-142920" y="1214280"/>
            <a:ext cx="5429160" cy="5143680"/>
          </a:xfrm>
          <a:prstGeom prst="verticalScroll">
            <a:avLst>
              <a:gd name="adj" fmla="val 1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571680" y="2214720"/>
            <a:ext cx="4071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 повести, действительно, необыкновенно удачно сплетаются два начала : реалистическое и мистическое. Одно от другого неотделимо в художественном мире Гого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Талантливый писатель соединил народные предания и свою авторскую фантаз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Месяц 4"/>
          <p:cNvSpPr/>
          <p:nvPr/>
        </p:nvSpPr>
        <p:spPr>
          <a:xfrm>
            <a:off x="357120" y="285840"/>
            <a:ext cx="428760" cy="64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79" y="1212"/>
                  <a:pt x="6758" y="5080"/>
                  <a:pt x="6758" y="10800"/>
                </a:cubicBezTo>
                <a:cubicBezTo>
                  <a:pt x="6758" y="16520"/>
                  <a:pt x="14179" y="2038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Picture 4" descr="1223357760_0"/>
          <p:cNvPicPr/>
          <p:nvPr/>
        </p:nvPicPr>
        <p:blipFill>
          <a:blip r:embed="rId1"/>
          <a:stretch/>
        </p:blipFill>
        <p:spPr>
          <a:xfrm>
            <a:off x="4643280" y="1928880"/>
            <a:ext cx="4143600" cy="4643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1"/>
          <p:cNvSpPr/>
          <p:nvPr/>
        </p:nvSpPr>
        <p:spPr>
          <a:xfrm>
            <a:off x="642960" y="214200"/>
            <a:ext cx="8143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Цель урока-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анализ тех сцен повести «Вий» , в которых преобладает мистическое  начало. Знакомство с теми эпизодами повести, которые представляют  бытовую, реалистическую сторо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3"/>
          <p:cNvSpPr/>
          <p:nvPr/>
        </p:nvSpPr>
        <p:spPr>
          <a:xfrm>
            <a:off x="642960" y="1285920"/>
            <a:ext cx="77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 повести необыкновенно удачно сплетаются два начала:    реалистическое и мистическо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571680" y="2000160"/>
            <a:ext cx="76435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      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Реалистическо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писание хутора, хлева,  где  философ « толкнул ногою в морду   просунувшуюся из другого хлева любопытную свинью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2" descr="C:\Users\1\Desktop\viewer[1].png"/>
          <p:cNvPicPr/>
          <p:nvPr/>
        </p:nvPicPr>
        <p:blipFill>
          <a:blip r:embed="rId1"/>
          <a:stretch/>
        </p:blipFill>
        <p:spPr>
          <a:xfrm>
            <a:off x="1357200" y="3214800"/>
            <a:ext cx="6161040" cy="3429000"/>
          </a:xfrm>
          <a:prstGeom prst="rect">
            <a:avLst/>
          </a:prstGeom>
          <a:ln w="0">
            <a:noFill/>
          </a:ln>
        </p:spPr>
      </p:pic>
      <p:sp>
        <p:nvSpPr>
          <p:cNvPr id="409" name="6-конечная звезда 6"/>
          <p:cNvSpPr/>
          <p:nvPr/>
        </p:nvSpPr>
        <p:spPr>
          <a:xfrm>
            <a:off x="2357280" y="1928880"/>
            <a:ext cx="428760" cy="500040"/>
          </a:xfrm>
          <a:custGeom>
            <a:avLst/>
            <a:gdLst/>
            <a:ahLst/>
            <a:rect l="l" t="t" r="r" b="b"/>
            <a:pathLst>
              <a:path w="428625" h="500062">
                <a:moveTo>
                  <a:pt x="0" y="125016"/>
                </a:moveTo>
                <a:lnTo>
                  <a:pt x="142874" y="125013"/>
                </a:lnTo>
                <a:lnTo>
                  <a:pt x="214313" y="0"/>
                </a:lnTo>
                <a:lnTo>
                  <a:pt x="285751" y="125013"/>
                </a:lnTo>
                <a:lnTo>
                  <a:pt x="428625" y="125016"/>
                </a:lnTo>
                <a:lnTo>
                  <a:pt x="357190" y="250031"/>
                </a:lnTo>
                <a:lnTo>
                  <a:pt x="428625" y="375047"/>
                </a:lnTo>
                <a:lnTo>
                  <a:pt x="285751" y="375049"/>
                </a:lnTo>
                <a:lnTo>
                  <a:pt x="214313" y="500062"/>
                </a:lnTo>
                <a:lnTo>
                  <a:pt x="142874" y="375049"/>
                </a:lnTo>
                <a:lnTo>
                  <a:pt x="0" y="375047"/>
                </a:lnTo>
                <a:lnTo>
                  <a:pt x="71435" y="250031"/>
                </a:lnTo>
                <a:lnTo>
                  <a:pt x="0" y="12501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C:\Users\1\Desktop\Новая папка (2)\filehD6iq5[1].gif"/>
          <p:cNvPicPr/>
          <p:nvPr/>
        </p:nvPicPr>
        <p:blipFill>
          <a:blip r:embed="rId1"/>
          <a:stretch/>
        </p:blipFill>
        <p:spPr>
          <a:xfrm>
            <a:off x="4572000" y="571680"/>
            <a:ext cx="4357800" cy="571500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714240" y="0"/>
            <a:ext cx="40719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писана дальнейшая судьба двух приятелей Хо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Гоголь вводит в повесть двух друзей Хомы, чтобы расширить бытовое полотно , изобразить как можно больше колоритных фигур. Имена героев  представляют комическое сочетание  древнеримского  «Тиберий» и украинского «Горобец» (воробей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Эти сочетания особенно выразительны, когда к ним добавляются важные слова «философ», «ритор». Смысл прозвища  богослова Халявы - он всегда готов позавтракать, пообедать и поужинать тем, что плохо леж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7-конечная звезда 4"/>
          <p:cNvSpPr/>
          <p:nvPr/>
        </p:nvSpPr>
        <p:spPr>
          <a:xfrm>
            <a:off x="285840" y="357120"/>
            <a:ext cx="571320" cy="42876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-1" y="275652"/>
                </a:moveTo>
                <a:lnTo>
                  <a:pt x="88004" y="190757"/>
                </a:lnTo>
                <a:lnTo>
                  <a:pt x="56596" y="84895"/>
                </a:lnTo>
                <a:lnTo>
                  <a:pt x="197746" y="84895"/>
                </a:lnTo>
                <a:lnTo>
                  <a:pt x="285750" y="0"/>
                </a:lnTo>
                <a:lnTo>
                  <a:pt x="373754" y="84895"/>
                </a:lnTo>
                <a:lnTo>
                  <a:pt x="514904" y="84895"/>
                </a:lnTo>
                <a:lnTo>
                  <a:pt x="483496" y="190757"/>
                </a:lnTo>
                <a:lnTo>
                  <a:pt x="571501" y="275652"/>
                </a:lnTo>
                <a:lnTo>
                  <a:pt x="444329" y="322765"/>
                </a:lnTo>
                <a:lnTo>
                  <a:pt x="412920" y="428627"/>
                </a:lnTo>
                <a:lnTo>
                  <a:pt x="285750" y="381514"/>
                </a:lnTo>
                <a:lnTo>
                  <a:pt x="158580" y="428627"/>
                </a:lnTo>
                <a:lnTo>
                  <a:pt x="127171" y="322765"/>
                </a:lnTo>
                <a:lnTo>
                  <a:pt x="-1" y="275652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Молния 5"/>
          <p:cNvSpPr/>
          <p:nvPr/>
        </p:nvSpPr>
        <p:spPr>
          <a:xfrm>
            <a:off x="7143840" y="571680"/>
            <a:ext cx="1714320" cy="1285560"/>
          </a:xfrm>
          <a:prstGeom prst="lightningBol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C:\Users\1\Desktop\kinopoisk.ru-Viy-1308247[1].jpg"/>
          <p:cNvPicPr/>
          <p:nvPr/>
        </p:nvPicPr>
        <p:blipFill>
          <a:blip r:embed="rId1"/>
          <a:stretch/>
        </p:blipFill>
        <p:spPr>
          <a:xfrm>
            <a:off x="1000080" y="2500200"/>
            <a:ext cx="5429160" cy="4145040"/>
          </a:xfrm>
          <a:prstGeom prst="rect">
            <a:avLst/>
          </a:prstGeom>
          <a:ln w="0">
            <a:noFill/>
          </a:ln>
        </p:spPr>
      </p:pic>
      <p:sp>
        <p:nvSpPr>
          <p:cNvPr id="415" name="Овальная выноска 3"/>
          <p:cNvSpPr/>
          <p:nvPr/>
        </p:nvSpPr>
        <p:spPr>
          <a:xfrm>
            <a:off x="142920" y="142920"/>
            <a:ext cx="4071960" cy="27147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928800" y="71424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Богослов был рослый, плечистый мужчина и имел чрезвычайно странный нрав: всё , что ни лежало, бывало, возле него, он непременно украдет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Скругленная прямоугольная выноска 5"/>
          <p:cNvSpPr/>
          <p:nvPr/>
        </p:nvSpPr>
        <p:spPr>
          <a:xfrm>
            <a:off x="5929200" y="142920"/>
            <a:ext cx="3214800" cy="3214800"/>
          </a:xfrm>
          <a:prstGeom prst="wedgeRoundRectCallout">
            <a:avLst>
              <a:gd name="adj1" fmla="val -20356"/>
              <a:gd name="adj2" fmla="val 58259"/>
              <a:gd name="adj3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8"/>
          <p:cNvSpPr/>
          <p:nvPr/>
        </p:nvSpPr>
        <p:spPr>
          <a:xfrm>
            <a:off x="5929200" y="357120"/>
            <a:ext cx="3071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Ритор Тиберий Горобець еще не имел права носить усов…и поэтому характер его в то время  ещё  мало развивался; но, судя по  большим шишкам на лбу, с которыми он часто являлся в класс, можно было предположить, что из него будет хороший воин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Вий "/>
          <p:cNvPicPr/>
          <p:nvPr/>
        </p:nvPicPr>
        <p:blipFill>
          <a:blip r:embed="rId1"/>
          <a:stretch/>
        </p:blipFill>
        <p:spPr>
          <a:xfrm>
            <a:off x="428760" y="1357200"/>
            <a:ext cx="6429240" cy="5113440"/>
          </a:xfrm>
          <a:prstGeom prst="rect">
            <a:avLst/>
          </a:prstGeom>
          <a:ln w="0">
            <a:noFill/>
          </a:ln>
        </p:spPr>
      </p:pic>
      <p:sp>
        <p:nvSpPr>
          <p:cNvPr id="420" name="Овальная выноска 4"/>
          <p:cNvSpPr/>
          <p:nvPr/>
        </p:nvSpPr>
        <p:spPr>
          <a:xfrm>
            <a:off x="4714920" y="142920"/>
            <a:ext cx="4429080" cy="4214880"/>
          </a:xfrm>
          <a:prstGeom prst="wedgeEllipseCallout">
            <a:avLst>
              <a:gd name="adj1" fmla="val -22587"/>
              <a:gd name="adj2" fmla="val 67879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6"/>
          <p:cNvSpPr/>
          <p:nvPr/>
        </p:nvSpPr>
        <p:spPr>
          <a:xfrm>
            <a:off x="5429160" y="785880"/>
            <a:ext cx="3714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Философ Хома Брут был нрава веселого. Любил очень лежать и курить люльку. Он часто пробовал крупного гороху, но совершенно с философическим равнодушием , -говоря , что чему быть, того не миновать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500040" y="714240"/>
            <a:ext cx="3929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описан быт сотника, обряды , обычаи , традиции, в том числе в связи с погребением  (оплакивание  отцом умершей дочери , чтение над покойником святого  писания , прикладывание рук к горячей печи и п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Знание народных обычаев и традиций – одна из черт творчества Гого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2" descr="C:\Users\1\Desktop\Новая папка (2)\koncovka[1].gif"/>
          <p:cNvPicPr/>
          <p:nvPr/>
        </p:nvPicPr>
        <p:blipFill>
          <a:blip r:embed="rId1"/>
          <a:stretch/>
        </p:blipFill>
        <p:spPr>
          <a:xfrm>
            <a:off x="5916600" y="214200"/>
            <a:ext cx="3013200" cy="2571840"/>
          </a:xfrm>
          <a:prstGeom prst="rect">
            <a:avLst/>
          </a:prstGeom>
          <a:ln w="0">
            <a:noFill/>
          </a:ln>
        </p:spPr>
      </p:pic>
      <p:sp>
        <p:nvSpPr>
          <p:cNvPr id="424" name="7-конечная звезда 3"/>
          <p:cNvSpPr/>
          <p:nvPr/>
        </p:nvSpPr>
        <p:spPr>
          <a:xfrm>
            <a:off x="142920" y="714240"/>
            <a:ext cx="428760" cy="500040"/>
          </a:xfrm>
          <a:custGeom>
            <a:avLst/>
            <a:gdLst/>
            <a:ahLst/>
            <a:rect l="l" t="t" r="r" b="b"/>
            <a:pathLst>
              <a:path w="428625" h="500063">
                <a:moveTo>
                  <a:pt x="-1" y="321594"/>
                </a:moveTo>
                <a:lnTo>
                  <a:pt x="66003" y="222550"/>
                </a:lnTo>
                <a:lnTo>
                  <a:pt x="42447" y="99044"/>
                </a:lnTo>
                <a:lnTo>
                  <a:pt x="148309" y="99044"/>
                </a:lnTo>
                <a:lnTo>
                  <a:pt x="214313" y="0"/>
                </a:lnTo>
                <a:lnTo>
                  <a:pt x="280316" y="99044"/>
                </a:lnTo>
                <a:lnTo>
                  <a:pt x="386178" y="99044"/>
                </a:lnTo>
                <a:lnTo>
                  <a:pt x="362622" y="222550"/>
                </a:lnTo>
                <a:lnTo>
                  <a:pt x="428626" y="321594"/>
                </a:lnTo>
                <a:lnTo>
                  <a:pt x="333247" y="376559"/>
                </a:lnTo>
                <a:lnTo>
                  <a:pt x="309690" y="500066"/>
                </a:lnTo>
                <a:lnTo>
                  <a:pt x="214313" y="445100"/>
                </a:lnTo>
                <a:lnTo>
                  <a:pt x="118935" y="500066"/>
                </a:lnTo>
                <a:lnTo>
                  <a:pt x="95378" y="376559"/>
                </a:lnTo>
                <a:lnTo>
                  <a:pt x="-1" y="321594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1" descr="C:\Users\1\Desktop\kinopoisk.ru-Viy-1308250[1].jpg"/>
          <p:cNvPicPr/>
          <p:nvPr/>
        </p:nvPicPr>
        <p:blipFill>
          <a:blip r:embed="rId2"/>
          <a:stretch/>
        </p:blipFill>
        <p:spPr>
          <a:xfrm>
            <a:off x="4214880" y="2786040"/>
            <a:ext cx="4714920" cy="3800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1"/>
          <p:cNvSpPr/>
          <p:nvPr/>
        </p:nvSpPr>
        <p:spPr>
          <a:xfrm>
            <a:off x="-71280" y="71280"/>
            <a:ext cx="9215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Мистическо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Анализ сцены, когда Хома , оказавшись в роли коня у ведьм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верху смотрит на ми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2" descr="C:\Users\1\Desktop\Новая папка (2)\282[1].jpg"/>
          <p:cNvPicPr/>
          <p:nvPr/>
        </p:nvPicPr>
        <p:blipFill>
          <a:blip r:embed="rId1"/>
          <a:stretch/>
        </p:blipFill>
        <p:spPr>
          <a:xfrm>
            <a:off x="714240" y="1214280"/>
            <a:ext cx="6357960" cy="4397400"/>
          </a:xfrm>
          <a:prstGeom prst="rect">
            <a:avLst/>
          </a:prstGeom>
          <a:ln w="0">
            <a:noFill/>
          </a:ln>
        </p:spPr>
      </p:pic>
      <p:sp>
        <p:nvSpPr>
          <p:cNvPr id="428" name="4-конечная звезда 3"/>
          <p:cNvSpPr/>
          <p:nvPr/>
        </p:nvSpPr>
        <p:spPr>
          <a:xfrm>
            <a:off x="1928880" y="71280"/>
            <a:ext cx="857160" cy="571680"/>
          </a:xfrm>
          <a:custGeom>
            <a:avLst/>
            <a:gdLst>
              <a:gd name="textAreaLeft" fmla="*/ 353160 w 857160"/>
              <a:gd name="textAreaRight" fmla="*/ 504000 w 857160"/>
              <a:gd name="textAreaTop" fmla="*/ 235440 h 571680"/>
              <a:gd name="textAreaBottom" fmla="*/ 33624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642960" y="557208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ак изменяется привычный мир в глазах  Хомы , соприкоснувшегося с потусторонней сило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 каком состоянии находится сам  Хом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Овальная выноска 5"/>
          <p:cNvSpPr/>
          <p:nvPr/>
        </p:nvSpPr>
        <p:spPr>
          <a:xfrm>
            <a:off x="5786280" y="928800"/>
            <a:ext cx="3214800" cy="3071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6"/>
          <p:cNvSpPr/>
          <p:nvPr/>
        </p:nvSpPr>
        <p:spPr>
          <a:xfrm>
            <a:off x="6072120" y="1643040"/>
            <a:ext cx="29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Мистика- это раздел фантастики, связанный с изображением  потустороннего мира, нечистой силы, необъяснимых яв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Месяц 10"/>
          <p:cNvSpPr/>
          <p:nvPr/>
        </p:nvSpPr>
        <p:spPr>
          <a:xfrm>
            <a:off x="285840" y="564372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Фильм.wmv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7929720" cy="4143240"/>
          </a:xfrm>
          <a:prstGeom prst="rect">
            <a:avLst/>
          </a:prstGeom>
          <a:ln w="0">
            <a:noFill/>
          </a:ln>
        </p:spPr>
      </p:pic>
      <p:sp>
        <p:nvSpPr>
          <p:cNvPr id="434" name="TextBox 3"/>
          <p:cNvSpPr/>
          <p:nvPr/>
        </p:nvSpPr>
        <p:spPr>
          <a:xfrm>
            <a:off x="785880" y="4929120"/>
            <a:ext cx="764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Мир преображается: он наполняется сказочными существами, незнакомыми прелестными звуками, запахами , крас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Скругленная прямоугольная выноска 4"/>
          <p:cNvSpPr/>
          <p:nvPr/>
        </p:nvSpPr>
        <p:spPr>
          <a:xfrm>
            <a:off x="928800" y="928800"/>
            <a:ext cx="2643120" cy="30002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1000080" y="1357200"/>
            <a:ext cx="2643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…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Луга, леса ,долины-всё ,казалось, как будто спало с открытыми глазами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Users\1\Desktop\Новая папка (2)\0489e9c2fdce[1].jpg"/>
          <p:cNvPicPr/>
          <p:nvPr/>
        </p:nvPicPr>
        <p:blipFill>
          <a:blip r:embed="rId1"/>
          <a:stretch/>
        </p:blipFill>
        <p:spPr>
          <a:xfrm>
            <a:off x="4429080" y="214200"/>
            <a:ext cx="4395960" cy="5811840"/>
          </a:xfrm>
          <a:prstGeom prst="rect">
            <a:avLst/>
          </a:prstGeom>
          <a:ln w="0">
            <a:noFill/>
          </a:ln>
        </p:spPr>
      </p:pic>
      <p:sp>
        <p:nvSpPr>
          <p:cNvPr id="438" name="TextBox 3"/>
          <p:cNvSpPr/>
          <p:nvPr/>
        </p:nvSpPr>
        <p:spPr>
          <a:xfrm>
            <a:off x="285840" y="214200"/>
            <a:ext cx="3857400" cy="67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Герой Гоголя не может понять, </a:t>
            </a:r>
            <a:r>
              <a:rPr b="1" i="1" lang="ru-RU" sz="2000" spc="-1" strike="noStrike">
                <a:solidFill>
                  <a:srgbClr val="ffffff"/>
                </a:solidFill>
                <a:latin typeface="Cambria"/>
              </a:rPr>
              <a:t>сон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 это или </a:t>
            </a:r>
            <a:r>
              <a:rPr b="1" i="1" lang="ru-RU" sz="2000" spc="-1" strike="noStrike">
                <a:solidFill>
                  <a:srgbClr val="ffffff"/>
                </a:solidFill>
                <a:latin typeface="Cambria"/>
              </a:rPr>
              <a:t>явь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. Когда он начинает творить заклятья , всё вокруг становится привычным: «Густая трава  касалась его, и он  уже  не видел в ней ничего необыкновенног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И вот ведьма превращается в красавиц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чем Гоголю понадобилось преображать ведьм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чем он делает её столь прекрасной и несколько раз на протяжении повести рисует её портр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Что поражает в этом портрет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Месяц 8"/>
          <p:cNvSpPr/>
          <p:nvPr/>
        </p:nvSpPr>
        <p:spPr>
          <a:xfrm>
            <a:off x="71280" y="3643200"/>
            <a:ext cx="285840" cy="57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Овальная выноска 5"/>
          <p:cNvSpPr/>
          <p:nvPr/>
        </p:nvSpPr>
        <p:spPr>
          <a:xfrm>
            <a:off x="3929040" y="4071960"/>
            <a:ext cx="2357640" cy="2143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4286160" y="442908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Что такое портр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3:41:09Z</dcterms:created>
  <dc:creator>1</dc:creator>
  <dc:description/>
  <dc:language>en-US</dc:language>
  <cp:lastModifiedBy>LEGION</cp:lastModifiedBy>
  <dcterms:modified xsi:type="dcterms:W3CDTF">2015-01-20T08:23:14Z</dcterms:modified>
  <cp:revision>67</cp:revision>
  <dc:subject/>
  <dc:title>Слайд 1</dc:title>
</cp:coreProperties>
</file>