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368C-92D8-4B74-A1CF-860C26C055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A1A4-F457-4714-95D2-650D41D240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Первый раз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1B99-BC28-45B6-92C7-D92534F8B7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о второй раз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он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идит её в доме сот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ebb"/>
                </a:solidFill>
                <a:latin typeface="Calibri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000" spc="-1" strike="noStrike">
                <a:solidFill>
                  <a:srgbClr val="003ebb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Ведьма!- вскрикнул он не своим голос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Это была та самая ведьма, которую он уби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4801-90DE-4263-974B-5ED34D56EA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 церкви Хома глядит на усопшую в третий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более мистическим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же красота панночки была страш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57F9-C617-4460-A4D2-8D5EBD475B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FFBD-9A2E-402A-869B-4BC470DDA2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, как от эпизода к эпизоду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, ожидание страшной развяз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C79-4191-4B12-B1B1-59C812C00D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Хома видит 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CCEF-6563-44AC-BAE1-BF89BFC3B8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2EB6-42B1-4B5D-9B71-A1D2557EA0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Кто такой В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FAF3-9414-43F2-A2F4-7FC98244A3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6912-6CCD-4E25-91ED-CCEACC2C1B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D037-1F29-40A7-8707-567F81A9FA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0A35-9A63-4F14-81D8-358A3BEF42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177D-8A11-4E59-BFD9-0801B98511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8482-2BAC-4D7E-A71F-FC382B2444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B148-7145-476E-82D6-DF5C30BCEB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верху смотрит на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каком состоянии находится сам  Хо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402F-BD58-47E3-97ED-0E07A2B995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6B86-DE9B-439F-8F60-174610A560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Герой Гоголя не может понять,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со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это или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явь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 вот ведьма превращается в красав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Что поражает в этом портр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B4BD-2838-4F31-8DDE-0A83369333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5F7-3A93-41D5-B5E3-9AFF7D46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B3F-5D07-4CC2-9B3C-02F17845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2BFFB6-1A77-482E-ABD8-74DB6CA0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26566E-CE14-463E-B2D0-A78077B1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3A3247-3193-41E9-A6C1-1873E6B1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E6A939-5E40-4FEB-BF98-36424257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AAEDF3-A542-4F64-B59A-6CEF5DC0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AC83BE-B7C9-4839-A45D-836482E8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A8D76C-EBFF-46DD-B9B7-0E270867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73F7CA-D081-433E-8222-1DC8BEAA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F6BCFF-F4C3-400E-9F22-5BE4F70B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98C-4AD6-413D-AB78-51C64CAC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8F5-51A1-4F7C-B1A8-28C19B44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E16D5-395D-4BAA-B87C-BE2E3DEA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D301B-E4C0-42BF-9710-E48338FF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741E3-F575-4805-A4E2-E81D6292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73C8B-1E9E-4289-A390-3E102C8E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BE2CD-F9F4-4C86-8F10-4C47D9E5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D0925-1B36-4E56-B9B7-F91FD70A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F2677-37BE-49D9-9CF8-38F3244A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94D-BD72-4CE4-8FB1-2ED3CE23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4AEA1-81FA-4E49-B0E9-8BF3822B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58069-96C9-4555-BB06-6D6288A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8EDF8-76ED-44D9-B649-42A0942B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BB1D2-C728-4B70-9CB8-34159DFD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E89D0-5F56-4D58-8FF1-9313A1C7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B397-9C62-4107-B26E-1E3DE3F5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4E3D-68E3-4FFD-8548-498C6F5B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A81A-C253-4FD4-A0D9-DC55ADCB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4B461-6A99-4119-A809-BA2EAEC0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863E-9CCE-4C94-93C9-4DACDC4E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817-B1DF-4877-A140-7656F39D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DADD-3CC6-431A-BFC7-D079352D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98F1-0758-45DD-B8BC-21152BB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E823-9BE1-405A-998E-C3441A09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05C37-96F9-4282-8F8E-47EE152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E8920-369D-4C53-A93D-38E3E66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C1E8-CB1A-43A6-862F-F8148C15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BDDDB-22D4-4CAA-8EA1-0045E0AA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7950C-D7DC-4BD8-97D4-0BD1D5C3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C972D-B0B2-4F2C-BFD2-6384C13E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DD095-F95D-48E3-84BE-1C6976D0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FA7-A3D3-4F6C-B697-5DFF3DFD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702B2-AD82-4DC8-8EFF-20BF8253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7229C-F357-421A-9327-0A3E0988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FD5D5-AC63-4920-84D4-CBFFA08C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166AE-7C89-443C-8E76-0689BE87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5A5C0-80EF-4401-A99C-AD01443B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0530A-4912-46BC-95B9-7E21312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5F6AF-4579-4602-8D7C-633932F9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CAAAA6-39AC-4325-850C-EEBA3F1A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9C627-CE79-4CB6-B7C6-83D2328C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EC6D5-C9B1-457D-B7B1-2A81D8DE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7FF-FEA4-474F-90FB-15ED7637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89D40-79EA-4C9B-A24A-EB2A7273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DF04F-9623-4E98-BD86-DC5482A8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A006-F5BA-408C-ACB0-D1A2B535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DE32D-132B-4D55-B3B6-8DF408D8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7B19-32E5-40CB-88EA-EA06563B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AAD9-417B-48CB-BD1E-118A3CED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09BFB-D69C-4F2F-89E7-F874E83F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0B02-5524-49F1-85BA-BA74D41E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8B7DB-E8C8-4388-80FE-4145664F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6AF1-1EFB-4F1F-B497-C0FEEB1C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971-D87B-4CF1-88B5-AF94B527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1DBF4-9D75-4EB6-8085-F7843B41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2A5A-577C-48D3-87A9-90B95BAB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D09FE-7951-4C4D-A6C1-7DC8864E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A1539-5645-46BA-A9A1-4648FB48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D7304-ADE4-46DA-AFB0-5FCB4C39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37C53-17B4-4800-9021-EE942660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8C706-8BAB-467D-AF33-ACF939CF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CB867-9679-4214-ABD3-94EE2CCC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33E5A-1C8B-423F-AB31-0F0C5BF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CC0A6-D85E-479A-8372-3E9AF7F5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006-7140-465E-954B-BC57CA84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BD4E8-0D86-47C2-B3AA-E8AD7EF3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A381-6019-425A-8BA6-B30D9823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20D1C-DF1A-4845-ACE0-6EA77190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70B67-7567-44D3-95A0-F4C9CD80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D748F-3839-4B47-ABCC-EFA520E9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9B565-08B7-4EF7-B027-1A1C508C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71C60-1558-440C-B500-A30B2E3D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30508-7AA0-4635-A821-F32330BC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A282-1D35-4B70-9245-C059B348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3C9D4-9496-45C3-B0FD-15AFAA6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56C-5AEF-4EC8-9F11-542D661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F8AD0-4B0F-4C66-B874-2941F6B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1BDF7-E85B-4B78-8D78-5FAA1410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70345-2D44-4FDC-B9F6-83B069D4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B9F91-A93E-4571-9BA4-E51CA6A6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5ABEC-C527-449E-B811-38677264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BED482-75DD-4C37-A898-EF5144C8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2DC3B-3274-4988-A81A-C3C5F51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587A04-37B4-468B-A279-527A0D99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99C20E-E8AF-4AC8-AB97-12FD458E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50EE7D-6CE7-462D-8DB3-3A0D9B0B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EBB-7019-42B3-B3F8-01558001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C7A642-A6FA-467C-8906-3CFF97A6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5A82DB-BC85-4155-99E2-07BBB9B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913A2B-24CC-4717-9AA6-494F062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B0C11-444B-4278-A856-B73EED69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D3D356-8C78-4B92-9792-B9550E4D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09F5A-55F2-4D40-B7FD-4EABF72D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9676F7-E710-430E-9CF9-0D0C64B4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BCC82D-4180-4E2E-A559-A432C839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61C185-1171-4AE7-9F67-6EDEF09F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8CBCC4-6E8A-4D4E-B494-88E2C57A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7936-FD81-401C-B618-4C46200B9B8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8422-B9E5-4960-9B05-B4EC9FB5CEB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7BCA-5835-4D5F-8AFD-A4751967CB6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B451-79F7-48F9-B1DB-CEAE2CF69E3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69A3-417A-475B-848C-16768AB8F40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E1F-C2C4-4347-A9CC-7EC9A755D5B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4E1-E8A1-4362-9CBE-994756F7C99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4501-932B-4CF6-AEF8-2C69934E098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FB1A-F649-4C11-9004-48E4E9A2068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786120" y="71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литературы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-428760" y="285840"/>
            <a:ext cx="9929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C:\Users\1\Desktop\viewer[2].png"/>
          <p:cNvPicPr/>
          <p:nvPr/>
        </p:nvPicPr>
        <p:blipFill>
          <a:blip r:embed="rId1"/>
          <a:stretch/>
        </p:blipFill>
        <p:spPr>
          <a:xfrm>
            <a:off x="1500120" y="1785960"/>
            <a:ext cx="5929560" cy="4071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000080" y="592920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Film_shot00002"/>
          <p:cNvPicPr/>
          <p:nvPr/>
        </p:nvPicPr>
        <p:blipFill>
          <a:blip r:embed="rId1">
            <a:lum bright="6000"/>
          </a:blip>
          <a:srcRect l="0" t="0" r="0" b="159"/>
          <a:stretch/>
        </p:blipFill>
        <p:spPr>
          <a:xfrm>
            <a:off x="857160" y="285840"/>
            <a:ext cx="7429680" cy="4608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500040" y="50007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вый раз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571680" y="571680"/>
            <a:ext cx="76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10cfeddb"/>
          <p:cNvPicPr/>
          <p:nvPr/>
        </p:nvPicPr>
        <p:blipFill>
          <a:blip r:embed="rId1"/>
          <a:stretch/>
        </p:blipFill>
        <p:spPr>
          <a:xfrm>
            <a:off x="357120" y="171468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0" y="500040"/>
            <a:ext cx="837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acb"/>
                </a:solidFill>
                <a:latin typeface="Cambria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800" spc="-1" strike="noStrike">
                <a:solidFill>
                  <a:srgbClr val="e7eacb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428760" y="21420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 второй раз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идит её в доме сот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00040" y="5357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Ведьма!- вскрикнул он не своим голосо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Это была та самая ведьма, которую он уби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428760" y="7128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церкви Хома глядит на усопшую в третий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более мистическим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же красота панночки была страш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есяц 3"/>
          <p:cNvSpPr/>
          <p:nvPr/>
        </p:nvSpPr>
        <p:spPr>
          <a:xfrm>
            <a:off x="142920" y="1357200"/>
            <a:ext cx="35712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Овальная выноска 4"/>
          <p:cNvSpPr/>
          <p:nvPr/>
        </p:nvSpPr>
        <p:spPr>
          <a:xfrm>
            <a:off x="5143680" y="2928960"/>
            <a:ext cx="3643200" cy="3214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5429160" y="36432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" descr="C:\Users\1\Desktop\kinopoisk.ru-Viy-1308255[1].jpg"/>
          <p:cNvPicPr/>
          <p:nvPr/>
        </p:nvPicPr>
        <p:blipFill>
          <a:blip r:embed="rId1"/>
          <a:stretch/>
        </p:blipFill>
        <p:spPr>
          <a:xfrm>
            <a:off x="285840" y="2857680"/>
            <a:ext cx="485784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derevyannaya-cerkov-v-Sedneve"/>
          <p:cNvPicPr/>
          <p:nvPr/>
        </p:nvPicPr>
        <p:blipFill>
          <a:blip r:embed="rId1"/>
          <a:stretch/>
        </p:blipFill>
        <p:spPr>
          <a:xfrm>
            <a:off x="214200" y="142920"/>
            <a:ext cx="4095720" cy="61437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2"/>
          <p:cNvSpPr/>
          <p:nvPr/>
        </p:nvSpPr>
        <p:spPr>
          <a:xfrm>
            <a:off x="4357800" y="2286000"/>
            <a:ext cx="464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4500720" y="2142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ыноска-облако 4"/>
          <p:cNvSpPr/>
          <p:nvPr/>
        </p:nvSpPr>
        <p:spPr>
          <a:xfrm>
            <a:off x="214200" y="214200"/>
            <a:ext cx="2000520" cy="2071800"/>
          </a:xfrm>
          <a:prstGeom prst="cloudCallout">
            <a:avLst>
              <a:gd name="adj1" fmla="val -19629"/>
              <a:gd name="adj2" fmla="val 4972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"/>
          <p:cNvSpPr/>
          <p:nvPr/>
        </p:nvSpPr>
        <p:spPr>
          <a:xfrm>
            <a:off x="500040" y="7858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то такое опис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357120" y="62150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642960" y="214200"/>
            <a:ext cx="7786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, как от эпизода к эпизоду </a:t>
            </a: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, ожидание страшной развяз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" descr="C:\Users\1\Desktop\kinopoisk.ru-Viy-1308254[1].jpg"/>
          <p:cNvPicPr/>
          <p:nvPr/>
        </p:nvPicPr>
        <p:blipFill>
          <a:blip r:embed="rId1"/>
          <a:stretch/>
        </p:blipFill>
        <p:spPr>
          <a:xfrm>
            <a:off x="928800" y="2071800"/>
            <a:ext cx="67150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"/>
          <p:cNvSpPr/>
          <p:nvPr/>
        </p:nvSpPr>
        <p:spPr>
          <a:xfrm>
            <a:off x="42876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Хома видит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C:\Users\1\Desktop\Новая папка (2)\10658_original[1].jpg"/>
          <p:cNvPicPr/>
          <p:nvPr/>
        </p:nvPicPr>
        <p:blipFill>
          <a:blip r:embed="rId1"/>
          <a:stretch/>
        </p:blipFill>
        <p:spPr>
          <a:xfrm>
            <a:off x="714240" y="2000160"/>
            <a:ext cx="3429000" cy="4229280"/>
          </a:xfrm>
          <a:prstGeom prst="rect">
            <a:avLst/>
          </a:prstGeom>
          <a:ln w="0">
            <a:noFill/>
          </a:ln>
        </p:spPr>
      </p:pic>
      <p:sp>
        <p:nvSpPr>
          <p:cNvPr id="464" name="4-конечная звезда 6"/>
          <p:cNvSpPr/>
          <p:nvPr/>
        </p:nvSpPr>
        <p:spPr>
          <a:xfrm>
            <a:off x="3357720" y="1357200"/>
            <a:ext cx="714240" cy="928800"/>
          </a:xfrm>
          <a:custGeom>
            <a:avLst/>
            <a:gdLst>
              <a:gd name="textAreaLeft" fmla="*/ 294120 w 714240"/>
              <a:gd name="textAreaRight" fmla="*/ 420120 w 71424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" descr="C:\Users\1\Desktop\kinopoisk.ru-Viy-1135653[1].jpg"/>
          <p:cNvPicPr/>
          <p:nvPr/>
        </p:nvPicPr>
        <p:blipFill>
          <a:blip r:embed="rId2"/>
          <a:stretch/>
        </p:blipFill>
        <p:spPr>
          <a:xfrm>
            <a:off x="4143240" y="1571760"/>
            <a:ext cx="4643640" cy="461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357120" y="428760"/>
            <a:ext cx="850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7" descr="40f23dbff6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840" y="2071800"/>
            <a:ext cx="5500440" cy="44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1\Desktop\Новая папка (2)\filejIgFcX[1].gif"/>
          <p:cNvPicPr/>
          <p:nvPr/>
        </p:nvPicPr>
        <p:blipFill>
          <a:blip r:embed="rId2"/>
          <a:stretch/>
        </p:blipFill>
        <p:spPr>
          <a:xfrm>
            <a:off x="5715000" y="32148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469" name="4-конечная звезда 4"/>
          <p:cNvSpPr/>
          <p:nvPr/>
        </p:nvSpPr>
        <p:spPr>
          <a:xfrm>
            <a:off x="5286240" y="2714760"/>
            <a:ext cx="1000440" cy="121428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0400 h 1214280"/>
              <a:gd name="textAreaBottom" fmla="*/ 7138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1\Desktop\Новая папка (2)\45798633_viy_big[1].jpg"/>
          <p:cNvPicPr/>
          <p:nvPr/>
        </p:nvPicPr>
        <p:blipFill>
          <a:blip r:embed="rId1"/>
          <a:stretch/>
        </p:blipFill>
        <p:spPr>
          <a:xfrm>
            <a:off x="5286240" y="228600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"/>
          <p:cNvSpPr/>
          <p:nvPr/>
        </p:nvSpPr>
        <p:spPr>
          <a:xfrm>
            <a:off x="571680" y="214200"/>
            <a:ext cx="73580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то такой В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357120" y="2500200"/>
            <a:ext cx="442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Месяц 5"/>
          <p:cNvSpPr/>
          <p:nvPr/>
        </p:nvSpPr>
        <p:spPr>
          <a:xfrm>
            <a:off x="214200" y="357120"/>
            <a:ext cx="3574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785880" y="14292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2"/>
          <p:cNvSpPr/>
          <p:nvPr/>
        </p:nvSpPr>
        <p:spPr>
          <a:xfrm>
            <a:off x="-142920" y="1214280"/>
            <a:ext cx="5429160" cy="5143680"/>
          </a:xfrm>
          <a:prstGeom prst="verticalScroll">
            <a:avLst>
              <a:gd name="adj" fmla="val 1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571680" y="2214720"/>
            <a:ext cx="407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Месяц 4"/>
          <p:cNvSpPr/>
          <p:nvPr/>
        </p:nvSpPr>
        <p:spPr>
          <a:xfrm>
            <a:off x="357120" y="285840"/>
            <a:ext cx="4287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79" y="1212"/>
                  <a:pt x="6758" y="5080"/>
                  <a:pt x="6758" y="10800"/>
                </a:cubicBezTo>
                <a:cubicBezTo>
                  <a:pt x="6758" y="16520"/>
                  <a:pt x="14179" y="2038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4" descr="1223357760_0"/>
          <p:cNvPicPr/>
          <p:nvPr/>
        </p:nvPicPr>
        <p:blipFill>
          <a:blip r:embed="rId1"/>
          <a:stretch/>
        </p:blipFill>
        <p:spPr>
          <a:xfrm>
            <a:off x="4643280" y="1928880"/>
            <a:ext cx="414360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642960" y="214200"/>
            <a:ext cx="814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642960" y="128592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71680" y="2000160"/>
            <a:ext cx="7643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1\Desktop\viewer[1].png"/>
          <p:cNvPicPr/>
          <p:nvPr/>
        </p:nvPicPr>
        <p:blipFill>
          <a:blip r:embed="rId1"/>
          <a:stretch/>
        </p:blipFill>
        <p:spPr>
          <a:xfrm>
            <a:off x="1357200" y="3214800"/>
            <a:ext cx="6161040" cy="3429000"/>
          </a:xfrm>
          <a:prstGeom prst="rect">
            <a:avLst/>
          </a:prstGeom>
          <a:ln w="0">
            <a:noFill/>
          </a:ln>
        </p:spPr>
      </p:pic>
      <p:sp>
        <p:nvSpPr>
          <p:cNvPr id="409" name="6-конечная звезда 6"/>
          <p:cNvSpPr/>
          <p:nvPr/>
        </p:nvSpPr>
        <p:spPr>
          <a:xfrm>
            <a:off x="2357280" y="1928880"/>
            <a:ext cx="428760" cy="500040"/>
          </a:xfrm>
          <a:custGeom>
            <a:avLst/>
            <a:gdLst/>
            <a:ahLst/>
            <a:rect l="l" t="t" r="r" b="b"/>
            <a:pathLst>
              <a:path w="428625" h="500062">
                <a:moveTo>
                  <a:pt x="0" y="125016"/>
                </a:moveTo>
                <a:lnTo>
                  <a:pt x="142874" y="125013"/>
                </a:lnTo>
                <a:lnTo>
                  <a:pt x="214313" y="0"/>
                </a:lnTo>
                <a:lnTo>
                  <a:pt x="285751" y="125013"/>
                </a:lnTo>
                <a:lnTo>
                  <a:pt x="428625" y="125016"/>
                </a:lnTo>
                <a:lnTo>
                  <a:pt x="357190" y="250031"/>
                </a:lnTo>
                <a:lnTo>
                  <a:pt x="428625" y="375047"/>
                </a:lnTo>
                <a:lnTo>
                  <a:pt x="285751" y="375049"/>
                </a:lnTo>
                <a:lnTo>
                  <a:pt x="214313" y="500062"/>
                </a:lnTo>
                <a:lnTo>
                  <a:pt x="142874" y="375049"/>
                </a:lnTo>
                <a:lnTo>
                  <a:pt x="0" y="375047"/>
                </a:lnTo>
                <a:lnTo>
                  <a:pt x="71435" y="250031"/>
                </a:lnTo>
                <a:lnTo>
                  <a:pt x="0" y="12501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1\Desktop\Новая папка (2)\filehD6iq5[1].gif"/>
          <p:cNvPicPr/>
          <p:nvPr/>
        </p:nvPicPr>
        <p:blipFill>
          <a:blip r:embed="rId1"/>
          <a:stretch/>
        </p:blipFill>
        <p:spPr>
          <a:xfrm>
            <a:off x="4572000" y="571680"/>
            <a:ext cx="43578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714240" y="0"/>
            <a:ext cx="40719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-конечная звезда 4"/>
          <p:cNvSpPr/>
          <p:nvPr/>
        </p:nvSpPr>
        <p:spPr>
          <a:xfrm>
            <a:off x="285840" y="357120"/>
            <a:ext cx="571320" cy="42876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-1" y="275652"/>
                </a:moveTo>
                <a:lnTo>
                  <a:pt x="88004" y="190757"/>
                </a:lnTo>
                <a:lnTo>
                  <a:pt x="56596" y="84895"/>
                </a:lnTo>
                <a:lnTo>
                  <a:pt x="197746" y="84895"/>
                </a:lnTo>
                <a:lnTo>
                  <a:pt x="285750" y="0"/>
                </a:lnTo>
                <a:lnTo>
                  <a:pt x="373754" y="84895"/>
                </a:lnTo>
                <a:lnTo>
                  <a:pt x="514904" y="84895"/>
                </a:lnTo>
                <a:lnTo>
                  <a:pt x="483496" y="190757"/>
                </a:lnTo>
                <a:lnTo>
                  <a:pt x="571501" y="275652"/>
                </a:lnTo>
                <a:lnTo>
                  <a:pt x="444329" y="322765"/>
                </a:lnTo>
                <a:lnTo>
                  <a:pt x="412920" y="428627"/>
                </a:lnTo>
                <a:lnTo>
                  <a:pt x="285750" y="381514"/>
                </a:lnTo>
                <a:lnTo>
                  <a:pt x="158580" y="428627"/>
                </a:lnTo>
                <a:lnTo>
                  <a:pt x="127171" y="322765"/>
                </a:lnTo>
                <a:lnTo>
                  <a:pt x="-1" y="275652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Молния 5"/>
          <p:cNvSpPr/>
          <p:nvPr/>
        </p:nvSpPr>
        <p:spPr>
          <a:xfrm>
            <a:off x="7143840" y="571680"/>
            <a:ext cx="1714320" cy="1285560"/>
          </a:xfrm>
          <a:prstGeom prst="lightningBol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1\Desktop\kinopoisk.ru-Viy-1308247[1].jpg"/>
          <p:cNvPicPr/>
          <p:nvPr/>
        </p:nvPicPr>
        <p:blipFill>
          <a:blip r:embed="rId1"/>
          <a:stretch/>
        </p:blipFill>
        <p:spPr>
          <a:xfrm>
            <a:off x="1000080" y="250020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415" name="Овальная выноска 3"/>
          <p:cNvSpPr/>
          <p:nvPr/>
        </p:nvSpPr>
        <p:spPr>
          <a:xfrm>
            <a:off x="142920" y="142920"/>
            <a:ext cx="4071960" cy="2714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928800" y="7142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ая прямоугольная выноска 5"/>
          <p:cNvSpPr/>
          <p:nvPr/>
        </p:nvSpPr>
        <p:spPr>
          <a:xfrm>
            <a:off x="5929200" y="142920"/>
            <a:ext cx="3214800" cy="3214800"/>
          </a:xfrm>
          <a:prstGeom prst="wedgeRoundRectCallout">
            <a:avLst>
              <a:gd name="adj1" fmla="val -20356"/>
              <a:gd name="adj2" fmla="val 58259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5929200" y="35712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Вий "/>
          <p:cNvPicPr/>
          <p:nvPr/>
        </p:nvPicPr>
        <p:blipFill>
          <a:blip r:embed="rId1"/>
          <a:stretch/>
        </p:blipFill>
        <p:spPr>
          <a:xfrm>
            <a:off x="428760" y="1357200"/>
            <a:ext cx="642924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Овальная выноска 4"/>
          <p:cNvSpPr/>
          <p:nvPr/>
        </p:nvSpPr>
        <p:spPr>
          <a:xfrm>
            <a:off x="4714920" y="142920"/>
            <a:ext cx="4429080" cy="4214880"/>
          </a:xfrm>
          <a:prstGeom prst="wedgeEllipseCallout">
            <a:avLst>
              <a:gd name="adj1" fmla="val -22587"/>
              <a:gd name="adj2" fmla="val 6787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5429160" y="785880"/>
            <a:ext cx="3714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500040" y="714240"/>
            <a:ext cx="3929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C:\Users\1\Desktop\Новая папка (2)\koncovka[1].gif"/>
          <p:cNvPicPr/>
          <p:nvPr/>
        </p:nvPicPr>
        <p:blipFill>
          <a:blip r:embed="rId1"/>
          <a:stretch/>
        </p:blipFill>
        <p:spPr>
          <a:xfrm>
            <a:off x="5916600" y="214200"/>
            <a:ext cx="301320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7-конечная звезда 3"/>
          <p:cNvSpPr/>
          <p:nvPr/>
        </p:nvSpPr>
        <p:spPr>
          <a:xfrm>
            <a:off x="142920" y="714240"/>
            <a:ext cx="428760" cy="500040"/>
          </a:xfrm>
          <a:custGeom>
            <a:avLst/>
            <a:gdLst/>
            <a:ahLst/>
            <a:rect l="l" t="t" r="r" b="b"/>
            <a:pathLst>
              <a:path w="428625" h="500063">
                <a:moveTo>
                  <a:pt x="-1" y="321594"/>
                </a:moveTo>
                <a:lnTo>
                  <a:pt x="66003" y="222550"/>
                </a:lnTo>
                <a:lnTo>
                  <a:pt x="42447" y="99044"/>
                </a:lnTo>
                <a:lnTo>
                  <a:pt x="148309" y="99044"/>
                </a:lnTo>
                <a:lnTo>
                  <a:pt x="214313" y="0"/>
                </a:lnTo>
                <a:lnTo>
                  <a:pt x="280316" y="99044"/>
                </a:lnTo>
                <a:lnTo>
                  <a:pt x="386178" y="99044"/>
                </a:lnTo>
                <a:lnTo>
                  <a:pt x="362622" y="222550"/>
                </a:lnTo>
                <a:lnTo>
                  <a:pt x="428626" y="321594"/>
                </a:lnTo>
                <a:lnTo>
                  <a:pt x="333247" y="376559"/>
                </a:lnTo>
                <a:lnTo>
                  <a:pt x="309690" y="500066"/>
                </a:lnTo>
                <a:lnTo>
                  <a:pt x="214313" y="445100"/>
                </a:lnTo>
                <a:lnTo>
                  <a:pt x="118935" y="500066"/>
                </a:lnTo>
                <a:lnTo>
                  <a:pt x="95378" y="376559"/>
                </a:lnTo>
                <a:lnTo>
                  <a:pt x="-1" y="321594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" descr="C:\Users\1\Desktop\kinopoisk.ru-Viy-1308250[1].jpg"/>
          <p:cNvPicPr/>
          <p:nvPr/>
        </p:nvPicPr>
        <p:blipFill>
          <a:blip r:embed="rId2"/>
          <a:stretch/>
        </p:blipFill>
        <p:spPr>
          <a:xfrm>
            <a:off x="4214880" y="2786040"/>
            <a:ext cx="4714920" cy="38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-71280" y="71280"/>
            <a:ext cx="9215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верху смотрит на 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C:\Users\1\Desktop\Новая папка (2)\282[1].jpg"/>
          <p:cNvPicPr/>
          <p:nvPr/>
        </p:nvPicPr>
        <p:blipFill>
          <a:blip r:embed="rId1"/>
          <a:stretch/>
        </p:blipFill>
        <p:spPr>
          <a:xfrm>
            <a:off x="714240" y="1214280"/>
            <a:ext cx="6357960" cy="4397400"/>
          </a:xfrm>
          <a:prstGeom prst="rect">
            <a:avLst/>
          </a:prstGeom>
          <a:ln w="0">
            <a:noFill/>
          </a:ln>
        </p:spPr>
      </p:pic>
      <p:sp>
        <p:nvSpPr>
          <p:cNvPr id="428" name="4-конечная звезда 3"/>
          <p:cNvSpPr/>
          <p:nvPr/>
        </p:nvSpPr>
        <p:spPr>
          <a:xfrm>
            <a:off x="1928880" y="71280"/>
            <a:ext cx="857160" cy="571680"/>
          </a:xfrm>
          <a:custGeom>
            <a:avLst/>
            <a:gdLst>
              <a:gd name="textAreaLeft" fmla="*/ 353160 w 857160"/>
              <a:gd name="textAreaRight" fmla="*/ 504000 w 857160"/>
              <a:gd name="textAreaTop" fmla="*/ 235440 h 571680"/>
              <a:gd name="textAreaBottom" fmla="*/ 3362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64296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каком состоянии находится сам  Хо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ьная выноска 5"/>
          <p:cNvSpPr/>
          <p:nvPr/>
        </p:nvSpPr>
        <p:spPr>
          <a:xfrm>
            <a:off x="5786280" y="928800"/>
            <a:ext cx="3214800" cy="307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6072120" y="164304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есяц 10"/>
          <p:cNvSpPr/>
          <p:nvPr/>
        </p:nvSpPr>
        <p:spPr>
          <a:xfrm>
            <a:off x="285840" y="5643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Фильм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41432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3"/>
          <p:cNvSpPr/>
          <p:nvPr/>
        </p:nvSpPr>
        <p:spPr>
          <a:xfrm>
            <a:off x="785880" y="49291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ая прямоугольная выноска 4"/>
          <p:cNvSpPr/>
          <p:nvPr/>
        </p:nvSpPr>
        <p:spPr>
          <a:xfrm>
            <a:off x="928800" y="928800"/>
            <a:ext cx="264312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000080" y="1357200"/>
            <a:ext cx="264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1\Desktop\Новая папка (2)\0489e9c2fdce[1].jpg"/>
          <p:cNvPicPr/>
          <p:nvPr/>
        </p:nvPicPr>
        <p:blipFill>
          <a:blip r:embed="rId1"/>
          <a:stretch/>
        </p:blipFill>
        <p:spPr>
          <a:xfrm>
            <a:off x="4429080" y="214200"/>
            <a:ext cx="4395960" cy="58118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285840" y="214200"/>
            <a:ext cx="385740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ерой Гоголя не может понять,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сон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это или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явь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И вот ведьма превращается в красавиц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 поражает в этом портр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есяц 8"/>
          <p:cNvSpPr/>
          <p:nvPr/>
        </p:nvSpPr>
        <p:spPr>
          <a:xfrm>
            <a:off x="71280" y="364320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Овальная выноска 5"/>
          <p:cNvSpPr/>
          <p:nvPr/>
        </p:nvSpPr>
        <p:spPr>
          <a:xfrm>
            <a:off x="3929040" y="4071960"/>
            <a:ext cx="235764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4286160" y="44290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то такое портр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3:41:09Z</dcterms:created>
  <dc:creator>1</dc:creator>
  <dc:description/>
  <dc:language>en-US</dc:language>
  <cp:lastModifiedBy>LEGION</cp:lastModifiedBy>
  <dcterms:modified xsi:type="dcterms:W3CDTF">2015-01-20T08:23:14Z</dcterms:modified>
  <cp:revision>67</cp:revision>
  <dc:subject/>
  <dc:title>Слайд 1</dc:title>
</cp:coreProperties>
</file>