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C6F2-EE86-4F8A-B674-48155E92D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F4AF-607B-400D-8DAD-6C538F8310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Первый раз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73D5-F135-4B3A-BD51-4721D19355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о второй раз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он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идит её в доме сот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ebb"/>
                </a:solidFill>
                <a:latin typeface="Calibri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000" spc="-1" strike="noStrike">
                <a:solidFill>
                  <a:srgbClr val="003ebb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Ведьма!- вскрикнул он не своим голос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Это была та самая ведьма, которую он уби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E602-6E30-401A-9E47-60C499D781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 церкви Хома глядит на усопшую в третий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более мистическим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же красота панночки была страш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B07D-A391-45E7-8317-A6F76F5537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E577-911B-4165-B3AF-0E1B712AC1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, как от эпизода к эпизоду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, ожидание страшной развяз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CD30-A01C-40C7-99B0-EE8A815AC0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Хома видит 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826E-1D44-4DAB-8CBF-7E6240204C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279A-9571-4B16-9BA0-E382E49E5C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Кто такой Ви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E32D-D38F-4D8E-849B-D79023615F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2350-7671-4B03-BDB8-74EC804884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D328-4A4B-41F6-A8DC-C3F22DC2AF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6429-1B93-4E1D-8DFD-97C11D7090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5394-814F-4144-B1BD-899B08E079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6878-39FC-4962-B00D-2D80D780C1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EDD1-3737-4F86-83DD-57016F9B46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верху смотрит на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каком состоянии находится сам  Хо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6214-6094-465E-95A8-1B45ED9AB3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1F6F-9782-4296-AA64-3131008B70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Герой Гоголя не может понять,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сон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это или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явь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 вот ведьма превращается в красав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Что поражает в этом портр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5D4F-DDE5-4DC9-90E3-5B20579788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32F-E457-41DE-9718-DA328D3E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7FD-E91D-474C-BF27-91F2E941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89D63E-F658-4FE1-BFDC-F4987B2C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3CA37-0575-458C-8787-90422E72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08B5B4-DB63-415B-8E89-C4161054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E933A3-C8B1-4BF1-A26A-84D00209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1295F6-453E-4227-93F8-6AF5FABA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06FFA0-9C48-4AEC-9D5A-1148A28B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FBD58C-6EB5-46A8-908B-BC924906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6B0C13-9642-49DD-9679-FFA07BCE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470637-8650-4671-87DB-48BF9827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C2D-0AE6-4E80-B763-E561C18C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3D4-6C1A-4871-A0F7-167D7197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AC4D0-6855-4997-868A-3AF68FAF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3E836-934A-4E0B-96E9-737FD9B0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00BA0-8206-491B-B110-4A5E2C2B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C811D-68A4-4630-A4B1-8FC20926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10A5C-C55C-40DA-B9EA-F21586B0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33FB1-DBA1-4E06-9274-FB5CBC8F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239B2-3F10-458B-9BBF-137C9460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70A-5E7E-4D69-84AA-E1FDA9AE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8D55F-E8D3-4BD7-BA54-F50420CC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AF8BC-4EAA-44ED-9567-E5C1C226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12386-1439-4DAF-A35B-7D41DA99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9D59D-461B-4378-A56A-1EB75BBC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221AF-A310-48E4-9B07-81610840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44A6-C1D8-489B-A5AE-5344AA46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509F-857A-49C7-B850-43C81439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43364-886B-4558-A7C3-8B8C94D3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CDD97-869C-42CD-BC97-582A8F72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1625-9F1C-49B5-940C-9ED549C8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7D1-F102-4957-A1A6-A3F37CEF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CC3F-99F9-4DB7-BC2F-907DF690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446E-3BCF-4787-87FC-2C09D714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E79FD-2B0B-4F93-A088-AC476AE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65E00-1A4D-4605-A314-EB87F1AB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EA6D5-B0F6-4F7B-ACB7-E7889453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62AE-33EE-4324-97A0-CF8BEBDB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A1CCD-5BE9-43F8-B4E4-6153502D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CE85E-69DC-46F4-B703-BDD41A70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D67D1-9FD9-43A6-B924-BD4CDFF7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68B31-E304-42E8-A8F6-F0B2F3E6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7AF-7D9C-41C2-AE59-37ED00C7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7055A-ECB7-4E69-944C-6084FB0D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3C8629-1832-429D-B549-041D8DDB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8D23E-6976-4DC0-8279-A0A16E88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AD098E-1DAD-4A50-9A59-12BDFC0A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886BA4-38A6-41F3-99E6-2A22E931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13D88D-68DF-489B-88C9-2D6E2848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AFE16-35D2-4DC6-8058-D3BB1137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83D5B8-0E13-48F8-95EB-3F11F04A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53B31-E693-4207-94CE-5CD3727F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B6735-1B41-4180-8BA4-DD3067A4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0B1-63CE-42AD-892B-93F9D17C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396ED-5AC4-44AD-BF15-8A25397D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38B72-1ABC-428B-B105-9DEB55F7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0F381-0BCD-4313-AF7A-3259CC45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6CE58-B580-4EFA-9CE5-6DDEA9ED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B054D-48D6-43A2-B258-6C9E5B98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22182-48B8-43CE-89F2-6F605360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E21E5-09A7-41D5-BD1F-E266E54E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3496F-49E7-49EB-BA46-C759610A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8815F-6653-4073-89DA-01341AEE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672AD-01D9-4C12-9173-DE130999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568-3C65-4B77-A64E-4EF4E44A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4EF27-394B-43A3-A169-7FEC2A8E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136F9-E37F-40FA-BDE4-78DE0DF5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31045-01F2-4C04-8F32-294593BE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01463-DD07-4438-A1CF-E56D720D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6DF02-73B1-4838-905B-B06C4654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A96E7-CB7F-4826-9A76-4E739DB9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42E1D-E1A6-41D5-A160-7FE24E2A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A6D26-174B-4FE2-81EC-8590A77C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07627-2988-40D0-BC39-E376B869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9CEF3-9361-417E-BDD5-DCC98848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CDC-06D4-457D-9AFB-55BD3CAF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5C75B-FC71-499B-962B-A7E457CB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CF14F-5A7A-4FA8-B7C8-C5AF7411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6CFA5-C45E-4605-A7AB-4F52FC99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6F77D-DE36-4741-9148-B20F12C8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64D0E-EFCF-4B91-A3BC-FD360BC0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38650-35EC-4FEF-AE57-348CAF57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3D92-11C2-4E3D-B81F-2CC6BF99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07F32-A7B2-4164-8C94-68B5C5B1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E946B-9C91-43C2-99D9-FF311A8E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91352-4F54-4A0C-9969-7CDAD909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0F4-2DC5-4B09-A83C-21CB9FA7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02AF9-EA28-4C37-B914-9E3C5C5E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B23E5-38BE-436D-9DE9-5FE4DFBC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BDA13-5BA5-4061-8C1B-BEB5AF29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1B9D8-71C1-4200-8ECD-7B449544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F2827-5BB7-4D4B-806E-E14903E1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FC4803-5C3E-495E-8425-E6166282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0365A6-0DFE-4D0A-88DF-08379211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3A963B-F336-483A-A556-58F9A316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0DC702-8870-4F79-B32D-40735B1E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F27D4C-A593-4912-8D1F-14758549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35A-84FC-42D8-BF2B-1DD1E70E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C90DCE-308F-495E-9088-DBB502AD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F5BE2-4499-4B14-9B2D-1CF3AAFD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970580-EFDD-49BF-BAC4-7367C490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D9562C-D198-4FBD-B7B0-5C2FA435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3AAB80-EAAF-4228-80ED-6A1DDD29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45C4AF-7A5E-48C9-965F-4766D053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98F25-A9AE-4F8F-B0E0-84531CAA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C2E2C0-4D2F-40B4-8AE2-237FBAB1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76AB22-9468-48A7-969B-10022CD4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4E1119-0D3E-42C3-AC03-DE46E542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9B5A-4783-4FAA-96C7-82334FA1B9F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C9EB-47B3-4412-938A-E9B2601D447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02E5-5322-4548-809C-71CD78B5DDE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0DC5-CDA3-4930-8115-E67D2868204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1B50-CC53-461F-8D74-BC8BA1F6401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61BB-5951-4395-8A79-A22E91ECBCB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D54C-D0B8-40F6-97C6-47BC37E7D07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E5D9-5FAD-42B1-8EE0-CFADAD42F36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7094-4D71-4718-A6CC-FF56E3DE9E4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786120" y="712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ок литературы в 6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-428760" y="285840"/>
            <a:ext cx="99298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" descr="C:\Users\1\Desktop\viewer[2].png"/>
          <p:cNvPicPr/>
          <p:nvPr/>
        </p:nvPicPr>
        <p:blipFill>
          <a:blip r:embed="rId1"/>
          <a:stretch/>
        </p:blipFill>
        <p:spPr>
          <a:xfrm>
            <a:off x="1500120" y="1785960"/>
            <a:ext cx="5929560" cy="4071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1000080" y="592920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Film_shot00002"/>
          <p:cNvPicPr/>
          <p:nvPr/>
        </p:nvPicPr>
        <p:blipFill>
          <a:blip r:embed="rId1">
            <a:lum bright="6000"/>
          </a:blip>
          <a:srcRect l="0" t="0" r="0" b="159"/>
          <a:stretch/>
        </p:blipFill>
        <p:spPr>
          <a:xfrm>
            <a:off x="857160" y="285840"/>
            <a:ext cx="7429680" cy="46083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500040" y="50007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рвый раз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1"/>
          <p:cNvSpPr/>
          <p:nvPr/>
        </p:nvSpPr>
        <p:spPr>
          <a:xfrm>
            <a:off x="571680" y="571680"/>
            <a:ext cx="76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5" descr="10cfeddb"/>
          <p:cNvPicPr/>
          <p:nvPr/>
        </p:nvPicPr>
        <p:blipFill>
          <a:blip r:embed="rId1"/>
          <a:stretch/>
        </p:blipFill>
        <p:spPr>
          <a:xfrm>
            <a:off x="357120" y="1714680"/>
            <a:ext cx="5357880" cy="3357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0" y="500040"/>
            <a:ext cx="837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eacb"/>
                </a:solidFill>
                <a:latin typeface="Cambria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800" spc="-1" strike="noStrike">
                <a:solidFill>
                  <a:srgbClr val="e7eacb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428760" y="21420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 второй раз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идит её в доме сот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500040" y="53578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Ведьма!- вскрикнул он не своим голосом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Это была та самая ведьма, которую он убил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2"/>
          <p:cNvSpPr/>
          <p:nvPr/>
        </p:nvSpPr>
        <p:spPr>
          <a:xfrm>
            <a:off x="428760" y="7128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церкви Хома глядит на усопшую в третий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более мистическим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же красота панночки была страшн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есяц 3"/>
          <p:cNvSpPr/>
          <p:nvPr/>
        </p:nvSpPr>
        <p:spPr>
          <a:xfrm>
            <a:off x="142920" y="1357200"/>
            <a:ext cx="35712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Овальная выноска 4"/>
          <p:cNvSpPr/>
          <p:nvPr/>
        </p:nvSpPr>
        <p:spPr>
          <a:xfrm>
            <a:off x="5143680" y="2928960"/>
            <a:ext cx="3643200" cy="3214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5429160" y="364320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1" descr="C:\Users\1\Desktop\kinopoisk.ru-Viy-1308255[1].jpg"/>
          <p:cNvPicPr/>
          <p:nvPr/>
        </p:nvPicPr>
        <p:blipFill>
          <a:blip r:embed="rId1"/>
          <a:stretch/>
        </p:blipFill>
        <p:spPr>
          <a:xfrm>
            <a:off x="285840" y="2857680"/>
            <a:ext cx="4857840" cy="36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5" descr="derevyannaya-cerkov-v-Sedneve"/>
          <p:cNvPicPr/>
          <p:nvPr/>
        </p:nvPicPr>
        <p:blipFill>
          <a:blip r:embed="rId1"/>
          <a:stretch/>
        </p:blipFill>
        <p:spPr>
          <a:xfrm>
            <a:off x="214200" y="142920"/>
            <a:ext cx="4095720" cy="61437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2"/>
          <p:cNvSpPr/>
          <p:nvPr/>
        </p:nvSpPr>
        <p:spPr>
          <a:xfrm>
            <a:off x="4357800" y="2286000"/>
            <a:ext cx="464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4500720" y="214200"/>
            <a:ext cx="392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Выноска-облако 4"/>
          <p:cNvSpPr/>
          <p:nvPr/>
        </p:nvSpPr>
        <p:spPr>
          <a:xfrm>
            <a:off x="214200" y="214200"/>
            <a:ext cx="2000520" cy="2071800"/>
          </a:xfrm>
          <a:prstGeom prst="cloudCallout">
            <a:avLst>
              <a:gd name="adj1" fmla="val -19629"/>
              <a:gd name="adj2" fmla="val 49722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5"/>
          <p:cNvSpPr/>
          <p:nvPr/>
        </p:nvSpPr>
        <p:spPr>
          <a:xfrm>
            <a:off x="500040" y="7858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то такое опис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357120" y="62150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1"/>
          <p:cNvSpPr/>
          <p:nvPr/>
        </p:nvSpPr>
        <p:spPr>
          <a:xfrm>
            <a:off x="642960" y="214200"/>
            <a:ext cx="7786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, как от эпизода к эпизоду </a:t>
            </a: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, ожидание страшной развязк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1" descr="C:\Users\1\Desktop\kinopoisk.ru-Viy-1308254[1].jpg"/>
          <p:cNvPicPr/>
          <p:nvPr/>
        </p:nvPicPr>
        <p:blipFill>
          <a:blip r:embed="rId1"/>
          <a:stretch/>
        </p:blipFill>
        <p:spPr>
          <a:xfrm>
            <a:off x="928800" y="2071800"/>
            <a:ext cx="67150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2"/>
          <p:cNvSpPr/>
          <p:nvPr/>
        </p:nvSpPr>
        <p:spPr>
          <a:xfrm>
            <a:off x="42876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Хома видит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2" descr="C:\Users\1\Desktop\Новая папка (2)\10658_original[1].jpg"/>
          <p:cNvPicPr/>
          <p:nvPr/>
        </p:nvPicPr>
        <p:blipFill>
          <a:blip r:embed="rId1"/>
          <a:stretch/>
        </p:blipFill>
        <p:spPr>
          <a:xfrm>
            <a:off x="714240" y="2000160"/>
            <a:ext cx="3429000" cy="4229280"/>
          </a:xfrm>
          <a:prstGeom prst="rect">
            <a:avLst/>
          </a:prstGeom>
          <a:ln w="0">
            <a:noFill/>
          </a:ln>
        </p:spPr>
      </p:pic>
      <p:sp>
        <p:nvSpPr>
          <p:cNvPr id="464" name="4-конечная звезда 6"/>
          <p:cNvSpPr/>
          <p:nvPr/>
        </p:nvSpPr>
        <p:spPr>
          <a:xfrm>
            <a:off x="3357720" y="1357200"/>
            <a:ext cx="714240" cy="928800"/>
          </a:xfrm>
          <a:custGeom>
            <a:avLst/>
            <a:gdLst>
              <a:gd name="textAreaLeft" fmla="*/ 294120 w 714240"/>
              <a:gd name="textAreaRight" fmla="*/ 420120 w 714240"/>
              <a:gd name="textAreaTop" fmla="*/ 382680 h 928800"/>
              <a:gd name="textAreaBottom" fmla="*/ 54612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" descr="C:\Users\1\Desktop\kinopoisk.ru-Viy-1135653[1].jpg"/>
          <p:cNvPicPr/>
          <p:nvPr/>
        </p:nvPicPr>
        <p:blipFill>
          <a:blip r:embed="rId2"/>
          <a:stretch/>
        </p:blipFill>
        <p:spPr>
          <a:xfrm>
            <a:off x="4143240" y="1571760"/>
            <a:ext cx="4643640" cy="461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357120" y="428760"/>
            <a:ext cx="850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7" descr="40f23dbff6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5840" y="2071800"/>
            <a:ext cx="5500440" cy="442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Users\1\Desktop\Новая папка (2)\filejIgFcX[1].gif"/>
          <p:cNvPicPr/>
          <p:nvPr/>
        </p:nvPicPr>
        <p:blipFill>
          <a:blip r:embed="rId2"/>
          <a:stretch/>
        </p:blipFill>
        <p:spPr>
          <a:xfrm>
            <a:off x="5715000" y="32148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469" name="4-конечная звезда 4"/>
          <p:cNvSpPr/>
          <p:nvPr/>
        </p:nvSpPr>
        <p:spPr>
          <a:xfrm>
            <a:off x="5286240" y="2714760"/>
            <a:ext cx="1000440" cy="1214280"/>
          </a:xfrm>
          <a:custGeom>
            <a:avLst/>
            <a:gdLst>
              <a:gd name="textAreaLeft" fmla="*/ 412200 w 1000440"/>
              <a:gd name="textAreaRight" fmla="*/ 588240 w 1000440"/>
              <a:gd name="textAreaTop" fmla="*/ 500400 h 1214280"/>
              <a:gd name="textAreaBottom" fmla="*/ 7138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Users\1\Desktop\Новая папка (2)\45798633_viy_big[1].jpg"/>
          <p:cNvPicPr/>
          <p:nvPr/>
        </p:nvPicPr>
        <p:blipFill>
          <a:blip r:embed="rId1"/>
          <a:stretch/>
        </p:blipFill>
        <p:spPr>
          <a:xfrm>
            <a:off x="5286240" y="2286000"/>
            <a:ext cx="3357720" cy="43578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"/>
          <p:cNvSpPr/>
          <p:nvPr/>
        </p:nvSpPr>
        <p:spPr>
          <a:xfrm>
            <a:off x="571680" y="214200"/>
            <a:ext cx="73580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то такой Ви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357120" y="2500200"/>
            <a:ext cx="442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Месяц 5"/>
          <p:cNvSpPr/>
          <p:nvPr/>
        </p:nvSpPr>
        <p:spPr>
          <a:xfrm>
            <a:off x="214200" y="357120"/>
            <a:ext cx="3574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785880" y="142920"/>
            <a:ext cx="807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тикальный свиток 2"/>
          <p:cNvSpPr/>
          <p:nvPr/>
        </p:nvSpPr>
        <p:spPr>
          <a:xfrm>
            <a:off x="-142920" y="1214280"/>
            <a:ext cx="5429160" cy="5143680"/>
          </a:xfrm>
          <a:prstGeom prst="verticalScroll">
            <a:avLst>
              <a:gd name="adj" fmla="val 1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571680" y="2214720"/>
            <a:ext cx="4071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Месяц 4"/>
          <p:cNvSpPr/>
          <p:nvPr/>
        </p:nvSpPr>
        <p:spPr>
          <a:xfrm>
            <a:off x="357120" y="285840"/>
            <a:ext cx="4287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79" y="1212"/>
                  <a:pt x="6758" y="5080"/>
                  <a:pt x="6758" y="10800"/>
                </a:cubicBezTo>
                <a:cubicBezTo>
                  <a:pt x="6758" y="16520"/>
                  <a:pt x="14179" y="2038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4" descr="1223357760_0"/>
          <p:cNvPicPr/>
          <p:nvPr/>
        </p:nvPicPr>
        <p:blipFill>
          <a:blip r:embed="rId1"/>
          <a:stretch/>
        </p:blipFill>
        <p:spPr>
          <a:xfrm>
            <a:off x="4643280" y="1928880"/>
            <a:ext cx="414360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642960" y="214200"/>
            <a:ext cx="8143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642960" y="128592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71680" y="2000160"/>
            <a:ext cx="7643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C:\Users\1\Desktop\viewer[1].png"/>
          <p:cNvPicPr/>
          <p:nvPr/>
        </p:nvPicPr>
        <p:blipFill>
          <a:blip r:embed="rId1"/>
          <a:stretch/>
        </p:blipFill>
        <p:spPr>
          <a:xfrm>
            <a:off x="1357200" y="3214800"/>
            <a:ext cx="6161040" cy="3429000"/>
          </a:xfrm>
          <a:prstGeom prst="rect">
            <a:avLst/>
          </a:prstGeom>
          <a:ln w="0">
            <a:noFill/>
          </a:ln>
        </p:spPr>
      </p:pic>
      <p:sp>
        <p:nvSpPr>
          <p:cNvPr id="409" name="6-конечная звезда 6"/>
          <p:cNvSpPr/>
          <p:nvPr/>
        </p:nvSpPr>
        <p:spPr>
          <a:xfrm>
            <a:off x="2357280" y="1928880"/>
            <a:ext cx="428760" cy="500040"/>
          </a:xfrm>
          <a:custGeom>
            <a:avLst/>
            <a:gdLst/>
            <a:ahLst/>
            <a:rect l="l" t="t" r="r" b="b"/>
            <a:pathLst>
              <a:path w="428625" h="500062">
                <a:moveTo>
                  <a:pt x="0" y="125016"/>
                </a:moveTo>
                <a:lnTo>
                  <a:pt x="142874" y="125013"/>
                </a:lnTo>
                <a:lnTo>
                  <a:pt x="214313" y="0"/>
                </a:lnTo>
                <a:lnTo>
                  <a:pt x="285751" y="125013"/>
                </a:lnTo>
                <a:lnTo>
                  <a:pt x="428625" y="125016"/>
                </a:lnTo>
                <a:lnTo>
                  <a:pt x="357190" y="250031"/>
                </a:lnTo>
                <a:lnTo>
                  <a:pt x="428625" y="375047"/>
                </a:lnTo>
                <a:lnTo>
                  <a:pt x="285751" y="375049"/>
                </a:lnTo>
                <a:lnTo>
                  <a:pt x="214313" y="500062"/>
                </a:lnTo>
                <a:lnTo>
                  <a:pt x="142874" y="375049"/>
                </a:lnTo>
                <a:lnTo>
                  <a:pt x="0" y="375047"/>
                </a:lnTo>
                <a:lnTo>
                  <a:pt x="71435" y="250031"/>
                </a:lnTo>
                <a:lnTo>
                  <a:pt x="0" y="12501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1\Desktop\Новая папка (2)\filehD6iq5[1].gif"/>
          <p:cNvPicPr/>
          <p:nvPr/>
        </p:nvPicPr>
        <p:blipFill>
          <a:blip r:embed="rId1"/>
          <a:stretch/>
        </p:blipFill>
        <p:spPr>
          <a:xfrm>
            <a:off x="4572000" y="571680"/>
            <a:ext cx="4357800" cy="57150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714240" y="0"/>
            <a:ext cx="40719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7-конечная звезда 4"/>
          <p:cNvSpPr/>
          <p:nvPr/>
        </p:nvSpPr>
        <p:spPr>
          <a:xfrm>
            <a:off x="285840" y="357120"/>
            <a:ext cx="571320" cy="42876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-1" y="275652"/>
                </a:moveTo>
                <a:lnTo>
                  <a:pt x="88004" y="190757"/>
                </a:lnTo>
                <a:lnTo>
                  <a:pt x="56596" y="84895"/>
                </a:lnTo>
                <a:lnTo>
                  <a:pt x="197746" y="84895"/>
                </a:lnTo>
                <a:lnTo>
                  <a:pt x="285750" y="0"/>
                </a:lnTo>
                <a:lnTo>
                  <a:pt x="373754" y="84895"/>
                </a:lnTo>
                <a:lnTo>
                  <a:pt x="514904" y="84895"/>
                </a:lnTo>
                <a:lnTo>
                  <a:pt x="483496" y="190757"/>
                </a:lnTo>
                <a:lnTo>
                  <a:pt x="571501" y="275652"/>
                </a:lnTo>
                <a:lnTo>
                  <a:pt x="444329" y="322765"/>
                </a:lnTo>
                <a:lnTo>
                  <a:pt x="412920" y="428627"/>
                </a:lnTo>
                <a:lnTo>
                  <a:pt x="285750" y="381514"/>
                </a:lnTo>
                <a:lnTo>
                  <a:pt x="158580" y="428627"/>
                </a:lnTo>
                <a:lnTo>
                  <a:pt x="127171" y="322765"/>
                </a:lnTo>
                <a:lnTo>
                  <a:pt x="-1" y="275652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Молния 5"/>
          <p:cNvSpPr/>
          <p:nvPr/>
        </p:nvSpPr>
        <p:spPr>
          <a:xfrm>
            <a:off x="7143840" y="571680"/>
            <a:ext cx="1714320" cy="1285560"/>
          </a:xfrm>
          <a:prstGeom prst="lightningBol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1\Desktop\kinopoisk.ru-Viy-1308247[1].jpg"/>
          <p:cNvPicPr/>
          <p:nvPr/>
        </p:nvPicPr>
        <p:blipFill>
          <a:blip r:embed="rId1"/>
          <a:stretch/>
        </p:blipFill>
        <p:spPr>
          <a:xfrm>
            <a:off x="1000080" y="2500200"/>
            <a:ext cx="5429160" cy="4145040"/>
          </a:xfrm>
          <a:prstGeom prst="rect">
            <a:avLst/>
          </a:prstGeom>
          <a:ln w="0">
            <a:noFill/>
          </a:ln>
        </p:spPr>
      </p:pic>
      <p:sp>
        <p:nvSpPr>
          <p:cNvPr id="415" name="Овальная выноска 3"/>
          <p:cNvSpPr/>
          <p:nvPr/>
        </p:nvSpPr>
        <p:spPr>
          <a:xfrm>
            <a:off x="142920" y="142920"/>
            <a:ext cx="4071960" cy="2714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928800" y="71424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ая прямоугольная выноска 5"/>
          <p:cNvSpPr/>
          <p:nvPr/>
        </p:nvSpPr>
        <p:spPr>
          <a:xfrm>
            <a:off x="5929200" y="142920"/>
            <a:ext cx="3214800" cy="3214800"/>
          </a:xfrm>
          <a:prstGeom prst="wedgeRoundRectCallout">
            <a:avLst>
              <a:gd name="adj1" fmla="val -20356"/>
              <a:gd name="adj2" fmla="val 58259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5929200" y="357120"/>
            <a:ext cx="307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Вий "/>
          <p:cNvPicPr/>
          <p:nvPr/>
        </p:nvPicPr>
        <p:blipFill>
          <a:blip r:embed="rId1"/>
          <a:stretch/>
        </p:blipFill>
        <p:spPr>
          <a:xfrm>
            <a:off x="428760" y="1357200"/>
            <a:ext cx="6429240" cy="5113440"/>
          </a:xfrm>
          <a:prstGeom prst="rect">
            <a:avLst/>
          </a:prstGeom>
          <a:ln w="0">
            <a:noFill/>
          </a:ln>
        </p:spPr>
      </p:pic>
      <p:sp>
        <p:nvSpPr>
          <p:cNvPr id="420" name="Овальная выноска 4"/>
          <p:cNvSpPr/>
          <p:nvPr/>
        </p:nvSpPr>
        <p:spPr>
          <a:xfrm>
            <a:off x="4714920" y="142920"/>
            <a:ext cx="4429080" cy="4214880"/>
          </a:xfrm>
          <a:prstGeom prst="wedgeEllipseCallout">
            <a:avLst>
              <a:gd name="adj1" fmla="val -22587"/>
              <a:gd name="adj2" fmla="val 67879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5429160" y="785880"/>
            <a:ext cx="3714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500040" y="714240"/>
            <a:ext cx="3929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2" descr="C:\Users\1\Desktop\Новая папка (2)\koncovka[1].gif"/>
          <p:cNvPicPr/>
          <p:nvPr/>
        </p:nvPicPr>
        <p:blipFill>
          <a:blip r:embed="rId1"/>
          <a:stretch/>
        </p:blipFill>
        <p:spPr>
          <a:xfrm>
            <a:off x="5916600" y="214200"/>
            <a:ext cx="3013200" cy="2571840"/>
          </a:xfrm>
          <a:prstGeom prst="rect">
            <a:avLst/>
          </a:prstGeom>
          <a:ln w="0">
            <a:noFill/>
          </a:ln>
        </p:spPr>
      </p:pic>
      <p:sp>
        <p:nvSpPr>
          <p:cNvPr id="424" name="7-конечная звезда 3"/>
          <p:cNvSpPr/>
          <p:nvPr/>
        </p:nvSpPr>
        <p:spPr>
          <a:xfrm>
            <a:off x="142920" y="714240"/>
            <a:ext cx="428760" cy="500040"/>
          </a:xfrm>
          <a:custGeom>
            <a:avLst/>
            <a:gdLst/>
            <a:ahLst/>
            <a:rect l="l" t="t" r="r" b="b"/>
            <a:pathLst>
              <a:path w="428625" h="500063">
                <a:moveTo>
                  <a:pt x="-1" y="321594"/>
                </a:moveTo>
                <a:lnTo>
                  <a:pt x="66003" y="222550"/>
                </a:lnTo>
                <a:lnTo>
                  <a:pt x="42447" y="99044"/>
                </a:lnTo>
                <a:lnTo>
                  <a:pt x="148309" y="99044"/>
                </a:lnTo>
                <a:lnTo>
                  <a:pt x="214313" y="0"/>
                </a:lnTo>
                <a:lnTo>
                  <a:pt x="280316" y="99044"/>
                </a:lnTo>
                <a:lnTo>
                  <a:pt x="386178" y="99044"/>
                </a:lnTo>
                <a:lnTo>
                  <a:pt x="362622" y="222550"/>
                </a:lnTo>
                <a:lnTo>
                  <a:pt x="428626" y="321594"/>
                </a:lnTo>
                <a:lnTo>
                  <a:pt x="333247" y="376559"/>
                </a:lnTo>
                <a:lnTo>
                  <a:pt x="309690" y="500066"/>
                </a:lnTo>
                <a:lnTo>
                  <a:pt x="214313" y="445100"/>
                </a:lnTo>
                <a:lnTo>
                  <a:pt x="118935" y="500066"/>
                </a:lnTo>
                <a:lnTo>
                  <a:pt x="95378" y="376559"/>
                </a:lnTo>
                <a:lnTo>
                  <a:pt x="-1" y="321594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" descr="C:\Users\1\Desktop\kinopoisk.ru-Viy-1308250[1].jpg"/>
          <p:cNvPicPr/>
          <p:nvPr/>
        </p:nvPicPr>
        <p:blipFill>
          <a:blip r:embed="rId2"/>
          <a:stretch/>
        </p:blipFill>
        <p:spPr>
          <a:xfrm>
            <a:off x="4214880" y="2786040"/>
            <a:ext cx="4714920" cy="380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-71280" y="71280"/>
            <a:ext cx="9215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верху смотрит на ми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2" descr="C:\Users\1\Desktop\Новая папка (2)\282[1].jpg"/>
          <p:cNvPicPr/>
          <p:nvPr/>
        </p:nvPicPr>
        <p:blipFill>
          <a:blip r:embed="rId1"/>
          <a:stretch/>
        </p:blipFill>
        <p:spPr>
          <a:xfrm>
            <a:off x="714240" y="1214280"/>
            <a:ext cx="6357960" cy="4397400"/>
          </a:xfrm>
          <a:prstGeom prst="rect">
            <a:avLst/>
          </a:prstGeom>
          <a:ln w="0">
            <a:noFill/>
          </a:ln>
        </p:spPr>
      </p:pic>
      <p:sp>
        <p:nvSpPr>
          <p:cNvPr id="428" name="4-конечная звезда 3"/>
          <p:cNvSpPr/>
          <p:nvPr/>
        </p:nvSpPr>
        <p:spPr>
          <a:xfrm>
            <a:off x="1928880" y="71280"/>
            <a:ext cx="857160" cy="571680"/>
          </a:xfrm>
          <a:custGeom>
            <a:avLst/>
            <a:gdLst>
              <a:gd name="textAreaLeft" fmla="*/ 353160 w 857160"/>
              <a:gd name="textAreaRight" fmla="*/ 504000 w 857160"/>
              <a:gd name="textAreaTop" fmla="*/ 235440 h 571680"/>
              <a:gd name="textAreaBottom" fmla="*/ 3362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642960" y="55720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каком состоянии находится сам  Хом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Овальная выноска 5"/>
          <p:cNvSpPr/>
          <p:nvPr/>
        </p:nvSpPr>
        <p:spPr>
          <a:xfrm>
            <a:off x="5786280" y="928800"/>
            <a:ext cx="3214800" cy="3071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6072120" y="164304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есяц 10"/>
          <p:cNvSpPr/>
          <p:nvPr/>
        </p:nvSpPr>
        <p:spPr>
          <a:xfrm>
            <a:off x="285840" y="56437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Фильм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7929720" cy="41432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3"/>
          <p:cNvSpPr/>
          <p:nvPr/>
        </p:nvSpPr>
        <p:spPr>
          <a:xfrm>
            <a:off x="785880" y="492912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ая прямоугольная выноска 4"/>
          <p:cNvSpPr/>
          <p:nvPr/>
        </p:nvSpPr>
        <p:spPr>
          <a:xfrm>
            <a:off x="928800" y="928800"/>
            <a:ext cx="2643120" cy="30002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1000080" y="1357200"/>
            <a:ext cx="264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Users\1\Desktop\Новая папка (2)\0489e9c2fdce[1].jpg"/>
          <p:cNvPicPr/>
          <p:nvPr/>
        </p:nvPicPr>
        <p:blipFill>
          <a:blip r:embed="rId1"/>
          <a:stretch/>
        </p:blipFill>
        <p:spPr>
          <a:xfrm>
            <a:off x="4429080" y="214200"/>
            <a:ext cx="4395960" cy="58118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285840" y="214200"/>
            <a:ext cx="385740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ерой Гоголя не может понять,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сон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это или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явь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И вот ведьма превращается в красавиц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то поражает в этом портр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есяц 8"/>
          <p:cNvSpPr/>
          <p:nvPr/>
        </p:nvSpPr>
        <p:spPr>
          <a:xfrm>
            <a:off x="71280" y="3643200"/>
            <a:ext cx="28584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Овальная выноска 5"/>
          <p:cNvSpPr/>
          <p:nvPr/>
        </p:nvSpPr>
        <p:spPr>
          <a:xfrm>
            <a:off x="3929040" y="4071960"/>
            <a:ext cx="235764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4286160" y="442908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Что такое портр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3:41:09Z</dcterms:created>
  <dc:creator>1</dc:creator>
  <dc:description/>
  <dc:language>en-US</dc:language>
  <cp:lastModifiedBy>LEGION</cp:lastModifiedBy>
  <dcterms:modified xsi:type="dcterms:W3CDTF">2015-01-20T08:23:14Z</dcterms:modified>
  <cp:revision>67</cp:revision>
  <dc:subject/>
  <dc:title>Слайд 1</dc:title>
</cp:coreProperties>
</file>