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1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465F-E6A4-4FC7-ACD6-87735698FB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1" i="1" lang="ru-RU" sz="1200" spc="-1" strike="noStrike">
                <a:solidFill>
                  <a:srgbClr val="ff0000"/>
                </a:solidFill>
                <a:latin typeface="Cambria"/>
              </a:rPr>
              <a:t>Сочетание реалистического и мистиче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1" i="1" lang="ru-RU" sz="1200" spc="-1" strike="noStrike">
                <a:solidFill>
                  <a:srgbClr val="ff0000"/>
                </a:solidFill>
                <a:latin typeface="Cambria"/>
              </a:rPr>
              <a:t>в повести Н.В.Гоголя «Вий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0" i="1" lang="ru-RU" sz="1200" spc="-1" strike="noStrike">
                <a:solidFill>
                  <a:srgbClr val="ffffff"/>
                </a:solidFill>
                <a:latin typeface="Cambria"/>
              </a:rPr>
              <a:t>Учитель русского языка и литературы Соловьева Т.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mbria"/>
              </a:rPr>
              <a:t>МОУ « Лебяжьевская  средняя общеобразовательная шко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4334-12EA-46C5-806E-3918867FBA7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Первый раз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Хома видит её такой :  «Перед ним лежала красавица, с растрепанною косою, с длинными, как стрелы , ресницами. Бесчувственно отбросила она на обе стороны белые нагие руки и  стонала, возведя кверху очи, полные слез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4A74-2153-4056-B647-005413B85D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Во второй раз</a:t>
            </a:r>
            <a:r>
              <a:rPr b="0" lang="ru-RU" sz="11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он</a:t>
            </a:r>
            <a:r>
              <a:rPr b="0" lang="ru-RU" sz="11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видит её в доме сотн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ebb"/>
                </a:solidFill>
                <a:latin typeface="Calibri"/>
              </a:rPr>
              <a:t>«Она лежала как живая. Чело прекрасное, нежное, как снег, как серебро, казалось мыслило; брови  - ночь среди солнечного дня, тонкие, ровные, горделиво приподнялись над закрытыми глазами,  а ресницы, упавшие стрелами на щеки, пылавшие жаром тайных желаний; уста - рубины, готовые усмехнуться...</a:t>
            </a:r>
            <a:r>
              <a:rPr b="0" lang="ru-RU" sz="1000" spc="-1" strike="noStrike">
                <a:solidFill>
                  <a:srgbClr val="003ebb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Он чувствовал , что душа его начинала как-то болезненно ныт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-Ведьма!- вскрикнул он не своим голосо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Это была та самая ведьма, которую он убил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B13D-90B7-4F75-BFF0-993F9FCE7A2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В церкви Хома глядит на усопшую в третий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Гоголь нагнетает ужас, портрет становится ещё </a:t>
            </a:r>
            <a:r>
              <a:rPr b="0" i="1" lang="ru-RU" sz="1200" spc="-1" strike="noStrike">
                <a:solidFill>
                  <a:srgbClr val="000000"/>
                </a:solidFill>
                <a:latin typeface="Cambria"/>
              </a:rPr>
              <a:t>более мистическим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: на щеке умершей Хома видит показавшуюся ему слезой каплю кров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очему же красота панночки была страш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очему , глядя на неё, Хома сразу все вспомнил и понял, что это ведьм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очему в её красоте не было тепла , а  было что-то «страшно пронзительное», нечеловеческ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«Он подошел ко гробу, с робостию посмотрел в лицо умершей и не мог зажмурить, несколько вздрогнувши, своих глаз : такая страшная, сверкающая красота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CE07-E1CE-4E2D-BB2D-F0F68527233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Интересно то , как Гоголь подводит читателя к  сценам  в церкви . Не только портрет панночки , но и описание  самой церкви подготавливает читателя к тому, что произойдё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«Церковь деревянная, почерневшая, убранная зеленым мохом, с тремя конусообразными куполами, уныло стояла на краю села. Заметно было, что в ней давно уже не отправлялось никакого служения... Небольшой дворик, за которым не было ни дерева и открывалось одно пустое поле да поглощенные ночным мраком луга... Высокий старинный иконостас уже показывал глубокую ветхость 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2d050"/>
                </a:solidFill>
                <a:latin typeface="Cambria"/>
              </a:rPr>
              <a:t>Какие художественные средства использует автор в описа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F340-FADE-42D0-8089-A9A7DA0A956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Проследим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, как от эпизода к эпизоду </a:t>
            </a: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Гоголь усиливает ощущение мистического ужаса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, ожидание страшной развязк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mbria"/>
              </a:rPr>
              <a:t>Ночь первая</a:t>
            </a: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-покойница поднимает голову , садится в гробу , идет по церкви, пытается поймать Хому , гроб летает по церкви , позеленевший труп поднимается из него, раздается крик петух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350A-72DD-455D-AD4C-E216A0BA0F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mbria"/>
              </a:rPr>
              <a:t>Ночь вторая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- Хома видит труп на самой черте, покойница творит заклинания , нечистая сила ломится в церковь  , но не может попасть в неё, раздается крик петух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E38F-773F-4562-88FA-E74C688392B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mbria"/>
              </a:rPr>
              <a:t>Ночь  третья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- мертвец встает из гроба, творит заклинания , падают иконы, бьются стёкла в окнах,  нечистая сила врывается в церковь, приводят Вия,  Хома не выдерживает и смотрит на него, Хома погибает,  петух кричит во второй раз, нечисть застревает в окнах и дверях церк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83F3-AEA4-4088-9FB0-50EEB99FF1F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mbria"/>
              </a:rPr>
              <a:t>Кто такой Вий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mbria"/>
              </a:rPr>
              <a:t>Почему повесть названа «Вий», хотя сам он появляется в самом конце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Может быть ,Вий -  это та страшная сила, которая все-таки погубила Хому за его жестокость(за избиение ведьмы поленом), вызвала в его душе суеверный страх , заставивший его взглянуть в глаза чудовищу, «не выдержать»в последний мо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mbria"/>
              </a:rPr>
              <a:t>В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У древних славян- существо, насылающее ночные  кошмары, видения  и привидения. Вся сила его была в глазах, которые очень сильно заросли бровями и ресницами и совсем затемнили з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Малороссийский Вий –   мифическое существо , у которого веки опускаются до самой земли , но если поднять их вилами, уже ничто не укроется от его взора . Слово  «вии» означает рес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FDFD-CE5B-4EDE-9C41-4E909090C6F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мешным или страшным показалось вам это произвед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Докажите, что в повести удачно сочетается  реалистическое и мистическ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В повести, действительно, необыкновенно удачно сплетаются два начала : реалистическое и мистическое. Одно от другого неотделимо в художественном мире Гого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Талантливый писатель соединил народные предания и свою авторскую фантаз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8384-6F20-41B8-B93D-B66CA0BE4E6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mbria"/>
              </a:rPr>
              <a:t>Цель урока-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анализ тех сцен повести «Вий» , в которых преобладает мистическое  начало. Знакомство с теми эпизодами повести, которые представляют  бытовую, реалистическую стор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повести необыкновенно удачно сплетаются два начала:    реалистическое и мистическ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ambria"/>
              </a:rPr>
              <a:t>Реалистическо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Описание хутора, хлева,  где  философ « толкнул ногою в морду   просунувшуюся из другого хлева любопытную свинью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4B67-B532-477D-8244-829F394834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mbria"/>
              </a:rPr>
              <a:t>Реалистически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описана дальнейшая судьба двух приятелей Хо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Гоголь вводит в повесть двух друзей Хомы, чтобы расширить бытовое полотно , изобразить как можно больше колоритных фигур. Имена героев  представляют комическое сочетание  древнеримского  «Тиберий» и украинского «Горобец» (воробе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Эти сочетания особенно выразительны, когда к ним добавляются важные слова «философ», «ритор». Смысл прозвища  богослова Халявы - он всегда готов позавтракать, пообедать и поужинать тем, что плохо леж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6B7F-CE80-45CF-9A8C-45453499F3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«Богослов был рослый, плечистый мужчина и имел чрезвычайно странный нрав: всё , что ни лежало, бывало, возле него, он непременно украде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«Ритор Тиберий Горобець еще не имел права носить усов…и поэтому характер его в то время  ещё  мало развивался; но, судя по  большим шишкам на лбу, с которыми он часто являлся в класс, можно было предположить, что из него будет хороший воин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925C-ED7B-4A88-9EA3-2FFA97C294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«Философ Хома Брут был нрава веселого. Любил очень лежать и курить люльку. Он часто пробовал крупного гороху, но совершенно с философическим равнодушием , -говоря , что чему быть, того не миновать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08E0-3E02-46CA-8446-5A930641FFF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mbria"/>
              </a:rPr>
              <a:t>Реалистически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описан быт сотника, обряды , обычаи , традиции, в том числе в связи с погребением  (оплакивание  отцом умершей дочери , чтение над покойником святого  писания , прикладывание рук к горячей печи и п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mbria"/>
              </a:rPr>
              <a:t>Знание народных обычаев и традиций – одна из черт творчества Гог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BF14-DE52-4559-896E-6BD4D998762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Cambria"/>
              </a:rPr>
              <a:t>Мистическо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Анализ сцены, когда Хома , оказавшись в роли коня у ведьм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верху смотрит на м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Мистика- это раздел фантастики, связанный с изображением  потустороннего мира, нечистой силы, необъяснимых яв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Как изменяется привычный мир в глазах  Хомы , соприкоснувшегося с потусторонней сил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В каком состоянии находится сам  Хом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996C-2593-4176-B405-90050259321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Луга, леса ,долины-всё ,казалось, как будто спало с открытыми глазами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Мир преображается: он наполняется сказочными существами, незнакомыми прелестными звуками, запахами , крас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D671-2B9B-4927-891A-D0A333A5D72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Герой Гоголя не может понять, </a:t>
            </a: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сон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это или </a:t>
            </a: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явь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. Когда он начинает творить заклятья , всё вокруг становится привычным: «Густая трава  касалась его, и он  уже  не видел в ней ничего необыкновенног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И вот ведьма превращается в красавиц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Зачем Гоголю понадобилось преображать ведь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Зачем он делает её столь прекрасной и несколько раз на протяжении повести рисует её портр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Что поражает в этом портр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B6FD-FBA1-4DDE-9CCD-6C51E09F88F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DA06-498B-41F5-8908-DB33D40D0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33F7-7177-44D8-AAA6-27EFE2BD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E7426E-9A30-41E0-BC3A-A71C14B1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14DD40-2EA5-4D52-BF1F-3AC46482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81599E-3A19-455A-9A88-C87BC598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A9025C-0F55-4468-B840-30BDC29A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3CEDC4-A582-46CA-9281-25229A22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17D20E-5642-47DC-A257-DD152BAC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EAB32C-6304-4994-977D-4428ED98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265BC9-E8CF-4703-A57A-25687F3BF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AE42BD-00D4-4EF0-A5D0-631DAFBC6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A0B5-2E8D-4C74-9EED-24D852DCC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DF82-C498-41E2-9F59-FB148C850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48CA3-8F10-4509-87ED-0737F001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A6A39-B1FE-478B-9A13-09FABE6F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7C00B-8F1D-4D89-B8B1-E1993E2D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F6532-0DA3-40A2-98E2-1526A2AE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7B52C-A0F7-4424-A319-7D874760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8F979-F984-416C-98DE-9FF3E8C2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EED89-E8C7-4BD4-B7BB-57974B4D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6221-D480-4E7E-B1EA-5095D65A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F1583-29CB-4E9C-A815-B4CD00F2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95988-FA63-4CA6-90ED-A72809B6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2DCF6-88CC-495F-91E4-B72ACD85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3DA04-85DC-4E66-8B1F-2DDC20D1C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6C809-01ED-4357-8661-C27BAA853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923BF-FA69-4529-8FF2-01AC2701A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E1AD4-FD6B-4D26-B3ED-FB6BEB55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E44FF-9B02-4868-8506-4A57F507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F8FAD-82C6-48C6-A417-04FBED0A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7BE8A-9FEF-4748-BB71-D0078BA6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19E4-141D-477B-8D79-F4BD3535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EE5FC-3956-4B07-9FCF-9C2A3F42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C0E55-8F23-4E7E-89DC-22E9D5A4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6B02F-ED2A-490F-BE45-DF487135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8BEA1-515D-4E83-BE68-AC325582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D4183-7B9E-418C-9948-6624D3E8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CAACE-CFB7-4C84-BC5F-D47D58624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77F06-8951-42C1-A90A-E4EA4676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B9E4AB-516D-48E2-98F7-53D376F57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046409-B4E2-44DE-AAB6-850C367E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C22936-4890-4DD2-BF17-4940B2AB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E30F-D4BD-42BB-B61D-75A410AE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9D2DD0-40B0-42A2-909F-752AC0EF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517336-DB00-4C13-8CDB-B8D3ADAA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EBACB3-5EB2-4BB6-9D45-65588738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AFE079-9F75-4D98-A97D-A97F775F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B18AE3-8774-401D-B5B2-AC2A1F82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CB5C7E-0EEB-4D46-B550-5ED2CC4B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025D13-F88A-4432-909B-6E28F6DF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4DC8F5-3526-4315-8CF7-95EEA092F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CA2914-395B-414C-8214-4738B5794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6ED8D-B24B-45D8-BFE0-BD2BFF70E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BA61-C704-49CE-90E6-CDB54171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5F6FA-4D63-4BFA-BFC2-6276AD22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E46AA-D4AF-4D6B-8E97-6BFA8DA8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73F78-7CA7-48FF-A875-4BE59DE1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8FA4F-69C7-4435-B06C-B9F732B6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3D719-1565-4620-AAA9-8FB324F9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0525B-C86B-46E7-83AC-72C48613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F4A35-D9AC-45C2-9D9D-60AA6039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B40E0-1118-477E-8249-F0F7EBE3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B193E-DA9C-45B5-9AF7-2F463DDF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99F99-2786-4F26-B145-0C9767F6F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BB55-FF0A-45A6-B795-CFC3300A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CDDA3-0FDC-455F-A139-970A06959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3E0CA-3D07-4DF8-9255-31E4A21AD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247E9-CA37-402F-8DA6-22C22CBC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57AA7-F999-483F-8089-5092ACC4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6C85D-6B6C-41D8-B871-8D3A4E28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A8A7B-A755-4F94-953A-0EB81D09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273FC-39EE-47F3-8064-CDF5B450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4BE7A-F32A-4743-A46F-9642CBF7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EC8D4-D36A-406E-8C93-9D0D23A1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728CC-0595-492E-B598-F28378F3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A49B-5C03-4877-89B5-04A5BCE6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4231B-839A-4C84-B3CB-3F52C879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3E825-E20A-420C-A296-B024829BD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43CFA-5DE8-4396-9F31-C33618299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6FF1B-2F23-4E02-A1DF-48400E292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080E2-994A-4A51-9A71-AF6F6E06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22BB0-FE0E-4154-A8B7-7ED3F36E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75E78-0C8A-417D-BE15-910C7AC0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2934A-D19F-442A-83BC-01F71821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62745-AD9A-4613-833B-A46EB97D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4960E-ED30-458F-9118-2DC5C3F0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B099-B93C-418F-B592-466C6E36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9B96F-B8FF-4AC6-97A9-D3755397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13FFA-05DF-4729-9E9D-FA1AFACB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FBA30-79A2-4B7C-91CD-FC17415C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ACB63-308A-45C3-B035-592C41B71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7048D-B014-4A32-AB5E-19B0DF04E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815907-0A3D-42DC-A429-9DC801AC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04ABF2-61F2-42A3-87B0-BCE28C31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AB0CC6-1736-49CE-9992-38599979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C143C4-7FCC-4DDE-BDBE-6CF0AFD8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108163-D8B3-4643-9417-61C05DEB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C183-2EE4-4C16-B957-935B8FDF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DF406C-B86F-4FBE-B1BD-D52C7903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69F6C3-0E5F-42B0-9DDE-A84613D7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70FA56-82F9-4F9E-9658-23FBA807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86F9AF-54D7-4DF5-993C-B6CE7763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F289DC-CBFF-4A18-B9E8-0C847CD5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444C62-213C-4DF6-BE1A-B586C8877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097A28-258C-4140-8727-664AD569C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B3757C-016E-4CDD-8A03-DA1C396C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C4917F-148A-4688-AA05-2D5CAE2C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6B0F2C-41C2-4B80-81B9-BC068075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6962-D887-4263-AB6A-46DB4AE84CAD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0677-B649-4D84-90FB-346608EB6BDA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7F30-9DB6-42C4-B91E-68EE5F1FEDEA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AAF7-618D-4487-806E-DBCD91446C7F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5FA7-B74D-4C6C-8EF2-DC019CAB2494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B986-8B8E-4DAA-8BAD-34A2C4A09CE0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FB7C-076D-4264-A8DC-33E1165D04CC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C424-0D9A-435F-8B97-F3196867DC22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3489-08BA-49F6-8A48-7EA78AAA9909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3786120" y="71280"/>
            <a:ext cx="521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Урок литературы в 6 клас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2"/>
          <p:cNvSpPr/>
          <p:nvPr/>
        </p:nvSpPr>
        <p:spPr>
          <a:xfrm>
            <a:off x="-428760" y="285840"/>
            <a:ext cx="992988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mbria"/>
              </a:rPr>
              <a:t>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1" i="1" lang="ru-RU" sz="3200" spc="-1" strike="noStrike">
                <a:solidFill>
                  <a:srgbClr val="ff0000"/>
                </a:solidFill>
                <a:latin typeface="Cambria"/>
              </a:rPr>
              <a:t>Сочетание реалистического и мистическ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1" i="1" lang="ru-RU" sz="3200" spc="-1" strike="noStrike">
                <a:solidFill>
                  <a:srgbClr val="ff0000"/>
                </a:solidFill>
                <a:latin typeface="Cambria"/>
              </a:rPr>
              <a:t>в повести Н.В.Гоголя «Вий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2" descr="C:\Users\1\Desktop\viewer[2].png"/>
          <p:cNvPicPr/>
          <p:nvPr/>
        </p:nvPicPr>
        <p:blipFill>
          <a:blip r:embed="rId1"/>
          <a:stretch/>
        </p:blipFill>
        <p:spPr>
          <a:xfrm>
            <a:off x="1500120" y="1785960"/>
            <a:ext cx="5929560" cy="4071960"/>
          </a:xfrm>
          <a:prstGeom prst="rect">
            <a:avLst/>
          </a:prstGeom>
          <a:ln w="0">
            <a:noFill/>
          </a:ln>
        </p:spPr>
      </p:pic>
      <p:sp>
        <p:nvSpPr>
          <p:cNvPr id="404" name="TextBox 4"/>
          <p:cNvSpPr/>
          <p:nvPr/>
        </p:nvSpPr>
        <p:spPr>
          <a:xfrm>
            <a:off x="1000080" y="5929200"/>
            <a:ext cx="90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Учитель русского языка и литературы Соловьева Т.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МОУ « Лебяжьевская  средняя общеобразовательная школ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5" descr="Film_shot00002"/>
          <p:cNvPicPr/>
          <p:nvPr/>
        </p:nvPicPr>
        <p:blipFill>
          <a:blip r:embed="rId1">
            <a:lum bright="6000"/>
          </a:blip>
          <a:srcRect l="0" t="0" r="0" b="159"/>
          <a:stretch/>
        </p:blipFill>
        <p:spPr>
          <a:xfrm>
            <a:off x="857160" y="285840"/>
            <a:ext cx="7429680" cy="4608360"/>
          </a:xfrm>
          <a:prstGeom prst="rect">
            <a:avLst/>
          </a:prstGeom>
          <a:ln w="0">
            <a:noFill/>
          </a:ln>
        </p:spPr>
      </p:pic>
      <p:sp>
        <p:nvSpPr>
          <p:cNvPr id="443" name="TextBox 2"/>
          <p:cNvSpPr/>
          <p:nvPr/>
        </p:nvSpPr>
        <p:spPr>
          <a:xfrm>
            <a:off x="500040" y="500076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ервый раз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Хома видит её такой :  «Перед ним лежала красавица, с растрепанною косою, с длинными, как стрелы , ресницами. Бесчувственно отбросила она на обе стороны белые нагие руки и  стонала, возведя кверху очи, полные слез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Box 1"/>
          <p:cNvSpPr/>
          <p:nvPr/>
        </p:nvSpPr>
        <p:spPr>
          <a:xfrm>
            <a:off x="571680" y="571680"/>
            <a:ext cx="7643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5" name="Picture 5" descr="10cfeddb"/>
          <p:cNvPicPr/>
          <p:nvPr/>
        </p:nvPicPr>
        <p:blipFill>
          <a:blip r:embed="rId1"/>
          <a:stretch/>
        </p:blipFill>
        <p:spPr>
          <a:xfrm>
            <a:off x="357120" y="1714680"/>
            <a:ext cx="5357880" cy="335736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4"/>
          <p:cNvSpPr/>
          <p:nvPr/>
        </p:nvSpPr>
        <p:spPr>
          <a:xfrm>
            <a:off x="0" y="500040"/>
            <a:ext cx="8372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0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7eacb"/>
                </a:solidFill>
                <a:latin typeface="Cambria"/>
              </a:rPr>
              <a:t>«Она лежала как живая. Чело прекрасное, нежное, как снег, как серебро, казалось мыслило; брови  - ночь среди солнечного дня, тонкие, ровные, горделиво приподнялись над закрытыми глазами,  а ресницы, упавшие стрелами на щеки, пылавшие жаром тайных желаний; уста - рубины, готовые усмехнуться...</a:t>
            </a:r>
            <a:r>
              <a:rPr b="0" lang="ru-RU" sz="1800" spc="-1" strike="noStrike">
                <a:solidFill>
                  <a:srgbClr val="e7eacb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Box 4"/>
          <p:cNvSpPr/>
          <p:nvPr/>
        </p:nvSpPr>
        <p:spPr>
          <a:xfrm>
            <a:off x="428760" y="214200"/>
            <a:ext cx="79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о второй раз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он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идит её в доме сотни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Box 5"/>
          <p:cNvSpPr/>
          <p:nvPr/>
        </p:nvSpPr>
        <p:spPr>
          <a:xfrm>
            <a:off x="500040" y="535788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Он чувствовал , что душа его начинала как-то болезненно ныть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-Ведьма!- вскрикнул он не своим голосом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Это была та самая ведьма, которую он убил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2"/>
          <p:cNvSpPr/>
          <p:nvPr/>
        </p:nvSpPr>
        <p:spPr>
          <a:xfrm>
            <a:off x="428760" y="71280"/>
            <a:ext cx="8215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церкви Хома глядит на усопшую в третий раз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Гоголь нагнетает ужас, портрет становится ещё </a:t>
            </a:r>
            <a:r>
              <a:rPr b="0" i="1" lang="ru-RU" sz="2000" spc="-1" strike="noStrike">
                <a:solidFill>
                  <a:srgbClr val="ffffff"/>
                </a:solidFill>
                <a:latin typeface="Cambria"/>
              </a:rPr>
              <a:t>более мистическим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: на щеке умершей Хома видит показавшуюся ему слезой каплю кров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Почему же красота панночки была страшной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Почему , глядя на неё, Хома сразу все вспомнил и понял, что это ведьм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Почему в её красоте не было тепла , а  было что-то «страшно пронзительное», нечеловеческо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Месяц 3"/>
          <p:cNvSpPr/>
          <p:nvPr/>
        </p:nvSpPr>
        <p:spPr>
          <a:xfrm>
            <a:off x="142920" y="1357200"/>
            <a:ext cx="357120" cy="50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Овальная выноска 4"/>
          <p:cNvSpPr/>
          <p:nvPr/>
        </p:nvSpPr>
        <p:spPr>
          <a:xfrm>
            <a:off x="5143680" y="2928960"/>
            <a:ext cx="3643200" cy="32148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Box 5"/>
          <p:cNvSpPr/>
          <p:nvPr/>
        </p:nvSpPr>
        <p:spPr>
          <a:xfrm>
            <a:off x="5429160" y="3643200"/>
            <a:ext cx="3429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«Он подошел ко гробу, с робостию посмотрел в лицо умершей и не мог зажмурить, несколько вздрогнувши, своих глаз : такая страшная, сверкающая красота!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Picture 1" descr="C:\Users\1\Desktop\kinopoisk.ru-Viy-1308255[1].jpg"/>
          <p:cNvPicPr/>
          <p:nvPr/>
        </p:nvPicPr>
        <p:blipFill>
          <a:blip r:embed="rId1"/>
          <a:stretch/>
        </p:blipFill>
        <p:spPr>
          <a:xfrm>
            <a:off x="285840" y="2857680"/>
            <a:ext cx="4857840" cy="3670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5" descr="derevyannaya-cerkov-v-Sedneve"/>
          <p:cNvPicPr/>
          <p:nvPr/>
        </p:nvPicPr>
        <p:blipFill>
          <a:blip r:embed="rId1"/>
          <a:stretch/>
        </p:blipFill>
        <p:spPr>
          <a:xfrm>
            <a:off x="214200" y="142920"/>
            <a:ext cx="4095720" cy="6143760"/>
          </a:xfrm>
          <a:prstGeom prst="rect">
            <a:avLst/>
          </a:prstGeom>
          <a:ln w="0">
            <a:noFill/>
          </a:ln>
        </p:spPr>
      </p:pic>
      <p:sp>
        <p:nvSpPr>
          <p:cNvPr id="455" name="Прямоугольник 2"/>
          <p:cNvSpPr/>
          <p:nvPr/>
        </p:nvSpPr>
        <p:spPr>
          <a:xfrm>
            <a:off x="4357800" y="2286000"/>
            <a:ext cx="4643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«Церковь деревянная, почерневшая, убранная зеленым мохом, с тремя конусообразными куполами, уныло стояла на краю села. Заметно было, что в ней давно уже не отправлялось никакого служения... Небольшой дворик, за которым не было ни дерева и открывалось одно пустое поле да поглощенные ночным мраком луга... Высокий старинный иконостас уже показывал глубокую ветхость 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Box 3"/>
          <p:cNvSpPr/>
          <p:nvPr/>
        </p:nvSpPr>
        <p:spPr>
          <a:xfrm>
            <a:off x="4500720" y="214200"/>
            <a:ext cx="3929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Интересно то , как Гоголь подводит читателя к  сценам  в церкви . Не только портрет панночки , но и описание  самой церкви подготавливает читателя к тому, что произойдё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Выноска-облако 4"/>
          <p:cNvSpPr/>
          <p:nvPr/>
        </p:nvSpPr>
        <p:spPr>
          <a:xfrm>
            <a:off x="214200" y="214200"/>
            <a:ext cx="2000520" cy="2071800"/>
          </a:xfrm>
          <a:prstGeom prst="cloudCallout">
            <a:avLst>
              <a:gd name="adj1" fmla="val -19629"/>
              <a:gd name="adj2" fmla="val 49722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Box 5"/>
          <p:cNvSpPr/>
          <p:nvPr/>
        </p:nvSpPr>
        <p:spPr>
          <a:xfrm>
            <a:off x="500040" y="78588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Что такое описани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Box 6"/>
          <p:cNvSpPr/>
          <p:nvPr/>
        </p:nvSpPr>
        <p:spPr>
          <a:xfrm>
            <a:off x="357120" y="6215040"/>
            <a:ext cx="821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Cambria"/>
              </a:rPr>
              <a:t>Какие художественные средства использует автор в описани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Box 1"/>
          <p:cNvSpPr/>
          <p:nvPr/>
        </p:nvSpPr>
        <p:spPr>
          <a:xfrm>
            <a:off x="642960" y="214200"/>
            <a:ext cx="77868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mbria"/>
              </a:rPr>
              <a:t>Проследим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 , как от эпизода к эпизоду </a:t>
            </a:r>
            <a:r>
              <a:rPr b="1" i="1" lang="ru-RU" sz="1800" spc="-1" strike="noStrike">
                <a:solidFill>
                  <a:srgbClr val="ffffff"/>
                </a:solidFill>
                <a:latin typeface="Cambria"/>
              </a:rPr>
              <a:t>Гоголь усиливает ощущение мистического ужаса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, ожидание страшной развязки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Ночь первая</a:t>
            </a:r>
            <a:r>
              <a:rPr b="1" lang="ru-RU" sz="18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-покойница поднимает голову , садится в гробу , идет по церкви, пытается поймать Хому , гроб летает по церкви , позеленевший труп поднимается из него, раздается крик петух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1" name="Picture 1" descr="C:\Users\1\Desktop\kinopoisk.ru-Viy-1308254[1].jpg"/>
          <p:cNvPicPr/>
          <p:nvPr/>
        </p:nvPicPr>
        <p:blipFill>
          <a:blip r:embed="rId1"/>
          <a:stretch/>
        </p:blipFill>
        <p:spPr>
          <a:xfrm>
            <a:off x="928800" y="2071800"/>
            <a:ext cx="6715080" cy="457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Box 2"/>
          <p:cNvSpPr/>
          <p:nvPr/>
        </p:nvSpPr>
        <p:spPr>
          <a:xfrm>
            <a:off x="428760" y="285840"/>
            <a:ext cx="83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Ночь вторая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- Хома видит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труп на самой черте, покойница творит заклинания , нечистая сила ломится в церковь  , но не может попасть в неё, раздается крик петух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3" name="Picture 2" descr="C:\Users\1\Desktop\Новая папка (2)\10658_original[1].jpg"/>
          <p:cNvPicPr/>
          <p:nvPr/>
        </p:nvPicPr>
        <p:blipFill>
          <a:blip r:embed="rId1"/>
          <a:stretch/>
        </p:blipFill>
        <p:spPr>
          <a:xfrm>
            <a:off x="714240" y="2000160"/>
            <a:ext cx="3429000" cy="4229280"/>
          </a:xfrm>
          <a:prstGeom prst="rect">
            <a:avLst/>
          </a:prstGeom>
          <a:ln w="0">
            <a:noFill/>
          </a:ln>
        </p:spPr>
      </p:pic>
      <p:sp>
        <p:nvSpPr>
          <p:cNvPr id="464" name="4-конечная звезда 6"/>
          <p:cNvSpPr/>
          <p:nvPr/>
        </p:nvSpPr>
        <p:spPr>
          <a:xfrm>
            <a:off x="3357720" y="1357200"/>
            <a:ext cx="714240" cy="928800"/>
          </a:xfrm>
          <a:custGeom>
            <a:avLst/>
            <a:gdLst>
              <a:gd name="textAreaLeft" fmla="*/ 294120 w 714240"/>
              <a:gd name="textAreaRight" fmla="*/ 420120 w 714240"/>
              <a:gd name="textAreaTop" fmla="*/ 382680 h 928800"/>
              <a:gd name="textAreaBottom" fmla="*/ 54612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5" name="Picture 1" descr="C:\Users\1\Desktop\kinopoisk.ru-Viy-1135653[1].jpg"/>
          <p:cNvPicPr/>
          <p:nvPr/>
        </p:nvPicPr>
        <p:blipFill>
          <a:blip r:embed="rId2"/>
          <a:stretch/>
        </p:blipFill>
        <p:spPr>
          <a:xfrm>
            <a:off x="4143240" y="1571760"/>
            <a:ext cx="4643640" cy="4618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Box 1"/>
          <p:cNvSpPr/>
          <p:nvPr/>
        </p:nvSpPr>
        <p:spPr>
          <a:xfrm>
            <a:off x="357120" y="428760"/>
            <a:ext cx="85010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Ночь  третья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- мертвец встает из гроба, творит заклинания , падают иконы, бьются стёкла в окнах,  нечистая сила врывается в церковь, приводят Вия,  Хома не выдерживает и смотрит на него, Хома погибает,  петух кричит во второй раз, нечисть застревает в окнах и дверях церкв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Picture 7" descr="40f23dbff6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85840" y="2071800"/>
            <a:ext cx="5500440" cy="44290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" descr="C:\Users\1\Desktop\Новая папка (2)\filejIgFcX[1].gif"/>
          <p:cNvPicPr/>
          <p:nvPr/>
        </p:nvPicPr>
        <p:blipFill>
          <a:blip r:embed="rId2"/>
          <a:stretch/>
        </p:blipFill>
        <p:spPr>
          <a:xfrm>
            <a:off x="5715000" y="3214800"/>
            <a:ext cx="3286080" cy="3429000"/>
          </a:xfrm>
          <a:prstGeom prst="rect">
            <a:avLst/>
          </a:prstGeom>
          <a:ln w="0">
            <a:noFill/>
          </a:ln>
        </p:spPr>
      </p:pic>
      <p:sp>
        <p:nvSpPr>
          <p:cNvPr id="469" name="4-конечная звезда 4"/>
          <p:cNvSpPr/>
          <p:nvPr/>
        </p:nvSpPr>
        <p:spPr>
          <a:xfrm>
            <a:off x="5286240" y="2714760"/>
            <a:ext cx="1000440" cy="1214280"/>
          </a:xfrm>
          <a:custGeom>
            <a:avLst/>
            <a:gdLst>
              <a:gd name="textAreaLeft" fmla="*/ 412200 w 1000440"/>
              <a:gd name="textAreaRight" fmla="*/ 588240 w 1000440"/>
              <a:gd name="textAreaTop" fmla="*/ 500400 h 1214280"/>
              <a:gd name="textAreaBottom" fmla="*/ 71388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C:\Users\1\Desktop\Новая папка (2)\45798633_viy_big[1].jpg"/>
          <p:cNvPicPr/>
          <p:nvPr/>
        </p:nvPicPr>
        <p:blipFill>
          <a:blip r:embed="rId1"/>
          <a:stretch/>
        </p:blipFill>
        <p:spPr>
          <a:xfrm>
            <a:off x="5286240" y="2286000"/>
            <a:ext cx="3357720" cy="4357800"/>
          </a:xfrm>
          <a:prstGeom prst="rect">
            <a:avLst/>
          </a:prstGeom>
          <a:ln w="0">
            <a:noFill/>
          </a:ln>
        </p:spPr>
      </p:pic>
      <p:sp>
        <p:nvSpPr>
          <p:cNvPr id="471" name="TextBox 2"/>
          <p:cNvSpPr/>
          <p:nvPr/>
        </p:nvSpPr>
        <p:spPr>
          <a:xfrm>
            <a:off x="571680" y="214200"/>
            <a:ext cx="735804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Кто такой Вий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очему повесть названа «Вий», хотя сам он появляется в самом конц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mbria"/>
              </a:rPr>
              <a:t>Может быть ,Вий -  это та страшная сила, которая все-таки погубила Хому за его жестокость(за избиение ведьмы поленом), вызвала в его душе суеверный страх , заставивший его взглянуть в глаза чудовищу, «не выдержать»в последний момен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357120" y="2500200"/>
            <a:ext cx="44290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В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У древних славян- существо, насылающее ночные  кошмары, видения  и привидения. Вся сила его была в глазах, которые очень сильно заросли бровями и ресницами и совсем затемнили зр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Малороссийский Вий –   мифическое существо , у которого веки опускаются до самой земли , но если поднять их вилами, уже ничто не укроется от его взора . Слово  «вии» означает ресниц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Месяц 5"/>
          <p:cNvSpPr/>
          <p:nvPr/>
        </p:nvSpPr>
        <p:spPr>
          <a:xfrm>
            <a:off x="214200" y="357120"/>
            <a:ext cx="357480" cy="50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Box 1"/>
          <p:cNvSpPr/>
          <p:nvPr/>
        </p:nvSpPr>
        <p:spPr>
          <a:xfrm>
            <a:off x="785880" y="142920"/>
            <a:ext cx="8072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Смешным или страшным показалось вам это произведени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Докажите, что в повести удачно сочетается  реалистическое и мистическо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Вертикальный свиток 2"/>
          <p:cNvSpPr/>
          <p:nvPr/>
        </p:nvSpPr>
        <p:spPr>
          <a:xfrm>
            <a:off x="-142920" y="1214280"/>
            <a:ext cx="5429160" cy="5143680"/>
          </a:xfrm>
          <a:prstGeom prst="verticalScroll">
            <a:avLst>
              <a:gd name="adj" fmla="val 12500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Box 3"/>
          <p:cNvSpPr/>
          <p:nvPr/>
        </p:nvSpPr>
        <p:spPr>
          <a:xfrm>
            <a:off x="571680" y="2214720"/>
            <a:ext cx="4071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В повести, действительно, необыкновенно удачно сплетаются два начала : реалистическое и мистическое. Одно от другого неотделимо в художественном мире Гого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Талантливый писатель соединил народные предания и свою авторскую фантаз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Месяц 4"/>
          <p:cNvSpPr/>
          <p:nvPr/>
        </p:nvSpPr>
        <p:spPr>
          <a:xfrm>
            <a:off x="357120" y="285840"/>
            <a:ext cx="428760" cy="642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79" y="1212"/>
                  <a:pt x="6758" y="5080"/>
                  <a:pt x="6758" y="10800"/>
                </a:cubicBezTo>
                <a:cubicBezTo>
                  <a:pt x="6758" y="16520"/>
                  <a:pt x="14179" y="2038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8" name="Picture 4" descr="1223357760_0"/>
          <p:cNvPicPr/>
          <p:nvPr/>
        </p:nvPicPr>
        <p:blipFill>
          <a:blip r:embed="rId1"/>
          <a:stretch/>
        </p:blipFill>
        <p:spPr>
          <a:xfrm>
            <a:off x="4643280" y="1928880"/>
            <a:ext cx="4143600" cy="4643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Box 1"/>
          <p:cNvSpPr/>
          <p:nvPr/>
        </p:nvSpPr>
        <p:spPr>
          <a:xfrm>
            <a:off x="642960" y="214200"/>
            <a:ext cx="81439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Цель урока-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анализ тех сцен повести «Вий» , в которых преобладает мистическое  начало. Знакомство с теми эпизодами повести, которые представляют  бытовую, реалистическую сторон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Box 3"/>
          <p:cNvSpPr/>
          <p:nvPr/>
        </p:nvSpPr>
        <p:spPr>
          <a:xfrm>
            <a:off x="642960" y="1285920"/>
            <a:ext cx="77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В повести необыкновенно удачно сплетаются два начала:    реалистическое и мистическо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Box 4"/>
          <p:cNvSpPr/>
          <p:nvPr/>
        </p:nvSpPr>
        <p:spPr>
          <a:xfrm>
            <a:off x="571680" y="2000160"/>
            <a:ext cx="76435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               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Реалистическо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Описание хутора, хлева,  где  философ « толкнул ногою в морду   просунувшуюся из другого хлева любопытную свинью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2" descr="C:\Users\1\Desktop\viewer[1].png"/>
          <p:cNvPicPr/>
          <p:nvPr/>
        </p:nvPicPr>
        <p:blipFill>
          <a:blip r:embed="rId1"/>
          <a:stretch/>
        </p:blipFill>
        <p:spPr>
          <a:xfrm>
            <a:off x="1357200" y="3214800"/>
            <a:ext cx="6161040" cy="3429000"/>
          </a:xfrm>
          <a:prstGeom prst="rect">
            <a:avLst/>
          </a:prstGeom>
          <a:ln w="0">
            <a:noFill/>
          </a:ln>
        </p:spPr>
      </p:pic>
      <p:sp>
        <p:nvSpPr>
          <p:cNvPr id="409" name="6-конечная звезда 6"/>
          <p:cNvSpPr/>
          <p:nvPr/>
        </p:nvSpPr>
        <p:spPr>
          <a:xfrm>
            <a:off x="2357280" y="1928880"/>
            <a:ext cx="428760" cy="500040"/>
          </a:xfrm>
          <a:custGeom>
            <a:avLst/>
            <a:gdLst/>
            <a:ahLst/>
            <a:rect l="l" t="t" r="r" b="b"/>
            <a:pathLst>
              <a:path w="428625" h="500062">
                <a:moveTo>
                  <a:pt x="0" y="125016"/>
                </a:moveTo>
                <a:lnTo>
                  <a:pt x="142874" y="125013"/>
                </a:lnTo>
                <a:lnTo>
                  <a:pt x="214313" y="0"/>
                </a:lnTo>
                <a:lnTo>
                  <a:pt x="285751" y="125013"/>
                </a:lnTo>
                <a:lnTo>
                  <a:pt x="428625" y="125016"/>
                </a:lnTo>
                <a:lnTo>
                  <a:pt x="357190" y="250031"/>
                </a:lnTo>
                <a:lnTo>
                  <a:pt x="428625" y="375047"/>
                </a:lnTo>
                <a:lnTo>
                  <a:pt x="285751" y="375049"/>
                </a:lnTo>
                <a:lnTo>
                  <a:pt x="214313" y="500062"/>
                </a:lnTo>
                <a:lnTo>
                  <a:pt x="142874" y="375049"/>
                </a:lnTo>
                <a:lnTo>
                  <a:pt x="0" y="375047"/>
                </a:lnTo>
                <a:lnTo>
                  <a:pt x="71435" y="250031"/>
                </a:lnTo>
                <a:lnTo>
                  <a:pt x="0" y="125016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C:\Users\1\Desktop\Новая папка (2)\filehD6iq5[1].gif"/>
          <p:cNvPicPr/>
          <p:nvPr/>
        </p:nvPicPr>
        <p:blipFill>
          <a:blip r:embed="rId1"/>
          <a:stretch/>
        </p:blipFill>
        <p:spPr>
          <a:xfrm>
            <a:off x="4572000" y="571680"/>
            <a:ext cx="4357800" cy="5715000"/>
          </a:xfrm>
          <a:prstGeom prst="rect">
            <a:avLst/>
          </a:prstGeom>
          <a:ln w="0">
            <a:noFill/>
          </a:ln>
        </p:spPr>
      </p:pic>
      <p:sp>
        <p:nvSpPr>
          <p:cNvPr id="411" name="TextBox 2"/>
          <p:cNvSpPr/>
          <p:nvPr/>
        </p:nvSpPr>
        <p:spPr>
          <a:xfrm>
            <a:off x="714240" y="0"/>
            <a:ext cx="407196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Реалистически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описана дальнейшая судьба двух приятелей Хо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Гоголь вводит в повесть двух друзей Хомы, чтобы расширить бытовое полотно , изобразить как можно больше колоритных фигур. Имена героев  представляют комическое сочетание  древнеримского  «Тиберий» и украинского «Горобец» (воробей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Эти сочетания особенно выразительны, когда к ним добавляются важные слова «философ», «ритор». Смысл прозвища  богослова Халявы - он всегда готов позавтракать, пообедать и поужинать тем, что плохо лежи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7-конечная звезда 4"/>
          <p:cNvSpPr/>
          <p:nvPr/>
        </p:nvSpPr>
        <p:spPr>
          <a:xfrm>
            <a:off x="285840" y="357120"/>
            <a:ext cx="571320" cy="428760"/>
          </a:xfrm>
          <a:custGeom>
            <a:avLst/>
            <a:gdLst/>
            <a:ahLst/>
            <a:rect l="l" t="t" r="r" b="b"/>
            <a:pathLst>
              <a:path w="571500" h="428625">
                <a:moveTo>
                  <a:pt x="-1" y="275652"/>
                </a:moveTo>
                <a:lnTo>
                  <a:pt x="88004" y="190757"/>
                </a:lnTo>
                <a:lnTo>
                  <a:pt x="56596" y="84895"/>
                </a:lnTo>
                <a:lnTo>
                  <a:pt x="197746" y="84895"/>
                </a:lnTo>
                <a:lnTo>
                  <a:pt x="285750" y="0"/>
                </a:lnTo>
                <a:lnTo>
                  <a:pt x="373754" y="84895"/>
                </a:lnTo>
                <a:lnTo>
                  <a:pt x="514904" y="84895"/>
                </a:lnTo>
                <a:lnTo>
                  <a:pt x="483496" y="190757"/>
                </a:lnTo>
                <a:lnTo>
                  <a:pt x="571501" y="275652"/>
                </a:lnTo>
                <a:lnTo>
                  <a:pt x="444329" y="322765"/>
                </a:lnTo>
                <a:lnTo>
                  <a:pt x="412920" y="428627"/>
                </a:lnTo>
                <a:lnTo>
                  <a:pt x="285750" y="381514"/>
                </a:lnTo>
                <a:lnTo>
                  <a:pt x="158580" y="428627"/>
                </a:lnTo>
                <a:lnTo>
                  <a:pt x="127171" y="322765"/>
                </a:lnTo>
                <a:lnTo>
                  <a:pt x="-1" y="275652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Молния 5"/>
          <p:cNvSpPr/>
          <p:nvPr/>
        </p:nvSpPr>
        <p:spPr>
          <a:xfrm>
            <a:off x="7143840" y="571680"/>
            <a:ext cx="1714320" cy="1285560"/>
          </a:xfrm>
          <a:prstGeom prst="lightningBol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C:\Users\1\Desktop\kinopoisk.ru-Viy-1308247[1].jpg"/>
          <p:cNvPicPr/>
          <p:nvPr/>
        </p:nvPicPr>
        <p:blipFill>
          <a:blip r:embed="rId1"/>
          <a:stretch/>
        </p:blipFill>
        <p:spPr>
          <a:xfrm>
            <a:off x="1000080" y="2500200"/>
            <a:ext cx="5429160" cy="4145040"/>
          </a:xfrm>
          <a:prstGeom prst="rect">
            <a:avLst/>
          </a:prstGeom>
          <a:ln w="0">
            <a:noFill/>
          </a:ln>
        </p:spPr>
      </p:pic>
      <p:sp>
        <p:nvSpPr>
          <p:cNvPr id="415" name="Овальная выноска 3"/>
          <p:cNvSpPr/>
          <p:nvPr/>
        </p:nvSpPr>
        <p:spPr>
          <a:xfrm>
            <a:off x="142920" y="142920"/>
            <a:ext cx="4071960" cy="27147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Box 4"/>
          <p:cNvSpPr/>
          <p:nvPr/>
        </p:nvSpPr>
        <p:spPr>
          <a:xfrm>
            <a:off x="928800" y="714240"/>
            <a:ext cx="357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«Богослов был рослый, плечистый мужчина и имел чрезвычайно странный нрав: всё , что ни лежало, бывало, возле него, он непременно украдет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Скругленная прямоугольная выноска 5"/>
          <p:cNvSpPr/>
          <p:nvPr/>
        </p:nvSpPr>
        <p:spPr>
          <a:xfrm>
            <a:off x="5929200" y="142920"/>
            <a:ext cx="3214800" cy="3214800"/>
          </a:xfrm>
          <a:prstGeom prst="wedgeRoundRectCallout">
            <a:avLst>
              <a:gd name="adj1" fmla="val -20356"/>
              <a:gd name="adj2" fmla="val 58259"/>
              <a:gd name="adj3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Box 8"/>
          <p:cNvSpPr/>
          <p:nvPr/>
        </p:nvSpPr>
        <p:spPr>
          <a:xfrm>
            <a:off x="5929200" y="357120"/>
            <a:ext cx="3071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«Ритор Тиберий Горобець еще не имел права носить усов…и поэтому характер его в то время  ещё  мало развивался; но, судя по  большим шишкам на лбу, с которыми он часто являлся в класс, можно было предположить, что из него будет хороший воин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4" descr="Вий "/>
          <p:cNvPicPr/>
          <p:nvPr/>
        </p:nvPicPr>
        <p:blipFill>
          <a:blip r:embed="rId1"/>
          <a:stretch/>
        </p:blipFill>
        <p:spPr>
          <a:xfrm>
            <a:off x="428760" y="1357200"/>
            <a:ext cx="6429240" cy="5113440"/>
          </a:xfrm>
          <a:prstGeom prst="rect">
            <a:avLst/>
          </a:prstGeom>
          <a:ln w="0">
            <a:noFill/>
          </a:ln>
        </p:spPr>
      </p:pic>
      <p:sp>
        <p:nvSpPr>
          <p:cNvPr id="420" name="Овальная выноска 4"/>
          <p:cNvSpPr/>
          <p:nvPr/>
        </p:nvSpPr>
        <p:spPr>
          <a:xfrm>
            <a:off x="4714920" y="142920"/>
            <a:ext cx="4429080" cy="4214880"/>
          </a:xfrm>
          <a:prstGeom prst="wedgeEllipseCallout">
            <a:avLst>
              <a:gd name="adj1" fmla="val -22587"/>
              <a:gd name="adj2" fmla="val 67879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Box 6"/>
          <p:cNvSpPr/>
          <p:nvPr/>
        </p:nvSpPr>
        <p:spPr>
          <a:xfrm>
            <a:off x="5429160" y="785880"/>
            <a:ext cx="37148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«Философ Хома Брут был нрава веселого. Любил очень лежать и курить люльку. Он часто пробовал крупного гороху, но совершенно с философическим равнодушием , -говоря , что чему быть, того не миновать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2"/>
          <p:cNvSpPr/>
          <p:nvPr/>
        </p:nvSpPr>
        <p:spPr>
          <a:xfrm>
            <a:off x="500040" y="714240"/>
            <a:ext cx="39290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Реалистически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описан быт сотника, обряды , обычаи , традиции, в том числе в связи с погребением  (оплакивание  отцом умершей дочери , чтение над покойником святого  писания , прикладывание рук к горячей печи и пр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mbria"/>
              </a:rPr>
              <a:t>Знание народных обычаев и традиций – одна из черт творчества Гого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2" descr="C:\Users\1\Desktop\Новая папка (2)\koncovka[1].gif"/>
          <p:cNvPicPr/>
          <p:nvPr/>
        </p:nvPicPr>
        <p:blipFill>
          <a:blip r:embed="rId1"/>
          <a:stretch/>
        </p:blipFill>
        <p:spPr>
          <a:xfrm>
            <a:off x="5916600" y="214200"/>
            <a:ext cx="3013200" cy="2571840"/>
          </a:xfrm>
          <a:prstGeom prst="rect">
            <a:avLst/>
          </a:prstGeom>
          <a:ln w="0">
            <a:noFill/>
          </a:ln>
        </p:spPr>
      </p:pic>
      <p:sp>
        <p:nvSpPr>
          <p:cNvPr id="424" name="7-конечная звезда 3"/>
          <p:cNvSpPr/>
          <p:nvPr/>
        </p:nvSpPr>
        <p:spPr>
          <a:xfrm>
            <a:off x="142920" y="714240"/>
            <a:ext cx="428760" cy="500040"/>
          </a:xfrm>
          <a:custGeom>
            <a:avLst/>
            <a:gdLst/>
            <a:ahLst/>
            <a:rect l="l" t="t" r="r" b="b"/>
            <a:pathLst>
              <a:path w="428625" h="500063">
                <a:moveTo>
                  <a:pt x="-1" y="321594"/>
                </a:moveTo>
                <a:lnTo>
                  <a:pt x="66003" y="222550"/>
                </a:lnTo>
                <a:lnTo>
                  <a:pt x="42447" y="99044"/>
                </a:lnTo>
                <a:lnTo>
                  <a:pt x="148309" y="99044"/>
                </a:lnTo>
                <a:lnTo>
                  <a:pt x="214313" y="0"/>
                </a:lnTo>
                <a:lnTo>
                  <a:pt x="280316" y="99044"/>
                </a:lnTo>
                <a:lnTo>
                  <a:pt x="386178" y="99044"/>
                </a:lnTo>
                <a:lnTo>
                  <a:pt x="362622" y="222550"/>
                </a:lnTo>
                <a:lnTo>
                  <a:pt x="428626" y="321594"/>
                </a:lnTo>
                <a:lnTo>
                  <a:pt x="333247" y="376559"/>
                </a:lnTo>
                <a:lnTo>
                  <a:pt x="309690" y="500066"/>
                </a:lnTo>
                <a:lnTo>
                  <a:pt x="214313" y="445100"/>
                </a:lnTo>
                <a:lnTo>
                  <a:pt x="118935" y="500066"/>
                </a:lnTo>
                <a:lnTo>
                  <a:pt x="95378" y="376559"/>
                </a:lnTo>
                <a:lnTo>
                  <a:pt x="-1" y="321594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Picture 1" descr="C:\Users\1\Desktop\kinopoisk.ru-Viy-1308250[1].jpg"/>
          <p:cNvPicPr/>
          <p:nvPr/>
        </p:nvPicPr>
        <p:blipFill>
          <a:blip r:embed="rId2"/>
          <a:stretch/>
        </p:blipFill>
        <p:spPr>
          <a:xfrm>
            <a:off x="4214880" y="2786040"/>
            <a:ext cx="4714920" cy="3800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Box 1"/>
          <p:cNvSpPr/>
          <p:nvPr/>
        </p:nvSpPr>
        <p:spPr>
          <a:xfrm>
            <a:off x="-71280" y="71280"/>
            <a:ext cx="92152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                       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Мистическо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Анализ сцены, когда Хома , оказавшись в роли коня у ведьм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сверху смотрит на ми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Picture 2" descr="C:\Users\1\Desktop\Новая папка (2)\282[1].jpg"/>
          <p:cNvPicPr/>
          <p:nvPr/>
        </p:nvPicPr>
        <p:blipFill>
          <a:blip r:embed="rId1"/>
          <a:stretch/>
        </p:blipFill>
        <p:spPr>
          <a:xfrm>
            <a:off x="714240" y="1214280"/>
            <a:ext cx="6357960" cy="4397400"/>
          </a:xfrm>
          <a:prstGeom prst="rect">
            <a:avLst/>
          </a:prstGeom>
          <a:ln w="0">
            <a:noFill/>
          </a:ln>
        </p:spPr>
      </p:pic>
      <p:sp>
        <p:nvSpPr>
          <p:cNvPr id="428" name="4-конечная звезда 3"/>
          <p:cNvSpPr/>
          <p:nvPr/>
        </p:nvSpPr>
        <p:spPr>
          <a:xfrm>
            <a:off x="1928880" y="71280"/>
            <a:ext cx="857160" cy="571680"/>
          </a:xfrm>
          <a:custGeom>
            <a:avLst/>
            <a:gdLst>
              <a:gd name="textAreaLeft" fmla="*/ 353160 w 857160"/>
              <a:gd name="textAreaRight" fmla="*/ 504000 w 857160"/>
              <a:gd name="textAreaTop" fmla="*/ 235440 h 571680"/>
              <a:gd name="textAreaBottom" fmla="*/ 336240 h 57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Box 4"/>
          <p:cNvSpPr/>
          <p:nvPr/>
        </p:nvSpPr>
        <p:spPr>
          <a:xfrm>
            <a:off x="642960" y="5572080"/>
            <a:ext cx="82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ак изменяется привычный мир в глазах  Хомы , соприкоснувшегося с потусторонней силой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 каком состоянии находится сам  Хом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Овальная выноска 5"/>
          <p:cNvSpPr/>
          <p:nvPr/>
        </p:nvSpPr>
        <p:spPr>
          <a:xfrm>
            <a:off x="5786280" y="928800"/>
            <a:ext cx="3214800" cy="30718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Box 6"/>
          <p:cNvSpPr/>
          <p:nvPr/>
        </p:nvSpPr>
        <p:spPr>
          <a:xfrm>
            <a:off x="6072120" y="1643040"/>
            <a:ext cx="292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Мистика- это раздел фантастики, связанный с изображением  потустороннего мира, нечистой силы, необъяснимых явл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Месяц 10"/>
          <p:cNvSpPr/>
          <p:nvPr/>
        </p:nvSpPr>
        <p:spPr>
          <a:xfrm>
            <a:off x="285840" y="564372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Фильм.wmv" descr=""/>
          <p:cNvPicPr/>
          <p:nvPr/>
        </p:nvPicPr>
        <p:blipFill>
          <a:blip r:embed="rId1"/>
          <a:stretch/>
        </p:blipFill>
        <p:spPr>
          <a:xfrm>
            <a:off x="500040" y="500040"/>
            <a:ext cx="7929720" cy="4143240"/>
          </a:xfrm>
          <a:prstGeom prst="rect">
            <a:avLst/>
          </a:prstGeom>
          <a:ln w="0">
            <a:noFill/>
          </a:ln>
        </p:spPr>
      </p:pic>
      <p:sp>
        <p:nvSpPr>
          <p:cNvPr id="434" name="TextBox 3"/>
          <p:cNvSpPr/>
          <p:nvPr/>
        </p:nvSpPr>
        <p:spPr>
          <a:xfrm>
            <a:off x="785880" y="4929120"/>
            <a:ext cx="764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Мир преображается: он наполняется сказочными существами, незнакомыми прелестными звуками, запахами , краск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Скругленная прямоугольная выноска 4"/>
          <p:cNvSpPr/>
          <p:nvPr/>
        </p:nvSpPr>
        <p:spPr>
          <a:xfrm>
            <a:off x="928800" y="928800"/>
            <a:ext cx="2643120" cy="300024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Box 5"/>
          <p:cNvSpPr/>
          <p:nvPr/>
        </p:nvSpPr>
        <p:spPr>
          <a:xfrm>
            <a:off x="1000080" y="1357200"/>
            <a:ext cx="2643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…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Луга, леса ,долины-всё ,казалось, как будто спало с открытыми глазами…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0" dur="1" fill="hold"/>
                                        <p:tgtEl>
                                          <p:spTgt spid="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C:\Users\1\Desktop\Новая папка (2)\0489e9c2fdce[1].jpg"/>
          <p:cNvPicPr/>
          <p:nvPr/>
        </p:nvPicPr>
        <p:blipFill>
          <a:blip r:embed="rId1"/>
          <a:stretch/>
        </p:blipFill>
        <p:spPr>
          <a:xfrm>
            <a:off x="4429080" y="214200"/>
            <a:ext cx="4395960" cy="5811840"/>
          </a:xfrm>
          <a:prstGeom prst="rect">
            <a:avLst/>
          </a:prstGeom>
          <a:ln w="0">
            <a:noFill/>
          </a:ln>
        </p:spPr>
      </p:pic>
      <p:sp>
        <p:nvSpPr>
          <p:cNvPr id="438" name="TextBox 3"/>
          <p:cNvSpPr/>
          <p:nvPr/>
        </p:nvSpPr>
        <p:spPr>
          <a:xfrm>
            <a:off x="285840" y="214200"/>
            <a:ext cx="3857400" cy="67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Герой Гоголя не может понять, </a:t>
            </a:r>
            <a:r>
              <a:rPr b="1" i="1" lang="ru-RU" sz="2000" spc="-1" strike="noStrike">
                <a:solidFill>
                  <a:srgbClr val="ffffff"/>
                </a:solidFill>
                <a:latin typeface="Cambria"/>
              </a:rPr>
              <a:t>сон</a:t>
            </a: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 это или </a:t>
            </a:r>
            <a:r>
              <a:rPr b="1" i="1" lang="ru-RU" sz="2000" spc="-1" strike="noStrike">
                <a:solidFill>
                  <a:srgbClr val="ffffff"/>
                </a:solidFill>
                <a:latin typeface="Cambria"/>
              </a:rPr>
              <a:t>явь</a:t>
            </a: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. Когда он начинает творить заклятья , всё вокруг становится привычным: «Густая трава  касалась его, и он  уже  не видел в ней ничего необыкновенного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И вот ведьма превращается в красавиц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Зачем Гоголю понадобилось преображать ведьму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Зачем он делает её столь прекрасной и несколько раз на протяжении повести рисует её портрет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Что поражает в этом портрет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Месяц 8"/>
          <p:cNvSpPr/>
          <p:nvPr/>
        </p:nvSpPr>
        <p:spPr>
          <a:xfrm>
            <a:off x="71280" y="3643200"/>
            <a:ext cx="285840" cy="571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Овальная выноска 5"/>
          <p:cNvSpPr/>
          <p:nvPr/>
        </p:nvSpPr>
        <p:spPr>
          <a:xfrm>
            <a:off x="3929040" y="4071960"/>
            <a:ext cx="2357640" cy="21430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Box 6"/>
          <p:cNvSpPr/>
          <p:nvPr/>
        </p:nvSpPr>
        <p:spPr>
          <a:xfrm>
            <a:off x="4286160" y="4429080"/>
            <a:ext cx="16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Что такое портр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30T13:41:09Z</dcterms:created>
  <dc:creator>1</dc:creator>
  <dc:description/>
  <dc:language>en-US</dc:language>
  <cp:lastModifiedBy>LEGION</cp:lastModifiedBy>
  <dcterms:modified xsi:type="dcterms:W3CDTF">2015-01-20T08:23:14Z</dcterms:modified>
  <cp:revision>67</cp:revision>
  <dc:subject/>
  <dc:title>Слайд 1</dc:title>
</cp:coreProperties>
</file>