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A64-BF98-40B1-80E4-FA3C9F23987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 В. Гог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D28D-B106-47E3-A82C-2E714D6A3A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. Гимназия высших на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A3CA-D0F3-46C6-902C-8CE5342A1B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7AAE-0017-4912-BCED-4D00BA8CB1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DEE8-9E09-405F-AAAD-8BF3F1C0C6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вольство служ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9997-5567-4C4E-8009-BEC877980A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тербургские пов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A7D-B219-42E0-81B1-878C772E46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9988-523A-46C2-A1AF-FBB0175FE3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, Пари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CBBF-B7C5-416E-A752-BC8E8E43381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42 г. "Похождения Чичикова, или Мертвые души" вышли в с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BCEE-ECDE-4136-87CB-72CBA9A381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ние сочи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2F56-4506-46F8-B876-A44D506150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ыбранные мест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E7B0-B833-4878-876A-01BBF4B4F61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В. Гоголь (1809 – 18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итература, 9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0791-AE47-4241-B623-9F248DA2A0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аполь, Малоро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3838-405C-4CB9-BB40-6D164728334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09C-711D-4413-B3C9-8ADA75A007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 №7 на Никитском бульваре. Здесь Гого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л свои последние пять 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4C7-E114-4179-AF24-C323EC5A51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ом на Никитском бульваре в Моск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190-DBBD-4DB9-876D-235F5F20B2F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мориальные комнаты Н.В. Гоголя в  доме на Никитском бульв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014-E782-4BDE-A7D6-A205152C1E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ртвые души», второй 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4B2C-4B47-4A94-A1DE-2816BA22BE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В. Гоголь в Яновщ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5200-3F88-473A-AF88-D1C81DC518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меся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E56A-578A-4A1A-89AA-9D4E7154F2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91F6-E864-448B-8329-1A4A681C7F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ила Гоголя на Новодевичьем кладбищ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94FD-91D2-4A49-87B4-BDEC6B416E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F49F-E424-402C-BFAC-5F324E59AE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пред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AF0B-B32C-41A2-8438-5F6BF8C213E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B15-DF99-4C10-92E5-AD5E4B4365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ия Ивановна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Афанасьеви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5ACC-F61A-4ED5-A80E-055BFB0FF2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ье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D67-2708-4DEB-A1D4-4B8B05D4178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ьский дом в Василье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CF7B-144D-4BD6-9FBD-DAE41115BD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118-1739-4AAF-9B8E-58C9319C5A5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BC29-2F68-4DD5-B4E4-258AC673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B9E4-53F7-4A65-A0CE-D6E13F68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BBC6-7F24-42ED-95FB-03EFF381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F710-430A-4C2B-A81B-889CBBBD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1F59-CA7F-44C2-A764-73828BAA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A7AF-6721-4520-98A3-AEC43AB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FD6B-1894-469E-9F1A-859072EB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E6ED-01BB-4E7E-8ECF-C89AF98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0C7D-7458-49E7-A544-B217ABDD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562D-16BD-4A77-9137-A9569BA8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5B3-02CE-4004-AEB4-E68EDE4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9836-8499-4DF5-A1B3-2AF4C76C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493B-9BDD-4DB2-AB01-06A81180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D93-757E-4555-8F4F-858303A3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914A-0FDE-4ABF-8EE1-DE1AB9D5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BB54-08C3-4049-B0C1-FA45325A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B096-F828-4A6C-B73D-3FA22ED5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8D8C-2725-420D-93CC-990524DA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0D34-3FD1-4463-8B76-5C9CB598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AEBD-0F69-4AE6-AC23-790BB8A4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8FD0-FD8C-431E-827F-055E49E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9CE80-AA9E-43F0-9298-5C31988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BDE3-CE58-47A9-8486-B482E23C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30AC-CCC9-4A9C-BEBC-62F712A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F1F9-84F5-461D-92A6-1ADE4041CE5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A681-06A2-4D84-A06E-8C7C1F21ED2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4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6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filename49"/>
          <p:cNvPicPr/>
          <p:nvPr/>
        </p:nvPicPr>
        <p:blipFill>
          <a:blip r:embed="rId2"/>
          <a:srcRect l="0" t="0" r="-113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1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4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>uchportal.ru</dc:description>
  <dc:language>en-US</dc:language>
  <cp:lastModifiedBy>LEGION</cp:lastModifiedBy>
  <dcterms:modified xsi:type="dcterms:W3CDTF">2015-01-20T08:24:08Z</dcterms:modified>
  <cp:revision>16</cp:revision>
  <dc:subject/>
  <dc:title>Биография Гого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08000000000001024140</vt:lpwstr>
  </property>
</Properties>
</file>