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8.jpeg" ContentType="image/jpeg"/>
  <Override PartName="/ppt/media/image27.gif" ContentType="image/gif"/>
  <Override PartName="/ppt/media/image14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media/image24.jpeg" ContentType="image/jpeg"/>
  <Override PartName="/ppt/media/image22.png" ContentType="image/png"/>
  <Override PartName="/ppt/media/image29.gif" ContentType="image/gif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B349-8648-4922-B9AC-643002FB28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«Образ русской женщины в  рассказе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      </a:t>
            </a:r>
            <a:r>
              <a:rPr b="1" i="1" lang="ru-RU" sz="8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 </a:t>
            </a:r>
            <a:r>
              <a:rPr b="1" lang="ru-RU" sz="8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800"/>
            </a:br>
            <a:r>
              <a:rPr b="0" i="1" lang="ru-RU" sz="8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стинный человек выказывается 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едва ли не только в минуты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прощания и страдания – он это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и есть, его и запомните… </a:t>
            </a:r>
            <a:br>
              <a:rPr sz="800"/>
            </a:br>
            <a:r>
              <a:rPr b="1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 В. Распут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3c302a"/>
                </a:solidFill>
                <a:latin typeface="Calibri"/>
              </a:rPr>
              <a:t>                                                  </a:t>
            </a:r>
            <a:r>
              <a:rPr b="0" i="1" lang="en-US" sz="8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Цель урока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осмысление в процессе анализа значимости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ечных  ценностей русской духовной культуры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(праведности, естественности, простоты,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ности, смирения, терпения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1" lang="ru-RU" sz="800" spc="-1" strike="noStrike">
                <a:solidFill>
                  <a:srgbClr val="3c302a"/>
                </a:solidFill>
                <a:latin typeface="Calibri"/>
              </a:rPr>
              <a:t>Задачи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скрыть своеобразие писательской манеры, расширить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представление о теме праведничества в литературе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развивать умения анализировать и обобщать,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активизировать познавательную деятельность учащихся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вызвать эмоциональный отклик при знакомстве с судьбой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героини рассказа, вовлечь в размышления о смысле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c302a"/>
                </a:solidFill>
                <a:latin typeface="Calibri"/>
              </a:rPr>
              <a:t>      </a:t>
            </a: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человеческого бытия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3c302a"/>
                </a:solidFill>
                <a:latin typeface="Calibri"/>
              </a:rPr>
              <a:t> </a:t>
            </a:r>
            <a:r>
              <a:rPr b="1" i="1" lang="ru-RU" sz="10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336F-98F5-4F20-B099-1C9829C288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Отношение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500" spc="-1" strike="noStrike">
                <a:solidFill>
                  <a:srgbClr val="000000"/>
                </a:solidFill>
                <a:latin typeface="Calibri"/>
              </a:rPr>
              <a:t>к  Бог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(«ей предстояло готовить избу не к празднику»)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 после тебя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 Тимофеев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 … Раз только». Сына  Демушку не уберегли. «Что год, то дети: некогда ни думать,  ни печалиться…»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 пазух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добрая работница…  я смолоду был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… дай Бог с работой справиться  и лоб перекрестить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Стару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ха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Ан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Я помру… сюда наведывайтесь, здесь весь наш род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 перегорожена всего на две половины». 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 удачной».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Васильев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F49B-3DC7-4E5B-BA28-6D019C9348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Сем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Дом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Работ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Отношение к Богу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Дарь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ын Павел, внук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Расставаясь со своей избой, Дарья подметает и прибирает её, белит  «ей предстояло готовить избу не к празднику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о теперь  в отличие от сенокоса не сходились вместе, не пели песен».  «Работа- это то, что остается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осле теб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Прости нам, Господи, что слабы мы, непамятливы и разорены душой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 Тимо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фе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О муже: «Уж будто не колачивал?… Раз только» Сына  Демушку не уберег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Что год, то дети: некогда ни думать,  ни печалиться,…» Пять сыновей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родительском доме: «за батюшкой, за матушкой как у Христа за пазух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добрая работница… я смолоду был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Работай, как раба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дай Бог с работой справиться  и лоб перекрестить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Старуха Ан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Пятеро детей: Варвара, Люся, Илья, Михаил,  Татьяна. «Я помру…сюда наведывайтесь, здесь весь наш род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Впервые за много лет собрались в родном доме». «Изба был большая…перегорожена всего на две половины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И работа дружная…. и ее любили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ерила в бога: «бог дал, бог и взял». «Господи, прости нам прегрешения  наши». «И своя жизнь вдруг показалась ей  доброй…удачной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атре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аси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льев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на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Шестеро детей умерли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Муж не вернулся с войны. Взяла на воспитание дочь Фаддея Киру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Строено было давно и добротно, на большую семью, а жила теперь одинокая женщина лет  шестидесяти». 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В колхозе работала за палочки трудодней,</a:t>
            </a:r>
            <a:r>
              <a:rPr b="1" lang="ru-RU" sz="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…помогала другим людям бесплатно»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</a:r>
            <a:r>
              <a:rPr b="0" lang="en-US" sz="400" spc="-1" strike="noStrike">
                <a:solidFill>
                  <a:srgbClr val="000000"/>
                </a:solidFill>
                <a:latin typeface="Calibri"/>
              </a:rPr>
              <a:t>Та – мышей душила»</a:t>
            </a:r>
            <a:r>
              <a:rPr b="0" lang="ru-RU" sz="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911A-3734-4E06-9BFC-E75359C636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 в рассказе А. И. Солженицына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рниц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EFF1-961A-4CEB-8B0B-4EB056E660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имволы в рассказе  А. И. Солженицы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BDFA-93AC-4B54-815F-52F3F811E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Окружение Матрё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Фикусы</a:t>
            </a: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–</a:t>
            </a:r>
            <a:br>
              <a:rPr sz="10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разновидность вечнозеленых тропических растений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емейства </a:t>
            </a:r>
            <a:br>
              <a:rPr sz="1200"/>
            </a:b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утовых. Декоративное комнатное растение с широкими овальными листь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Они заполнили одиночество хозяйки безмолвной, но живой толп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en-US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Они разрослись привольно, забирая небогатый свет северной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сторо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11884-8109-43C0-B27C-C16B7B8CF9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берегла, больная была ног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6559A-4117-47FB-B41F-120A78D6A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Мне почти не слышались её утренние хлопот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… на каждый день у неё приходилось и какое-нибудь другое немалое дело…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не молока и от козы хватает. А корову заведи, так она меня самою с ногами съес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E3863-20B1-4FE0-80F7-214E6B5B36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10253f"/>
                </a:solidFill>
                <a:latin typeface="Calibri"/>
              </a:rPr>
              <a:t>Уголок Росс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Вот куда завела меня мечта о тихом уголке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. И. Солженицын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6860-5850-4D72-B1B2-07CFDB2048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Виртуальная прогулка по деревне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85A6-49F3-47B5-A612-1FA47AFE3C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Деревня Тально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17F43-CD12-4537-923D-2934388AD3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Александр Исаевич Солженицы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(1918 - 2008) 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  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Номер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E696C-2F8F-4090-AB73-0BDF427D88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ысказывания А. И. Солженицына 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героине рассказа «Матрёнин двор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E40E-D778-4192-B10C-9CF0DCF3E5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 театра им. Вахтангова по рассказу 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А. И. Солженицына  «Матрёнин двор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4D32-E74F-4F58-A90D-FDC188A07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МОУ   «Средняя общеобразовательная школа №  12»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</a:t>
            </a: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Урок- презентация по теме «Образ русской женщины в  рассказе 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 </a:t>
            </a: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</a:t>
            </a: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Автор работы: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учитель русского языка  и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литературы  </a:t>
            </a:r>
            <a:br>
              <a:rPr sz="1000"/>
            </a:b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 1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квалификационной </a:t>
            </a:r>
            <a:br>
              <a:rPr sz="1000"/>
            </a:b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категории Громова В. А.</a:t>
            </a:r>
            <a:br>
              <a:rPr sz="1000"/>
            </a:b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                                       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Новокузнецк, 20</a:t>
            </a:r>
            <a:r>
              <a:rPr b="1" i="1" lang="en-US" sz="1000" spc="-1" strike="noStrike">
                <a:solidFill>
                  <a:srgbClr val="10253f"/>
                </a:solidFill>
                <a:latin typeface="Calibri"/>
              </a:rPr>
              <a:t>10 </a:t>
            </a:r>
            <a:r>
              <a:rPr b="1" i="1" lang="ru-RU" sz="1000" spc="-1" strike="noStrike">
                <a:solidFill>
                  <a:srgbClr val="10253f"/>
                </a:solidFill>
                <a:latin typeface="Calibri"/>
              </a:rPr>
              <a:t>год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55AA6-A619-40EC-AFC3-57B9BF7BEA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Анна Ахматова о рассказе </a:t>
            </a:r>
            <a:br>
              <a:rPr sz="1200"/>
            </a:b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        А. И. Солженицына «Матрёнин двор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вся русская деревня под паровоз попала и вдребезги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…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61E2-9F8D-4972-8841-843E25D43E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ловар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раведник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равственности; у верующих: человек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не имеющих грех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создания обра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еталь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предмет,   характер в неповторим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индивидуа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омпозиция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           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5B67-528A-4D65-AFE0-3CA4570E81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Традиции Н. А. Некрасова в рассказ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10253f"/>
                </a:solidFill>
                <a:latin typeface="Calibri"/>
              </a:rPr>
              <a:t>А. И. Солженицына «Матрёнин дво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Молва идет всесветн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Что ты вольготно, счастли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Живешь… скажи по- божес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0253f"/>
                </a:solidFill>
                <a:latin typeface="Calibri"/>
              </a:rPr>
              <a:t>В чем счастие твое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402B-2731-4C94-9330-05F3771308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700" spc="-1" strike="noStrike">
                <a:solidFill>
                  <a:srgbClr val="10253f"/>
                </a:solidFill>
                <a:latin typeface="Calibri"/>
              </a:rPr>
              <a:t>Совместите имена героинь с произведениями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рощание с Матёрой»                               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А. И. Солженицын                                                             старуха    Ан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Матрёнин двор»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В. Распутин                                                                      Матрёна Корчагина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Последний срок»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Н. А. Некрасов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00" spc="-1" strike="noStrike">
                <a:solidFill>
                  <a:srgbClr val="10253f"/>
                </a:solidFill>
                <a:latin typeface="Calibri"/>
              </a:rPr>
              <a:t>«Кому на Руси жить хорошо»                                           старуха Дарья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Ответ: в повести В. Распутина «Прощание с Матёрой»  героиня  Дарья,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в повести В. Распутина «Последний срок» героиня  Анна,  в рассказе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А. И. Солженицына   «Матрёнин двор»  героиня Матрёна, в  поэме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Н. А. Некрасова  героиня  Матрёна Корчагина.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" spc="-1" strike="noStrike">
                <a:solidFill>
                  <a:srgbClr val="10253f"/>
                </a:solidFill>
                <a:latin typeface="Calibri"/>
              </a:rPr>
              <a:t>                                                                                                                                        </a:t>
            </a: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8A45-BCBC-4B61-92BC-BAD47D81E7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                 </a:t>
            </a:r>
            <a:r>
              <a:rPr b="0" i="1" lang="ru-RU" sz="1600" spc="-1" strike="noStrike">
                <a:solidFill>
                  <a:srgbClr val="10253f"/>
                </a:solidFill>
                <a:latin typeface="Calibri"/>
              </a:rPr>
              <a:t>В. Распутин «Последний срок»</a:t>
            </a:r>
            <a:r>
              <a:rPr b="1" i="1" lang="ru-RU" sz="1600" spc="-1" strike="noStrike">
                <a:solidFill>
                  <a:srgbClr val="10253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                           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цена из спектак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«Страх от сознания, что мать вот- вот умрет, не похож на все преж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страхи, которые выпадают им в жизни, потому что этот стр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сего страшне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5D1D-6EA8-49F5-9718-8322E3A75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В. Распутин «Прощание с  Матёрой»</a:t>
            </a:r>
            <a:br>
              <a:rPr sz="1200"/>
            </a:b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Проблема человеческой памяти, верности своему р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Дарья  обращае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к Богу: «Прости   нам, Господи, что слабы мы, непамятливы и разорены душо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МАТЁРА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земля, до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        </a:t>
            </a:r>
            <a:r>
              <a:rPr b="1" i="1" lang="ru-RU" sz="1200" spc="-1" strike="noStrike">
                <a:solidFill>
                  <a:srgbClr val="10253f"/>
                </a:solidFill>
                <a:latin typeface="Calibri"/>
              </a:rPr>
              <a:t>храм…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6A21-EECB-4B4A-A6B3-0ED65400E3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10253f"/>
                </a:solidFill>
                <a:latin typeface="Calibri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Бездуховный человек способен и жизнь пройти, н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ведая о своей беде… Бездушны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человек, тот и вовсе опасен для окружающих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Мои героини, старуха Анна из «Последнего срока» и старуха Дарь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из «Прощания с Матерой» могут показаться … несчастными созданиями , весь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век просидевшими на месте рождения в глухом углу и не вкусившими плод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вилизации… Отсюда … их …  рассуждения… о совести, о вере, об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ответственности</a:t>
            </a: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 чему обращается человек в переломные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ритические моменты, к чему он взывает? К ним, к этим понятиям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…  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A9D8-1BE9-4A43-A649-A4E8D137BE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AE19-5879-4E59-992A-C74A9F451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CE84-90F4-4CD1-9261-CC5942E4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3D82-CEA0-48D0-B69E-AB6C13C62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34D-F519-4C0B-879A-BE5EA70F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1E45-7F4F-4D9A-9798-C0A47C7B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4AFF-9E35-4E18-85B9-1463452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4BB-A9DA-49BD-BB9F-EDDFECB7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9273F-504B-47DC-B32F-A597E15E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8A21-117C-499A-9D27-ADEF30E9C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9FB3-A9F8-49E0-AFFB-351D081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68F-AE4D-4963-A4E9-9E0A00AE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4452-C085-4E06-A360-920C7EB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FAB58-605C-4ED1-83EB-BAC741449F5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3.jpeg"/><Relationship Id="rId17" Type="http://schemas.openxmlformats.org/officeDocument/2006/relationships/image" Target="../media/image13.jpeg"/><Relationship Id="rId18" Type="http://schemas.openxmlformats.org/officeDocument/2006/relationships/image" Target="../media/image13.jpeg"/><Relationship Id="rId19" Type="http://schemas.openxmlformats.org/officeDocument/2006/relationships/image" Target="../media/image13.jpeg"/><Relationship Id="rId20" Type="http://schemas.openxmlformats.org/officeDocument/2006/relationships/image" Target="../media/image13.jpeg"/><Relationship Id="rId21" Type="http://schemas.openxmlformats.org/officeDocument/2006/relationships/image" Target="../media/image13.jpeg"/><Relationship Id="rId22" Type="http://schemas.openxmlformats.org/officeDocument/2006/relationships/image" Target="../media/image13.jpeg"/><Relationship Id="rId23" Type="http://schemas.openxmlformats.org/officeDocument/2006/relationships/image" Target="../media/image13.jpeg"/><Relationship Id="rId24" Type="http://schemas.openxmlformats.org/officeDocument/2006/relationships/image" Target="../media/image13.jpeg"/><Relationship Id="rId25" Type="http://schemas.openxmlformats.org/officeDocument/2006/relationships/image" Target="../media/image13.jpeg"/><Relationship Id="rId26" Type="http://schemas.openxmlformats.org/officeDocument/2006/relationships/image" Target="../media/image13.jpe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9.xm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jpeg"/><Relationship Id="rId3" Type="http://schemas.openxmlformats.org/officeDocument/2006/relationships/image" Target="../media/image1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slide" Target="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26.jpeg"/><Relationship Id="rId7" Type="http://schemas.openxmlformats.org/officeDocument/2006/relationships/image" Target="../media/image2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11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>
            <a:off x="857160" y="139680"/>
            <a:ext cx="828684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«Образ русской женщины в  рассказ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 </a:t>
            </a:r>
            <a:r>
              <a:rPr b="1" lang="ru-RU" sz="24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5"/>
          <p:cNvSpPr/>
          <p:nvPr/>
        </p:nvSpPr>
        <p:spPr>
          <a:xfrm>
            <a:off x="4319640" y="1386000"/>
            <a:ext cx="482436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стинный человек выказывается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едва ли не только в мину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прощания и страдания – он это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и есть, его и запомните… </a:t>
            </a:r>
            <a:br>
              <a:rPr sz="1700"/>
            </a:b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                                                  В. Распут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6"/>
          <p:cNvSpPr/>
          <p:nvPr/>
        </p:nvSpPr>
        <p:spPr>
          <a:xfrm>
            <a:off x="971640" y="2727360"/>
            <a:ext cx="7818480" cy="38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</a:t>
            </a:r>
            <a:r>
              <a:rPr b="0" i="1" lang="en-US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Цель урока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осмысление в процессе анализа значим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ечных  ценностей русской духовной культуры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(праведности, естественности, просто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             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ности, смирения, терп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Задачи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скрыть своеобразие писательской манеры, расшир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представление о теме праведничества в литератур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развивать умения анализировать и обобщат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активизировать познавательную деятельность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вызвать эмоциональный отклик при знакомстве с судьб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героини рассказа, вовлечь в размышления о смыс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c302a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человеческого бы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c302a"/>
                </a:solidFill>
                <a:latin typeface="Arial"/>
              </a:rPr>
              <a:t> 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1000080" y="0"/>
            <a:ext cx="1014408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214200" y="857160"/>
          <a:ext cx="8786880" cy="5743800"/>
        </p:xfrm>
        <a:graphic>
          <a:graphicData uri="http://schemas.openxmlformats.org/drawingml/2006/table">
            <a:tbl>
              <a:tblPr/>
              <a:tblGrid>
                <a:gridCol w="1000080"/>
                <a:gridCol w="2000520"/>
                <a:gridCol w="2071440"/>
                <a:gridCol w="1643040"/>
                <a:gridCol w="207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 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5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(«ей предстояло готовить избу не к празднику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 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фее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 … Раз только». Сына  Демушку не уберегли. «Что год, то дети: некогда ни думать,  ни печалиться…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 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Я помру… 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 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 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37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1" name="Заголовок 1"/>
          <p:cNvSpPr/>
          <p:nvPr/>
        </p:nvSpPr>
        <p:spPr>
          <a:xfrm>
            <a:off x="857160" y="14292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«Не дело- между бабами счастливую искать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c302a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1143000" y="568440"/>
          <a:ext cx="8286840" cy="6218280"/>
        </p:xfrm>
        <a:graphic>
          <a:graphicData uri="http://schemas.openxmlformats.org/drawingml/2006/table">
            <a:tbl>
              <a:tblPr/>
              <a:tblGrid>
                <a:gridCol w="773280"/>
                <a:gridCol w="1895400"/>
                <a:gridCol w="1825560"/>
                <a:gridCol w="1663560"/>
                <a:gridCol w="212904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мь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к Бог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р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н Павел, внук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таваясь со своей избой, Дарья подметает и прибирает её, белит  «ей предстояло готовить избу не к празднику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о теперь  в отличие от сенокоса не сходились вместе, не пели песен».  «Работа- это то, что остает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сле теб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Прости нам, Господи, что слабы мы, непамятливы и разорены душой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</a:tr>
              <a:tr h="15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 Тим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 муже: «Уж будто не колачивал?… Раз только» Сына  Демушку не уберег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Что год, то дети: некогда ни думать,  ни печалиться,…» Пять сыновей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родительском доме: «за батюшкой, за матушкой как у Христа за пазух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добрая работница… я смолоду был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Работай, как раба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дай Бог с работой справиться  и лоб перекрестить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005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руха Ан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ятеро детей: Варвара, Люся, Илья, Михаил,  Татьяна. «Я помру…сюда наведывайтесь, здесь весь наш род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Впервые за много лет собрались в родном доме». «Изба был большая…перегорожена всего на две половины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И работа дружная…. и ее любили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ерила в бога: «бог дал, бог и взял». «Господи, прости нам прегрешения  наши». «И своя жизнь вдруг показалась ей  доброй…удачной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  <a:tr h="1919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р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ь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естеро детей умерл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уж не вернулся с войны. Взяла на воспитание дочь Фаддея Кир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Строено было давно и добротно, на большую семью, а жила теперь одинокая женщина лет  шестидесяти»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 колхозе работала за палочки трудодней,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…помогала другим людям бесплатно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«Не сказать, однако, чтобы Матрена верила как- то истово». «Не видел, как молилась». Всякое дело начинала с Богом. Грехов  было «…меньше, чем у ее колченогой кошки.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 – мышей душила»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05" name="Прямоугольник 6"/>
          <p:cNvSpPr/>
          <p:nvPr/>
        </p:nvSpPr>
        <p:spPr>
          <a:xfrm>
            <a:off x="1214280" y="142920"/>
            <a:ext cx="792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Не дело- между бабами счастливую искать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8143920" y="2858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I:\Отправить до 30 октября Солженицын\Распутин Прощание  с Матерой\1059731966-15.jpg"/>
          <p:cNvPicPr/>
          <p:nvPr/>
        </p:nvPicPr>
        <p:blipFill>
          <a:blip r:embed="rId2"/>
          <a:stretch/>
        </p:blipFill>
        <p:spPr>
          <a:xfrm>
            <a:off x="2857680" y="1000080"/>
            <a:ext cx="4830480" cy="39592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1143000" y="521496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«Налево еще ступеньки вели вверх в горницу – отдельный сруб без печи… А направо шла сама изба, с чердаком и подпольем. Строено было давно и добротно, на большую семью…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8"/>
          <p:cNvSpPr/>
          <p:nvPr/>
        </p:nvSpPr>
        <p:spPr>
          <a:xfrm>
            <a:off x="1214280" y="214200"/>
            <a:ext cx="735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имволы  в рассказе А. И. Солженицына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«Матрёнин дво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7"/>
          <p:cNvSpPr/>
          <p:nvPr/>
        </p:nvSpPr>
        <p:spPr>
          <a:xfrm>
            <a:off x="1214280" y="1285920"/>
            <a:ext cx="135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Горниц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4"/>
          <p:cNvSpPr/>
          <p:nvPr/>
        </p:nvSpPr>
        <p:spPr>
          <a:xfrm>
            <a:off x="1428840" y="28584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имволы в рассказе  А. И. Солженицы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               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«Матрёнин дв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I:\Отправить до 30 октября Солженицын\Распутин Прощание  с Матерой\1253211953-1583.jpg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643040" y="1143000"/>
            <a:ext cx="7199280" cy="540072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6"/>
          <p:cNvSpPr/>
          <p:nvPr/>
        </p:nvSpPr>
        <p:spPr>
          <a:xfrm>
            <a:off x="1928880" y="5214960"/>
            <a:ext cx="6500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Дом … стоял тут же , неподалеку, с четырьмя оконцами в ряд на холодную некрасную сторону, крытый щепою … и с украшенным под теремок чердачным окошком… Однако изгнивала щепа, посерели от старости бревна сруба и ворота, когда- то могучи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6"/>
          <p:cNvSpPr/>
          <p:nvPr/>
        </p:nvSpPr>
        <p:spPr>
          <a:xfrm>
            <a:off x="1714680" y="150012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" descr="I:\2 фото урок солженицын\fikus_369005968.jpg"/>
          <p:cNvPicPr/>
          <p:nvPr/>
        </p:nvPicPr>
        <p:blipFill>
          <a:blip r:embed="rId2"/>
          <a:stretch/>
        </p:blipFill>
        <p:spPr>
          <a:xfrm>
            <a:off x="3495600" y="1071720"/>
            <a:ext cx="5648400" cy="431928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6"/>
          <p:cNvSpPr/>
          <p:nvPr/>
        </p:nvSpPr>
        <p:spPr>
          <a:xfrm>
            <a:off x="1285920" y="714240"/>
            <a:ext cx="24289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Фикусы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–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7"/>
          <p:cNvSpPr/>
          <p:nvPr/>
        </p:nvSpPr>
        <p:spPr>
          <a:xfrm>
            <a:off x="1357200" y="1285920"/>
            <a:ext cx="214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разновидность вечнозеленых тропических растений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семейства </a:t>
            </a:r>
            <a:br>
              <a:rPr sz="1800"/>
            </a:br>
            <a:r>
              <a:rPr b="0" lang="ru-RU" sz="1800" spc="-1" strike="noStrike">
                <a:solidFill>
                  <a:srgbClr val="3c302a"/>
                </a:solidFill>
                <a:latin typeface="Arial"/>
              </a:rPr>
              <a:t>тутовых. Декоративное комнатное растение с широкими овальными листь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8"/>
          <p:cNvSpPr/>
          <p:nvPr/>
        </p:nvSpPr>
        <p:spPr>
          <a:xfrm>
            <a:off x="1214280" y="5429160"/>
            <a:ext cx="814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«Они заполнили одиночество хозяйки безмолвной, но живой толп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Они разрослись привольно, забирая небогатый свет северной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стороны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7"/>
          <p:cNvSpPr/>
          <p:nvPr/>
        </p:nvSpPr>
        <p:spPr>
          <a:xfrm>
            <a:off x="1785960" y="21420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Окружение Матрё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-35712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:\2 фото урок солженицын\showImage.jpeg"/>
          <p:cNvPicPr/>
          <p:nvPr/>
        </p:nvPicPr>
        <p:blipFill>
          <a:blip r:embed="rId2"/>
          <a:stretch/>
        </p:blipFill>
        <p:spPr>
          <a:xfrm>
            <a:off x="714240" y="357120"/>
            <a:ext cx="8185320" cy="6137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I:\2 фото урок солженицын\DSC_1789.JPG"/>
          <p:cNvPicPr/>
          <p:nvPr/>
        </p:nvPicPr>
        <p:blipFill>
          <a:blip r:embed="rId3"/>
          <a:stretch/>
        </p:blipFill>
        <p:spPr>
          <a:xfrm>
            <a:off x="6929280" y="5072040"/>
            <a:ext cx="1855800" cy="1440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I:\2 фото урок солженицын\Odnozvezd.jpg"/>
          <p:cNvPicPr/>
          <p:nvPr/>
        </p:nvPicPr>
        <p:blipFill>
          <a:blip r:embed="rId4"/>
          <a:stretch/>
        </p:blipFill>
        <p:spPr>
          <a:xfrm>
            <a:off x="5214960" y="4857840"/>
            <a:ext cx="2425680" cy="1619280"/>
          </a:xfrm>
          <a:prstGeom prst="rect">
            <a:avLst/>
          </a:prstGeom>
          <a:ln w="0">
            <a:noFill/>
          </a:ln>
        </p:spPr>
      </p:pic>
      <p:sp>
        <p:nvSpPr>
          <p:cNvPr id="131" name="Горизонтальный свиток 10"/>
          <p:cNvSpPr/>
          <p:nvPr/>
        </p:nvSpPr>
        <p:spPr>
          <a:xfrm>
            <a:off x="2214720" y="357120"/>
            <a:ext cx="6215040" cy="1357560"/>
          </a:xfrm>
          <a:prstGeom prst="horizont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« …жили в избе еще: кошка, мыши и тараканы. Кошка была немолода,  а главное- колченога… Хотя она ходила на четырех ногах, но  сильно прихрамывала: одну ногу 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берегла, больная была ног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Прямоугольник 4"/>
          <p:cNvSpPr/>
          <p:nvPr/>
        </p:nvSpPr>
        <p:spPr>
          <a:xfrm>
            <a:off x="1643040" y="285840"/>
            <a:ext cx="75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I:\Отправить до 30 октября Солженицын\Распутин Прощание  с Матерой\img_14820957_104_8.jpg"/>
          <p:cNvPicPr/>
          <p:nvPr/>
        </p:nvPicPr>
        <p:blipFill>
          <a:blip r:embed="rId2"/>
          <a:stretch/>
        </p:blipFill>
        <p:spPr>
          <a:xfrm>
            <a:off x="1428840" y="1143000"/>
            <a:ext cx="6950160" cy="4319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8"/>
          <p:cNvSpPr/>
          <p:nvPr/>
        </p:nvSpPr>
        <p:spPr>
          <a:xfrm>
            <a:off x="1285920" y="357120"/>
            <a:ext cx="785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9"/>
          <p:cNvSpPr/>
          <p:nvPr/>
        </p:nvSpPr>
        <p:spPr>
          <a:xfrm>
            <a:off x="1285920" y="5500800"/>
            <a:ext cx="78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7"/>
          <p:cNvSpPr/>
          <p:nvPr/>
        </p:nvSpPr>
        <p:spPr>
          <a:xfrm>
            <a:off x="1357200" y="285840"/>
            <a:ext cx="69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Мне почти не слышались её утренние хлоп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8"/>
          <p:cNvSpPr/>
          <p:nvPr/>
        </p:nvSpPr>
        <p:spPr>
          <a:xfrm>
            <a:off x="1357200" y="5643720"/>
            <a:ext cx="778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«… на каждый день у неё приходилось и какое-нибудь другое немалое дело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Мне молока и от козы хватает. А корову заведи, так она меня самою с ногами съест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2 фото урок солженицын\2025.jpg"/>
          <p:cNvPicPr/>
          <p:nvPr/>
        </p:nvPicPr>
        <p:blipFill>
          <a:blip r:embed="rId2"/>
          <a:stretch/>
        </p:blipFill>
        <p:spPr>
          <a:xfrm>
            <a:off x="2857680" y="1428840"/>
            <a:ext cx="3813120" cy="507672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3786120" y="1571760"/>
            <a:ext cx="2286000" cy="1643040"/>
          </a:xfrm>
          <a:prstGeom prst="rect">
            <a:avLst/>
          </a:prstGeom>
          <a:solidFill>
            <a:srgbClr val="ffffff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Русская деревня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Calibri"/>
              </a:rPr>
              <a:t>Владимирская обла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3533760" y="6000840"/>
            <a:ext cx="2076480" cy="353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20190b"/>
                </a:solidFill>
                <a:latin typeface="Arial"/>
              </a:rPr>
              <a:t>Деревня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Документы о работе\tiles.png"/>
          <p:cNvPicPr/>
          <p:nvPr/>
        </p:nvPicPr>
        <p:blipFill>
          <a:blip r:embed="rId4"/>
          <a:stretch/>
        </p:blipFill>
        <p:spPr>
          <a:xfrm>
            <a:off x="6983280" y="4286160"/>
            <a:ext cx="2160720" cy="216072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9"/>
          <p:cNvSpPr/>
          <p:nvPr/>
        </p:nvSpPr>
        <p:spPr>
          <a:xfrm>
            <a:off x="8072280" y="435780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009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9"/>
          <p:cNvSpPr/>
          <p:nvPr/>
        </p:nvSpPr>
        <p:spPr>
          <a:xfrm>
            <a:off x="1285920" y="214200"/>
            <a:ext cx="76438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Уголок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Вот куда завела меня мечта о тихом уголке Росси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А. И. Солженицын</a:t>
            </a:r>
            <a:br>
              <a:rPr sz="12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4"/>
          <p:cNvSpPr/>
          <p:nvPr/>
        </p:nvSpPr>
        <p:spPr>
          <a:xfrm>
            <a:off x="1143000" y="214200"/>
            <a:ext cx="571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" descr="I:\2 фото урок солженицын\6639.jpg"/>
          <p:cNvPicPr/>
          <p:nvPr/>
        </p:nvPicPr>
        <p:blipFill>
          <a:blip r:embed="rId2"/>
          <a:stretch/>
        </p:blipFill>
        <p:spPr>
          <a:xfrm>
            <a:off x="1071720" y="357120"/>
            <a:ext cx="7621560" cy="6299280"/>
          </a:xfrm>
          <a:prstGeom prst="rect">
            <a:avLst/>
          </a:prstGeom>
          <a:ln w="0">
            <a:noFill/>
          </a:ln>
        </p:spPr>
      </p:pic>
      <p:sp>
        <p:nvSpPr>
          <p:cNvPr id="152" name="Волна 7"/>
          <p:cNvSpPr/>
          <p:nvPr/>
        </p:nvSpPr>
        <p:spPr>
          <a:xfrm>
            <a:off x="4214880" y="500040"/>
            <a:ext cx="4429080" cy="557280"/>
          </a:xfrm>
          <a:custGeom>
            <a:avLst/>
            <a:gdLst>
              <a:gd name="textAreaLeft" fmla="*/ 101880 w 4429080"/>
              <a:gd name="textAreaRight" fmla="*/ 4327200 w 4429080"/>
              <a:gd name="textAreaTop" fmla="*/ 139320 h 557280"/>
              <a:gd name="textAreaBottom" fmla="*/ 417960 h 557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6951" y="-6865"/>
                  <a:pt x="14151" y="12265"/>
                  <a:pt x="21102" y="2700"/>
                </a:cubicBezTo>
                <a:lnTo>
                  <a:pt x="21600" y="18900"/>
                </a:lnTo>
                <a:cubicBezTo>
                  <a:pt x="14649" y="28465"/>
                  <a:pt x="7449" y="9335"/>
                  <a:pt x="498" y="18900"/>
                </a:cubicBezTo>
                <a:close/>
              </a:path>
            </a:pathLst>
          </a:custGeom>
          <a:solidFill>
            <a:srgbClr val="dbddcd"/>
          </a:solid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3c302a"/>
                </a:solidFill>
                <a:latin typeface="Calibri"/>
              </a:rPr>
              <a:t>Виртуальная прогулка по деревне Тальново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Управляющая кнопка: назад 8">
            <a:hlinkClick r:id="rId3" action="ppaction://hlinksldjump"/>
          </p:cNvPr>
          <p:cNvSpPr/>
          <p:nvPr/>
        </p:nvSpPr>
        <p:spPr>
          <a:xfrm>
            <a:off x="1500120" y="5786280"/>
            <a:ext cx="179280" cy="179640"/>
          </a:xfrm>
          <a:custGeom>
            <a:avLst/>
            <a:gdLst>
              <a:gd name="textAreaLeft" fmla="*/ 11520 w 179280"/>
              <a:gd name="textAreaRight" fmla="*/ 167760 w 179280"/>
              <a:gd name="textAreaTop" fmla="*/ 11520 h 179640"/>
              <a:gd name="textAreaBottom" fmla="*/ 168120 h 17964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" w="21600" h="21643">
                <a:moveTo>
                  <a:pt x="3794" y="10822"/>
                </a:moveTo>
                <a:lnTo>
                  <a:pt x="17806" y="3815"/>
                </a:lnTo>
                <a:lnTo>
                  <a:pt x="17806" y="1782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77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770" fill="hold"/>
                                        <p:tgtEl>
                                          <p:spTgt spid="1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0104 -0.00023 -0.0125 -0.00301 -0.01476 -0.00486 C -0.01858 -0.00787 -0.01962 -0.0132 -0.02222 -0.01736 C -0.02656 -0.02454 -0.02865 -0.02384 -0.03142 -0.03218 C -0.03524 -0.04352 -0.03438 -0.05116 -0.0408 -0.05926 C -0.04462 -0.07477 -0.04879 -0.10486 -0.05747 -0.11597 C -0.06007 -0.12685 -0.06285 -0.13704 -0.06476 -0.14815 C -0.06372 -0.17454 -0.06545 -0.20903 -0.05 -0.22963 C -0.04445 -0.24491 -0.04254 -0.25695 -0.04254 -0.27407 E">
                                      <p:cBhvr>
                                        <p:cTn id="242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53 -0.27407 C -0.04201 -0.2831 -0.04236 -0.29236 -0.0408 -0.30115 C -0.04027 -0.30462 -0.02621 -0.31574 -0.02586 -0.31597 C -0.01545 -0.325 -0.00243 -0.328 0.0092 -0.33333 C 0.0158 -0.34166 0.01164 -0.33773 0.02414 -0.34328 C 0.02604 -0.34421 0.02778 -0.3449 0.02969 -0.3456 C 0.0316 -0.34652 0.03525 -0.34814 0.03525 -0.34791 C 0.04445 -0.34722 0.05382 -0.34699 0.06302 -0.3456 C 0.06563 -0.34513 0.07153 -0.34282 0.07223 -0.33819 C 0.07309 -0.33263 0.07223 -0.32685 0.07223 -0.32106 E">
                                      <p:cBhvr>
                                        <p:cTn id="246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285920" y="0"/>
            <a:ext cx="7358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I:\2 фото урок солженицын\derevnya-4.jpg"/>
          <p:cNvPicPr/>
          <p:nvPr/>
        </p:nvPicPr>
        <p:blipFill>
          <a:blip r:embed="rId2"/>
          <a:stretch/>
        </p:blipFill>
        <p:spPr>
          <a:xfrm>
            <a:off x="3929040" y="2928960"/>
            <a:ext cx="5467320" cy="36003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" descr="I:\2 фото урок солженицын\276451.jpg"/>
          <p:cNvPicPr/>
          <p:nvPr/>
        </p:nvPicPr>
        <p:blipFill>
          <a:blip r:embed="rId3"/>
          <a:stretch/>
        </p:blipFill>
        <p:spPr>
          <a:xfrm>
            <a:off x="1214280" y="1071720"/>
            <a:ext cx="3240360" cy="4319280"/>
          </a:xfrm>
          <a:prstGeom prst="rect">
            <a:avLst/>
          </a:prstGeom>
          <a:ln w="0">
            <a:noFill/>
          </a:ln>
        </p:spPr>
      </p:pic>
      <p:sp>
        <p:nvSpPr>
          <p:cNvPr id="159" name="Прямоугольник 6"/>
          <p:cNvSpPr/>
          <p:nvPr/>
        </p:nvSpPr>
        <p:spPr>
          <a:xfrm>
            <a:off x="2286000" y="214200"/>
            <a:ext cx="5643720" cy="428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Calibri"/>
              </a:rPr>
              <a:t>Деревня Таль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Мои документы\О Солженицине ПРЕЗЕНТ,\СОлженицын, фото писат\ПИсателей фото, статьи\face.jpg"/>
          <p:cNvPicPr/>
          <p:nvPr/>
        </p:nvPicPr>
        <p:blipFill>
          <a:blip r:embed="rId2"/>
          <a:stretch/>
        </p:blipFill>
        <p:spPr>
          <a:xfrm>
            <a:off x="1071720" y="500040"/>
            <a:ext cx="7478640" cy="54007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643040" y="5643720"/>
            <a:ext cx="692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214280" y="5715000"/>
            <a:ext cx="70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лександр Исаевич Солжениц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(1918 - 2008)  </a:t>
            </a:r>
            <a:r>
              <a:rPr b="1" lang="ru-RU" sz="1800" spc="-1" strike="noStrike">
                <a:solidFill>
                  <a:srgbClr val="3c302a"/>
                </a:solidFill>
                <a:latin typeface="Arial"/>
              </a:rPr>
              <a:t>    </a:t>
            </a:r>
            <a:br>
              <a:rPr sz="1800"/>
            </a:b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6"/>
          <p:cNvSpPr/>
          <p:nvPr/>
        </p:nvSpPr>
        <p:spPr>
          <a:xfrm>
            <a:off x="1143000" y="214200"/>
            <a:ext cx="5357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ысказывания А. И. Солженицына 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ероине рассказа «Матрёнин двор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Вертикальный свиток 6"/>
          <p:cNvSpPr/>
          <p:nvPr/>
        </p:nvSpPr>
        <p:spPr>
          <a:xfrm>
            <a:off x="1071720" y="1857240"/>
            <a:ext cx="1928520" cy="4071960"/>
          </a:xfrm>
          <a:prstGeom prst="vertic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Она тот самый праведник</a:t>
            </a:r>
            <a:r>
              <a:rPr b="1" i="1" lang="ru-RU" sz="1600" spc="-1" strike="noStrike">
                <a:solidFill>
                  <a:srgbClr val="3c302a"/>
                </a:solidFill>
                <a:latin typeface="Calibri"/>
              </a:rPr>
              <a:t>,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б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торого, не стоит  село. Ни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                          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Ни вся земля наш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Вертикальный свиток 7"/>
          <p:cNvSpPr/>
          <p:nvPr/>
        </p:nvSpPr>
        <p:spPr>
          <a:xfrm>
            <a:off x="3000240" y="1857240"/>
            <a:ext cx="2000520" cy="4071960"/>
          </a:xfrm>
          <a:prstGeom prst="verticalScroll">
            <a:avLst>
              <a:gd name="adj" fmla="val 12500"/>
            </a:avLst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У тех людей всегда лица  хорош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    </a:t>
            </a:r>
            <a:r>
              <a:rPr b="1" i="1" lang="ru-RU" sz="1800" spc="-1" strike="noStrike">
                <a:solidFill>
                  <a:srgbClr val="3c302a"/>
                </a:solidFill>
                <a:latin typeface="Times New Roman"/>
              </a:rPr>
              <a:t>кто в ладах с совестью своей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Вертикальный свиток 10"/>
          <p:cNvSpPr/>
          <p:nvPr/>
        </p:nvSpPr>
        <p:spPr>
          <a:xfrm>
            <a:off x="4929120" y="1857240"/>
            <a:ext cx="2143080" cy="4071960"/>
          </a:xfrm>
          <a:prstGeom prst="verticalScroll">
            <a:avLst>
              <a:gd name="adj" fmla="val 12500"/>
            </a:avLst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«Прости нам, Господи, что слабы мы, непамят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вы и разорены душо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Вертикальный свиток 11"/>
          <p:cNvSpPr/>
          <p:nvPr/>
        </p:nvSpPr>
        <p:spPr>
          <a:xfrm>
            <a:off x="7143840" y="1785960"/>
            <a:ext cx="2214360" cy="4857840"/>
          </a:xfrm>
          <a:prstGeom prst="verticalScroll">
            <a:avLst>
              <a:gd name="adj" fmla="val 12500"/>
            </a:avLst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Какие  высказы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ния о героине-правед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це можно  использ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ать в качестве эпиграф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:\Отправить до 30 октября Солженицын\Солж матренин двор\115613853.jpg"/>
          <p:cNvPicPr/>
          <p:nvPr/>
        </p:nvPicPr>
        <p:blipFill>
          <a:blip r:embed="rId6"/>
          <a:stretch/>
        </p:blipFill>
        <p:spPr>
          <a:xfrm>
            <a:off x="6143760" y="214200"/>
            <a:ext cx="2496960" cy="1533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0" descr="I:\Мама Новое\Анимашки\book20.gif"/>
          <p:cNvPicPr/>
          <p:nvPr/>
        </p:nvPicPr>
        <p:blipFill>
          <a:blip r:embed="rId7"/>
          <a:stretch/>
        </p:blipFill>
        <p:spPr>
          <a:xfrm>
            <a:off x="7858080" y="5786280"/>
            <a:ext cx="1000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C:\Мои документы\Солженицын 1\Matrenin_detal.jpg"/>
          <p:cNvPicPr/>
          <p:nvPr/>
        </p:nvPicPr>
        <p:blipFill>
          <a:blip r:embed="rId2"/>
          <a:stretch/>
        </p:blipFill>
        <p:spPr>
          <a:xfrm>
            <a:off x="1714680" y="1500120"/>
            <a:ext cx="6503760" cy="3786120"/>
          </a:xfrm>
          <a:prstGeom prst="rect">
            <a:avLst/>
          </a:prstGeom>
          <a:ln w="0">
            <a:noFill/>
          </a:ln>
        </p:spPr>
      </p:pic>
      <p:sp>
        <p:nvSpPr>
          <p:cNvPr id="172" name="Прямоугольник 6"/>
          <p:cNvSpPr/>
          <p:nvPr/>
        </p:nvSpPr>
        <p:spPr>
          <a:xfrm>
            <a:off x="1357200" y="357120"/>
            <a:ext cx="77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 театра им. Вахтангова по рассказу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А. И. Солженицына  «Матрёнин двор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7"/>
          <p:cNvSpPr/>
          <p:nvPr/>
        </p:nvSpPr>
        <p:spPr>
          <a:xfrm>
            <a:off x="1428840" y="5429160"/>
            <a:ext cx="7143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ахтанговский  «Матрёнин двор»-  первая постановка к  грядущему в декабре 90-летию класс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5"/>
          <p:cNvSpPr/>
          <p:nvPr/>
        </p:nvSpPr>
        <p:spPr>
          <a:xfrm>
            <a:off x="1143000" y="214200"/>
            <a:ext cx="82152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У   «Средняя общеобразовательная школа №  12»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Урок- презентация по теме «Образ русской женщины в  рассказе 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 </a:t>
            </a: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</a:t>
            </a:r>
            <a:br>
              <a:rPr sz="1800"/>
            </a:br>
            <a:br>
              <a:rPr sz="1800"/>
            </a:br>
            <a:r>
              <a:rPr b="0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</a:t>
            </a: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Автор работы: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учитель русского языка  и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литературы  </a:t>
            </a:r>
            <a:br>
              <a:rPr sz="1800"/>
            </a:b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 1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квалификационной 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категории Громова В. А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Новокузнецк, 20</a:t>
            </a:r>
            <a:r>
              <a:rPr b="1" i="1" lang="en-US" sz="1800" spc="-1" strike="noStrike">
                <a:solidFill>
                  <a:srgbClr val="3c302a"/>
                </a:solidFill>
                <a:latin typeface="Arial"/>
              </a:rPr>
              <a:t>10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E:\23 окт\мама 16  октябрь\logotip RJAL.gif"/>
          <p:cNvPicPr/>
          <p:nvPr/>
        </p:nvPicPr>
        <p:blipFill>
          <a:blip r:embed="rId2"/>
          <a:stretch/>
        </p:blipFill>
        <p:spPr>
          <a:xfrm>
            <a:off x="1928880" y="857160"/>
            <a:ext cx="1923840" cy="17337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G:\Личное НЕ открывать\фото Громова В.А\IMG_2177.jpg"/>
          <p:cNvPicPr/>
          <p:nvPr/>
        </p:nvPicPr>
        <p:blipFill>
          <a:blip r:embed="rId3"/>
          <a:stretch/>
        </p:blipFill>
        <p:spPr>
          <a:xfrm>
            <a:off x="1571760" y="3929040"/>
            <a:ext cx="2879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4"/>
          <p:cNvSpPr/>
          <p:nvPr/>
        </p:nvSpPr>
        <p:spPr>
          <a:xfrm>
            <a:off x="1143000" y="214200"/>
            <a:ext cx="8001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c302a"/>
                </a:solidFill>
                <a:latin typeface="Arial"/>
              </a:rPr>
              <a:t>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Анна Ахматова о рассказе </a:t>
            </a:r>
            <a:br>
              <a:rPr sz="2400"/>
            </a:b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А. И. Солженицына «Матрёнин двор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I:\2 фото урок солженицын\Ahmatova.jpg"/>
          <p:cNvPicPr/>
          <p:nvPr/>
        </p:nvPicPr>
        <p:blipFill>
          <a:blip r:embed="rId2"/>
          <a:stretch/>
        </p:blipFill>
        <p:spPr>
          <a:xfrm>
            <a:off x="3214800" y="1285920"/>
            <a:ext cx="2646360" cy="38052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1357200" y="5286240"/>
            <a:ext cx="77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Удивительная вещь… Это пострашнее «Ивана Денисовича»… Там можно все на культ личности спихнуть, а тут… Ведь это у него не Матрёна, а </a:t>
            </a:r>
            <a:r>
              <a:rPr b="1" lang="ru-RU" sz="1600" spc="-1" strike="noStrike">
                <a:solidFill>
                  <a:srgbClr val="3c302a"/>
                </a:solidFill>
                <a:latin typeface="Arial"/>
              </a:rPr>
              <a:t>вся русская деревня под паровоз попала и вдребезги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…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2857680" y="285840"/>
            <a:ext cx="36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i="1" lang="ru-RU" sz="2000" spc="-1" strike="noStrike">
                <a:solidFill>
                  <a:srgbClr val="3c302a"/>
                </a:solidFill>
                <a:latin typeface="Arial"/>
              </a:rPr>
              <a:t>Словар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7"/>
          <p:cNvSpPr/>
          <p:nvPr/>
        </p:nvSpPr>
        <p:spPr>
          <a:xfrm>
            <a:off x="1357200" y="214200"/>
            <a:ext cx="7786800" cy="642960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раведник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– человек, ни в чем не погрешающий против прави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равственности; у верующих: человек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не имеющих грех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Портрет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описание внешности персонажа; одно из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создания обр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Деталь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средство, помогающее представить  картин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предмет,   характер в неповторим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индивиду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  </a:t>
            </a:r>
            <a:r>
              <a:rPr b="1" i="1" lang="ru-RU" sz="1800" spc="-1" strike="noStrike">
                <a:solidFill>
                  <a:srgbClr val="3c302a"/>
                </a:solidFill>
                <a:latin typeface="Calibri"/>
              </a:rPr>
              <a:t>Композиция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- построение, расположение и взаимосвязь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                             </a:t>
            </a:r>
            <a:r>
              <a:rPr b="0" lang="ru-RU" sz="1800" spc="-1" strike="noStrike">
                <a:solidFill>
                  <a:srgbClr val="3c302a"/>
                </a:solidFill>
                <a:latin typeface="Calibri"/>
              </a:rPr>
              <a:t>частей, образов, эпизодов, сцен произве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4"/>
          <p:cNvSpPr/>
          <p:nvPr/>
        </p:nvSpPr>
        <p:spPr>
          <a:xfrm>
            <a:off x="1071720" y="357120"/>
            <a:ext cx="807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Традиции Н. А. Некрасова в расск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         </a:t>
            </a:r>
            <a:r>
              <a:rPr b="0" lang="ru-RU" sz="2400" spc="-1" strike="noStrike">
                <a:solidFill>
                  <a:srgbClr val="3c302a"/>
                </a:solidFill>
                <a:latin typeface="Arial"/>
              </a:rPr>
              <a:t>А. И. Солженицына «Матрёнин дво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5"/>
          <p:cNvSpPr/>
          <p:nvPr/>
        </p:nvSpPr>
        <p:spPr>
          <a:xfrm>
            <a:off x="1285920" y="1285920"/>
            <a:ext cx="7215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Молва идет всесвет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Что ты вольготно, счастли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Живешь… скажи по- божес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 чем счастие т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I:\24-30 окт конкурс\ill02735.jpg"/>
          <p:cNvPicPr/>
          <p:nvPr/>
        </p:nvPicPr>
        <p:blipFill>
          <a:blip r:embed="rId2"/>
          <a:stretch/>
        </p:blipFill>
        <p:spPr>
          <a:xfrm>
            <a:off x="6000840" y="2071800"/>
            <a:ext cx="2241360" cy="3171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6"/>
          <p:cNvSpPr/>
          <p:nvPr/>
        </p:nvSpPr>
        <p:spPr>
          <a:xfrm>
            <a:off x="1143000" y="5572080"/>
            <a:ext cx="764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ожно ли утверждать, что  Матрёна Тимофеевна Корчагина счастлива, живет в  достатке и уклад ее жизни устоялся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1357200" y="21420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5"/>
          <p:cNvSpPr/>
          <p:nvPr/>
        </p:nvSpPr>
        <p:spPr>
          <a:xfrm>
            <a:off x="1214280" y="1143000"/>
            <a:ext cx="7929720" cy="55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775f55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 Матрёна Васильевна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рощание с Матёрой»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А. И. Солженицын                                                             старуха    Ан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Матрёнин двор»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В. Распутин                                                                      Матрёна Корчаг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Последний срок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Н. А. Некрасов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3c302a"/>
                </a:solidFill>
                <a:latin typeface="Arial"/>
              </a:rPr>
              <a:t>«Кому на Руси жить хорошо»                                           старуха Дар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Ответ: в повести В. Распутина «Прощание с Матёрой»  героиня  Дарь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в повести В. Распутина «Последний срок» героиня  Анна,  в рассказе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А. И. Солженицына   «Матрёнин двор»  героиня Матрёна, в  поэ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Н. А. Некрасова  героиня  Матрёна Корчаг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c302a"/>
                </a:solidFill>
                <a:latin typeface="Arial"/>
              </a:rPr>
              <a:t>                                                    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1214280" y="35712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Совместите имена героинь с произвед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7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7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7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I:\Отправить до 30 октября Солженицын\Распутин Последний срок\posledniy-1_thumb_main.jpg"/>
          <p:cNvPicPr/>
          <p:nvPr/>
        </p:nvPicPr>
        <p:blipFill>
          <a:blip r:embed="rId2"/>
          <a:stretch/>
        </p:blipFill>
        <p:spPr>
          <a:xfrm>
            <a:off x="2357280" y="1500120"/>
            <a:ext cx="6454800" cy="39592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6"/>
          <p:cNvSpPr/>
          <p:nvPr/>
        </p:nvSpPr>
        <p:spPr>
          <a:xfrm>
            <a:off x="1143000" y="0"/>
            <a:ext cx="821520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                 </a:t>
            </a:r>
            <a:r>
              <a:rPr b="0" i="1" lang="ru-RU" sz="2400" spc="-1" strike="noStrike">
                <a:solidFill>
                  <a:srgbClr val="3c302a"/>
                </a:solidFill>
                <a:latin typeface="Arial"/>
              </a:rPr>
              <a:t>В. Распутин «Последний срок»</a:t>
            </a:r>
            <a:r>
              <a:rPr b="1" i="1" lang="ru-RU" sz="2400" spc="-1" strike="noStrike">
                <a:solidFill>
                  <a:srgbClr val="3c302a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     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Сцена из спектак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I:\Отправить до 30 октября Солженицын\Распутин Последний срок\48671~002.jpg"/>
          <p:cNvPicPr/>
          <p:nvPr/>
        </p:nvPicPr>
        <p:blipFill>
          <a:blip r:embed="rId3"/>
          <a:stretch/>
        </p:blipFill>
        <p:spPr>
          <a:xfrm>
            <a:off x="1143000" y="714240"/>
            <a:ext cx="1066680" cy="141948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9"/>
          <p:cNvSpPr/>
          <p:nvPr/>
        </p:nvSpPr>
        <p:spPr>
          <a:xfrm>
            <a:off x="1214280" y="57862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«Страх от сознания, что мать вот- вот умрет, не похож на все прежни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страхи, которые выпадают им в жизни, потому что этот стра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  </a:t>
            </a:r>
            <a:r>
              <a:rPr b="1" i="1" lang="ru-RU" sz="1600" spc="-1" strike="noStrike">
                <a:solidFill>
                  <a:srgbClr val="3c302a"/>
                </a:solidFill>
                <a:latin typeface="Arial"/>
              </a:rPr>
              <a:t>всего страшнее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I:\Отправить до 30 октября Солженицын\Распутин Прощание  с Матерой\ra_15.jpg"/>
          <p:cNvPicPr/>
          <p:nvPr/>
        </p:nvPicPr>
        <p:blipFill>
          <a:blip r:embed="rId2"/>
          <a:stretch/>
        </p:blipFill>
        <p:spPr>
          <a:xfrm>
            <a:off x="1643040" y="1214280"/>
            <a:ext cx="4789440" cy="360072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ольник 6"/>
          <p:cNvSpPr/>
          <p:nvPr/>
        </p:nvSpPr>
        <p:spPr>
          <a:xfrm>
            <a:off x="1285920" y="2142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   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В. Распутин «Прощание с  Матёрой»</a:t>
            </a:r>
            <a:br>
              <a:rPr sz="1800"/>
            </a:b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Проблема человеческой памяти, верности своему р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8"/>
          <p:cNvSpPr/>
          <p:nvPr/>
        </p:nvSpPr>
        <p:spPr>
          <a:xfrm>
            <a:off x="6643800" y="1714680"/>
            <a:ext cx="25002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Дарья  обращаетс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3c302a"/>
                </a:solidFill>
                <a:latin typeface="Arial"/>
              </a:rPr>
              <a:t>к Богу: «Прости   нам, Господи, что слабы мы, непамятливы и разорены душой»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I:\Отправить до 30 октября Солженицын\Распутин Прощание  с Матерой\11648.jpg"/>
          <p:cNvPicPr/>
          <p:nvPr/>
        </p:nvPicPr>
        <p:blipFill>
          <a:blip r:embed="rId3"/>
          <a:stretch/>
        </p:blipFill>
        <p:spPr>
          <a:xfrm>
            <a:off x="5357880" y="5072040"/>
            <a:ext cx="2139840" cy="1579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I:\Отправить до 30 октября Солженицын\Распутин Прощание  с Матерой\rasputin_111.jpg"/>
          <p:cNvPicPr/>
          <p:nvPr/>
        </p:nvPicPr>
        <p:blipFill>
          <a:blip r:embed="rId4"/>
          <a:stretch/>
        </p:blipFill>
        <p:spPr>
          <a:xfrm>
            <a:off x="7791480" y="4572000"/>
            <a:ext cx="1352520" cy="2073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I:\Отправить до 30 октября Солженицын\Распутин Прощание  с Матерой\7ff0081d4a30.jpg"/>
          <p:cNvPicPr/>
          <p:nvPr/>
        </p:nvPicPr>
        <p:blipFill>
          <a:blip r:embed="rId5"/>
          <a:stretch/>
        </p:blipFill>
        <p:spPr>
          <a:xfrm>
            <a:off x="3214800" y="5214960"/>
            <a:ext cx="1850760" cy="138888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2"/>
          <p:cNvSpPr/>
          <p:nvPr/>
        </p:nvSpPr>
        <p:spPr>
          <a:xfrm>
            <a:off x="1214280" y="5357880"/>
            <a:ext cx="18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775f55"/>
                </a:solidFill>
                <a:latin typeface="Arial"/>
              </a:rPr>
              <a:t>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МАТЁ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земля,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3c302a"/>
                </a:solidFill>
                <a:latin typeface="Arial"/>
              </a:rPr>
              <a:t>храм…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I:\Шаблоны для презентаций\Бордюры\dublist28.jpg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4"/>
          <p:cNvSpPr/>
          <p:nvPr/>
        </p:nvSpPr>
        <p:spPr>
          <a:xfrm>
            <a:off x="2857680" y="285840"/>
            <a:ext cx="59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I:\Отправить до 30 октября Солженицын\Распутин Последний срок\48671~002.jpg"/>
          <p:cNvPicPr/>
          <p:nvPr/>
        </p:nvPicPr>
        <p:blipFill>
          <a:blip r:embed="rId2"/>
          <a:stretch/>
        </p:blipFill>
        <p:spPr>
          <a:xfrm>
            <a:off x="1714680" y="571680"/>
            <a:ext cx="1623960" cy="216036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214280" y="2928960"/>
            <a:ext cx="7929720" cy="38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Молодому человеку свойственно прежде физическое, чувственное познание мира, духовное приходит (если приходит) позже, всему, как говорится, свой срок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ух не обязательно живет в каждом человеке. Бывает и так, что жить ему в человеке негде, место для него не приготовлено, почва не удобрена. Удобрять ее следует с самых младых лет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ездуховный человек способен и жизнь пройти, н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едая о своей беде… Бездуш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еловек, тот и вовсе опасен для окружающ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Мои героини, старуха Анна из «Последнего срока» и старух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из «Прощания с Матерой» могут показаться … несчастными созданиями , весь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век просидевшими на месте рождения в глухом углу и не вкусившими пл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цивилизации… Отсюда … их …  рассуждения… о совести, о вере, о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ответственности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 чему обращается человек в переломны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критические моменты, к чему он взывает? К ним, к этим понятиям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…  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6"/>
          <p:cNvSpPr/>
          <p:nvPr/>
        </p:nvSpPr>
        <p:spPr>
          <a:xfrm>
            <a:off x="3774960" y="1000080"/>
            <a:ext cx="5369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c302a"/>
                </a:solidFill>
                <a:latin typeface="Arial"/>
              </a:rPr>
              <a:t>Выразите свое отношение к  высказыванию Валентина Распутина. Согласны ли вы с  автором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2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2000" fill="hold"/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4T18:15:13Z</dcterms:created>
  <dc:creator>asd</dc:creator>
  <dc:description/>
  <dc:language>en-US</dc:language>
  <cp:lastModifiedBy>LEGION</cp:lastModifiedBy>
  <dcterms:modified xsi:type="dcterms:W3CDTF">2015-01-20T08:26:42Z</dcterms:modified>
  <cp:revision>1225</cp:revision>
  <dc:subject/>
  <dc:title>Слайд 1</dc:title>
</cp:coreProperties>
</file>