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EE89-ECE2-45F9-9287-408CE9CB9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«Образ русской женщины в  рассказе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 </a:t>
            </a:r>
            <a:r>
              <a:rPr b="1" lang="ru-RU" sz="8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800"/>
            </a:br>
            <a:r>
              <a:rPr b="0" i="1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стинный человек выказывается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едва ли не только в минут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прощания и страдания – он эт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 есть, его и запомните… </a:t>
            </a:r>
            <a:br>
              <a:rPr sz="800"/>
            </a:b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 В. Распут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</a:t>
            </a:r>
            <a:r>
              <a:rPr b="0" i="1" lang="en-US" sz="8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Цель урока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осмысление в процессе анализа значим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ечных  ценностей русской духовной культур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(праведности, естественности, простоты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ности, смирения, терпени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Задачи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скрыть своеобразие писательской манеры, расшири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представление о теме праведничества в литературе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звивать умения анализировать и обобщать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активизировать познавательную деятельность учащихс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ызвать эмоциональный отклик при знакомстве с судьбой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героини рассказа, вовлечь в размышления о смысл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еского быт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 </a:t>
            </a:r>
            <a:r>
              <a:rPr b="1" i="1" lang="ru-RU" sz="10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7576-50E2-42EE-BF28-39D1B1AC7B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Отношение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к  Бог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(«ей предстояло готовить избу не к празднику»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 после тебя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 Тимофеев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 … Раз только». Сына  Демушку не уберегли. «Что год, то дети: некогда ни думать,  ни печалиться…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 пазух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добрая работница…  я смолоду был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… дай Бог с работой справиться  и лоб перекрестить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Ан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Я помру… сюда наведывайтесь, здесь весь наш род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 перегорожена всего на две половины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 удачн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асилье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395A-4A75-44E3-8B1C-64FF46FC5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Отношение к Богу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«ей предстояло готовить избу не к празднику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осле теб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 Тимо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фе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… Раз только» Сына  Демушку не уберег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Что год, то дети: некогда ни думать,  ни печалиться,…» Пять сыновей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пазух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добрая работница… я смолоду был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  и лоб перекрестить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Ан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«Я помру…сюда наведывайтесь, здесь весь наш род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перегорожена всего на две половины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удачн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аси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ль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Шестеро детей умер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уж не вернулся с войны. Взяла на воспитание дочь Фаддея Киру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Строено было давно и добротно, на большую семью, а жила теперь одинокая женщина лет  шестидесяти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колхозе работала за палочки трудодней,</a:t>
            </a: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помогала другим людям бесплатно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Та – мышей душила»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367E-112C-4C68-B5DB-166B30EDA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 в рассказе А. И. Солженицына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88BE-AF37-4528-8C18-668C2D2D9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в рассказе  А. И. Солженицы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693D-E8CB-457A-950C-0467D994A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Окружение Матрё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Фикусы</a:t>
            </a: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–</a:t>
            </a:r>
            <a:br>
              <a:rPr sz="10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новидность вечнозеленых тропических растений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емейства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утовых. Декоративное комнатное растение с широкими овальными лис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Они заполнили одиночество хозяйки безмолвной, но живой тол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Они разрослись привольно, забирая небогатый свет северно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сторо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82FA-83B9-413C-A97D-94E13075F6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берегла, больная была но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2C5F-6BAB-4C26-9891-514401CBA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не почти не слышались её утренние хлопот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… на каждый день у неё приходилось и какое-нибудь другое немалое дело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не молока и от козы хватает. А корову заведи, так она меня самою с ногами съес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8CB2-1D62-4A88-BC5B-7DE9B1FE9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Уголо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Вот куда завела меня мечта о тихом уголке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4290-1F7F-4D99-9766-886A9EE8B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иртуальная прогулка по деревне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1714-BB3B-4CF9-BE5A-8F859CBFBD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еревня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D1B7-5A7D-4C24-8BC5-BC0F84210B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лександр Исаевич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(1918 - 2008) 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03A0-A687-4D70-BA0A-31E9BB526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ысказывания А. И. Солженицына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героине рассказа «Матрёнин двор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E650-A22B-43DA-B735-B4814AC2D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 театра им. Вахтангова по рассказу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А. И. Солженицына  «Матрёнин дво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9A3B-3BAE-4976-8400-9E7B2E0E5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МОУ   «Средняя общеобразовательная школа №  12»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Урок- презентация по теме «Образ русской женщины в  рассказе 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</a:t>
            </a: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</a:t>
            </a: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втор работы: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учитель русского языка  и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литературы  </a:t>
            </a: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1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квалификационной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категории Громова В. А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Новокузнецк, 20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10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C999-FDC4-4511-83DC-23FEE31CE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Анна Ахматова о рассказе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      А. И. Солженицына «Матрёнин дво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вся русская деревня под паровоз попала и вдребезги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CC7B-82A1-46BD-947E-9974C76A18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лова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раведник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равственности; у верующих: челов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е имеющих гре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оздания об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еталь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едмет,   характер в неповтори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индивидуа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омпозиция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AF17-615B-48FC-850F-A25797523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радиции Н. А. Некрасова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Молва идет всесвет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Что ты вольготно, счаст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Живешь… скажи по- бож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 чем счастие тво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967A-3159-44D5-9475-F38363E4A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700" spc="-1" strike="noStrike">
                <a:solidFill>
                  <a:srgbClr val="10253f"/>
                </a:solidFill>
                <a:latin typeface="Calibri"/>
              </a:rPr>
              <a:t>Совместите имена героинь с произведениям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рощание с Матёрой»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А. И. Солженицын                                                             старуха    Ан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Матрёнин двор»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Матрёна Корчаг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оследний срок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Н. А. Некрасов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Кому на Руси жить хорошо»                                           старуха Дарь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Ответ: в повести В. Распутина «Прощание с Матёрой»  героиня  Дарья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в повести В. Распутина «Последний срок» героиня  Анна,  в рассказе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А. И. Солженицына   «Матрёнин двор»  героиня Матрёна, в  поэме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Н. А. Некрасова  героиня  Матрёна Корчагина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BE01-722B-40C5-97B4-373174B96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В. Распутин «Последний срок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Страх от сознания, что мать вот- вот умрет, не похож на все преж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трахи, которые выпадают им в жизни, потому что этот ст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сего страшне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7230-6E2A-4A96-8202-581295E3A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. Распутин «Прощание с  Матёрой»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Проблема человеческой памяти, верности своему 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арья  об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 Богу: «Прости   нам, Господи, что слабы мы, непамятливы и разорены душо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АТЁР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земля, 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храм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23A0-901F-47DE-AE7C-14CD0B8E7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духовный человек способен и жизнь пройти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едая о своей беде… Бездушны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к, тот и вовсе опасен для окружающ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ои героини, старуха Анна из «Последнего срока» и старуха Дар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з «Прощания с Матерой» могут показаться … несчастными созданиями , вес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век просидевшими на месте рождения в глухом углу и не вкусившими плод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вилизации… Отсюда … их …  рассуждения… о совести, о вере, о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чему обращается человек в перелом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ические моменты, к чему он взывает? К ним, к этим понятия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… 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E76C-2D30-4203-8F49-CBB3745DD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F85-3C73-4735-9E92-0BCCD0E8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2F1-E63A-4A90-8209-8A42C65B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4D3-D79C-4FB6-877D-CC739829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61B-F6E5-4479-8A28-433F4C7D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6E7-2242-4525-8223-D8FF35B5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FBC-1530-450E-9A7F-00AD5351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A15-675A-40AA-B469-8CAA4FA2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21B-9C97-46CD-B449-6E344AF5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1CC-737B-4962-AD9F-D3208B33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7F4-FDF5-4FEC-BB17-0823774E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093-D452-48B9-8EA8-8E75CBFD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CB3-D66E-4F13-9BA4-27DFF8FC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4EA0-D0FF-417E-A460-2760D7B98A8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" Target="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857160" y="139680"/>
            <a:ext cx="8286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«Образ русской женщины в  рассказ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 </a:t>
            </a:r>
            <a:r>
              <a:rPr b="1" lang="ru-RU" sz="24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319640" y="1386000"/>
            <a:ext cx="4824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стинный человек выказывается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едва ли не только в мину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прощания и страдания – он эт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 есть, его и запомните… </a:t>
            </a:r>
            <a:br>
              <a:rPr sz="1700"/>
            </a:b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                                                  В. Распут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971640" y="2727360"/>
            <a:ext cx="7818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осмысление в процессе анализа знач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ечных  ценностей русской духовн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(праведности, естественности, прост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ности, смирения, терп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скрыть своеобразие писательской манеры, расши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представление о теме праведничества в литерату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звивать умения анализировать и обобщ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активизировать познавательную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ызвать эмоциональный отклик при знакомстве с судь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героини рассказа, вовлечь в размышления о смы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еского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14200" y="857160"/>
          <a:ext cx="8786880" cy="574380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071440"/>
                <a:gridCol w="164304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(«ей предстояло готовить избу не к празднику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 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ф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 … Раз только». Сына  Демушку не уберегли. «Что год, то дети: некогда ни думать,  ни печалиться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 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помру… 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 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 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857160" y="14292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«Не дело- между бабами счастливую иск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568440"/>
          <a:ext cx="8286840" cy="6218280"/>
        </p:xfrm>
        <a:graphic>
          <a:graphicData uri="http://schemas.openxmlformats.org/drawingml/2006/table">
            <a:tbl>
              <a:tblPr/>
              <a:tblGrid>
                <a:gridCol w="773280"/>
                <a:gridCol w="1895400"/>
                <a:gridCol w="1825560"/>
                <a:gridCol w="1663560"/>
                <a:gridCol w="2129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«ей предстояло готовить избу не к праздник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… Раз только» Сына  Демушку не уберег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то год, то дети: некогда ни думать,  ни печалиться,…» Пять сынов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«Я помру…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91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еро детей умер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 не вернулся с войны. Взяла на воспитание дочь Фаддея Ки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роено было давно и добротно, на большую семью, а жила теперь одинокая женщина лет  шестидесяти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лхозе работала за палочки трудодней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помогала другим людям бесплатно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– мышей душила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121428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Не дело- между бабами счастливую иск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8143920" y="285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:\Отправить до 30 октября Солженицын\Распутин Прощание  с Матерой\1059731966-15.jpg"/>
          <p:cNvPicPr/>
          <p:nvPr/>
        </p:nvPicPr>
        <p:blipFill>
          <a:blip r:embed="rId2"/>
          <a:stretch/>
        </p:blipFill>
        <p:spPr>
          <a:xfrm>
            <a:off x="2857680" y="1000080"/>
            <a:ext cx="483048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1143000" y="5214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14280" y="21420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имволы  в рассказе А. И. Солженицына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«Матрёнин д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21428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р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8840" y="285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имволы в рассказе  А. И. Солженицы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«Матрёнин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I:\Отправить до 30 октября Солженицын\Распутин Прощание  с Матерой\1253211953-158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43040" y="114300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1928880" y="5214960"/>
            <a:ext cx="650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150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I:\2 фото урок солженицын\fikus_369005968.jpg"/>
          <p:cNvPicPr/>
          <p:nvPr/>
        </p:nvPicPr>
        <p:blipFill>
          <a:blip r:embed="rId2"/>
          <a:stretch/>
        </p:blipFill>
        <p:spPr>
          <a:xfrm>
            <a:off x="3495600" y="1071720"/>
            <a:ext cx="5648400" cy="4319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285920" y="714240"/>
            <a:ext cx="24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Фикусы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–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357200" y="128592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разновидность вечнозеленых тропических растений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семейства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тутовых. Декоративное комнатное растение с широкими овальными лист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214280" y="54291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«Они заполнили одиночество хозяйки безмолвной, но живой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Они разрослись привольно, забирая небогатый свет север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сторон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8596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Окружение Матрё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:\2 фото урок солженицын\showImage.jpeg"/>
          <p:cNvPicPr/>
          <p:nvPr/>
        </p:nvPicPr>
        <p:blipFill>
          <a:blip r:embed="rId2"/>
          <a:stretch/>
        </p:blipFill>
        <p:spPr>
          <a:xfrm>
            <a:off x="714240" y="357120"/>
            <a:ext cx="8185320" cy="613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2 фото урок солженицын\DSC_1789.JPG"/>
          <p:cNvPicPr/>
          <p:nvPr/>
        </p:nvPicPr>
        <p:blipFill>
          <a:blip r:embed="rId3"/>
          <a:stretch/>
        </p:blipFill>
        <p:spPr>
          <a:xfrm>
            <a:off x="6929280" y="5072040"/>
            <a:ext cx="185580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I:\2 фото урок солженицын\Odnozvezd.jpg"/>
          <p:cNvPicPr/>
          <p:nvPr/>
        </p:nvPicPr>
        <p:blipFill>
          <a:blip r:embed="rId4"/>
          <a:stretch/>
        </p:blipFill>
        <p:spPr>
          <a:xfrm>
            <a:off x="5214960" y="4857840"/>
            <a:ext cx="24256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0"/>
          <p:cNvSpPr/>
          <p:nvPr/>
        </p:nvSpPr>
        <p:spPr>
          <a:xfrm>
            <a:off x="2214720" y="357120"/>
            <a:ext cx="6215040" cy="13575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берегла, больная была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64304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:\Отправить до 30 октября Солженицын\Распутин Прощание  с Матерой\img_14820957_104_8.jpg"/>
          <p:cNvPicPr/>
          <p:nvPr/>
        </p:nvPicPr>
        <p:blipFill>
          <a:blip r:embed="rId2"/>
          <a:stretch/>
        </p:blipFill>
        <p:spPr>
          <a:xfrm>
            <a:off x="1428840" y="1143000"/>
            <a:ext cx="6950160" cy="431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28592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285920" y="55008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357200" y="2858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Мне почти не слышались её утренние хлоп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357200" y="564372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«… на каждый день у неё приходилось и какое-нибудь другое немалое дел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Мне молока и от козы хватает. А корову заведи, так она меня самою с ногами съес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2 фото урок солженицын\2025.jpg"/>
          <p:cNvPicPr/>
          <p:nvPr/>
        </p:nvPicPr>
        <p:blipFill>
          <a:blip r:embed="rId2"/>
          <a:stretch/>
        </p:blipFill>
        <p:spPr>
          <a:xfrm>
            <a:off x="2857680" y="1428840"/>
            <a:ext cx="381312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3786120" y="157176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Русская дерев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Владимирская обла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533760" y="6000840"/>
            <a:ext cx="207648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Arial"/>
              </a:rPr>
              <a:t>Деревня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Документы о работе\tiles.png"/>
          <p:cNvPicPr/>
          <p:nvPr/>
        </p:nvPicPr>
        <p:blipFill>
          <a:blip r:embed="rId4"/>
          <a:stretch/>
        </p:blipFill>
        <p:spPr>
          <a:xfrm>
            <a:off x="6983280" y="42861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8072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85920" y="214200"/>
            <a:ext cx="7643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Угол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Вот куда завела меня мечта о тихом уголке Росс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43000" y="21420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I:\2 фото урок солженицын\6639.jpg"/>
          <p:cNvPicPr/>
          <p:nvPr/>
        </p:nvPicPr>
        <p:blipFill>
          <a:blip r:embed="rId2"/>
          <a:stretch/>
        </p:blipFill>
        <p:spPr>
          <a:xfrm>
            <a:off x="1071720" y="357120"/>
            <a:ext cx="7621560" cy="6299280"/>
          </a:xfrm>
          <a:prstGeom prst="rect">
            <a:avLst/>
          </a:prstGeom>
          <a:ln w="0">
            <a:noFill/>
          </a:ln>
        </p:spPr>
      </p:pic>
      <p:sp>
        <p:nvSpPr>
          <p:cNvPr id="152" name="Волна 7"/>
          <p:cNvSpPr/>
          <p:nvPr/>
        </p:nvSpPr>
        <p:spPr>
          <a:xfrm>
            <a:off x="4214880" y="500040"/>
            <a:ext cx="4429080" cy="557280"/>
          </a:xfrm>
          <a:custGeom>
            <a:avLst/>
            <a:gdLst>
              <a:gd name="textAreaLeft" fmla="*/ 101880 w 4429080"/>
              <a:gd name="textAreaRight" fmla="*/ 4327200 w 442908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51" y="-6865"/>
                  <a:pt x="14151" y="12265"/>
                  <a:pt x="21102" y="2700"/>
                </a:cubicBezTo>
                <a:lnTo>
                  <a:pt x="21600" y="18900"/>
                </a:lnTo>
                <a:cubicBezTo>
                  <a:pt x="14649" y="28465"/>
                  <a:pt x="7449" y="9335"/>
                  <a:pt x="498" y="18900"/>
                </a:cubicBezTo>
                <a:close/>
              </a:path>
            </a:pathLst>
          </a:custGeom>
          <a:solidFill>
            <a:srgbClr val="dbddcd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c302a"/>
                </a:solidFill>
                <a:latin typeface="Calibri"/>
              </a:rPr>
              <a:t>Виртуальная прогулка по деревне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назад 8">
            <a:hlinkClick r:id="rId3" action="ppaction://hlinksldjump"/>
          </p:cNvPr>
          <p:cNvSpPr/>
          <p:nvPr/>
        </p:nvSpPr>
        <p:spPr>
          <a:xfrm>
            <a:off x="1500120" y="578628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0023 -0.0125 -0.00301 -0.01476 -0.00486 C -0.01858 -0.00787 -0.01962 -0.0132 -0.02222 -0.01736 C -0.02656 -0.02454 -0.02865 -0.02384 -0.03142 -0.03218 C -0.03524 -0.04352 -0.03438 -0.05116 -0.0408 -0.05926 C -0.04462 -0.07477 -0.04879 -0.10486 -0.05747 -0.11597 C -0.06007 -0.12685 -0.06285 -0.13704 -0.06476 -0.14815 C -0.06372 -0.17454 -0.06545 -0.20903 -0.05 -0.22963 C -0.04445 -0.24491 -0.04254 -0.25695 -0.04254 -0.27407 E">
                                      <p:cBhvr>
                                        <p:cTn id="24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27407 C -0.04201 -0.2831 -0.04236 -0.29236 -0.0408 -0.30115 C -0.04027 -0.30462 -0.02621 -0.31574 -0.02586 -0.31597 C -0.01545 -0.325 -0.00243 -0.328 0.0092 -0.33333 C 0.0158 -0.34166 0.01164 -0.33773 0.02414 -0.34328 C 0.02604 -0.34421 0.02778 -0.3449 0.02969 -0.3456 C 0.0316 -0.34652 0.03525 -0.34814 0.03525 -0.34791 C 0.04445 -0.34722 0.05382 -0.34699 0.06302 -0.3456 C 0.06563 -0.34513 0.07153 -0.34282 0.07223 -0.33819 C 0.07309 -0.33263 0.07223 -0.32685 0.07223 -0.32106 E">
                                      <p:cBhvr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285920" y="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:\2 фото урок солженицын\derevnya-4.jpg"/>
          <p:cNvPicPr/>
          <p:nvPr/>
        </p:nvPicPr>
        <p:blipFill>
          <a:blip r:embed="rId2"/>
          <a:stretch/>
        </p:blipFill>
        <p:spPr>
          <a:xfrm>
            <a:off x="3929040" y="2928960"/>
            <a:ext cx="54673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:\2 фото урок солженицын\276451.jpg"/>
          <p:cNvPicPr/>
          <p:nvPr/>
        </p:nvPicPr>
        <p:blipFill>
          <a:blip r:embed="rId3"/>
          <a:stretch/>
        </p:blipFill>
        <p:spPr>
          <a:xfrm>
            <a:off x="1214280" y="1071720"/>
            <a:ext cx="3240360" cy="4319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286000" y="214200"/>
            <a:ext cx="5643720" cy="42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Calibri"/>
              </a:rPr>
              <a:t>Деревня Таль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Мои документы\О Солженицине ПРЕЗЕНТ,\СОлженицын, фото писат\ПИсателей фото, статьи\face.jpg"/>
          <p:cNvPicPr/>
          <p:nvPr/>
        </p:nvPicPr>
        <p:blipFill>
          <a:blip r:embed="rId2"/>
          <a:stretch/>
        </p:blipFill>
        <p:spPr>
          <a:xfrm>
            <a:off x="1071720" y="500040"/>
            <a:ext cx="747864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43040" y="5643720"/>
            <a:ext cx="692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214280" y="57150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лександр Исаевич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(1918 - 2008)  </a:t>
            </a:r>
            <a:r>
              <a:rPr b="1" lang="ru-RU" sz="18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1800"/>
            </a:b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1143000" y="21420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ысказывания А. И. Солженицын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ероине рассказа «Матрёнин двор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ертикальный свиток 6"/>
          <p:cNvSpPr/>
          <p:nvPr/>
        </p:nvSpPr>
        <p:spPr>
          <a:xfrm>
            <a:off x="1071720" y="1857240"/>
            <a:ext cx="1928520" cy="40719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Она тот самый праведник</a:t>
            </a:r>
            <a:r>
              <a:rPr b="1" i="1" lang="ru-RU" sz="1600" spc="-1" strike="noStrike">
                <a:solidFill>
                  <a:srgbClr val="3c302a"/>
                </a:solidFill>
                <a:latin typeface="Calibri"/>
              </a:rPr>
              <a:t>,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торого, не стоит  село. Н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Ни вся земля н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ертикальный свиток 7"/>
          <p:cNvSpPr/>
          <p:nvPr/>
        </p:nvSpPr>
        <p:spPr>
          <a:xfrm>
            <a:off x="3000240" y="1857240"/>
            <a:ext cx="2000520" cy="40719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У тех людей всегда лица 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кто в ладах с совестью своей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ертикальный свиток 10"/>
          <p:cNvSpPr/>
          <p:nvPr/>
        </p:nvSpPr>
        <p:spPr>
          <a:xfrm>
            <a:off x="4929120" y="1857240"/>
            <a:ext cx="2143080" cy="407196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Прости нам, Господи, что слабы мы, непамят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вы и разорены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ертикальный свиток 11"/>
          <p:cNvSpPr/>
          <p:nvPr/>
        </p:nvSpPr>
        <p:spPr>
          <a:xfrm>
            <a:off x="7143840" y="1785960"/>
            <a:ext cx="2214360" cy="485784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Какие  высказы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ния о героине-праве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це можно  использ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ать в качестве эпигра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:\Отправить до 30 октября Солженицын\Солж матренин двор\115613853.jpg"/>
          <p:cNvPicPr/>
          <p:nvPr/>
        </p:nvPicPr>
        <p:blipFill>
          <a:blip r:embed="rId6"/>
          <a:stretch/>
        </p:blipFill>
        <p:spPr>
          <a:xfrm>
            <a:off x="6143760" y="214200"/>
            <a:ext cx="249696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:\Мама Новое\Анимашки\book20.gif"/>
          <p:cNvPicPr/>
          <p:nvPr/>
        </p:nvPicPr>
        <p:blipFill>
          <a:blip r:embed="rId7"/>
          <a:stretch/>
        </p:blipFill>
        <p:spPr>
          <a:xfrm>
            <a:off x="7858080" y="5786280"/>
            <a:ext cx="1000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Мои документы\Солженицын 1\Matrenin_detal.jpg"/>
          <p:cNvPicPr/>
          <p:nvPr/>
        </p:nvPicPr>
        <p:blipFill>
          <a:blip r:embed="rId2"/>
          <a:stretch/>
        </p:blipFill>
        <p:spPr>
          <a:xfrm>
            <a:off x="1714680" y="1500120"/>
            <a:ext cx="6503760" cy="37861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135720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 театра им. Вахтангова по рассказу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А. И. Солженицына  «Матрёнин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428840" y="542916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14300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У   «Средняя общеобразовательная школа №  12»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Урок- презентация по теме «Образ русской женщины в  рассказе 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</a:t>
            </a: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втор работы: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учитель русского языка  и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литературы  </a:t>
            </a: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1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квалификационной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категории Громова В. 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Новокузнецк, 20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E:\23 окт\мама 16  октябрь\logotip RJAL.gif"/>
          <p:cNvPicPr/>
          <p:nvPr/>
        </p:nvPicPr>
        <p:blipFill>
          <a:blip r:embed="rId2"/>
          <a:stretch/>
        </p:blipFill>
        <p:spPr>
          <a:xfrm>
            <a:off x="1928880" y="857160"/>
            <a:ext cx="1923840" cy="1733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G:\Личное НЕ открывать\фото Громова В.А\IMG_2177.jpg"/>
          <p:cNvPicPr/>
          <p:nvPr/>
        </p:nvPicPr>
        <p:blipFill>
          <a:blip r:embed="rId3"/>
          <a:stretch/>
        </p:blipFill>
        <p:spPr>
          <a:xfrm>
            <a:off x="1571760" y="39290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143000" y="214200"/>
            <a:ext cx="8001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Анна Ахматова о рассказе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А. И. Солженицына «Матрёнин дв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I:\2 фото урок солженицын\Ahmatova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6360" cy="380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1357200" y="528624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вся русская деревня под паровоз попала и вдребезги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857680" y="285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лов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7"/>
          <p:cNvSpPr/>
          <p:nvPr/>
        </p:nvSpPr>
        <p:spPr>
          <a:xfrm>
            <a:off x="1357200" y="214200"/>
            <a:ext cx="7786800" cy="6429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раведник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равственности; у верующих: челов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е имеющих гре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ортрет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создания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Деталь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предмет,   характер в неповтор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мпозиция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07172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Традиции Н. А. Некрасова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28592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Молва идет всесвет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Что ты вольготно, счаст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Живешь… скажи по- боже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 чем счастие т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:\24-30 окт конкурс\ill02735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413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143000" y="5572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357200" y="214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214280" y="1143000"/>
            <a:ext cx="7929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рощание с Матёрой»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А. И. Солженицын                                                             старуха   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Матрёнин двор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Матрёна Корч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оследний с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Н. А. Некрас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Кому на Руси жить хорошо»                                           старух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Ответ: в повести В. Распутина «Прощание с Матёрой»  героиня  Дарь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в повести В. Распутина «Последний срок» героиня  Анна,  в рассказ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А. И. Солженицына   «Матрёнин двор»  героиня Матрёна, в  поэ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Н. А. Некрасова  героиня  Матрёна Корча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214280" y="35712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Совместите имена героинь с произве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:\Отправить до 30 октября Солженицын\Распутин Последний срок\posledniy-1_thumb_main.jpg"/>
          <p:cNvPicPr/>
          <p:nvPr/>
        </p:nvPicPr>
        <p:blipFill>
          <a:blip r:embed="rId2"/>
          <a:stretch/>
        </p:blipFill>
        <p:spPr>
          <a:xfrm>
            <a:off x="2357280" y="1500120"/>
            <a:ext cx="6454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143000" y="0"/>
            <a:ext cx="8215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В. Распутин «Последний срок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Отправить до 30 октября Солженицын\Распутин Последний срок\48671~002.jpg"/>
          <p:cNvPicPr/>
          <p:nvPr/>
        </p:nvPicPr>
        <p:blipFill>
          <a:blip r:embed="rId3"/>
          <a:stretch/>
        </p:blipFill>
        <p:spPr>
          <a:xfrm>
            <a:off x="1143000" y="714240"/>
            <a:ext cx="1066680" cy="1419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1214280" y="57862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Страх от сознания, что мать вот- вот умрет, не похож на все преж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страхи, которые выпадают им в жизни, потому что этот ст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сего страшне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:\Отправить до 30 октября Солженицын\Распутин Прощание  с Матерой\ra_15.jpg"/>
          <p:cNvPicPr/>
          <p:nvPr/>
        </p:nvPicPr>
        <p:blipFill>
          <a:blip r:embed="rId2"/>
          <a:stretch/>
        </p:blipFill>
        <p:spPr>
          <a:xfrm>
            <a:off x="1643040" y="1214280"/>
            <a:ext cx="478944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85920" y="214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. Распутин «Прощание с  Матёрой»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Проблема человеческой памяти, верности своем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6643800" y="1714680"/>
            <a:ext cx="2500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Дарья  обращает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к Богу: «Прости   нам, Господи, что слабы мы, непамятливы и разорены душой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Отправить до 30 октября Солженицын\Распутин Прощание  с Матерой\11648.jpg"/>
          <p:cNvPicPr/>
          <p:nvPr/>
        </p:nvPicPr>
        <p:blipFill>
          <a:blip r:embed="rId3"/>
          <a:stretch/>
        </p:blipFill>
        <p:spPr>
          <a:xfrm>
            <a:off x="5357880" y="5072040"/>
            <a:ext cx="2139840" cy="157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:\Отправить до 30 октября Солженицын\Распутин Прощание  с Матерой\rasputin_111.jpg"/>
          <p:cNvPicPr/>
          <p:nvPr/>
        </p:nvPicPr>
        <p:blipFill>
          <a:blip r:embed="rId4"/>
          <a:stretch/>
        </p:blipFill>
        <p:spPr>
          <a:xfrm>
            <a:off x="7791480" y="4572000"/>
            <a:ext cx="135252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:\Отправить до 30 октября Солженицын\Распутин Прощание  с Матерой\7ff0081d4a30.jpg"/>
          <p:cNvPicPr/>
          <p:nvPr/>
        </p:nvPicPr>
        <p:blipFill>
          <a:blip r:embed="rId5"/>
          <a:stretch/>
        </p:blipFill>
        <p:spPr>
          <a:xfrm>
            <a:off x="3214800" y="5214960"/>
            <a:ext cx="1850760" cy="1388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214280" y="53578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АТЁ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земля,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храм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2858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:\Отправить до 30 октября Солженицын\Распутин Последний срок\48671~002.jpg"/>
          <p:cNvPicPr/>
          <p:nvPr/>
        </p:nvPicPr>
        <p:blipFill>
          <a:blip r:embed="rId2"/>
          <a:stretch/>
        </p:blipFill>
        <p:spPr>
          <a:xfrm>
            <a:off x="1714680" y="57168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214280" y="2928960"/>
            <a:ext cx="79297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духовный человек способен и жизнь пройти,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дая о своей беде… Бездуш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тот и вовсе опасен для окружаю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и героини, старуха Анна из «Последнего срока» и старух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«Прощания с Матерой» могут показаться … несчастными созданиями , в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к просидевшими на месте рождения в глухом углу и не вкусившими пл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ации… Отсюда … их …  рассуждения… о совести, о вере,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тствен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чему обращается человек в перелом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итические моменты, к чему он взывает? К ним, к этим понятия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… 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774960" y="100008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8:15:13Z</dcterms:created>
  <dc:creator>asd</dc:creator>
  <dc:description/>
  <dc:language>en-US</dc:language>
  <cp:lastModifiedBy>LEGION</cp:lastModifiedBy>
  <dcterms:modified xsi:type="dcterms:W3CDTF">2015-01-20T08:26:42Z</dcterms:modified>
  <cp:revision>1225</cp:revision>
  <dc:subject/>
  <dc:title>Слайд 1</dc:title>
</cp:coreProperties>
</file>