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wmf" ContentType="image/x-wmf"/>
  <Override PartName="/ppt/media/image24.jpeg" ContentType="image/jpeg"/>
  <Override PartName="/ppt/media/image18.png" ContentType="image/png"/>
  <Override PartName="/ppt/media/image6.jpeg" ContentType="image/jpeg"/>
  <Override PartName="/ppt/media/image8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32.png" ContentType="image/png"/>
  <Override PartName="/ppt/media/image1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35.gif" ContentType="image/gif"/>
  <Override PartName="/ppt/media/image15.jpeg" ContentType="image/jpe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A0E9-DDA3-44E8-919C-FC8D84BBC7F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ергей Тимофеевич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00000"/>
                </a:solidFill>
                <a:latin typeface="Calibri"/>
              </a:rPr>
              <a:t>«Аленький цветочек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B898-BC0B-4E06-99B6-A58A2D81B0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C22E8-5204-498A-A135-706AAE8363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ка сюжетных ли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Аленький цвето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Щелкунчи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овь главной героини к геро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й любовью главные героини снимают закл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оини за внешним уродством смогли рассмотреть щедрость и доброту души чуди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аст красивого и ужас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2E10-C836-46F2-BB8A-D12451CD4D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лина Народных сказ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явно чувствуется народное происхожден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из сказок больше напоминает народную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2F00-78DE-4E83-969E-9567BA035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олшебный остр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EE75-95F1-4A64-9539-1CA0535B042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похожи все волшебные сказ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 народных сказках ярко выражен контраст между волшебным миром и земным мир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сказке композиция вам кажется более замысловат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 характеры героев представляются вам более слож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E4F-1F98-40ED-8628-1F6FCFE40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F674-7545-4294-8221-4A1120006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тому урок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книгу новую проч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хорошей, доброй, мудрой ска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аром время пров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D568-F418-4E0A-9F98-9E9BD4E49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казка ложь, да в неё намёк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брым молодцам у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C845-77FF-48CC-AB58-EFF1959EA7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равляемся в 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7376-6E3B-49BE-BDA0-C5FF460FDC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о «Авторск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AAB7D-F22A-4CF1-ACC5-22E9C7FBC4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аков Сергей тимофеевич (1791-185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5744-66E0-40D5-BE9D-0FCB7E1AA4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A2FC-6E51-450D-831E-C2AD7411CA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 «Внимательных чита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ует ли название сказки «Аленький цветочек» её содержанию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у этой сказки такой подзаголовок – «Сказка ключницы Пелагеи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дочерей было у купц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собирался уезжать купец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ём он спрашивал своих дочер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одарки заказали ему доче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купец нашёл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училось, когда он сорвал цвет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чудище поверило купцу и отпустило его домой проститься с дочерь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вы себе представляете аленький цвето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оизошл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заканчивается сказ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4DE2A-092F-461A-A3A8-816BD118378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0B12-F4DA-4C8C-A8FB-D243EA68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9634-74AF-4C1D-9EF0-980BE64E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A73847-F433-4F3C-837D-3618B5B6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3C452-FFCF-45CA-B573-75652D17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32E81-D8B4-41DC-8CCD-75EEA9C2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3260-BAC4-47D0-825E-78CF47A5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12F1C-4ADC-4265-AB9E-721098A7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F6EF-6E94-490B-BA1F-256D8254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4BF20-228D-4B82-839D-558E6E5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13908-426D-48DB-B84F-A89DDE7E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0283D-7820-4FE6-B763-F738296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8C8D-F9A4-4C01-90BF-03E97929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7F3-6092-4AA9-9008-50972C2E8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217D-4E62-4EF8-8421-367545474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5DA4-8841-4C8A-B3F9-D27D237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498B2-3DE1-433B-B079-8444C307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3D8F-60FC-4362-AF29-F126FEA1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0A3D-D25A-463C-9220-5107CE0B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5740-AFC5-47DB-9DC8-AA7D99AB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592-874E-45C5-8241-BD4CF2EC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4758-EE4D-49F0-B621-D8A99054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C212-21A5-43B0-B3C7-25C8B883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BC30-DAE7-4306-99B8-72841159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54AA-0808-4A54-9F24-1B465B19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2176-F4D2-47EF-A4A6-4FB71031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E052B-F435-49BB-9016-4040A685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6EFC2-EC14-47E4-82FB-F23BE4207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38DF-BDF4-4455-8923-88C3556E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E1BA-9C58-4CE5-8179-81A39F9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5184C-66D0-4225-9F47-07E73720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20F2F-5D83-4C0B-A46D-68E6DFD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D1C3-B9A5-43CD-8396-9534F22C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2B6A-59E0-464D-AEA9-AA7DBC8B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4C214-C579-4BA4-9808-0487505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FC7D9-D3B7-444C-9D32-D1977103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0681-9594-42B5-B473-BE9983A8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C875E-92B0-4453-9220-CA8090DB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C031C-F6F2-4FFE-9A16-7C35CC29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FE451-6EC7-42BF-B80E-E44A560F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03644-1D60-40A6-AEEB-36BF0F44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5D9C0-EE9C-4774-9C1C-2DF1A0F60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B4222-529A-492C-9734-323934E9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C35-F97A-476D-9254-9AE4BF36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73FE6-33B0-498B-8251-EAE40A81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4D190-E580-4415-9E07-94F1BBB9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08717-7011-4E06-B221-EDDB0C06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A4890-676E-4ACA-BE1D-5DE10493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E7EA3-93CD-4C27-A811-FB95AAF5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C2DE0-1A18-43BB-866E-41EA2060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322B-4C16-4931-868F-CFFA96752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2DA25-0A69-4E3D-ADF2-6A14E1D4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C3821-D45A-4D95-8B5E-6CADD3C6D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3CF8A-1B16-4775-8FD5-AC15CBD4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E9F-E3EB-4BDD-89E1-1C1DBD6B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480DF-BE97-4F61-B6BA-C45D2E6E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D339-D95F-43DF-8A2D-EECB912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F41A-BFE3-41B2-A1B9-126017D9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4469-2354-4EB6-99E9-F1F10BFF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7E20-F76A-4F58-8CEA-63D116BD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BFF55-2E8F-4C64-8B38-97F5891D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60BEC-0BE6-496E-BB92-A7EF7183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747C1-4036-426C-94BB-4ABEAD28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B39A5-962F-43B9-9EEE-006AF989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2AA5-C4E1-4786-9C84-C1348D5A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A90D-E972-4052-94A1-B7F4535E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79505-9103-420E-81F6-9F0D4505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61EA-50C0-4931-AD4B-0EC14475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2F508-9408-4EF4-B7FD-D5E21F22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EDA80-7624-48F9-981F-00139A20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3C257-CAE9-44EC-97F9-0A6B1AAC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7DF63-8F7F-4083-A448-32EEAF00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4E3DA-0CD6-4776-9B68-4BE9CDDA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C7855-2389-419A-959A-FE390873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27B95-9A63-435E-9EB2-74CD43C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AE00-C073-4AE9-815F-7035A7BF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347-ABD4-433A-9547-5567189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021B5-4079-473C-B5F2-11B6C0CC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75678-8F81-4FC7-9A7C-7A90BA0FF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B16EC-4471-4D42-BB56-EB7F6539A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754D8-449F-48D3-913C-298B72C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97ECFB-DB56-409D-9714-515FBA61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C94B6-E81D-4954-9D2C-54857F07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1872-578A-4921-A349-23CAAFA5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575C9-114E-45A9-87D8-E6B24B45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45A86-81D1-4E5F-B703-34BB5956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1774C-5275-4FD0-A7EF-93D76FF0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E531-F7CE-4375-88ED-C93034DF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EC544-0BEC-410A-9E29-0C5B4279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F47A7-1D64-4526-9F0E-13E9AC0D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1F68C-D648-4796-A283-AC792921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D6A7B-3150-4800-9150-B76AE3A4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09280-AD97-4F59-9F69-5850E722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B1ED9-BBEC-4583-82B0-46C160AB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4506C-304B-466E-A4B8-72B16BFA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74B94-44A0-497C-8CA8-BADD0D1F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5D7B0-A116-4140-A9AD-BD17C9A6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8CAE-D7C0-4472-B6BB-2D09FD13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95C3-DAEC-4CDF-8B71-949EF1E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475F9-CDAE-4C66-AEF5-7DF0A6D1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ED87D-D9D5-48E0-8142-2826060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CD8AF-142C-45B9-93A0-236024B1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A533B-6897-486A-8975-85D93DBB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3F39E-C20E-4537-893C-1965C9DD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1B026-BF0C-42C5-B568-5F9AC235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3DB7F-A785-4347-A743-53E453E57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CDB6-27F2-4C39-9E2B-235BEC519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B82E10-AB55-4585-9828-F9F622A0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328C3-5F00-4191-9E6A-27021B6B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D22-5377-4E9D-A039-0BA7680D5410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10C0-48DB-4D5A-BDFF-3CA7FD898F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F0F7-CA92-4430-9428-AB29A4B0953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CE4E-46CE-4AAE-9755-686E99165DB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D81-F929-4BB1-9759-89E362283E6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249A-6E2A-4B25-B7EF-3F28F5AD14E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077A-7E72-4BEE-862F-306786E0018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9E0C-0A6E-4F64-84E4-045B1DAD375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174B-2659-4A90-B67D-7C1139C9EEE1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D7BE-92FB-4D21-8629-0C09098417A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690C-1AF1-4CC9-B6C5-F6D9B30EAF94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D2E6-8999-4B45-8A50-66EC53F7F9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2DA6-2EBD-46F8-98CF-5A595A4C06EF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19FE-6C4F-49ED-9282-E8B2EBF45D3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0C77-2086-4E77-A95F-6487A5BF01C8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567-633F-4562-BF34-3F175D4DD6A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5F0B-B286-4F7C-B09E-2898D925FBAE}" type="datetime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D237-0ED6-40E1-A362-A9D3091B6C0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go.mail.ru/frame.html?&amp;imgurl=http://img1.liveinternet.ru/images/attach/c/0/34/373/34373967_vraschayusch_roza_anime.gif&amp;pageurl=http://glausq.ru/41.php&amp;id=83047487&amp;iid=3&amp;imgwidth=400&amp;imgheight=300&amp;imgsize=974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png"/><Relationship Id="rId3" Type="http://schemas.openxmlformats.org/officeDocument/2006/relationships/image" Target="../media/image27.wmf"/><Relationship Id="rId4" Type="http://schemas.openxmlformats.org/officeDocument/2006/relationships/image" Target="../media/image28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0" y="4668840"/>
            <a:ext cx="8839080" cy="25606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Franklin Gothic Book"/>
              </a:rPr>
              <a:t>«Аленький цветочек»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8" name="Picture 2" descr="http://im3-tub.mail.ru/i?id=83047487&amp;tov=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15040" y="714240"/>
            <a:ext cx="2190600" cy="228600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3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262080" y="639720"/>
            <a:ext cx="8881920" cy="1000080"/>
          </a:xfrm>
          <a:prstGeom prst="rect">
            <a:avLst/>
          </a:prstGeom>
          <a:ln w="0">
            <a:noFill/>
          </a:ln>
        </p:spPr>
      </p:pic>
      <p:pic>
        <p:nvPicPr>
          <p:cNvPr id="445" name="MSSN1321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3" descr="C:\Documents and Settings\Admin\Local Settings\Temporary Internet Files\Content.IE5\19W7V82E\MCj04298030000[1].wmf"/>
          <p:cNvPicPr/>
          <p:nvPr/>
        </p:nvPicPr>
        <p:blipFill>
          <a:blip r:embed="rId3"/>
          <a:stretch/>
        </p:blipFill>
        <p:spPr>
          <a:xfrm>
            <a:off x="1500120" y="2000160"/>
            <a:ext cx="3643560" cy="4000680"/>
          </a:xfrm>
          <a:prstGeom prst="rect">
            <a:avLst/>
          </a:prstGeom>
          <a:ln w="0">
            <a:noFill/>
          </a:ln>
        </p:spPr>
      </p:pic>
      <p:pic>
        <p:nvPicPr>
          <p:cNvPr id="447" name="Прямоугольник 7" descr=""/>
          <p:cNvPicPr/>
          <p:nvPr/>
        </p:nvPicPr>
        <p:blipFill>
          <a:blip r:embed="rId4"/>
          <a:stretch/>
        </p:blipFill>
        <p:spPr>
          <a:xfrm>
            <a:off x="208080" y="2786040"/>
            <a:ext cx="9661320" cy="1541520"/>
          </a:xfrm>
          <a:prstGeom prst="rect">
            <a:avLst/>
          </a:prstGeom>
          <a:ln w="0">
            <a:noFill/>
          </a:ln>
        </p:spPr>
      </p:pic>
      <p:pic>
        <p:nvPicPr>
          <p:cNvPr id="448" name="j0211321.wav" descr=""/>
          <p:cNvPicPr/>
          <p:nvPr/>
        </p:nvPicPr>
        <p:blipFill>
          <a:blip r:embed="rId5"/>
          <a:stretch/>
        </p:blipFill>
        <p:spPr>
          <a:xfrm>
            <a:off x="0" y="6429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5649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Аленький цветоче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Franklin Gothic Book"/>
              </a:rPr>
              <a:t>«Щелкунчик»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Любовь главной героини к герою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Своей любовью главные героини снимают заклятие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Героини за внешним уродством смогли рассмотреть щедрость и доброту души чудищ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Контраст красивого и ужасного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 какой сказке явно чувствуется народное происхождени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Прочитайте первые строчки сказок «Аленький цветочек» и «Щелкунчик и Мышиный Король». Сравни язык, которым написаны сказк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Какая из сказок больше напоминает народную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4" descr="43ZJ3CAWDNY0BCAS0YUVRCA4YGWV4CA67E15CCA21C0CQCAKWG4CHCAEUXXJJCA804UEKCAH9Z5LVCAHS04SXCA9DT21YCA1P4QE8CA57L6LZCASX1KKTCAW7HO5QCA6M5ESZCAV3CIE3CA1ZKHRCCA1HT9EZ.jpg"/>
          <p:cNvPicPr/>
          <p:nvPr/>
        </p:nvPicPr>
        <p:blipFill>
          <a:blip r:embed="rId2"/>
          <a:stretch/>
        </p:blipFill>
        <p:spPr>
          <a:xfrm>
            <a:off x="1365120" y="1725480"/>
            <a:ext cx="3340080" cy="3407040"/>
          </a:xfrm>
          <a:prstGeom prst="rect">
            <a:avLst/>
          </a:prstGeom>
          <a:ln w="0">
            <a:noFill/>
          </a:ln>
        </p:spPr>
      </p:pic>
      <p:pic>
        <p:nvPicPr>
          <p:cNvPr id="458" name="Содержимое 6" descr="HM69HCAA6RBQCCAMB6S14CAJ3M4GACA299LJ1CAJYOGT9CA92OKQ8CATJ4IX1CA72TXH8CA6RWZKDCA2H0YAXCAQWVVOECAVYZEL4CAM7DBQMCAYU0UJWCAOH1QQTCAS0FZX5CAKCB2SACA046Q5ECAEUT19S.jpg"/>
          <p:cNvPicPr/>
          <p:nvPr/>
        </p:nvPicPr>
        <p:blipFill>
          <a:blip r:embed="rId3"/>
          <a:stretch/>
        </p:blipFill>
        <p:spPr>
          <a:xfrm>
            <a:off x="7070760" y="1500120"/>
            <a:ext cx="1255680" cy="1273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Чем похожи все волшебные сказк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из сказок контраст между реальным и волшебным миром ярче: где реальный мир реальнее, а волшебный мир волшебнее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А в народных сказках ярко выражен контраст между волшебным миром и земным миром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сказке композиция вам кажется более замысловатой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e3b30"/>
                </a:solidFill>
                <a:latin typeface="Franklin Gothic Book"/>
              </a:rPr>
              <a:t>В какой характеры героев представляются вам более сложными?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35" dur="20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4" dur="500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426960"/>
            <a:ext cx="8881920" cy="1000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i="1" lang="ru-RU" sz="3200" spc="-1" strike="noStrike">
                <a:solidFill>
                  <a:srgbClr val="4e3b30"/>
                </a:solidFill>
                <a:latin typeface="Franklin Gothic Book"/>
              </a:rPr>
              <a:t>Более сложные характеры героев в авторской сказке, а в народной сказке герои характеризуются сразу и делятся на положительных и отрицательных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5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67" name="Picture 2" descr="C:\Documents and Settings\Admin\Рабочий стол\j0236359.gif"/>
          <p:cNvPicPr/>
          <p:nvPr/>
        </p:nvPicPr>
        <p:blipFill>
          <a:blip r:embed="rId1"/>
          <a:stretch/>
        </p:blipFill>
        <p:spPr>
          <a:xfrm>
            <a:off x="3071880" y="2857680"/>
            <a:ext cx="2714400" cy="2071440"/>
          </a:xfrm>
          <a:prstGeom prst="rect">
            <a:avLst/>
          </a:prstGeom>
          <a:ln w="0">
            <a:noFill/>
          </a:ln>
        </p:spPr>
      </p:pic>
      <p:pic>
        <p:nvPicPr>
          <p:cNvPr id="468" name="j0211367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Готовясь к этому уроку,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Вы книгу новую проч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С хорошей, доброй, мудрой сказкой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едаром время провели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2" name="Picture 7" descr="C:\Documents and Settings\Admin\Local Settings\Temporary Internet Files\Content.IE5\T9QFS9SQ\MCj04404240000[1].wmf"/>
          <p:cNvPicPr/>
          <p:nvPr/>
        </p:nvPicPr>
        <p:blipFill>
          <a:blip r:embed="rId1"/>
          <a:stretch/>
        </p:blipFill>
        <p:spPr>
          <a:xfrm>
            <a:off x="714240" y="4286160"/>
            <a:ext cx="1827360" cy="150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8" descr="C:\Documents and Settings\Admin\Local Settings\Temporary Internet Files\Content.IE5\19W7V82E\MCj04379900000[1].wmf"/>
          <p:cNvPicPr/>
          <p:nvPr/>
        </p:nvPicPr>
        <p:blipFill>
          <a:blip r:embed="rId2"/>
          <a:stretch/>
        </p:blipFill>
        <p:spPr>
          <a:xfrm>
            <a:off x="5857920" y="4000680"/>
            <a:ext cx="1816200" cy="1730160"/>
          </a:xfrm>
          <a:prstGeom prst="rect">
            <a:avLst/>
          </a:prstGeom>
          <a:ln w="0">
            <a:noFill/>
          </a:ln>
        </p:spPr>
      </p:pic>
      <p:sp>
        <p:nvSpPr>
          <p:cNvPr id="414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841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Сказка ложь, да в неё намёк!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e3b30"/>
                </a:solidFill>
                <a:latin typeface="Franklin Gothic Book"/>
              </a:rPr>
              <a:t>Добрым молодцам урок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А.С. Пушкин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5" descr="C:\Documents and Settings\Admin\Local Settings\Temporary Internet Files\Content.IE5\02068134\MCj04334800000[1].wmf"/>
          <p:cNvPicPr/>
          <p:nvPr/>
        </p:nvPicPr>
        <p:blipFill>
          <a:blip r:embed="rId2"/>
          <a:stretch/>
        </p:blipFill>
        <p:spPr>
          <a:xfrm>
            <a:off x="1643040" y="4071960"/>
            <a:ext cx="1789200" cy="1827360"/>
          </a:xfrm>
          <a:prstGeom prst="rect">
            <a:avLst/>
          </a:prstGeom>
          <a:ln w="0">
            <a:noFill/>
          </a:ln>
        </p:spPr>
      </p:pic>
      <p:sp>
        <p:nvSpPr>
          <p:cNvPr id="418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C:\Documents and Settings\Admin\Local Settings\Temporary Internet Files\Content.IE5\0K7B91OP\MCj03981430000[1].wmf"/>
          <p:cNvPicPr/>
          <p:nvPr/>
        </p:nvPicPr>
        <p:blipFill>
          <a:blip r:embed="rId2"/>
          <a:stretch/>
        </p:blipFill>
        <p:spPr>
          <a:xfrm>
            <a:off x="3000240" y="2286000"/>
            <a:ext cx="2500560" cy="271476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pic>
        <p:nvPicPr>
          <p:cNvPr id="423" name="Содержимое 3" descr="ill12.jpg"/>
          <p:cNvPicPr/>
          <p:nvPr/>
        </p:nvPicPr>
        <p:blipFill>
          <a:blip r:embed="rId1"/>
          <a:stretch/>
        </p:blipFill>
        <p:spPr>
          <a:xfrm>
            <a:off x="0" y="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4" descr="ill09.jpg"/>
          <p:cNvPicPr/>
          <p:nvPr/>
        </p:nvPicPr>
        <p:blipFill>
          <a:blip r:embed="rId2"/>
          <a:stretch/>
        </p:blipFill>
        <p:spPr>
          <a:xfrm>
            <a:off x="3357720" y="0"/>
            <a:ext cx="2761920" cy="4572000"/>
          </a:xfrm>
          <a:prstGeom prst="rect">
            <a:avLst/>
          </a:prstGeom>
          <a:ln w="0">
            <a:noFill/>
          </a:ln>
        </p:spPr>
      </p:pic>
      <p:pic>
        <p:nvPicPr>
          <p:cNvPr id="425" name="Содержимое 5" descr="ill13.jpg"/>
          <p:cNvPicPr/>
          <p:nvPr/>
        </p:nvPicPr>
        <p:blipFill>
          <a:blip r:embed="rId3"/>
          <a:stretch/>
        </p:blipFill>
        <p:spPr>
          <a:xfrm>
            <a:off x="6062760" y="0"/>
            <a:ext cx="3081240" cy="4114800"/>
          </a:xfrm>
          <a:prstGeom prst="rect">
            <a:avLst/>
          </a:prstGeom>
          <a:ln w="0">
            <a:noFill/>
          </a:ln>
        </p:spPr>
      </p:pic>
      <p:pic>
        <p:nvPicPr>
          <p:cNvPr id="426" name="Содержимое 7" descr="ill04.jpg"/>
          <p:cNvPicPr/>
          <p:nvPr/>
        </p:nvPicPr>
        <p:blipFill>
          <a:blip r:embed="rId4"/>
          <a:stretch/>
        </p:blipFill>
        <p:spPr>
          <a:xfrm>
            <a:off x="1712880" y="3998880"/>
            <a:ext cx="4827600" cy="2719440"/>
          </a:xfrm>
          <a:prstGeom prst="rect">
            <a:avLst/>
          </a:prstGeom>
          <a:ln w="0">
            <a:noFill/>
          </a:ln>
        </p:spPr>
      </p:pic>
      <p:pic>
        <p:nvPicPr>
          <p:cNvPr id="427" name="61._Act_3._Aurore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28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23689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86800" cy="1000080"/>
          </a:xfrm>
          <a:prstGeom prst="rect">
            <a:avLst/>
          </a:prstGeom>
          <a:ln w="0">
            <a:noFill/>
          </a:ln>
        </p:spPr>
      </p:pic>
      <p:pic>
        <p:nvPicPr>
          <p:cNvPr id="430" name="Содержимое 3" descr="50s.jpg"/>
          <p:cNvPicPr/>
          <p:nvPr/>
        </p:nvPicPr>
        <p:blipFill>
          <a:blip r:embed="rId2"/>
          <a:stretch/>
        </p:blipFill>
        <p:spPr>
          <a:xfrm>
            <a:off x="4000680" y="2000160"/>
            <a:ext cx="1857240" cy="264816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BNRI5CAYAQ6PCCAPKPAA6CA7C5USWCA5RB0N2CAOLN5NYCAR267AWCAS5VFZDCAGV312CCAXYKSRCCA5UL726CA7XZPH5CA4TJ2GKCA0Y4UIKCAYPA16JCAMVH6L7CAKCPOWWCAWCHGEVCA14LRSICAVLKDFS.jpg"/>
          <p:cNvPicPr/>
          <p:nvPr/>
        </p:nvPicPr>
        <p:blipFill>
          <a:blip r:embed="rId3"/>
          <a:stretch/>
        </p:blipFill>
        <p:spPr>
          <a:xfrm>
            <a:off x="785880" y="1143000"/>
            <a:ext cx="1577880" cy="200016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5" descr="YQZDYCAN419L0CAVYC2E5CAD0POT9CA0ERCRBCAADOASLCAR2HCIQCALJ552MCA55C1KZCALGTE6ACAI04RRVCA2LG696CA58J4SWCAQD7A44CA3C5QG7CAKTB795CAP1VQ8HCAJNHCIKCA01UAHYCA1MTHGY.jpg"/>
          <p:cNvPicPr/>
          <p:nvPr/>
        </p:nvPicPr>
        <p:blipFill>
          <a:blip r:embed="rId4"/>
          <a:stretch/>
        </p:blipFill>
        <p:spPr>
          <a:xfrm>
            <a:off x="6572160" y="1357200"/>
            <a:ext cx="2000520" cy="264348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6" descr="HCWQCCA5G9MFOCA953K5PCAE0892DCALCNYZUCAQCYYZ9CACIC7OQCALBAM5ZCAMFE3NNCAB3NID7CAZ0ENYMCAXC6ZVVCAQCQJ9LCAV8RUFNCAOHIRTFCA1SJFZDCA8PXPWFCA80UGURCAN6HZ7YCAYZKYV5.jpg"/>
          <p:cNvPicPr/>
          <p:nvPr/>
        </p:nvPicPr>
        <p:blipFill>
          <a:blip r:embed="rId5"/>
          <a:stretch/>
        </p:blipFill>
        <p:spPr>
          <a:xfrm>
            <a:off x="785880" y="3643200"/>
            <a:ext cx="2149560" cy="2217960"/>
          </a:xfrm>
          <a:prstGeom prst="rect">
            <a:avLst/>
          </a:prstGeom>
          <a:ln w="0">
            <a:noFill/>
          </a:ln>
        </p:spPr>
      </p:pic>
      <p:sp>
        <p:nvSpPr>
          <p:cNvPr id="434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146160" y="457200"/>
            <a:ext cx="8845560" cy="927000"/>
          </a:xfrm>
          <a:prstGeom prst="rect">
            <a:avLst/>
          </a:prstGeom>
          <a:ln w="0">
            <a:noFill/>
          </a:ln>
        </p:spPr>
      </p:pic>
      <p:pic>
        <p:nvPicPr>
          <p:cNvPr id="436" name="Содержимое 7" descr="0123-065.jpg"/>
          <p:cNvPicPr/>
          <p:nvPr/>
        </p:nvPicPr>
        <p:blipFill>
          <a:blip r:embed="rId2"/>
          <a:stretch/>
        </p:blipFill>
        <p:spPr>
          <a:xfrm>
            <a:off x="2898720" y="1554120"/>
            <a:ext cx="3498840" cy="4525920"/>
          </a:xfrm>
          <a:prstGeom prst="rect">
            <a:avLst/>
          </a:prstGeom>
          <a:ln w="0">
            <a:noFill/>
          </a:ln>
        </p:spPr>
      </p:pic>
      <p:sp>
        <p:nvSpPr>
          <p:cNvPr id="437" name="Місце для нижнього колонтитула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Сказку «Аленький цветочек» записал известный русский писатель Сергей Тимофеевич Аксаков (1791–1859). Он услышал ее в детстве во время своей болезни. Писатель так рассказывает об этом в повести «Детские годы Багрова-внука»: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«Скорому выздоровлению моему мешала бессонница… По совету тетушки, позвали один раз ключницу Пелагею, которая была великая мастерица сказывать сказки и которую даже покойный дедушка любил слушать… Пришла Пелагея, немолодая, но еще белая, румяная… села у печки и начала говорить, немного нараспев: „В некиим царстве, в некиим государстве…“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ужно ли говорить, что я не заснул до окончания сказки, что, напротив, я не спал долее обыкновенного?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На другой же день выслушал я в другой раз повесть об „Аленьком цветочке“. С этих пор, до самого моего выздоровления, Пелагея ежедневно рассказывала мне какую-нибудь из своих многочисленных сказок. Более других помню я „Царь-девицу“, „Иванушку-дурачка“, „Жар-птицу“ и „Змея Горыныча“»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4e3b30"/>
                </a:solidFill>
                <a:latin typeface="Franklin Gothic Book"/>
              </a:rPr>
              <a:t>В последние годы жизни, работая над книгой «Детские годы Багрова-внука», Сергей Тимофеевич вспомнил ключницу Пелагею, ее замечательную сказку «Аленький цветочек» и записал ее по памяти. Впервые она была напечатана в 1858 году и с тех пор стала у нас любимой сказкой.</a:t>
            </a: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109440" y="457200"/>
            <a:ext cx="8882280" cy="10000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оответствует ли название сказки «Аленький цветочек» её содержанию? Почему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у этой сказки такой подзаголовок – «Сказка ключницы Пелагеи»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Сколько дочерей было у купц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уда собирался уезжать купец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О чём он спрашивал своих дочерей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е подарки заказали ему дочер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 купец нашёл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случилось, когда он сорвал цвето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очему чудище поверило купцу и отпустило его домой проститься с дочерьми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Каким вы себе представляете аленький цветочек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то произошло дальше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м заканчивается сказка?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3" name="Місце для нижнього колонтитула 3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9:53:01Z</dcterms:created>
  <dc:creator>КомпМастер</dc:creator>
  <dc:description/>
  <dc:language>en-US</dc:language>
  <cp:lastModifiedBy>LEGION</cp:lastModifiedBy>
  <dcterms:modified xsi:type="dcterms:W3CDTF">2015-01-20T11:49:15Z</dcterms:modified>
  <cp:revision>31</cp:revision>
  <dc:subject/>
  <dc:title>Сергей Тимофеевич Аксаков</dc:title>
</cp:coreProperties>
</file>