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jpeg" ContentType="image/jpeg"/>
  <Override PartName="/ppt/media/image18.png" ContentType="image/png"/>
  <Override PartName="/ppt/media/image6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5.gif" ContentType="image/gif"/>
  <Override PartName="/ppt/media/image15.jpeg" ContentType="image/jpe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9960-ABB9-4895-8387-4645D00C4A1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ргей Тимофеевич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«Аленький цветоче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0CAE-30B0-4DDF-A59F-3030BF3F89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5495-75CE-4AF5-AAFE-EC5DEB46FE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ка сюжетных ли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Аленький цвето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Щелкун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главной героини к гер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любовью главные героини снимают закл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ни за внешним уродством смогли рассмотреть щедрость и доброту души чуди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ст красивого и ужас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D54C-2329-41DE-9FF6-E076137E9B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лина Народных сказ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явно чувствуется народное происхож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з сказок больше напоминает народну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3114-F18C-4FDA-AC71-0856E23685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шебный ост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BF27-17DD-4CC6-9A73-5F84E50AFD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похожи все волшебные сказ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народных сказках ярко выражен контраст между волшебным миром и земным мир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композиция вам кажется более замысловат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характеры героев представляются вам более слож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E531-43A2-415D-B107-ADE9CFDEA7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2708-1DE2-45DA-AEA8-600A83860C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тому уро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книгу новую проч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рошей, доброй, мудрой ска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аром время пров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9617-EE2D-4588-9561-7AED0EFC9C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зка ложь, да в неё намё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ым молодцам у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A6D2-34EC-4111-A6AE-97BE736FCD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ляемся в 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EFA4-1CEE-4F1E-85CA-58468A4FA7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 «Авторск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6E24-5380-436B-A9CD-C980C06D1B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аков Сергей тимофеевич (1791-18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A720-89D8-4E63-99AB-5678A4BB74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49A2-3A12-4625-ABF9-58BD0AFFF2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«Внимательных чита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ет ли название сказки «Аленький цветочек» её содержанию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 этой сказки такой подзаголовок – «Сказка ключницы Пелаге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дочерей было у купц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собирался уезжать купе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ём он спрашивал своих дочер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одарки заказали ему доч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упец нашёл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училось, когда он сорвал цв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чудище поверило купцу и отпустило его домой проститься с дочерь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вы себе представляете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зошл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заканчивается сказ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D1CC-1DF6-41C7-8544-C63F974180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175-8562-4851-9A34-685069CF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D50-5D4C-45F0-89DB-80D0280F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29A43-61A9-4860-AB16-525210CD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0F42A-925F-410E-8731-F1016426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47C5A-FE54-4D35-88BC-1BFAFF86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E8301-2B0C-4A87-8560-5D55686B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27F41-AB11-44B7-9801-F89F16EE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96FEA-5841-462A-816A-859BC1A5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0F4DD-A4D6-4761-8D2C-533FE91E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9DFF5-49E1-43C0-B29D-996CB398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C2FF8-22EC-427E-AE40-BCB48E78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6DF-6495-41C2-84B6-2CD3BE72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BA1-F211-4BEA-A665-5898D4FB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4BE0-9739-4EF2-B1A6-AEDA45B0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73BD-1FC1-45CE-B253-ED13FBE9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91B1-D8B3-41D4-97CF-81F71F27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33FB-5C79-4068-A365-9D1196B7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C3AC-CDB2-4532-AAAB-D19ED963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99A1-E580-4B5D-9E15-CB78E6C5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5D72-407E-4C80-A6A9-BF379143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E70-F5AF-4854-9392-696D792F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8546-C927-4127-A972-96326F8A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7E75-F839-4BCE-9144-2F2CE3D7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31C8-81A0-4D53-906F-C76BBAE7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7356-2D41-4D7B-B4E4-855CB119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1178-3C0B-49FF-887F-0573736B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DB08-A64F-4019-93BC-9E0D9767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C452B-B7C6-4036-9F89-63744422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88AD-8C0C-4967-9D14-5C868161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A905-439F-40F4-9CF0-8DAF3AE7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EDC5-2355-4ABB-92DA-8450F3CA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C02-C082-4175-B77F-38B76C63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B493B-4434-4324-9D0A-10BE2830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E167-3219-46E1-9E20-997B9F78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8854-36E2-43E8-B989-33046CE4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57947-A4B3-4E0A-A5E2-45C1DCB6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10671-B1F4-447E-8880-033B91DA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B06E1-E9D0-40C3-88A6-307DA13F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02B0-4A14-44AE-9101-BA436832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DCEC-D6AD-4CFC-9012-9E603CC4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1B6C2-40CA-4C28-8340-B6319BF9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3E025-A53C-4FE8-B1DF-86508B2A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388-E276-4A68-841F-1D58E60F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9EFC7-31EB-4218-93BE-D447CB10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F2CFA-6E03-438C-92AA-B5ADFA41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09412-1053-4BFF-85BE-FE1F1B09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52759-F202-4020-9F7D-915AB90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DE7AB-3637-4006-A14E-0F195916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0CB8D-00A7-4900-AA92-A58EDB5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4D2D7-1B44-4F13-A30E-90F74183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83F6F-7657-42ED-9111-3689E5A6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01B14-0740-4949-94C3-0192BD8E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2708A-258B-4E85-B939-53274AD8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63A-7E32-4198-8027-2B410A19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7B2DF-E38D-438D-A944-7217860F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C2046-9C3F-4415-8163-D19B8552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3FBDE-326C-4C42-B182-98A68A3D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D9CE1-0665-46CB-98FF-2DD5ADA8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22FC3-0B8F-4A8F-AF88-6693A390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E61DB-73E5-42AA-A0FB-EA02C5B7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68802-F889-4A0E-9EE5-A6DF8C6B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5DF2-19C9-4B83-8923-35EC4B99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F32A6-463E-4686-9516-CBE9A8C8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52F9A-B95D-4FB6-A380-2E1A2D0D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C06-9884-42A4-83C6-65C1AFD0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9EE5B-45D8-4DC9-B1A0-21FCEF02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64214-C5E6-435D-8B32-CAF13B43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3F82-0D09-4956-91BC-DC83AE15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15BEF-909B-41D8-A20F-FCCA2CBE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C9FC5-6E09-4428-ADAE-D6AC627F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EB211-2A33-44B1-9C87-9A119D8A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91915-D061-4FD7-98F5-4D417745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EE6EC-326F-4EFC-8768-B6CCA9D5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D5463-9D7A-4D57-98CC-71698981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7ECFE-C1F7-4391-AD2B-9ABDCA69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265-88EC-4B24-B0B0-0A0550E0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B1D4D-86D4-405E-81D1-34296DD1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D6ABF-2A22-466E-AA2A-9E0777EF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89CC1-BB69-405D-81FD-124834D7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956AF-2341-4209-8B95-9199925D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7221C-E280-4E4D-912E-B5D4C4C5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CCEEE-3F12-4092-A60F-BE9672EA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DE051-736A-4447-8187-BB6DAF39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32A61-5181-4912-8711-FF0D04D0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908D5-16F4-4C47-B7D0-5C867623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9EEB6-AE26-4225-85F3-D3F55F6C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8CD-9467-4DD4-BFA4-488BC23E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DCA6E-0863-47AA-A853-96E6FF3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D6C53-254F-4FD1-8258-8753A936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2333E-579E-45C8-9A98-19F4A444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57F61-A1AC-4176-9DE2-04E53317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182A4-407A-4202-8D89-70A4B414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919C0-E9FA-4EC4-A332-B414D4B3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22030-7430-489F-9D88-852DEAE3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7E90B-A09E-4EEE-B835-DCFDFEE4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255B3-9681-45CC-8D94-85DF4A9E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CA4D7-BA43-4396-A667-6CAB1E92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E5E-FDB8-4CA7-8D4E-C8EDB664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674D4-42EA-4095-B7EC-39C571F0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898E7-E4AF-439B-9AAA-554C34E4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FE0CE-866A-44B0-B0EB-BB09AC30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64A06-26F0-441D-88C9-F66E003C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901BB-CC9E-4667-8EC6-8F5782A2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FA08C-9838-42A3-A156-0A267E1F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DCFD5-34F6-463D-9DA7-A2C7C947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FF44B-B12D-431F-95A7-C48DDF91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B20C4-F64A-412A-832A-0DA7E6A9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892C8-2B12-4F2E-8BE4-649B10C9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147C-ADAB-4708-ADE2-19D44E5A7D3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AEF5-18FB-49D4-AC64-260121A968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9B69-E54E-41BC-9EF7-0D997D933E8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15AB-2742-4EB7-81E7-0DAAA9E9DC9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F433-4425-44A8-B024-D1AFED5A42D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0C7C-6AD5-41FB-AE78-71D9A2F0CE7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C02E-B409-47EB-8F89-06883244646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5F94-14C8-4BA8-87D5-3A1878FEE2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0769-C714-4760-BF72-A9959520340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C3AE-B123-424E-9749-7DD00A69A7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0E0A-27AB-47D5-9715-75962B1C887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909F-6600-4AAC-BBA6-EEBED28AA43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46C1-01FC-42DD-B66A-AFB58B4AA33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6616-2FA4-4FFF-AD05-FB1CC81A9B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20ED-7FFD-415D-A571-B89844E1E9A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CEBF-7DA9-43AA-A728-FD9B3138AE3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EEEF-0B1A-4599-AF33-1E01380E7AB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263D-E056-488E-B67D-F0564855479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o.mail.ru/frame.html?&amp;imgurl=http://img1.liveinternet.ru/images/attach/c/0/34/373/34373967_vraschayusch_roza_anime.gif&amp;pageurl=http://glausq.ru/41.php&amp;id=83047487&amp;iid=3&amp;imgwidth=400&amp;imgheight=300&amp;imgsize=974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0" y="4668840"/>
            <a:ext cx="8839080" cy="2560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Franklin Gothic Book"/>
              </a:rPr>
              <a:t>«Аленький цветочек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im3-tub.mail.ru/i?id=83047487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5040" y="714240"/>
            <a:ext cx="2190600" cy="2286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62080" y="639720"/>
            <a:ext cx="8881920" cy="1000080"/>
          </a:xfrm>
          <a:prstGeom prst="rect">
            <a:avLst/>
          </a:prstGeom>
          <a:ln w="0">
            <a:noFill/>
          </a:ln>
        </p:spPr>
      </p:pic>
      <p:pic>
        <p:nvPicPr>
          <p:cNvPr id="445" name="MSSN132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Admin\Local Settings\Temporary Internet Files\Content.IE5\19W7V82E\MCj04298030000[1].wmf"/>
          <p:cNvPicPr/>
          <p:nvPr/>
        </p:nvPicPr>
        <p:blipFill>
          <a:blip r:embed="rId3"/>
          <a:stretch/>
        </p:blipFill>
        <p:spPr>
          <a:xfrm>
            <a:off x="1500120" y="2000160"/>
            <a:ext cx="3643560" cy="400068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7" descr=""/>
          <p:cNvPicPr/>
          <p:nvPr/>
        </p:nvPicPr>
        <p:blipFill>
          <a:blip r:embed="rId4"/>
          <a:stretch/>
        </p:blipFill>
        <p:spPr>
          <a:xfrm>
            <a:off x="208080" y="2786040"/>
            <a:ext cx="9661320" cy="1541520"/>
          </a:xfrm>
          <a:prstGeom prst="rect">
            <a:avLst/>
          </a:prstGeom>
          <a:ln w="0">
            <a:noFill/>
          </a:ln>
        </p:spPr>
      </p:pic>
      <p:pic>
        <p:nvPicPr>
          <p:cNvPr id="448" name="j0211321.wav" descr=""/>
          <p:cNvPicPr/>
          <p:nvPr/>
        </p:nvPicPr>
        <p:blipFill>
          <a:blip r:embed="rId5"/>
          <a:stretch/>
        </p:blipFill>
        <p:spPr>
          <a:xfrm>
            <a:off x="0" y="6429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5649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Аленький цветоче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Щелкунчи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Любовь главной героини к герою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воей любовью главные героини снимают заклят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ероини за внешним уродством смогли рассмотреть щедрость и доброту души чудищ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нтраст красивого и ужасного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й сказке явно чувствуется народное происхожден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ая из сказок больше напоминает народную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4" descr="43ZJ3CAWDNY0BCAS0YUVRCA4YGWV4CA67E15CCA21C0CQCAKWG4CHCAEUXXJJCA804UEKCAH9Z5LVCAHS04SXCA9DT21YCA1P4QE8CA57L6LZCASX1KKTCAW7HO5QCA6M5ESZCAV3CIE3CA1ZKHRCCA1HT9EZ.jpg"/>
          <p:cNvPicPr/>
          <p:nvPr/>
        </p:nvPicPr>
        <p:blipFill>
          <a:blip r:embed="rId2"/>
          <a:stretch/>
        </p:blipFill>
        <p:spPr>
          <a:xfrm>
            <a:off x="1365120" y="1725480"/>
            <a:ext cx="3340080" cy="3407040"/>
          </a:xfrm>
          <a:prstGeom prst="rect">
            <a:avLst/>
          </a:prstGeom>
          <a:ln w="0">
            <a:noFill/>
          </a:ln>
        </p:spPr>
      </p:pic>
      <p:pic>
        <p:nvPicPr>
          <p:cNvPr id="458" name="Содержимое 6" descr="HM69HCAA6RBQCCAMB6S14CAJ3M4GACA299LJ1CAJYOGT9CA92OKQ8CATJ4IX1CA72TXH8CA6RWZKDCA2H0YAXCAQWVVOECAVYZEL4CAM7DBQMCAYU0UJWCAOH1QQTCAS0FZX5CAKCB2SACA046Q5ECAEUT19S.jpg"/>
          <p:cNvPicPr/>
          <p:nvPr/>
        </p:nvPicPr>
        <p:blipFill>
          <a:blip r:embed="rId3"/>
          <a:stretch/>
        </p:blipFill>
        <p:spPr>
          <a:xfrm>
            <a:off x="7070760" y="1500120"/>
            <a:ext cx="1255680" cy="1273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ем похожи все волшебные сказк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 в народных сказках ярко выражен контраст между волшебным миром и земным миром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сказке композиция вам кажется более замысловатой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характеры героев представляются вам более сложным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62080" y="426960"/>
            <a:ext cx="888192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7" name="Picture 2" descr="C:\Documents and Settings\Admin\Рабочий стол\j0236359.gif"/>
          <p:cNvPicPr/>
          <p:nvPr/>
        </p:nvPicPr>
        <p:blipFill>
          <a:blip r:embed="rId1"/>
          <a:stretch/>
        </p:blipFill>
        <p:spPr>
          <a:xfrm>
            <a:off x="3071880" y="2857680"/>
            <a:ext cx="2714400" cy="2071440"/>
          </a:xfrm>
          <a:prstGeom prst="rect">
            <a:avLst/>
          </a:prstGeom>
          <a:ln w="0">
            <a:noFill/>
          </a:ln>
        </p:spPr>
      </p:pic>
      <p:pic>
        <p:nvPicPr>
          <p:cNvPr id="468" name="j02113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товясь к этому урок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книгу новую проч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хорошей, доброй, мудрой сказк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даром время пров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7" descr="C:\Documents and Settings\Admin\Local Settings\Temporary Internet Files\Content.IE5\T9QFS9SQ\MCj04404240000[1].wmf"/>
          <p:cNvPicPr/>
          <p:nvPr/>
        </p:nvPicPr>
        <p:blipFill>
          <a:blip r:embed="rId1"/>
          <a:stretch/>
        </p:blipFill>
        <p:spPr>
          <a:xfrm>
            <a:off x="714240" y="4286160"/>
            <a:ext cx="1827360" cy="150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C:\Documents and Settings\Admin\Local Settings\Temporary Internet Files\Content.IE5\19W7V82E\MCj04379900000[1].wmf"/>
          <p:cNvPicPr/>
          <p:nvPr/>
        </p:nvPicPr>
        <p:blipFill>
          <a:blip r:embed="rId2"/>
          <a:stretch/>
        </p:blipFill>
        <p:spPr>
          <a:xfrm>
            <a:off x="5857920" y="4000680"/>
            <a:ext cx="1816200" cy="1730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Сказка ложь, да в неё намёк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Добрым молодцам урок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.С. Пушки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5" descr="C:\Documents and Settings\Admin\Local Settings\Temporary Internet Files\Content.IE5\02068134\MCj04334800000[1].wmf"/>
          <p:cNvPicPr/>
          <p:nvPr/>
        </p:nvPicPr>
        <p:blipFill>
          <a:blip r:embed="rId2"/>
          <a:stretch/>
        </p:blipFill>
        <p:spPr>
          <a:xfrm>
            <a:off x="1643040" y="4071960"/>
            <a:ext cx="1789200" cy="18273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Admin\Local Settings\Temporary Internet Files\Content.IE5\0K7B91OP\MCj03981430000[1].wmf"/>
          <p:cNvPicPr/>
          <p:nvPr/>
        </p:nvPicPr>
        <p:blipFill>
          <a:blip r:embed="rId2"/>
          <a:stretch/>
        </p:blipFill>
        <p:spPr>
          <a:xfrm>
            <a:off x="3000240" y="2286000"/>
            <a:ext cx="25005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Содержимое 3" descr="ill12.jpg"/>
          <p:cNvPicPr/>
          <p:nvPr/>
        </p:nvPicPr>
        <p:blipFill>
          <a:blip r:embed="rId1"/>
          <a:stretch/>
        </p:blipFill>
        <p:spPr>
          <a:xfrm>
            <a:off x="0" y="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ill09.jpg"/>
          <p:cNvPicPr/>
          <p:nvPr/>
        </p:nvPicPr>
        <p:blipFill>
          <a:blip r:embed="rId2"/>
          <a:stretch/>
        </p:blipFill>
        <p:spPr>
          <a:xfrm>
            <a:off x="3357720" y="0"/>
            <a:ext cx="2761920" cy="45720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5" descr="ill13.jpg"/>
          <p:cNvPicPr/>
          <p:nvPr/>
        </p:nvPicPr>
        <p:blipFill>
          <a:blip r:embed="rId3"/>
          <a:stretch/>
        </p:blipFill>
        <p:spPr>
          <a:xfrm>
            <a:off x="6062760" y="0"/>
            <a:ext cx="3081240" cy="411480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7" descr="ill04.jpg"/>
          <p:cNvPicPr/>
          <p:nvPr/>
        </p:nvPicPr>
        <p:blipFill>
          <a:blip r:embed="rId4"/>
          <a:stretch/>
        </p:blipFill>
        <p:spPr>
          <a:xfrm>
            <a:off x="1712880" y="3998880"/>
            <a:ext cx="4827600" cy="2719440"/>
          </a:xfrm>
          <a:prstGeom prst="rect">
            <a:avLst/>
          </a:prstGeom>
          <a:ln w="0">
            <a:noFill/>
          </a:ln>
        </p:spPr>
      </p:pic>
      <p:pic>
        <p:nvPicPr>
          <p:cNvPr id="427" name="61._Act_3._Aurore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23689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3" descr="50s.jpg"/>
          <p:cNvPicPr/>
          <p:nvPr/>
        </p:nvPicPr>
        <p:blipFill>
          <a:blip r:embed="rId2"/>
          <a:stretch/>
        </p:blipFill>
        <p:spPr>
          <a:xfrm>
            <a:off x="4000680" y="2000160"/>
            <a:ext cx="1857240" cy="26481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BNRI5CAYAQ6PCCAPKPAA6CA7C5USWCA5RB0N2CAOLN5NYCAR267AWCAS5VFZDCAGV312CCAXYKSRCCA5UL726CA7XZPH5CA4TJ2GKCA0Y4UIKCAYPA16JCAMVH6L7CAKCPOWWCAWCHGEVCA14LRSICAVLKDFS.jpg"/>
          <p:cNvPicPr/>
          <p:nvPr/>
        </p:nvPicPr>
        <p:blipFill>
          <a:blip r:embed="rId3"/>
          <a:stretch/>
        </p:blipFill>
        <p:spPr>
          <a:xfrm>
            <a:off x="785880" y="1143000"/>
            <a:ext cx="1577880" cy="20001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5" descr="YQZDYCAN419L0CAVYC2E5CAD0POT9CA0ERCRBCAADOASLCAR2HCIQCALJ552MCA55C1KZCALGTE6ACAI04RRVCA2LG696CA58J4SWCAQD7A44CA3C5QG7CAKTB795CAP1VQ8HCAJNHCIKCA01UAHYCA1MTHGY.jpg"/>
          <p:cNvPicPr/>
          <p:nvPr/>
        </p:nvPicPr>
        <p:blipFill>
          <a:blip r:embed="rId4"/>
          <a:stretch/>
        </p:blipFill>
        <p:spPr>
          <a:xfrm>
            <a:off x="6572160" y="1357200"/>
            <a:ext cx="2000520" cy="2643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6" descr="HCWQCCA5G9MFOCA953K5PCAE0892DCALCNYZUCAQCYYZ9CACIC7OQCALBAM5ZCAMFE3NNCAB3NID7CAZ0ENYMCAXC6ZVVCAQCQJ9LCAV8RUFNCAOHIRTFCA1SJFZDCA8PXPWFCA80UGURCAN6HZ7YCAYZKYV5.jpg"/>
          <p:cNvPicPr/>
          <p:nvPr/>
        </p:nvPicPr>
        <p:blipFill>
          <a:blip r:embed="rId5"/>
          <a:stretch/>
        </p:blipFill>
        <p:spPr>
          <a:xfrm>
            <a:off x="785880" y="3643200"/>
            <a:ext cx="2149560" cy="221796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7" descr="0123-065.jpg"/>
          <p:cNvPicPr/>
          <p:nvPr/>
        </p:nvPicPr>
        <p:blipFill>
          <a:blip r:embed="rId2"/>
          <a:stretch/>
        </p:blipFill>
        <p:spPr>
          <a:xfrm>
            <a:off x="2898720" y="1554120"/>
            <a:ext cx="3498840" cy="452592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ответствует ли название сказки «Аленький цветочек» её содержанию? Почему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у этой сказки такой подзаголовок – «Сказка ключницы Пелагеи»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олько дочерей было у купц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уда собирался уезжать купец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 чём он спрашивал своих дочер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е подарки заказали ему дочер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 купец нашёл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случилось, когда он сорвал цвето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чудище поверило купцу и отпустило его домой проститься с дочерьм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м вы себе представляете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произошло дальше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м заканчивается сказк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53:01Z</dcterms:created>
  <dc:creator>КомпМастер</dc:creator>
  <dc:description/>
  <dc:language>en-US</dc:language>
  <cp:lastModifiedBy>LEGION</cp:lastModifiedBy>
  <dcterms:modified xsi:type="dcterms:W3CDTF">2015-01-20T11:49:15Z</dcterms:modified>
  <cp:revision>31</cp:revision>
  <dc:subject/>
  <dc:title>Сергей Тимофеевич Аксаков</dc:title>
</cp:coreProperties>
</file>