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105BC-ED3F-4E34-A7C9-6DBE3E187001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../slides/slide2.xml"/><Relationship Id="rId3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Экономическая культу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Monotype Corsiva"/>
              </a:rPr>
              <a:t>Подготовила</a:t>
            </a:r>
            <a:r>
              <a:rPr b="1" lang="en-US" sz="1200" spc="-1" strike="noStrike">
                <a:solidFill>
                  <a:srgbClr val="002060"/>
                </a:solidFill>
                <a:latin typeface="Monotype Corsiva"/>
              </a:rPr>
              <a:t>:</a:t>
            </a:r>
            <a:r>
              <a:rPr b="1" lang="ru-RU" sz="1200" spc="-1" strike="noStrike">
                <a:solidFill>
                  <a:srgbClr val="002060"/>
                </a:solidFill>
                <a:latin typeface="Monotype Corsi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Monotype Corsiva"/>
              </a:rPr>
              <a:t>Коханова Анастас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Monotype Corsiva"/>
              </a:rPr>
              <a:t>ученица 10 «А»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Monotype Corsiva"/>
              </a:rPr>
              <a:t>МОУ «Лицей №18»    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2AE02-9E87-4D1D-B8D6-9DD7A93C449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76092"/>
                </a:solidFill>
                <a:latin typeface="Calibri"/>
              </a:rPr>
              <a:t>Пл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Экономическая культур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и структур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ой культур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е отношения и интерес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 свобода и социальная ответственност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чная экономик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ь экономической культуры и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A87F-C6A8-40B9-9FF0-1DB41A1AE37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номическая культ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9C7CA-DBFC-455F-9F75-67409DFFFD0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ущность и структура экономической куль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3C3E8-1FDA-474F-8257-C367D951CFD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лементы экономической куль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EB80-C430-4609-AA4B-F7F7060658E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Экономические отношения и интере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ff4fd"/>
                </a:solidFill>
                <a:latin typeface="Calibri"/>
              </a:rPr>
              <a:t>Экономические отношения - </a:t>
            </a:r>
            <a:r>
              <a:rPr b="0" lang="ru-RU" sz="1200" spc="-1" strike="noStrike">
                <a:solidFill>
                  <a:srgbClr val="aff4fd"/>
                </a:solidFill>
                <a:latin typeface="Calibri"/>
              </a:rPr>
              <a:t>отношения между людьми, возникающие по поводу обмена продуктами, результатами труда или оказания услуг, осуществляемые на основе сравнительной оценки их относительной ц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2D446-5636-4F73-8A69-EF78B470962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Экономическая свобода и социальная ответствен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37FFE-5D00-43F5-B1FC-716CF4A4A5B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00cc"/>
                </a:solidFill>
                <a:latin typeface="Calibri"/>
              </a:rPr>
              <a:t>Рыночн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ff"/>
                </a:solidFill>
                <a:latin typeface="Calibri"/>
              </a:rPr>
              <a:t>Недостатки</a:t>
            </a:r>
            <a:r>
              <a:rPr b="1" i="1" lang="en-US" sz="1200" spc="-1" strike="noStrike">
                <a:solidFill>
                  <a:srgbClr val="0066ff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83114"/>
                </a:solidFill>
                <a:latin typeface="Calibri"/>
              </a:rPr>
              <a:t>Конкуренция ведет к появлению монопол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83114"/>
                </a:solidFill>
                <a:latin typeface="Calibri"/>
              </a:rPr>
              <a:t>Нестабильность экономики: инфляция, экономический спад,безработиц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83114"/>
                </a:solidFill>
                <a:latin typeface="Calibri"/>
              </a:rPr>
              <a:t>Не равномерное распределение дохо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83114"/>
                </a:solidFill>
                <a:latin typeface="Calibri"/>
              </a:rPr>
              <a:t>Незаинтересованность в охране окружающей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ff"/>
                </a:solidFill>
                <a:latin typeface="Calibri"/>
              </a:rPr>
              <a:t>Достоинства</a:t>
            </a:r>
            <a:r>
              <a:rPr b="1" i="1" lang="en-US" sz="1200" spc="-1" strike="noStrike">
                <a:solidFill>
                  <a:srgbClr val="0066ff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Рынок быстро реагирует на изменение спроса со стороны потребит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Не возможен дефици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Свобода производителей и потребит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Высокие адаптационные возмож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D42AA-3D8A-42B3-B2D1-7762AB883E6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Связь экономической культуры и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3DCEF-DFBE-4985-B988-63E072FC017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D938-7EB6-4C1A-9F87-202E7A557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0B6C-D8E6-4135-84B1-69DB04DF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152F-7A9F-4C01-9B6A-69D48317B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6E43-C16E-494F-8953-8068F33A4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46383B-3773-4544-9C7E-47F409402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DAC099-9C4A-4321-9C1C-CA2A6C0A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7DDCFC-FA2D-4607-800A-7FD167326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F881B2-A373-4B2D-AF4E-98F4F4EA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5FD91A-8FDB-4785-B6A8-F5A5B60C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FBC2B6-6354-479F-A6B1-78B21276E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6D6808-17FC-4930-A991-F6D34389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5593-105B-4908-B5DF-E511FC79E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17A49A-ACB1-4196-A0C5-67C28F68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499AA5-30FF-4605-BA68-26EA5F6C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AABE43-C373-470B-AB51-E026229EA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3BCFB6-AEA7-4F9C-AFCA-D9D035708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DF8752-CC36-4D4A-9693-C30395297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37DC-742D-40FC-ABE1-63181E3B5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F67B-3871-477E-B154-331681397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9153-49A2-4626-A025-C087CB95A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A983-1861-4C0E-874D-28071A714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2902-CDF5-4A9E-8F09-B5858B0A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1AB5-152C-4EA0-8A81-82E13D20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0E73-8746-4740-A48F-2BAF61CD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66B05-5503-44B9-ABB2-56F6F4D439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97364-C6D1-4701-939A-5A812EFA7ED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slide6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7.xml"/><Relationship Id="rId11" Type="http://schemas.openxmlformats.org/officeDocument/2006/relationships/slide" Target="slide8.xml"/><Relationship Id="rId12" Type="http://schemas.openxmlformats.org/officeDocument/2006/relationships/slide" Target="slide8.xml"/><Relationship Id="rId13" Type="http://schemas.openxmlformats.org/officeDocument/2006/relationships/slide" Target="slide9.xml"/><Relationship Id="rId14" Type="http://schemas.openxmlformats.org/officeDocument/2006/relationships/slideLayout" Target="../slideLayouts/slideLayout13.xml"/><Relationship Id="rId1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00160" y="1071360"/>
            <a:ext cx="514368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ahoma"/>
              </a:rPr>
              <a:t>Экономическая культура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57520" y="3857400"/>
            <a:ext cx="34002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</a:rPr>
              <a:t>Подготовила</a:t>
            </a:r>
            <a:r>
              <a:rPr b="1" lang="en-US" sz="2800" spc="-1" strike="noStrike">
                <a:solidFill>
                  <a:srgbClr val="002060"/>
                </a:solidFill>
                <a:latin typeface="Monotype Corsiva"/>
              </a:rPr>
              <a:t>:</a:t>
            </a:r>
            <a:r>
              <a:rPr b="1" lang="ru-RU" sz="2800" spc="-1" strike="noStrike">
                <a:solidFill>
                  <a:srgbClr val="00206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06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</a:rPr>
              <a:t>Коханова Анастасия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06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</a:rPr>
              <a:t>ученица 10 «А» клас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06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</a:rPr>
              <a:t>МОУ «Лицей №18»     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ahoma"/>
              </a:rPr>
              <a:t>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d0dff"/>
                </a:solidFill>
                <a:latin typeface="Tahoma"/>
              </a:rPr>
              <a:t>План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13840" y="714240"/>
            <a:ext cx="89298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3300"/>
                </a:solidFill>
                <a:uFillTx/>
                <a:latin typeface="Tahoma"/>
                <a:hlinkClick r:id="rId1" action="ppaction://hlinksldjump"/>
              </a:rPr>
              <a:t>Экономическая культура</a:t>
            </a:r>
            <a:r>
              <a:rPr b="0" lang="en-US" sz="3600" spc="-1" strike="noStrike" u="sng">
                <a:solidFill>
                  <a:srgbClr val="ff3300"/>
                </a:solidFill>
                <a:uFillTx/>
                <a:latin typeface="Tahoma"/>
                <a:hlinkClick r:id="rId2" action="ppaction://hlinksldjump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3300"/>
                </a:solidFill>
                <a:uFillTx/>
                <a:latin typeface="Tahoma"/>
                <a:hlinkClick r:id="rId3" action="ppaction://hlinksldjump"/>
              </a:rPr>
              <a:t>Сущность и структура</a:t>
            </a:r>
            <a:r>
              <a:rPr b="0" lang="en-US" sz="3600" spc="-1" strike="noStrike" u="sng">
                <a:solidFill>
                  <a:srgbClr val="ff3300"/>
                </a:solidFill>
                <a:uFillTx/>
                <a:latin typeface="Tahoma"/>
                <a:hlinkClick r:id="rId4" action="ppaction://hlinksldjump"/>
              </a:rPr>
              <a:t> </a:t>
            </a:r>
            <a:r>
              <a:rPr b="0" lang="ru-RU" sz="3600" spc="-1" strike="noStrike" u="sng">
                <a:solidFill>
                  <a:srgbClr val="ff3300"/>
                </a:solidFill>
                <a:uFillTx/>
                <a:latin typeface="Tahoma"/>
                <a:hlinkClick r:id="rId5" action="ppaction://hlinksldjump"/>
              </a:rPr>
              <a:t>экономической культуры</a:t>
            </a:r>
            <a:r>
              <a:rPr b="0" lang="en-US" sz="3600" spc="-1" strike="noStrike" u="sng">
                <a:solidFill>
                  <a:srgbClr val="ff3300"/>
                </a:solidFill>
                <a:uFillTx/>
                <a:latin typeface="Tahoma"/>
                <a:hlinkClick r:id="rId6" action="ppaction://hlinksldjump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3300"/>
                </a:solidFill>
                <a:uFillTx/>
                <a:latin typeface="Tahoma"/>
                <a:hlinkClick r:id="rId7" action="ppaction://hlinksldjump"/>
              </a:rPr>
              <a:t>Экономические отношения и интересы</a:t>
            </a:r>
            <a:r>
              <a:rPr b="0" lang="en-US" sz="3600" spc="-1" strike="noStrike" u="sng">
                <a:solidFill>
                  <a:srgbClr val="ff3300"/>
                </a:solidFill>
                <a:uFillTx/>
                <a:latin typeface="Tahoma"/>
                <a:hlinkClick r:id="rId8" action="ppaction://hlinksldjump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3300"/>
                </a:solidFill>
                <a:uFillTx/>
                <a:latin typeface="Tahoma"/>
                <a:hlinkClick r:id="rId9" action="ppaction://hlinksldjump"/>
              </a:rPr>
              <a:t>Экономическая свобода и социальная ответственность</a:t>
            </a:r>
            <a:r>
              <a:rPr b="0" lang="en-US" sz="3600" spc="-1" strike="noStrike" u="sng">
                <a:solidFill>
                  <a:srgbClr val="ff3300"/>
                </a:solidFill>
                <a:uFillTx/>
                <a:latin typeface="Tahoma"/>
                <a:hlinkClick r:id="rId10" action="ppaction://hlinksldjump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3300"/>
                </a:solidFill>
                <a:uFillTx/>
                <a:latin typeface="Tahoma"/>
                <a:hlinkClick r:id="rId11" action="ppaction://hlinksldjump"/>
              </a:rPr>
              <a:t>Рыночная экономика</a:t>
            </a:r>
            <a:r>
              <a:rPr b="0" lang="en-US" sz="3600" spc="-1" strike="noStrike" u="sng">
                <a:solidFill>
                  <a:srgbClr val="ff3300"/>
                </a:solidFill>
                <a:uFillTx/>
                <a:latin typeface="Tahoma"/>
                <a:hlinkClick r:id="rId12" action="ppaction://hlinksldjump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3300"/>
                </a:solidFill>
                <a:uFillTx/>
                <a:latin typeface="Tahoma"/>
                <a:hlinkClick r:id="rId13" action="ppaction://hlinksldjump"/>
              </a:rPr>
              <a:t>Связь экономической культуры и деятельност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5"/>
          <p:cNvSpPr/>
          <p:nvPr/>
        </p:nvSpPr>
        <p:spPr>
          <a:xfrm>
            <a:off x="0" y="285840"/>
            <a:ext cx="88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Экономическая культу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Прямоугольник 5"/>
          <p:cNvSpPr/>
          <p:nvPr/>
        </p:nvSpPr>
        <p:spPr>
          <a:xfrm>
            <a:off x="2214720" y="928800"/>
            <a:ext cx="4286160" cy="64296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Экономическая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ультур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Овал 6"/>
          <p:cNvSpPr/>
          <p:nvPr/>
        </p:nvSpPr>
        <p:spPr>
          <a:xfrm>
            <a:off x="214200" y="1857240"/>
            <a:ext cx="2928960" cy="92880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dc"/>
                </a:solidFill>
                <a:latin typeface="Tahoma"/>
              </a:rPr>
              <a:t>Экономическая культура общест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Овал 7"/>
          <p:cNvSpPr/>
          <p:nvPr/>
        </p:nvSpPr>
        <p:spPr>
          <a:xfrm>
            <a:off x="5643720" y="1928880"/>
            <a:ext cx="2928960" cy="92880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dc"/>
                </a:solidFill>
                <a:latin typeface="Tahoma"/>
              </a:rPr>
              <a:t>Экономическая культура личн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00" name="Прямая со стрелкой 9"/>
          <p:cNvCxnSpPr>
            <a:stCxn id="97" idx="2"/>
            <a:endCxn id="99" idx="0"/>
          </p:cNvCxnSpPr>
          <p:nvPr/>
        </p:nvCxnSpPr>
        <p:spPr>
          <a:xfrm>
            <a:off x="4357800" y="1571760"/>
            <a:ext cx="2751840" cy="357840"/>
          </a:xfrm>
          <a:prstGeom prst="straightConnector1">
            <a:avLst/>
          </a:prstGeom>
          <a:ln w="25560">
            <a:solidFill>
              <a:srgbClr val="6666ff"/>
            </a:solidFill>
            <a:miter/>
            <a:tailEnd len="med" type="arrow" w="med"/>
          </a:ln>
        </p:spPr>
      </p:cxnSp>
      <p:cxnSp>
        <p:nvCxnSpPr>
          <p:cNvPr id="101" name="Прямая со стрелкой 12"/>
          <p:cNvCxnSpPr>
            <a:stCxn id="97" idx="2"/>
            <a:endCxn id="98" idx="0"/>
          </p:cNvCxnSpPr>
          <p:nvPr/>
        </p:nvCxnSpPr>
        <p:spPr>
          <a:xfrm flipH="1">
            <a:off x="1677600" y="1571400"/>
            <a:ext cx="2680560" cy="286200"/>
          </a:xfrm>
          <a:prstGeom prst="straightConnector1">
            <a:avLst/>
          </a:prstGeom>
          <a:ln w="25560">
            <a:solidFill>
              <a:srgbClr val="6666ff"/>
            </a:solidFill>
            <a:miter/>
            <a:tailEnd len="med" type="arrow" w="med"/>
          </a:ln>
        </p:spPr>
      </p:cxnSp>
      <p:sp>
        <p:nvSpPr>
          <p:cNvPr id="102" name="Скругленный прямоугольник 15"/>
          <p:cNvSpPr/>
          <p:nvPr/>
        </p:nvSpPr>
        <p:spPr>
          <a:xfrm>
            <a:off x="142920" y="2928960"/>
            <a:ext cx="3143160" cy="3643200"/>
          </a:xfrm>
          <a:custGeom>
            <a:avLst/>
            <a:gdLst>
              <a:gd name="textAreaLeft" fmla="*/ 153360 w 3143160"/>
              <a:gd name="textAreaRight" fmla="*/ 2989800 w 3143160"/>
              <a:gd name="textAreaTop" fmla="*/ 153360 h 3643200"/>
              <a:gd name="textAreaBottom" fmla="*/ 3489840 h 3643200"/>
            </a:gdLst>
            <a:ahLst/>
            <a:rect l="textAreaLeft" t="textAreaTop" r="textAreaRight" b="textAreaBottom"/>
            <a:pathLst>
              <a:path w="21600" h="25036">
                <a:moveTo>
                  <a:pt x="3600" y="0"/>
                </a:moveTo>
                <a:arcTo wR="3600" hR="3600" stAng="16200000" swAng="-5400000"/>
                <a:lnTo>
                  <a:pt x="0" y="21436"/>
                </a:lnTo>
                <a:arcTo wR="3600" hR="3600" stAng="10800000" swAng="-5400000"/>
                <a:lnTo>
                  <a:pt x="18000" y="250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6c8ff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 Narrow"/>
              </a:rPr>
              <a:t>Система ценностей и мотивов хозяйственной деятельности</a:t>
            </a:r>
            <a:r>
              <a:rPr b="1" lang="en-US" sz="2000" spc="-1" strike="noStrike">
                <a:solidFill>
                  <a:srgbClr val="002060"/>
                </a:solidFill>
                <a:latin typeface="Arial Narro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 Narrow"/>
              </a:rPr>
              <a:t>Уровень и качество экономических знаний</a:t>
            </a:r>
            <a:r>
              <a:rPr b="1" lang="en-US" sz="2000" spc="-1" strike="noStrike">
                <a:solidFill>
                  <a:srgbClr val="002060"/>
                </a:solidFill>
                <a:latin typeface="Arial Narrow"/>
              </a:rPr>
              <a:t>;</a:t>
            </a:r>
            <a:r>
              <a:rPr b="1" lang="ru-RU" sz="2000" spc="-1" strike="noStrike">
                <a:solidFill>
                  <a:srgbClr val="002060"/>
                </a:solidFill>
                <a:latin typeface="Arial Narrow"/>
              </a:rPr>
              <a:t> оценок и действий человека</a:t>
            </a:r>
            <a:r>
              <a:rPr b="1" lang="en-US" sz="2000" spc="-1" strike="noStrike">
                <a:solidFill>
                  <a:srgbClr val="002060"/>
                </a:solidFill>
                <a:latin typeface="Arial Narro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 Narrow"/>
              </a:rPr>
              <a:t>Содержание традиций и норм, регулирующих экономические отношения и поведени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Скругленный прямоугольник 16"/>
          <p:cNvSpPr/>
          <p:nvPr/>
        </p:nvSpPr>
        <p:spPr>
          <a:xfrm>
            <a:off x="5286240" y="3143160"/>
            <a:ext cx="3643560" cy="857520"/>
          </a:xfrm>
          <a:prstGeom prst="roundRect">
            <a:avLst>
              <a:gd name="adj" fmla="val 16667"/>
            </a:avLst>
          </a:prstGeom>
          <a:solidFill>
            <a:srgbClr val="b6c8ff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 Narrow"/>
              </a:rPr>
              <a:t>Сознание</a:t>
            </a:r>
            <a:r>
              <a:rPr b="1" lang="en-US" sz="2000" spc="-1" strike="noStrike">
                <a:solidFill>
                  <a:srgbClr val="002060"/>
                </a:solidFill>
                <a:latin typeface="Arial Narro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 Narrow"/>
              </a:rPr>
              <a:t>Практическая</a:t>
            </a:r>
            <a:r>
              <a:rPr b="1" lang="en-US" sz="2000" spc="-1" strike="noStrike">
                <a:solidFill>
                  <a:srgbClr val="00206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 Narrow"/>
              </a:rPr>
              <a:t>деятельнос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Управляющая кнопка: домой 10">
            <a:hlinkClick r:id="rId1" action="ppaction://hlinksldjump"/>
          </p:cNvPr>
          <p:cNvSpPr/>
          <p:nvPr/>
        </p:nvSpPr>
        <p:spPr>
          <a:xfrm>
            <a:off x="8072280" y="6000840"/>
            <a:ext cx="714600" cy="642960"/>
          </a:xfrm>
          <a:custGeom>
            <a:avLst/>
            <a:gdLst>
              <a:gd name="textAreaLeft" fmla="*/ 41400 w 714600"/>
              <a:gd name="textAreaRight" fmla="*/ 673200 w 71460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4005" h="21600">
                <a:moveTo>
                  <a:pt x="0" y="0"/>
                </a:moveTo>
                <a:lnTo>
                  <a:pt x="24005" y="0"/>
                </a:lnTo>
                <a:lnTo>
                  <a:pt x="24005" y="21600"/>
                </a:lnTo>
                <a:lnTo>
                  <a:pt x="0" y="21600"/>
                </a:lnTo>
                <a:close/>
              </a:path>
              <a:path fill="lightenLess" w="24005" h="21600">
                <a:moveTo>
                  <a:pt x="0" y="0"/>
                </a:moveTo>
                <a:lnTo>
                  <a:pt x="24005" y="0"/>
                </a:lnTo>
                <a:lnTo>
                  <a:pt x="22605" y="1400"/>
                </a:lnTo>
                <a:lnTo>
                  <a:pt x="1400" y="1400"/>
                </a:lnTo>
                <a:close/>
              </a:path>
              <a:path fill="darken" w="24005" h="21600">
                <a:moveTo>
                  <a:pt x="24005" y="0"/>
                </a:moveTo>
                <a:lnTo>
                  <a:pt x="24005" y="21600"/>
                </a:lnTo>
                <a:lnTo>
                  <a:pt x="22605" y="20200"/>
                </a:lnTo>
                <a:lnTo>
                  <a:pt x="22605" y="1400"/>
                </a:lnTo>
                <a:close/>
              </a:path>
              <a:path fill="darkenLess" w="24005" h="21600">
                <a:moveTo>
                  <a:pt x="24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5" y="20200"/>
                </a:lnTo>
                <a:close/>
              </a:path>
              <a:path fill="lighten" w="24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5" h="21600">
                <a:moveTo>
                  <a:pt x="12003" y="3837"/>
                </a:moveTo>
                <a:lnTo>
                  <a:pt x="14579" y="6448"/>
                </a:lnTo>
                <a:lnTo>
                  <a:pt x="14579" y="4707"/>
                </a:lnTo>
                <a:lnTo>
                  <a:pt x="16355" y="4707"/>
                </a:lnTo>
                <a:lnTo>
                  <a:pt x="16355" y="8224"/>
                </a:lnTo>
                <a:lnTo>
                  <a:pt x="18966" y="10800"/>
                </a:lnTo>
                <a:lnTo>
                  <a:pt x="17312" y="10800"/>
                </a:lnTo>
                <a:lnTo>
                  <a:pt x="17312" y="17989"/>
                </a:lnTo>
                <a:lnTo>
                  <a:pt x="6693" y="17989"/>
                </a:lnTo>
                <a:lnTo>
                  <a:pt x="6693" y="10800"/>
                </a:lnTo>
                <a:lnTo>
                  <a:pt x="5040" y="10800"/>
                </a:lnTo>
                <a:close/>
              </a:path>
              <a:path fill="darkenLess" w="24005" h="21600">
                <a:moveTo>
                  <a:pt x="14579" y="6448"/>
                </a:moveTo>
                <a:lnTo>
                  <a:pt x="14579" y="4707"/>
                </a:lnTo>
                <a:lnTo>
                  <a:pt x="16355" y="4707"/>
                </a:lnTo>
                <a:lnTo>
                  <a:pt x="16355" y="8224"/>
                </a:lnTo>
                <a:close/>
              </a:path>
              <a:path fill="darkenLess" w="24005" h="21600">
                <a:moveTo>
                  <a:pt x="11080" y="14299"/>
                </a:moveTo>
                <a:lnTo>
                  <a:pt x="12925" y="14299"/>
                </a:lnTo>
                <a:lnTo>
                  <a:pt x="12925" y="17989"/>
                </a:lnTo>
                <a:lnTo>
                  <a:pt x="17312" y="17989"/>
                </a:lnTo>
                <a:lnTo>
                  <a:pt x="17312" y="10800"/>
                </a:lnTo>
                <a:lnTo>
                  <a:pt x="6693" y="10800"/>
                </a:lnTo>
                <a:lnTo>
                  <a:pt x="6693" y="17989"/>
                </a:lnTo>
                <a:lnTo>
                  <a:pt x="11080" y="17989"/>
                </a:lnTo>
                <a:close/>
              </a:path>
            </a:pathLst>
          </a:custGeom>
          <a:solidFill>
            <a:srgbClr val="66ffff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Сущность и структура экономической культур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AutoShape 7"/>
          <p:cNvSpPr/>
          <p:nvPr/>
        </p:nvSpPr>
        <p:spPr>
          <a:xfrm>
            <a:off x="2143080" y="2500200"/>
            <a:ext cx="4000680" cy="35085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e8eff"/>
              </a:gs>
              <a:gs pos="100000">
                <a:srgbClr val="ddddff"/>
              </a:gs>
            </a:gsLst>
            <a:lin ang="16200000"/>
          </a:gradFill>
          <a:ln w="9360">
            <a:solidFill>
              <a:srgbClr val="6060f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Line 8"/>
          <p:cNvSpPr/>
          <p:nvPr/>
        </p:nvSpPr>
        <p:spPr>
          <a:xfrm>
            <a:off x="4140360" y="2492280"/>
            <a:ext cx="228888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Line 9"/>
          <p:cNvSpPr/>
          <p:nvPr/>
        </p:nvSpPr>
        <p:spPr>
          <a:xfrm flipH="1">
            <a:off x="6143400" y="3429000"/>
            <a:ext cx="285480" cy="258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Line 12"/>
          <p:cNvSpPr/>
          <p:nvPr/>
        </p:nvSpPr>
        <p:spPr>
          <a:xfrm flipH="1">
            <a:off x="2428920" y="2492280"/>
            <a:ext cx="1711440" cy="179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Line 10"/>
          <p:cNvSpPr/>
          <p:nvPr/>
        </p:nvSpPr>
        <p:spPr>
          <a:xfrm flipV="1">
            <a:off x="2143080" y="4285800"/>
            <a:ext cx="285840" cy="171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Line 17"/>
          <p:cNvSpPr/>
          <p:nvPr/>
        </p:nvSpPr>
        <p:spPr>
          <a:xfrm flipH="1">
            <a:off x="3850920" y="263700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Line 18"/>
          <p:cNvSpPr/>
          <p:nvPr/>
        </p:nvSpPr>
        <p:spPr>
          <a:xfrm>
            <a:off x="3851280" y="29242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Line 19"/>
          <p:cNvSpPr/>
          <p:nvPr/>
        </p:nvSpPr>
        <p:spPr>
          <a:xfrm flipH="1">
            <a:off x="4355640" y="2637000"/>
            <a:ext cx="71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Line 20"/>
          <p:cNvSpPr/>
          <p:nvPr/>
        </p:nvSpPr>
        <p:spPr>
          <a:xfrm flipH="1">
            <a:off x="4142880" y="1857240"/>
            <a:ext cx="1000440" cy="635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Box 23"/>
          <p:cNvSpPr/>
          <p:nvPr/>
        </p:nvSpPr>
        <p:spPr>
          <a:xfrm>
            <a:off x="4637520" y="157176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Tahoma"/>
              </a:rPr>
              <a:t>Норм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ext Box 16"/>
          <p:cNvSpPr/>
          <p:nvPr/>
        </p:nvSpPr>
        <p:spPr>
          <a:xfrm rot="3463800">
            <a:off x="4381560" y="370512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Способы организационной деятельност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TextBox 26"/>
          <p:cNvSpPr/>
          <p:nvPr/>
        </p:nvSpPr>
        <p:spPr>
          <a:xfrm>
            <a:off x="2714760" y="5000760"/>
            <a:ext cx="292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99"/>
                </a:solidFill>
                <a:latin typeface="Tahoma"/>
              </a:rPr>
              <a:t>Экономическ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99"/>
                </a:solidFill>
                <a:latin typeface="Tahoma"/>
              </a:rPr>
              <a:t>направленн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16"/>
          <p:cNvSpPr/>
          <p:nvPr/>
        </p:nvSpPr>
        <p:spPr>
          <a:xfrm rot="17933400">
            <a:off x="1724040" y="3922560"/>
            <a:ext cx="2504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Знания + практические ум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0" name="Управляющая кнопка: далее 15"/>
          <p:cNvGrpSpPr/>
          <p:nvPr/>
        </p:nvGrpSpPr>
        <p:grpSpPr>
          <a:xfrm>
            <a:off x="8016840" y="5967360"/>
            <a:ext cx="822240" cy="682560"/>
            <a:chOff x="8016840" y="5967360"/>
            <a:chExt cx="822240" cy="682560"/>
          </a:xfrm>
        </p:grpSpPr>
        <p:pic>
          <p:nvPicPr>
            <p:cNvPr id="121" name="Управляющая кнопка: далее 1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8016840" y="5967360"/>
              <a:ext cx="82224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8072280" y="6000840"/>
              <a:ext cx="7146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3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5840" y="291600"/>
            <a:ext cx="840096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Элементы экономической культур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Скругленный прямоугольник 4"/>
          <p:cNvSpPr/>
          <p:nvPr/>
        </p:nvSpPr>
        <p:spPr>
          <a:xfrm>
            <a:off x="214200" y="1214280"/>
            <a:ext cx="2857680" cy="271476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Экономические знания -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овокупность представлений о производстве, обмене, распределении и потреблении материальных благ, влиянии экономической жизни на развитие обществ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Скругленный прямоугольник 5"/>
          <p:cNvSpPr/>
          <p:nvPr/>
        </p:nvSpPr>
        <p:spPr>
          <a:xfrm>
            <a:off x="2928960" y="4000680"/>
            <a:ext cx="2643120" cy="2571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Tahoma"/>
              </a:rPr>
              <a:t>Экономическое мышление - </a:t>
            </a:r>
            <a:r>
              <a:rPr b="0" lang="ru-RU" sz="1600" spc="-1" strike="noStrike">
                <a:solidFill>
                  <a:srgbClr val="00b050"/>
                </a:solidFill>
                <a:latin typeface="Tahoma"/>
              </a:rPr>
              <a:t>познание сущности экономических явлений и процессов, оперирование усвоенными понятиями, анализ экономических ситуаци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7" name="Скругленный прямоугольник 6"/>
          <p:cNvGrpSpPr/>
          <p:nvPr/>
        </p:nvGrpSpPr>
        <p:grpSpPr>
          <a:xfrm>
            <a:off x="5303880" y="1316160"/>
            <a:ext cx="3181320" cy="1787400"/>
            <a:chOff x="5303880" y="1316160"/>
            <a:chExt cx="3181320" cy="1787400"/>
          </a:xfrm>
        </p:grpSpPr>
        <p:pic>
          <p:nvPicPr>
            <p:cNvPr id="128" name="Скругленный прямоугольник 6" descr=""/>
            <p:cNvPicPr/>
            <p:nvPr/>
          </p:nvPicPr>
          <p:blipFill>
            <a:blip r:embed="rId1"/>
            <a:stretch/>
          </p:blipFill>
          <p:spPr>
            <a:xfrm>
              <a:off x="5303880" y="1316160"/>
              <a:ext cx="3181320" cy="178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5433840" y="1433520"/>
              <a:ext cx="2919600" cy="14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00"/>
                  </a:solidFill>
                  <a:latin typeface="Tahoma"/>
                </a:rPr>
                <a:t>Экономическая направленность - 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Tahoma"/>
                </a:rPr>
                <a:t>потребности, интересы и мотивы деятельности человека в экономической сфере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0" name="TextBox 8"/>
          <p:cNvSpPr/>
          <p:nvPr/>
        </p:nvSpPr>
        <p:spPr>
          <a:xfrm>
            <a:off x="4857840" y="3214800"/>
            <a:ext cx="192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Социальная установ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Box 9"/>
          <p:cNvSpPr/>
          <p:nvPr/>
        </p:nvSpPr>
        <p:spPr>
          <a:xfrm>
            <a:off x="6429240" y="3214800"/>
            <a:ext cx="271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Социально</a:t>
            </a: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значимые</a:t>
            </a: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цен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32" name="Прямая со стрелкой 11"/>
          <p:cNvCxnSpPr>
            <a:endCxn id="131" idx="0"/>
          </p:cNvCxnSpPr>
          <p:nvPr/>
        </p:nvCxnSpPr>
        <p:spPr>
          <a:xfrm>
            <a:off x="6893280" y="2928960"/>
            <a:ext cx="893160" cy="286560"/>
          </a:xfrm>
          <a:prstGeom prst="straightConnector1">
            <a:avLst/>
          </a:prstGeom>
          <a:ln w="38160">
            <a:solidFill>
              <a:srgbClr val="9999ff"/>
            </a:solidFill>
            <a:miter/>
            <a:tailEnd len="med" type="triangle" w="med"/>
          </a:ln>
        </p:spPr>
      </p:cxnSp>
      <p:cxnSp>
        <p:nvCxnSpPr>
          <p:cNvPr id="133" name="Прямая со стрелкой 14"/>
          <p:cNvCxnSpPr>
            <a:endCxn id="130" idx="0"/>
          </p:cNvCxnSpPr>
          <p:nvPr/>
        </p:nvCxnSpPr>
        <p:spPr>
          <a:xfrm flipH="1">
            <a:off x="5822640" y="2928960"/>
            <a:ext cx="1072080" cy="286560"/>
          </a:xfrm>
          <a:prstGeom prst="straightConnector1">
            <a:avLst/>
          </a:prstGeom>
          <a:ln w="38160">
            <a:solidFill>
              <a:srgbClr val="9999ff"/>
            </a:solidFill>
            <a:miter/>
            <a:tailEnd len="med" type="triangle" w="med"/>
          </a:ln>
        </p:spPr>
      </p:cxnSp>
      <p:cxnSp>
        <p:nvCxnSpPr>
          <p:cNvPr id="134" name="Прямая со стрелкой 17"/>
          <p:cNvCxnSpPr>
            <a:stCxn id="124" idx="2"/>
            <a:endCxn id="125" idx="0"/>
          </p:cNvCxnSpPr>
          <p:nvPr/>
        </p:nvCxnSpPr>
        <p:spPr>
          <a:xfrm flipH="1">
            <a:off x="1642680" y="999720"/>
            <a:ext cx="2844000" cy="214920"/>
          </a:xfrm>
          <a:prstGeom prst="straightConnector1">
            <a:avLst/>
          </a:prstGeom>
          <a:ln w="25560">
            <a:solidFill>
              <a:srgbClr val="6666ff"/>
            </a:solidFill>
            <a:miter/>
            <a:tailEnd len="med" type="arrow" w="med"/>
          </a:ln>
        </p:spPr>
      </p:cxnSp>
      <p:cxnSp>
        <p:nvCxnSpPr>
          <p:cNvPr id="135" name="Прямая со стрелкой 20"/>
          <p:cNvCxnSpPr>
            <a:stCxn id="124" idx="2"/>
          </p:cNvCxnSpPr>
          <p:nvPr/>
        </p:nvCxnSpPr>
        <p:spPr>
          <a:xfrm>
            <a:off x="4485240" y="1000080"/>
            <a:ext cx="2408760" cy="357840"/>
          </a:xfrm>
          <a:prstGeom prst="straightConnector1">
            <a:avLst/>
          </a:prstGeom>
          <a:ln w="25560">
            <a:solidFill>
              <a:srgbClr val="6666ff"/>
            </a:solidFill>
            <a:miter/>
            <a:tailEnd len="med" type="arrow" w="med"/>
          </a:ln>
        </p:spPr>
      </p:cxnSp>
      <p:cxnSp>
        <p:nvCxnSpPr>
          <p:cNvPr id="136" name="Прямая со стрелкой 23"/>
          <p:cNvCxnSpPr>
            <a:stCxn id="124" idx="2"/>
            <a:endCxn id="126" idx="0"/>
          </p:cNvCxnSpPr>
          <p:nvPr/>
        </p:nvCxnSpPr>
        <p:spPr>
          <a:xfrm flipH="1">
            <a:off x="4249080" y="999720"/>
            <a:ext cx="237240" cy="3001320"/>
          </a:xfrm>
          <a:prstGeom prst="straightConnector1">
            <a:avLst/>
          </a:prstGeom>
          <a:ln w="25560">
            <a:solidFill>
              <a:srgbClr val="6666ff"/>
            </a:solidFill>
            <a:miter/>
            <a:tailEnd len="med" type="arrow" w="med"/>
          </a:ln>
        </p:spPr>
      </p:cxnSp>
      <p:sp>
        <p:nvSpPr>
          <p:cNvPr id="137" name="Управляющая кнопка: домой 12">
            <a:hlinkClick r:id="rId2" action="ppaction://hlinksldjump"/>
          </p:cNvPr>
          <p:cNvSpPr/>
          <p:nvPr/>
        </p:nvSpPr>
        <p:spPr>
          <a:xfrm>
            <a:off x="8143920" y="6000840"/>
            <a:ext cx="714240" cy="642960"/>
          </a:xfrm>
          <a:custGeom>
            <a:avLst/>
            <a:gdLst>
              <a:gd name="textAreaLeft" fmla="*/ 41400 w 714240"/>
              <a:gd name="textAreaRight" fmla="*/ 672840 w 71424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3993" h="21600">
                <a:moveTo>
                  <a:pt x="0" y="0"/>
                </a:moveTo>
                <a:lnTo>
                  <a:pt x="23993" y="0"/>
                </a:lnTo>
                <a:lnTo>
                  <a:pt x="23993" y="21600"/>
                </a:lnTo>
                <a:lnTo>
                  <a:pt x="0" y="21600"/>
                </a:lnTo>
                <a:close/>
              </a:path>
              <a:path fill="lightenLess" w="23993" h="21600">
                <a:moveTo>
                  <a:pt x="0" y="0"/>
                </a:moveTo>
                <a:lnTo>
                  <a:pt x="23993" y="0"/>
                </a:lnTo>
                <a:lnTo>
                  <a:pt x="22593" y="1400"/>
                </a:lnTo>
                <a:lnTo>
                  <a:pt x="1400" y="1400"/>
                </a:lnTo>
                <a:close/>
              </a:path>
              <a:path fill="darken" w="23993" h="21600">
                <a:moveTo>
                  <a:pt x="23993" y="0"/>
                </a:moveTo>
                <a:lnTo>
                  <a:pt x="23993" y="21600"/>
                </a:lnTo>
                <a:lnTo>
                  <a:pt x="22593" y="20200"/>
                </a:lnTo>
                <a:lnTo>
                  <a:pt x="22593" y="1400"/>
                </a:lnTo>
                <a:close/>
              </a:path>
              <a:path fill="darkenLess" w="23993" h="21600">
                <a:moveTo>
                  <a:pt x="23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3" y="20200"/>
                </a:lnTo>
                <a:close/>
              </a:path>
              <a:path fill="lighten" w="23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3" h="21600">
                <a:moveTo>
                  <a:pt x="11997" y="3837"/>
                </a:moveTo>
                <a:lnTo>
                  <a:pt x="14573" y="6448"/>
                </a:lnTo>
                <a:lnTo>
                  <a:pt x="14573" y="4707"/>
                </a:lnTo>
                <a:lnTo>
                  <a:pt x="16348" y="4707"/>
                </a:lnTo>
                <a:lnTo>
                  <a:pt x="16348" y="8224"/>
                </a:lnTo>
                <a:lnTo>
                  <a:pt x="18960" y="10800"/>
                </a:lnTo>
                <a:lnTo>
                  <a:pt x="17306" y="10800"/>
                </a:lnTo>
                <a:lnTo>
                  <a:pt x="17306" y="17989"/>
                </a:lnTo>
                <a:lnTo>
                  <a:pt x="6687" y="17989"/>
                </a:lnTo>
                <a:lnTo>
                  <a:pt x="6687" y="10800"/>
                </a:lnTo>
                <a:lnTo>
                  <a:pt x="5034" y="10800"/>
                </a:lnTo>
                <a:close/>
              </a:path>
              <a:path fill="darkenLess" w="23993" h="21600">
                <a:moveTo>
                  <a:pt x="14573" y="6448"/>
                </a:moveTo>
                <a:lnTo>
                  <a:pt x="14573" y="4707"/>
                </a:lnTo>
                <a:lnTo>
                  <a:pt x="16348" y="4707"/>
                </a:lnTo>
                <a:lnTo>
                  <a:pt x="16348" y="8224"/>
                </a:lnTo>
                <a:close/>
              </a:path>
              <a:path fill="darkenLess" w="23993" h="21600">
                <a:moveTo>
                  <a:pt x="11074" y="14299"/>
                </a:moveTo>
                <a:lnTo>
                  <a:pt x="12919" y="14299"/>
                </a:lnTo>
                <a:lnTo>
                  <a:pt x="12919" y="17989"/>
                </a:lnTo>
                <a:lnTo>
                  <a:pt x="17306" y="17989"/>
                </a:lnTo>
                <a:lnTo>
                  <a:pt x="17306" y="10800"/>
                </a:lnTo>
                <a:lnTo>
                  <a:pt x="6687" y="10800"/>
                </a:lnTo>
                <a:lnTo>
                  <a:pt x="6687" y="17989"/>
                </a:lnTo>
                <a:lnTo>
                  <a:pt x="11074" y="17989"/>
                </a:lnTo>
                <a:close/>
              </a:path>
            </a:pathLst>
          </a:custGeom>
          <a:solidFill>
            <a:srgbClr val="66ff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Экономические отношения и интерес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0" name="Скругленный прямоугольник 4"/>
          <p:cNvGrpSpPr/>
          <p:nvPr/>
        </p:nvGrpSpPr>
        <p:grpSpPr>
          <a:xfrm>
            <a:off x="1085760" y="987480"/>
            <a:ext cx="6637320" cy="1731960"/>
            <a:chOff x="1085760" y="987480"/>
            <a:chExt cx="6637320" cy="1731960"/>
          </a:xfrm>
        </p:grpSpPr>
        <p:pic>
          <p:nvPicPr>
            <p:cNvPr id="141" name="Скругленный 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1085760" y="987480"/>
              <a:ext cx="663732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1212840" y="1141560"/>
              <a:ext cx="6361200" cy="12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aff4fd"/>
                  </a:solidFill>
                  <a:latin typeface="Tahoma"/>
                </a:rPr>
                <a:t>Экономические отношения - </a:t>
              </a:r>
              <a:r>
                <a:rPr b="0" lang="ru-RU" sz="1800" spc="-1" strike="noStrike">
                  <a:solidFill>
                    <a:srgbClr val="aff4fd"/>
                  </a:solidFill>
                  <a:latin typeface="Tahoma"/>
                </a:rPr>
                <a:t>отношения между людьми, возникающие по поводу обмена продуктами, результатами труда или оказания услуг, осуществляемые на основе сравнительной оценки их относительной ценности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3" name="Параллелограмм 8"/>
          <p:cNvSpPr/>
          <p:nvPr/>
        </p:nvSpPr>
        <p:spPr>
          <a:xfrm>
            <a:off x="214200" y="3000240"/>
            <a:ext cx="2714760" cy="1000440"/>
          </a:xfrm>
          <a:prstGeom prst="parallelogram">
            <a:avLst>
              <a:gd name="adj" fmla="val 24987"/>
            </a:avLst>
          </a:prstGeom>
          <a:solidFill>
            <a:srgbClr val="b8b8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a0aff"/>
                </a:solidFill>
                <a:latin typeface="Tahoma"/>
              </a:rPr>
              <a:t>Получение прибыл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Трапеция 10"/>
          <p:cNvSpPr/>
          <p:nvPr/>
        </p:nvSpPr>
        <p:spPr>
          <a:xfrm>
            <a:off x="2714760" y="4000680"/>
            <a:ext cx="3071520" cy="1071360"/>
          </a:xfrm>
          <a:prstGeom prst="pie">
            <a:avLst/>
          </a:prstGeom>
          <a:gradFill rotWithShape="0">
            <a:gsLst>
              <a:gs pos="0">
                <a:srgbClr val="bed4ff"/>
              </a:gs>
              <a:gs pos="100000">
                <a:srgbClr val="eaf1ff"/>
              </a:gs>
            </a:gsLst>
            <a:lin ang="16200000"/>
          </a:gradFill>
          <a:ln w="9360">
            <a:solidFill>
              <a:srgbClr val="b0c3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a0aff"/>
                </a:solidFill>
                <a:latin typeface="Tahoma"/>
              </a:rPr>
              <a:t>Удовлетвор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a0aff"/>
                </a:solidFill>
                <a:latin typeface="Tahoma"/>
              </a:rPr>
              <a:t>потребност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Параллелограмм 11"/>
          <p:cNvSpPr/>
          <p:nvPr/>
        </p:nvSpPr>
        <p:spPr>
          <a:xfrm>
            <a:off x="5786280" y="3000240"/>
            <a:ext cx="3143520" cy="1071720"/>
          </a:xfrm>
          <a:prstGeom prst="parallelogram">
            <a:avLst>
              <a:gd name="adj" fmla="val 25000"/>
            </a:avLst>
          </a:prstGeom>
          <a:solidFill>
            <a:srgbClr val="b8b8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a0aff"/>
                </a:solidFill>
                <a:latin typeface="Tahoma"/>
              </a:rPr>
              <a:t>Самоутвержд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46" name="Прямая со стрелкой 13"/>
          <p:cNvCxnSpPr>
            <a:endCxn id="145" idx="0"/>
          </p:cNvCxnSpPr>
          <p:nvPr/>
        </p:nvCxnSpPr>
        <p:spPr>
          <a:xfrm>
            <a:off x="4391640" y="2499840"/>
            <a:ext cx="2966040" cy="500760"/>
          </a:xfrm>
          <a:prstGeom prst="straightConnector1">
            <a:avLst/>
          </a:prstGeom>
          <a:ln w="255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147" name="Прямая со стрелкой 16"/>
          <p:cNvCxnSpPr>
            <a:endCxn id="143" idx="1"/>
          </p:cNvCxnSpPr>
          <p:nvPr/>
        </p:nvCxnSpPr>
        <p:spPr>
          <a:xfrm flipH="1">
            <a:off x="1696680" y="2499840"/>
            <a:ext cx="2696400" cy="500760"/>
          </a:xfrm>
          <a:prstGeom prst="straightConnector1">
            <a:avLst/>
          </a:prstGeom>
          <a:ln w="255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148" name="Прямая со стрелкой 19"/>
          <p:cNvCxnSpPr>
            <a:endCxn id="144" idx="5"/>
          </p:cNvCxnSpPr>
          <p:nvPr/>
        </p:nvCxnSpPr>
        <p:spPr>
          <a:xfrm flipH="1">
            <a:off x="4249080" y="2500200"/>
            <a:ext cx="143640" cy="1501200"/>
          </a:xfrm>
          <a:prstGeom prst="straightConnector1">
            <a:avLst/>
          </a:prstGeom>
          <a:ln w="25560">
            <a:solidFill>
              <a:srgbClr val="000066"/>
            </a:solidFill>
            <a:miter/>
            <a:tailEnd len="med" type="arrow" w="med"/>
          </a:ln>
        </p:spPr>
      </p:cxnSp>
      <p:pic>
        <p:nvPicPr>
          <p:cNvPr id="149" name="Picture 5" descr="page2"/>
          <p:cNvPicPr/>
          <p:nvPr/>
        </p:nvPicPr>
        <p:blipFill>
          <a:blip r:embed="rId2"/>
          <a:stretch/>
        </p:blipFill>
        <p:spPr>
          <a:xfrm rot="20887200">
            <a:off x="357120" y="4347720"/>
            <a:ext cx="2151000" cy="16131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img"/>
          <p:cNvPicPr/>
          <p:nvPr/>
        </p:nvPicPr>
        <p:blipFill>
          <a:blip r:embed="rId3"/>
          <a:stretch/>
        </p:blipFill>
        <p:spPr>
          <a:xfrm rot="835200">
            <a:off x="3676320" y="5364000"/>
            <a:ext cx="1373040" cy="10400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"/>
          <p:cNvPicPr/>
          <p:nvPr/>
        </p:nvPicPr>
        <p:blipFill>
          <a:blip r:embed="rId4"/>
          <a:stretch/>
        </p:blipFill>
        <p:spPr>
          <a:xfrm rot="20693400">
            <a:off x="6375240" y="4398480"/>
            <a:ext cx="2160720" cy="1516320"/>
          </a:xfrm>
          <a:prstGeom prst="rect">
            <a:avLst/>
          </a:prstGeom>
          <a:ln w="0">
            <a:noFill/>
          </a:ln>
        </p:spPr>
      </p:pic>
      <p:sp>
        <p:nvSpPr>
          <p:cNvPr id="152" name="Управляющая кнопка: домой 12">
            <a:hlinkClick r:id="rId5" action="ppaction://hlinksldjump"/>
          </p:cNvPr>
          <p:cNvSpPr/>
          <p:nvPr/>
        </p:nvSpPr>
        <p:spPr>
          <a:xfrm>
            <a:off x="8286840" y="6143760"/>
            <a:ext cx="642960" cy="500040"/>
          </a:xfrm>
          <a:custGeom>
            <a:avLst/>
            <a:gdLst>
              <a:gd name="textAreaLeft" fmla="*/ 32400 w 642960"/>
              <a:gd name="textAreaRight" fmla="*/ 610560 w 6429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7769" h="21600">
                <a:moveTo>
                  <a:pt x="0" y="0"/>
                </a:moveTo>
                <a:lnTo>
                  <a:pt x="27769" y="0"/>
                </a:lnTo>
                <a:lnTo>
                  <a:pt x="27769" y="21600"/>
                </a:lnTo>
                <a:lnTo>
                  <a:pt x="0" y="21600"/>
                </a:lnTo>
                <a:close/>
              </a:path>
              <a:path fill="lightenLess" w="27769" h="21600">
                <a:moveTo>
                  <a:pt x="0" y="0"/>
                </a:moveTo>
                <a:lnTo>
                  <a:pt x="27769" y="0"/>
                </a:lnTo>
                <a:lnTo>
                  <a:pt x="26369" y="1400"/>
                </a:lnTo>
                <a:lnTo>
                  <a:pt x="1400" y="1400"/>
                </a:lnTo>
                <a:close/>
              </a:path>
              <a:path fill="darken" w="27769" h="21600">
                <a:moveTo>
                  <a:pt x="27769" y="0"/>
                </a:moveTo>
                <a:lnTo>
                  <a:pt x="27769" y="21600"/>
                </a:lnTo>
                <a:lnTo>
                  <a:pt x="26369" y="20200"/>
                </a:lnTo>
                <a:lnTo>
                  <a:pt x="26369" y="1400"/>
                </a:lnTo>
                <a:close/>
              </a:path>
              <a:path fill="darkenLess" w="27769" h="21600">
                <a:moveTo>
                  <a:pt x="2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9" y="20200"/>
                </a:lnTo>
                <a:close/>
              </a:path>
              <a:path fill="lighten" w="2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9" h="21600">
                <a:moveTo>
                  <a:pt x="13885" y="3837"/>
                </a:moveTo>
                <a:lnTo>
                  <a:pt x="16461" y="6448"/>
                </a:lnTo>
                <a:lnTo>
                  <a:pt x="16461" y="4707"/>
                </a:lnTo>
                <a:lnTo>
                  <a:pt x="18236" y="4707"/>
                </a:lnTo>
                <a:lnTo>
                  <a:pt x="18236" y="8224"/>
                </a:lnTo>
                <a:lnTo>
                  <a:pt x="20848" y="10800"/>
                </a:lnTo>
                <a:lnTo>
                  <a:pt x="19194" y="10800"/>
                </a:lnTo>
                <a:lnTo>
                  <a:pt x="19194" y="17989"/>
                </a:lnTo>
                <a:lnTo>
                  <a:pt x="8575" y="17989"/>
                </a:lnTo>
                <a:lnTo>
                  <a:pt x="8575" y="10800"/>
                </a:lnTo>
                <a:lnTo>
                  <a:pt x="6922" y="10800"/>
                </a:lnTo>
                <a:close/>
              </a:path>
              <a:path fill="darkenLess" w="27769" h="21600">
                <a:moveTo>
                  <a:pt x="16461" y="6448"/>
                </a:moveTo>
                <a:lnTo>
                  <a:pt x="16461" y="4707"/>
                </a:lnTo>
                <a:lnTo>
                  <a:pt x="18236" y="4707"/>
                </a:lnTo>
                <a:lnTo>
                  <a:pt x="18236" y="8224"/>
                </a:lnTo>
                <a:close/>
              </a:path>
              <a:path fill="darkenLess" w="27769" h="21600">
                <a:moveTo>
                  <a:pt x="12962" y="14299"/>
                </a:moveTo>
                <a:lnTo>
                  <a:pt x="14807" y="14299"/>
                </a:lnTo>
                <a:lnTo>
                  <a:pt x="14807" y="17989"/>
                </a:lnTo>
                <a:lnTo>
                  <a:pt x="19194" y="17989"/>
                </a:lnTo>
                <a:lnTo>
                  <a:pt x="19194" y="10800"/>
                </a:lnTo>
                <a:lnTo>
                  <a:pt x="8575" y="10800"/>
                </a:lnTo>
                <a:lnTo>
                  <a:pt x="8575" y="17989"/>
                </a:lnTo>
                <a:lnTo>
                  <a:pt x="12962" y="17989"/>
                </a:lnTo>
                <a:close/>
              </a:path>
            </a:pathLst>
          </a:custGeom>
          <a:solidFill>
            <a:srgbClr val="66ff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5723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ahoma"/>
              </a:rPr>
              <a:t>Экономическая свобода и социальная ответственнос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5" name="Прямоугольник с одним вырезанным углом 3"/>
          <p:cNvGrpSpPr/>
          <p:nvPr/>
        </p:nvGrpSpPr>
        <p:grpSpPr>
          <a:xfrm>
            <a:off x="49320" y="1755720"/>
            <a:ext cx="4863960" cy="1932120"/>
            <a:chOff x="49320" y="1755720"/>
            <a:chExt cx="4863960" cy="1932120"/>
          </a:xfrm>
        </p:grpSpPr>
        <p:pic>
          <p:nvPicPr>
            <p:cNvPr id="156" name="Прямоугольник с одним вырезанным углом 3" descr=""/>
            <p:cNvPicPr/>
            <p:nvPr/>
          </p:nvPicPr>
          <p:blipFill>
            <a:blip r:embed="rId1"/>
            <a:stretch/>
          </p:blipFill>
          <p:spPr>
            <a:xfrm>
              <a:off x="49320" y="1755720"/>
              <a:ext cx="4863960" cy="193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142920" y="1922400"/>
              <a:ext cx="4578480" cy="15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ahoma"/>
                </a:rPr>
                <a:t>Право на самостоятельный выбор профиля, структуры и объема производства, условий реализации, цен на продукцию; достигается компромиссными соглашениями с другими участниками рынка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8" name="Прямоугольник с двумя вырезанными противолежащими углами 4"/>
          <p:cNvGrpSpPr/>
          <p:nvPr/>
        </p:nvGrpSpPr>
        <p:grpSpPr>
          <a:xfrm>
            <a:off x="158760" y="1096920"/>
            <a:ext cx="3895560" cy="671400"/>
            <a:chOff x="158760" y="1096920"/>
            <a:chExt cx="3895560" cy="671400"/>
          </a:xfrm>
        </p:grpSpPr>
        <p:pic>
          <p:nvPicPr>
            <p:cNvPr id="159" name="Прямоугольник с двумя вырезанными противолежащими углами 4" descr=""/>
            <p:cNvPicPr/>
            <p:nvPr/>
          </p:nvPicPr>
          <p:blipFill>
            <a:blip r:embed="rId2"/>
            <a:stretch/>
          </p:blipFill>
          <p:spPr>
            <a:xfrm>
              <a:off x="158760" y="1096920"/>
              <a:ext cx="389556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249120" y="1177920"/>
              <a:ext cx="37148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ffffff"/>
                  </a:solidFill>
                  <a:latin typeface="Tahoma"/>
                </a:rPr>
                <a:t>Экономическая свобода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cxnSp>
        <p:nvCxnSpPr>
          <p:cNvPr id="161" name="Прямая со стрелкой 13"/>
          <p:cNvCxnSpPr/>
          <p:nvPr/>
        </p:nvCxnSpPr>
        <p:spPr>
          <a:xfrm>
            <a:off x="2105640" y="1571400"/>
            <a:ext cx="394200" cy="214920"/>
          </a:xfrm>
          <a:prstGeom prst="straightConnector1">
            <a:avLst/>
          </a:prstGeom>
          <a:ln w="38160">
            <a:solidFill>
              <a:srgbClr val="b6c8ff"/>
            </a:solidFill>
            <a:miter/>
            <a:tailEnd len="med" type="triangle" w="med"/>
          </a:ln>
        </p:spPr>
      </p:cxnSp>
      <p:grpSp>
        <p:nvGrpSpPr>
          <p:cNvPr id="162" name="Прямоугольник с двумя вырезанными противолежащими углами 26"/>
          <p:cNvGrpSpPr/>
          <p:nvPr/>
        </p:nvGrpSpPr>
        <p:grpSpPr>
          <a:xfrm>
            <a:off x="4700520" y="4164120"/>
            <a:ext cx="4334040" cy="676080"/>
            <a:chOff x="4700520" y="4164120"/>
            <a:chExt cx="4334040" cy="676080"/>
          </a:xfrm>
        </p:grpSpPr>
        <p:pic>
          <p:nvPicPr>
            <p:cNvPr id="163" name="Прямоугольник с двумя вырезанными противолежащими углами 26" descr=""/>
            <p:cNvPicPr/>
            <p:nvPr/>
          </p:nvPicPr>
          <p:blipFill>
            <a:blip r:embed="rId3"/>
            <a:stretch/>
          </p:blipFill>
          <p:spPr>
            <a:xfrm>
              <a:off x="4700520" y="4164120"/>
              <a:ext cx="4334040" cy="67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822920" y="4251240"/>
              <a:ext cx="407196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ffffff"/>
                  </a:solidFill>
                  <a:latin typeface="Tahoma"/>
                </a:rPr>
                <a:t>Социальная ответственность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5" name="Скругленный прямоугольник 27"/>
          <p:cNvSpPr/>
          <p:nvPr/>
        </p:nvSpPr>
        <p:spPr>
          <a:xfrm>
            <a:off x="5072040" y="1285920"/>
            <a:ext cx="1785960" cy="2214360"/>
          </a:xfrm>
          <a:custGeom>
            <a:avLst/>
            <a:gdLst>
              <a:gd name="textAreaLeft" fmla="*/ 87120 w 1785960"/>
              <a:gd name="textAreaRight" fmla="*/ 1698840 w 1785960"/>
              <a:gd name="textAreaTop" fmla="*/ 87120 h 2214360"/>
              <a:gd name="textAreaBottom" fmla="*/ 2127240 h 2214360"/>
            </a:gdLst>
            <a:ahLst/>
            <a:rect l="textAreaLeft" t="textAreaTop" r="textAreaRight" b="textAreaBottom"/>
            <a:pathLst>
              <a:path w="21600" h="26780">
                <a:moveTo>
                  <a:pt x="3600" y="0"/>
                </a:moveTo>
                <a:arcTo wR="3600" hR="3600" stAng="16200000" swAng="-5400000"/>
                <a:lnTo>
                  <a:pt x="0" y="23180"/>
                </a:lnTo>
                <a:arcTo wR="3600" hR="3600" stAng="10800000" swAng="-5400000"/>
                <a:lnTo>
                  <a:pt x="18000" y="2678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bfbfff"/>
              </a:gs>
              <a:gs pos="100000">
                <a:srgbClr val="ebebff"/>
              </a:gs>
            </a:gsLst>
            <a:lin ang="16200000"/>
          </a:gradFill>
          <a:ln w="9360">
            <a:solidFill>
              <a:srgbClr val="b2b2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Стремление к максимальной прибыли и эгоистическая защита частных интересо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Скругленный прямоугольник 28"/>
          <p:cNvSpPr/>
          <p:nvPr/>
        </p:nvSpPr>
        <p:spPr>
          <a:xfrm>
            <a:off x="7000920" y="1285920"/>
            <a:ext cx="1928880" cy="2214360"/>
          </a:xfrm>
          <a:custGeom>
            <a:avLst/>
            <a:gdLst>
              <a:gd name="textAreaLeft" fmla="*/ 93960 w 1928880"/>
              <a:gd name="textAreaRight" fmla="*/ 1834920 w 1928880"/>
              <a:gd name="textAreaTop" fmla="*/ 93960 h 2214360"/>
              <a:gd name="textAreaBottom" fmla="*/ 2120400 h 2214360"/>
            </a:gdLst>
            <a:ahLst/>
            <a:rect l="textAreaLeft" t="textAreaTop" r="textAreaRight" b="textAreaBottom"/>
            <a:pathLst>
              <a:path w="21600" h="24796">
                <a:moveTo>
                  <a:pt x="3600" y="0"/>
                </a:moveTo>
                <a:arcTo wR="3600" hR="3600" stAng="16200000" swAng="-5400000"/>
                <a:lnTo>
                  <a:pt x="0" y="21196"/>
                </a:lnTo>
                <a:arcTo wR="3600" hR="3600" stAng="10800000" swAng="-5400000"/>
                <a:lnTo>
                  <a:pt x="18000" y="247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bfbfff"/>
              </a:gs>
              <a:gs pos="100000">
                <a:srgbClr val="ebebff"/>
              </a:gs>
            </a:gsLst>
            <a:lin ang="16200000"/>
          </a:gradFill>
          <a:ln w="9360">
            <a:solidFill>
              <a:srgbClr val="b2b2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Необходимость считаться с интересами и ценностями общества -проявлять социальную ответственност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67" name="Прямая со стрелкой 30"/>
          <p:cNvCxnSpPr>
            <a:stCxn id="165" idx="2"/>
          </p:cNvCxnSpPr>
          <p:nvPr/>
        </p:nvCxnSpPr>
        <p:spPr>
          <a:xfrm>
            <a:off x="5965920" y="3499920"/>
            <a:ext cx="892800" cy="715320"/>
          </a:xfrm>
          <a:prstGeom prst="straightConnector1">
            <a:avLst/>
          </a:prstGeom>
          <a:ln w="255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168" name="Прямая со стрелкой 33"/>
          <p:cNvCxnSpPr>
            <a:stCxn id="166" idx="2"/>
          </p:cNvCxnSpPr>
          <p:nvPr/>
        </p:nvCxnSpPr>
        <p:spPr>
          <a:xfrm flipH="1">
            <a:off x="6857640" y="3499920"/>
            <a:ext cx="1108800" cy="715320"/>
          </a:xfrm>
          <a:prstGeom prst="straightConnector1">
            <a:avLst/>
          </a:prstGeom>
          <a:ln w="25560">
            <a:solidFill>
              <a:srgbClr val="000066"/>
            </a:solidFill>
            <a:miter/>
            <a:tailEnd len="med" type="arrow" w="med"/>
          </a:ln>
        </p:spPr>
      </p:cxnSp>
      <p:grpSp>
        <p:nvGrpSpPr>
          <p:cNvPr id="169" name="Прямоугольник с одним вырезанным углом 35"/>
          <p:cNvGrpSpPr/>
          <p:nvPr/>
        </p:nvGrpSpPr>
        <p:grpSpPr>
          <a:xfrm>
            <a:off x="3889440" y="5254560"/>
            <a:ext cx="5168880" cy="1268640"/>
            <a:chOff x="3889440" y="5254560"/>
            <a:chExt cx="5168880" cy="1268640"/>
          </a:xfrm>
        </p:grpSpPr>
        <p:pic>
          <p:nvPicPr>
            <p:cNvPr id="170" name="Прямоугольник с одним вырезанным углом 35" descr=""/>
            <p:cNvPicPr/>
            <p:nvPr/>
          </p:nvPicPr>
          <p:blipFill>
            <a:blip r:embed="rId4"/>
            <a:stretch/>
          </p:blipFill>
          <p:spPr>
            <a:xfrm>
              <a:off x="3889440" y="5254560"/>
              <a:ext cx="5168880" cy="12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4000680" y="5375160"/>
              <a:ext cx="4911480" cy="98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Особое социальное и морально-правовое отношение личности к обществу в целом и к другим людям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cxnSp>
        <p:nvCxnSpPr>
          <p:cNvPr id="172" name="Прямая со стрелкой 37"/>
          <p:cNvCxnSpPr/>
          <p:nvPr/>
        </p:nvCxnSpPr>
        <p:spPr>
          <a:xfrm flipH="1">
            <a:off x="6500520" y="4643280"/>
            <a:ext cx="357840" cy="643320"/>
          </a:xfrm>
          <a:prstGeom prst="straightConnector1">
            <a:avLst/>
          </a:prstGeom>
          <a:ln w="38160">
            <a:solidFill>
              <a:srgbClr val="9999ff"/>
            </a:solidFill>
            <a:miter/>
            <a:tailEnd len="med" type="triangle" w="med"/>
          </a:ln>
        </p:spPr>
      </p:cxnSp>
      <p:sp>
        <p:nvSpPr>
          <p:cNvPr id="173" name="Прямоугольник с двумя вырезанными противолежащими углами 39"/>
          <p:cNvSpPr/>
          <p:nvPr/>
        </p:nvSpPr>
        <p:spPr>
          <a:xfrm>
            <a:off x="142920" y="3571920"/>
            <a:ext cx="3571920" cy="1357200"/>
          </a:xfrm>
          <a:prstGeom prst="pie">
            <a:avLst/>
          </a:prstGeom>
          <a:gradFill rotWithShape="0">
            <a:gsLst>
              <a:gs pos="0">
                <a:srgbClr val="bed4ff"/>
              </a:gs>
              <a:gs pos="100000">
                <a:srgbClr val="eaf1ff"/>
              </a:gs>
            </a:gsLst>
            <a:lin ang="16200000"/>
          </a:gradFill>
          <a:ln w="9360">
            <a:solidFill>
              <a:srgbClr val="b0c3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Tahoma"/>
              </a:rPr>
              <a:t>Нравственный долг -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это превращение требований общественной морали в личный императив конкретного лица и добровольное его выполнени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Прямоугольник с двумя вырезанными противолежащими углами 43"/>
          <p:cNvSpPr/>
          <p:nvPr/>
        </p:nvSpPr>
        <p:spPr>
          <a:xfrm>
            <a:off x="214200" y="5072040"/>
            <a:ext cx="3500640" cy="1571760"/>
          </a:xfrm>
          <a:prstGeom prst="pie">
            <a:avLst/>
          </a:prstGeom>
          <a:gradFill rotWithShape="0">
            <a:gsLst>
              <a:gs pos="0">
                <a:srgbClr val="bed4ff"/>
              </a:gs>
              <a:gs pos="100000">
                <a:srgbClr val="eaf1ff"/>
              </a:gs>
            </a:gsLst>
            <a:lin ang="16200000"/>
          </a:gradFill>
          <a:ln w="9360">
            <a:solidFill>
              <a:srgbClr val="b0c3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Tahoma"/>
              </a:rPr>
              <a:t>Правовая норма -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общеобязательное правило поведения, регулирующее общественные отношения, закреплённое в праве и обеспеченное государство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75" name="Прямая со стрелкой 49"/>
          <p:cNvCxnSpPr>
            <a:stCxn id="173" idx="8"/>
          </p:cNvCxnSpPr>
          <p:nvPr/>
        </p:nvCxnSpPr>
        <p:spPr>
          <a:xfrm>
            <a:off x="3714480" y="4250880"/>
            <a:ext cx="1572120" cy="1035720"/>
          </a:xfrm>
          <a:prstGeom prst="straightConnector1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76" name="Прямая со стрелкой 52"/>
          <p:cNvCxnSpPr/>
          <p:nvPr/>
        </p:nvCxnSpPr>
        <p:spPr>
          <a:xfrm>
            <a:off x="3428640" y="5071680"/>
            <a:ext cx="1786680" cy="214920"/>
          </a:xfrm>
          <a:prstGeom prst="straightConnector1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77" name="Управляющая кнопка: домой 57">
            <a:hlinkClick r:id="rId5" action="ppaction://hlinksldjump"/>
          </p:cNvPr>
          <p:cNvSpPr/>
          <p:nvPr/>
        </p:nvSpPr>
        <p:spPr>
          <a:xfrm>
            <a:off x="8215200" y="6143760"/>
            <a:ext cx="785880" cy="571320"/>
          </a:xfrm>
          <a:custGeom>
            <a:avLst/>
            <a:gdLst>
              <a:gd name="textAreaLeft" fmla="*/ 36720 w 785880"/>
              <a:gd name="textAreaRight" fmla="*/ 749160 w 78588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9707" h="21600">
                <a:moveTo>
                  <a:pt x="0" y="0"/>
                </a:moveTo>
                <a:lnTo>
                  <a:pt x="29707" y="0"/>
                </a:lnTo>
                <a:lnTo>
                  <a:pt x="29707" y="21600"/>
                </a:lnTo>
                <a:lnTo>
                  <a:pt x="0" y="21600"/>
                </a:lnTo>
                <a:close/>
              </a:path>
              <a:path fill="lightenLess" w="29707" h="21600">
                <a:moveTo>
                  <a:pt x="0" y="0"/>
                </a:moveTo>
                <a:lnTo>
                  <a:pt x="29707" y="0"/>
                </a:lnTo>
                <a:lnTo>
                  <a:pt x="28307" y="1400"/>
                </a:lnTo>
                <a:lnTo>
                  <a:pt x="1400" y="1400"/>
                </a:lnTo>
                <a:close/>
              </a:path>
              <a:path fill="darken" w="29707" h="21600">
                <a:moveTo>
                  <a:pt x="29707" y="0"/>
                </a:moveTo>
                <a:lnTo>
                  <a:pt x="29707" y="21600"/>
                </a:lnTo>
                <a:lnTo>
                  <a:pt x="28307" y="20200"/>
                </a:lnTo>
                <a:lnTo>
                  <a:pt x="28307" y="1400"/>
                </a:lnTo>
                <a:close/>
              </a:path>
              <a:path fill="darkenLess" w="29707" h="21600">
                <a:moveTo>
                  <a:pt x="297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07" y="20200"/>
                </a:lnTo>
                <a:close/>
              </a:path>
              <a:path fill="lighten" w="297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07" h="21600">
                <a:moveTo>
                  <a:pt x="14853" y="3837"/>
                </a:moveTo>
                <a:lnTo>
                  <a:pt x="17430" y="6448"/>
                </a:lnTo>
                <a:lnTo>
                  <a:pt x="17430" y="4707"/>
                </a:lnTo>
                <a:lnTo>
                  <a:pt x="19205" y="4707"/>
                </a:lnTo>
                <a:lnTo>
                  <a:pt x="19205" y="8224"/>
                </a:lnTo>
                <a:lnTo>
                  <a:pt x="21816" y="10800"/>
                </a:lnTo>
                <a:lnTo>
                  <a:pt x="20163" y="10800"/>
                </a:lnTo>
                <a:lnTo>
                  <a:pt x="20163" y="17989"/>
                </a:lnTo>
                <a:lnTo>
                  <a:pt x="9544" y="17989"/>
                </a:lnTo>
                <a:lnTo>
                  <a:pt x="9544" y="10800"/>
                </a:lnTo>
                <a:lnTo>
                  <a:pt x="7890" y="10800"/>
                </a:lnTo>
                <a:close/>
              </a:path>
              <a:path fill="darkenLess" w="29707" h="21600">
                <a:moveTo>
                  <a:pt x="17430" y="6448"/>
                </a:moveTo>
                <a:lnTo>
                  <a:pt x="17430" y="4707"/>
                </a:lnTo>
                <a:lnTo>
                  <a:pt x="19205" y="4707"/>
                </a:lnTo>
                <a:lnTo>
                  <a:pt x="19205" y="8224"/>
                </a:lnTo>
                <a:close/>
              </a:path>
              <a:path fill="darkenLess" w="29707" h="21600">
                <a:moveTo>
                  <a:pt x="13931" y="14299"/>
                </a:moveTo>
                <a:lnTo>
                  <a:pt x="15776" y="14299"/>
                </a:lnTo>
                <a:lnTo>
                  <a:pt x="15776" y="17989"/>
                </a:lnTo>
                <a:lnTo>
                  <a:pt x="20163" y="17989"/>
                </a:lnTo>
                <a:lnTo>
                  <a:pt x="20163" y="10800"/>
                </a:lnTo>
                <a:lnTo>
                  <a:pt x="9544" y="10800"/>
                </a:lnTo>
                <a:lnTo>
                  <a:pt x="9544" y="17989"/>
                </a:lnTo>
                <a:lnTo>
                  <a:pt x="13931" y="17989"/>
                </a:lnTo>
                <a:close/>
              </a:path>
            </a:pathLst>
          </a:custGeom>
          <a:solidFill>
            <a:srgbClr val="66ff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3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cc"/>
                </a:solidFill>
                <a:latin typeface="Tahoma"/>
              </a:rPr>
              <a:t>Рыночная экономи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Line 4"/>
          <p:cNvSpPr/>
          <p:nvPr/>
        </p:nvSpPr>
        <p:spPr>
          <a:xfrm>
            <a:off x="4714920" y="1357200"/>
            <a:ext cx="0" cy="4105440"/>
          </a:xfrm>
          <a:prstGeom prst="line">
            <a:avLst/>
          </a:prstGeom>
          <a:ln w="38160">
            <a:solidFill>
              <a:srgbClr val="b8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Line 5"/>
          <p:cNvSpPr/>
          <p:nvPr/>
        </p:nvSpPr>
        <p:spPr>
          <a:xfrm>
            <a:off x="571680" y="1857240"/>
            <a:ext cx="7921440" cy="0"/>
          </a:xfrm>
          <a:prstGeom prst="line">
            <a:avLst/>
          </a:prstGeom>
          <a:ln w="38160">
            <a:solidFill>
              <a:srgbClr val="b8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Прямоугольник 5"/>
          <p:cNvSpPr/>
          <p:nvPr/>
        </p:nvSpPr>
        <p:spPr>
          <a:xfrm>
            <a:off x="571680" y="2143080"/>
            <a:ext cx="400032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b6d"/>
                </a:solidFill>
                <a:latin typeface="Tahoma"/>
              </a:rPr>
              <a:t>Конкуренция ведет к появлению монополий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b6d"/>
                </a:solidFill>
                <a:latin typeface="Tahoma"/>
              </a:rPr>
              <a:t>Нестабильность экономики: инфляция, экономический спад,безработица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b6d"/>
                </a:solidFill>
                <a:latin typeface="Tahoma"/>
              </a:rPr>
              <a:t>Не равномерное распределение доходов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b6d"/>
                </a:solidFill>
                <a:latin typeface="Tahoma"/>
              </a:rPr>
              <a:t>Незаинтересованность в охране окружающей сред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TextBox 6"/>
          <p:cNvSpPr/>
          <p:nvPr/>
        </p:nvSpPr>
        <p:spPr>
          <a:xfrm>
            <a:off x="857160" y="135720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Tahoma"/>
              </a:rPr>
              <a:t>Недостатки</a:t>
            </a:r>
            <a:r>
              <a:rPr b="1" i="1" lang="en-US" sz="2400" spc="-1" strike="noStrike">
                <a:solidFill>
                  <a:srgbClr val="0066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TextBox 7"/>
          <p:cNvSpPr/>
          <p:nvPr/>
        </p:nvSpPr>
        <p:spPr>
          <a:xfrm>
            <a:off x="4929120" y="135720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Tahoma"/>
              </a:rPr>
              <a:t>Достоинства</a:t>
            </a:r>
            <a:r>
              <a:rPr b="1" i="1" lang="en-US" sz="2400" spc="-1" strike="noStrike">
                <a:solidFill>
                  <a:srgbClr val="0066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Прямоугольник 8"/>
          <p:cNvSpPr/>
          <p:nvPr/>
        </p:nvSpPr>
        <p:spPr>
          <a:xfrm>
            <a:off x="4857840" y="2071800"/>
            <a:ext cx="385740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ahoma"/>
              </a:rPr>
              <a:t>Рынок быстро реагирует на изменение спроса со стороны потребителей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ahoma"/>
              </a:rPr>
              <a:t>Не возможен дефицит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ahoma"/>
              </a:rPr>
              <a:t>Свобода производителей и потребителей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ahoma"/>
              </a:rPr>
              <a:t>Высокие адаптационные возможнос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Управляющая кнопка: домой 9">
            <a:hlinkClick r:id="rId1" action="ppaction://hlinksldjump"/>
          </p:cNvPr>
          <p:cNvSpPr/>
          <p:nvPr/>
        </p:nvSpPr>
        <p:spPr>
          <a:xfrm>
            <a:off x="8143920" y="6072120"/>
            <a:ext cx="714240" cy="571680"/>
          </a:xfrm>
          <a:custGeom>
            <a:avLst/>
            <a:gdLst>
              <a:gd name="textAreaLeft" fmla="*/ 36720 w 714240"/>
              <a:gd name="textAreaRight" fmla="*/ 677520 w 71424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6983" h="21600">
                <a:moveTo>
                  <a:pt x="0" y="0"/>
                </a:moveTo>
                <a:lnTo>
                  <a:pt x="26983" y="0"/>
                </a:lnTo>
                <a:lnTo>
                  <a:pt x="26983" y="21600"/>
                </a:lnTo>
                <a:lnTo>
                  <a:pt x="0" y="21600"/>
                </a:lnTo>
                <a:close/>
              </a:path>
              <a:path fill="lightenLess" w="26983" h="21600">
                <a:moveTo>
                  <a:pt x="0" y="0"/>
                </a:moveTo>
                <a:lnTo>
                  <a:pt x="26983" y="0"/>
                </a:lnTo>
                <a:lnTo>
                  <a:pt x="25583" y="1400"/>
                </a:lnTo>
                <a:lnTo>
                  <a:pt x="1400" y="1400"/>
                </a:lnTo>
                <a:close/>
              </a:path>
              <a:path fill="darken" w="26983" h="21600">
                <a:moveTo>
                  <a:pt x="26983" y="0"/>
                </a:moveTo>
                <a:lnTo>
                  <a:pt x="26983" y="21600"/>
                </a:lnTo>
                <a:lnTo>
                  <a:pt x="25583" y="20200"/>
                </a:lnTo>
                <a:lnTo>
                  <a:pt x="25583" y="1400"/>
                </a:lnTo>
                <a:close/>
              </a:path>
              <a:path fill="darkenLess" w="26983" h="21600">
                <a:moveTo>
                  <a:pt x="26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3" y="20200"/>
                </a:lnTo>
                <a:close/>
              </a:path>
              <a:path fill="lighten" w="26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3" h="21600">
                <a:moveTo>
                  <a:pt x="13492" y="3837"/>
                </a:moveTo>
                <a:lnTo>
                  <a:pt x="16068" y="6448"/>
                </a:lnTo>
                <a:lnTo>
                  <a:pt x="16068" y="4707"/>
                </a:lnTo>
                <a:lnTo>
                  <a:pt x="17843" y="4707"/>
                </a:lnTo>
                <a:lnTo>
                  <a:pt x="17843" y="8224"/>
                </a:lnTo>
                <a:lnTo>
                  <a:pt x="20454" y="10800"/>
                </a:lnTo>
                <a:lnTo>
                  <a:pt x="18801" y="10800"/>
                </a:lnTo>
                <a:lnTo>
                  <a:pt x="18801" y="17989"/>
                </a:lnTo>
                <a:lnTo>
                  <a:pt x="8182" y="17989"/>
                </a:lnTo>
                <a:lnTo>
                  <a:pt x="8182" y="10800"/>
                </a:lnTo>
                <a:lnTo>
                  <a:pt x="6529" y="10800"/>
                </a:lnTo>
                <a:close/>
              </a:path>
              <a:path fill="darkenLess" w="26983" h="21600">
                <a:moveTo>
                  <a:pt x="16068" y="6448"/>
                </a:moveTo>
                <a:lnTo>
                  <a:pt x="16068" y="4707"/>
                </a:lnTo>
                <a:lnTo>
                  <a:pt x="17843" y="4707"/>
                </a:lnTo>
                <a:lnTo>
                  <a:pt x="17843" y="8224"/>
                </a:lnTo>
                <a:close/>
              </a:path>
              <a:path fill="darkenLess" w="26983" h="21600">
                <a:moveTo>
                  <a:pt x="12569" y="14299"/>
                </a:moveTo>
                <a:lnTo>
                  <a:pt x="14414" y="14299"/>
                </a:lnTo>
                <a:lnTo>
                  <a:pt x="14414" y="17989"/>
                </a:lnTo>
                <a:lnTo>
                  <a:pt x="18801" y="17989"/>
                </a:lnTo>
                <a:lnTo>
                  <a:pt x="18801" y="10800"/>
                </a:lnTo>
                <a:lnTo>
                  <a:pt x="8182" y="10800"/>
                </a:lnTo>
                <a:lnTo>
                  <a:pt x="8182" y="17989"/>
                </a:lnTo>
                <a:lnTo>
                  <a:pt x="12569" y="17989"/>
                </a:lnTo>
                <a:close/>
              </a:path>
            </a:pathLst>
          </a:custGeom>
          <a:solidFill>
            <a:srgbClr val="66ff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ahoma"/>
              </a:rPr>
              <a:t>Связь экономической культуры и деятель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89" name="Блок-схема: альтернативный процесс 3"/>
          <p:cNvGrpSpPr/>
          <p:nvPr/>
        </p:nvGrpSpPr>
        <p:grpSpPr>
          <a:xfrm>
            <a:off x="1657440" y="1255680"/>
            <a:ext cx="5468760" cy="749160"/>
            <a:chOff x="1657440" y="1255680"/>
            <a:chExt cx="5468760" cy="749160"/>
          </a:xfrm>
        </p:grpSpPr>
        <p:pic>
          <p:nvPicPr>
            <p:cNvPr id="190" name="Блок-схема: альтернативный процесс 3" descr=""/>
            <p:cNvPicPr/>
            <p:nvPr/>
          </p:nvPicPr>
          <p:blipFill>
            <a:blip r:embed="rId1"/>
            <a:stretch/>
          </p:blipFill>
          <p:spPr>
            <a:xfrm>
              <a:off x="1657440" y="1255680"/>
              <a:ext cx="546876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1746360" y="1317600"/>
              <a:ext cx="5294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a0aff"/>
                  </a:solidFill>
                  <a:latin typeface="Tahoma"/>
                </a:rPr>
                <a:t>Уровень экономической культуры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92" name="Прямоугольник с двумя вырезанными противолежащими углами 4"/>
          <p:cNvGrpSpPr/>
          <p:nvPr/>
        </p:nvGrpSpPr>
        <p:grpSpPr>
          <a:xfrm>
            <a:off x="1657440" y="2236680"/>
            <a:ext cx="5614920" cy="1451160"/>
            <a:chOff x="1657440" y="2236680"/>
            <a:chExt cx="5614920" cy="1451160"/>
          </a:xfrm>
        </p:grpSpPr>
        <p:pic>
          <p:nvPicPr>
            <p:cNvPr id="193" name="Прямоугольник с двумя вырезанными противолежащими углами 4" descr=""/>
            <p:cNvPicPr/>
            <p:nvPr/>
          </p:nvPicPr>
          <p:blipFill>
            <a:blip r:embed="rId2"/>
            <a:stretch/>
          </p:blipFill>
          <p:spPr>
            <a:xfrm>
              <a:off x="1657440" y="2236680"/>
              <a:ext cx="5614920" cy="14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1816200" y="2387520"/>
              <a:ext cx="529740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Tahoma"/>
                </a:rPr>
                <a:t>Успешность выполнения социальных ролей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Tahoma"/>
                </a:rPr>
                <a:t>Результативность экономической деятельности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95" name="Стрелка вниз 5"/>
          <p:cNvSpPr/>
          <p:nvPr/>
        </p:nvSpPr>
        <p:spPr>
          <a:xfrm>
            <a:off x="4214880" y="1928880"/>
            <a:ext cx="4284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Прямоугольник с одним вырезанным углом 6"/>
          <p:cNvSpPr/>
          <p:nvPr/>
        </p:nvSpPr>
        <p:spPr>
          <a:xfrm>
            <a:off x="214200" y="4286160"/>
            <a:ext cx="3214800" cy="642960"/>
          </a:xfrm>
          <a:prstGeom prst="pie">
            <a:avLst/>
          </a:prstGeom>
          <a:solidFill>
            <a:srgbClr val="b6c8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a0aff"/>
                </a:solidFill>
                <a:latin typeface="Tahoma"/>
              </a:rPr>
              <a:t>Переход к новому способу производст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7" name="Прямоугольник с двумя скругленными противолежащими углами 7"/>
          <p:cNvGrpSpPr/>
          <p:nvPr/>
        </p:nvGrpSpPr>
        <p:grpSpPr>
          <a:xfrm>
            <a:off x="5211720" y="3614760"/>
            <a:ext cx="3346560" cy="907920"/>
            <a:chOff x="5211720" y="3614760"/>
            <a:chExt cx="3346560" cy="907920"/>
          </a:xfrm>
        </p:grpSpPr>
        <p:pic>
          <p:nvPicPr>
            <p:cNvPr id="198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5211720" y="3614760"/>
              <a:ext cx="334656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5321160" y="3678120"/>
              <a:ext cx="314496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00"/>
                  </a:solidFill>
                  <a:latin typeface="Tahoma"/>
                </a:rPr>
                <a:t>Высокая нравственность, высокий уровень культуры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cxnSp>
        <p:nvCxnSpPr>
          <p:cNvPr id="200" name="Прямая со стрелкой 9"/>
          <p:cNvCxnSpPr>
            <a:endCxn id="196" idx="6"/>
          </p:cNvCxnSpPr>
          <p:nvPr/>
        </p:nvCxnSpPr>
        <p:spPr>
          <a:xfrm flipH="1">
            <a:off x="3428280" y="4000680"/>
            <a:ext cx="1857960" cy="608400"/>
          </a:xfrm>
          <a:prstGeom prst="straightConnector1">
            <a:avLst/>
          </a:prstGeom>
          <a:ln w="2556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201" name="Прямоугольник с одним вырезанным углом 21"/>
          <p:cNvSpPr/>
          <p:nvPr/>
        </p:nvSpPr>
        <p:spPr>
          <a:xfrm>
            <a:off x="642960" y="5786280"/>
            <a:ext cx="3214800" cy="428760"/>
          </a:xfrm>
          <a:prstGeom prst="pie">
            <a:avLst/>
          </a:prstGeom>
          <a:solidFill>
            <a:srgbClr val="b6c8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a0aff"/>
                </a:solidFill>
                <a:latin typeface="Tahoma"/>
              </a:rPr>
              <a:t>Современный тру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02" name="Прямоугольник с двумя скругленными противолежащими углами 23"/>
          <p:cNvGrpSpPr/>
          <p:nvPr/>
        </p:nvGrpSpPr>
        <p:grpSpPr>
          <a:xfrm>
            <a:off x="6424560" y="4754520"/>
            <a:ext cx="2414520" cy="907920"/>
            <a:chOff x="6424560" y="4754520"/>
            <a:chExt cx="2414520" cy="907920"/>
          </a:xfrm>
        </p:grpSpPr>
        <p:pic>
          <p:nvPicPr>
            <p:cNvPr id="203" name="Прямоугольник с двумя скругленными противолежащими углами 23" descr=""/>
            <p:cNvPicPr/>
            <p:nvPr/>
          </p:nvPicPr>
          <p:blipFill>
            <a:blip r:embed="rId4"/>
            <a:stretch/>
          </p:blipFill>
          <p:spPr>
            <a:xfrm>
              <a:off x="6424560" y="4754520"/>
              <a:ext cx="241452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6535800" y="4821120"/>
              <a:ext cx="221616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00"/>
                  </a:solidFill>
                  <a:latin typeface="Tahoma"/>
                </a:rPr>
                <a:t>Самодисциплина, самоконтроль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cxnSp>
        <p:nvCxnSpPr>
          <p:cNvPr id="205" name="Прямая со стрелкой 28"/>
          <p:cNvCxnSpPr>
            <a:endCxn id="201" idx="6"/>
          </p:cNvCxnSpPr>
          <p:nvPr/>
        </p:nvCxnSpPr>
        <p:spPr>
          <a:xfrm flipH="1">
            <a:off x="3857400" y="5142600"/>
            <a:ext cx="2643840" cy="857880"/>
          </a:xfrm>
          <a:prstGeom prst="straightConnector1">
            <a:avLst/>
          </a:prstGeom>
          <a:ln w="2556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206" name="Управляющая кнопка: домой 35">
            <a:hlinkClick r:id="rId5" action="ppaction://hlinksldjump"/>
          </p:cNvPr>
          <p:cNvSpPr/>
          <p:nvPr/>
        </p:nvSpPr>
        <p:spPr>
          <a:xfrm>
            <a:off x="8286840" y="6143760"/>
            <a:ext cx="642960" cy="500040"/>
          </a:xfrm>
          <a:custGeom>
            <a:avLst/>
            <a:gdLst>
              <a:gd name="textAreaLeft" fmla="*/ 32400 w 642960"/>
              <a:gd name="textAreaRight" fmla="*/ 610560 w 6429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7769" h="21600">
                <a:moveTo>
                  <a:pt x="0" y="0"/>
                </a:moveTo>
                <a:lnTo>
                  <a:pt x="27769" y="0"/>
                </a:lnTo>
                <a:lnTo>
                  <a:pt x="27769" y="21600"/>
                </a:lnTo>
                <a:lnTo>
                  <a:pt x="0" y="21600"/>
                </a:lnTo>
                <a:close/>
              </a:path>
              <a:path fill="lightenLess" w="27769" h="21600">
                <a:moveTo>
                  <a:pt x="0" y="0"/>
                </a:moveTo>
                <a:lnTo>
                  <a:pt x="27769" y="0"/>
                </a:lnTo>
                <a:lnTo>
                  <a:pt x="26369" y="1400"/>
                </a:lnTo>
                <a:lnTo>
                  <a:pt x="1400" y="1400"/>
                </a:lnTo>
                <a:close/>
              </a:path>
              <a:path fill="darken" w="27769" h="21600">
                <a:moveTo>
                  <a:pt x="27769" y="0"/>
                </a:moveTo>
                <a:lnTo>
                  <a:pt x="27769" y="21600"/>
                </a:lnTo>
                <a:lnTo>
                  <a:pt x="26369" y="20200"/>
                </a:lnTo>
                <a:lnTo>
                  <a:pt x="26369" y="1400"/>
                </a:lnTo>
                <a:close/>
              </a:path>
              <a:path fill="darkenLess" w="27769" h="21600">
                <a:moveTo>
                  <a:pt x="2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9" y="20200"/>
                </a:lnTo>
                <a:close/>
              </a:path>
              <a:path fill="lighten" w="2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9" h="21600">
                <a:moveTo>
                  <a:pt x="13885" y="3837"/>
                </a:moveTo>
                <a:lnTo>
                  <a:pt x="16461" y="6448"/>
                </a:lnTo>
                <a:lnTo>
                  <a:pt x="16461" y="4707"/>
                </a:lnTo>
                <a:lnTo>
                  <a:pt x="18236" y="4707"/>
                </a:lnTo>
                <a:lnTo>
                  <a:pt x="18236" y="8224"/>
                </a:lnTo>
                <a:lnTo>
                  <a:pt x="20848" y="10800"/>
                </a:lnTo>
                <a:lnTo>
                  <a:pt x="19194" y="10800"/>
                </a:lnTo>
                <a:lnTo>
                  <a:pt x="19194" y="17989"/>
                </a:lnTo>
                <a:lnTo>
                  <a:pt x="8575" y="17989"/>
                </a:lnTo>
                <a:lnTo>
                  <a:pt x="8575" y="10800"/>
                </a:lnTo>
                <a:lnTo>
                  <a:pt x="6922" y="10800"/>
                </a:lnTo>
                <a:close/>
              </a:path>
              <a:path fill="darkenLess" w="27769" h="21600">
                <a:moveTo>
                  <a:pt x="16461" y="6448"/>
                </a:moveTo>
                <a:lnTo>
                  <a:pt x="16461" y="4707"/>
                </a:lnTo>
                <a:lnTo>
                  <a:pt x="18236" y="4707"/>
                </a:lnTo>
                <a:lnTo>
                  <a:pt x="18236" y="8224"/>
                </a:lnTo>
                <a:close/>
              </a:path>
              <a:path fill="darkenLess" w="27769" h="21600">
                <a:moveTo>
                  <a:pt x="12962" y="14299"/>
                </a:moveTo>
                <a:lnTo>
                  <a:pt x="14807" y="14299"/>
                </a:lnTo>
                <a:lnTo>
                  <a:pt x="14807" y="17989"/>
                </a:lnTo>
                <a:lnTo>
                  <a:pt x="19194" y="17989"/>
                </a:lnTo>
                <a:lnTo>
                  <a:pt x="19194" y="10800"/>
                </a:lnTo>
                <a:lnTo>
                  <a:pt x="8575" y="10800"/>
                </a:lnTo>
                <a:lnTo>
                  <a:pt x="8575" y="17989"/>
                </a:lnTo>
                <a:lnTo>
                  <a:pt x="12962" y="17989"/>
                </a:lnTo>
                <a:close/>
              </a:path>
            </a:pathLst>
          </a:custGeom>
          <a:solidFill>
            <a:srgbClr val="66ff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30T05:50:30Z</dcterms:created>
  <dc:creator>LEGION</dc:creator>
  <dc:description/>
  <dc:language>en-US</dc:language>
  <cp:lastModifiedBy>LEGION</cp:lastModifiedBy>
  <dcterms:modified xsi:type="dcterms:W3CDTF">2014-11-10T08:25:41Z</dcterms:modified>
  <cp:revision>53</cp:revision>
  <dc:subject/>
  <dc:title>Экономическая культура</dc:title>
</cp:coreProperties>
</file>